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B08-1FFB-47F7-97BF-C1F73F7A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FE4-2E69-4B51-B921-C22A4FB3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E8C-00BE-47D3-B49D-0FE20F05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1D7-60BA-476C-B869-119BB817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EA0-6F6E-4D18-886A-5DE7E341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290-5C23-420C-A655-AF77DB0E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C02-FF48-48B2-A6F8-5CDAFB5C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3B3-2E77-4752-9870-D54C7DCD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2EE-DBB2-450C-BD94-053E6FF3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78F-D756-4148-A418-CDDA0A5A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974-9FE2-4B65-92FE-CD2655EF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430-E7E2-4C82-822A-9B5BFB49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690E-CA78-465C-AA8A-4AB702E6499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CC8E-F2C7-4661-8D3D-3904B6167E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2817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共青团</a:t>
            </a:r>
            <a:r>
              <a:rPr b="0" lang="en-US" sz="35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XXXXXXXXXXXX</a:t>
            </a:r>
            <a:r>
              <a:rPr b="0" lang="zh-CN" sz="35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委员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-3240" y="3392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第一次团员代表大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104840" y="2652840"/>
            <a:ext cx="697860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7"/>
          <p:cNvSpPr/>
          <p:nvPr/>
        </p:nvSpPr>
        <p:spPr>
          <a:xfrm>
            <a:off x="1084320" y="4307040"/>
            <a:ext cx="69786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826800" y="43322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2015.07.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0"/>
          <p:cNvSpPr/>
          <p:nvPr/>
        </p:nvSpPr>
        <p:spPr>
          <a:xfrm>
            <a:off x="1082520" y="4446720"/>
            <a:ext cx="2594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角星 11"/>
          <p:cNvSpPr/>
          <p:nvPr/>
        </p:nvSpPr>
        <p:spPr>
          <a:xfrm>
            <a:off x="3800520" y="4421160"/>
            <a:ext cx="193680" cy="1922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角星 12"/>
          <p:cNvSpPr/>
          <p:nvPr/>
        </p:nvSpPr>
        <p:spPr>
          <a:xfrm>
            <a:off x="5203800" y="4419720"/>
            <a:ext cx="192240" cy="1918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4"/>
          <p:cNvSpPr/>
          <p:nvPr/>
        </p:nvSpPr>
        <p:spPr>
          <a:xfrm>
            <a:off x="1714680" y="4581360"/>
            <a:ext cx="196344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16"/>
          <p:cNvSpPr/>
          <p:nvPr/>
        </p:nvSpPr>
        <p:spPr>
          <a:xfrm>
            <a:off x="5487840" y="4437000"/>
            <a:ext cx="259416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7"/>
          <p:cNvSpPr/>
          <p:nvPr/>
        </p:nvSpPr>
        <p:spPr>
          <a:xfrm>
            <a:off x="5487840" y="4573440"/>
            <a:ext cx="19638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035600" y="971640"/>
            <a:ext cx="1191960" cy="1171440"/>
          </a:xfrm>
          <a:prstGeom prst="rect">
            <a:avLst/>
          </a:prstGeom>
          <a:ln w="0">
            <a:noFill/>
          </a:ln>
        </p:spPr>
      </p:pic>
      <p:sp>
        <p:nvSpPr>
          <p:cNvPr id="53" name="直接连接符 15"/>
          <p:cNvSpPr/>
          <p:nvPr/>
        </p:nvSpPr>
        <p:spPr>
          <a:xfrm>
            <a:off x="3600360" y="4734000"/>
            <a:ext cx="196380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72640" y="2271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共青团代表大会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-19080" y="777960"/>
            <a:ext cx="915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共青团</a:t>
            </a:r>
            <a:r>
              <a:rPr b="0" lang="en-US" sz="16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XXXXXXXXXXXX</a:t>
            </a:r>
            <a:r>
              <a:rPr b="0" lang="zh-CN" sz="16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委员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-6480" y="1023840"/>
            <a:ext cx="91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第一次团员代表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4"/>
          <p:cNvSpPr/>
          <p:nvPr/>
        </p:nvSpPr>
        <p:spPr>
          <a:xfrm>
            <a:off x="-9360" y="6724800"/>
            <a:ext cx="3687480" cy="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7"/>
          <p:cNvSpPr/>
          <p:nvPr/>
        </p:nvSpPr>
        <p:spPr>
          <a:xfrm>
            <a:off x="5392800" y="6724800"/>
            <a:ext cx="3741840" cy="144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229280" y="66600"/>
            <a:ext cx="657000" cy="646200"/>
          </a:xfrm>
          <a:prstGeom prst="rect">
            <a:avLst/>
          </a:prstGeom>
          <a:ln w="0">
            <a:noFill/>
          </a:ln>
        </p:spPr>
      </p:pic>
      <p:sp>
        <p:nvSpPr>
          <p:cNvPr id="61" name="直接连接符 20"/>
          <p:cNvSpPr/>
          <p:nvPr/>
        </p:nvSpPr>
        <p:spPr>
          <a:xfrm>
            <a:off x="-28440" y="388800"/>
            <a:ext cx="3871800" cy="1440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1"/>
          <p:cNvSpPr/>
          <p:nvPr/>
        </p:nvSpPr>
        <p:spPr>
          <a:xfrm>
            <a:off x="5345280" y="430200"/>
            <a:ext cx="3790800" cy="144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五角星 11"/>
          <p:cNvSpPr/>
          <p:nvPr/>
        </p:nvSpPr>
        <p:spPr>
          <a:xfrm>
            <a:off x="3760920" y="295200"/>
            <a:ext cx="191880" cy="1936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五角星 12"/>
          <p:cNvSpPr/>
          <p:nvPr/>
        </p:nvSpPr>
        <p:spPr>
          <a:xfrm>
            <a:off x="5192640" y="325440"/>
            <a:ext cx="192240" cy="1922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1440" y="1944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正式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9"/>
          <p:cNvSpPr/>
          <p:nvPr/>
        </p:nvSpPr>
        <p:spPr>
          <a:xfrm>
            <a:off x="11160" y="348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宣读开幕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0"/>
          <p:cNvSpPr/>
          <p:nvPr/>
        </p:nvSpPr>
        <p:spPr>
          <a:xfrm>
            <a:off x="2828880" y="816120"/>
            <a:ext cx="0" cy="641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22"/>
          <p:cNvSpPr/>
          <p:nvPr/>
        </p:nvSpPr>
        <p:spPr>
          <a:xfrm>
            <a:off x="6276960" y="816120"/>
            <a:ext cx="0" cy="641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8"/>
          <p:cNvSpPr/>
          <p:nvPr/>
        </p:nvSpPr>
        <p:spPr>
          <a:xfrm>
            <a:off x="1144440" y="3030480"/>
            <a:ext cx="69789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29"/>
          <p:cNvSpPr/>
          <p:nvPr/>
        </p:nvSpPr>
        <p:spPr>
          <a:xfrm>
            <a:off x="1144440" y="4964040"/>
            <a:ext cx="69789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4004280" y="65404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富国 强人 超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AA4-0602-48F7-9CF1-09E56F9179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988-70EF-4CE6-8196-540EE497FD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0" y="2817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共青团</a:t>
            </a:r>
            <a:r>
              <a:rPr b="0" lang="en-US" sz="35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XXXXXXXXXXXX</a:t>
            </a:r>
            <a:r>
              <a:rPr b="0" lang="zh-CN" sz="35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委员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-3240" y="339264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第一次团员代表大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6"/>
          <p:cNvSpPr/>
          <p:nvPr/>
        </p:nvSpPr>
        <p:spPr>
          <a:xfrm>
            <a:off x="1104840" y="2652840"/>
            <a:ext cx="697860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084320" y="4307040"/>
            <a:ext cx="69786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3826800" y="43322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2015.06.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0"/>
          <p:cNvSpPr/>
          <p:nvPr/>
        </p:nvSpPr>
        <p:spPr>
          <a:xfrm>
            <a:off x="1082520" y="4446720"/>
            <a:ext cx="2594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五角星 11"/>
          <p:cNvSpPr/>
          <p:nvPr/>
        </p:nvSpPr>
        <p:spPr>
          <a:xfrm>
            <a:off x="3800520" y="4421160"/>
            <a:ext cx="193680" cy="1922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五角星 12"/>
          <p:cNvSpPr/>
          <p:nvPr/>
        </p:nvSpPr>
        <p:spPr>
          <a:xfrm>
            <a:off x="5203800" y="4419720"/>
            <a:ext cx="192240" cy="1918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14"/>
          <p:cNvSpPr/>
          <p:nvPr/>
        </p:nvSpPr>
        <p:spPr>
          <a:xfrm>
            <a:off x="1714680" y="4581360"/>
            <a:ext cx="196344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16"/>
          <p:cNvSpPr/>
          <p:nvPr/>
        </p:nvSpPr>
        <p:spPr>
          <a:xfrm>
            <a:off x="5487840" y="4437000"/>
            <a:ext cx="259416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7"/>
          <p:cNvSpPr/>
          <p:nvPr/>
        </p:nvSpPr>
        <p:spPr>
          <a:xfrm>
            <a:off x="5487840" y="4573440"/>
            <a:ext cx="19638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3986280" y="971640"/>
            <a:ext cx="1192320" cy="1171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5"/>
          <p:cNvSpPr/>
          <p:nvPr/>
        </p:nvSpPr>
        <p:spPr>
          <a:xfrm>
            <a:off x="0" y="5079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结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4004280" y="65404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富国 强人 超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20032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8T16:33:00Z</dcterms:created>
  <dc:creator>幻灯片之家：www.eeppt.com</dc:creator>
  <dc:description/>
  <cp:keywords>幻灯片之家：www.eeppt.com</cp:keywords>
  <dc:language>en-US</dc:language>
  <cp:lastModifiedBy/>
  <dcterms:modified xsi:type="dcterms:W3CDTF">2015-09-18T13:16:28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