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D8DE-DFE1-48A9-AA28-93EDA7C7E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E326-6749-44ED-B4F8-4107C7A5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AF72-8E1B-4760-8D92-00E1F1E8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68F1-B5DA-4436-BFE8-90B5FAA7C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5CDB-AC69-4B75-9156-95FFAC12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BC88-94F2-4B8E-B6E1-C0AFA4F9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48B6-80F3-468A-A2F4-AE32B984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66C7-6F34-4E73-B126-C7F6FCDC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F1ED-E341-42BB-A8BE-3567621A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997D-F168-4937-8F8C-1A785388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8527-064C-453A-8EBF-C37CD203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B2CB-55A1-494D-8C51-25D22677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b0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28F1-F55B-415C-868F-D0896A118EC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D528-E550-4B29-A536-B027BB7B13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b0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1627200" y="3165480"/>
            <a:ext cx="1666800" cy="3427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389240" y="2365200"/>
            <a:ext cx="254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工作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 flipH="1">
            <a:off x="4467240" y="3760920"/>
            <a:ext cx="7632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 flipH="1">
            <a:off x="4467240" y="3382920"/>
            <a:ext cx="7632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 flipH="1">
            <a:off x="4498920" y="3290760"/>
            <a:ext cx="76320" cy="749520"/>
          </a:xfrm>
          <a:prstGeom prst="rect">
            <a:avLst/>
          </a:prstGeom>
          <a:solidFill>
            <a:srgbClr val="3bb0c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>
            <a:off x="4378320" y="2909880"/>
            <a:ext cx="2095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6321600" y="2909880"/>
            <a:ext cx="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"/>
          <p:cNvSpPr/>
          <p:nvPr/>
        </p:nvSpPr>
        <p:spPr>
          <a:xfrm flipV="1">
            <a:off x="6475320" y="2910960"/>
            <a:ext cx="0" cy="41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 flipH="1">
            <a:off x="4377960" y="2952720"/>
            <a:ext cx="20970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1"/>
          <p:cNvSpPr/>
          <p:nvPr/>
        </p:nvSpPr>
        <p:spPr>
          <a:xfrm flipV="1">
            <a:off x="4376880" y="2908440"/>
            <a:ext cx="1440" cy="41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543560" y="2955960"/>
            <a:ext cx="1569960" cy="1116000"/>
          </a:xfrm>
          <a:prstGeom prst="rect">
            <a:avLst/>
          </a:prstGeom>
          <a:solidFill>
            <a:srgbClr val="3bb0c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3"/>
          <p:cNvSpPr/>
          <p:nvPr/>
        </p:nvSpPr>
        <p:spPr>
          <a:xfrm>
            <a:off x="5468760" y="1814400"/>
            <a:ext cx="142920" cy="1013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4"/>
          <p:cNvSpPr/>
          <p:nvPr/>
        </p:nvSpPr>
        <p:spPr>
          <a:xfrm flipH="1">
            <a:off x="5422680" y="2820960"/>
            <a:ext cx="212760" cy="58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曲线 259"/>
          <p:cNvSpPr/>
          <p:nvPr/>
        </p:nvSpPr>
        <p:spPr>
          <a:xfrm>
            <a:off x="4654440" y="2638440"/>
            <a:ext cx="76860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173" y="17911"/>
                  <a:pt x="17479" y="6639"/>
                  <a:pt x="13163" y="3319"/>
                </a:cubicBezTo>
                <a:cubicBezTo>
                  <a:pt x="8846" y="0"/>
                  <a:pt x="2461" y="4344"/>
                  <a:pt x="0" y="5041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6"/>
          <p:cNvSpPr/>
          <p:nvPr/>
        </p:nvSpPr>
        <p:spPr>
          <a:xfrm flipH="1" flipV="1">
            <a:off x="4575240" y="2408040"/>
            <a:ext cx="79200" cy="291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曲线 261"/>
          <p:cNvSpPr/>
          <p:nvPr/>
        </p:nvSpPr>
        <p:spPr>
          <a:xfrm>
            <a:off x="4576680" y="1881360"/>
            <a:ext cx="615960" cy="527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315" y="20376"/>
                  <a:pt x="8150" y="18373"/>
                  <a:pt x="12470" y="14053"/>
                </a:cubicBezTo>
                <a:cubicBezTo>
                  <a:pt x="16790" y="9733"/>
                  <a:pt x="20018" y="2654"/>
                  <a:pt x="2160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8"/>
          <p:cNvSpPr/>
          <p:nvPr/>
        </p:nvSpPr>
        <p:spPr>
          <a:xfrm flipV="1">
            <a:off x="5192640" y="1806120"/>
            <a:ext cx="30168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9"/>
          <p:cNvSpPr/>
          <p:nvPr/>
        </p:nvSpPr>
        <p:spPr>
          <a:xfrm>
            <a:off x="5494320" y="1808280"/>
            <a:ext cx="142920" cy="1012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0"/>
          <p:cNvSpPr/>
          <p:nvPr/>
        </p:nvSpPr>
        <p:spPr>
          <a:xfrm flipH="1" rot="20880000">
            <a:off x="5294880" y="1949400"/>
            <a:ext cx="1364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1"/>
          <p:cNvSpPr/>
          <p:nvPr/>
        </p:nvSpPr>
        <p:spPr>
          <a:xfrm>
            <a:off x="4734000" y="2700360"/>
            <a:ext cx="28440" cy="12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2"/>
          <p:cNvSpPr/>
          <p:nvPr/>
        </p:nvSpPr>
        <p:spPr>
          <a:xfrm>
            <a:off x="4764240" y="2827440"/>
            <a:ext cx="603000" cy="27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280"/>
          <p:cNvSpPr/>
          <p:nvPr/>
        </p:nvSpPr>
        <p:spPr>
          <a:xfrm>
            <a:off x="4843440" y="2475000"/>
            <a:ext cx="428760" cy="43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91"/>
                </a:moveTo>
                <a:lnTo>
                  <a:pt x="12420" y="0"/>
                </a:lnTo>
                <a:lnTo>
                  <a:pt x="21600" y="939"/>
                </a:lnTo>
                <a:lnTo>
                  <a:pt x="21600" y="21286"/>
                </a:lnTo>
                <a:lnTo>
                  <a:pt x="13230" y="21600"/>
                </a:lnTo>
                <a:lnTo>
                  <a:pt x="270" y="21600"/>
                </a:lnTo>
                <a:lnTo>
                  <a:pt x="0" y="2191"/>
                </a:lnTo>
                <a:close/>
              </a:path>
            </a:pathLst>
          </a:custGeom>
          <a:solidFill>
            <a:srgbClr val="3bb0ce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4"/>
          <p:cNvSpPr/>
          <p:nvPr/>
        </p:nvSpPr>
        <p:spPr>
          <a:xfrm>
            <a:off x="5105520" y="2468520"/>
            <a:ext cx="0" cy="438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5"/>
          <p:cNvSpPr/>
          <p:nvPr/>
        </p:nvSpPr>
        <p:spPr>
          <a:xfrm>
            <a:off x="5132520" y="2517840"/>
            <a:ext cx="117360" cy="1396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6"/>
          <p:cNvSpPr/>
          <p:nvPr/>
        </p:nvSpPr>
        <p:spPr>
          <a:xfrm>
            <a:off x="5159520" y="2724120"/>
            <a:ext cx="64800" cy="79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自由曲线 306"/>
          <p:cNvSpPr/>
          <p:nvPr/>
        </p:nvSpPr>
        <p:spPr>
          <a:xfrm>
            <a:off x="4308480" y="2751120"/>
            <a:ext cx="428760" cy="66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894" y="144"/>
                  <a:pt x="19196" y="452"/>
                  <a:pt x="17754" y="761"/>
                </a:cubicBezTo>
                <a:cubicBezTo>
                  <a:pt x="16312" y="1069"/>
                  <a:pt x="15735" y="1172"/>
                  <a:pt x="14389" y="1542"/>
                </a:cubicBezTo>
                <a:cubicBezTo>
                  <a:pt x="13043" y="1913"/>
                  <a:pt x="12466" y="2283"/>
                  <a:pt x="11024" y="2612"/>
                </a:cubicBezTo>
                <a:cubicBezTo>
                  <a:pt x="9582" y="2941"/>
                  <a:pt x="8652" y="2880"/>
                  <a:pt x="7178" y="3229"/>
                </a:cubicBezTo>
                <a:cubicBezTo>
                  <a:pt x="5704" y="3579"/>
                  <a:pt x="4743" y="3641"/>
                  <a:pt x="3589" y="4320"/>
                </a:cubicBezTo>
                <a:cubicBezTo>
                  <a:pt x="2435" y="4998"/>
                  <a:pt x="2083" y="5739"/>
                  <a:pt x="1410" y="6624"/>
                </a:cubicBezTo>
                <a:cubicBezTo>
                  <a:pt x="737" y="7508"/>
                  <a:pt x="448" y="7920"/>
                  <a:pt x="224" y="8784"/>
                </a:cubicBezTo>
                <a:cubicBezTo>
                  <a:pt x="0" y="9648"/>
                  <a:pt x="32" y="10018"/>
                  <a:pt x="224" y="10944"/>
                </a:cubicBezTo>
                <a:cubicBezTo>
                  <a:pt x="416" y="11869"/>
                  <a:pt x="480" y="12486"/>
                  <a:pt x="1185" y="13412"/>
                </a:cubicBezTo>
                <a:cubicBezTo>
                  <a:pt x="1890" y="14338"/>
                  <a:pt x="3717" y="14708"/>
                  <a:pt x="3813" y="15572"/>
                </a:cubicBezTo>
                <a:cubicBezTo>
                  <a:pt x="3909" y="16436"/>
                  <a:pt x="1602" y="16868"/>
                  <a:pt x="1666" y="17732"/>
                </a:cubicBezTo>
                <a:cubicBezTo>
                  <a:pt x="1730" y="18596"/>
                  <a:pt x="2916" y="19110"/>
                  <a:pt x="4070" y="19892"/>
                </a:cubicBezTo>
                <a:cubicBezTo>
                  <a:pt x="5223" y="20674"/>
                  <a:pt x="6794" y="21291"/>
                  <a:pt x="7435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自由曲线 308"/>
          <p:cNvSpPr/>
          <p:nvPr/>
        </p:nvSpPr>
        <p:spPr>
          <a:xfrm>
            <a:off x="4183200" y="2852640"/>
            <a:ext cx="663480" cy="596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14"/>
                </a:moveTo>
                <a:cubicBezTo>
                  <a:pt x="21207" y="183"/>
                  <a:pt x="20297" y="367"/>
                  <a:pt x="19429" y="459"/>
                </a:cubicBezTo>
                <a:cubicBezTo>
                  <a:pt x="18561" y="550"/>
                  <a:pt x="18189" y="596"/>
                  <a:pt x="17259" y="619"/>
                </a:cubicBezTo>
                <a:cubicBezTo>
                  <a:pt x="16329" y="642"/>
                  <a:pt x="15874" y="619"/>
                  <a:pt x="14778" y="619"/>
                </a:cubicBezTo>
                <a:cubicBezTo>
                  <a:pt x="13683" y="619"/>
                  <a:pt x="12877" y="619"/>
                  <a:pt x="11823" y="619"/>
                </a:cubicBezTo>
                <a:cubicBezTo>
                  <a:pt x="10768" y="619"/>
                  <a:pt x="10438" y="619"/>
                  <a:pt x="9508" y="619"/>
                </a:cubicBezTo>
                <a:cubicBezTo>
                  <a:pt x="8577" y="619"/>
                  <a:pt x="8081" y="619"/>
                  <a:pt x="7172" y="619"/>
                </a:cubicBezTo>
                <a:cubicBezTo>
                  <a:pt x="6262" y="619"/>
                  <a:pt x="5932" y="642"/>
                  <a:pt x="5002" y="619"/>
                </a:cubicBezTo>
                <a:cubicBezTo>
                  <a:pt x="4071" y="596"/>
                  <a:pt x="3410" y="0"/>
                  <a:pt x="2521" y="459"/>
                </a:cubicBezTo>
                <a:cubicBezTo>
                  <a:pt x="1632" y="918"/>
                  <a:pt x="971" y="1767"/>
                  <a:pt x="516" y="2869"/>
                </a:cubicBezTo>
                <a:cubicBezTo>
                  <a:pt x="62" y="3971"/>
                  <a:pt x="206" y="4774"/>
                  <a:pt x="206" y="5968"/>
                </a:cubicBezTo>
                <a:cubicBezTo>
                  <a:pt x="206" y="7161"/>
                  <a:pt x="0" y="7919"/>
                  <a:pt x="516" y="8883"/>
                </a:cubicBezTo>
                <a:cubicBezTo>
                  <a:pt x="1033" y="9847"/>
                  <a:pt x="1880" y="10306"/>
                  <a:pt x="2831" y="10788"/>
                </a:cubicBezTo>
                <a:cubicBezTo>
                  <a:pt x="3782" y="11270"/>
                  <a:pt x="4774" y="10673"/>
                  <a:pt x="5312" y="11293"/>
                </a:cubicBezTo>
                <a:cubicBezTo>
                  <a:pt x="5849" y="11913"/>
                  <a:pt x="5374" y="12877"/>
                  <a:pt x="5477" y="13887"/>
                </a:cubicBezTo>
                <a:cubicBezTo>
                  <a:pt x="5580" y="14897"/>
                  <a:pt x="5642" y="15333"/>
                  <a:pt x="5787" y="16297"/>
                </a:cubicBezTo>
                <a:cubicBezTo>
                  <a:pt x="5932" y="17261"/>
                  <a:pt x="6035" y="17743"/>
                  <a:pt x="6242" y="18707"/>
                </a:cubicBezTo>
                <a:cubicBezTo>
                  <a:pt x="6448" y="19671"/>
                  <a:pt x="6304" y="20635"/>
                  <a:pt x="6862" y="21117"/>
                </a:cubicBezTo>
                <a:cubicBezTo>
                  <a:pt x="7420" y="21600"/>
                  <a:pt x="8619" y="21163"/>
                  <a:pt x="9032" y="21117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自由曲线 309"/>
          <p:cNvSpPr/>
          <p:nvPr/>
        </p:nvSpPr>
        <p:spPr>
          <a:xfrm>
            <a:off x="4229280" y="2700360"/>
            <a:ext cx="504720" cy="110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055" y="12"/>
                  <a:pt x="19810" y="38"/>
                  <a:pt x="18488" y="88"/>
                </a:cubicBezTo>
                <a:cubicBezTo>
                  <a:pt x="17165" y="139"/>
                  <a:pt x="16387" y="177"/>
                  <a:pt x="14987" y="278"/>
                </a:cubicBezTo>
                <a:cubicBezTo>
                  <a:pt x="13587" y="380"/>
                  <a:pt x="12783" y="468"/>
                  <a:pt x="11487" y="570"/>
                </a:cubicBezTo>
                <a:cubicBezTo>
                  <a:pt x="10190" y="671"/>
                  <a:pt x="9723" y="633"/>
                  <a:pt x="8557" y="760"/>
                </a:cubicBezTo>
                <a:cubicBezTo>
                  <a:pt x="7390" y="886"/>
                  <a:pt x="6741" y="772"/>
                  <a:pt x="5652" y="1228"/>
                </a:cubicBezTo>
                <a:cubicBezTo>
                  <a:pt x="4563" y="1684"/>
                  <a:pt x="3889" y="2331"/>
                  <a:pt x="3111" y="3040"/>
                </a:cubicBezTo>
                <a:cubicBezTo>
                  <a:pt x="2333" y="3749"/>
                  <a:pt x="2152" y="4028"/>
                  <a:pt x="1763" y="4750"/>
                </a:cubicBezTo>
                <a:cubicBezTo>
                  <a:pt x="1374" y="5472"/>
                  <a:pt x="1322" y="6004"/>
                  <a:pt x="1166" y="6651"/>
                </a:cubicBezTo>
                <a:cubicBezTo>
                  <a:pt x="1011" y="7297"/>
                  <a:pt x="1011" y="7398"/>
                  <a:pt x="985" y="7981"/>
                </a:cubicBezTo>
                <a:cubicBezTo>
                  <a:pt x="959" y="8563"/>
                  <a:pt x="1140" y="8906"/>
                  <a:pt x="985" y="9590"/>
                </a:cubicBezTo>
                <a:cubicBezTo>
                  <a:pt x="829" y="10274"/>
                  <a:pt x="414" y="10755"/>
                  <a:pt x="207" y="11401"/>
                </a:cubicBezTo>
                <a:cubicBezTo>
                  <a:pt x="0" y="12047"/>
                  <a:pt x="0" y="12237"/>
                  <a:pt x="0" y="12820"/>
                </a:cubicBezTo>
                <a:cubicBezTo>
                  <a:pt x="0" y="13403"/>
                  <a:pt x="0" y="13732"/>
                  <a:pt x="207" y="14340"/>
                </a:cubicBezTo>
                <a:cubicBezTo>
                  <a:pt x="414" y="14948"/>
                  <a:pt x="751" y="15291"/>
                  <a:pt x="985" y="15861"/>
                </a:cubicBezTo>
                <a:cubicBezTo>
                  <a:pt x="1218" y="16431"/>
                  <a:pt x="1270" y="16659"/>
                  <a:pt x="1374" y="17191"/>
                </a:cubicBezTo>
                <a:cubicBezTo>
                  <a:pt x="1478" y="17723"/>
                  <a:pt x="1374" y="17964"/>
                  <a:pt x="1555" y="18521"/>
                </a:cubicBezTo>
                <a:cubicBezTo>
                  <a:pt x="1737" y="19078"/>
                  <a:pt x="1892" y="19395"/>
                  <a:pt x="2333" y="19953"/>
                </a:cubicBezTo>
                <a:cubicBezTo>
                  <a:pt x="2774" y="20510"/>
                  <a:pt x="2852" y="20966"/>
                  <a:pt x="3708" y="21283"/>
                </a:cubicBezTo>
                <a:cubicBezTo>
                  <a:pt x="4563" y="21600"/>
                  <a:pt x="5497" y="21523"/>
                  <a:pt x="6612" y="21561"/>
                </a:cubicBezTo>
                <a:cubicBezTo>
                  <a:pt x="7727" y="21600"/>
                  <a:pt x="8842" y="21498"/>
                  <a:pt x="9334" y="21473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0"/>
          <p:cNvSpPr/>
          <p:nvPr/>
        </p:nvSpPr>
        <p:spPr>
          <a:xfrm>
            <a:off x="6775560" y="3290760"/>
            <a:ext cx="627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1"/>
          <p:cNvSpPr/>
          <p:nvPr/>
        </p:nvSpPr>
        <p:spPr>
          <a:xfrm>
            <a:off x="6775560" y="3290760"/>
            <a:ext cx="39600" cy="44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2"/>
          <p:cNvSpPr/>
          <p:nvPr/>
        </p:nvSpPr>
        <p:spPr>
          <a:xfrm>
            <a:off x="6815160" y="3335400"/>
            <a:ext cx="64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曲线 324"/>
          <p:cNvSpPr/>
          <p:nvPr/>
        </p:nvSpPr>
        <p:spPr>
          <a:xfrm>
            <a:off x="7396200" y="2770200"/>
            <a:ext cx="282600" cy="52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524" y="19993"/>
                  <a:pt x="9028" y="16700"/>
                  <a:pt x="13348" y="12380"/>
                </a:cubicBezTo>
                <a:cubicBezTo>
                  <a:pt x="17668" y="8060"/>
                  <a:pt x="20192" y="2291"/>
                  <a:pt x="2160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曲线 325"/>
          <p:cNvSpPr/>
          <p:nvPr/>
        </p:nvSpPr>
        <p:spPr>
          <a:xfrm>
            <a:off x="7459560" y="2766960"/>
            <a:ext cx="282600" cy="571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863" y="19512"/>
                  <a:pt x="10727" y="14520"/>
                  <a:pt x="15047" y="10200"/>
                </a:cubicBezTo>
                <a:cubicBezTo>
                  <a:pt x="19367" y="5880"/>
                  <a:pt x="20580" y="1800"/>
                  <a:pt x="2160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5"/>
          <p:cNvSpPr/>
          <p:nvPr/>
        </p:nvSpPr>
        <p:spPr>
          <a:xfrm flipV="1">
            <a:off x="7678800" y="2765160"/>
            <a:ext cx="6336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6"/>
          <p:cNvSpPr/>
          <p:nvPr/>
        </p:nvSpPr>
        <p:spPr>
          <a:xfrm>
            <a:off x="7032600" y="3338640"/>
            <a:ext cx="241200" cy="74520"/>
          </a:xfrm>
          <a:custGeom>
            <a:avLst/>
            <a:gdLst>
              <a:gd name="textAreaLeft" fmla="*/ 50040 w 241200"/>
              <a:gd name="textAreaRight" fmla="*/ 191160 w 241200"/>
              <a:gd name="textAreaTop" fmla="*/ 15480 h 74520"/>
              <a:gd name="textAreaBottom" fmla="*/ 59040 h 7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7"/>
          <p:cNvSpPr/>
          <p:nvPr/>
        </p:nvSpPr>
        <p:spPr>
          <a:xfrm>
            <a:off x="7121520" y="3411360"/>
            <a:ext cx="76320" cy="514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8"/>
          <p:cNvSpPr/>
          <p:nvPr/>
        </p:nvSpPr>
        <p:spPr>
          <a:xfrm flipH="1">
            <a:off x="6775200" y="3925800"/>
            <a:ext cx="345960" cy="114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9"/>
          <p:cNvSpPr/>
          <p:nvPr/>
        </p:nvSpPr>
        <p:spPr>
          <a:xfrm>
            <a:off x="7170840" y="3925800"/>
            <a:ext cx="75960" cy="146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0"/>
          <p:cNvSpPr/>
          <p:nvPr/>
        </p:nvSpPr>
        <p:spPr>
          <a:xfrm>
            <a:off x="7197840" y="3925800"/>
            <a:ext cx="403200" cy="114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1"/>
          <p:cNvSpPr/>
          <p:nvPr/>
        </p:nvSpPr>
        <p:spPr>
          <a:xfrm rot="16260000">
            <a:off x="6738840" y="4039560"/>
            <a:ext cx="74520" cy="74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2"/>
          <p:cNvSpPr/>
          <p:nvPr/>
        </p:nvSpPr>
        <p:spPr>
          <a:xfrm rot="16200000">
            <a:off x="7215120" y="4068360"/>
            <a:ext cx="74520" cy="745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3"/>
          <p:cNvSpPr/>
          <p:nvPr/>
        </p:nvSpPr>
        <p:spPr>
          <a:xfrm rot="16200000">
            <a:off x="7568280" y="4042080"/>
            <a:ext cx="74520" cy="763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自由曲线 284"/>
          <p:cNvSpPr/>
          <p:nvPr/>
        </p:nvSpPr>
        <p:spPr>
          <a:xfrm>
            <a:off x="6756480" y="2927520"/>
            <a:ext cx="220680" cy="26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896" y="21600"/>
                </a:moveTo>
                <a:cubicBezTo>
                  <a:pt x="13717" y="21289"/>
                  <a:pt x="10862" y="20618"/>
                  <a:pt x="8193" y="19739"/>
                </a:cubicBezTo>
                <a:cubicBezTo>
                  <a:pt x="5524" y="18861"/>
                  <a:pt x="2979" y="18861"/>
                  <a:pt x="1489" y="17259"/>
                </a:cubicBezTo>
                <a:cubicBezTo>
                  <a:pt x="0" y="15657"/>
                  <a:pt x="310" y="13900"/>
                  <a:pt x="744" y="11678"/>
                </a:cubicBezTo>
                <a:cubicBezTo>
                  <a:pt x="1179" y="9456"/>
                  <a:pt x="2234" y="8319"/>
                  <a:pt x="3724" y="6097"/>
                </a:cubicBezTo>
                <a:cubicBezTo>
                  <a:pt x="5213" y="3875"/>
                  <a:pt x="5958" y="1033"/>
                  <a:pt x="8193" y="516"/>
                </a:cubicBezTo>
                <a:cubicBezTo>
                  <a:pt x="10427" y="0"/>
                  <a:pt x="12227" y="2377"/>
                  <a:pt x="14896" y="3617"/>
                </a:cubicBezTo>
                <a:cubicBezTo>
                  <a:pt x="17565" y="4857"/>
                  <a:pt x="20420" y="6149"/>
                  <a:pt x="21600" y="6717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自由曲线 285"/>
          <p:cNvSpPr/>
          <p:nvPr/>
        </p:nvSpPr>
        <p:spPr>
          <a:xfrm>
            <a:off x="6708600" y="2284560"/>
            <a:ext cx="614520" cy="91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735" y="20987"/>
                </a:moveTo>
                <a:cubicBezTo>
                  <a:pt x="17311" y="20719"/>
                  <a:pt x="16283" y="19987"/>
                  <a:pt x="15323" y="19554"/>
                </a:cubicBezTo>
                <a:cubicBezTo>
                  <a:pt x="14362" y="19122"/>
                  <a:pt x="13871" y="19092"/>
                  <a:pt x="12910" y="18838"/>
                </a:cubicBezTo>
                <a:cubicBezTo>
                  <a:pt x="11950" y="18584"/>
                  <a:pt x="11034" y="18733"/>
                  <a:pt x="10498" y="18301"/>
                </a:cubicBezTo>
                <a:cubicBezTo>
                  <a:pt x="9962" y="17868"/>
                  <a:pt x="9850" y="17330"/>
                  <a:pt x="10230" y="16688"/>
                </a:cubicBezTo>
                <a:cubicBezTo>
                  <a:pt x="10610" y="16046"/>
                  <a:pt x="11682" y="15718"/>
                  <a:pt x="12374" y="15076"/>
                </a:cubicBezTo>
                <a:cubicBezTo>
                  <a:pt x="13067" y="14434"/>
                  <a:pt x="13446" y="14106"/>
                  <a:pt x="13714" y="13464"/>
                </a:cubicBezTo>
                <a:cubicBezTo>
                  <a:pt x="13983" y="12822"/>
                  <a:pt x="13826" y="12494"/>
                  <a:pt x="13714" y="11852"/>
                </a:cubicBezTo>
                <a:cubicBezTo>
                  <a:pt x="13603" y="11210"/>
                  <a:pt x="13335" y="10882"/>
                  <a:pt x="13178" y="10240"/>
                </a:cubicBezTo>
                <a:cubicBezTo>
                  <a:pt x="13022" y="9598"/>
                  <a:pt x="13290" y="9269"/>
                  <a:pt x="12910" y="8628"/>
                </a:cubicBezTo>
                <a:cubicBezTo>
                  <a:pt x="12531" y="7986"/>
                  <a:pt x="12151" y="7836"/>
                  <a:pt x="11302" y="7015"/>
                </a:cubicBezTo>
                <a:cubicBezTo>
                  <a:pt x="10453" y="6194"/>
                  <a:pt x="9649" y="4717"/>
                  <a:pt x="8622" y="4508"/>
                </a:cubicBezTo>
                <a:cubicBezTo>
                  <a:pt x="7594" y="4299"/>
                  <a:pt x="7170" y="5433"/>
                  <a:pt x="6209" y="5941"/>
                </a:cubicBezTo>
                <a:cubicBezTo>
                  <a:pt x="5249" y="6448"/>
                  <a:pt x="4601" y="7120"/>
                  <a:pt x="3797" y="7015"/>
                </a:cubicBezTo>
                <a:cubicBezTo>
                  <a:pt x="2993" y="6911"/>
                  <a:pt x="2948" y="6045"/>
                  <a:pt x="2189" y="5403"/>
                </a:cubicBezTo>
                <a:cubicBezTo>
                  <a:pt x="1429" y="4761"/>
                  <a:pt x="0" y="4328"/>
                  <a:pt x="44" y="3791"/>
                </a:cubicBezTo>
                <a:cubicBezTo>
                  <a:pt x="89" y="3254"/>
                  <a:pt x="1496" y="3045"/>
                  <a:pt x="2457" y="2716"/>
                </a:cubicBezTo>
                <a:cubicBezTo>
                  <a:pt x="3417" y="2388"/>
                  <a:pt x="3908" y="2388"/>
                  <a:pt x="4869" y="2179"/>
                </a:cubicBezTo>
                <a:cubicBezTo>
                  <a:pt x="5829" y="1970"/>
                  <a:pt x="6321" y="1851"/>
                  <a:pt x="7281" y="1642"/>
                </a:cubicBezTo>
                <a:cubicBezTo>
                  <a:pt x="8242" y="1433"/>
                  <a:pt x="8733" y="1283"/>
                  <a:pt x="9694" y="1104"/>
                </a:cubicBezTo>
                <a:cubicBezTo>
                  <a:pt x="10654" y="925"/>
                  <a:pt x="11146" y="925"/>
                  <a:pt x="12106" y="746"/>
                </a:cubicBezTo>
                <a:cubicBezTo>
                  <a:pt x="13067" y="567"/>
                  <a:pt x="13558" y="0"/>
                  <a:pt x="14519" y="208"/>
                </a:cubicBezTo>
                <a:cubicBezTo>
                  <a:pt x="15479" y="417"/>
                  <a:pt x="16172" y="1179"/>
                  <a:pt x="16931" y="1821"/>
                </a:cubicBezTo>
                <a:cubicBezTo>
                  <a:pt x="17691" y="2463"/>
                  <a:pt x="17735" y="2791"/>
                  <a:pt x="18271" y="3433"/>
                </a:cubicBezTo>
                <a:cubicBezTo>
                  <a:pt x="18807" y="4075"/>
                  <a:pt x="19299" y="4403"/>
                  <a:pt x="19611" y="5045"/>
                </a:cubicBezTo>
                <a:cubicBezTo>
                  <a:pt x="19924" y="5687"/>
                  <a:pt x="19768" y="6015"/>
                  <a:pt x="19880" y="6657"/>
                </a:cubicBezTo>
                <a:cubicBezTo>
                  <a:pt x="19991" y="7299"/>
                  <a:pt x="19991" y="7627"/>
                  <a:pt x="20148" y="8269"/>
                </a:cubicBezTo>
                <a:cubicBezTo>
                  <a:pt x="20304" y="8911"/>
                  <a:pt x="20460" y="9195"/>
                  <a:pt x="20684" y="9881"/>
                </a:cubicBezTo>
                <a:cubicBezTo>
                  <a:pt x="20907" y="10568"/>
                  <a:pt x="21063" y="10986"/>
                  <a:pt x="21220" y="11673"/>
                </a:cubicBezTo>
                <a:cubicBezTo>
                  <a:pt x="21376" y="12359"/>
                  <a:pt x="21443" y="12643"/>
                  <a:pt x="21488" y="13285"/>
                </a:cubicBezTo>
                <a:cubicBezTo>
                  <a:pt x="21532" y="13927"/>
                  <a:pt x="21488" y="14255"/>
                  <a:pt x="21488" y="14897"/>
                </a:cubicBezTo>
                <a:cubicBezTo>
                  <a:pt x="21488" y="15539"/>
                  <a:pt x="21600" y="15867"/>
                  <a:pt x="21488" y="16509"/>
                </a:cubicBezTo>
                <a:cubicBezTo>
                  <a:pt x="21376" y="17151"/>
                  <a:pt x="21108" y="17480"/>
                  <a:pt x="20952" y="18121"/>
                </a:cubicBezTo>
                <a:cubicBezTo>
                  <a:pt x="20795" y="18763"/>
                  <a:pt x="20907" y="19092"/>
                  <a:pt x="20684" y="19734"/>
                </a:cubicBezTo>
                <a:cubicBezTo>
                  <a:pt x="20460" y="20375"/>
                  <a:pt x="20460" y="21092"/>
                  <a:pt x="19880" y="21346"/>
                </a:cubicBezTo>
                <a:cubicBezTo>
                  <a:pt x="19299" y="21600"/>
                  <a:pt x="18137" y="21092"/>
                  <a:pt x="17735" y="20987"/>
                </a:cubicBezTo>
                <a:close/>
              </a:path>
            </a:pathLst>
          </a:custGeom>
          <a:solidFill>
            <a:srgbClr val="3bb0ce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自由曲线 286"/>
          <p:cNvSpPr/>
          <p:nvPr/>
        </p:nvSpPr>
        <p:spPr>
          <a:xfrm>
            <a:off x="6710400" y="3078000"/>
            <a:ext cx="509400" cy="44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829" y="0"/>
                </a:moveTo>
                <a:cubicBezTo>
                  <a:pt x="14319" y="640"/>
                  <a:pt x="13083" y="2410"/>
                  <a:pt x="11928" y="3294"/>
                </a:cubicBezTo>
                <a:cubicBezTo>
                  <a:pt x="10773" y="4179"/>
                  <a:pt x="10182" y="3722"/>
                  <a:pt x="9026" y="4393"/>
                </a:cubicBezTo>
                <a:cubicBezTo>
                  <a:pt x="7871" y="5064"/>
                  <a:pt x="7280" y="5644"/>
                  <a:pt x="6125" y="6589"/>
                </a:cubicBezTo>
                <a:cubicBezTo>
                  <a:pt x="4970" y="7535"/>
                  <a:pt x="4379" y="8115"/>
                  <a:pt x="3223" y="9152"/>
                </a:cubicBezTo>
                <a:cubicBezTo>
                  <a:pt x="2068" y="10189"/>
                  <a:pt x="644" y="10555"/>
                  <a:pt x="322" y="11715"/>
                </a:cubicBezTo>
                <a:cubicBezTo>
                  <a:pt x="0" y="12874"/>
                  <a:pt x="1020" y="13698"/>
                  <a:pt x="1611" y="15010"/>
                </a:cubicBezTo>
                <a:cubicBezTo>
                  <a:pt x="2202" y="16322"/>
                  <a:pt x="2310" y="17054"/>
                  <a:pt x="3223" y="18305"/>
                </a:cubicBezTo>
                <a:cubicBezTo>
                  <a:pt x="4137" y="19555"/>
                  <a:pt x="4970" y="20867"/>
                  <a:pt x="6125" y="21233"/>
                </a:cubicBezTo>
                <a:cubicBezTo>
                  <a:pt x="7280" y="21600"/>
                  <a:pt x="7871" y="20806"/>
                  <a:pt x="9026" y="20135"/>
                </a:cubicBezTo>
                <a:cubicBezTo>
                  <a:pt x="10182" y="19464"/>
                  <a:pt x="10773" y="18976"/>
                  <a:pt x="11928" y="17938"/>
                </a:cubicBezTo>
                <a:cubicBezTo>
                  <a:pt x="13083" y="16901"/>
                  <a:pt x="13674" y="16169"/>
                  <a:pt x="14829" y="15010"/>
                </a:cubicBezTo>
                <a:cubicBezTo>
                  <a:pt x="15985" y="13850"/>
                  <a:pt x="16764" y="13332"/>
                  <a:pt x="17731" y="12081"/>
                </a:cubicBezTo>
                <a:cubicBezTo>
                  <a:pt x="18698" y="10830"/>
                  <a:pt x="18886" y="10098"/>
                  <a:pt x="19665" y="8786"/>
                </a:cubicBezTo>
                <a:cubicBezTo>
                  <a:pt x="20444" y="7474"/>
                  <a:pt x="21250" y="6071"/>
                  <a:pt x="21600" y="5491"/>
                </a:cubicBezTo>
              </a:path>
            </a:pathLst>
          </a:custGeom>
          <a:solidFill>
            <a:srgbClr val="3bb0ce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自由曲线 288"/>
          <p:cNvSpPr/>
          <p:nvPr/>
        </p:nvSpPr>
        <p:spPr>
          <a:xfrm>
            <a:off x="6610320" y="3497400"/>
            <a:ext cx="206280" cy="5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333" y="1028"/>
                  <a:pt x="17266" y="3085"/>
                  <a:pt x="14400" y="6171"/>
                </a:cubicBezTo>
                <a:cubicBezTo>
                  <a:pt x="11533" y="9257"/>
                  <a:pt x="10066" y="12342"/>
                  <a:pt x="7200" y="15428"/>
                </a:cubicBezTo>
                <a:cubicBezTo>
                  <a:pt x="4333" y="18514"/>
                  <a:pt x="1266" y="20571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自由曲线 290"/>
          <p:cNvSpPr/>
          <p:nvPr/>
        </p:nvSpPr>
        <p:spPr>
          <a:xfrm>
            <a:off x="6656400" y="4016520"/>
            <a:ext cx="38160" cy="68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7200" y="7200"/>
                  <a:pt x="14400" y="144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自由曲线 292"/>
          <p:cNvSpPr/>
          <p:nvPr/>
        </p:nvSpPr>
        <p:spPr>
          <a:xfrm>
            <a:off x="6527880" y="4016520"/>
            <a:ext cx="342720" cy="134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640" y="0"/>
                </a:moveTo>
                <a:cubicBezTo>
                  <a:pt x="7880" y="605"/>
                  <a:pt x="6040" y="2220"/>
                  <a:pt x="4320" y="3633"/>
                </a:cubicBezTo>
                <a:cubicBezTo>
                  <a:pt x="2600" y="5046"/>
                  <a:pt x="0" y="4844"/>
                  <a:pt x="0" y="7267"/>
                </a:cubicBezTo>
                <a:cubicBezTo>
                  <a:pt x="0" y="9689"/>
                  <a:pt x="2600" y="13121"/>
                  <a:pt x="4320" y="15745"/>
                </a:cubicBezTo>
                <a:cubicBezTo>
                  <a:pt x="6040" y="18370"/>
                  <a:pt x="6920" y="19581"/>
                  <a:pt x="8640" y="20590"/>
                </a:cubicBezTo>
                <a:cubicBezTo>
                  <a:pt x="10360" y="21600"/>
                  <a:pt x="11240" y="20590"/>
                  <a:pt x="12960" y="20590"/>
                </a:cubicBezTo>
                <a:cubicBezTo>
                  <a:pt x="14680" y="20590"/>
                  <a:pt x="15560" y="21297"/>
                  <a:pt x="17280" y="20590"/>
                </a:cubicBezTo>
                <a:cubicBezTo>
                  <a:pt x="19000" y="19884"/>
                  <a:pt x="20840" y="17663"/>
                  <a:pt x="21600" y="16957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自由曲线 293"/>
          <p:cNvSpPr/>
          <p:nvPr/>
        </p:nvSpPr>
        <p:spPr>
          <a:xfrm>
            <a:off x="6572160" y="4046400"/>
            <a:ext cx="38160" cy="68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7200" y="7200"/>
                  <a:pt x="14400" y="144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自由曲线 298"/>
          <p:cNvSpPr/>
          <p:nvPr/>
        </p:nvSpPr>
        <p:spPr>
          <a:xfrm>
            <a:off x="6512040" y="2841480"/>
            <a:ext cx="28872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5563"/>
                </a:moveTo>
                <a:cubicBezTo>
                  <a:pt x="20700" y="5209"/>
                  <a:pt x="18521" y="4309"/>
                  <a:pt x="16484" y="3600"/>
                </a:cubicBezTo>
                <a:cubicBezTo>
                  <a:pt x="14447" y="2890"/>
                  <a:pt x="13405" y="2618"/>
                  <a:pt x="11368" y="1963"/>
                </a:cubicBezTo>
                <a:cubicBezTo>
                  <a:pt x="9331" y="1309"/>
                  <a:pt x="7957" y="0"/>
                  <a:pt x="6252" y="327"/>
                </a:cubicBezTo>
                <a:cubicBezTo>
                  <a:pt x="4547" y="654"/>
                  <a:pt x="3742" y="2345"/>
                  <a:pt x="2842" y="3600"/>
                </a:cubicBezTo>
                <a:cubicBezTo>
                  <a:pt x="1942" y="4854"/>
                  <a:pt x="2036" y="5290"/>
                  <a:pt x="1705" y="6545"/>
                </a:cubicBezTo>
                <a:cubicBezTo>
                  <a:pt x="1373" y="7800"/>
                  <a:pt x="1231" y="8563"/>
                  <a:pt x="1136" y="9818"/>
                </a:cubicBezTo>
                <a:cubicBezTo>
                  <a:pt x="1042" y="11072"/>
                  <a:pt x="1136" y="11590"/>
                  <a:pt x="1136" y="12763"/>
                </a:cubicBezTo>
                <a:cubicBezTo>
                  <a:pt x="1136" y="13936"/>
                  <a:pt x="1136" y="14536"/>
                  <a:pt x="1136" y="15709"/>
                </a:cubicBezTo>
                <a:cubicBezTo>
                  <a:pt x="1136" y="16881"/>
                  <a:pt x="1373" y="17481"/>
                  <a:pt x="1136" y="18654"/>
                </a:cubicBezTo>
                <a:cubicBezTo>
                  <a:pt x="900" y="19827"/>
                  <a:pt x="236" y="21081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自由曲线 299"/>
          <p:cNvSpPr/>
          <p:nvPr/>
        </p:nvSpPr>
        <p:spPr>
          <a:xfrm>
            <a:off x="6588000" y="2978280"/>
            <a:ext cx="16848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5340"/>
                </a:moveTo>
                <a:cubicBezTo>
                  <a:pt x="20113" y="5140"/>
                  <a:pt x="16513" y="4941"/>
                  <a:pt x="13147" y="3905"/>
                </a:cubicBezTo>
                <a:cubicBezTo>
                  <a:pt x="9782" y="2869"/>
                  <a:pt x="6573" y="0"/>
                  <a:pt x="4695" y="79"/>
                </a:cubicBezTo>
                <a:cubicBezTo>
                  <a:pt x="2817" y="159"/>
                  <a:pt x="3600" y="2670"/>
                  <a:pt x="3756" y="4383"/>
                </a:cubicBezTo>
                <a:cubicBezTo>
                  <a:pt x="3913" y="6097"/>
                  <a:pt x="5478" y="6974"/>
                  <a:pt x="5634" y="8687"/>
                </a:cubicBezTo>
                <a:cubicBezTo>
                  <a:pt x="5791" y="10401"/>
                  <a:pt x="5478" y="11278"/>
                  <a:pt x="4695" y="12991"/>
                </a:cubicBezTo>
                <a:cubicBezTo>
                  <a:pt x="3913" y="14705"/>
                  <a:pt x="2817" y="15582"/>
                  <a:pt x="1878" y="17295"/>
                </a:cubicBezTo>
                <a:cubicBezTo>
                  <a:pt x="939" y="19009"/>
                  <a:pt x="313" y="20842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自由曲线 301"/>
          <p:cNvSpPr/>
          <p:nvPr/>
        </p:nvSpPr>
        <p:spPr>
          <a:xfrm>
            <a:off x="6481800" y="3330720"/>
            <a:ext cx="68400" cy="52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7200" y="7200"/>
                  <a:pt x="14400" y="144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自由曲线 305"/>
          <p:cNvSpPr/>
          <p:nvPr/>
        </p:nvSpPr>
        <p:spPr>
          <a:xfrm>
            <a:off x="6405480" y="3444840"/>
            <a:ext cx="14400" cy="68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7200" y="7200"/>
                  <a:pt x="14400" y="144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自由曲线 306"/>
          <p:cNvSpPr/>
          <p:nvPr/>
        </p:nvSpPr>
        <p:spPr>
          <a:xfrm>
            <a:off x="6427800" y="3421080"/>
            <a:ext cx="23760" cy="68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7200" y="7200"/>
                  <a:pt x="14400" y="144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自由曲线 307"/>
          <p:cNvSpPr/>
          <p:nvPr/>
        </p:nvSpPr>
        <p:spPr>
          <a:xfrm>
            <a:off x="6465960" y="3363840"/>
            <a:ext cx="68040" cy="5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7200" y="7200"/>
                  <a:pt x="14400" y="144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自由曲线 308"/>
          <p:cNvSpPr/>
          <p:nvPr/>
        </p:nvSpPr>
        <p:spPr>
          <a:xfrm>
            <a:off x="6323040" y="3421080"/>
            <a:ext cx="288720" cy="10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950" y="21461"/>
                  <a:pt x="3250" y="21600"/>
                  <a:pt x="5400" y="19938"/>
                </a:cubicBezTo>
                <a:cubicBezTo>
                  <a:pt x="7550" y="18276"/>
                  <a:pt x="8650" y="16615"/>
                  <a:pt x="10800" y="13292"/>
                </a:cubicBezTo>
                <a:cubicBezTo>
                  <a:pt x="12950" y="9969"/>
                  <a:pt x="14050" y="5953"/>
                  <a:pt x="16200" y="3323"/>
                </a:cubicBezTo>
                <a:cubicBezTo>
                  <a:pt x="18350" y="692"/>
                  <a:pt x="20650" y="415"/>
                  <a:pt x="2160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自由曲线 309"/>
          <p:cNvSpPr/>
          <p:nvPr/>
        </p:nvSpPr>
        <p:spPr>
          <a:xfrm>
            <a:off x="6588000" y="3336840"/>
            <a:ext cx="76320" cy="76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7200" y="7200"/>
                  <a:pt x="14400" y="144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自由曲线 287"/>
          <p:cNvSpPr/>
          <p:nvPr/>
        </p:nvSpPr>
        <p:spPr>
          <a:xfrm>
            <a:off x="6480000" y="3368520"/>
            <a:ext cx="252720" cy="677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568" y="222"/>
                  <a:pt x="18072" y="728"/>
                  <a:pt x="15738" y="1213"/>
                </a:cubicBezTo>
                <a:cubicBezTo>
                  <a:pt x="13405" y="1698"/>
                  <a:pt x="12211" y="1840"/>
                  <a:pt x="9877" y="2426"/>
                </a:cubicBezTo>
                <a:cubicBezTo>
                  <a:pt x="7543" y="3013"/>
                  <a:pt x="5969" y="3357"/>
                  <a:pt x="4016" y="4125"/>
                </a:cubicBezTo>
                <a:cubicBezTo>
                  <a:pt x="2062" y="4894"/>
                  <a:pt x="217" y="5440"/>
                  <a:pt x="108" y="6310"/>
                </a:cubicBezTo>
                <a:cubicBezTo>
                  <a:pt x="0" y="7179"/>
                  <a:pt x="1953" y="7624"/>
                  <a:pt x="3364" y="8494"/>
                </a:cubicBezTo>
                <a:cubicBezTo>
                  <a:pt x="4775" y="9364"/>
                  <a:pt x="5427" y="9808"/>
                  <a:pt x="7272" y="10678"/>
                </a:cubicBezTo>
                <a:cubicBezTo>
                  <a:pt x="9117" y="11548"/>
                  <a:pt x="10637" y="11993"/>
                  <a:pt x="12482" y="12862"/>
                </a:cubicBezTo>
                <a:cubicBezTo>
                  <a:pt x="14327" y="13732"/>
                  <a:pt x="15087" y="14177"/>
                  <a:pt x="16389" y="15047"/>
                </a:cubicBezTo>
                <a:cubicBezTo>
                  <a:pt x="17692" y="15916"/>
                  <a:pt x="18343" y="16361"/>
                  <a:pt x="18994" y="17231"/>
                </a:cubicBezTo>
                <a:cubicBezTo>
                  <a:pt x="19646" y="18101"/>
                  <a:pt x="20026" y="18546"/>
                  <a:pt x="19646" y="19415"/>
                </a:cubicBezTo>
                <a:cubicBezTo>
                  <a:pt x="19266" y="20285"/>
                  <a:pt x="17583" y="21215"/>
                  <a:pt x="17041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自由曲线 345"/>
          <p:cNvSpPr/>
          <p:nvPr/>
        </p:nvSpPr>
        <p:spPr>
          <a:xfrm>
            <a:off x="6946920" y="2193840"/>
            <a:ext cx="144360" cy="84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9515" y="18654"/>
                  <a:pt x="14589" y="10145"/>
                  <a:pt x="10231" y="5890"/>
                </a:cubicBezTo>
                <a:cubicBezTo>
                  <a:pt x="5873" y="1636"/>
                  <a:pt x="1800" y="818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自由曲线 346"/>
          <p:cNvSpPr/>
          <p:nvPr/>
        </p:nvSpPr>
        <p:spPr>
          <a:xfrm>
            <a:off x="6915240" y="2232000"/>
            <a:ext cx="137880" cy="76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9700" y="18720"/>
                  <a:pt x="15100" y="10800"/>
                  <a:pt x="10800" y="6480"/>
                </a:cubicBezTo>
                <a:cubicBezTo>
                  <a:pt x="6500" y="2160"/>
                  <a:pt x="1900" y="1080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自由曲线 348"/>
          <p:cNvSpPr/>
          <p:nvPr/>
        </p:nvSpPr>
        <p:spPr>
          <a:xfrm>
            <a:off x="6548400" y="2133720"/>
            <a:ext cx="382680" cy="237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6930"/>
                </a:moveTo>
                <a:cubicBezTo>
                  <a:pt x="20918" y="7854"/>
                  <a:pt x="19267" y="10106"/>
                  <a:pt x="17724" y="11781"/>
                </a:cubicBezTo>
                <a:cubicBezTo>
                  <a:pt x="16182" y="13456"/>
                  <a:pt x="15392" y="13976"/>
                  <a:pt x="13849" y="15247"/>
                </a:cubicBezTo>
                <a:cubicBezTo>
                  <a:pt x="12306" y="16517"/>
                  <a:pt x="11517" y="16748"/>
                  <a:pt x="9974" y="18019"/>
                </a:cubicBezTo>
                <a:cubicBezTo>
                  <a:pt x="8431" y="19289"/>
                  <a:pt x="7750" y="21368"/>
                  <a:pt x="6099" y="21484"/>
                </a:cubicBezTo>
                <a:cubicBezTo>
                  <a:pt x="4449" y="21600"/>
                  <a:pt x="2906" y="20502"/>
                  <a:pt x="1794" y="18712"/>
                </a:cubicBezTo>
                <a:cubicBezTo>
                  <a:pt x="681" y="16921"/>
                  <a:pt x="861" y="14958"/>
                  <a:pt x="502" y="12474"/>
                </a:cubicBezTo>
                <a:cubicBezTo>
                  <a:pt x="143" y="9991"/>
                  <a:pt x="143" y="8720"/>
                  <a:pt x="71" y="6237"/>
                </a:cubicBezTo>
                <a:cubicBezTo>
                  <a:pt x="0" y="3754"/>
                  <a:pt x="71" y="1097"/>
                  <a:pt x="71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自由曲线 351"/>
          <p:cNvSpPr/>
          <p:nvPr/>
        </p:nvSpPr>
        <p:spPr>
          <a:xfrm>
            <a:off x="6519960" y="2041560"/>
            <a:ext cx="30240" cy="6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7200" y="7200"/>
                  <a:pt x="14400" y="144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自由曲线 352"/>
          <p:cNvSpPr/>
          <p:nvPr/>
        </p:nvSpPr>
        <p:spPr>
          <a:xfrm>
            <a:off x="6527880" y="2041560"/>
            <a:ext cx="68040" cy="1440"/>
          </a:xfrm>
          <a:custGeom>
            <a:avLst/>
            <a:gdLst/>
            <a:ahLst/>
            <a:rect l="l" t="t" r="r" b="b"/>
            <a:pathLst>
              <a:path w="21600" h="0">
                <a:moveTo>
                  <a:pt x="0" y="0"/>
                </a:moveTo>
                <a:cubicBezTo>
                  <a:pt x="7200" y="0"/>
                  <a:pt x="14400" y="0"/>
                  <a:pt x="2160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自由曲线 354"/>
          <p:cNvSpPr/>
          <p:nvPr/>
        </p:nvSpPr>
        <p:spPr>
          <a:xfrm>
            <a:off x="6588000" y="2041560"/>
            <a:ext cx="22320" cy="6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7200" y="7200"/>
                  <a:pt x="14400" y="144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自由曲线 355"/>
          <p:cNvSpPr/>
          <p:nvPr/>
        </p:nvSpPr>
        <p:spPr>
          <a:xfrm>
            <a:off x="6550200" y="2125800"/>
            <a:ext cx="68040" cy="1440"/>
          </a:xfrm>
          <a:custGeom>
            <a:avLst/>
            <a:gdLst/>
            <a:ahLst/>
            <a:rect l="l" t="t" r="r" b="b"/>
            <a:pathLst>
              <a:path w="21600" h="0">
                <a:moveTo>
                  <a:pt x="0" y="0"/>
                </a:moveTo>
                <a:cubicBezTo>
                  <a:pt x="7200" y="0"/>
                  <a:pt x="14400" y="0"/>
                  <a:pt x="2160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自由曲线 351"/>
          <p:cNvSpPr/>
          <p:nvPr/>
        </p:nvSpPr>
        <p:spPr>
          <a:xfrm>
            <a:off x="6510240" y="2046240"/>
            <a:ext cx="30240" cy="68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7200" y="7200"/>
                  <a:pt x="14400" y="144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自由曲线 362"/>
          <p:cNvSpPr/>
          <p:nvPr/>
        </p:nvSpPr>
        <p:spPr>
          <a:xfrm>
            <a:off x="6413400" y="1674720"/>
            <a:ext cx="690840" cy="495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494" y="15971"/>
                </a:moveTo>
                <a:cubicBezTo>
                  <a:pt x="3097" y="15915"/>
                  <a:pt x="2084" y="16054"/>
                  <a:pt x="1409" y="15361"/>
                </a:cubicBezTo>
                <a:cubicBezTo>
                  <a:pt x="734" y="14668"/>
                  <a:pt x="158" y="13669"/>
                  <a:pt x="79" y="12449"/>
                </a:cubicBezTo>
                <a:cubicBezTo>
                  <a:pt x="0" y="11229"/>
                  <a:pt x="377" y="10065"/>
                  <a:pt x="972" y="9316"/>
                </a:cubicBezTo>
                <a:cubicBezTo>
                  <a:pt x="1568" y="8567"/>
                  <a:pt x="3057" y="9372"/>
                  <a:pt x="3057" y="8706"/>
                </a:cubicBezTo>
                <a:cubicBezTo>
                  <a:pt x="3057" y="8041"/>
                  <a:pt x="1429" y="7126"/>
                  <a:pt x="972" y="5989"/>
                </a:cubicBezTo>
                <a:cubicBezTo>
                  <a:pt x="516" y="4852"/>
                  <a:pt x="436" y="3992"/>
                  <a:pt x="813" y="3077"/>
                </a:cubicBezTo>
                <a:cubicBezTo>
                  <a:pt x="1191" y="2162"/>
                  <a:pt x="2064" y="1746"/>
                  <a:pt x="2898" y="1414"/>
                </a:cubicBezTo>
                <a:cubicBezTo>
                  <a:pt x="3732" y="1081"/>
                  <a:pt x="4149" y="1608"/>
                  <a:pt x="4983" y="1414"/>
                </a:cubicBezTo>
                <a:cubicBezTo>
                  <a:pt x="5816" y="1220"/>
                  <a:pt x="6313" y="0"/>
                  <a:pt x="7067" y="388"/>
                </a:cubicBezTo>
                <a:cubicBezTo>
                  <a:pt x="7822" y="776"/>
                  <a:pt x="7961" y="2717"/>
                  <a:pt x="8715" y="3299"/>
                </a:cubicBezTo>
                <a:cubicBezTo>
                  <a:pt x="9469" y="3881"/>
                  <a:pt x="9966" y="3299"/>
                  <a:pt x="10800" y="3299"/>
                </a:cubicBezTo>
                <a:cubicBezTo>
                  <a:pt x="11633" y="3299"/>
                  <a:pt x="12050" y="3438"/>
                  <a:pt x="12884" y="3299"/>
                </a:cubicBezTo>
                <a:cubicBezTo>
                  <a:pt x="13718" y="3160"/>
                  <a:pt x="14135" y="2883"/>
                  <a:pt x="14969" y="2661"/>
                </a:cubicBezTo>
                <a:cubicBezTo>
                  <a:pt x="15802" y="2440"/>
                  <a:pt x="16557" y="1746"/>
                  <a:pt x="17053" y="2245"/>
                </a:cubicBezTo>
                <a:cubicBezTo>
                  <a:pt x="17550" y="2745"/>
                  <a:pt x="16954" y="4159"/>
                  <a:pt x="17490" y="5157"/>
                </a:cubicBezTo>
                <a:cubicBezTo>
                  <a:pt x="18026" y="6155"/>
                  <a:pt x="19019" y="6238"/>
                  <a:pt x="19733" y="7236"/>
                </a:cubicBezTo>
                <a:cubicBezTo>
                  <a:pt x="20448" y="8235"/>
                  <a:pt x="20706" y="8983"/>
                  <a:pt x="21063" y="10148"/>
                </a:cubicBezTo>
                <a:cubicBezTo>
                  <a:pt x="21421" y="11312"/>
                  <a:pt x="21600" y="11895"/>
                  <a:pt x="21520" y="13059"/>
                </a:cubicBezTo>
                <a:cubicBezTo>
                  <a:pt x="21441" y="14224"/>
                  <a:pt x="20786" y="14806"/>
                  <a:pt x="20627" y="15971"/>
                </a:cubicBezTo>
                <a:cubicBezTo>
                  <a:pt x="20468" y="17135"/>
                  <a:pt x="21163" y="17745"/>
                  <a:pt x="20766" y="18882"/>
                </a:cubicBezTo>
                <a:cubicBezTo>
                  <a:pt x="20369" y="20019"/>
                  <a:pt x="19098" y="21100"/>
                  <a:pt x="18681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自由曲线 364"/>
          <p:cNvSpPr/>
          <p:nvPr/>
        </p:nvSpPr>
        <p:spPr>
          <a:xfrm>
            <a:off x="6721560" y="1751040"/>
            <a:ext cx="4284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2858" y="977"/>
                  <a:pt x="10482" y="3240"/>
                  <a:pt x="14294" y="5400"/>
                </a:cubicBezTo>
                <a:cubicBezTo>
                  <a:pt x="18105" y="7560"/>
                  <a:pt x="17788" y="8640"/>
                  <a:pt x="19058" y="10800"/>
                </a:cubicBezTo>
                <a:cubicBezTo>
                  <a:pt x="20329" y="12960"/>
                  <a:pt x="20964" y="14040"/>
                  <a:pt x="21282" y="16200"/>
                </a:cubicBezTo>
                <a:cubicBezTo>
                  <a:pt x="21600" y="18360"/>
                  <a:pt x="21282" y="20622"/>
                  <a:pt x="21282" y="21600"/>
                </a:cubicBezTo>
              </a:path>
            </a:pathLst>
          </a:custGeom>
          <a:solidFill>
            <a:srgbClr val="3bb0ce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自由曲线 366"/>
          <p:cNvSpPr/>
          <p:nvPr/>
        </p:nvSpPr>
        <p:spPr>
          <a:xfrm>
            <a:off x="6816600" y="1755720"/>
            <a:ext cx="1908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50" y="0"/>
                </a:moveTo>
                <a:cubicBezTo>
                  <a:pt x="20250" y="977"/>
                  <a:pt x="20250" y="3240"/>
                  <a:pt x="20250" y="5400"/>
                </a:cubicBezTo>
                <a:cubicBezTo>
                  <a:pt x="20250" y="7560"/>
                  <a:pt x="21600" y="8640"/>
                  <a:pt x="20250" y="10800"/>
                </a:cubicBezTo>
                <a:cubicBezTo>
                  <a:pt x="18900" y="12960"/>
                  <a:pt x="18900" y="14040"/>
                  <a:pt x="14850" y="16200"/>
                </a:cubicBezTo>
                <a:cubicBezTo>
                  <a:pt x="10800" y="18360"/>
                  <a:pt x="2700" y="20622"/>
                  <a:pt x="0" y="21600"/>
                </a:cubicBezTo>
              </a:path>
            </a:pathLst>
          </a:custGeom>
          <a:solidFill>
            <a:srgbClr val="3bb0ce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自由曲线 367"/>
          <p:cNvSpPr/>
          <p:nvPr/>
        </p:nvSpPr>
        <p:spPr>
          <a:xfrm>
            <a:off x="6669000" y="2013120"/>
            <a:ext cx="239760" cy="195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864" y="0"/>
                </a:moveTo>
                <a:cubicBezTo>
                  <a:pt x="6668" y="562"/>
                  <a:pt x="3248" y="1477"/>
                  <a:pt x="1880" y="3658"/>
                </a:cubicBezTo>
                <a:cubicBezTo>
                  <a:pt x="512" y="5839"/>
                  <a:pt x="0" y="8091"/>
                  <a:pt x="1025" y="11046"/>
                </a:cubicBezTo>
                <a:cubicBezTo>
                  <a:pt x="2051" y="14001"/>
                  <a:pt x="4616" y="16534"/>
                  <a:pt x="7010" y="18433"/>
                </a:cubicBezTo>
                <a:cubicBezTo>
                  <a:pt x="9403" y="20333"/>
                  <a:pt x="10600" y="20192"/>
                  <a:pt x="12994" y="20544"/>
                </a:cubicBezTo>
                <a:cubicBezTo>
                  <a:pt x="15387" y="20896"/>
                  <a:pt x="17382" y="21600"/>
                  <a:pt x="18978" y="20052"/>
                </a:cubicBezTo>
                <a:cubicBezTo>
                  <a:pt x="20574" y="18504"/>
                  <a:pt x="20859" y="15619"/>
                  <a:pt x="21087" y="12664"/>
                </a:cubicBezTo>
                <a:cubicBezTo>
                  <a:pt x="21315" y="9709"/>
                  <a:pt x="21600" y="7739"/>
                  <a:pt x="20232" y="5276"/>
                </a:cubicBezTo>
                <a:cubicBezTo>
                  <a:pt x="18864" y="2814"/>
                  <a:pt x="15444" y="1266"/>
                  <a:pt x="14248" y="49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自由曲线 369"/>
          <p:cNvSpPr/>
          <p:nvPr/>
        </p:nvSpPr>
        <p:spPr>
          <a:xfrm>
            <a:off x="6750000" y="2043000"/>
            <a:ext cx="103320" cy="115920"/>
          </a:xfrm>
          <a:custGeom>
            <a:avLst/>
            <a:gdLst/>
            <a:ahLst/>
            <a:rect l="l" t="t" r="r" b="b"/>
            <a:pathLst>
              <a:path w="21599" h="21600">
                <a:moveTo>
                  <a:pt x="19877" y="3204"/>
                </a:moveTo>
                <a:cubicBezTo>
                  <a:pt x="17226" y="2729"/>
                  <a:pt x="9541" y="0"/>
                  <a:pt x="5963" y="2373"/>
                </a:cubicBezTo>
                <a:cubicBezTo>
                  <a:pt x="2385" y="4747"/>
                  <a:pt x="0" y="11274"/>
                  <a:pt x="1987" y="14835"/>
                </a:cubicBezTo>
                <a:cubicBezTo>
                  <a:pt x="3975" y="18395"/>
                  <a:pt x="12191" y="21600"/>
                  <a:pt x="15901" y="20175"/>
                </a:cubicBezTo>
                <a:cubicBezTo>
                  <a:pt x="19612" y="18751"/>
                  <a:pt x="20009" y="11156"/>
                  <a:pt x="20804" y="7714"/>
                </a:cubicBezTo>
                <a:cubicBezTo>
                  <a:pt x="21599" y="4272"/>
                  <a:pt x="20142" y="3797"/>
                  <a:pt x="19877" y="3204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自由曲线 371"/>
          <p:cNvSpPr/>
          <p:nvPr/>
        </p:nvSpPr>
        <p:spPr>
          <a:xfrm>
            <a:off x="6864480" y="1779480"/>
            <a:ext cx="126720" cy="27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2245" y="556"/>
                  <a:pt x="8982" y="1669"/>
                  <a:pt x="11227" y="3389"/>
                </a:cubicBezTo>
                <a:cubicBezTo>
                  <a:pt x="13473" y="5109"/>
                  <a:pt x="9516" y="6576"/>
                  <a:pt x="11227" y="8700"/>
                </a:cubicBezTo>
                <a:cubicBezTo>
                  <a:pt x="12938" y="10825"/>
                  <a:pt x="18392" y="11432"/>
                  <a:pt x="19996" y="14012"/>
                </a:cubicBezTo>
                <a:cubicBezTo>
                  <a:pt x="21600" y="16592"/>
                  <a:pt x="19568" y="20183"/>
                  <a:pt x="19247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自由曲线 372"/>
          <p:cNvSpPr/>
          <p:nvPr/>
        </p:nvSpPr>
        <p:spPr>
          <a:xfrm>
            <a:off x="6558120" y="1795320"/>
            <a:ext cx="98280" cy="84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54" y="20454"/>
                </a:moveTo>
                <a:cubicBezTo>
                  <a:pt x="1393" y="17018"/>
                  <a:pt x="0" y="6545"/>
                  <a:pt x="3344" y="3272"/>
                </a:cubicBezTo>
                <a:cubicBezTo>
                  <a:pt x="6689" y="0"/>
                  <a:pt x="14353" y="818"/>
                  <a:pt x="17976" y="4418"/>
                </a:cubicBezTo>
                <a:cubicBezTo>
                  <a:pt x="21600" y="8018"/>
                  <a:pt x="20763" y="18163"/>
                  <a:pt x="21181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自由曲线 373"/>
          <p:cNvSpPr/>
          <p:nvPr/>
        </p:nvSpPr>
        <p:spPr>
          <a:xfrm>
            <a:off x="6481800" y="1927080"/>
            <a:ext cx="71280" cy="81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073" y="0"/>
                </a:moveTo>
                <a:cubicBezTo>
                  <a:pt x="10421" y="3516"/>
                  <a:pt x="0" y="13562"/>
                  <a:pt x="1705" y="17581"/>
                </a:cubicBezTo>
                <a:cubicBezTo>
                  <a:pt x="3410" y="21600"/>
                  <a:pt x="17431" y="19925"/>
                  <a:pt x="21600" y="20093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自由曲线 376"/>
          <p:cNvSpPr/>
          <p:nvPr/>
        </p:nvSpPr>
        <p:spPr>
          <a:xfrm>
            <a:off x="6473880" y="2303640"/>
            <a:ext cx="133200" cy="66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645" y="2262"/>
                  <a:pt x="15120" y="8022"/>
                  <a:pt x="10800" y="12342"/>
                </a:cubicBezTo>
                <a:cubicBezTo>
                  <a:pt x="6480" y="16662"/>
                  <a:pt x="1954" y="19954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自由曲线 376"/>
          <p:cNvSpPr/>
          <p:nvPr/>
        </p:nvSpPr>
        <p:spPr>
          <a:xfrm>
            <a:off x="6478560" y="2308320"/>
            <a:ext cx="133200" cy="66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645" y="2262"/>
                  <a:pt x="15120" y="8022"/>
                  <a:pt x="10800" y="12342"/>
                </a:cubicBezTo>
                <a:cubicBezTo>
                  <a:pt x="6480" y="16662"/>
                  <a:pt x="1954" y="19954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自由曲线 378"/>
          <p:cNvSpPr/>
          <p:nvPr/>
        </p:nvSpPr>
        <p:spPr>
          <a:xfrm>
            <a:off x="6397560" y="2170080"/>
            <a:ext cx="76320" cy="20484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21600" y="21599"/>
                </a:moveTo>
                <a:cubicBezTo>
                  <a:pt x="20520" y="20325"/>
                  <a:pt x="17820" y="17440"/>
                  <a:pt x="16200" y="14556"/>
                </a:cubicBezTo>
                <a:cubicBezTo>
                  <a:pt x="14580" y="11672"/>
                  <a:pt x="16740" y="9927"/>
                  <a:pt x="13500" y="7043"/>
                </a:cubicBezTo>
                <a:cubicBezTo>
                  <a:pt x="10260" y="4159"/>
                  <a:pt x="2700" y="1274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自由曲线 380"/>
          <p:cNvSpPr/>
          <p:nvPr/>
        </p:nvSpPr>
        <p:spPr>
          <a:xfrm>
            <a:off x="5924520" y="2490840"/>
            <a:ext cx="806400" cy="35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327" y="739"/>
                  <a:pt x="20731" y="2685"/>
                  <a:pt x="20066" y="4086"/>
                </a:cubicBezTo>
                <a:cubicBezTo>
                  <a:pt x="19402" y="5487"/>
                  <a:pt x="18993" y="5837"/>
                  <a:pt x="18278" y="7005"/>
                </a:cubicBezTo>
                <a:cubicBezTo>
                  <a:pt x="17562" y="8172"/>
                  <a:pt x="17205" y="8640"/>
                  <a:pt x="16489" y="9924"/>
                </a:cubicBezTo>
                <a:cubicBezTo>
                  <a:pt x="15774" y="11208"/>
                  <a:pt x="15416" y="12492"/>
                  <a:pt x="14700" y="13427"/>
                </a:cubicBezTo>
                <a:cubicBezTo>
                  <a:pt x="13985" y="14361"/>
                  <a:pt x="13661" y="14127"/>
                  <a:pt x="12912" y="14594"/>
                </a:cubicBezTo>
                <a:cubicBezTo>
                  <a:pt x="12162" y="15061"/>
                  <a:pt x="11753" y="15295"/>
                  <a:pt x="10987" y="15762"/>
                </a:cubicBezTo>
                <a:cubicBezTo>
                  <a:pt x="10220" y="16229"/>
                  <a:pt x="9811" y="16462"/>
                  <a:pt x="9079" y="16929"/>
                </a:cubicBezTo>
                <a:cubicBezTo>
                  <a:pt x="8347" y="17396"/>
                  <a:pt x="8006" y="17630"/>
                  <a:pt x="7290" y="18097"/>
                </a:cubicBezTo>
                <a:cubicBezTo>
                  <a:pt x="6575" y="18564"/>
                  <a:pt x="6217" y="18797"/>
                  <a:pt x="5502" y="19264"/>
                </a:cubicBezTo>
                <a:cubicBezTo>
                  <a:pt x="4786" y="19731"/>
                  <a:pt x="4463" y="20588"/>
                  <a:pt x="3713" y="20432"/>
                </a:cubicBezTo>
                <a:cubicBezTo>
                  <a:pt x="2964" y="20276"/>
                  <a:pt x="2538" y="18175"/>
                  <a:pt x="1788" y="18408"/>
                </a:cubicBezTo>
                <a:cubicBezTo>
                  <a:pt x="1039" y="18642"/>
                  <a:pt x="323" y="20938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自由曲线 411"/>
          <p:cNvSpPr/>
          <p:nvPr/>
        </p:nvSpPr>
        <p:spPr>
          <a:xfrm>
            <a:off x="5907240" y="2575080"/>
            <a:ext cx="900000" cy="304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310" y="495"/>
                  <a:pt x="20608" y="1620"/>
                  <a:pt x="19952" y="2700"/>
                </a:cubicBezTo>
                <a:cubicBezTo>
                  <a:pt x="19296" y="3780"/>
                  <a:pt x="18961" y="4005"/>
                  <a:pt x="18305" y="5400"/>
                </a:cubicBezTo>
                <a:cubicBezTo>
                  <a:pt x="17649" y="6795"/>
                  <a:pt x="17313" y="8100"/>
                  <a:pt x="16657" y="9720"/>
                </a:cubicBezTo>
                <a:cubicBezTo>
                  <a:pt x="16001" y="11340"/>
                  <a:pt x="15666" y="12420"/>
                  <a:pt x="15010" y="13500"/>
                </a:cubicBezTo>
                <a:cubicBezTo>
                  <a:pt x="14354" y="14580"/>
                  <a:pt x="14018" y="14805"/>
                  <a:pt x="13362" y="15120"/>
                </a:cubicBezTo>
                <a:cubicBezTo>
                  <a:pt x="12706" y="15435"/>
                  <a:pt x="12371" y="14805"/>
                  <a:pt x="11715" y="15120"/>
                </a:cubicBezTo>
                <a:cubicBezTo>
                  <a:pt x="11059" y="15435"/>
                  <a:pt x="10723" y="15975"/>
                  <a:pt x="10067" y="16740"/>
                </a:cubicBezTo>
                <a:cubicBezTo>
                  <a:pt x="9411" y="17505"/>
                  <a:pt x="9076" y="18270"/>
                  <a:pt x="8420" y="18900"/>
                </a:cubicBezTo>
                <a:cubicBezTo>
                  <a:pt x="7764" y="19530"/>
                  <a:pt x="7428" y="19890"/>
                  <a:pt x="6772" y="19980"/>
                </a:cubicBezTo>
                <a:cubicBezTo>
                  <a:pt x="6116" y="20070"/>
                  <a:pt x="5827" y="19530"/>
                  <a:pt x="5125" y="19440"/>
                </a:cubicBezTo>
                <a:cubicBezTo>
                  <a:pt x="4423" y="19350"/>
                  <a:pt x="3996" y="19440"/>
                  <a:pt x="3294" y="19440"/>
                </a:cubicBezTo>
                <a:cubicBezTo>
                  <a:pt x="2593" y="19440"/>
                  <a:pt x="2303" y="18990"/>
                  <a:pt x="1647" y="19440"/>
                </a:cubicBezTo>
                <a:cubicBezTo>
                  <a:pt x="991" y="19890"/>
                  <a:pt x="289" y="2115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自由曲线 414"/>
          <p:cNvSpPr/>
          <p:nvPr/>
        </p:nvSpPr>
        <p:spPr>
          <a:xfrm>
            <a:off x="6037200" y="2468520"/>
            <a:ext cx="684360" cy="351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202" y="661"/>
                  <a:pt x="20239" y="2204"/>
                  <a:pt x="19339" y="3526"/>
                </a:cubicBezTo>
                <a:cubicBezTo>
                  <a:pt x="18439" y="4848"/>
                  <a:pt x="17937" y="5216"/>
                  <a:pt x="17079" y="6612"/>
                </a:cubicBezTo>
                <a:cubicBezTo>
                  <a:pt x="16220" y="8008"/>
                  <a:pt x="15927" y="9330"/>
                  <a:pt x="15069" y="10579"/>
                </a:cubicBezTo>
                <a:cubicBezTo>
                  <a:pt x="14211" y="11828"/>
                  <a:pt x="13709" y="11975"/>
                  <a:pt x="12809" y="12783"/>
                </a:cubicBezTo>
                <a:cubicBezTo>
                  <a:pt x="11909" y="13591"/>
                  <a:pt x="11448" y="14032"/>
                  <a:pt x="10548" y="14546"/>
                </a:cubicBezTo>
                <a:cubicBezTo>
                  <a:pt x="9648" y="15061"/>
                  <a:pt x="9188" y="15061"/>
                  <a:pt x="8288" y="15428"/>
                </a:cubicBezTo>
                <a:cubicBezTo>
                  <a:pt x="7388" y="15795"/>
                  <a:pt x="7032" y="15942"/>
                  <a:pt x="6027" y="16310"/>
                </a:cubicBezTo>
                <a:cubicBezTo>
                  <a:pt x="5023" y="16677"/>
                  <a:pt x="4269" y="16934"/>
                  <a:pt x="3265" y="17191"/>
                </a:cubicBezTo>
                <a:cubicBezTo>
                  <a:pt x="2260" y="17448"/>
                  <a:pt x="1653" y="16751"/>
                  <a:pt x="1004" y="17632"/>
                </a:cubicBezTo>
                <a:cubicBezTo>
                  <a:pt x="355" y="18514"/>
                  <a:pt x="146" y="20828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自由曲线 415"/>
          <p:cNvSpPr/>
          <p:nvPr/>
        </p:nvSpPr>
        <p:spPr>
          <a:xfrm>
            <a:off x="6059520" y="2620800"/>
            <a:ext cx="100080" cy="204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415" y="20333"/>
                  <a:pt x="692" y="17266"/>
                  <a:pt x="3323" y="14400"/>
                </a:cubicBezTo>
                <a:cubicBezTo>
                  <a:pt x="5953" y="11533"/>
                  <a:pt x="9692" y="10066"/>
                  <a:pt x="13292" y="7200"/>
                </a:cubicBezTo>
                <a:cubicBezTo>
                  <a:pt x="16892" y="4333"/>
                  <a:pt x="20076" y="1266"/>
                  <a:pt x="2160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自由曲线 415"/>
          <p:cNvSpPr/>
          <p:nvPr/>
        </p:nvSpPr>
        <p:spPr>
          <a:xfrm>
            <a:off x="6075360" y="2619360"/>
            <a:ext cx="84240" cy="204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415" y="20333"/>
                  <a:pt x="692" y="17266"/>
                  <a:pt x="3323" y="14400"/>
                </a:cubicBezTo>
                <a:cubicBezTo>
                  <a:pt x="5953" y="11533"/>
                  <a:pt x="9692" y="10066"/>
                  <a:pt x="13292" y="7200"/>
                </a:cubicBezTo>
                <a:cubicBezTo>
                  <a:pt x="16892" y="4333"/>
                  <a:pt x="20076" y="1266"/>
                  <a:pt x="2160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自由曲线 445"/>
          <p:cNvSpPr/>
          <p:nvPr/>
        </p:nvSpPr>
        <p:spPr>
          <a:xfrm>
            <a:off x="4191120" y="3127320"/>
            <a:ext cx="293400" cy="901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92" y="0"/>
                </a:moveTo>
                <a:cubicBezTo>
                  <a:pt x="3265" y="304"/>
                  <a:pt x="2192" y="1005"/>
                  <a:pt x="1866" y="1675"/>
                </a:cubicBezTo>
                <a:cubicBezTo>
                  <a:pt x="1539" y="2345"/>
                  <a:pt x="1866" y="2574"/>
                  <a:pt x="1866" y="3351"/>
                </a:cubicBezTo>
                <a:cubicBezTo>
                  <a:pt x="1866" y="4128"/>
                  <a:pt x="2052" y="4798"/>
                  <a:pt x="1866" y="5590"/>
                </a:cubicBezTo>
                <a:cubicBezTo>
                  <a:pt x="1679" y="6382"/>
                  <a:pt x="1352" y="6550"/>
                  <a:pt x="1026" y="7281"/>
                </a:cubicBezTo>
                <a:cubicBezTo>
                  <a:pt x="699" y="8012"/>
                  <a:pt x="373" y="8499"/>
                  <a:pt x="186" y="9231"/>
                </a:cubicBezTo>
                <a:cubicBezTo>
                  <a:pt x="0" y="9962"/>
                  <a:pt x="186" y="10236"/>
                  <a:pt x="186" y="10906"/>
                </a:cubicBezTo>
                <a:cubicBezTo>
                  <a:pt x="186" y="11576"/>
                  <a:pt x="186" y="11927"/>
                  <a:pt x="186" y="12597"/>
                </a:cubicBezTo>
                <a:cubicBezTo>
                  <a:pt x="186" y="13267"/>
                  <a:pt x="186" y="13541"/>
                  <a:pt x="186" y="14273"/>
                </a:cubicBezTo>
                <a:cubicBezTo>
                  <a:pt x="186" y="15004"/>
                  <a:pt x="0" y="15491"/>
                  <a:pt x="186" y="16222"/>
                </a:cubicBezTo>
                <a:cubicBezTo>
                  <a:pt x="373" y="16954"/>
                  <a:pt x="839" y="17243"/>
                  <a:pt x="1026" y="17913"/>
                </a:cubicBezTo>
                <a:cubicBezTo>
                  <a:pt x="1212" y="18583"/>
                  <a:pt x="513" y="18919"/>
                  <a:pt x="1026" y="19589"/>
                </a:cubicBezTo>
                <a:cubicBezTo>
                  <a:pt x="1539" y="20259"/>
                  <a:pt x="1866" y="20929"/>
                  <a:pt x="3592" y="21264"/>
                </a:cubicBezTo>
                <a:cubicBezTo>
                  <a:pt x="5318" y="21600"/>
                  <a:pt x="7371" y="21371"/>
                  <a:pt x="9610" y="21264"/>
                </a:cubicBezTo>
                <a:cubicBezTo>
                  <a:pt x="11849" y="21158"/>
                  <a:pt x="12876" y="21143"/>
                  <a:pt x="14742" y="20701"/>
                </a:cubicBezTo>
                <a:cubicBezTo>
                  <a:pt x="16608" y="20259"/>
                  <a:pt x="17681" y="19695"/>
                  <a:pt x="19034" y="19025"/>
                </a:cubicBezTo>
                <a:cubicBezTo>
                  <a:pt x="20387" y="18355"/>
                  <a:pt x="21180" y="17654"/>
                  <a:pt x="21600" y="1735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自由曲线 457"/>
          <p:cNvSpPr/>
          <p:nvPr/>
        </p:nvSpPr>
        <p:spPr>
          <a:xfrm>
            <a:off x="5915160" y="2838600"/>
            <a:ext cx="9360" cy="3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400" y="7328"/>
                  <a:pt x="7200" y="14271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86"/>
          <p:cNvSpPr/>
          <p:nvPr/>
        </p:nvSpPr>
        <p:spPr>
          <a:xfrm flipV="1">
            <a:off x="5708520" y="2873160"/>
            <a:ext cx="44640" cy="37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7"/>
          <p:cNvSpPr/>
          <p:nvPr/>
        </p:nvSpPr>
        <p:spPr>
          <a:xfrm>
            <a:off x="5753160" y="2873520"/>
            <a:ext cx="566640" cy="12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8"/>
          <p:cNvSpPr/>
          <p:nvPr/>
        </p:nvSpPr>
        <p:spPr>
          <a:xfrm>
            <a:off x="6319800" y="2886120"/>
            <a:ext cx="31680" cy="23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自由曲线 467"/>
          <p:cNvSpPr/>
          <p:nvPr/>
        </p:nvSpPr>
        <p:spPr>
          <a:xfrm>
            <a:off x="6384960" y="3322800"/>
            <a:ext cx="98280" cy="133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370" y="1954"/>
                  <a:pt x="14074" y="6480"/>
                  <a:pt x="9754" y="10800"/>
                </a:cubicBezTo>
                <a:cubicBezTo>
                  <a:pt x="5434" y="15120"/>
                  <a:pt x="1672" y="19645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自由曲线 468"/>
          <p:cNvSpPr/>
          <p:nvPr/>
        </p:nvSpPr>
        <p:spPr>
          <a:xfrm>
            <a:off x="6324480" y="3462480"/>
            <a:ext cx="57240" cy="63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400" y="7128"/>
                  <a:pt x="7200" y="14472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自由曲线 475"/>
          <p:cNvSpPr/>
          <p:nvPr/>
        </p:nvSpPr>
        <p:spPr>
          <a:xfrm>
            <a:off x="6595920" y="2023920"/>
            <a:ext cx="66960" cy="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7200" y="7200"/>
                  <a:pt x="14400" y="144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自由曲线 476"/>
          <p:cNvSpPr/>
          <p:nvPr/>
        </p:nvSpPr>
        <p:spPr>
          <a:xfrm>
            <a:off x="6905520" y="2143080"/>
            <a:ext cx="66960" cy="38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7200" y="7200"/>
                  <a:pt x="14400" y="144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自由曲线 750"/>
          <p:cNvSpPr/>
          <p:nvPr/>
        </p:nvSpPr>
        <p:spPr>
          <a:xfrm>
            <a:off x="6573960" y="3535200"/>
            <a:ext cx="187200" cy="549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951" y="475"/>
                  <a:pt x="3002" y="1625"/>
                  <a:pt x="5271" y="2700"/>
                </a:cubicBezTo>
                <a:cubicBezTo>
                  <a:pt x="7541" y="3775"/>
                  <a:pt x="8786" y="4325"/>
                  <a:pt x="11422" y="5400"/>
                </a:cubicBezTo>
                <a:cubicBezTo>
                  <a:pt x="14058" y="6475"/>
                  <a:pt x="16547" y="7025"/>
                  <a:pt x="18451" y="8100"/>
                </a:cubicBezTo>
                <a:cubicBezTo>
                  <a:pt x="20355" y="9175"/>
                  <a:pt x="20574" y="9725"/>
                  <a:pt x="21087" y="10800"/>
                </a:cubicBezTo>
                <a:cubicBezTo>
                  <a:pt x="21600" y="11875"/>
                  <a:pt x="21087" y="12425"/>
                  <a:pt x="21087" y="13500"/>
                </a:cubicBezTo>
                <a:cubicBezTo>
                  <a:pt x="21087" y="14575"/>
                  <a:pt x="21087" y="15125"/>
                  <a:pt x="21087" y="16200"/>
                </a:cubicBezTo>
                <a:cubicBezTo>
                  <a:pt x="21087" y="17275"/>
                  <a:pt x="21233" y="17825"/>
                  <a:pt x="21087" y="18900"/>
                </a:cubicBezTo>
                <a:cubicBezTo>
                  <a:pt x="20941" y="19975"/>
                  <a:pt x="20355" y="21125"/>
                  <a:pt x="20208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自由曲线 752"/>
          <p:cNvSpPr/>
          <p:nvPr/>
        </p:nvSpPr>
        <p:spPr>
          <a:xfrm>
            <a:off x="6581880" y="4098960"/>
            <a:ext cx="274680" cy="25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950" y="2842"/>
                  <a:pt x="3250" y="9663"/>
                  <a:pt x="5400" y="13642"/>
                </a:cubicBezTo>
                <a:cubicBezTo>
                  <a:pt x="7550" y="17621"/>
                  <a:pt x="8650" y="19326"/>
                  <a:pt x="10800" y="20463"/>
                </a:cubicBezTo>
                <a:cubicBezTo>
                  <a:pt x="12950" y="21600"/>
                  <a:pt x="14050" y="20463"/>
                  <a:pt x="16200" y="20463"/>
                </a:cubicBezTo>
                <a:cubicBezTo>
                  <a:pt x="18350" y="20463"/>
                  <a:pt x="20650" y="20463"/>
                  <a:pt x="21600" y="20463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95"/>
          <p:cNvSpPr/>
          <p:nvPr/>
        </p:nvSpPr>
        <p:spPr>
          <a:xfrm>
            <a:off x="3176640" y="640404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96"/>
          <p:cNvSpPr/>
          <p:nvPr/>
        </p:nvSpPr>
        <p:spPr>
          <a:xfrm>
            <a:off x="3457440" y="6405480"/>
            <a:ext cx="15264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97"/>
          <p:cNvSpPr/>
          <p:nvPr/>
        </p:nvSpPr>
        <p:spPr>
          <a:xfrm>
            <a:off x="375444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98"/>
          <p:cNvSpPr/>
          <p:nvPr/>
        </p:nvSpPr>
        <p:spPr>
          <a:xfrm>
            <a:off x="4038480" y="6404040"/>
            <a:ext cx="152640" cy="152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99"/>
          <p:cNvSpPr/>
          <p:nvPr/>
        </p:nvSpPr>
        <p:spPr>
          <a:xfrm>
            <a:off x="4325760" y="6405480"/>
            <a:ext cx="15264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00"/>
          <p:cNvSpPr/>
          <p:nvPr/>
        </p:nvSpPr>
        <p:spPr>
          <a:xfrm>
            <a:off x="4613400" y="6407280"/>
            <a:ext cx="152280" cy="152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01"/>
          <p:cNvSpPr/>
          <p:nvPr/>
        </p:nvSpPr>
        <p:spPr>
          <a:xfrm>
            <a:off x="490392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02"/>
          <p:cNvSpPr/>
          <p:nvPr/>
        </p:nvSpPr>
        <p:spPr>
          <a:xfrm>
            <a:off x="518652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03"/>
          <p:cNvSpPr/>
          <p:nvPr/>
        </p:nvSpPr>
        <p:spPr>
          <a:xfrm>
            <a:off x="547704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27400" y="365040"/>
            <a:ext cx="638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细线也很美——个人工作小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C1E3-A8CC-4F36-8D3C-24BDC03AAA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b0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b0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3718080" y="706320"/>
            <a:ext cx="195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4514760" y="1871640"/>
            <a:ext cx="76320" cy="2998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 flipH="1">
            <a:off x="4185360" y="1854360"/>
            <a:ext cx="257400" cy="120600"/>
          </a:xfrm>
          <a:custGeom>
            <a:avLst/>
            <a:gdLst>
              <a:gd name="textAreaLeft" fmla="*/ 32040 w 257400"/>
              <a:gd name="textAreaRight" fmla="*/ 225360 w 257400"/>
              <a:gd name="textAreaTop" fmla="*/ 30240 h 120600"/>
              <a:gd name="textAreaBottom" fmla="*/ 90720 h 120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2305080" y="1719360"/>
            <a:ext cx="17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T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"/>
          <p:cNvSpPr/>
          <p:nvPr/>
        </p:nvSpPr>
        <p:spPr>
          <a:xfrm flipH="1" rot="10800000">
            <a:off x="4664160" y="1866600"/>
            <a:ext cx="257040" cy="120600"/>
          </a:xfrm>
          <a:custGeom>
            <a:avLst/>
            <a:gdLst>
              <a:gd name="textAreaLeft" fmla="*/ 32040 w 257040"/>
              <a:gd name="textAreaRight" fmla="*/ 225000 w 257040"/>
              <a:gd name="textAreaTop" fmla="*/ 30240 h 120600"/>
              <a:gd name="textAreaBottom" fmla="*/ 90720 h 120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5194440" y="1720800"/>
            <a:ext cx="19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T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8"/>
          <p:cNvSpPr/>
          <p:nvPr/>
        </p:nvSpPr>
        <p:spPr>
          <a:xfrm flipH="1">
            <a:off x="4168800" y="3301920"/>
            <a:ext cx="257040" cy="120600"/>
          </a:xfrm>
          <a:custGeom>
            <a:avLst/>
            <a:gdLst>
              <a:gd name="textAreaLeft" fmla="*/ 32040 w 257040"/>
              <a:gd name="textAreaRight" fmla="*/ 225000 w 257040"/>
              <a:gd name="textAreaTop" fmla="*/ 30240 h 120600"/>
              <a:gd name="textAreaBottom" fmla="*/ 90720 h 120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2305080" y="3165480"/>
            <a:ext cx="19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T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0"/>
          <p:cNvSpPr/>
          <p:nvPr/>
        </p:nvSpPr>
        <p:spPr>
          <a:xfrm flipH="1" rot="10800000">
            <a:off x="4672080" y="3306600"/>
            <a:ext cx="257040" cy="120960"/>
          </a:xfrm>
          <a:custGeom>
            <a:avLst/>
            <a:gdLst>
              <a:gd name="textAreaLeft" fmla="*/ 32040 w 257040"/>
              <a:gd name="textAreaRight" fmla="*/ 225000 w 257040"/>
              <a:gd name="textAreaTop" fmla="*/ 30240 h 120960"/>
              <a:gd name="textAreaBottom" fmla="*/ 90720 h 120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5181480" y="3160800"/>
            <a:ext cx="19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T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2"/>
          <p:cNvSpPr/>
          <p:nvPr/>
        </p:nvSpPr>
        <p:spPr>
          <a:xfrm flipH="1">
            <a:off x="4168800" y="4749840"/>
            <a:ext cx="257040" cy="120600"/>
          </a:xfrm>
          <a:custGeom>
            <a:avLst/>
            <a:gdLst>
              <a:gd name="textAreaLeft" fmla="*/ 32040 w 257040"/>
              <a:gd name="textAreaRight" fmla="*/ 225000 w 257040"/>
              <a:gd name="textAreaTop" fmla="*/ 30240 h 120600"/>
              <a:gd name="textAreaBottom" fmla="*/ 90720 h 120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2305080" y="4610160"/>
            <a:ext cx="19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T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4"/>
          <p:cNvSpPr/>
          <p:nvPr/>
        </p:nvSpPr>
        <p:spPr>
          <a:xfrm>
            <a:off x="3921120" y="1797120"/>
            <a:ext cx="239760" cy="23976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5"/>
          <p:cNvSpPr/>
          <p:nvPr/>
        </p:nvSpPr>
        <p:spPr>
          <a:xfrm flipH="1" rot="10800000">
            <a:off x="4684680" y="4752720"/>
            <a:ext cx="257040" cy="120600"/>
          </a:xfrm>
          <a:custGeom>
            <a:avLst/>
            <a:gdLst>
              <a:gd name="textAreaLeft" fmla="*/ 32040 w 257040"/>
              <a:gd name="textAreaRight" fmla="*/ 225000 w 257040"/>
              <a:gd name="textAreaTop" fmla="*/ 30240 h 120600"/>
              <a:gd name="textAreaBottom" fmla="*/ 90720 h 120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5194440" y="4606920"/>
            <a:ext cx="194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T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7"/>
          <p:cNvSpPr/>
          <p:nvPr/>
        </p:nvSpPr>
        <p:spPr>
          <a:xfrm>
            <a:off x="3895560" y="3243240"/>
            <a:ext cx="241560" cy="23976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8"/>
          <p:cNvSpPr/>
          <p:nvPr/>
        </p:nvSpPr>
        <p:spPr>
          <a:xfrm>
            <a:off x="3897360" y="4700520"/>
            <a:ext cx="239760" cy="23976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9"/>
          <p:cNvSpPr/>
          <p:nvPr/>
        </p:nvSpPr>
        <p:spPr>
          <a:xfrm>
            <a:off x="4946760" y="1809720"/>
            <a:ext cx="239760" cy="23976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20"/>
          <p:cNvSpPr/>
          <p:nvPr/>
        </p:nvSpPr>
        <p:spPr>
          <a:xfrm>
            <a:off x="4959360" y="3232080"/>
            <a:ext cx="239760" cy="23976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1"/>
          <p:cNvSpPr/>
          <p:nvPr/>
        </p:nvSpPr>
        <p:spPr>
          <a:xfrm>
            <a:off x="4981680" y="4689360"/>
            <a:ext cx="239760" cy="24156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22"/>
          <p:cNvSpPr/>
          <p:nvPr/>
        </p:nvSpPr>
        <p:spPr>
          <a:xfrm>
            <a:off x="3176640" y="6404040"/>
            <a:ext cx="152280" cy="152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3"/>
          <p:cNvSpPr/>
          <p:nvPr/>
        </p:nvSpPr>
        <p:spPr>
          <a:xfrm>
            <a:off x="3457440" y="6405480"/>
            <a:ext cx="15264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24"/>
          <p:cNvSpPr/>
          <p:nvPr/>
        </p:nvSpPr>
        <p:spPr>
          <a:xfrm>
            <a:off x="375444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25"/>
          <p:cNvSpPr/>
          <p:nvPr/>
        </p:nvSpPr>
        <p:spPr>
          <a:xfrm>
            <a:off x="4038480" y="6404040"/>
            <a:ext cx="152640" cy="152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26"/>
          <p:cNvSpPr/>
          <p:nvPr/>
        </p:nvSpPr>
        <p:spPr>
          <a:xfrm>
            <a:off x="4325760" y="6405480"/>
            <a:ext cx="15264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27"/>
          <p:cNvSpPr/>
          <p:nvPr/>
        </p:nvSpPr>
        <p:spPr>
          <a:xfrm>
            <a:off x="4613400" y="6407280"/>
            <a:ext cx="152280" cy="152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28"/>
          <p:cNvSpPr/>
          <p:nvPr/>
        </p:nvSpPr>
        <p:spPr>
          <a:xfrm>
            <a:off x="490392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9"/>
          <p:cNvSpPr/>
          <p:nvPr/>
        </p:nvSpPr>
        <p:spPr>
          <a:xfrm>
            <a:off x="518652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30"/>
          <p:cNvSpPr/>
          <p:nvPr/>
        </p:nvSpPr>
        <p:spPr>
          <a:xfrm>
            <a:off x="547704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b0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6487920" y="2328840"/>
            <a:ext cx="1355760" cy="30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6302160" y="3301920"/>
            <a:ext cx="1355760" cy="30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5967360" y="4203720"/>
            <a:ext cx="1355760" cy="30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5700600" y="5122800"/>
            <a:ext cx="1355760" cy="30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6"/>
          <p:cNvSpPr/>
          <p:nvPr/>
        </p:nvSpPr>
        <p:spPr>
          <a:xfrm>
            <a:off x="3425760" y="4672080"/>
            <a:ext cx="492120" cy="83016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7"/>
          <p:cNvSpPr/>
          <p:nvPr/>
        </p:nvSpPr>
        <p:spPr>
          <a:xfrm>
            <a:off x="412920" y="4670280"/>
            <a:ext cx="3504960" cy="54000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412920" y="5205240"/>
            <a:ext cx="3012840" cy="29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-11160" y="1111320"/>
            <a:ext cx="853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700560" y="657360"/>
            <a:ext cx="12690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1"/>
          <p:cNvSpPr/>
          <p:nvPr/>
        </p:nvSpPr>
        <p:spPr>
          <a:xfrm>
            <a:off x="1108080" y="3794040"/>
            <a:ext cx="3289320" cy="57492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2"/>
          <p:cNvSpPr/>
          <p:nvPr/>
        </p:nvSpPr>
        <p:spPr>
          <a:xfrm>
            <a:off x="1114560" y="4365720"/>
            <a:ext cx="2803320" cy="296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3"/>
          <p:cNvSpPr/>
          <p:nvPr/>
        </p:nvSpPr>
        <p:spPr>
          <a:xfrm flipV="1">
            <a:off x="3925800" y="4065120"/>
            <a:ext cx="478080" cy="606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4"/>
          <p:cNvSpPr/>
          <p:nvPr/>
        </p:nvSpPr>
        <p:spPr>
          <a:xfrm>
            <a:off x="4397400" y="3794040"/>
            <a:ext cx="0" cy="282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15"/>
          <p:cNvSpPr/>
          <p:nvPr/>
        </p:nvSpPr>
        <p:spPr>
          <a:xfrm>
            <a:off x="1765440" y="2917800"/>
            <a:ext cx="3079440" cy="57456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1773360" y="3489480"/>
            <a:ext cx="2624040" cy="296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7"/>
          <p:cNvSpPr/>
          <p:nvPr/>
        </p:nvSpPr>
        <p:spPr>
          <a:xfrm flipV="1">
            <a:off x="4402080" y="3209760"/>
            <a:ext cx="442800" cy="59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8"/>
          <p:cNvSpPr/>
          <p:nvPr/>
        </p:nvSpPr>
        <p:spPr>
          <a:xfrm>
            <a:off x="4832280" y="2917800"/>
            <a:ext cx="0" cy="291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19"/>
          <p:cNvSpPr/>
          <p:nvPr/>
        </p:nvSpPr>
        <p:spPr>
          <a:xfrm>
            <a:off x="2365200" y="2038320"/>
            <a:ext cx="2895840" cy="57456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0"/>
          <p:cNvSpPr/>
          <p:nvPr/>
        </p:nvSpPr>
        <p:spPr>
          <a:xfrm>
            <a:off x="2373480" y="2610000"/>
            <a:ext cx="2471400" cy="296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1"/>
          <p:cNvSpPr/>
          <p:nvPr/>
        </p:nvSpPr>
        <p:spPr>
          <a:xfrm flipV="1">
            <a:off x="4842000" y="2328840"/>
            <a:ext cx="442800" cy="59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2"/>
          <p:cNvSpPr/>
          <p:nvPr/>
        </p:nvSpPr>
        <p:spPr>
          <a:xfrm>
            <a:off x="5272200" y="2038320"/>
            <a:ext cx="0" cy="290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23"/>
          <p:cNvSpPr/>
          <p:nvPr/>
        </p:nvSpPr>
        <p:spPr>
          <a:xfrm>
            <a:off x="868320" y="2038320"/>
            <a:ext cx="2225880" cy="286380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solidFill>
            <a:srgbClr val="3bb0ce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4"/>
          <p:cNvSpPr/>
          <p:nvPr/>
        </p:nvSpPr>
        <p:spPr>
          <a:xfrm>
            <a:off x="5235480" y="2349360"/>
            <a:ext cx="1203480" cy="295560"/>
          </a:xfrm>
          <a:custGeom>
            <a:avLst/>
            <a:gdLst>
              <a:gd name="textAreaLeft" fmla="*/ 187920 w 1203480"/>
              <a:gd name="textAreaRight" fmla="*/ 1053360 w 1203480"/>
              <a:gd name="textAreaTop" fmla="*/ 73800 h 295560"/>
              <a:gd name="textAreaBottom" fmla="*/ 221760 h 295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5"/>
          <p:cNvSpPr/>
          <p:nvPr/>
        </p:nvSpPr>
        <p:spPr>
          <a:xfrm>
            <a:off x="5025960" y="3321000"/>
            <a:ext cx="1203480" cy="295200"/>
          </a:xfrm>
          <a:custGeom>
            <a:avLst/>
            <a:gdLst>
              <a:gd name="textAreaLeft" fmla="*/ 187920 w 1203480"/>
              <a:gd name="textAreaRight" fmla="*/ 1053360 w 1203480"/>
              <a:gd name="textAreaTop" fmla="*/ 73800 h 295200"/>
              <a:gd name="textAreaBottom" fmla="*/ 221400 h 295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26"/>
          <p:cNvSpPr/>
          <p:nvPr/>
        </p:nvSpPr>
        <p:spPr>
          <a:xfrm>
            <a:off x="4702320" y="4216320"/>
            <a:ext cx="1203120" cy="295200"/>
          </a:xfrm>
          <a:custGeom>
            <a:avLst/>
            <a:gdLst>
              <a:gd name="textAreaLeft" fmla="*/ 187920 w 1203120"/>
              <a:gd name="textAreaRight" fmla="*/ 1053000 w 1203120"/>
              <a:gd name="textAreaTop" fmla="*/ 73800 h 295200"/>
              <a:gd name="textAreaBottom" fmla="*/ 221400 h 295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27"/>
          <p:cNvSpPr/>
          <p:nvPr/>
        </p:nvSpPr>
        <p:spPr>
          <a:xfrm>
            <a:off x="4435560" y="5130720"/>
            <a:ext cx="1203120" cy="295200"/>
          </a:xfrm>
          <a:custGeom>
            <a:avLst/>
            <a:gdLst>
              <a:gd name="textAreaLeft" fmla="*/ 187920 w 1203120"/>
              <a:gd name="textAreaRight" fmla="*/ 1053000 w 1203120"/>
              <a:gd name="textAreaTop" fmla="*/ 73800 h 295200"/>
              <a:gd name="textAreaBottom" fmla="*/ 221400 h 295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8"/>
          <p:cNvSpPr/>
          <p:nvPr/>
        </p:nvSpPr>
        <p:spPr>
          <a:xfrm>
            <a:off x="3176640" y="6404040"/>
            <a:ext cx="152280" cy="152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9"/>
          <p:cNvSpPr/>
          <p:nvPr/>
        </p:nvSpPr>
        <p:spPr>
          <a:xfrm>
            <a:off x="3457440" y="6405480"/>
            <a:ext cx="15264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30"/>
          <p:cNvSpPr/>
          <p:nvPr/>
        </p:nvSpPr>
        <p:spPr>
          <a:xfrm>
            <a:off x="3754440" y="640548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31"/>
          <p:cNvSpPr/>
          <p:nvPr/>
        </p:nvSpPr>
        <p:spPr>
          <a:xfrm>
            <a:off x="4038480" y="6404040"/>
            <a:ext cx="152640" cy="152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32"/>
          <p:cNvSpPr/>
          <p:nvPr/>
        </p:nvSpPr>
        <p:spPr>
          <a:xfrm>
            <a:off x="4325760" y="6405480"/>
            <a:ext cx="15264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33"/>
          <p:cNvSpPr/>
          <p:nvPr/>
        </p:nvSpPr>
        <p:spPr>
          <a:xfrm>
            <a:off x="4613400" y="6407280"/>
            <a:ext cx="152280" cy="152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34"/>
          <p:cNvSpPr/>
          <p:nvPr/>
        </p:nvSpPr>
        <p:spPr>
          <a:xfrm>
            <a:off x="490392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35"/>
          <p:cNvSpPr/>
          <p:nvPr/>
        </p:nvSpPr>
        <p:spPr>
          <a:xfrm>
            <a:off x="518652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36"/>
          <p:cNvSpPr/>
          <p:nvPr/>
        </p:nvSpPr>
        <p:spPr>
          <a:xfrm>
            <a:off x="547704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b0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Line 2"/>
          <p:cNvSpPr/>
          <p:nvPr/>
        </p:nvSpPr>
        <p:spPr>
          <a:xfrm>
            <a:off x="-11160" y="1111320"/>
            <a:ext cx="853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700560" y="657360"/>
            <a:ext cx="12690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齿轮2 660"/>
          <p:cNvSpPr/>
          <p:nvPr/>
        </p:nvSpPr>
        <p:spPr>
          <a:xfrm rot="20820000">
            <a:off x="1263600" y="3949560"/>
            <a:ext cx="1650960" cy="1651320"/>
          </a:xfrm>
          <a:custGeom>
            <a:avLst/>
            <a:gdLst/>
            <a:ahLst/>
            <a:rect l="l" t="t" r="r" b="b"/>
            <a:pathLst>
              <a:path w="2443615" h="2406492">
                <a:moveTo>
                  <a:pt x="1221807" y="443178"/>
                </a:moveTo>
                <a:cubicBezTo>
                  <a:pt x="791117" y="443178"/>
                  <a:pt x="441973" y="792322"/>
                  <a:pt x="441973" y="1223012"/>
                </a:cubicBezTo>
                <a:cubicBezTo>
                  <a:pt x="441973" y="1653702"/>
                  <a:pt x="791117" y="2002846"/>
                  <a:pt x="1221807" y="2002846"/>
                </a:cubicBezTo>
                <a:cubicBezTo>
                  <a:pt x="1652497" y="2002846"/>
                  <a:pt x="2001641" y="1653702"/>
                  <a:pt x="2001641" y="1223012"/>
                </a:cubicBezTo>
                <a:cubicBezTo>
                  <a:pt x="2001641" y="792322"/>
                  <a:pt x="1652497" y="443178"/>
                  <a:pt x="1221807" y="443178"/>
                </a:cubicBezTo>
                <a:close/>
                <a:moveTo>
                  <a:pt x="1121747" y="0"/>
                </a:moveTo>
                <a:lnTo>
                  <a:pt x="1321868" y="0"/>
                </a:lnTo>
                <a:lnTo>
                  <a:pt x="1365362" y="246702"/>
                </a:lnTo>
                <a:cubicBezTo>
                  <a:pt x="1497994" y="266203"/>
                  <a:pt x="1625261" y="312525"/>
                  <a:pt x="1739400" y="382840"/>
                </a:cubicBezTo>
                <a:lnTo>
                  <a:pt x="1931295" y="221813"/>
                </a:lnTo>
                <a:lnTo>
                  <a:pt x="2084596" y="350449"/>
                </a:lnTo>
                <a:lnTo>
                  <a:pt x="1959337" y="567390"/>
                </a:lnTo>
                <a:cubicBezTo>
                  <a:pt x="2048403" y="667584"/>
                  <a:pt x="2116120" y="784874"/>
                  <a:pt x="2158357" y="912104"/>
                </a:cubicBezTo>
                <a:lnTo>
                  <a:pt x="2408865" y="912098"/>
                </a:lnTo>
                <a:lnTo>
                  <a:pt x="2443615" y="1109179"/>
                </a:lnTo>
                <a:lnTo>
                  <a:pt x="2208214" y="1194851"/>
                </a:lnTo>
                <a:cubicBezTo>
                  <a:pt x="2212040" y="1328854"/>
                  <a:pt x="2188522" y="1462233"/>
                  <a:pt x="2139095" y="1586846"/>
                </a:cubicBezTo>
                <a:lnTo>
                  <a:pt x="2330998" y="1747864"/>
                </a:lnTo>
                <a:lnTo>
                  <a:pt x="2230938" y="1921175"/>
                </a:lnTo>
                <a:lnTo>
                  <a:pt x="1995541" y="1835490"/>
                </a:lnTo>
                <a:cubicBezTo>
                  <a:pt x="1912336" y="1940602"/>
                  <a:pt x="1808586" y="2027658"/>
                  <a:pt x="1690623" y="2091346"/>
                </a:cubicBezTo>
                <a:lnTo>
                  <a:pt x="1734130" y="2338046"/>
                </a:lnTo>
                <a:lnTo>
                  <a:pt x="1546077" y="2406492"/>
                </a:lnTo>
                <a:lnTo>
                  <a:pt x="1420828" y="2189544"/>
                </a:lnTo>
                <a:cubicBezTo>
                  <a:pt x="1289525" y="2216580"/>
                  <a:pt x="1154089" y="2216580"/>
                  <a:pt x="1022786" y="2189544"/>
                </a:cubicBezTo>
                <a:lnTo>
                  <a:pt x="897539" y="2406492"/>
                </a:lnTo>
                <a:lnTo>
                  <a:pt x="709486" y="2338046"/>
                </a:lnTo>
                <a:lnTo>
                  <a:pt x="752993" y="2091346"/>
                </a:lnTo>
                <a:cubicBezTo>
                  <a:pt x="635030" y="2027658"/>
                  <a:pt x="531280" y="1940601"/>
                  <a:pt x="448076" y="1835490"/>
                </a:cubicBezTo>
                <a:lnTo>
                  <a:pt x="212678" y="1921175"/>
                </a:lnTo>
                <a:lnTo>
                  <a:pt x="112617" y="1747864"/>
                </a:lnTo>
                <a:lnTo>
                  <a:pt x="304520" y="1586846"/>
                </a:lnTo>
                <a:cubicBezTo>
                  <a:pt x="255094" y="1462233"/>
                  <a:pt x="231575" y="1328854"/>
                  <a:pt x="235401" y="1194851"/>
                </a:cubicBezTo>
                <a:lnTo>
                  <a:pt x="0" y="1109179"/>
                </a:lnTo>
                <a:lnTo>
                  <a:pt x="34750" y="912098"/>
                </a:lnTo>
                <a:lnTo>
                  <a:pt x="285257" y="912104"/>
                </a:lnTo>
                <a:cubicBezTo>
                  <a:pt x="327494" y="784874"/>
                  <a:pt x="395211" y="667583"/>
                  <a:pt x="484278" y="567390"/>
                </a:cubicBezTo>
                <a:lnTo>
                  <a:pt x="359019" y="350449"/>
                </a:lnTo>
                <a:lnTo>
                  <a:pt x="512321" y="221813"/>
                </a:lnTo>
                <a:lnTo>
                  <a:pt x="704216" y="382840"/>
                </a:lnTo>
                <a:cubicBezTo>
                  <a:pt x="818353" y="312525"/>
                  <a:pt x="945621" y="266204"/>
                  <a:pt x="1078253" y="246702"/>
                </a:cubicBezTo>
                <a:lnTo>
                  <a:pt x="1121747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501120" rIns="501120" tIns="575640" bIns="614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1701720" y="4594320"/>
            <a:ext cx="82872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齿轮2 660"/>
          <p:cNvSpPr/>
          <p:nvPr/>
        </p:nvSpPr>
        <p:spPr>
          <a:xfrm rot="19500000">
            <a:off x="1755360" y="2522160"/>
            <a:ext cx="1649520" cy="1649520"/>
          </a:xfrm>
          <a:custGeom>
            <a:avLst/>
            <a:gdLst/>
            <a:ahLst/>
            <a:rect l="l" t="t" r="r" b="b"/>
            <a:pathLst>
              <a:path w="2443615" h="2406492">
                <a:moveTo>
                  <a:pt x="1221807" y="443178"/>
                </a:moveTo>
                <a:cubicBezTo>
                  <a:pt x="791117" y="443178"/>
                  <a:pt x="441973" y="792322"/>
                  <a:pt x="441973" y="1223012"/>
                </a:cubicBezTo>
                <a:cubicBezTo>
                  <a:pt x="441973" y="1653702"/>
                  <a:pt x="791117" y="2002846"/>
                  <a:pt x="1221807" y="2002846"/>
                </a:cubicBezTo>
                <a:cubicBezTo>
                  <a:pt x="1652497" y="2002846"/>
                  <a:pt x="2001641" y="1653702"/>
                  <a:pt x="2001641" y="1223012"/>
                </a:cubicBezTo>
                <a:cubicBezTo>
                  <a:pt x="2001641" y="792322"/>
                  <a:pt x="1652497" y="443178"/>
                  <a:pt x="1221807" y="443178"/>
                </a:cubicBezTo>
                <a:close/>
                <a:moveTo>
                  <a:pt x="1121747" y="0"/>
                </a:moveTo>
                <a:lnTo>
                  <a:pt x="1321868" y="0"/>
                </a:lnTo>
                <a:lnTo>
                  <a:pt x="1365362" y="246702"/>
                </a:lnTo>
                <a:cubicBezTo>
                  <a:pt x="1497994" y="266203"/>
                  <a:pt x="1625261" y="312525"/>
                  <a:pt x="1739400" y="382840"/>
                </a:cubicBezTo>
                <a:lnTo>
                  <a:pt x="1931295" y="221813"/>
                </a:lnTo>
                <a:lnTo>
                  <a:pt x="2084596" y="350449"/>
                </a:lnTo>
                <a:lnTo>
                  <a:pt x="1959337" y="567390"/>
                </a:lnTo>
                <a:cubicBezTo>
                  <a:pt x="2048403" y="667584"/>
                  <a:pt x="2116120" y="784874"/>
                  <a:pt x="2158357" y="912104"/>
                </a:cubicBezTo>
                <a:lnTo>
                  <a:pt x="2408865" y="912098"/>
                </a:lnTo>
                <a:lnTo>
                  <a:pt x="2443615" y="1109179"/>
                </a:lnTo>
                <a:lnTo>
                  <a:pt x="2208214" y="1194851"/>
                </a:lnTo>
                <a:cubicBezTo>
                  <a:pt x="2212040" y="1328854"/>
                  <a:pt x="2188522" y="1462233"/>
                  <a:pt x="2139095" y="1586846"/>
                </a:cubicBezTo>
                <a:lnTo>
                  <a:pt x="2330998" y="1747864"/>
                </a:lnTo>
                <a:lnTo>
                  <a:pt x="2230938" y="1921175"/>
                </a:lnTo>
                <a:lnTo>
                  <a:pt x="1995541" y="1835490"/>
                </a:lnTo>
                <a:cubicBezTo>
                  <a:pt x="1912336" y="1940602"/>
                  <a:pt x="1808586" y="2027658"/>
                  <a:pt x="1690623" y="2091346"/>
                </a:cubicBezTo>
                <a:lnTo>
                  <a:pt x="1734130" y="2338046"/>
                </a:lnTo>
                <a:lnTo>
                  <a:pt x="1546077" y="2406492"/>
                </a:lnTo>
                <a:lnTo>
                  <a:pt x="1420828" y="2189544"/>
                </a:lnTo>
                <a:cubicBezTo>
                  <a:pt x="1289525" y="2216580"/>
                  <a:pt x="1154089" y="2216580"/>
                  <a:pt x="1022786" y="2189544"/>
                </a:cubicBezTo>
                <a:lnTo>
                  <a:pt x="897539" y="2406492"/>
                </a:lnTo>
                <a:lnTo>
                  <a:pt x="709486" y="2338046"/>
                </a:lnTo>
                <a:lnTo>
                  <a:pt x="752993" y="2091346"/>
                </a:lnTo>
                <a:cubicBezTo>
                  <a:pt x="635030" y="2027658"/>
                  <a:pt x="531280" y="1940601"/>
                  <a:pt x="448076" y="1835490"/>
                </a:cubicBezTo>
                <a:lnTo>
                  <a:pt x="212678" y="1921175"/>
                </a:lnTo>
                <a:lnTo>
                  <a:pt x="112617" y="1747864"/>
                </a:lnTo>
                <a:lnTo>
                  <a:pt x="304520" y="1586846"/>
                </a:lnTo>
                <a:cubicBezTo>
                  <a:pt x="255094" y="1462233"/>
                  <a:pt x="231575" y="1328854"/>
                  <a:pt x="235401" y="1194851"/>
                </a:cubicBezTo>
                <a:lnTo>
                  <a:pt x="0" y="1109179"/>
                </a:lnTo>
                <a:lnTo>
                  <a:pt x="34750" y="912098"/>
                </a:lnTo>
                <a:lnTo>
                  <a:pt x="285257" y="912104"/>
                </a:lnTo>
                <a:cubicBezTo>
                  <a:pt x="327494" y="784874"/>
                  <a:pt x="395211" y="667583"/>
                  <a:pt x="484278" y="567390"/>
                </a:cubicBezTo>
                <a:lnTo>
                  <a:pt x="359019" y="350449"/>
                </a:lnTo>
                <a:lnTo>
                  <a:pt x="512321" y="221813"/>
                </a:lnTo>
                <a:lnTo>
                  <a:pt x="704216" y="382840"/>
                </a:lnTo>
                <a:cubicBezTo>
                  <a:pt x="818353" y="312525"/>
                  <a:pt x="945621" y="266204"/>
                  <a:pt x="1078253" y="246702"/>
                </a:cubicBezTo>
                <a:lnTo>
                  <a:pt x="1121747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501120" rIns="501120" tIns="575640" bIns="614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齿轮2 660"/>
          <p:cNvSpPr/>
          <p:nvPr/>
        </p:nvSpPr>
        <p:spPr>
          <a:xfrm rot="20520000">
            <a:off x="2664000" y="1305000"/>
            <a:ext cx="1650960" cy="1649160"/>
          </a:xfrm>
          <a:custGeom>
            <a:avLst/>
            <a:gdLst/>
            <a:ahLst/>
            <a:rect l="l" t="t" r="r" b="b"/>
            <a:pathLst>
              <a:path w="2443615" h="2406492">
                <a:moveTo>
                  <a:pt x="1221807" y="443178"/>
                </a:moveTo>
                <a:cubicBezTo>
                  <a:pt x="791117" y="443178"/>
                  <a:pt x="441973" y="792322"/>
                  <a:pt x="441973" y="1223012"/>
                </a:cubicBezTo>
                <a:cubicBezTo>
                  <a:pt x="441973" y="1653702"/>
                  <a:pt x="791117" y="2002846"/>
                  <a:pt x="1221807" y="2002846"/>
                </a:cubicBezTo>
                <a:cubicBezTo>
                  <a:pt x="1652497" y="2002846"/>
                  <a:pt x="2001641" y="1653702"/>
                  <a:pt x="2001641" y="1223012"/>
                </a:cubicBezTo>
                <a:cubicBezTo>
                  <a:pt x="2001641" y="792322"/>
                  <a:pt x="1652497" y="443178"/>
                  <a:pt x="1221807" y="443178"/>
                </a:cubicBezTo>
                <a:close/>
                <a:moveTo>
                  <a:pt x="1121747" y="0"/>
                </a:moveTo>
                <a:lnTo>
                  <a:pt x="1321868" y="0"/>
                </a:lnTo>
                <a:lnTo>
                  <a:pt x="1365362" y="246702"/>
                </a:lnTo>
                <a:cubicBezTo>
                  <a:pt x="1497994" y="266203"/>
                  <a:pt x="1625261" y="312525"/>
                  <a:pt x="1739400" y="382840"/>
                </a:cubicBezTo>
                <a:lnTo>
                  <a:pt x="1931295" y="221813"/>
                </a:lnTo>
                <a:lnTo>
                  <a:pt x="2084596" y="350449"/>
                </a:lnTo>
                <a:lnTo>
                  <a:pt x="1959337" y="567390"/>
                </a:lnTo>
                <a:cubicBezTo>
                  <a:pt x="2048403" y="667584"/>
                  <a:pt x="2116120" y="784874"/>
                  <a:pt x="2158357" y="912104"/>
                </a:cubicBezTo>
                <a:lnTo>
                  <a:pt x="2408865" y="912098"/>
                </a:lnTo>
                <a:lnTo>
                  <a:pt x="2443615" y="1109179"/>
                </a:lnTo>
                <a:lnTo>
                  <a:pt x="2208214" y="1194851"/>
                </a:lnTo>
                <a:cubicBezTo>
                  <a:pt x="2212040" y="1328854"/>
                  <a:pt x="2188522" y="1462233"/>
                  <a:pt x="2139095" y="1586846"/>
                </a:cubicBezTo>
                <a:lnTo>
                  <a:pt x="2330998" y="1747864"/>
                </a:lnTo>
                <a:lnTo>
                  <a:pt x="2230938" y="1921175"/>
                </a:lnTo>
                <a:lnTo>
                  <a:pt x="1995541" y="1835490"/>
                </a:lnTo>
                <a:cubicBezTo>
                  <a:pt x="1912336" y="1940602"/>
                  <a:pt x="1808586" y="2027658"/>
                  <a:pt x="1690623" y="2091346"/>
                </a:cubicBezTo>
                <a:lnTo>
                  <a:pt x="1734130" y="2338046"/>
                </a:lnTo>
                <a:lnTo>
                  <a:pt x="1546077" y="2406492"/>
                </a:lnTo>
                <a:lnTo>
                  <a:pt x="1420828" y="2189544"/>
                </a:lnTo>
                <a:cubicBezTo>
                  <a:pt x="1289525" y="2216580"/>
                  <a:pt x="1154089" y="2216580"/>
                  <a:pt x="1022786" y="2189544"/>
                </a:cubicBezTo>
                <a:lnTo>
                  <a:pt x="897539" y="2406492"/>
                </a:lnTo>
                <a:lnTo>
                  <a:pt x="709486" y="2338046"/>
                </a:lnTo>
                <a:lnTo>
                  <a:pt x="752993" y="2091346"/>
                </a:lnTo>
                <a:cubicBezTo>
                  <a:pt x="635030" y="2027658"/>
                  <a:pt x="531280" y="1940601"/>
                  <a:pt x="448076" y="1835490"/>
                </a:cubicBezTo>
                <a:lnTo>
                  <a:pt x="212678" y="1921175"/>
                </a:lnTo>
                <a:lnTo>
                  <a:pt x="112617" y="1747864"/>
                </a:lnTo>
                <a:lnTo>
                  <a:pt x="304520" y="1586846"/>
                </a:lnTo>
                <a:cubicBezTo>
                  <a:pt x="255094" y="1462233"/>
                  <a:pt x="231575" y="1328854"/>
                  <a:pt x="235401" y="1194851"/>
                </a:cubicBezTo>
                <a:lnTo>
                  <a:pt x="0" y="1109179"/>
                </a:lnTo>
                <a:lnTo>
                  <a:pt x="34750" y="912098"/>
                </a:lnTo>
                <a:lnTo>
                  <a:pt x="285257" y="912104"/>
                </a:lnTo>
                <a:cubicBezTo>
                  <a:pt x="327494" y="784874"/>
                  <a:pt x="395211" y="667583"/>
                  <a:pt x="484278" y="567390"/>
                </a:cubicBezTo>
                <a:lnTo>
                  <a:pt x="359019" y="350449"/>
                </a:lnTo>
                <a:lnTo>
                  <a:pt x="512321" y="221813"/>
                </a:lnTo>
                <a:lnTo>
                  <a:pt x="704216" y="382840"/>
                </a:lnTo>
                <a:cubicBezTo>
                  <a:pt x="818353" y="312525"/>
                  <a:pt x="945621" y="266204"/>
                  <a:pt x="1078253" y="246702"/>
                </a:cubicBezTo>
                <a:lnTo>
                  <a:pt x="1121747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501120" rIns="501120" tIns="575640" bIns="614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2216160" y="3164040"/>
            <a:ext cx="83016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3117960" y="1943280"/>
            <a:ext cx="83016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0"/>
          <p:cNvSpPr/>
          <p:nvPr/>
        </p:nvSpPr>
        <p:spPr>
          <a:xfrm>
            <a:off x="1265400" y="1943280"/>
            <a:ext cx="1266840" cy="222876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solidFill>
            <a:srgbClr val="3bb0ce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1"/>
          <p:cNvSpPr/>
          <p:nvPr/>
        </p:nvSpPr>
        <p:spPr>
          <a:xfrm>
            <a:off x="4327560" y="1521000"/>
            <a:ext cx="3416400" cy="1326960"/>
          </a:xfrm>
          <a:prstGeom prst="flowChartAlternate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2"/>
          <p:cNvSpPr/>
          <p:nvPr/>
        </p:nvSpPr>
        <p:spPr>
          <a:xfrm>
            <a:off x="3451320" y="3022560"/>
            <a:ext cx="3414600" cy="1327320"/>
          </a:xfrm>
          <a:prstGeom prst="flowChartAlternate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3"/>
          <p:cNvSpPr/>
          <p:nvPr/>
        </p:nvSpPr>
        <p:spPr>
          <a:xfrm>
            <a:off x="2930400" y="4551480"/>
            <a:ext cx="3414960" cy="1325520"/>
          </a:xfrm>
          <a:prstGeom prst="flowChartAlternate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4"/>
          <p:cNvSpPr/>
          <p:nvPr/>
        </p:nvSpPr>
        <p:spPr>
          <a:xfrm>
            <a:off x="3176640" y="6404040"/>
            <a:ext cx="152280" cy="152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5"/>
          <p:cNvSpPr/>
          <p:nvPr/>
        </p:nvSpPr>
        <p:spPr>
          <a:xfrm>
            <a:off x="3457440" y="6405480"/>
            <a:ext cx="15264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6"/>
          <p:cNvSpPr/>
          <p:nvPr/>
        </p:nvSpPr>
        <p:spPr>
          <a:xfrm>
            <a:off x="375444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7"/>
          <p:cNvSpPr/>
          <p:nvPr/>
        </p:nvSpPr>
        <p:spPr>
          <a:xfrm>
            <a:off x="4038480" y="6404040"/>
            <a:ext cx="15264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8"/>
          <p:cNvSpPr/>
          <p:nvPr/>
        </p:nvSpPr>
        <p:spPr>
          <a:xfrm>
            <a:off x="4325760" y="6405480"/>
            <a:ext cx="15264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9"/>
          <p:cNvSpPr/>
          <p:nvPr/>
        </p:nvSpPr>
        <p:spPr>
          <a:xfrm>
            <a:off x="4613400" y="6407280"/>
            <a:ext cx="152280" cy="152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20"/>
          <p:cNvSpPr/>
          <p:nvPr/>
        </p:nvSpPr>
        <p:spPr>
          <a:xfrm>
            <a:off x="490392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21"/>
          <p:cNvSpPr/>
          <p:nvPr/>
        </p:nvSpPr>
        <p:spPr>
          <a:xfrm>
            <a:off x="518652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22"/>
          <p:cNvSpPr/>
          <p:nvPr/>
        </p:nvSpPr>
        <p:spPr>
          <a:xfrm>
            <a:off x="547704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b0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>
            <a:off x="-11160" y="1111320"/>
            <a:ext cx="853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"/>
          <p:cNvSpPr/>
          <p:nvPr/>
        </p:nvSpPr>
        <p:spPr>
          <a:xfrm>
            <a:off x="966960" y="300672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4"/>
          <p:cNvSpPr/>
          <p:nvPr/>
        </p:nvSpPr>
        <p:spPr>
          <a:xfrm>
            <a:off x="1000080" y="301608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5"/>
          <p:cNvSpPr/>
          <p:nvPr/>
        </p:nvSpPr>
        <p:spPr>
          <a:xfrm>
            <a:off x="1711440" y="2698920"/>
            <a:ext cx="642960" cy="644400"/>
          </a:xfrm>
          <a:prstGeom prst="ellipse">
            <a:avLst/>
          </a:prstGeom>
          <a:solidFill>
            <a:srgbClr val="3bb0c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6"/>
          <p:cNvSpPr/>
          <p:nvPr/>
        </p:nvSpPr>
        <p:spPr>
          <a:xfrm>
            <a:off x="1731960" y="2714760"/>
            <a:ext cx="577800" cy="564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7"/>
          <p:cNvSpPr/>
          <p:nvPr/>
        </p:nvSpPr>
        <p:spPr>
          <a:xfrm>
            <a:off x="1765440" y="2727360"/>
            <a:ext cx="512640" cy="463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1690560" y="2790720"/>
            <a:ext cx="66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1042920" y="3460680"/>
            <a:ext cx="20574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0"/>
          <p:cNvSpPr/>
          <p:nvPr/>
        </p:nvSpPr>
        <p:spPr>
          <a:xfrm>
            <a:off x="3579840" y="247644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1"/>
          <p:cNvSpPr/>
          <p:nvPr/>
        </p:nvSpPr>
        <p:spPr>
          <a:xfrm>
            <a:off x="3613320" y="248436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2"/>
          <p:cNvSpPr/>
          <p:nvPr/>
        </p:nvSpPr>
        <p:spPr>
          <a:xfrm>
            <a:off x="4324320" y="2168640"/>
            <a:ext cx="642960" cy="642960"/>
          </a:xfrm>
          <a:prstGeom prst="ellipse">
            <a:avLst/>
          </a:prstGeom>
          <a:solidFill>
            <a:srgbClr val="3bb0c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13"/>
          <p:cNvSpPr/>
          <p:nvPr/>
        </p:nvSpPr>
        <p:spPr>
          <a:xfrm>
            <a:off x="4344840" y="2182680"/>
            <a:ext cx="578160" cy="567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4"/>
          <p:cNvSpPr/>
          <p:nvPr/>
        </p:nvSpPr>
        <p:spPr>
          <a:xfrm>
            <a:off x="4378320" y="2197080"/>
            <a:ext cx="512640" cy="46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5"/>
          <p:cNvSpPr/>
          <p:nvPr/>
        </p:nvSpPr>
        <p:spPr>
          <a:xfrm>
            <a:off x="4303440" y="2260440"/>
            <a:ext cx="66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3656160" y="2930400"/>
            <a:ext cx="20574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7"/>
          <p:cNvSpPr/>
          <p:nvPr/>
        </p:nvSpPr>
        <p:spPr>
          <a:xfrm>
            <a:off x="6219720" y="195912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8"/>
          <p:cNvSpPr/>
          <p:nvPr/>
        </p:nvSpPr>
        <p:spPr>
          <a:xfrm>
            <a:off x="6253200" y="196848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9"/>
          <p:cNvSpPr/>
          <p:nvPr/>
        </p:nvSpPr>
        <p:spPr>
          <a:xfrm>
            <a:off x="6964200" y="1650960"/>
            <a:ext cx="642960" cy="644400"/>
          </a:xfrm>
          <a:prstGeom prst="ellipse">
            <a:avLst/>
          </a:prstGeom>
          <a:solidFill>
            <a:srgbClr val="3bb0c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20"/>
          <p:cNvSpPr/>
          <p:nvPr/>
        </p:nvSpPr>
        <p:spPr>
          <a:xfrm>
            <a:off x="6985080" y="1666800"/>
            <a:ext cx="577800" cy="565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21"/>
          <p:cNvSpPr/>
          <p:nvPr/>
        </p:nvSpPr>
        <p:spPr>
          <a:xfrm>
            <a:off x="7020000" y="1679400"/>
            <a:ext cx="511200" cy="463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2"/>
          <p:cNvSpPr/>
          <p:nvPr/>
        </p:nvSpPr>
        <p:spPr>
          <a:xfrm>
            <a:off x="6945120" y="1743120"/>
            <a:ext cx="66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3"/>
          <p:cNvSpPr/>
          <p:nvPr/>
        </p:nvSpPr>
        <p:spPr>
          <a:xfrm>
            <a:off x="6296040" y="2413080"/>
            <a:ext cx="20574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4"/>
          <p:cNvSpPr/>
          <p:nvPr/>
        </p:nvSpPr>
        <p:spPr>
          <a:xfrm>
            <a:off x="700560" y="657360"/>
            <a:ext cx="12690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5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26"/>
          <p:cNvSpPr/>
          <p:nvPr/>
        </p:nvSpPr>
        <p:spPr>
          <a:xfrm>
            <a:off x="2492280" y="1800360"/>
            <a:ext cx="1467000" cy="107784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27"/>
          <p:cNvSpPr/>
          <p:nvPr/>
        </p:nvSpPr>
        <p:spPr>
          <a:xfrm>
            <a:off x="3176640" y="6404040"/>
            <a:ext cx="152280" cy="152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28"/>
          <p:cNvSpPr/>
          <p:nvPr/>
        </p:nvSpPr>
        <p:spPr>
          <a:xfrm>
            <a:off x="3457440" y="6405480"/>
            <a:ext cx="15264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29"/>
          <p:cNvSpPr/>
          <p:nvPr/>
        </p:nvSpPr>
        <p:spPr>
          <a:xfrm>
            <a:off x="375444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30"/>
          <p:cNvSpPr/>
          <p:nvPr/>
        </p:nvSpPr>
        <p:spPr>
          <a:xfrm>
            <a:off x="4038480" y="6404040"/>
            <a:ext cx="152640" cy="152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31"/>
          <p:cNvSpPr/>
          <p:nvPr/>
        </p:nvSpPr>
        <p:spPr>
          <a:xfrm>
            <a:off x="4325760" y="6405480"/>
            <a:ext cx="15264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32"/>
          <p:cNvSpPr/>
          <p:nvPr/>
        </p:nvSpPr>
        <p:spPr>
          <a:xfrm>
            <a:off x="4613400" y="6407280"/>
            <a:ext cx="152280" cy="152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33"/>
          <p:cNvSpPr/>
          <p:nvPr/>
        </p:nvSpPr>
        <p:spPr>
          <a:xfrm>
            <a:off x="490392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4"/>
          <p:cNvSpPr/>
          <p:nvPr/>
        </p:nvSpPr>
        <p:spPr>
          <a:xfrm>
            <a:off x="518652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5"/>
          <p:cNvSpPr/>
          <p:nvPr/>
        </p:nvSpPr>
        <p:spPr>
          <a:xfrm>
            <a:off x="547704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927080" y="3222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b0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AutoShape 2"/>
          <p:cNvSpPr/>
          <p:nvPr/>
        </p:nvSpPr>
        <p:spPr>
          <a:xfrm>
            <a:off x="3441600" y="2249640"/>
            <a:ext cx="2295720" cy="3155760"/>
          </a:xfrm>
          <a:custGeom>
            <a:avLst/>
            <a:gdLst>
              <a:gd name="textAreaLeft" fmla="*/ 31320 w 2295720"/>
              <a:gd name="textAreaRight" fmla="*/ 2264400 w 229572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1">
                <a:moveTo>
                  <a:pt x="1013" y="0"/>
                </a:moveTo>
                <a:arcTo wR="1013" hR="1013" stAng="16200000" swAng="-5400000"/>
                <a:lnTo>
                  <a:pt x="0" y="28678"/>
                </a:lnTo>
                <a:arcTo wR="1013" hR="1013" stAng="10800000" swAng="-5400000"/>
                <a:lnTo>
                  <a:pt x="20587" y="29691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3675240" y="2111400"/>
            <a:ext cx="1863720" cy="287280"/>
          </a:xfrm>
          <a:prstGeom prst="roundRect">
            <a:avLst>
              <a:gd name="adj" fmla="val 50000"/>
            </a:avLst>
          </a:prstGeom>
          <a:solidFill>
            <a:srgbClr val="3bb0c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6210360" y="224640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6426360" y="2103480"/>
            <a:ext cx="1863720" cy="287280"/>
          </a:xfrm>
          <a:prstGeom prst="roundRect">
            <a:avLst>
              <a:gd name="adj" fmla="val 50000"/>
            </a:avLst>
          </a:prstGeom>
          <a:solidFill>
            <a:srgbClr val="3bb0c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3930480" y="2082960"/>
            <a:ext cx="13114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705360" y="2085840"/>
            <a:ext cx="13114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8"/>
          <p:cNvSpPr/>
          <p:nvPr/>
        </p:nvSpPr>
        <p:spPr>
          <a:xfrm>
            <a:off x="669960" y="227952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885960" y="2136600"/>
            <a:ext cx="1863720" cy="287640"/>
          </a:xfrm>
          <a:prstGeom prst="roundRect">
            <a:avLst>
              <a:gd name="adj" fmla="val 50000"/>
            </a:avLst>
          </a:prstGeom>
          <a:solidFill>
            <a:srgbClr val="3bb0c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1154160" y="2111400"/>
            <a:ext cx="13114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669960" y="3740040"/>
            <a:ext cx="21337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3441600" y="3772080"/>
            <a:ext cx="21337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6210360" y="3724200"/>
            <a:ext cx="21337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4"/>
          <p:cNvSpPr/>
          <p:nvPr/>
        </p:nvSpPr>
        <p:spPr>
          <a:xfrm>
            <a:off x="-11160" y="1111320"/>
            <a:ext cx="853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700560" y="657360"/>
            <a:ext cx="12690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圈箭头4 386"/>
          <p:cNvSpPr/>
          <p:nvPr/>
        </p:nvSpPr>
        <p:spPr>
          <a:xfrm>
            <a:off x="2975040" y="3743280"/>
            <a:ext cx="438120" cy="438120"/>
          </a:xfrm>
          <a:custGeom>
            <a:avLst/>
            <a:gdLst/>
            <a:ahLst/>
            <a:rect l="l" t="t" r="r" b="b"/>
            <a:pathLst>
              <a:path w="648072" h="648072">
                <a:moveTo>
                  <a:pt x="363514" y="144016"/>
                </a:moveTo>
                <a:lnTo>
                  <a:pt x="363514" y="234026"/>
                </a:lnTo>
                <a:lnTo>
                  <a:pt x="104538" y="234026"/>
                </a:lnTo>
                <a:lnTo>
                  <a:pt x="104538" y="414046"/>
                </a:lnTo>
                <a:lnTo>
                  <a:pt x="363514" y="414046"/>
                </a:lnTo>
                <a:lnTo>
                  <a:pt x="363514" y="504056"/>
                </a:lnTo>
                <a:lnTo>
                  <a:pt x="543534" y="324036"/>
                </a:lnTo>
                <a:lnTo>
                  <a:pt x="363514" y="144016"/>
                </a:lnTo>
                <a:close/>
                <a:moveTo>
                  <a:pt x="324036" y="0"/>
                </a:moveTo>
                <a:cubicBezTo>
                  <a:pt x="502996" y="0"/>
                  <a:pt x="648072" y="145076"/>
                  <a:pt x="648072" y="324036"/>
                </a:cubicBezTo>
                <a:cubicBezTo>
                  <a:pt x="648072" y="502996"/>
                  <a:pt x="502996" y="648072"/>
                  <a:pt x="324036" y="648072"/>
                </a:cubicBezTo>
                <a:cubicBezTo>
                  <a:pt x="145076" y="648072"/>
                  <a:pt x="0" y="502996"/>
                  <a:pt x="0" y="324036"/>
                </a:cubicBezTo>
                <a:cubicBezTo>
                  <a:pt x="0" y="145076"/>
                  <a:pt x="145076" y="0"/>
                  <a:pt x="324036" y="0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圈箭头4 386"/>
          <p:cNvSpPr/>
          <p:nvPr/>
        </p:nvSpPr>
        <p:spPr>
          <a:xfrm>
            <a:off x="5757840" y="3743280"/>
            <a:ext cx="438120" cy="438120"/>
          </a:xfrm>
          <a:custGeom>
            <a:avLst/>
            <a:gdLst/>
            <a:ahLst/>
            <a:rect l="l" t="t" r="r" b="b"/>
            <a:pathLst>
              <a:path w="648072" h="648072">
                <a:moveTo>
                  <a:pt x="363514" y="144016"/>
                </a:moveTo>
                <a:lnTo>
                  <a:pt x="363514" y="234026"/>
                </a:lnTo>
                <a:lnTo>
                  <a:pt x="104538" y="234026"/>
                </a:lnTo>
                <a:lnTo>
                  <a:pt x="104538" y="414046"/>
                </a:lnTo>
                <a:lnTo>
                  <a:pt x="363514" y="414046"/>
                </a:lnTo>
                <a:lnTo>
                  <a:pt x="363514" y="504056"/>
                </a:lnTo>
                <a:lnTo>
                  <a:pt x="543534" y="324036"/>
                </a:lnTo>
                <a:lnTo>
                  <a:pt x="363514" y="144016"/>
                </a:lnTo>
                <a:close/>
                <a:moveTo>
                  <a:pt x="324036" y="0"/>
                </a:moveTo>
                <a:cubicBezTo>
                  <a:pt x="502996" y="0"/>
                  <a:pt x="648072" y="145076"/>
                  <a:pt x="648072" y="324036"/>
                </a:cubicBezTo>
                <a:cubicBezTo>
                  <a:pt x="648072" y="502996"/>
                  <a:pt x="502996" y="648072"/>
                  <a:pt x="324036" y="648072"/>
                </a:cubicBezTo>
                <a:cubicBezTo>
                  <a:pt x="145076" y="648072"/>
                  <a:pt x="0" y="502996"/>
                  <a:pt x="0" y="324036"/>
                </a:cubicBezTo>
                <a:cubicBezTo>
                  <a:pt x="0" y="145076"/>
                  <a:pt x="145076" y="0"/>
                  <a:pt x="324036" y="0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8"/>
          <p:cNvSpPr/>
          <p:nvPr/>
        </p:nvSpPr>
        <p:spPr>
          <a:xfrm>
            <a:off x="3176640" y="6404040"/>
            <a:ext cx="152280" cy="152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9"/>
          <p:cNvSpPr/>
          <p:nvPr/>
        </p:nvSpPr>
        <p:spPr>
          <a:xfrm>
            <a:off x="3457440" y="6405480"/>
            <a:ext cx="15264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20"/>
          <p:cNvSpPr/>
          <p:nvPr/>
        </p:nvSpPr>
        <p:spPr>
          <a:xfrm>
            <a:off x="375444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21"/>
          <p:cNvSpPr/>
          <p:nvPr/>
        </p:nvSpPr>
        <p:spPr>
          <a:xfrm>
            <a:off x="4038480" y="6404040"/>
            <a:ext cx="152640" cy="152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22"/>
          <p:cNvSpPr/>
          <p:nvPr/>
        </p:nvSpPr>
        <p:spPr>
          <a:xfrm>
            <a:off x="4325760" y="6405480"/>
            <a:ext cx="15264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23"/>
          <p:cNvSpPr/>
          <p:nvPr/>
        </p:nvSpPr>
        <p:spPr>
          <a:xfrm>
            <a:off x="4613400" y="640728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24"/>
          <p:cNvSpPr/>
          <p:nvPr/>
        </p:nvSpPr>
        <p:spPr>
          <a:xfrm>
            <a:off x="490392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5"/>
          <p:cNvSpPr/>
          <p:nvPr/>
        </p:nvSpPr>
        <p:spPr>
          <a:xfrm>
            <a:off x="518652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6"/>
          <p:cNvSpPr/>
          <p:nvPr/>
        </p:nvSpPr>
        <p:spPr>
          <a:xfrm>
            <a:off x="547704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b0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Line 2"/>
          <p:cNvSpPr/>
          <p:nvPr/>
        </p:nvSpPr>
        <p:spPr>
          <a:xfrm>
            <a:off x="-11160" y="1111320"/>
            <a:ext cx="853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700560" y="657360"/>
            <a:ext cx="12690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圆角矩形2 768"/>
          <p:cNvSpPr/>
          <p:nvPr/>
        </p:nvSpPr>
        <p:spPr>
          <a:xfrm>
            <a:off x="1197000" y="1623960"/>
            <a:ext cx="1919160" cy="4046760"/>
          </a:xfrm>
          <a:custGeom>
            <a:avLst/>
            <a:gdLst>
              <a:gd name="textAreaLeft" fmla="*/ 93600 w 1919160"/>
              <a:gd name="textAreaRight" fmla="*/ 1825560 w 1919160"/>
              <a:gd name="textAreaTop" fmla="*/ 93600 h 4046760"/>
              <a:gd name="textAreaBottom" fmla="*/ 3953160 h 4046760"/>
            </a:gdLst>
            <a:ahLst/>
            <a:rect l="textAreaLeft" t="textAreaTop" r="textAreaRight" b="textAreaBottom"/>
            <a:pathLst>
              <a:path w="21600" h="45541">
                <a:moveTo>
                  <a:pt x="3600" y="0"/>
                </a:moveTo>
                <a:arcTo wR="3600" hR="3600" stAng="16200000" swAng="-5400000"/>
                <a:lnTo>
                  <a:pt x="0" y="41941"/>
                </a:lnTo>
                <a:arcTo wR="3600" hR="3600" stAng="10800000" swAng="-5400000"/>
                <a:lnTo>
                  <a:pt x="18000" y="455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5"/>
          <p:cNvSpPr/>
          <p:nvPr/>
        </p:nvSpPr>
        <p:spPr>
          <a:xfrm>
            <a:off x="1198440" y="1892160"/>
            <a:ext cx="19177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1409760" y="162252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Add Your T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1339920" y="2030400"/>
            <a:ext cx="177624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Tex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Text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Text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圆角矩形2 768"/>
          <p:cNvSpPr/>
          <p:nvPr/>
        </p:nvSpPr>
        <p:spPr>
          <a:xfrm>
            <a:off x="3745080" y="1622520"/>
            <a:ext cx="1919160" cy="4048200"/>
          </a:xfrm>
          <a:custGeom>
            <a:avLst/>
            <a:gdLst>
              <a:gd name="textAreaLeft" fmla="*/ 93600 w 1919160"/>
              <a:gd name="textAreaRight" fmla="*/ 1825560 w 1919160"/>
              <a:gd name="textAreaTop" fmla="*/ 93600 h 4048200"/>
              <a:gd name="textAreaBottom" fmla="*/ 3954600 h 4048200"/>
            </a:gdLst>
            <a:ahLst/>
            <a:rect l="textAreaLeft" t="textAreaTop" r="textAreaRight" b="textAreaBottom"/>
            <a:pathLst>
              <a:path w="21600" h="45558">
                <a:moveTo>
                  <a:pt x="3600" y="0"/>
                </a:moveTo>
                <a:arcTo wR="3600" hR="3600" stAng="16200000" swAng="-5400000"/>
                <a:lnTo>
                  <a:pt x="0" y="41958"/>
                </a:lnTo>
                <a:arcTo wR="3600" hR="3600" stAng="10800000" swAng="-5400000"/>
                <a:lnTo>
                  <a:pt x="18000" y="455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9"/>
          <p:cNvSpPr/>
          <p:nvPr/>
        </p:nvSpPr>
        <p:spPr>
          <a:xfrm>
            <a:off x="3746520" y="1892160"/>
            <a:ext cx="1917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3959280" y="162252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Add Your T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3887640" y="2028960"/>
            <a:ext cx="17766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Tex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Text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Text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圆角矩形2 768"/>
          <p:cNvSpPr/>
          <p:nvPr/>
        </p:nvSpPr>
        <p:spPr>
          <a:xfrm>
            <a:off x="6275520" y="1622520"/>
            <a:ext cx="1919160" cy="4046400"/>
          </a:xfrm>
          <a:custGeom>
            <a:avLst/>
            <a:gdLst>
              <a:gd name="textAreaLeft" fmla="*/ 93600 w 1919160"/>
              <a:gd name="textAreaRight" fmla="*/ 1825560 w 1919160"/>
              <a:gd name="textAreaTop" fmla="*/ 93600 h 4046400"/>
              <a:gd name="textAreaBottom" fmla="*/ 3952800 h 4046400"/>
            </a:gdLst>
            <a:ahLst/>
            <a:rect l="textAreaLeft" t="textAreaTop" r="textAreaRight" b="textAreaBottom"/>
            <a:pathLst>
              <a:path w="21600" h="45537">
                <a:moveTo>
                  <a:pt x="3600" y="0"/>
                </a:moveTo>
                <a:arcTo wR="3600" hR="3600" stAng="16200000" swAng="-5400000"/>
                <a:lnTo>
                  <a:pt x="0" y="41937"/>
                </a:lnTo>
                <a:arcTo wR="3600" hR="3600" stAng="10800000" swAng="-5400000"/>
                <a:lnTo>
                  <a:pt x="18000" y="455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3"/>
          <p:cNvSpPr/>
          <p:nvPr/>
        </p:nvSpPr>
        <p:spPr>
          <a:xfrm>
            <a:off x="6276960" y="1890720"/>
            <a:ext cx="1917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4"/>
          <p:cNvSpPr/>
          <p:nvPr/>
        </p:nvSpPr>
        <p:spPr>
          <a:xfrm>
            <a:off x="6489720" y="162072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Add Your T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5"/>
          <p:cNvSpPr/>
          <p:nvPr/>
        </p:nvSpPr>
        <p:spPr>
          <a:xfrm>
            <a:off x="6418440" y="2027160"/>
            <a:ext cx="177624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Tex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Text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Text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燕尾形箭头3 806"/>
          <p:cNvSpPr/>
          <p:nvPr/>
        </p:nvSpPr>
        <p:spPr>
          <a:xfrm>
            <a:off x="3230640" y="3246480"/>
            <a:ext cx="412560" cy="538200"/>
          </a:xfrm>
          <a:custGeom>
            <a:avLst/>
            <a:gdLst>
              <a:gd name="textAreaLeft" fmla="*/ 0 w 412560"/>
              <a:gd name="textAreaRight" fmla="*/ 412920 w 41256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燕尾形箭头3 806"/>
          <p:cNvSpPr/>
          <p:nvPr/>
        </p:nvSpPr>
        <p:spPr>
          <a:xfrm>
            <a:off x="5757840" y="3246480"/>
            <a:ext cx="412920" cy="538200"/>
          </a:xfrm>
          <a:custGeom>
            <a:avLst/>
            <a:gdLst>
              <a:gd name="textAreaLeft" fmla="*/ 0 w 412920"/>
              <a:gd name="textAreaRight" fmla="*/ 413280 w 41292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18"/>
          <p:cNvSpPr/>
          <p:nvPr/>
        </p:nvSpPr>
        <p:spPr>
          <a:xfrm>
            <a:off x="3176640" y="6404040"/>
            <a:ext cx="152280" cy="152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9"/>
          <p:cNvSpPr/>
          <p:nvPr/>
        </p:nvSpPr>
        <p:spPr>
          <a:xfrm>
            <a:off x="3457440" y="6405480"/>
            <a:ext cx="15264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20"/>
          <p:cNvSpPr/>
          <p:nvPr/>
        </p:nvSpPr>
        <p:spPr>
          <a:xfrm>
            <a:off x="375444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21"/>
          <p:cNvSpPr/>
          <p:nvPr/>
        </p:nvSpPr>
        <p:spPr>
          <a:xfrm>
            <a:off x="4038480" y="6404040"/>
            <a:ext cx="152640" cy="152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22"/>
          <p:cNvSpPr/>
          <p:nvPr/>
        </p:nvSpPr>
        <p:spPr>
          <a:xfrm>
            <a:off x="4325760" y="6405480"/>
            <a:ext cx="15264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23"/>
          <p:cNvSpPr/>
          <p:nvPr/>
        </p:nvSpPr>
        <p:spPr>
          <a:xfrm>
            <a:off x="4613400" y="6407280"/>
            <a:ext cx="152280" cy="152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24"/>
          <p:cNvSpPr/>
          <p:nvPr/>
        </p:nvSpPr>
        <p:spPr>
          <a:xfrm>
            <a:off x="4903920" y="640548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25"/>
          <p:cNvSpPr/>
          <p:nvPr/>
        </p:nvSpPr>
        <p:spPr>
          <a:xfrm>
            <a:off x="518652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26"/>
          <p:cNvSpPr/>
          <p:nvPr/>
        </p:nvSpPr>
        <p:spPr>
          <a:xfrm>
            <a:off x="547704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b0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Line 2"/>
          <p:cNvSpPr/>
          <p:nvPr/>
        </p:nvSpPr>
        <p:spPr>
          <a:xfrm>
            <a:off x="-11160" y="1111320"/>
            <a:ext cx="853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3"/>
          <p:cNvGrpSpPr/>
          <p:nvPr/>
        </p:nvGrpSpPr>
        <p:grpSpPr>
          <a:xfrm>
            <a:off x="1182600" y="1492200"/>
            <a:ext cx="1884600" cy="2355840"/>
            <a:chOff x="1182600" y="1492200"/>
            <a:chExt cx="1884600" cy="2355840"/>
          </a:xfrm>
        </p:grpSpPr>
        <p:sp>
          <p:nvSpPr>
            <p:cNvPr id="317" name="AutoShape 4"/>
            <p:cNvSpPr/>
            <p:nvPr/>
          </p:nvSpPr>
          <p:spPr>
            <a:xfrm>
              <a:off x="1210320" y="1519920"/>
              <a:ext cx="1829160" cy="2286720"/>
            </a:xfrm>
            <a:custGeom>
              <a:avLst/>
              <a:gdLst>
                <a:gd name="textAreaLeft" fmla="*/ 73440 w 1829160"/>
                <a:gd name="textAreaRight" fmla="*/ 1755720 w 1829160"/>
                <a:gd name="textAreaTop" fmla="*/ 73440 h 2286720"/>
                <a:gd name="textAreaBottom" fmla="*/ 2213280 h 2286720"/>
              </a:gdLst>
              <a:ahLst/>
              <a:rect l="textAreaLeft" t="textAreaTop" r="textAreaRight" b="textAreaBottom"/>
              <a:pathLst>
                <a:path w="21600" h="27002">
                  <a:moveTo>
                    <a:pt x="2969" y="0"/>
                  </a:moveTo>
                  <a:arcTo wR="2969" hR="2969" stAng="16200000" swAng="-5400000"/>
                  <a:lnTo>
                    <a:pt x="0" y="24033"/>
                  </a:lnTo>
                  <a:arcTo wR="2969" hR="2969" stAng="10800000" swAng="-5400000"/>
                  <a:lnTo>
                    <a:pt x="18631" y="27002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5"/>
            <p:cNvSpPr/>
            <p:nvPr/>
          </p:nvSpPr>
          <p:spPr>
            <a:xfrm>
              <a:off x="1182600" y="1492200"/>
              <a:ext cx="1884600" cy="2355840"/>
            </a:xfrm>
            <a:custGeom>
              <a:avLst/>
              <a:gdLst>
                <a:gd name="textAreaLeft" fmla="*/ 75600 w 1884600"/>
                <a:gd name="textAreaRight" fmla="*/ 1809000 w 1884600"/>
                <a:gd name="textAreaTop" fmla="*/ 75600 h 2355840"/>
                <a:gd name="textAreaBottom" fmla="*/ 2280240 h 2355840"/>
              </a:gdLst>
              <a:ahLst/>
              <a:rect l="textAreaLeft" t="textAreaTop" r="textAreaRight" b="textAreaBottom"/>
              <a:pathLst>
                <a:path w="21600" h="27000">
                  <a:moveTo>
                    <a:pt x="2969" y="0"/>
                  </a:moveTo>
                  <a:arcTo wR="2969" hR="2969" stAng="16200000" swAng="-5400000"/>
                  <a:lnTo>
                    <a:pt x="0" y="24031"/>
                  </a:lnTo>
                  <a:arcTo wR="2969" hR="2969" stAng="10800000" swAng="-5400000"/>
                  <a:lnTo>
                    <a:pt x="18631" y="27000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6"/>
          <p:cNvGrpSpPr/>
          <p:nvPr/>
        </p:nvGrpSpPr>
        <p:grpSpPr>
          <a:xfrm>
            <a:off x="3697200" y="1492200"/>
            <a:ext cx="1884600" cy="2355840"/>
            <a:chOff x="3697200" y="1492200"/>
            <a:chExt cx="1884600" cy="2355840"/>
          </a:xfrm>
        </p:grpSpPr>
        <p:sp>
          <p:nvSpPr>
            <p:cNvPr id="320" name="AutoShape 7"/>
            <p:cNvSpPr/>
            <p:nvPr/>
          </p:nvSpPr>
          <p:spPr>
            <a:xfrm>
              <a:off x="3724920" y="1519920"/>
              <a:ext cx="1829160" cy="2286720"/>
            </a:xfrm>
            <a:custGeom>
              <a:avLst/>
              <a:gdLst>
                <a:gd name="textAreaLeft" fmla="*/ 73440 w 1829160"/>
                <a:gd name="textAreaRight" fmla="*/ 1755720 w 1829160"/>
                <a:gd name="textAreaTop" fmla="*/ 73440 h 2286720"/>
                <a:gd name="textAreaBottom" fmla="*/ 2213280 h 2286720"/>
              </a:gdLst>
              <a:ahLst/>
              <a:rect l="textAreaLeft" t="textAreaTop" r="textAreaRight" b="textAreaBottom"/>
              <a:pathLst>
                <a:path w="21600" h="27002">
                  <a:moveTo>
                    <a:pt x="2969" y="0"/>
                  </a:moveTo>
                  <a:arcTo wR="2969" hR="2969" stAng="16200000" swAng="-5400000"/>
                  <a:lnTo>
                    <a:pt x="0" y="24033"/>
                  </a:lnTo>
                  <a:arcTo wR="2969" hR="2969" stAng="10800000" swAng="-5400000"/>
                  <a:lnTo>
                    <a:pt x="18631" y="27002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8"/>
            <p:cNvSpPr/>
            <p:nvPr/>
          </p:nvSpPr>
          <p:spPr>
            <a:xfrm>
              <a:off x="3697200" y="1492200"/>
              <a:ext cx="1884600" cy="2355840"/>
            </a:xfrm>
            <a:custGeom>
              <a:avLst/>
              <a:gdLst>
                <a:gd name="textAreaLeft" fmla="*/ 75600 w 1884600"/>
                <a:gd name="textAreaRight" fmla="*/ 1809000 w 1884600"/>
                <a:gd name="textAreaTop" fmla="*/ 75600 h 2355840"/>
                <a:gd name="textAreaBottom" fmla="*/ 2280240 h 2355840"/>
              </a:gdLst>
              <a:ahLst/>
              <a:rect l="textAreaLeft" t="textAreaTop" r="textAreaRight" b="textAreaBottom"/>
              <a:pathLst>
                <a:path w="21600" h="27000">
                  <a:moveTo>
                    <a:pt x="2969" y="0"/>
                  </a:moveTo>
                  <a:arcTo wR="2969" hR="2969" stAng="16200000" swAng="-5400000"/>
                  <a:lnTo>
                    <a:pt x="0" y="24031"/>
                  </a:lnTo>
                  <a:arcTo wR="2969" hR="2969" stAng="10800000" swAng="-5400000"/>
                  <a:lnTo>
                    <a:pt x="18631" y="27000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9"/>
          <p:cNvGrpSpPr/>
          <p:nvPr/>
        </p:nvGrpSpPr>
        <p:grpSpPr>
          <a:xfrm>
            <a:off x="6172200" y="1492200"/>
            <a:ext cx="1882800" cy="2355840"/>
            <a:chOff x="6172200" y="1492200"/>
            <a:chExt cx="1882800" cy="2355840"/>
          </a:xfrm>
        </p:grpSpPr>
        <p:sp>
          <p:nvSpPr>
            <p:cNvPr id="323" name="AutoShape 10"/>
            <p:cNvSpPr/>
            <p:nvPr/>
          </p:nvSpPr>
          <p:spPr>
            <a:xfrm>
              <a:off x="6199920" y="1519920"/>
              <a:ext cx="1827720" cy="2286720"/>
            </a:xfrm>
            <a:custGeom>
              <a:avLst/>
              <a:gdLst>
                <a:gd name="textAreaLeft" fmla="*/ 73440 w 1827720"/>
                <a:gd name="textAreaRight" fmla="*/ 1754280 w 1827720"/>
                <a:gd name="textAreaTop" fmla="*/ 73440 h 2286720"/>
                <a:gd name="textAreaBottom" fmla="*/ 2213280 h 2286720"/>
              </a:gdLst>
              <a:ahLst/>
              <a:rect l="textAreaLeft" t="textAreaTop" r="textAreaRight" b="textAreaBottom"/>
              <a:pathLst>
                <a:path w="21600" h="27023">
                  <a:moveTo>
                    <a:pt x="2969" y="0"/>
                  </a:moveTo>
                  <a:arcTo wR="2969" hR="2969" stAng="16200000" swAng="-5400000"/>
                  <a:lnTo>
                    <a:pt x="0" y="24054"/>
                  </a:lnTo>
                  <a:arcTo wR="2969" hR="2969" stAng="10800000" swAng="-5400000"/>
                  <a:lnTo>
                    <a:pt x="18631" y="27023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11"/>
            <p:cNvSpPr/>
            <p:nvPr/>
          </p:nvSpPr>
          <p:spPr>
            <a:xfrm>
              <a:off x="6172200" y="1492200"/>
              <a:ext cx="1882800" cy="2355840"/>
            </a:xfrm>
            <a:custGeom>
              <a:avLst/>
              <a:gdLst>
                <a:gd name="textAreaLeft" fmla="*/ 75600 w 1882800"/>
                <a:gd name="textAreaRight" fmla="*/ 1807200 w 1882800"/>
                <a:gd name="textAreaTop" fmla="*/ 75600 h 2355840"/>
                <a:gd name="textAreaBottom" fmla="*/ 2280240 h 2355840"/>
              </a:gdLst>
              <a:ahLst/>
              <a:rect l="textAreaLeft" t="textAreaTop" r="textAreaRight" b="textAreaBottom"/>
              <a:pathLst>
                <a:path w="21600" h="27026">
                  <a:moveTo>
                    <a:pt x="2969" y="0"/>
                  </a:moveTo>
                  <a:arcTo wR="2969" hR="2969" stAng="16200000" swAng="-5400000"/>
                  <a:lnTo>
                    <a:pt x="0" y="24057"/>
                  </a:lnTo>
                  <a:arcTo wR="2969" hR="2969" stAng="10800000" swAng="-5400000"/>
                  <a:lnTo>
                    <a:pt x="18631" y="27026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Text Box 12"/>
          <p:cNvSpPr/>
          <p:nvPr/>
        </p:nvSpPr>
        <p:spPr>
          <a:xfrm>
            <a:off x="700560" y="657360"/>
            <a:ext cx="12690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反向箭头2 627"/>
          <p:cNvSpPr/>
          <p:nvPr/>
        </p:nvSpPr>
        <p:spPr>
          <a:xfrm rot="5460000">
            <a:off x="6992640" y="3938400"/>
            <a:ext cx="353880" cy="271800"/>
          </a:xfrm>
          <a:custGeom>
            <a:avLst/>
            <a:gdLst/>
            <a:ahLst/>
            <a:rect l="l" t="t" r="r" b="b"/>
            <a:pathLst>
              <a:path w="648072" h="343292">
                <a:moveTo>
                  <a:pt x="0" y="199276"/>
                </a:moveTo>
                <a:lnTo>
                  <a:pt x="144016" y="199276"/>
                </a:lnTo>
                <a:lnTo>
                  <a:pt x="288032" y="199276"/>
                </a:lnTo>
                <a:lnTo>
                  <a:pt x="648072" y="199276"/>
                </a:lnTo>
                <a:lnTo>
                  <a:pt x="648072" y="235276"/>
                </a:lnTo>
                <a:lnTo>
                  <a:pt x="288032" y="235276"/>
                </a:lnTo>
                <a:lnTo>
                  <a:pt x="288032" y="343292"/>
                </a:lnTo>
                <a:lnTo>
                  <a:pt x="0" y="199276"/>
                </a:lnTo>
                <a:close/>
                <a:moveTo>
                  <a:pt x="360040" y="0"/>
                </a:moveTo>
                <a:lnTo>
                  <a:pt x="648072" y="144016"/>
                </a:lnTo>
                <a:lnTo>
                  <a:pt x="504056" y="144016"/>
                </a:lnTo>
                <a:lnTo>
                  <a:pt x="360040" y="144016"/>
                </a:lnTo>
                <a:lnTo>
                  <a:pt x="0" y="144016"/>
                </a:lnTo>
                <a:lnTo>
                  <a:pt x="0" y="108016"/>
                </a:lnTo>
                <a:lnTo>
                  <a:pt x="360040" y="108016"/>
                </a:lnTo>
                <a:lnTo>
                  <a:pt x="360040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反向箭头2 627"/>
          <p:cNvSpPr/>
          <p:nvPr/>
        </p:nvSpPr>
        <p:spPr>
          <a:xfrm rot="5460000">
            <a:off x="4510800" y="3910680"/>
            <a:ext cx="354240" cy="270000"/>
          </a:xfrm>
          <a:custGeom>
            <a:avLst/>
            <a:gdLst/>
            <a:ahLst/>
            <a:rect l="l" t="t" r="r" b="b"/>
            <a:pathLst>
              <a:path w="648072" h="343292">
                <a:moveTo>
                  <a:pt x="0" y="199276"/>
                </a:moveTo>
                <a:lnTo>
                  <a:pt x="144016" y="199276"/>
                </a:lnTo>
                <a:lnTo>
                  <a:pt x="288032" y="199276"/>
                </a:lnTo>
                <a:lnTo>
                  <a:pt x="648072" y="199276"/>
                </a:lnTo>
                <a:lnTo>
                  <a:pt x="648072" y="235276"/>
                </a:lnTo>
                <a:lnTo>
                  <a:pt x="288032" y="235276"/>
                </a:lnTo>
                <a:lnTo>
                  <a:pt x="288032" y="343292"/>
                </a:lnTo>
                <a:lnTo>
                  <a:pt x="0" y="199276"/>
                </a:lnTo>
                <a:close/>
                <a:moveTo>
                  <a:pt x="360040" y="0"/>
                </a:moveTo>
                <a:lnTo>
                  <a:pt x="648072" y="144016"/>
                </a:lnTo>
                <a:lnTo>
                  <a:pt x="504056" y="144016"/>
                </a:lnTo>
                <a:lnTo>
                  <a:pt x="360040" y="144016"/>
                </a:lnTo>
                <a:lnTo>
                  <a:pt x="0" y="144016"/>
                </a:lnTo>
                <a:lnTo>
                  <a:pt x="0" y="108016"/>
                </a:lnTo>
                <a:lnTo>
                  <a:pt x="360040" y="108016"/>
                </a:lnTo>
                <a:lnTo>
                  <a:pt x="360040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反向箭头2 627"/>
          <p:cNvSpPr/>
          <p:nvPr/>
        </p:nvSpPr>
        <p:spPr>
          <a:xfrm rot="5460000">
            <a:off x="2014560" y="3921120"/>
            <a:ext cx="354240" cy="271440"/>
          </a:xfrm>
          <a:custGeom>
            <a:avLst/>
            <a:gdLst/>
            <a:ahLst/>
            <a:rect l="l" t="t" r="r" b="b"/>
            <a:pathLst>
              <a:path w="648072" h="343292">
                <a:moveTo>
                  <a:pt x="0" y="199276"/>
                </a:moveTo>
                <a:lnTo>
                  <a:pt x="144016" y="199276"/>
                </a:lnTo>
                <a:lnTo>
                  <a:pt x="288032" y="199276"/>
                </a:lnTo>
                <a:lnTo>
                  <a:pt x="648072" y="199276"/>
                </a:lnTo>
                <a:lnTo>
                  <a:pt x="648072" y="235276"/>
                </a:lnTo>
                <a:lnTo>
                  <a:pt x="288032" y="235276"/>
                </a:lnTo>
                <a:lnTo>
                  <a:pt x="288032" y="343292"/>
                </a:lnTo>
                <a:lnTo>
                  <a:pt x="0" y="199276"/>
                </a:lnTo>
                <a:close/>
                <a:moveTo>
                  <a:pt x="360040" y="0"/>
                </a:moveTo>
                <a:lnTo>
                  <a:pt x="648072" y="144016"/>
                </a:lnTo>
                <a:lnTo>
                  <a:pt x="504056" y="144016"/>
                </a:lnTo>
                <a:lnTo>
                  <a:pt x="360040" y="144016"/>
                </a:lnTo>
                <a:lnTo>
                  <a:pt x="0" y="144016"/>
                </a:lnTo>
                <a:lnTo>
                  <a:pt x="0" y="108016"/>
                </a:lnTo>
                <a:lnTo>
                  <a:pt x="360040" y="108016"/>
                </a:lnTo>
                <a:lnTo>
                  <a:pt x="360040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右箭头8 631"/>
          <p:cNvSpPr/>
          <p:nvPr/>
        </p:nvSpPr>
        <p:spPr>
          <a:xfrm>
            <a:off x="5689440" y="4902120"/>
            <a:ext cx="468360" cy="460440"/>
          </a:xfrm>
          <a:custGeom>
            <a:avLst/>
            <a:gdLst/>
            <a:ahLst/>
            <a:rect l="l" t="t" r="r" b="b"/>
            <a:pathLst>
              <a:path w="636802" h="488949">
                <a:moveTo>
                  <a:pt x="294073" y="0"/>
                </a:moveTo>
                <a:lnTo>
                  <a:pt x="392328" y="0"/>
                </a:lnTo>
                <a:lnTo>
                  <a:pt x="602068" y="209739"/>
                </a:lnTo>
                <a:lnTo>
                  <a:pt x="636802" y="244474"/>
                </a:lnTo>
                <a:lnTo>
                  <a:pt x="602068" y="279208"/>
                </a:lnTo>
                <a:lnTo>
                  <a:pt x="392327" y="488949"/>
                </a:lnTo>
                <a:lnTo>
                  <a:pt x="294071" y="488949"/>
                </a:lnTo>
                <a:lnTo>
                  <a:pt x="503812" y="279208"/>
                </a:lnTo>
                <a:lnTo>
                  <a:pt x="0" y="279208"/>
                </a:lnTo>
                <a:lnTo>
                  <a:pt x="0" y="209739"/>
                </a:lnTo>
                <a:lnTo>
                  <a:pt x="503813" y="209739"/>
                </a:lnTo>
                <a:lnTo>
                  <a:pt x="294073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右箭头8 631"/>
          <p:cNvSpPr/>
          <p:nvPr/>
        </p:nvSpPr>
        <p:spPr>
          <a:xfrm>
            <a:off x="3192480" y="4930920"/>
            <a:ext cx="469800" cy="460080"/>
          </a:xfrm>
          <a:custGeom>
            <a:avLst/>
            <a:gdLst/>
            <a:ahLst/>
            <a:rect l="l" t="t" r="r" b="b"/>
            <a:pathLst>
              <a:path w="636802" h="488949">
                <a:moveTo>
                  <a:pt x="294073" y="0"/>
                </a:moveTo>
                <a:lnTo>
                  <a:pt x="392328" y="0"/>
                </a:lnTo>
                <a:lnTo>
                  <a:pt x="602068" y="209739"/>
                </a:lnTo>
                <a:lnTo>
                  <a:pt x="636802" y="244474"/>
                </a:lnTo>
                <a:lnTo>
                  <a:pt x="602068" y="279208"/>
                </a:lnTo>
                <a:lnTo>
                  <a:pt x="392327" y="488949"/>
                </a:lnTo>
                <a:lnTo>
                  <a:pt x="294071" y="488949"/>
                </a:lnTo>
                <a:lnTo>
                  <a:pt x="503812" y="279208"/>
                </a:lnTo>
                <a:lnTo>
                  <a:pt x="0" y="279208"/>
                </a:lnTo>
                <a:lnTo>
                  <a:pt x="0" y="209739"/>
                </a:lnTo>
                <a:lnTo>
                  <a:pt x="503813" y="209739"/>
                </a:lnTo>
                <a:lnTo>
                  <a:pt x="294073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8"/>
          <p:cNvSpPr/>
          <p:nvPr/>
        </p:nvSpPr>
        <p:spPr>
          <a:xfrm>
            <a:off x="1374840" y="4321080"/>
            <a:ext cx="1647720" cy="1631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9"/>
          <p:cNvSpPr/>
          <p:nvPr/>
        </p:nvSpPr>
        <p:spPr>
          <a:xfrm>
            <a:off x="1797480" y="4915080"/>
            <a:ext cx="773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20"/>
          <p:cNvSpPr/>
          <p:nvPr/>
        </p:nvSpPr>
        <p:spPr>
          <a:xfrm>
            <a:off x="1515960" y="4479840"/>
            <a:ext cx="1347840" cy="1333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21"/>
          <p:cNvSpPr/>
          <p:nvPr/>
        </p:nvSpPr>
        <p:spPr>
          <a:xfrm>
            <a:off x="3878280" y="4349880"/>
            <a:ext cx="1646280" cy="1631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4300920" y="4929120"/>
            <a:ext cx="773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23"/>
          <p:cNvSpPr/>
          <p:nvPr/>
        </p:nvSpPr>
        <p:spPr>
          <a:xfrm>
            <a:off x="4040280" y="4508640"/>
            <a:ext cx="1347840" cy="1334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24"/>
          <p:cNvSpPr/>
          <p:nvPr/>
        </p:nvSpPr>
        <p:spPr>
          <a:xfrm>
            <a:off x="6357960" y="4349880"/>
            <a:ext cx="1646280" cy="1631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5"/>
          <p:cNvSpPr/>
          <p:nvPr/>
        </p:nvSpPr>
        <p:spPr>
          <a:xfrm>
            <a:off x="6780600" y="4929120"/>
            <a:ext cx="773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26"/>
          <p:cNvSpPr/>
          <p:nvPr/>
        </p:nvSpPr>
        <p:spPr>
          <a:xfrm>
            <a:off x="6519960" y="4508640"/>
            <a:ext cx="1347840" cy="1334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27"/>
          <p:cNvSpPr/>
          <p:nvPr/>
        </p:nvSpPr>
        <p:spPr>
          <a:xfrm>
            <a:off x="3176640" y="6404040"/>
            <a:ext cx="152280" cy="152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28"/>
          <p:cNvSpPr/>
          <p:nvPr/>
        </p:nvSpPr>
        <p:spPr>
          <a:xfrm>
            <a:off x="3457440" y="6405480"/>
            <a:ext cx="15264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29"/>
          <p:cNvSpPr/>
          <p:nvPr/>
        </p:nvSpPr>
        <p:spPr>
          <a:xfrm>
            <a:off x="375444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30"/>
          <p:cNvSpPr/>
          <p:nvPr/>
        </p:nvSpPr>
        <p:spPr>
          <a:xfrm>
            <a:off x="4038480" y="6404040"/>
            <a:ext cx="152640" cy="152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31"/>
          <p:cNvSpPr/>
          <p:nvPr/>
        </p:nvSpPr>
        <p:spPr>
          <a:xfrm>
            <a:off x="4325760" y="6405480"/>
            <a:ext cx="15264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32"/>
          <p:cNvSpPr/>
          <p:nvPr/>
        </p:nvSpPr>
        <p:spPr>
          <a:xfrm>
            <a:off x="4613400" y="6407280"/>
            <a:ext cx="152280" cy="152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33"/>
          <p:cNvSpPr/>
          <p:nvPr/>
        </p:nvSpPr>
        <p:spPr>
          <a:xfrm>
            <a:off x="490392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34"/>
          <p:cNvSpPr/>
          <p:nvPr/>
        </p:nvSpPr>
        <p:spPr>
          <a:xfrm>
            <a:off x="5186520" y="640548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35"/>
          <p:cNvSpPr/>
          <p:nvPr/>
        </p:nvSpPr>
        <p:spPr>
          <a:xfrm>
            <a:off x="547704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516040" y="65736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b0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手势箭头 453"/>
          <p:cNvSpPr/>
          <p:nvPr/>
        </p:nvSpPr>
        <p:spPr>
          <a:xfrm rot="20880000">
            <a:off x="456840" y="3014280"/>
            <a:ext cx="2273400" cy="1085760"/>
          </a:xfrm>
          <a:custGeom>
            <a:avLst/>
            <a:gdLst/>
            <a:ahLst/>
            <a:rect l="l" t="t" r="r" b="b"/>
            <a:pathLst>
              <a:path w="2758" h="1666">
                <a:moveTo>
                  <a:pt x="931" y="1269"/>
                </a:moveTo>
                <a:lnTo>
                  <a:pt x="895" y="1297"/>
                </a:lnTo>
                <a:lnTo>
                  <a:pt x="864" y="1328"/>
                </a:lnTo>
                <a:lnTo>
                  <a:pt x="839" y="1359"/>
                </a:lnTo>
                <a:lnTo>
                  <a:pt x="816" y="1392"/>
                </a:lnTo>
                <a:lnTo>
                  <a:pt x="1102" y="1555"/>
                </a:lnTo>
                <a:lnTo>
                  <a:pt x="1172" y="1557"/>
                </a:lnTo>
                <a:lnTo>
                  <a:pt x="1210" y="1555"/>
                </a:lnTo>
                <a:lnTo>
                  <a:pt x="1243" y="1547"/>
                </a:lnTo>
                <a:lnTo>
                  <a:pt x="1269" y="1535"/>
                </a:lnTo>
                <a:lnTo>
                  <a:pt x="1293" y="1518"/>
                </a:lnTo>
                <a:lnTo>
                  <a:pt x="1310" y="1495"/>
                </a:lnTo>
                <a:lnTo>
                  <a:pt x="1323" y="1466"/>
                </a:lnTo>
                <a:lnTo>
                  <a:pt x="1331" y="1434"/>
                </a:lnTo>
                <a:lnTo>
                  <a:pt x="1333" y="1397"/>
                </a:lnTo>
                <a:lnTo>
                  <a:pt x="1164" y="1397"/>
                </a:lnTo>
                <a:lnTo>
                  <a:pt x="931" y="1269"/>
                </a:lnTo>
                <a:close/>
                <a:moveTo>
                  <a:pt x="1060" y="975"/>
                </a:moveTo>
                <a:lnTo>
                  <a:pt x="1026" y="983"/>
                </a:lnTo>
                <a:lnTo>
                  <a:pt x="993" y="992"/>
                </a:lnTo>
                <a:lnTo>
                  <a:pt x="964" y="1006"/>
                </a:lnTo>
                <a:lnTo>
                  <a:pt x="937" y="1021"/>
                </a:lnTo>
                <a:lnTo>
                  <a:pt x="912" y="1040"/>
                </a:lnTo>
                <a:lnTo>
                  <a:pt x="891" y="1061"/>
                </a:lnTo>
                <a:lnTo>
                  <a:pt x="872" y="1084"/>
                </a:lnTo>
                <a:lnTo>
                  <a:pt x="855" y="1111"/>
                </a:lnTo>
                <a:lnTo>
                  <a:pt x="1195" y="1292"/>
                </a:lnTo>
                <a:lnTo>
                  <a:pt x="1352" y="1296"/>
                </a:lnTo>
                <a:lnTo>
                  <a:pt x="1392" y="1294"/>
                </a:lnTo>
                <a:lnTo>
                  <a:pt x="1427" y="1288"/>
                </a:lnTo>
                <a:lnTo>
                  <a:pt x="1456" y="1276"/>
                </a:lnTo>
                <a:lnTo>
                  <a:pt x="1481" y="1263"/>
                </a:lnTo>
                <a:lnTo>
                  <a:pt x="1500" y="1244"/>
                </a:lnTo>
                <a:lnTo>
                  <a:pt x="1513" y="1221"/>
                </a:lnTo>
                <a:lnTo>
                  <a:pt x="1521" y="1192"/>
                </a:lnTo>
                <a:lnTo>
                  <a:pt x="1523" y="1161"/>
                </a:lnTo>
                <a:lnTo>
                  <a:pt x="1521" y="1142"/>
                </a:lnTo>
                <a:lnTo>
                  <a:pt x="1517" y="1121"/>
                </a:lnTo>
                <a:lnTo>
                  <a:pt x="1510" y="1096"/>
                </a:lnTo>
                <a:lnTo>
                  <a:pt x="1498" y="1071"/>
                </a:lnTo>
                <a:lnTo>
                  <a:pt x="1241" y="1075"/>
                </a:lnTo>
                <a:lnTo>
                  <a:pt x="1060" y="975"/>
                </a:lnTo>
                <a:close/>
                <a:moveTo>
                  <a:pt x="1137" y="668"/>
                </a:moveTo>
                <a:lnTo>
                  <a:pt x="1104" y="670"/>
                </a:lnTo>
                <a:lnTo>
                  <a:pt x="1074" y="676"/>
                </a:lnTo>
                <a:lnTo>
                  <a:pt x="1047" y="687"/>
                </a:lnTo>
                <a:lnTo>
                  <a:pt x="1020" y="702"/>
                </a:lnTo>
                <a:lnTo>
                  <a:pt x="997" y="722"/>
                </a:lnTo>
                <a:lnTo>
                  <a:pt x="976" y="745"/>
                </a:lnTo>
                <a:lnTo>
                  <a:pt x="954" y="772"/>
                </a:lnTo>
                <a:lnTo>
                  <a:pt x="937" y="804"/>
                </a:lnTo>
                <a:lnTo>
                  <a:pt x="1269" y="969"/>
                </a:lnTo>
                <a:lnTo>
                  <a:pt x="1454" y="971"/>
                </a:lnTo>
                <a:lnTo>
                  <a:pt x="1502" y="969"/>
                </a:lnTo>
                <a:lnTo>
                  <a:pt x="1542" y="962"/>
                </a:lnTo>
                <a:lnTo>
                  <a:pt x="1579" y="952"/>
                </a:lnTo>
                <a:lnTo>
                  <a:pt x="1608" y="937"/>
                </a:lnTo>
                <a:lnTo>
                  <a:pt x="1631" y="916"/>
                </a:lnTo>
                <a:lnTo>
                  <a:pt x="1646" y="893"/>
                </a:lnTo>
                <a:lnTo>
                  <a:pt x="1656" y="864"/>
                </a:lnTo>
                <a:lnTo>
                  <a:pt x="1659" y="833"/>
                </a:lnTo>
                <a:lnTo>
                  <a:pt x="1657" y="810"/>
                </a:lnTo>
                <a:lnTo>
                  <a:pt x="1650" y="789"/>
                </a:lnTo>
                <a:lnTo>
                  <a:pt x="1640" y="772"/>
                </a:lnTo>
                <a:lnTo>
                  <a:pt x="1625" y="758"/>
                </a:lnTo>
                <a:lnTo>
                  <a:pt x="1604" y="749"/>
                </a:lnTo>
                <a:lnTo>
                  <a:pt x="1579" y="741"/>
                </a:lnTo>
                <a:lnTo>
                  <a:pt x="1550" y="735"/>
                </a:lnTo>
                <a:lnTo>
                  <a:pt x="1517" y="733"/>
                </a:lnTo>
                <a:lnTo>
                  <a:pt x="1293" y="733"/>
                </a:lnTo>
                <a:lnTo>
                  <a:pt x="1273" y="718"/>
                </a:lnTo>
                <a:lnTo>
                  <a:pt x="1254" y="704"/>
                </a:lnTo>
                <a:lnTo>
                  <a:pt x="1233" y="693"/>
                </a:lnTo>
                <a:lnTo>
                  <a:pt x="1214" y="683"/>
                </a:lnTo>
                <a:lnTo>
                  <a:pt x="1195" y="678"/>
                </a:lnTo>
                <a:lnTo>
                  <a:pt x="1175" y="672"/>
                </a:lnTo>
                <a:lnTo>
                  <a:pt x="1156" y="668"/>
                </a:lnTo>
                <a:lnTo>
                  <a:pt x="1137" y="668"/>
                </a:lnTo>
                <a:close/>
                <a:moveTo>
                  <a:pt x="1694" y="240"/>
                </a:moveTo>
                <a:lnTo>
                  <a:pt x="1898" y="466"/>
                </a:lnTo>
                <a:lnTo>
                  <a:pt x="1874" y="497"/>
                </a:lnTo>
                <a:lnTo>
                  <a:pt x="1855" y="520"/>
                </a:lnTo>
                <a:lnTo>
                  <a:pt x="2251" y="518"/>
                </a:lnTo>
                <a:lnTo>
                  <a:pt x="2303" y="516"/>
                </a:lnTo>
                <a:lnTo>
                  <a:pt x="2351" y="516"/>
                </a:lnTo>
                <a:lnTo>
                  <a:pt x="2395" y="512"/>
                </a:lnTo>
                <a:lnTo>
                  <a:pt x="2435" y="511"/>
                </a:lnTo>
                <a:lnTo>
                  <a:pt x="2474" y="505"/>
                </a:lnTo>
                <a:lnTo>
                  <a:pt x="2508" y="501"/>
                </a:lnTo>
                <a:lnTo>
                  <a:pt x="2539" y="493"/>
                </a:lnTo>
                <a:lnTo>
                  <a:pt x="2568" y="488"/>
                </a:lnTo>
                <a:lnTo>
                  <a:pt x="2593" y="478"/>
                </a:lnTo>
                <a:lnTo>
                  <a:pt x="2614" y="470"/>
                </a:lnTo>
                <a:lnTo>
                  <a:pt x="2631" y="459"/>
                </a:lnTo>
                <a:lnTo>
                  <a:pt x="2647" y="449"/>
                </a:lnTo>
                <a:lnTo>
                  <a:pt x="2658" y="436"/>
                </a:lnTo>
                <a:lnTo>
                  <a:pt x="2666" y="424"/>
                </a:lnTo>
                <a:lnTo>
                  <a:pt x="2672" y="411"/>
                </a:lnTo>
                <a:lnTo>
                  <a:pt x="2673" y="395"/>
                </a:lnTo>
                <a:lnTo>
                  <a:pt x="2672" y="380"/>
                </a:lnTo>
                <a:lnTo>
                  <a:pt x="2668" y="363"/>
                </a:lnTo>
                <a:lnTo>
                  <a:pt x="2662" y="349"/>
                </a:lnTo>
                <a:lnTo>
                  <a:pt x="2652" y="336"/>
                </a:lnTo>
                <a:lnTo>
                  <a:pt x="2639" y="324"/>
                </a:lnTo>
                <a:lnTo>
                  <a:pt x="2625" y="313"/>
                </a:lnTo>
                <a:lnTo>
                  <a:pt x="2608" y="301"/>
                </a:lnTo>
                <a:lnTo>
                  <a:pt x="2587" y="294"/>
                </a:lnTo>
                <a:lnTo>
                  <a:pt x="2566" y="284"/>
                </a:lnTo>
                <a:lnTo>
                  <a:pt x="2541" y="278"/>
                </a:lnTo>
                <a:lnTo>
                  <a:pt x="2512" y="273"/>
                </a:lnTo>
                <a:lnTo>
                  <a:pt x="2481" y="267"/>
                </a:lnTo>
                <a:lnTo>
                  <a:pt x="2449" y="263"/>
                </a:lnTo>
                <a:lnTo>
                  <a:pt x="2412" y="261"/>
                </a:lnTo>
                <a:lnTo>
                  <a:pt x="2374" y="259"/>
                </a:lnTo>
                <a:lnTo>
                  <a:pt x="2334" y="259"/>
                </a:lnTo>
                <a:lnTo>
                  <a:pt x="1694" y="240"/>
                </a:lnTo>
                <a:close/>
                <a:moveTo>
                  <a:pt x="1060" y="109"/>
                </a:moveTo>
                <a:lnTo>
                  <a:pt x="1039" y="117"/>
                </a:lnTo>
                <a:lnTo>
                  <a:pt x="1018" y="125"/>
                </a:lnTo>
                <a:lnTo>
                  <a:pt x="993" y="134"/>
                </a:lnTo>
                <a:lnTo>
                  <a:pt x="966" y="146"/>
                </a:lnTo>
                <a:lnTo>
                  <a:pt x="937" y="159"/>
                </a:lnTo>
                <a:lnTo>
                  <a:pt x="906" y="173"/>
                </a:lnTo>
                <a:lnTo>
                  <a:pt x="872" y="188"/>
                </a:lnTo>
                <a:lnTo>
                  <a:pt x="835" y="203"/>
                </a:lnTo>
                <a:lnTo>
                  <a:pt x="799" y="221"/>
                </a:lnTo>
                <a:lnTo>
                  <a:pt x="757" y="240"/>
                </a:lnTo>
                <a:lnTo>
                  <a:pt x="714" y="261"/>
                </a:lnTo>
                <a:lnTo>
                  <a:pt x="670" y="282"/>
                </a:lnTo>
                <a:lnTo>
                  <a:pt x="622" y="305"/>
                </a:lnTo>
                <a:lnTo>
                  <a:pt x="572" y="328"/>
                </a:lnTo>
                <a:lnTo>
                  <a:pt x="520" y="353"/>
                </a:lnTo>
                <a:lnTo>
                  <a:pt x="467" y="380"/>
                </a:lnTo>
                <a:lnTo>
                  <a:pt x="150" y="380"/>
                </a:lnTo>
                <a:lnTo>
                  <a:pt x="123" y="480"/>
                </a:lnTo>
                <a:lnTo>
                  <a:pt x="104" y="580"/>
                </a:lnTo>
                <a:lnTo>
                  <a:pt x="92" y="679"/>
                </a:lnTo>
                <a:lnTo>
                  <a:pt x="88" y="779"/>
                </a:lnTo>
                <a:lnTo>
                  <a:pt x="92" y="875"/>
                </a:lnTo>
                <a:lnTo>
                  <a:pt x="102" y="971"/>
                </a:lnTo>
                <a:lnTo>
                  <a:pt x="119" y="1069"/>
                </a:lnTo>
                <a:lnTo>
                  <a:pt x="142" y="1169"/>
                </a:lnTo>
                <a:lnTo>
                  <a:pt x="378" y="1169"/>
                </a:lnTo>
                <a:lnTo>
                  <a:pt x="417" y="1228"/>
                </a:lnTo>
                <a:lnTo>
                  <a:pt x="459" y="1286"/>
                </a:lnTo>
                <a:lnTo>
                  <a:pt x="501" y="1340"/>
                </a:lnTo>
                <a:lnTo>
                  <a:pt x="545" y="1390"/>
                </a:lnTo>
                <a:lnTo>
                  <a:pt x="591" y="1438"/>
                </a:lnTo>
                <a:lnTo>
                  <a:pt x="640" y="1482"/>
                </a:lnTo>
                <a:lnTo>
                  <a:pt x="688" y="1524"/>
                </a:lnTo>
                <a:lnTo>
                  <a:pt x="737" y="1562"/>
                </a:lnTo>
                <a:lnTo>
                  <a:pt x="757" y="1566"/>
                </a:lnTo>
                <a:lnTo>
                  <a:pt x="774" y="1568"/>
                </a:lnTo>
                <a:lnTo>
                  <a:pt x="787" y="1570"/>
                </a:lnTo>
                <a:lnTo>
                  <a:pt x="797" y="1570"/>
                </a:lnTo>
                <a:lnTo>
                  <a:pt x="805" y="1570"/>
                </a:lnTo>
                <a:lnTo>
                  <a:pt x="814" y="1570"/>
                </a:lnTo>
                <a:lnTo>
                  <a:pt x="826" y="1568"/>
                </a:lnTo>
                <a:lnTo>
                  <a:pt x="839" y="1566"/>
                </a:lnTo>
                <a:lnTo>
                  <a:pt x="855" y="1564"/>
                </a:lnTo>
                <a:lnTo>
                  <a:pt x="872" y="1562"/>
                </a:lnTo>
                <a:lnTo>
                  <a:pt x="891" y="1559"/>
                </a:lnTo>
                <a:lnTo>
                  <a:pt x="912" y="1555"/>
                </a:lnTo>
                <a:lnTo>
                  <a:pt x="695" y="1441"/>
                </a:lnTo>
                <a:lnTo>
                  <a:pt x="720" y="1380"/>
                </a:lnTo>
                <a:lnTo>
                  <a:pt x="753" y="1322"/>
                </a:lnTo>
                <a:lnTo>
                  <a:pt x="791" y="1267"/>
                </a:lnTo>
                <a:lnTo>
                  <a:pt x="835" y="1215"/>
                </a:lnTo>
                <a:lnTo>
                  <a:pt x="728" y="1155"/>
                </a:lnTo>
                <a:lnTo>
                  <a:pt x="753" y="1107"/>
                </a:lnTo>
                <a:lnTo>
                  <a:pt x="778" y="1065"/>
                </a:lnTo>
                <a:lnTo>
                  <a:pt x="803" y="1027"/>
                </a:lnTo>
                <a:lnTo>
                  <a:pt x="830" y="994"/>
                </a:lnTo>
                <a:lnTo>
                  <a:pt x="855" y="967"/>
                </a:lnTo>
                <a:lnTo>
                  <a:pt x="883" y="942"/>
                </a:lnTo>
                <a:lnTo>
                  <a:pt x="910" y="925"/>
                </a:lnTo>
                <a:lnTo>
                  <a:pt x="939" y="912"/>
                </a:lnTo>
                <a:lnTo>
                  <a:pt x="816" y="846"/>
                </a:lnTo>
                <a:lnTo>
                  <a:pt x="832" y="812"/>
                </a:lnTo>
                <a:lnTo>
                  <a:pt x="849" y="781"/>
                </a:lnTo>
                <a:lnTo>
                  <a:pt x="864" y="750"/>
                </a:lnTo>
                <a:lnTo>
                  <a:pt x="882" y="724"/>
                </a:lnTo>
                <a:lnTo>
                  <a:pt x="899" y="697"/>
                </a:lnTo>
                <a:lnTo>
                  <a:pt x="918" y="674"/>
                </a:lnTo>
                <a:lnTo>
                  <a:pt x="937" y="653"/>
                </a:lnTo>
                <a:lnTo>
                  <a:pt x="956" y="633"/>
                </a:lnTo>
                <a:lnTo>
                  <a:pt x="976" y="616"/>
                </a:lnTo>
                <a:lnTo>
                  <a:pt x="997" y="603"/>
                </a:lnTo>
                <a:lnTo>
                  <a:pt x="1020" y="591"/>
                </a:lnTo>
                <a:lnTo>
                  <a:pt x="1041" y="580"/>
                </a:lnTo>
                <a:lnTo>
                  <a:pt x="1064" y="572"/>
                </a:lnTo>
                <a:lnTo>
                  <a:pt x="1087" y="566"/>
                </a:lnTo>
                <a:lnTo>
                  <a:pt x="1112" y="564"/>
                </a:lnTo>
                <a:lnTo>
                  <a:pt x="1137" y="562"/>
                </a:lnTo>
                <a:lnTo>
                  <a:pt x="1181" y="566"/>
                </a:lnTo>
                <a:lnTo>
                  <a:pt x="1225" y="578"/>
                </a:lnTo>
                <a:lnTo>
                  <a:pt x="1248" y="585"/>
                </a:lnTo>
                <a:lnTo>
                  <a:pt x="1271" y="597"/>
                </a:lnTo>
                <a:lnTo>
                  <a:pt x="1294" y="610"/>
                </a:lnTo>
                <a:lnTo>
                  <a:pt x="1317" y="624"/>
                </a:lnTo>
                <a:lnTo>
                  <a:pt x="1477" y="622"/>
                </a:lnTo>
                <a:lnTo>
                  <a:pt x="1431" y="599"/>
                </a:lnTo>
                <a:lnTo>
                  <a:pt x="1385" y="568"/>
                </a:lnTo>
                <a:lnTo>
                  <a:pt x="1335" y="530"/>
                </a:lnTo>
                <a:lnTo>
                  <a:pt x="1285" y="484"/>
                </a:lnTo>
                <a:lnTo>
                  <a:pt x="1248" y="505"/>
                </a:lnTo>
                <a:lnTo>
                  <a:pt x="1214" y="524"/>
                </a:lnTo>
                <a:lnTo>
                  <a:pt x="1177" y="539"/>
                </a:lnTo>
                <a:lnTo>
                  <a:pt x="1139" y="553"/>
                </a:lnTo>
                <a:lnTo>
                  <a:pt x="1102" y="562"/>
                </a:lnTo>
                <a:lnTo>
                  <a:pt x="1064" y="570"/>
                </a:lnTo>
                <a:lnTo>
                  <a:pt x="1026" y="574"/>
                </a:lnTo>
                <a:lnTo>
                  <a:pt x="987" y="576"/>
                </a:lnTo>
                <a:lnTo>
                  <a:pt x="947" y="572"/>
                </a:lnTo>
                <a:lnTo>
                  <a:pt x="943" y="466"/>
                </a:lnTo>
                <a:lnTo>
                  <a:pt x="972" y="468"/>
                </a:lnTo>
                <a:lnTo>
                  <a:pt x="1014" y="466"/>
                </a:lnTo>
                <a:lnTo>
                  <a:pt x="1056" y="461"/>
                </a:lnTo>
                <a:lnTo>
                  <a:pt x="1099" y="453"/>
                </a:lnTo>
                <a:lnTo>
                  <a:pt x="1141" y="441"/>
                </a:lnTo>
                <a:lnTo>
                  <a:pt x="1181" y="424"/>
                </a:lnTo>
                <a:lnTo>
                  <a:pt x="1221" y="405"/>
                </a:lnTo>
                <a:lnTo>
                  <a:pt x="1262" y="384"/>
                </a:lnTo>
                <a:lnTo>
                  <a:pt x="1302" y="357"/>
                </a:lnTo>
                <a:lnTo>
                  <a:pt x="1339" y="401"/>
                </a:lnTo>
                <a:lnTo>
                  <a:pt x="1375" y="440"/>
                </a:lnTo>
                <a:lnTo>
                  <a:pt x="1414" y="474"/>
                </a:lnTo>
                <a:lnTo>
                  <a:pt x="1450" y="499"/>
                </a:lnTo>
                <a:lnTo>
                  <a:pt x="1487" y="520"/>
                </a:lnTo>
                <a:lnTo>
                  <a:pt x="1525" y="536"/>
                </a:lnTo>
                <a:lnTo>
                  <a:pt x="1561" y="545"/>
                </a:lnTo>
                <a:lnTo>
                  <a:pt x="1600" y="547"/>
                </a:lnTo>
                <a:lnTo>
                  <a:pt x="1623" y="547"/>
                </a:lnTo>
                <a:lnTo>
                  <a:pt x="1646" y="543"/>
                </a:lnTo>
                <a:lnTo>
                  <a:pt x="1669" y="536"/>
                </a:lnTo>
                <a:lnTo>
                  <a:pt x="1692" y="526"/>
                </a:lnTo>
                <a:lnTo>
                  <a:pt x="1713" y="514"/>
                </a:lnTo>
                <a:lnTo>
                  <a:pt x="1734" y="501"/>
                </a:lnTo>
                <a:lnTo>
                  <a:pt x="1753" y="484"/>
                </a:lnTo>
                <a:lnTo>
                  <a:pt x="1773" y="464"/>
                </a:lnTo>
                <a:lnTo>
                  <a:pt x="1502" y="155"/>
                </a:lnTo>
                <a:lnTo>
                  <a:pt x="1060" y="109"/>
                </a:lnTo>
                <a:close/>
                <a:moveTo>
                  <a:pt x="1054" y="0"/>
                </a:moveTo>
                <a:lnTo>
                  <a:pt x="1536" y="54"/>
                </a:lnTo>
                <a:lnTo>
                  <a:pt x="1608" y="134"/>
                </a:lnTo>
                <a:lnTo>
                  <a:pt x="2318" y="154"/>
                </a:lnTo>
                <a:lnTo>
                  <a:pt x="2378" y="155"/>
                </a:lnTo>
                <a:lnTo>
                  <a:pt x="2431" y="157"/>
                </a:lnTo>
                <a:lnTo>
                  <a:pt x="2481" y="161"/>
                </a:lnTo>
                <a:lnTo>
                  <a:pt x="2528" y="167"/>
                </a:lnTo>
                <a:lnTo>
                  <a:pt x="2568" y="175"/>
                </a:lnTo>
                <a:lnTo>
                  <a:pt x="2602" y="184"/>
                </a:lnTo>
                <a:lnTo>
                  <a:pt x="2635" y="196"/>
                </a:lnTo>
                <a:lnTo>
                  <a:pt x="2662" y="207"/>
                </a:lnTo>
                <a:lnTo>
                  <a:pt x="2683" y="223"/>
                </a:lnTo>
                <a:lnTo>
                  <a:pt x="2704" y="240"/>
                </a:lnTo>
                <a:lnTo>
                  <a:pt x="2720" y="259"/>
                </a:lnTo>
                <a:lnTo>
                  <a:pt x="2735" y="280"/>
                </a:lnTo>
                <a:lnTo>
                  <a:pt x="2745" y="305"/>
                </a:lnTo>
                <a:lnTo>
                  <a:pt x="2752" y="332"/>
                </a:lnTo>
                <a:lnTo>
                  <a:pt x="2756" y="361"/>
                </a:lnTo>
                <a:lnTo>
                  <a:pt x="2758" y="393"/>
                </a:lnTo>
                <a:lnTo>
                  <a:pt x="2756" y="420"/>
                </a:lnTo>
                <a:lnTo>
                  <a:pt x="2752" y="447"/>
                </a:lnTo>
                <a:lnTo>
                  <a:pt x="2745" y="470"/>
                </a:lnTo>
                <a:lnTo>
                  <a:pt x="2733" y="493"/>
                </a:lnTo>
                <a:lnTo>
                  <a:pt x="2720" y="514"/>
                </a:lnTo>
                <a:lnTo>
                  <a:pt x="2700" y="532"/>
                </a:lnTo>
                <a:lnTo>
                  <a:pt x="2681" y="549"/>
                </a:lnTo>
                <a:lnTo>
                  <a:pt x="2656" y="564"/>
                </a:lnTo>
                <a:lnTo>
                  <a:pt x="2629" y="578"/>
                </a:lnTo>
                <a:lnTo>
                  <a:pt x="2599" y="589"/>
                </a:lnTo>
                <a:lnTo>
                  <a:pt x="2566" y="601"/>
                </a:lnTo>
                <a:lnTo>
                  <a:pt x="2529" y="608"/>
                </a:lnTo>
                <a:lnTo>
                  <a:pt x="2489" y="614"/>
                </a:lnTo>
                <a:lnTo>
                  <a:pt x="2447" y="618"/>
                </a:lnTo>
                <a:lnTo>
                  <a:pt x="2401" y="622"/>
                </a:lnTo>
                <a:lnTo>
                  <a:pt x="2353" y="622"/>
                </a:lnTo>
                <a:lnTo>
                  <a:pt x="1725" y="631"/>
                </a:lnTo>
                <a:lnTo>
                  <a:pt x="1661" y="649"/>
                </a:lnTo>
                <a:lnTo>
                  <a:pt x="1682" y="666"/>
                </a:lnTo>
                <a:lnTo>
                  <a:pt x="1700" y="685"/>
                </a:lnTo>
                <a:lnTo>
                  <a:pt x="1715" y="704"/>
                </a:lnTo>
                <a:lnTo>
                  <a:pt x="1727" y="727"/>
                </a:lnTo>
                <a:lnTo>
                  <a:pt x="1736" y="750"/>
                </a:lnTo>
                <a:lnTo>
                  <a:pt x="1744" y="777"/>
                </a:lnTo>
                <a:lnTo>
                  <a:pt x="1748" y="804"/>
                </a:lnTo>
                <a:lnTo>
                  <a:pt x="1748" y="835"/>
                </a:lnTo>
                <a:lnTo>
                  <a:pt x="1746" y="875"/>
                </a:lnTo>
                <a:lnTo>
                  <a:pt x="1738" y="912"/>
                </a:lnTo>
                <a:lnTo>
                  <a:pt x="1727" y="944"/>
                </a:lnTo>
                <a:lnTo>
                  <a:pt x="1709" y="973"/>
                </a:lnTo>
                <a:lnTo>
                  <a:pt x="1688" y="1000"/>
                </a:lnTo>
                <a:lnTo>
                  <a:pt x="1661" y="1021"/>
                </a:lnTo>
                <a:lnTo>
                  <a:pt x="1631" y="1040"/>
                </a:lnTo>
                <a:lnTo>
                  <a:pt x="1596" y="1056"/>
                </a:lnTo>
                <a:lnTo>
                  <a:pt x="1604" y="1084"/>
                </a:lnTo>
                <a:lnTo>
                  <a:pt x="1609" y="1111"/>
                </a:lnTo>
                <a:lnTo>
                  <a:pt x="1613" y="1136"/>
                </a:lnTo>
                <a:lnTo>
                  <a:pt x="1615" y="1159"/>
                </a:lnTo>
                <a:lnTo>
                  <a:pt x="1611" y="1207"/>
                </a:lnTo>
                <a:lnTo>
                  <a:pt x="1602" y="1251"/>
                </a:lnTo>
                <a:lnTo>
                  <a:pt x="1586" y="1290"/>
                </a:lnTo>
                <a:lnTo>
                  <a:pt x="1565" y="1321"/>
                </a:lnTo>
                <a:lnTo>
                  <a:pt x="1538" y="1347"/>
                </a:lnTo>
                <a:lnTo>
                  <a:pt x="1504" y="1370"/>
                </a:lnTo>
                <a:lnTo>
                  <a:pt x="1463" y="1386"/>
                </a:lnTo>
                <a:lnTo>
                  <a:pt x="1417" y="1397"/>
                </a:lnTo>
                <a:lnTo>
                  <a:pt x="1419" y="1416"/>
                </a:lnTo>
                <a:lnTo>
                  <a:pt x="1419" y="1432"/>
                </a:lnTo>
                <a:lnTo>
                  <a:pt x="1417" y="1459"/>
                </a:lnTo>
                <a:lnTo>
                  <a:pt x="1415" y="1486"/>
                </a:lnTo>
                <a:lnTo>
                  <a:pt x="1410" y="1511"/>
                </a:lnTo>
                <a:lnTo>
                  <a:pt x="1402" y="1532"/>
                </a:lnTo>
                <a:lnTo>
                  <a:pt x="1394" y="1553"/>
                </a:lnTo>
                <a:lnTo>
                  <a:pt x="1383" y="1572"/>
                </a:lnTo>
                <a:lnTo>
                  <a:pt x="1369" y="1589"/>
                </a:lnTo>
                <a:lnTo>
                  <a:pt x="1354" y="1605"/>
                </a:lnTo>
                <a:lnTo>
                  <a:pt x="1337" y="1618"/>
                </a:lnTo>
                <a:lnTo>
                  <a:pt x="1317" y="1630"/>
                </a:lnTo>
                <a:lnTo>
                  <a:pt x="1296" y="1639"/>
                </a:lnTo>
                <a:lnTo>
                  <a:pt x="1273" y="1649"/>
                </a:lnTo>
                <a:lnTo>
                  <a:pt x="1246" y="1654"/>
                </a:lnTo>
                <a:lnTo>
                  <a:pt x="1220" y="1658"/>
                </a:lnTo>
                <a:lnTo>
                  <a:pt x="1191" y="1662"/>
                </a:lnTo>
                <a:lnTo>
                  <a:pt x="1158" y="1662"/>
                </a:lnTo>
                <a:lnTo>
                  <a:pt x="1099" y="1658"/>
                </a:lnTo>
                <a:lnTo>
                  <a:pt x="1033" y="1624"/>
                </a:lnTo>
                <a:lnTo>
                  <a:pt x="979" y="1643"/>
                </a:lnTo>
                <a:lnTo>
                  <a:pt x="928" y="1656"/>
                </a:lnTo>
                <a:lnTo>
                  <a:pt x="876" y="1664"/>
                </a:lnTo>
                <a:lnTo>
                  <a:pt x="828" y="1666"/>
                </a:lnTo>
                <a:lnTo>
                  <a:pt x="809" y="1666"/>
                </a:lnTo>
                <a:lnTo>
                  <a:pt x="785" y="1664"/>
                </a:lnTo>
                <a:lnTo>
                  <a:pt x="757" y="1660"/>
                </a:lnTo>
                <a:lnTo>
                  <a:pt x="722" y="1656"/>
                </a:lnTo>
                <a:lnTo>
                  <a:pt x="676" y="1626"/>
                </a:lnTo>
                <a:lnTo>
                  <a:pt x="628" y="1591"/>
                </a:lnTo>
                <a:lnTo>
                  <a:pt x="578" y="1553"/>
                </a:lnTo>
                <a:lnTo>
                  <a:pt x="530" y="1509"/>
                </a:lnTo>
                <a:lnTo>
                  <a:pt x="482" y="1459"/>
                </a:lnTo>
                <a:lnTo>
                  <a:pt x="432" y="1403"/>
                </a:lnTo>
                <a:lnTo>
                  <a:pt x="382" y="1344"/>
                </a:lnTo>
                <a:lnTo>
                  <a:pt x="332" y="1280"/>
                </a:lnTo>
                <a:lnTo>
                  <a:pt x="83" y="1280"/>
                </a:lnTo>
                <a:lnTo>
                  <a:pt x="63" y="1219"/>
                </a:lnTo>
                <a:lnTo>
                  <a:pt x="46" y="1157"/>
                </a:lnTo>
                <a:lnTo>
                  <a:pt x="33" y="1096"/>
                </a:lnTo>
                <a:lnTo>
                  <a:pt x="19" y="1036"/>
                </a:lnTo>
                <a:lnTo>
                  <a:pt x="11" y="975"/>
                </a:lnTo>
                <a:lnTo>
                  <a:pt x="4" y="914"/>
                </a:lnTo>
                <a:lnTo>
                  <a:pt x="0" y="854"/>
                </a:lnTo>
                <a:lnTo>
                  <a:pt x="0" y="793"/>
                </a:lnTo>
                <a:lnTo>
                  <a:pt x="0" y="724"/>
                </a:lnTo>
                <a:lnTo>
                  <a:pt x="6" y="656"/>
                </a:lnTo>
                <a:lnTo>
                  <a:pt x="11" y="591"/>
                </a:lnTo>
                <a:lnTo>
                  <a:pt x="23" y="526"/>
                </a:lnTo>
                <a:lnTo>
                  <a:pt x="34" y="463"/>
                </a:lnTo>
                <a:lnTo>
                  <a:pt x="52" y="399"/>
                </a:lnTo>
                <a:lnTo>
                  <a:pt x="69" y="336"/>
                </a:lnTo>
                <a:lnTo>
                  <a:pt x="92" y="276"/>
                </a:lnTo>
                <a:lnTo>
                  <a:pt x="465" y="276"/>
                </a:lnTo>
                <a:lnTo>
                  <a:pt x="530" y="236"/>
                </a:lnTo>
                <a:lnTo>
                  <a:pt x="599" y="200"/>
                </a:lnTo>
                <a:lnTo>
                  <a:pt x="668" y="163"/>
                </a:lnTo>
                <a:lnTo>
                  <a:pt x="741" y="129"/>
                </a:lnTo>
                <a:lnTo>
                  <a:pt x="816" y="94"/>
                </a:lnTo>
                <a:lnTo>
                  <a:pt x="893" y="61"/>
                </a:lnTo>
                <a:lnTo>
                  <a:pt x="972" y="31"/>
                </a:lnTo>
                <a:lnTo>
                  <a:pt x="1054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WordArt 3"/>
          <p:cNvSpPr txBox="1"/>
          <p:nvPr/>
        </p:nvSpPr>
        <p:spPr>
          <a:xfrm>
            <a:off x="2739960" y="2476440"/>
            <a:ext cx="4819680" cy="109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ffffff"/>
                  </a:solidFill>
                  <a:miter/>
                </a:ln>
                <a:noFill/>
                <a:latin typeface="宋体"/>
              </a:rPr>
              <a:t>Thank you!</a:t>
            </a:r>
            <a:endParaRPr b="0" lang="en-US" sz="1800" spc="-1" strike="noStrike">
              <a:ln w="9360">
                <a:solidFill>
                  <a:srgbClr val="ffffff"/>
                </a:solidFill>
                <a:miter/>
              </a:ln>
              <a:noFill/>
              <a:latin typeface="宋体"/>
              <a:ea typeface="宋体"/>
            </a:endParaRPr>
          </a:p>
        </p:txBody>
      </p:sp>
      <p:sp>
        <p:nvSpPr>
          <p:cNvPr id="352" name="Oval 4"/>
          <p:cNvSpPr/>
          <p:nvPr/>
        </p:nvSpPr>
        <p:spPr>
          <a:xfrm>
            <a:off x="3176640" y="6404040"/>
            <a:ext cx="152280" cy="152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5"/>
          <p:cNvSpPr/>
          <p:nvPr/>
        </p:nvSpPr>
        <p:spPr>
          <a:xfrm>
            <a:off x="3457440" y="6405480"/>
            <a:ext cx="15264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6"/>
          <p:cNvSpPr/>
          <p:nvPr/>
        </p:nvSpPr>
        <p:spPr>
          <a:xfrm>
            <a:off x="375444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7"/>
          <p:cNvSpPr/>
          <p:nvPr/>
        </p:nvSpPr>
        <p:spPr>
          <a:xfrm>
            <a:off x="4038480" y="6404040"/>
            <a:ext cx="152640" cy="152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8"/>
          <p:cNvSpPr/>
          <p:nvPr/>
        </p:nvSpPr>
        <p:spPr>
          <a:xfrm>
            <a:off x="4325760" y="6405480"/>
            <a:ext cx="15264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9"/>
          <p:cNvSpPr/>
          <p:nvPr/>
        </p:nvSpPr>
        <p:spPr>
          <a:xfrm>
            <a:off x="4613400" y="6407280"/>
            <a:ext cx="152280" cy="152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10"/>
          <p:cNvSpPr/>
          <p:nvPr/>
        </p:nvSpPr>
        <p:spPr>
          <a:xfrm>
            <a:off x="490392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11"/>
          <p:cNvSpPr/>
          <p:nvPr/>
        </p:nvSpPr>
        <p:spPr>
          <a:xfrm>
            <a:off x="5186520" y="6405480"/>
            <a:ext cx="152280" cy="15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2"/>
          <p:cNvSpPr/>
          <p:nvPr/>
        </p:nvSpPr>
        <p:spPr>
          <a:xfrm>
            <a:off x="5477040" y="640548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：www.eeppt.com; www.eeppt.com</dc:creator>
  <dc:description>幻灯片之家：www.eeppt.com</dc:description>
  <cp:keywords>幻灯片之家：www.eeppt.com; www.eeppt.com</cp:keywords>
  <dc:language>en-US</dc:language>
  <cp:lastModifiedBy>YANGS2015</cp:lastModifiedBy>
  <dcterms:modified xsi:type="dcterms:W3CDTF">2015-09-18T13:24:01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