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0329-1AA5-4B3A-911B-23F06084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AFF-0EEB-447D-ADA9-CADE0E9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EED9-2123-4F3A-860E-3BF89C5D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164-77B2-40A5-9EA7-291E7ECF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4E1-78A0-4EAB-A4B2-4D0BA0FD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E0F-9CBE-4289-9D79-7EE4126A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0C4-BF17-4439-8C7A-2D2F0AF6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B97-6A95-455E-941D-9C007321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8D6-E3D0-464D-8F05-AEC506D3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442-B632-4423-AFE2-0D52B4AE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AC6-4111-4189-979A-C83A0AA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CB7-F1CC-4291-97E2-24D08D2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7365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17365d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65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e9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4BF6-45D8-4D9B-9E30-FF59CF9C8955}" type="datetime">
              <a:rPr b="0" lang="zh-CN" sz="1200" spc="-1" strike="noStrike">
                <a:solidFill>
                  <a:srgbClr val="8a8e9b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e9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63E0-299D-49BC-AE7C-23E6F56F57A3}" type="slidenum">
              <a:rPr b="0" lang="zh-CN" sz="1200" spc="-1" strike="noStrike">
                <a:solidFill>
                  <a:srgbClr val="8a8e9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928800" y="857160"/>
            <a:ext cx="7358040" cy="542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428840" y="1428840"/>
            <a:ext cx="5786280" cy="78588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469880" y="157176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个人简历</a:t>
            </a:r>
            <a:endParaRPr b="0" lang="en-US" sz="2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4451400" y="15001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FKaiSUBold-B5"/>
                <a:ea typeface="DFKaiSUBold-B5"/>
              </a:rPr>
              <a:t>PERSONAL </a:t>
            </a:r>
            <a:r>
              <a:rPr b="0" lang="en-US" sz="1800" spc="-1" strike="noStrike">
                <a:solidFill>
                  <a:srgbClr val="ffffff"/>
                </a:solidFill>
                <a:latin typeface="DFKaiSUBold-B5"/>
                <a:ea typeface="DFKaiSUBold-B5"/>
              </a:rPr>
              <a:t>RESUME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502520" y="1857240"/>
            <a:ext cx="15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&amp; GRAPHIC DESIGNER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7" name="流程图: 联系 13"/>
          <p:cNvSpPr/>
          <p:nvPr/>
        </p:nvSpPr>
        <p:spPr>
          <a:xfrm>
            <a:off x="3500280" y="2428920"/>
            <a:ext cx="2028960" cy="2028960"/>
          </a:xfrm>
          <a:prstGeom prst="flowChartConnector">
            <a:avLst/>
          </a:prstGeom>
          <a:solidFill>
            <a:srgbClr val="c5d8f1"/>
          </a:solidFill>
          <a:ln w="32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4143240" y="32860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照片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9" name="TextBox 18"/>
          <p:cNvSpPr/>
          <p:nvPr/>
        </p:nvSpPr>
        <p:spPr>
          <a:xfrm>
            <a:off x="1714680" y="500076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住址：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0" name="TextBox 19"/>
          <p:cNvSpPr/>
          <p:nvPr/>
        </p:nvSpPr>
        <p:spPr>
          <a:xfrm>
            <a:off x="1714680" y="555948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求职：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1" name="TextBox 20"/>
          <p:cNvSpPr/>
          <p:nvPr/>
        </p:nvSpPr>
        <p:spPr>
          <a:xfrm>
            <a:off x="4143240" y="4487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姓名  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2" name="流程图: 联系 21"/>
          <p:cNvSpPr/>
          <p:nvPr/>
        </p:nvSpPr>
        <p:spPr>
          <a:xfrm>
            <a:off x="4929120" y="2428920"/>
            <a:ext cx="785880" cy="718920"/>
          </a:xfrm>
          <a:prstGeom prst="flowChartConnector">
            <a:avLst/>
          </a:prstGeom>
          <a:solidFill>
            <a:srgbClr val="f7f6f2"/>
          </a:solidFill>
          <a:ln w="324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3" name="矩形 22"/>
          <p:cNvSpPr/>
          <p:nvPr/>
        </p:nvSpPr>
        <p:spPr>
          <a:xfrm>
            <a:off x="5257080" y="2643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365d"/>
                </a:solidFill>
                <a:latin typeface="黑体"/>
                <a:ea typeface="黑体"/>
              </a:rPr>
              <a:t>年龄</a:t>
            </a: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1500120" y="5600880"/>
            <a:ext cx="228600" cy="257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5"/>
          <a:stretch/>
        </p:blipFill>
        <p:spPr>
          <a:xfrm>
            <a:off x="1495440" y="5084640"/>
            <a:ext cx="219240" cy="228600"/>
          </a:xfrm>
          <a:prstGeom prst="rect">
            <a:avLst/>
          </a:prstGeom>
          <a:ln w="0">
            <a:noFill/>
          </a:ln>
        </p:spPr>
      </p:pic>
      <p:sp>
        <p:nvSpPr>
          <p:cNvPr id="56" name="矩形 16"/>
          <p:cNvSpPr/>
          <p:nvPr/>
        </p:nvSpPr>
        <p:spPr>
          <a:xfrm>
            <a:off x="2786040" y="5000760"/>
            <a:ext cx="5500800" cy="9284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10960" y="117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7365d"/>
                </a:solidFill>
                <a:latin typeface="Arial"/>
                <a:ea typeface="宋体"/>
              </a:rPr>
              <a:t>个人简介介绍</a:t>
            </a:r>
            <a:r>
              <a:rPr b="0" lang="zh-CN" sz="4000" spc="-1" strike="noStrike">
                <a:solidFill>
                  <a:srgbClr val="17365d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7365d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0" name="圆角矩形标注 18"/>
          <p:cNvSpPr/>
          <p:nvPr/>
        </p:nvSpPr>
        <p:spPr>
          <a:xfrm rot="10800000">
            <a:off x="357120" y="1285560"/>
            <a:ext cx="4500720" cy="171432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500040" y="1650960"/>
            <a:ext cx="428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2" name="圆角矩形标注 19"/>
          <p:cNvSpPr/>
          <p:nvPr/>
        </p:nvSpPr>
        <p:spPr>
          <a:xfrm rot="10800000">
            <a:off x="5714640" y="1142280"/>
            <a:ext cx="3071880" cy="17146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500040" y="1928880"/>
            <a:ext cx="43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主要工作：画册设计、海报设计、单页设计、宣传栏设</a:t>
            </a:r>
            <a:endParaRPr b="0" lang="en-US" sz="1000" spc="-1" strike="noStrike">
              <a:solidFill>
                <a:srgbClr val="17365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计、报纸排版编辑、名片设计、</a:t>
            </a:r>
            <a:r>
              <a:rPr b="0" lang="en-US" sz="1000" spc="-1" strike="noStrike">
                <a:solidFill>
                  <a:srgbClr val="17365d"/>
                </a:solidFill>
                <a:latin typeface="方正楷体简体"/>
              </a:rPr>
              <a:t>office</a:t>
            </a: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办公软件、平面图制作、</a:t>
            </a:r>
            <a:endParaRPr b="0" lang="en-US" sz="1000" spc="-1" strike="noStrike">
              <a:solidFill>
                <a:srgbClr val="17365d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7365d"/>
                </a:solidFill>
                <a:latin typeface="方正楷体简体"/>
              </a:rPr>
              <a:t>照片拍摄、图片处理、及其它行政事务处理等等。</a:t>
            </a:r>
            <a:endParaRPr b="0" lang="en-US" sz="10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4" name="圆角矩形 21"/>
          <p:cNvSpPr/>
          <p:nvPr/>
        </p:nvSpPr>
        <p:spPr>
          <a:xfrm>
            <a:off x="500040" y="1357200"/>
            <a:ext cx="3286080" cy="2858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500040" y="135720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6" name="圆角矩形标注 22"/>
          <p:cNvSpPr/>
          <p:nvPr/>
        </p:nvSpPr>
        <p:spPr>
          <a:xfrm flipH="1" rot="10800000">
            <a:off x="857160" y="3571560"/>
            <a:ext cx="4572000" cy="142884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7" name="圆角矩形标注 23"/>
          <p:cNvSpPr/>
          <p:nvPr/>
        </p:nvSpPr>
        <p:spPr>
          <a:xfrm rot="10800000">
            <a:off x="1000080" y="5643360"/>
            <a:ext cx="6215040" cy="1214280"/>
          </a:xfrm>
          <a:prstGeom prst="wedgeRoundRectCallout">
            <a:avLst>
              <a:gd name="adj1" fmla="val -19995"/>
              <a:gd name="adj2" fmla="val 64999"/>
              <a:gd name="adj3" fmla="val 16667"/>
            </a:avLst>
          </a:prstGeom>
          <a:solidFill>
            <a:srgbClr val="daeef3"/>
          </a:solidFill>
          <a:ln w="25560">
            <a:solidFill>
              <a:srgbClr val="e36c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8" name="矩形 24"/>
          <p:cNvSpPr/>
          <p:nvPr/>
        </p:nvSpPr>
        <p:spPr>
          <a:xfrm>
            <a:off x="0" y="0"/>
            <a:ext cx="9144000" cy="50004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汉仪大黑简"/>
                <a:ea typeface="方正大黑简体"/>
              </a:rPr>
              <a:t>个人履历</a:t>
            </a:r>
            <a:endParaRPr b="0" lang="en-US" sz="2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0" name="矩形 27"/>
          <p:cNvSpPr/>
          <p:nvPr/>
        </p:nvSpPr>
        <p:spPr>
          <a:xfrm>
            <a:off x="5786280" y="1357200"/>
            <a:ext cx="2071800" cy="428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5857920" y="1857240"/>
            <a:ext cx="271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5857920" y="135720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4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3" name="TextBox 30"/>
          <p:cNvSpPr/>
          <p:nvPr/>
        </p:nvSpPr>
        <p:spPr>
          <a:xfrm>
            <a:off x="1071720" y="4098960"/>
            <a:ext cx="44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4" name="矩形 31"/>
          <p:cNvSpPr/>
          <p:nvPr/>
        </p:nvSpPr>
        <p:spPr>
          <a:xfrm>
            <a:off x="1071720" y="3643200"/>
            <a:ext cx="3357360" cy="357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5" name="TextBox 32"/>
          <p:cNvSpPr/>
          <p:nvPr/>
        </p:nvSpPr>
        <p:spPr>
          <a:xfrm>
            <a:off x="1914120" y="37148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4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6" name="TextBox 33"/>
          <p:cNvSpPr/>
          <p:nvPr/>
        </p:nvSpPr>
        <p:spPr>
          <a:xfrm>
            <a:off x="1214280" y="6215040"/>
            <a:ext cx="442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36c09"/>
                </a:solidFill>
                <a:latin typeface="方正粗圆简体"/>
              </a:rPr>
              <a:t>广东三向教学仪器制造有限公司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7" name="矩形 35"/>
          <p:cNvSpPr/>
          <p:nvPr/>
        </p:nvSpPr>
        <p:spPr>
          <a:xfrm>
            <a:off x="1285920" y="5786280"/>
            <a:ext cx="3357360" cy="3574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78" name="TextBox 34"/>
          <p:cNvSpPr/>
          <p:nvPr/>
        </p:nvSpPr>
        <p:spPr>
          <a:xfrm>
            <a:off x="2057040" y="5824440"/>
            <a:ext cx="198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2013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12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--2014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年</a:t>
            </a:r>
            <a:r>
              <a:rPr b="1" lang="en-US" sz="1200" spc="-1" strike="noStrike">
                <a:solidFill>
                  <a:srgbClr val="ffffff"/>
                </a:solidFill>
                <a:latin typeface="汉仪中黑简"/>
              </a:rPr>
              <a:t>7</a:t>
            </a:r>
            <a:r>
              <a:rPr b="1" lang="zh-CN" sz="1200" spc="-1" strike="noStrike">
                <a:solidFill>
                  <a:srgbClr val="ffffff"/>
                </a:solidFill>
                <a:latin typeface="汉仪中黑简"/>
              </a:rPr>
              <a:t>月</a:t>
            </a: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advTm="2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357720" y="3753000"/>
            <a:ext cx="2046240" cy="2046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1785960" y="3898800"/>
            <a:ext cx="1816200" cy="1816200"/>
          </a:xfrm>
          <a:prstGeom prst="rect">
            <a:avLst/>
          </a:prstGeom>
          <a:ln w="0">
            <a:noFill/>
          </a:ln>
        </p:spPr>
      </p:pic>
      <p:sp>
        <p:nvSpPr>
          <p:cNvPr id="84" name="矩形 2"/>
          <p:cNvSpPr/>
          <p:nvPr/>
        </p:nvSpPr>
        <p:spPr>
          <a:xfrm rot="2700000">
            <a:off x="1176480" y="3245760"/>
            <a:ext cx="1276560" cy="12747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5" name="矩形 3"/>
          <p:cNvSpPr/>
          <p:nvPr/>
        </p:nvSpPr>
        <p:spPr>
          <a:xfrm rot="2700000">
            <a:off x="1177560" y="5032440"/>
            <a:ext cx="1274760" cy="1274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6" name="矩形 4"/>
          <p:cNvSpPr/>
          <p:nvPr/>
        </p:nvSpPr>
        <p:spPr>
          <a:xfrm rot="2700000">
            <a:off x="2891520" y="3234240"/>
            <a:ext cx="1276200" cy="1274760"/>
          </a:xfrm>
          <a:prstGeom prst="rect">
            <a:avLst/>
          </a:prstGeom>
          <a:solidFill>
            <a:srgbClr val="d99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 rot="2700000">
            <a:off x="2957400" y="5056200"/>
            <a:ext cx="1246320" cy="1246320"/>
          </a:xfrm>
          <a:prstGeom prst="rect">
            <a:avLst/>
          </a:prstGeom>
          <a:solidFill>
            <a:srgbClr val="fabf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 rot="2700000">
            <a:off x="3748320" y="2377440"/>
            <a:ext cx="1276560" cy="1274760"/>
          </a:xfrm>
          <a:prstGeom prst="rect">
            <a:avLst/>
          </a:prstGeom>
          <a:solidFill>
            <a:srgbClr val="f2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 rot="2700000">
            <a:off x="4677120" y="5020200"/>
            <a:ext cx="1276200" cy="127476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2656200">
            <a:off x="4677840" y="3235320"/>
            <a:ext cx="1274760" cy="127476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 rot="2700000">
            <a:off x="6477840" y="3244680"/>
            <a:ext cx="1276560" cy="1276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 rot="2700000">
            <a:off x="6477840" y="5049720"/>
            <a:ext cx="1276560" cy="127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1357200" y="37148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细节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4" name="TextBox 16"/>
          <p:cNvSpPr/>
          <p:nvPr/>
        </p:nvSpPr>
        <p:spPr>
          <a:xfrm>
            <a:off x="1285920" y="54291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坚持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5" name="TextBox 17"/>
          <p:cNvSpPr/>
          <p:nvPr/>
        </p:nvSpPr>
        <p:spPr>
          <a:xfrm>
            <a:off x="2928960" y="371484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责任感</a:t>
            </a:r>
            <a:endParaRPr b="0" lang="en-US" sz="20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6" name="TextBox 18"/>
          <p:cNvSpPr/>
          <p:nvPr/>
        </p:nvSpPr>
        <p:spPr>
          <a:xfrm>
            <a:off x="3000240" y="55008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创意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7" name="TextBox 19"/>
          <p:cNvSpPr/>
          <p:nvPr/>
        </p:nvSpPr>
        <p:spPr>
          <a:xfrm>
            <a:off x="4786200" y="55008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潜力</a:t>
            </a:r>
            <a:endParaRPr b="0" lang="en-US" sz="2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8" name="TextBox 20"/>
          <p:cNvSpPr/>
          <p:nvPr/>
        </p:nvSpPr>
        <p:spPr>
          <a:xfrm>
            <a:off x="4643280" y="36432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理解力</a:t>
            </a:r>
            <a:endParaRPr b="0" lang="en-US" sz="20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2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17365d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7365d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7365d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65d"/>
              </a:solidFill>
              <a:latin typeface="Calibri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65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65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1D8-AC37-4360-B967-5CC886E64637}" type="slidenum">
              <a:t>5</a:t>
            </a:fld>
          </a:p>
        </p:txBody>
      </p:sp>
    </p:spTree>
  </p:cSld>
  <p:transition advTm="2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3806280" y="2786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叶根友毛笔行书简体2012版"/>
              </a:rPr>
              <a:t>谢谢观看</a:t>
            </a:r>
            <a:endParaRPr b="0" lang="en-US" sz="5400" spc="-1" strike="noStrike">
              <a:solidFill>
                <a:srgbClr val="17365d"/>
              </a:solidFill>
              <a:latin typeface="Arial"/>
            </a:endParaRPr>
          </a:p>
        </p:txBody>
      </p:sp>
    </p:spTree>
  </p:cSld>
  <p:transition advTm="2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9T01:28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56Z</dcterms:modified>
  <cp:revision>2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