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239-93BE-471D-937E-044C8674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733-0059-457B-83C7-4574D9D1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6B2-A8A5-4697-B75A-93CAED24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E69-F040-4A1C-9486-64944A77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5AA-15AC-4FAE-860F-AB3947B8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401F-AA81-45A0-A696-95EE4DFB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CF4-A5B0-4765-BED4-AC1B878B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EE7-9F6B-4249-932B-0C4226AA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278-392C-4B8A-9760-B02AD574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5FB-4590-430B-BE5C-3D24A3F1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651-293C-4CE4-A9AC-AF3D8BAA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9B8-FE41-4063-ADE2-554B978A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8527-3723-48ED-89AF-D44F710CDDF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8B4F-7096-4F22-A1D2-F2AB949850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hyperlink" Target="http://www.eeppt.com/moban/" TargetMode="External"/><Relationship Id="rId1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2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49" name="标题 1"/>
          <p:cNvSpPr/>
          <p:nvPr/>
        </p:nvSpPr>
        <p:spPr>
          <a:xfrm>
            <a:off x="2921040" y="1562040"/>
            <a:ext cx="4500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Microsoft PowerPoint  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标题 1"/>
          <p:cNvSpPr/>
          <p:nvPr/>
        </p:nvSpPr>
        <p:spPr>
          <a:xfrm>
            <a:off x="2824200" y="2125800"/>
            <a:ext cx="3786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此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520" y="5329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49040" y="7430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人简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8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8054640" y="80964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73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76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TextBox 25"/>
              <p:cNvSpPr/>
              <p:nvPr/>
            </p:nvSpPr>
            <p:spPr>
              <a:xfrm rot="19641000">
                <a:off x="1866240" y="1772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80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83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Box 32"/>
              <p:cNvSpPr/>
              <p:nvPr/>
            </p:nvSpPr>
            <p:spPr>
              <a:xfrm rot="19641000">
                <a:off x="1866240" y="268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87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90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94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97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TextBox 46"/>
              <p:cNvSpPr/>
              <p:nvPr/>
            </p:nvSpPr>
            <p:spPr>
              <a:xfrm rot="19641000">
                <a:off x="1865880" y="4508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TextBox 49"/>
          <p:cNvSpPr/>
          <p:nvPr/>
        </p:nvSpPr>
        <p:spPr>
          <a:xfrm>
            <a:off x="3844440" y="1766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0"/>
          <p:cNvSpPr/>
          <p:nvPr/>
        </p:nvSpPr>
        <p:spPr>
          <a:xfrm>
            <a:off x="3844440" y="2681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1"/>
          <p:cNvSpPr/>
          <p:nvPr/>
        </p:nvSpPr>
        <p:spPr>
          <a:xfrm>
            <a:off x="3844440" y="3595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2"/>
          <p:cNvSpPr/>
          <p:nvPr/>
        </p:nvSpPr>
        <p:spPr>
          <a:xfrm>
            <a:off x="3844440" y="45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105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12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3640" y="1410840"/>
            <a:ext cx="2797920" cy="3502440"/>
            <a:chOff x="143640" y="1410840"/>
            <a:chExt cx="2797920" cy="3502440"/>
          </a:xfrm>
        </p:grpSpPr>
        <p:sp>
          <p:nvSpPr>
            <p:cNvPr id="120" name="圆角矩形 53"/>
            <p:cNvSpPr/>
            <p:nvPr/>
          </p:nvSpPr>
          <p:spPr>
            <a:xfrm>
              <a:off x="53316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云形 54"/>
            <p:cNvSpPr/>
            <p:nvPr/>
          </p:nvSpPr>
          <p:spPr>
            <a:xfrm rot="20772600">
              <a:off x="193320" y="1557360"/>
              <a:ext cx="1300680" cy="576000"/>
            </a:xfrm>
            <a:custGeom>
              <a:avLst/>
              <a:gdLst>
                <a:gd name="textAreaLeft" fmla="*/ 0 w 1300680"/>
                <a:gd name="textAreaRight" fmla="*/ 1301040 w 130068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1300318" h="576064">
                  <a:moveTo>
                    <a:pt x="117389" y="191621"/>
                  </a:moveTo>
                  <a:lnTo>
                    <a:pt x="117388" y="191621"/>
                  </a:lnTo>
                  <a:arcTo wR="203265" hR="122547" stAng="10170760" swAng="7426822"/>
                  <a:lnTo>
                    <a:pt x="362766" y="37036"/>
                  </a:lnTo>
                  <a:arcTo wR="160523" hR="96904" stAng="-8646152" swAng="5396732"/>
                  <a:lnTo>
                    <a:pt x="529744" y="22628"/>
                  </a:lnTo>
                  <a:arcTo wR="131386" hR="79275" stAng="-8748484" swAng="5983389"/>
                  <a:lnTo>
                    <a:pt x="682988" y="13354"/>
                  </a:lnTo>
                  <a:arcTo wR="146195" hR="87943" stAng="-7859162" swAng="7034516"/>
                  <a:lnTo>
                    <a:pt x="886133" y="58169"/>
                  </a:lnTo>
                  <a:arcTo wR="160523" hR="96984" stAng="-4722537" swAng="6541625"/>
                  <a:lnTo>
                    <a:pt x="982253" y="221904"/>
                  </a:lnTo>
                  <a:arcTo wR="203927" hR="122947" stAng="-2776037" swAng="7816159"/>
                  <a:lnTo>
                    <a:pt x="893254" y="451106"/>
                  </a:lnTo>
                  <a:arcTo wR="174128" hR="104905" stAng="37496" swAng="6842007"/>
                  <a:lnTo>
                    <a:pt x="672739" y="550316"/>
                  </a:lnTo>
                  <a:arcTo wR="203235" hR="122880" stAng="1347091" swAng="6910357"/>
                  <a:lnTo>
                    <a:pt x="392679" y="583410"/>
                  </a:lnTo>
                  <a:arcTo wR="232372" hR="140589" stAng="3974559" swAng="4542652"/>
                  <a:lnTo>
                    <a:pt x="190756" y="558783"/>
                  </a:lnTo>
                  <a:arcTo wR="131236" hR="78915" stAng="5103498" swAng="8804103"/>
                  <a:lnTo>
                    <a:pt x="127799" y="408647"/>
                  </a:lnTo>
                  <a:arcTo wR="130784" hR="79275" stAng="6790288" swAng="9151172"/>
                  <a:close/>
                </a:path>
              </a:pathLst>
            </a:custGeom>
            <a:solidFill>
              <a:srgbClr val="e387ed"/>
            </a:solidFill>
            <a:ln w="12600">
              <a:solidFill>
                <a:srgbClr val="a71c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圆角矩形 1"/>
            <p:cNvSpPr/>
            <p:nvPr/>
          </p:nvSpPr>
          <p:spPr>
            <a:xfrm>
              <a:off x="533160" y="3862440"/>
              <a:ext cx="2408400" cy="1050840"/>
            </a:xfrm>
            <a:custGeom>
              <a:avLst/>
              <a:gdLst>
                <a:gd name="textAreaLeft" fmla="*/ 0 w 2408400"/>
                <a:gd name="textAreaRight" fmla="*/ 2408400 w 2408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2390581" h="1733525">
                  <a:moveTo>
                    <a:pt x="0" y="627267"/>
                  </a:moveTo>
                  <a:cubicBezTo>
                    <a:pt x="0" y="538602"/>
                    <a:pt x="71877" y="466725"/>
                    <a:pt x="160542" y="466725"/>
                  </a:cubicBezTo>
                  <a:cubicBezTo>
                    <a:pt x="610260" y="352425"/>
                    <a:pt x="1641002" y="0"/>
                    <a:pt x="2328845" y="0"/>
                  </a:cubicBezTo>
                  <a:cubicBezTo>
                    <a:pt x="2417510" y="0"/>
                    <a:pt x="2384612" y="538602"/>
                    <a:pt x="2384612" y="627267"/>
                  </a:cubicBezTo>
                  <a:lnTo>
                    <a:pt x="2384612" y="1572983"/>
                  </a:lnTo>
                  <a:cubicBezTo>
                    <a:pt x="2384612" y="1661648"/>
                    <a:pt x="2312735" y="1733525"/>
                    <a:pt x="2224070" y="1733525"/>
                  </a:cubicBezTo>
                  <a:lnTo>
                    <a:pt x="160542" y="1733525"/>
                  </a:lnTo>
                  <a:cubicBezTo>
                    <a:pt x="71877" y="1733525"/>
                    <a:pt x="0" y="1661648"/>
                    <a:pt x="0" y="1572983"/>
                  </a:cubicBezTo>
                  <a:lnTo>
                    <a:pt x="0" y="627267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083760" y="1410840"/>
            <a:ext cx="2797920" cy="3502440"/>
            <a:chOff x="3083760" y="1410840"/>
            <a:chExt cx="2797920" cy="3502440"/>
          </a:xfrm>
        </p:grpSpPr>
        <p:sp>
          <p:nvSpPr>
            <p:cNvPr id="124" name="圆角矩形 65"/>
            <p:cNvSpPr/>
            <p:nvPr/>
          </p:nvSpPr>
          <p:spPr>
            <a:xfrm>
              <a:off x="347328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云形 66"/>
            <p:cNvSpPr/>
            <p:nvPr/>
          </p:nvSpPr>
          <p:spPr>
            <a:xfrm rot="20772600">
              <a:off x="3133440" y="1557360"/>
              <a:ext cx="1300680" cy="576000"/>
            </a:xfrm>
            <a:custGeom>
              <a:avLst/>
              <a:gdLst>
                <a:gd name="textAreaLeft" fmla="*/ 0 w 1300680"/>
                <a:gd name="textAreaRight" fmla="*/ 1301040 w 130068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1300318" h="576064">
                  <a:moveTo>
                    <a:pt x="117389" y="191621"/>
                  </a:moveTo>
                  <a:lnTo>
                    <a:pt x="117388" y="191621"/>
                  </a:lnTo>
                  <a:arcTo wR="203265" hR="122547" stAng="10170760" swAng="7426822"/>
                  <a:lnTo>
                    <a:pt x="362766" y="37036"/>
                  </a:lnTo>
                  <a:arcTo wR="160523" hR="96904" stAng="-8646152" swAng="5396732"/>
                  <a:lnTo>
                    <a:pt x="529744" y="22628"/>
                  </a:lnTo>
                  <a:arcTo wR="131386" hR="79275" stAng="-8748484" swAng="5983389"/>
                  <a:lnTo>
                    <a:pt x="682988" y="13354"/>
                  </a:lnTo>
                  <a:arcTo wR="146195" hR="87943" stAng="-7859162" swAng="7034516"/>
                  <a:lnTo>
                    <a:pt x="886133" y="58169"/>
                  </a:lnTo>
                  <a:arcTo wR="160523" hR="96984" stAng="-4722537" swAng="6541625"/>
                  <a:lnTo>
                    <a:pt x="982253" y="221904"/>
                  </a:lnTo>
                  <a:arcTo wR="203927" hR="122947" stAng="-2776037" swAng="7816159"/>
                  <a:lnTo>
                    <a:pt x="893254" y="451106"/>
                  </a:lnTo>
                  <a:arcTo wR="174128" hR="104905" stAng="37496" swAng="6842007"/>
                  <a:lnTo>
                    <a:pt x="672739" y="550316"/>
                  </a:lnTo>
                  <a:arcTo wR="203235" hR="122880" stAng="1347091" swAng="6910357"/>
                  <a:lnTo>
                    <a:pt x="392679" y="583410"/>
                  </a:lnTo>
                  <a:arcTo wR="232372" hR="140589" stAng="3974559" swAng="4542652"/>
                  <a:lnTo>
                    <a:pt x="190756" y="558783"/>
                  </a:lnTo>
                  <a:arcTo wR="131236" hR="78915" stAng="5103498" swAng="8804103"/>
                  <a:lnTo>
                    <a:pt x="127799" y="408647"/>
                  </a:lnTo>
                  <a:arcTo wR="130784" hR="79275" stAng="6790288" swAng="9151172"/>
                  <a:close/>
                </a:path>
              </a:pathLst>
            </a:custGeom>
            <a:solidFill>
              <a:srgbClr val="76923c"/>
            </a:solidFill>
            <a:ln w="12600">
              <a:solidFill>
                <a:srgbClr val="4f6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圆角矩形 1"/>
            <p:cNvSpPr/>
            <p:nvPr/>
          </p:nvSpPr>
          <p:spPr>
            <a:xfrm>
              <a:off x="3473280" y="3862440"/>
              <a:ext cx="2408400" cy="1050840"/>
            </a:xfrm>
            <a:custGeom>
              <a:avLst/>
              <a:gdLst>
                <a:gd name="textAreaLeft" fmla="*/ 0 w 2408400"/>
                <a:gd name="textAreaRight" fmla="*/ 2408400 w 2408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2390581" h="1733525">
                  <a:moveTo>
                    <a:pt x="0" y="627267"/>
                  </a:moveTo>
                  <a:cubicBezTo>
                    <a:pt x="0" y="538602"/>
                    <a:pt x="71877" y="466725"/>
                    <a:pt x="160542" y="466725"/>
                  </a:cubicBezTo>
                  <a:cubicBezTo>
                    <a:pt x="610260" y="352425"/>
                    <a:pt x="1641002" y="0"/>
                    <a:pt x="2328845" y="0"/>
                  </a:cubicBezTo>
                  <a:cubicBezTo>
                    <a:pt x="2417510" y="0"/>
                    <a:pt x="2384612" y="538602"/>
                    <a:pt x="2384612" y="627267"/>
                  </a:cubicBezTo>
                  <a:lnTo>
                    <a:pt x="2384612" y="1572983"/>
                  </a:lnTo>
                  <a:cubicBezTo>
                    <a:pt x="2384612" y="1661648"/>
                    <a:pt x="2312735" y="1733525"/>
                    <a:pt x="2224070" y="1733525"/>
                  </a:cubicBezTo>
                  <a:lnTo>
                    <a:pt x="160542" y="1733525"/>
                  </a:lnTo>
                  <a:cubicBezTo>
                    <a:pt x="71877" y="1733525"/>
                    <a:pt x="0" y="1661648"/>
                    <a:pt x="0" y="1572983"/>
                  </a:cubicBezTo>
                  <a:lnTo>
                    <a:pt x="0" y="627267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023880" y="1410840"/>
            <a:ext cx="2796120" cy="3502440"/>
            <a:chOff x="6023880" y="1410840"/>
            <a:chExt cx="2796120" cy="3502440"/>
          </a:xfrm>
        </p:grpSpPr>
        <p:sp>
          <p:nvSpPr>
            <p:cNvPr id="128" name="圆角矩形 71"/>
            <p:cNvSpPr/>
            <p:nvPr/>
          </p:nvSpPr>
          <p:spPr>
            <a:xfrm>
              <a:off x="6413040" y="1815840"/>
              <a:ext cx="2383560" cy="3097440"/>
            </a:xfrm>
            <a:custGeom>
              <a:avLst/>
              <a:gdLst>
                <a:gd name="textAreaLeft" fmla="*/ 41040 w 2383560"/>
                <a:gd name="textAreaRight" fmla="*/ 2342520 w 238356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68">
                  <a:moveTo>
                    <a:pt x="1278" y="0"/>
                  </a:moveTo>
                  <a:arcTo wR="1278" hR="1278" stAng="16200000" swAng="-5400000"/>
                  <a:lnTo>
                    <a:pt x="0" y="26790"/>
                  </a:lnTo>
                  <a:arcTo wR="1278" hR="1278" stAng="10800000" swAng="-5400000"/>
                  <a:lnTo>
                    <a:pt x="20322" y="28068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云形 72"/>
            <p:cNvSpPr/>
            <p:nvPr/>
          </p:nvSpPr>
          <p:spPr>
            <a:xfrm rot="20772600">
              <a:off x="6073560" y="1557000"/>
              <a:ext cx="1299600" cy="576000"/>
            </a:xfrm>
            <a:custGeom>
              <a:avLst/>
              <a:gdLst>
                <a:gd name="textAreaLeft" fmla="*/ 0 w 1299600"/>
                <a:gd name="textAreaRight" fmla="*/ 1299960 w 129960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1300318" h="576064">
                  <a:moveTo>
                    <a:pt x="117389" y="191621"/>
                  </a:moveTo>
                  <a:lnTo>
                    <a:pt x="117388" y="191621"/>
                  </a:lnTo>
                  <a:arcTo wR="203265" hR="122547" stAng="10170760" swAng="7426822"/>
                  <a:lnTo>
                    <a:pt x="362766" y="37036"/>
                  </a:lnTo>
                  <a:arcTo wR="160523" hR="96904" stAng="-8646152" swAng="5396732"/>
                  <a:lnTo>
                    <a:pt x="529744" y="22628"/>
                  </a:lnTo>
                  <a:arcTo wR="131386" hR="79275" stAng="-8748484" swAng="5983389"/>
                  <a:lnTo>
                    <a:pt x="682988" y="13354"/>
                  </a:lnTo>
                  <a:arcTo wR="146195" hR="87943" stAng="-7859162" swAng="7034516"/>
                  <a:lnTo>
                    <a:pt x="886133" y="58169"/>
                  </a:lnTo>
                  <a:arcTo wR="160523" hR="96984" stAng="-4722537" swAng="6541625"/>
                  <a:lnTo>
                    <a:pt x="982253" y="221904"/>
                  </a:lnTo>
                  <a:arcTo wR="203927" hR="122947" stAng="-2776037" swAng="7816159"/>
                  <a:lnTo>
                    <a:pt x="893254" y="451106"/>
                  </a:lnTo>
                  <a:arcTo wR="174128" hR="104905" stAng="37496" swAng="6842007"/>
                  <a:lnTo>
                    <a:pt x="672739" y="550316"/>
                  </a:lnTo>
                  <a:arcTo wR="203235" hR="122880" stAng="1347091" swAng="6910357"/>
                  <a:lnTo>
                    <a:pt x="392679" y="583410"/>
                  </a:lnTo>
                  <a:arcTo wR="232372" hR="140589" stAng="3974559" swAng="4542652"/>
                  <a:lnTo>
                    <a:pt x="190756" y="558783"/>
                  </a:lnTo>
                  <a:arcTo wR="131236" hR="78915" stAng="5103498" swAng="8804103"/>
                  <a:lnTo>
                    <a:pt x="127799" y="408647"/>
                  </a:lnTo>
                  <a:arcTo wR="130784" hR="79275" stAng="6790288" swAng="9151172"/>
                  <a:close/>
                </a:path>
              </a:pathLst>
            </a:custGeom>
            <a:solidFill>
              <a:srgbClr val="d99593"/>
            </a:solidFill>
            <a:ln w="12600">
              <a:solidFill>
                <a:srgbClr val="9537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圆角矩形 1"/>
            <p:cNvSpPr/>
            <p:nvPr/>
          </p:nvSpPr>
          <p:spPr>
            <a:xfrm>
              <a:off x="6413040" y="3862440"/>
              <a:ext cx="2406960" cy="1050840"/>
            </a:xfrm>
            <a:custGeom>
              <a:avLst/>
              <a:gdLst>
                <a:gd name="textAreaLeft" fmla="*/ 0 w 2406960"/>
                <a:gd name="textAreaRight" fmla="*/ 2407320 w 240696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2390581" h="1733525">
                  <a:moveTo>
                    <a:pt x="0" y="627267"/>
                  </a:moveTo>
                  <a:cubicBezTo>
                    <a:pt x="0" y="538602"/>
                    <a:pt x="71877" y="466725"/>
                    <a:pt x="160542" y="466725"/>
                  </a:cubicBezTo>
                  <a:cubicBezTo>
                    <a:pt x="610260" y="352425"/>
                    <a:pt x="1641002" y="0"/>
                    <a:pt x="2328845" y="0"/>
                  </a:cubicBezTo>
                  <a:cubicBezTo>
                    <a:pt x="2417510" y="0"/>
                    <a:pt x="2384612" y="538602"/>
                    <a:pt x="2384612" y="627267"/>
                  </a:cubicBezTo>
                  <a:lnTo>
                    <a:pt x="2384612" y="1572983"/>
                  </a:lnTo>
                  <a:cubicBezTo>
                    <a:pt x="2384612" y="1661648"/>
                    <a:pt x="2312735" y="1733525"/>
                    <a:pt x="2224070" y="1733525"/>
                  </a:cubicBezTo>
                  <a:lnTo>
                    <a:pt x="160542" y="1733525"/>
                  </a:lnTo>
                  <a:cubicBezTo>
                    <a:pt x="71877" y="1733525"/>
                    <a:pt x="0" y="1661648"/>
                    <a:pt x="0" y="1572983"/>
                  </a:cubicBezTo>
                  <a:lnTo>
                    <a:pt x="0" y="627267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27080" y="1146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133" name="椭圆 90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91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92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93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94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5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40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25560" y="1560600"/>
            <a:ext cx="2076480" cy="1044360"/>
            <a:chOff x="925560" y="1560600"/>
            <a:chExt cx="2076480" cy="1044360"/>
          </a:xfrm>
        </p:grpSpPr>
        <p:sp>
          <p:nvSpPr>
            <p:cNvPr id="148" name="椭圆 10"/>
            <p:cNvSpPr/>
            <p:nvPr/>
          </p:nvSpPr>
          <p:spPr>
            <a:xfrm>
              <a:off x="925560" y="1589400"/>
              <a:ext cx="2076480" cy="10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616040" y="1560600"/>
              <a:ext cx="687960" cy="595800"/>
              <a:chOff x="1616040" y="1560600"/>
              <a:chExt cx="687960" cy="595800"/>
            </a:xfrm>
          </p:grpSpPr>
          <p:sp>
            <p:nvSpPr>
              <p:cNvPr id="150" name="任意多边形 29"/>
              <p:cNvSpPr/>
              <p:nvPr/>
            </p:nvSpPr>
            <p:spPr>
              <a:xfrm>
                <a:off x="1616040" y="1730160"/>
                <a:ext cx="347400" cy="41688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416880"/>
                  <a:gd name="textAreaBottom" fmla="*/ 417240 h 416880"/>
                </a:gdLst>
                <a:ahLst/>
                <a:rect l="textAreaLeft" t="textAreaTop" r="textAreaRight" b="textAreaBottom"/>
                <a:pathLst>
                  <a:path w="1145628" h="1568011">
                    <a:moveTo>
                      <a:pt x="1011" y="0"/>
                    </a:moveTo>
                    <a:lnTo>
                      <a:pt x="1145628" y="685142"/>
                    </a:lnTo>
                    <a:lnTo>
                      <a:pt x="1145628" y="1568011"/>
                    </a:lnTo>
                    <a:lnTo>
                      <a:pt x="0" y="580039"/>
                    </a:lnTo>
                    <a:lnTo>
                      <a:pt x="10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任意多边形 30"/>
              <p:cNvSpPr/>
              <p:nvPr/>
            </p:nvSpPr>
            <p:spPr>
              <a:xfrm>
                <a:off x="1969920" y="1727640"/>
                <a:ext cx="334080" cy="428760"/>
              </a:xfrm>
              <a:custGeom>
                <a:avLst/>
                <a:gdLst>
                  <a:gd name="textAreaLeft" fmla="*/ 0 w 334080"/>
                  <a:gd name="textAreaRight" fmla="*/ 334440 w 33408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1072056" h="1611448">
                    <a:moveTo>
                      <a:pt x="0" y="725214"/>
                    </a:moveTo>
                    <a:cubicBezTo>
                      <a:pt x="1541" y="1019038"/>
                      <a:pt x="771" y="1317624"/>
                      <a:pt x="2312" y="1611448"/>
                    </a:cubicBezTo>
                    <a:lnTo>
                      <a:pt x="1072056" y="588580"/>
                    </a:lnTo>
                    <a:lnTo>
                      <a:pt x="1072056" y="0"/>
                    </a:lnTo>
                    <a:lnTo>
                      <a:pt x="0" y="72521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任意多边形 31"/>
              <p:cNvSpPr/>
              <p:nvPr/>
            </p:nvSpPr>
            <p:spPr>
              <a:xfrm>
                <a:off x="1622880" y="1560600"/>
                <a:ext cx="681120" cy="356400"/>
              </a:xfrm>
              <a:custGeom>
                <a:avLst/>
                <a:gdLst>
                  <a:gd name="textAreaLeft" fmla="*/ 0 w 681120"/>
                  <a:gd name="textAreaRight" fmla="*/ 681120 w 68112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2753711" h="1639613">
                    <a:moveTo>
                      <a:pt x="1397876" y="1639613"/>
                    </a:moveTo>
                    <a:lnTo>
                      <a:pt x="0" y="777765"/>
                    </a:lnTo>
                    <a:lnTo>
                      <a:pt x="1366345" y="0"/>
                    </a:lnTo>
                    <a:lnTo>
                      <a:pt x="2753711" y="735724"/>
                    </a:lnTo>
                    <a:lnTo>
                      <a:pt x="1397876" y="16396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838080" y="2855880"/>
            <a:ext cx="2279880" cy="1285920"/>
            <a:chOff x="838080" y="2855880"/>
            <a:chExt cx="2279880" cy="1285920"/>
          </a:xfrm>
        </p:grpSpPr>
        <p:sp>
          <p:nvSpPr>
            <p:cNvPr id="154" name="椭圆 10"/>
            <p:cNvSpPr/>
            <p:nvPr/>
          </p:nvSpPr>
          <p:spPr>
            <a:xfrm>
              <a:off x="838080" y="3102480"/>
              <a:ext cx="2279880" cy="103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512360" y="2855880"/>
              <a:ext cx="930600" cy="767520"/>
              <a:chOff x="1512360" y="2855880"/>
              <a:chExt cx="930600" cy="767520"/>
            </a:xfrm>
          </p:grpSpPr>
          <p:sp>
            <p:nvSpPr>
              <p:cNvPr id="156" name="任意多边形 33"/>
              <p:cNvSpPr/>
              <p:nvPr/>
            </p:nvSpPr>
            <p:spPr>
              <a:xfrm>
                <a:off x="1512360" y="3083760"/>
                <a:ext cx="474480" cy="53964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145628" h="1568011">
                    <a:moveTo>
                      <a:pt x="1011" y="0"/>
                    </a:moveTo>
                    <a:lnTo>
                      <a:pt x="1145628" y="685142"/>
                    </a:lnTo>
                    <a:lnTo>
                      <a:pt x="1145628" y="1568011"/>
                    </a:lnTo>
                    <a:lnTo>
                      <a:pt x="0" y="580039"/>
                    </a:lnTo>
                    <a:lnTo>
                      <a:pt x="10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任意多边形 34"/>
              <p:cNvSpPr/>
              <p:nvPr/>
            </p:nvSpPr>
            <p:spPr>
              <a:xfrm>
                <a:off x="1986840" y="3067560"/>
                <a:ext cx="456120" cy="554400"/>
              </a:xfrm>
              <a:custGeom>
                <a:avLst/>
                <a:gdLst>
                  <a:gd name="textAreaLeft" fmla="*/ 0 w 456120"/>
                  <a:gd name="textAreaRight" fmla="*/ 456480 w 456120"/>
                  <a:gd name="textAreaTop" fmla="*/ 0 h 554400"/>
                  <a:gd name="textAreaBottom" fmla="*/ 554760 h 554400"/>
                </a:gdLst>
                <a:ahLst/>
                <a:rect l="textAreaLeft" t="textAreaTop" r="textAreaRight" b="textAreaBottom"/>
                <a:pathLst>
                  <a:path w="1072056" h="1611448">
                    <a:moveTo>
                      <a:pt x="0" y="725214"/>
                    </a:moveTo>
                    <a:cubicBezTo>
                      <a:pt x="1541" y="1019038"/>
                      <a:pt x="771" y="1317624"/>
                      <a:pt x="2312" y="1611448"/>
                    </a:cubicBezTo>
                    <a:lnTo>
                      <a:pt x="1072056" y="588580"/>
                    </a:lnTo>
                    <a:lnTo>
                      <a:pt x="1072056" y="0"/>
                    </a:lnTo>
                    <a:lnTo>
                      <a:pt x="0" y="72521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任意多边形 35"/>
              <p:cNvSpPr/>
              <p:nvPr/>
            </p:nvSpPr>
            <p:spPr>
              <a:xfrm>
                <a:off x="1512360" y="2855880"/>
                <a:ext cx="930600" cy="461160"/>
              </a:xfrm>
              <a:custGeom>
                <a:avLst/>
                <a:gdLst>
                  <a:gd name="textAreaLeft" fmla="*/ 0 w 930600"/>
                  <a:gd name="textAreaRight" fmla="*/ 930960 w 930600"/>
                  <a:gd name="textAreaTop" fmla="*/ 0 h 461160"/>
                  <a:gd name="textAreaBottom" fmla="*/ 461520 h 461160"/>
                </a:gdLst>
                <a:ahLst/>
                <a:rect l="textAreaLeft" t="textAreaTop" r="textAreaRight" b="textAreaBottom"/>
                <a:pathLst>
                  <a:path w="2753711" h="1639613">
                    <a:moveTo>
                      <a:pt x="1397876" y="1639613"/>
                    </a:moveTo>
                    <a:lnTo>
                      <a:pt x="0" y="777765"/>
                    </a:lnTo>
                    <a:lnTo>
                      <a:pt x="1366345" y="0"/>
                    </a:lnTo>
                    <a:lnTo>
                      <a:pt x="2753711" y="735724"/>
                    </a:lnTo>
                    <a:lnTo>
                      <a:pt x="1397876" y="16396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650880" y="4141800"/>
            <a:ext cx="2622600" cy="1770120"/>
            <a:chOff x="650880" y="4141800"/>
            <a:chExt cx="2622600" cy="1770120"/>
          </a:xfrm>
        </p:grpSpPr>
        <p:sp>
          <p:nvSpPr>
            <p:cNvPr id="160" name="椭圆 10"/>
            <p:cNvSpPr/>
            <p:nvPr/>
          </p:nvSpPr>
          <p:spPr>
            <a:xfrm>
              <a:off x="650880" y="4715640"/>
              <a:ext cx="2622600" cy="119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213560" y="4141800"/>
              <a:ext cx="1510920" cy="1222560"/>
              <a:chOff x="1213560" y="4141800"/>
              <a:chExt cx="1510920" cy="1222560"/>
            </a:xfrm>
          </p:grpSpPr>
          <p:sp>
            <p:nvSpPr>
              <p:cNvPr id="162" name="任意多边形 39"/>
              <p:cNvSpPr/>
              <p:nvPr/>
            </p:nvSpPr>
            <p:spPr>
              <a:xfrm>
                <a:off x="1213560" y="4495320"/>
                <a:ext cx="763560" cy="86904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869040"/>
                  <a:gd name="textAreaBottom" fmla="*/ 869400 h 869040"/>
                </a:gdLst>
                <a:ahLst/>
                <a:rect l="textAreaLeft" t="textAreaTop" r="textAreaRight" b="textAreaBottom"/>
                <a:pathLst>
                  <a:path w="1145628" h="1568011">
                    <a:moveTo>
                      <a:pt x="1011" y="0"/>
                    </a:moveTo>
                    <a:lnTo>
                      <a:pt x="1145628" y="685142"/>
                    </a:lnTo>
                    <a:lnTo>
                      <a:pt x="1145628" y="1568011"/>
                    </a:lnTo>
                    <a:lnTo>
                      <a:pt x="0" y="580039"/>
                    </a:lnTo>
                    <a:lnTo>
                      <a:pt x="10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任意多边形 40"/>
              <p:cNvSpPr/>
              <p:nvPr/>
            </p:nvSpPr>
            <p:spPr>
              <a:xfrm>
                <a:off x="1976040" y="4471200"/>
                <a:ext cx="734400" cy="893160"/>
              </a:xfrm>
              <a:custGeom>
                <a:avLst/>
                <a:gdLst>
                  <a:gd name="textAreaLeft" fmla="*/ 0 w 734400"/>
                  <a:gd name="textAreaRight" fmla="*/ 734760 w 734400"/>
                  <a:gd name="textAreaTop" fmla="*/ 0 h 893160"/>
                  <a:gd name="textAreaBottom" fmla="*/ 893520 h 893160"/>
                </a:gdLst>
                <a:ahLst/>
                <a:rect l="textAreaLeft" t="textAreaTop" r="textAreaRight" b="textAreaBottom"/>
                <a:pathLst>
                  <a:path w="1072056" h="1611448">
                    <a:moveTo>
                      <a:pt x="0" y="725214"/>
                    </a:moveTo>
                    <a:cubicBezTo>
                      <a:pt x="1541" y="1019038"/>
                      <a:pt x="771" y="1317624"/>
                      <a:pt x="2312" y="1611448"/>
                    </a:cubicBezTo>
                    <a:lnTo>
                      <a:pt x="1072056" y="588580"/>
                    </a:lnTo>
                    <a:lnTo>
                      <a:pt x="1072056" y="0"/>
                    </a:lnTo>
                    <a:lnTo>
                      <a:pt x="0" y="72521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任意多边形 41"/>
              <p:cNvSpPr/>
              <p:nvPr/>
            </p:nvSpPr>
            <p:spPr>
              <a:xfrm>
                <a:off x="1227240" y="4141800"/>
                <a:ext cx="1497240" cy="743040"/>
              </a:xfrm>
              <a:custGeom>
                <a:avLst/>
                <a:gdLst>
                  <a:gd name="textAreaLeft" fmla="*/ 0 w 1497240"/>
                  <a:gd name="textAreaRight" fmla="*/ 1497600 w 149724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2753711" h="1639613">
                    <a:moveTo>
                      <a:pt x="1397876" y="1639613"/>
                    </a:moveTo>
                    <a:lnTo>
                      <a:pt x="0" y="777765"/>
                    </a:lnTo>
                    <a:lnTo>
                      <a:pt x="1366345" y="0"/>
                    </a:lnTo>
                    <a:lnTo>
                      <a:pt x="2753711" y="735724"/>
                    </a:lnTo>
                    <a:lnTo>
                      <a:pt x="1397876" y="16396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166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32"/>
            <p:cNvSpPr/>
            <p:nvPr/>
          </p:nvSpPr>
          <p:spPr>
            <a:xfrm>
              <a:off x="5162400" y="14796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173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32"/>
            <p:cNvSpPr/>
            <p:nvPr/>
          </p:nvSpPr>
          <p:spPr>
            <a:xfrm>
              <a:off x="5162400" y="29019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180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32"/>
            <p:cNvSpPr/>
            <p:nvPr/>
          </p:nvSpPr>
          <p:spPr>
            <a:xfrm>
              <a:off x="5162400" y="4324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190" name="椭圆 75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76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77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78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79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80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97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43"/>
          <p:cNvSpPr/>
          <p:nvPr/>
        </p:nvSpPr>
        <p:spPr>
          <a:xfrm>
            <a:off x="-312840" y="1417680"/>
            <a:ext cx="9780840" cy="996840"/>
          </a:xfrm>
          <a:custGeom>
            <a:avLst/>
            <a:gdLst>
              <a:gd name="textAreaLeft" fmla="*/ 0 w 9780840"/>
              <a:gd name="textAreaRight" fmla="*/ 9781200 w 978084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9734550" h="1356600">
                <a:moveTo>
                  <a:pt x="0" y="638175"/>
                </a:moveTo>
                <a:cubicBezTo>
                  <a:pt x="1112044" y="974725"/>
                  <a:pt x="2224088" y="1311275"/>
                  <a:pt x="3333750" y="1352550"/>
                </a:cubicBezTo>
                <a:cubicBezTo>
                  <a:pt x="4443412" y="1393825"/>
                  <a:pt x="5591175" y="1111250"/>
                  <a:pt x="6657975" y="885825"/>
                </a:cubicBezTo>
                <a:cubicBezTo>
                  <a:pt x="7724775" y="660400"/>
                  <a:pt x="9191625" y="58737"/>
                  <a:pt x="9734550" y="0"/>
                </a:cubicBezTo>
              </a:path>
            </a:pathLst>
          </a:custGeom>
          <a:noFill/>
          <a:ln w="284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206" name="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207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209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1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TextBox 60"/>
            <p:cNvSpPr/>
            <p:nvPr/>
          </p:nvSpPr>
          <p:spPr>
            <a:xfrm rot="20959800">
              <a:off x="644004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217" name="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218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9" name="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220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2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6" name="TextBox 94"/>
            <p:cNvSpPr/>
            <p:nvPr/>
          </p:nvSpPr>
          <p:spPr>
            <a:xfrm rot="20959800">
              <a:off x="3350520" y="3525840"/>
              <a:ext cx="1140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228" name="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229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0" name="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231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3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" name="TextBox 95"/>
            <p:cNvSpPr/>
            <p:nvPr/>
          </p:nvSpPr>
          <p:spPr>
            <a:xfrm rot="20959800">
              <a:off x="850680" y="315720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96880" y="1774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241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248" name="椭圆 106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椭圆 107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108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109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110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11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5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263" name="圆角矩形 52"/>
            <p:cNvSpPr/>
            <p:nvPr/>
          </p:nvSpPr>
          <p:spPr>
            <a:xfrm>
              <a:off x="5216400" y="2155680"/>
              <a:ext cx="3316320" cy="6494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Box 57"/>
            <p:cNvSpPr/>
            <p:nvPr/>
          </p:nvSpPr>
          <p:spPr>
            <a:xfrm>
              <a:off x="650952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16400" y="3784680"/>
            <a:ext cx="3316320" cy="659880"/>
            <a:chOff x="5216400" y="3784680"/>
            <a:chExt cx="3316320" cy="659880"/>
          </a:xfrm>
        </p:grpSpPr>
        <p:sp>
          <p:nvSpPr>
            <p:cNvPr id="267" name="圆角矩形 59"/>
            <p:cNvSpPr/>
            <p:nvPr/>
          </p:nvSpPr>
          <p:spPr>
            <a:xfrm>
              <a:off x="5216400" y="3784680"/>
              <a:ext cx="33163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Box 65"/>
            <p:cNvSpPr/>
            <p:nvPr/>
          </p:nvSpPr>
          <p:spPr>
            <a:xfrm>
              <a:off x="6509520" y="392400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11840" y="3798720"/>
            <a:ext cx="3315600" cy="649440"/>
            <a:chOff x="411840" y="3798720"/>
            <a:chExt cx="3315600" cy="649440"/>
          </a:xfrm>
        </p:grpSpPr>
        <p:sp>
          <p:nvSpPr>
            <p:cNvPr id="271" name="圆角矩形 96"/>
            <p:cNvSpPr/>
            <p:nvPr/>
          </p:nvSpPr>
          <p:spPr>
            <a:xfrm>
              <a:off x="411840" y="3798720"/>
              <a:ext cx="331560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Box 98"/>
            <p:cNvSpPr/>
            <p:nvPr/>
          </p:nvSpPr>
          <p:spPr>
            <a:xfrm>
              <a:off x="4996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11840" y="2171880"/>
            <a:ext cx="3315600" cy="647640"/>
            <a:chOff x="411840" y="2171880"/>
            <a:chExt cx="3315600" cy="647640"/>
          </a:xfrm>
        </p:grpSpPr>
        <p:sp>
          <p:nvSpPr>
            <p:cNvPr id="275" name="圆角矩形 102"/>
            <p:cNvSpPr/>
            <p:nvPr/>
          </p:nvSpPr>
          <p:spPr>
            <a:xfrm>
              <a:off x="411840" y="2171880"/>
              <a:ext cx="331560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6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Box 104"/>
            <p:cNvSpPr/>
            <p:nvPr/>
          </p:nvSpPr>
          <p:spPr>
            <a:xfrm>
              <a:off x="4996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279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286" name="椭圆 22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23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24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25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26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27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9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0840" y="1389240"/>
            <a:ext cx="8040600" cy="2341440"/>
            <a:chOff x="420840" y="1389240"/>
            <a:chExt cx="8040600" cy="2341440"/>
          </a:xfrm>
        </p:grpSpPr>
        <p:pic>
          <p:nvPicPr>
            <p:cNvPr id="301" name="图片 28" descr=""/>
            <p:cNvPicPr/>
            <p:nvPr/>
          </p:nvPicPr>
          <p:blipFill>
            <a:blip r:embed="rId2"/>
            <a:stretch/>
          </p:blipFill>
          <p:spPr>
            <a:xfrm>
              <a:off x="3165480" y="1642680"/>
              <a:ext cx="2251800" cy="1834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302" name="图片 29" descr=""/>
            <p:cNvPicPr/>
            <p:nvPr/>
          </p:nvPicPr>
          <p:blipFill>
            <a:blip r:embed="rId3"/>
            <a:stretch/>
          </p:blipFill>
          <p:spPr>
            <a:xfrm>
              <a:off x="5417280" y="1389240"/>
              <a:ext cx="3044160" cy="2341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303" name="图片 30" descr=""/>
            <p:cNvPicPr/>
            <p:nvPr/>
          </p:nvPicPr>
          <p:blipFill>
            <a:blip r:embed="rId4"/>
            <a:stretch/>
          </p:blipFill>
          <p:spPr>
            <a:xfrm>
              <a:off x="1469160" y="1854720"/>
              <a:ext cx="1735560" cy="1429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304" name="图片 31" descr=""/>
            <p:cNvPicPr/>
            <p:nvPr/>
          </p:nvPicPr>
          <p:blipFill>
            <a:blip r:embed="rId5"/>
            <a:stretch/>
          </p:blipFill>
          <p:spPr>
            <a:xfrm>
              <a:off x="420840" y="198432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305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307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309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TextBox 48"/>
          <p:cNvSpPr/>
          <p:nvPr/>
        </p:nvSpPr>
        <p:spPr>
          <a:xfrm>
            <a:off x="1220760" y="371484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5"/>
          <p:cNvSpPr/>
          <p:nvPr/>
        </p:nvSpPr>
        <p:spPr>
          <a:xfrm>
            <a:off x="870120" y="4386240"/>
            <a:ext cx="73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DFB7-729B-4C59-8DBD-19D0647170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317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324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5"/>
          <p:cNvSpPr/>
          <p:nvPr/>
        </p:nvSpPr>
        <p:spPr>
          <a:xfrm>
            <a:off x="3581640" y="1508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再次感谢指导和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3663720" y="202248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4:55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