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0634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467-AB88-4A82-AB0A-228C2944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3360" y="414072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49E-C22D-4D30-90E4-150DE97A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9612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5B8-B26E-4176-89DA-BF56D61A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184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6032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336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184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6032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C96-9696-4FAD-BD91-A12F0DE6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D7A-D609-437E-8F9A-3B3D3795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5988-4279-4CC9-ACFA-EBBF5EF5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4FFB-8CC3-40AE-96DF-55D97CB6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14B-97DA-49FD-9A42-7D63EA4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BF38-1382-462E-B618-2F68DE2A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3360" y="320400"/>
            <a:ext cx="954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41BE-34E2-48A5-B50B-4E8277E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34BE-8E63-4E39-A23F-8679E30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677-15B1-4029-9F5D-BCFB5FA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9612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75D1-453E-4DCE-8F5F-443D9B4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CA64-5994-483B-B881-CDF2A04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3360" y="414072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61E1-F3CA-4B9B-816D-4A3AB80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9612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244B-3059-44D4-81F6-A18239C7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3184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6032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336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3184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6032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2B95-4EBB-46BC-A03D-C30A81FB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884-AB72-4C91-9A2A-F59D366D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3360" y="320400"/>
            <a:ext cx="954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9612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3360" y="414072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9612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3184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60320" y="160920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336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3184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60320" y="4140720"/>
            <a:ext cx="3074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7EC-01D9-401D-B8BC-B9A7E01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360-5278-4041-AEA1-D015AB3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3360" y="320400"/>
            <a:ext cx="954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8F5-9D74-4854-9D27-FAE06B07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5F1-1554-40E3-9578-AB4DD9EF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6120" y="414072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9FD-A2C5-406F-8EB5-579C6992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336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6120" y="1609200"/>
            <a:ext cx="46594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3360" y="4140720"/>
            <a:ext cx="9548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6F8-1405-45EE-9061-DB71CB6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000" y="274320"/>
            <a:ext cx="108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1600200"/>
            <a:ext cx="1085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3360" y="6244920"/>
            <a:ext cx="2814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20920" y="6244920"/>
            <a:ext cx="381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3960" y="6244920"/>
            <a:ext cx="2814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AD04-BC48-4A3F-9800-9FDDE8F92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12061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3000" y="274320"/>
            <a:ext cx="108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3000" y="1600200"/>
            <a:ext cx="1085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3360" y="6244920"/>
            <a:ext cx="2814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20920" y="6244920"/>
            <a:ext cx="381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3960" y="6244920"/>
            <a:ext cx="2814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0E4-6C42-489D-A0B9-18F8775A95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6480" y="9360"/>
            <a:ext cx="1205532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6480" y="9360"/>
            <a:ext cx="1205532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3360" y="320400"/>
            <a:ext cx="9548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3360" y="1609200"/>
            <a:ext cx="95486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80" y="9360"/>
            <a:ext cx="12055320" cy="684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5094360" y="2852640"/>
            <a:ext cx="1957320" cy="1285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"/>
          <p:cNvSpPr/>
          <p:nvPr/>
        </p:nvSpPr>
        <p:spPr>
          <a:xfrm>
            <a:off x="4591080" y="1916280"/>
            <a:ext cx="2984400" cy="2984400"/>
          </a:xfrm>
          <a:custGeom>
            <a:avLst/>
            <a:gdLst>
              <a:gd name="textAreaLeft" fmla="*/ 437040 w 2984400"/>
              <a:gd name="textAreaRight" fmla="*/ 2547360 w 2984400"/>
              <a:gd name="textAreaTop" fmla="*/ 437040 h 2984400"/>
              <a:gd name="textAreaBottom" fmla="*/ 2547360 h 298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9" y="10800"/>
                </a:moveTo>
                <a:cubicBezTo>
                  <a:pt x="919" y="16257"/>
                  <a:pt x="5343" y="20681"/>
                  <a:pt x="10800" y="20681"/>
                </a:cubicBezTo>
                <a:cubicBezTo>
                  <a:pt x="16257" y="20681"/>
                  <a:pt x="20681" y="16257"/>
                  <a:pt x="20681" y="10800"/>
                </a:cubicBezTo>
                <a:cubicBezTo>
                  <a:pt x="20681" y="5343"/>
                  <a:pt x="16257" y="919"/>
                  <a:pt x="10800" y="919"/>
                </a:cubicBezTo>
                <a:cubicBezTo>
                  <a:pt x="5343" y="919"/>
                  <a:pt x="919" y="5343"/>
                  <a:pt x="919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951440" y="2276640"/>
            <a:ext cx="2265480" cy="2265120"/>
          </a:xfrm>
          <a:custGeom>
            <a:avLst/>
            <a:gdLst>
              <a:gd name="textAreaLeft" fmla="*/ 331560 w 2265480"/>
              <a:gd name="textAreaRight" fmla="*/ 1933920 w 2265480"/>
              <a:gd name="textAreaTop" fmla="*/ 331560 h 2265120"/>
              <a:gd name="textAreaBottom" fmla="*/ 1933560 h 226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60" y="10800"/>
                </a:moveTo>
                <a:cubicBezTo>
                  <a:pt x="560" y="16455"/>
                  <a:pt x="5145" y="21040"/>
                  <a:pt x="10800" y="21040"/>
                </a:cubicBezTo>
                <a:cubicBezTo>
                  <a:pt x="16455" y="21040"/>
                  <a:pt x="21040" y="16455"/>
                  <a:pt x="21040" y="10800"/>
                </a:cubicBezTo>
                <a:cubicBezTo>
                  <a:pt x="21040" y="5145"/>
                  <a:pt x="16455" y="560"/>
                  <a:pt x="10800" y="560"/>
                </a:cubicBezTo>
                <a:cubicBezTo>
                  <a:pt x="5145" y="560"/>
                  <a:pt x="560" y="5145"/>
                  <a:pt x="560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3963960" y="1289160"/>
            <a:ext cx="4227480" cy="4227480"/>
          </a:xfrm>
          <a:custGeom>
            <a:avLst/>
            <a:gdLst>
              <a:gd name="textAreaLeft" fmla="*/ 618840 w 4227480"/>
              <a:gd name="textAreaRight" fmla="*/ 3608640 w 4227480"/>
              <a:gd name="textAreaTop" fmla="*/ 618840 h 4227480"/>
              <a:gd name="textAreaBottom" fmla="*/ 3608640 h 422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9" y="10800"/>
                </a:moveTo>
                <a:cubicBezTo>
                  <a:pt x="919" y="16257"/>
                  <a:pt x="5343" y="20681"/>
                  <a:pt x="10800" y="20681"/>
                </a:cubicBezTo>
                <a:cubicBezTo>
                  <a:pt x="16257" y="20681"/>
                  <a:pt x="20681" y="16257"/>
                  <a:pt x="20681" y="10800"/>
                </a:cubicBezTo>
                <a:cubicBezTo>
                  <a:pt x="20681" y="5343"/>
                  <a:pt x="16257" y="919"/>
                  <a:pt x="10800" y="919"/>
                </a:cubicBezTo>
                <a:cubicBezTo>
                  <a:pt x="5343" y="919"/>
                  <a:pt x="919" y="5343"/>
                  <a:pt x="919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3963960" y="1268280"/>
            <a:ext cx="4227480" cy="4227480"/>
          </a:xfrm>
          <a:custGeom>
            <a:avLst/>
            <a:gdLst>
              <a:gd name="textAreaLeft" fmla="*/ 618840 w 4227480"/>
              <a:gd name="textAreaRight" fmla="*/ 3608640 w 4227480"/>
              <a:gd name="textAreaTop" fmla="*/ 618840 h 4227480"/>
              <a:gd name="textAreaBottom" fmla="*/ 3608640 h 422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9" y="10800"/>
                </a:moveTo>
                <a:cubicBezTo>
                  <a:pt x="919" y="16257"/>
                  <a:pt x="5343" y="20681"/>
                  <a:pt x="10800" y="20681"/>
                </a:cubicBezTo>
                <a:cubicBezTo>
                  <a:pt x="16257" y="20681"/>
                  <a:pt x="20681" y="16257"/>
                  <a:pt x="20681" y="10800"/>
                </a:cubicBezTo>
                <a:cubicBezTo>
                  <a:pt x="20681" y="5343"/>
                  <a:pt x="16257" y="919"/>
                  <a:pt x="10800" y="919"/>
                </a:cubicBezTo>
                <a:cubicBezTo>
                  <a:pt x="5343" y="919"/>
                  <a:pt x="919" y="5343"/>
                  <a:pt x="919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591080" y="1916280"/>
            <a:ext cx="2984400" cy="2984400"/>
          </a:xfrm>
          <a:custGeom>
            <a:avLst/>
            <a:gdLst>
              <a:gd name="textAreaLeft" fmla="*/ 437040 w 2984400"/>
              <a:gd name="textAreaRight" fmla="*/ 2547360 w 2984400"/>
              <a:gd name="textAreaTop" fmla="*/ 437040 h 2984400"/>
              <a:gd name="textAreaBottom" fmla="*/ 2547360 h 298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9" y="10800"/>
                </a:moveTo>
                <a:cubicBezTo>
                  <a:pt x="919" y="16257"/>
                  <a:pt x="5343" y="20681"/>
                  <a:pt x="10800" y="20681"/>
                </a:cubicBezTo>
                <a:cubicBezTo>
                  <a:pt x="16257" y="20681"/>
                  <a:pt x="20681" y="16257"/>
                  <a:pt x="20681" y="10800"/>
                </a:cubicBezTo>
                <a:cubicBezTo>
                  <a:pt x="20681" y="5343"/>
                  <a:pt x="16257" y="919"/>
                  <a:pt x="10800" y="919"/>
                </a:cubicBezTo>
                <a:cubicBezTo>
                  <a:pt x="5343" y="919"/>
                  <a:pt x="919" y="5343"/>
                  <a:pt x="919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3943440" y="1268280"/>
            <a:ext cx="4227480" cy="4227480"/>
          </a:xfrm>
          <a:custGeom>
            <a:avLst/>
            <a:gdLst>
              <a:gd name="textAreaLeft" fmla="*/ 618840 w 4227480"/>
              <a:gd name="textAreaRight" fmla="*/ 3608640 w 4227480"/>
              <a:gd name="textAreaTop" fmla="*/ 618840 h 4227480"/>
              <a:gd name="textAreaBottom" fmla="*/ 3608640 h 422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9" y="10800"/>
                </a:moveTo>
                <a:cubicBezTo>
                  <a:pt x="919" y="16257"/>
                  <a:pt x="5343" y="20681"/>
                  <a:pt x="10800" y="20681"/>
                </a:cubicBezTo>
                <a:cubicBezTo>
                  <a:pt x="16257" y="20681"/>
                  <a:pt x="20681" y="16257"/>
                  <a:pt x="20681" y="10800"/>
                </a:cubicBezTo>
                <a:cubicBezTo>
                  <a:pt x="20681" y="5343"/>
                  <a:pt x="16257" y="919"/>
                  <a:pt x="10800" y="919"/>
                </a:cubicBezTo>
                <a:cubicBezTo>
                  <a:pt x="5343" y="919"/>
                  <a:pt x="919" y="5343"/>
                  <a:pt x="919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4591080" y="1884240"/>
            <a:ext cx="2984400" cy="2984760"/>
          </a:xfrm>
          <a:custGeom>
            <a:avLst/>
            <a:gdLst>
              <a:gd name="textAreaLeft" fmla="*/ 437040 w 2984400"/>
              <a:gd name="textAreaRight" fmla="*/ 2547360 w 2984400"/>
              <a:gd name="textAreaTop" fmla="*/ 437040 h 2984760"/>
              <a:gd name="textAreaBottom" fmla="*/ 2547720 h 298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9" y="10800"/>
                </a:moveTo>
                <a:cubicBezTo>
                  <a:pt x="919" y="16257"/>
                  <a:pt x="5343" y="20681"/>
                  <a:pt x="10800" y="20681"/>
                </a:cubicBezTo>
                <a:cubicBezTo>
                  <a:pt x="16257" y="20681"/>
                  <a:pt x="20681" y="16257"/>
                  <a:pt x="20681" y="10800"/>
                </a:cubicBezTo>
                <a:cubicBezTo>
                  <a:pt x="20681" y="5343"/>
                  <a:pt x="16257" y="919"/>
                  <a:pt x="10800" y="919"/>
                </a:cubicBezTo>
                <a:cubicBezTo>
                  <a:pt x="5343" y="919"/>
                  <a:pt x="919" y="5343"/>
                  <a:pt x="919" y="1080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3"/>
          <a:stretch/>
        </p:blipFill>
        <p:spPr>
          <a:xfrm>
            <a:off x="5094360" y="2863800"/>
            <a:ext cx="1957320" cy="128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97080" y="5875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6" repeatCount="3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" autoRev="1" nodeType="withEffect" fill="hold" presetClass="emph" presetID="6" repeatCount="3000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" autoRev="1" nodeType="withEffect" fill="hold" presetClass="emph" presetID="6" repeatCount="3000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3" presetSubtype="32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3" presetSubtype="32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autoRev="1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autoRev="1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9"/>
          <p:cNvSpPr/>
          <p:nvPr/>
        </p:nvSpPr>
        <p:spPr>
          <a:xfrm>
            <a:off x="4803840" y="4281480"/>
            <a:ext cx="3741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微软雅黑"/>
              </a:rPr>
              <a:t>性别：演示文稿图形程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941640" y="4346640"/>
            <a:ext cx="485784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05280" y="37879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微软雅黑"/>
              </a:rPr>
              <a:t>年龄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519440" y="3805200"/>
            <a:ext cx="359892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808520" y="326556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微软雅黑"/>
              </a:rPr>
              <a:t>昵称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808520" y="278136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微软雅黑"/>
              </a:rPr>
              <a:t>姓名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519440" y="2835360"/>
            <a:ext cx="359748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4519440" y="3322800"/>
            <a:ext cx="359892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11440" y="2852640"/>
            <a:ext cx="3603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8877240" y="3300480"/>
            <a:ext cx="3603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8883720" y="2833560"/>
            <a:ext cx="3585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505320" y="3341520"/>
            <a:ext cx="3603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502080" y="3836880"/>
            <a:ext cx="3585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8879040" y="3798720"/>
            <a:ext cx="3603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9487080" y="4363920"/>
            <a:ext cx="3585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3006720" y="4335480"/>
            <a:ext cx="360360" cy="36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3510000" y="0"/>
            <a:ext cx="36036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10783800" y="210960"/>
            <a:ext cx="912960" cy="914400"/>
            <a:chOff x="10783800" y="210960"/>
            <a:chExt cx="912960" cy="914400"/>
          </a:xfrm>
        </p:grpSpPr>
        <p:sp>
          <p:nvSpPr>
            <p:cNvPr id="153" name="AutoShape 23"/>
            <p:cNvSpPr/>
            <p:nvPr/>
          </p:nvSpPr>
          <p:spPr>
            <a:xfrm>
              <a:off x="10873800" y="500040"/>
              <a:ext cx="773280" cy="333360"/>
            </a:xfrm>
            <a:prstGeom prst="rightArrow">
              <a:avLst>
                <a:gd name="adj1" fmla="val 50000"/>
                <a:gd name="adj2" fmla="val 5799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10783800" y="210960"/>
              <a:ext cx="912960" cy="9144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2"/>
          <p:cNvGrpSpPr/>
          <p:nvPr/>
        </p:nvGrpSpPr>
        <p:grpSpPr>
          <a:xfrm>
            <a:off x="3246480" y="210960"/>
            <a:ext cx="912600" cy="914400"/>
            <a:chOff x="3246480" y="210960"/>
            <a:chExt cx="912600" cy="914400"/>
          </a:xfrm>
        </p:grpSpPr>
        <p:sp>
          <p:nvSpPr>
            <p:cNvPr id="156" name="AutoShape 26"/>
            <p:cNvSpPr/>
            <p:nvPr/>
          </p:nvSpPr>
          <p:spPr>
            <a:xfrm>
              <a:off x="3336480" y="500040"/>
              <a:ext cx="772920" cy="333360"/>
            </a:xfrm>
            <a:prstGeom prst="rightArrow">
              <a:avLst>
                <a:gd name="adj1" fmla="val 50000"/>
                <a:gd name="adj2" fmla="val 5796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3246480" y="210960"/>
              <a:ext cx="912600" cy="9144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28"/>
          <p:cNvSpPr/>
          <p:nvPr/>
        </p:nvSpPr>
        <p:spPr>
          <a:xfrm rot="10800000">
            <a:off x="-1816200" y="1265040"/>
            <a:ext cx="13878000" cy="1566720"/>
          </a:xfrm>
          <a:prstGeom prst="rightArrow">
            <a:avLst>
              <a:gd name="adj1" fmla="val 72037"/>
              <a:gd name="adj2" fmla="val 1055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10783800" y="189000"/>
            <a:ext cx="912960" cy="914400"/>
            <a:chOff x="10783800" y="189000"/>
            <a:chExt cx="912960" cy="914400"/>
          </a:xfrm>
        </p:grpSpPr>
        <p:sp>
          <p:nvSpPr>
            <p:cNvPr id="160" name="AutoShape 23"/>
            <p:cNvSpPr/>
            <p:nvPr/>
          </p:nvSpPr>
          <p:spPr>
            <a:xfrm>
              <a:off x="10873800" y="478080"/>
              <a:ext cx="773280" cy="333360"/>
            </a:xfrm>
            <a:prstGeom prst="rightArrow">
              <a:avLst>
                <a:gd name="adj1" fmla="val 50000"/>
                <a:gd name="adj2" fmla="val 5799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10783800" y="189000"/>
              <a:ext cx="912960" cy="9144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9"/>
          <p:cNvGrpSpPr/>
          <p:nvPr/>
        </p:nvGrpSpPr>
        <p:grpSpPr>
          <a:xfrm>
            <a:off x="343080" y="1519200"/>
            <a:ext cx="1078920" cy="1079280"/>
            <a:chOff x="343080" y="1519200"/>
            <a:chExt cx="1078920" cy="1079280"/>
          </a:xfrm>
        </p:grpSpPr>
        <p:sp>
          <p:nvSpPr>
            <p:cNvPr id="163" name="AutoShape 23"/>
            <p:cNvSpPr/>
            <p:nvPr/>
          </p:nvSpPr>
          <p:spPr>
            <a:xfrm>
              <a:off x="449640" y="1860480"/>
              <a:ext cx="914040" cy="393480"/>
            </a:xfrm>
            <a:prstGeom prst="rightArrow">
              <a:avLst>
                <a:gd name="adj1" fmla="val 50000"/>
                <a:gd name="adj2" fmla="val 5807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343080" y="1519200"/>
              <a:ext cx="1078920" cy="107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28"/>
          <p:cNvSpPr/>
          <p:nvPr/>
        </p:nvSpPr>
        <p:spPr>
          <a:xfrm rot="10800000">
            <a:off x="-1816200" y="1265040"/>
            <a:ext cx="13878000" cy="1566720"/>
          </a:xfrm>
          <a:prstGeom prst="rightArrow">
            <a:avLst>
              <a:gd name="adj1" fmla="val 72037"/>
              <a:gd name="adj2" fmla="val 1055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3"/>
          <p:cNvGrpSpPr/>
          <p:nvPr/>
        </p:nvGrpSpPr>
        <p:grpSpPr>
          <a:xfrm>
            <a:off x="5238720" y="5589720"/>
            <a:ext cx="720720" cy="718920"/>
            <a:chOff x="5238720" y="5589720"/>
            <a:chExt cx="720720" cy="718920"/>
          </a:xfrm>
        </p:grpSpPr>
        <p:sp>
          <p:nvSpPr>
            <p:cNvPr id="167" name="AutoShape 23"/>
            <p:cNvSpPr/>
            <p:nvPr/>
          </p:nvSpPr>
          <p:spPr>
            <a:xfrm>
              <a:off x="5309640" y="5816880"/>
              <a:ext cx="610560" cy="262080"/>
            </a:xfrm>
            <a:prstGeom prst="rightArrow">
              <a:avLst>
                <a:gd name="adj1" fmla="val 50000"/>
                <a:gd name="adj2" fmla="val 582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4"/>
            <p:cNvSpPr/>
            <p:nvPr/>
          </p:nvSpPr>
          <p:spPr>
            <a:xfrm>
              <a:off x="5238720" y="5589720"/>
              <a:ext cx="720720" cy="7189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6"/>
          <p:cNvGrpSpPr/>
          <p:nvPr/>
        </p:nvGrpSpPr>
        <p:grpSpPr>
          <a:xfrm>
            <a:off x="7397640" y="4941720"/>
            <a:ext cx="720720" cy="719280"/>
            <a:chOff x="7397640" y="4941720"/>
            <a:chExt cx="720720" cy="719280"/>
          </a:xfrm>
        </p:grpSpPr>
        <p:sp>
          <p:nvSpPr>
            <p:cNvPr id="170" name="AutoShape 23"/>
            <p:cNvSpPr/>
            <p:nvPr/>
          </p:nvSpPr>
          <p:spPr>
            <a:xfrm>
              <a:off x="7468560" y="5168880"/>
              <a:ext cx="610560" cy="262080"/>
            </a:xfrm>
            <a:prstGeom prst="rightArrow">
              <a:avLst>
                <a:gd name="adj1" fmla="val 50000"/>
                <a:gd name="adj2" fmla="val 582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4"/>
            <p:cNvSpPr/>
            <p:nvPr/>
          </p:nvSpPr>
          <p:spPr>
            <a:xfrm>
              <a:off x="7397640" y="4941720"/>
              <a:ext cx="720720" cy="71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9"/>
          <p:cNvGrpSpPr/>
          <p:nvPr/>
        </p:nvGrpSpPr>
        <p:grpSpPr>
          <a:xfrm>
            <a:off x="343080" y="1486080"/>
            <a:ext cx="1078920" cy="1078920"/>
            <a:chOff x="343080" y="1486080"/>
            <a:chExt cx="1078920" cy="1078920"/>
          </a:xfrm>
        </p:grpSpPr>
        <p:sp>
          <p:nvSpPr>
            <p:cNvPr id="173" name="AutoShape 23"/>
            <p:cNvSpPr/>
            <p:nvPr/>
          </p:nvSpPr>
          <p:spPr>
            <a:xfrm>
              <a:off x="449640" y="1827000"/>
              <a:ext cx="914040" cy="393120"/>
            </a:xfrm>
            <a:prstGeom prst="rightArrow">
              <a:avLst>
                <a:gd name="adj1" fmla="val 50000"/>
                <a:gd name="adj2" fmla="val 581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343080" y="1486080"/>
              <a:ext cx="1078920" cy="10789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Oval 54"/>
          <p:cNvSpPr/>
          <p:nvPr/>
        </p:nvSpPr>
        <p:spPr>
          <a:xfrm>
            <a:off x="485640" y="587700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4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1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0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89467E-006 -1.36025E-006 L 0.41666 -1.36025E-006 E">
                                      <p:cBhvr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99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1" repeatCount="2000">
                                  <p:stCondLst>
                                    <p:cond delay="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9.18555E-008 -3.92787E-006 L -0.42217 -3.92787E-006 E">
                                      <p:cBhvr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2" presetSubtype="8">
                                  <p:stCondLst>
                                    <p:cond delay="23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1" repeatCount="2000">
                                  <p:stCondLst>
                                    <p:cond delay="2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89467E-006 -1.36025E-006 L 0.41666 -1.36025E-006 E">
                                      <p:cBhvr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2" presetSubtype="2">
                                  <p:stCondLst>
                                    <p:cond delay="29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5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1" repeatCount="2000">
                                  <p:stCondLst>
                                    <p:cond delay="3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1.85548E-006 -4.853E-006 L -0.50545 -4.853E-006 E">
                                      <p:cBhvr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53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1" repeatCount="2000">
                                  <p:stCondLst>
                                    <p:cond delay="3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9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2" dur="800" fill="hold"/>
                                        <p:tgtEl>
                                          <p:spTgt spid="1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80000" y="28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203" dur="7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3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32807E-006 -1.11111E-006 L 0.09558 -1.11111E-006 E">
                                      <p:cBhvr>
                                        <p:cTn id="212" dur="3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" presetSubtype="2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3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3.32807E-006 -1.11111E-006 L 0.09558 -1.11111E-006 E">
                                      <p:cBhvr>
                                        <p:cTn id="222" dur="3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2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5" repeatCount="4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8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57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21979 C 0 -0.31826 0.069 -0.43958 0.125 -0.43958 L 0.25 -0.43958 E">
                                      <p:cBhvr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5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6"/>
          <p:cNvSpPr/>
          <p:nvPr/>
        </p:nvSpPr>
        <p:spPr>
          <a:xfrm rot="10800000">
            <a:off x="-1828800" y="1267560"/>
            <a:ext cx="13878000" cy="1567080"/>
          </a:xfrm>
          <a:prstGeom prst="rightArrow">
            <a:avLst>
              <a:gd name="adj1" fmla="val 72037"/>
              <a:gd name="adj2" fmla="val 1055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0" y="0"/>
            <a:ext cx="12061800" cy="49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783800" y="210960"/>
            <a:ext cx="912960" cy="914400"/>
            <a:chOff x="10783800" y="210960"/>
            <a:chExt cx="912960" cy="914400"/>
          </a:xfrm>
        </p:grpSpPr>
        <p:sp>
          <p:nvSpPr>
            <p:cNvPr id="179" name="AutoShape 23"/>
            <p:cNvSpPr/>
            <p:nvPr/>
          </p:nvSpPr>
          <p:spPr>
            <a:xfrm>
              <a:off x="10873800" y="500040"/>
              <a:ext cx="773280" cy="333360"/>
            </a:xfrm>
            <a:prstGeom prst="rightArrow">
              <a:avLst>
                <a:gd name="adj1" fmla="val 50000"/>
                <a:gd name="adj2" fmla="val 5799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4"/>
            <p:cNvSpPr/>
            <p:nvPr/>
          </p:nvSpPr>
          <p:spPr>
            <a:xfrm>
              <a:off x="10783800" y="210960"/>
              <a:ext cx="912960" cy="9144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4803840" y="2781360"/>
            <a:ext cx="3741840" cy="1944000"/>
            <a:chOff x="4803840" y="2781360"/>
            <a:chExt cx="3741840" cy="1944000"/>
          </a:xfrm>
        </p:grpSpPr>
        <p:sp>
          <p:nvSpPr>
            <p:cNvPr id="182" name="Text Box 9"/>
            <p:cNvSpPr/>
            <p:nvPr/>
          </p:nvSpPr>
          <p:spPr>
            <a:xfrm>
              <a:off x="4803840" y="4281120"/>
              <a:ext cx="3741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性别：演示文稿图形程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4807080" y="326520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昵称：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4807080" y="278136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姓名：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ower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4803840" y="378756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龄：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6103800" y="5300640"/>
            <a:ext cx="719280" cy="719280"/>
            <a:chOff x="6103800" y="5300640"/>
            <a:chExt cx="719280" cy="719280"/>
          </a:xfrm>
        </p:grpSpPr>
        <p:sp>
          <p:nvSpPr>
            <p:cNvPr id="187" name="AutoShape 23"/>
            <p:cNvSpPr/>
            <p:nvPr/>
          </p:nvSpPr>
          <p:spPr>
            <a:xfrm>
              <a:off x="6174720" y="5527800"/>
              <a:ext cx="609120" cy="262080"/>
            </a:xfrm>
            <a:prstGeom prst="rightArrow">
              <a:avLst>
                <a:gd name="adj1" fmla="val 50000"/>
                <a:gd name="adj2" fmla="val 5810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6103800" y="5300640"/>
              <a:ext cx="719280" cy="71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28"/>
          <p:cNvSpPr/>
          <p:nvPr/>
        </p:nvSpPr>
        <p:spPr>
          <a:xfrm>
            <a:off x="0" y="0"/>
            <a:ext cx="12061800" cy="424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2317E-006 -4.07407E-006 L -4.02317E-006 0.3375 E">
                                      <p:cBhvr>
                                        <p:cTn id="253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2807E-006 -1.11111E-006 L 0.09558 -1.11111E-006 E">
                                      <p:cBhvr>
                                        <p:cTn id="265" dur="3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" presetSubtype="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8"/>
          <p:cNvSpPr/>
          <p:nvPr/>
        </p:nvSpPr>
        <p:spPr>
          <a:xfrm>
            <a:off x="-12600" y="2492280"/>
            <a:ext cx="12060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-12600" y="1413000"/>
            <a:ext cx="12060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-12600" y="549360"/>
            <a:ext cx="1206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-19080" y="-169920"/>
            <a:ext cx="12060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0" y="3573360"/>
            <a:ext cx="12061800" cy="10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0" y="4906800"/>
            <a:ext cx="12061800" cy="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485640" y="0"/>
            <a:ext cx="115560" cy="4292280"/>
            <a:chOff x="485640" y="0"/>
            <a:chExt cx="115560" cy="4292280"/>
          </a:xfrm>
        </p:grpSpPr>
        <p:sp>
          <p:nvSpPr>
            <p:cNvPr id="197" name="Line 9"/>
            <p:cNvSpPr/>
            <p:nvPr/>
          </p:nvSpPr>
          <p:spPr>
            <a:xfrm>
              <a:off x="485640" y="0"/>
              <a:ext cx="0" cy="429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>
              <a:off x="601200" y="0"/>
              <a:ext cx="0" cy="4292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8" descr=""/>
          <p:cNvPicPr/>
          <p:nvPr/>
        </p:nvPicPr>
        <p:blipFill>
          <a:blip r:embed="rId2"/>
          <a:stretch/>
        </p:blipFill>
        <p:spPr>
          <a:xfrm>
            <a:off x="92160" y="3516480"/>
            <a:ext cx="963360" cy="92052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2"/>
          <p:cNvGrpSpPr/>
          <p:nvPr/>
        </p:nvGrpSpPr>
        <p:grpSpPr>
          <a:xfrm>
            <a:off x="6175440" y="404640"/>
            <a:ext cx="718920" cy="719280"/>
            <a:chOff x="6175440" y="404640"/>
            <a:chExt cx="718920" cy="719280"/>
          </a:xfrm>
        </p:grpSpPr>
        <p:sp>
          <p:nvSpPr>
            <p:cNvPr id="201" name="AutoShape 23"/>
            <p:cNvSpPr/>
            <p:nvPr/>
          </p:nvSpPr>
          <p:spPr>
            <a:xfrm>
              <a:off x="6246360" y="631800"/>
              <a:ext cx="609120" cy="262080"/>
            </a:xfrm>
            <a:prstGeom prst="rightArrow">
              <a:avLst>
                <a:gd name="adj1" fmla="val 50000"/>
                <a:gd name="adj2" fmla="val 5810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4"/>
            <p:cNvSpPr/>
            <p:nvPr/>
          </p:nvSpPr>
          <p:spPr>
            <a:xfrm>
              <a:off x="6175440" y="404640"/>
              <a:ext cx="718920" cy="71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5"/>
          <p:cNvGrpSpPr/>
          <p:nvPr/>
        </p:nvGrpSpPr>
        <p:grpSpPr>
          <a:xfrm>
            <a:off x="5743440" y="5230800"/>
            <a:ext cx="719280" cy="719280"/>
            <a:chOff x="5743440" y="5230800"/>
            <a:chExt cx="719280" cy="719280"/>
          </a:xfrm>
        </p:grpSpPr>
        <p:sp>
          <p:nvSpPr>
            <p:cNvPr id="204" name="AutoShape 23"/>
            <p:cNvSpPr/>
            <p:nvPr/>
          </p:nvSpPr>
          <p:spPr>
            <a:xfrm>
              <a:off x="5814360" y="5457960"/>
              <a:ext cx="609120" cy="262080"/>
            </a:xfrm>
            <a:prstGeom prst="rightArrow">
              <a:avLst>
                <a:gd name="adj1" fmla="val 50000"/>
                <a:gd name="adj2" fmla="val 5810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5743440" y="5230800"/>
              <a:ext cx="719280" cy="71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28"/>
          <p:cNvSpPr/>
          <p:nvPr/>
        </p:nvSpPr>
        <p:spPr>
          <a:xfrm>
            <a:off x="0" y="6237360"/>
            <a:ext cx="120618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2"/>
          <p:cNvSpPr/>
          <p:nvPr/>
        </p:nvSpPr>
        <p:spPr>
          <a:xfrm>
            <a:off x="8910720" y="58784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1"/>
          <p:cNvGrpSpPr/>
          <p:nvPr/>
        </p:nvGrpSpPr>
        <p:grpSpPr>
          <a:xfrm>
            <a:off x="4805280" y="1989000"/>
            <a:ext cx="2520720" cy="2211120"/>
            <a:chOff x="4805280" y="1989000"/>
            <a:chExt cx="2520720" cy="2211120"/>
          </a:xfrm>
        </p:grpSpPr>
        <p:sp>
          <p:nvSpPr>
            <p:cNvPr id="209" name="Oval 34"/>
            <p:cNvSpPr/>
            <p:nvPr/>
          </p:nvSpPr>
          <p:spPr>
            <a:xfrm>
              <a:off x="4805280" y="3898080"/>
              <a:ext cx="28692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7039080" y="3913200"/>
              <a:ext cx="28692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5906520" y="1989000"/>
              <a:ext cx="28692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39"/>
          <p:cNvSpPr/>
          <p:nvPr/>
        </p:nvSpPr>
        <p:spPr>
          <a:xfrm>
            <a:off x="5094360" y="22896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7 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4"/>
          <p:cNvSpPr/>
          <p:nvPr/>
        </p:nvSpPr>
        <p:spPr>
          <a:xfrm>
            <a:off x="4732200" y="1989000"/>
            <a:ext cx="2667240" cy="266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0" y="3878280"/>
            <a:ext cx="1206180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-19080" y="1486080"/>
            <a:ext cx="1206036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9847440" y="19954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4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8335800" y="453960"/>
            <a:ext cx="3335400" cy="3335400"/>
          </a:xfrm>
          <a:prstGeom prst="rect">
            <a:avLst/>
          </a:prstGeom>
          <a:ln w="0">
            <a:noFill/>
          </a:ln>
        </p:spPr>
      </p:pic>
      <p:sp>
        <p:nvSpPr>
          <p:cNvPr id="218" name="Oval 34"/>
          <p:cNvSpPr/>
          <p:nvPr/>
        </p:nvSpPr>
        <p:spPr>
          <a:xfrm>
            <a:off x="8844120" y="974880"/>
            <a:ext cx="2336760" cy="233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 rot="5400000">
            <a:off x="2685600" y="2021760"/>
            <a:ext cx="110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2.0, demo, Macintos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151080" y="3860640"/>
            <a:ext cx="1295640" cy="28353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835360"/>
              <a:gd name="textAreaBottom" fmla="*/ 2835360 h 2835360"/>
            </a:gdLst>
            <a:ahLst/>
            <a:rect l="textAreaLeft" t="textAreaTop" r="textAreaRight" b="textAreaBottom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4"/>
          <p:cNvGrpSpPr/>
          <p:nvPr/>
        </p:nvGrpSpPr>
        <p:grpSpPr>
          <a:xfrm>
            <a:off x="4848120" y="4127400"/>
            <a:ext cx="954000" cy="912960"/>
            <a:chOff x="4848120" y="4127400"/>
            <a:chExt cx="954000" cy="912960"/>
          </a:xfrm>
        </p:grpSpPr>
        <p:sp>
          <p:nvSpPr>
            <p:cNvPr id="222" name="Line 12"/>
            <p:cNvSpPr/>
            <p:nvPr/>
          </p:nvSpPr>
          <p:spPr>
            <a:xfrm>
              <a:off x="4848120" y="5040360"/>
              <a:ext cx="719280" cy="0"/>
            </a:xfrm>
            <a:prstGeom prst="line">
              <a:avLst/>
            </a:prstGeom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5802120" y="4127400"/>
              <a:ext cx="0" cy="590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7"/>
          <p:cNvGrpSpPr/>
          <p:nvPr/>
        </p:nvGrpSpPr>
        <p:grpSpPr>
          <a:xfrm>
            <a:off x="4703760" y="3983040"/>
            <a:ext cx="954000" cy="901800"/>
            <a:chOff x="4703760" y="3983040"/>
            <a:chExt cx="954000" cy="901800"/>
          </a:xfrm>
        </p:grpSpPr>
        <p:sp>
          <p:nvSpPr>
            <p:cNvPr id="225" name="Line 11"/>
            <p:cNvSpPr/>
            <p:nvPr/>
          </p:nvSpPr>
          <p:spPr>
            <a:xfrm>
              <a:off x="4703760" y="4294080"/>
              <a:ext cx="0" cy="590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4938840" y="3983040"/>
              <a:ext cx="718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7"/>
          <p:cNvSpPr/>
          <p:nvPr/>
        </p:nvSpPr>
        <p:spPr>
          <a:xfrm rot="5400000">
            <a:off x="4861080" y="1994400"/>
            <a:ext cx="67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 rot="5400000">
            <a:off x="5068800" y="2037240"/>
            <a:ext cx="68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4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 rot="5400000">
            <a:off x="5224680" y="2054520"/>
            <a:ext cx="65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 rot="5400000">
            <a:off x="5204880" y="1987200"/>
            <a:ext cx="669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 rot="5400000">
            <a:off x="4986720" y="2062440"/>
            <a:ext cx="71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2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2"/>
          <p:cNvSpPr/>
          <p:nvPr/>
        </p:nvSpPr>
        <p:spPr>
          <a:xfrm rot="5400000">
            <a:off x="5032800" y="2028960"/>
            <a:ext cx="703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5"/>
          <p:cNvSpPr/>
          <p:nvPr/>
        </p:nvSpPr>
        <p:spPr>
          <a:xfrm rot="5400000">
            <a:off x="4507200" y="2000520"/>
            <a:ext cx="74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 rot="5400000">
            <a:off x="4996080" y="2030760"/>
            <a:ext cx="68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 rot="5400000">
            <a:off x="5139000" y="1945080"/>
            <a:ext cx="68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9775800" y="63360"/>
            <a:ext cx="287280" cy="4125960"/>
            <a:chOff x="9775800" y="63360"/>
            <a:chExt cx="287280" cy="4125960"/>
          </a:xfrm>
        </p:grpSpPr>
        <p:sp>
          <p:nvSpPr>
            <p:cNvPr id="237" name="Oval 33"/>
            <p:cNvSpPr/>
            <p:nvPr/>
          </p:nvSpPr>
          <p:spPr>
            <a:xfrm>
              <a:off x="9775800" y="3919320"/>
              <a:ext cx="270000" cy="27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4"/>
            <p:cNvSpPr/>
            <p:nvPr/>
          </p:nvSpPr>
          <p:spPr>
            <a:xfrm>
              <a:off x="9793440" y="63360"/>
              <a:ext cx="269640" cy="27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2"/>
          <p:cNvGrpSpPr/>
          <p:nvPr/>
        </p:nvGrpSpPr>
        <p:grpSpPr>
          <a:xfrm>
            <a:off x="485640" y="293760"/>
            <a:ext cx="1079280" cy="1078920"/>
            <a:chOff x="485640" y="293760"/>
            <a:chExt cx="1079280" cy="1078920"/>
          </a:xfrm>
        </p:grpSpPr>
        <p:sp>
          <p:nvSpPr>
            <p:cNvPr id="240" name="AutoShape 23"/>
            <p:cNvSpPr/>
            <p:nvPr/>
          </p:nvSpPr>
          <p:spPr>
            <a:xfrm>
              <a:off x="592200" y="634680"/>
              <a:ext cx="914400" cy="393120"/>
            </a:xfrm>
            <a:prstGeom prst="rightArrow">
              <a:avLst>
                <a:gd name="adj1" fmla="val 50000"/>
                <a:gd name="adj2" fmla="val 581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85640" y="293760"/>
              <a:ext cx="1079280" cy="10789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55"/>
          <p:cNvGrpSpPr/>
          <p:nvPr/>
        </p:nvGrpSpPr>
        <p:grpSpPr>
          <a:xfrm>
            <a:off x="485640" y="260280"/>
            <a:ext cx="1079280" cy="1079280"/>
            <a:chOff x="485640" y="260280"/>
            <a:chExt cx="1079280" cy="1079280"/>
          </a:xfrm>
        </p:grpSpPr>
        <p:sp>
          <p:nvSpPr>
            <p:cNvPr id="243" name="AutoShape 23"/>
            <p:cNvSpPr/>
            <p:nvPr/>
          </p:nvSpPr>
          <p:spPr>
            <a:xfrm>
              <a:off x="592200" y="601560"/>
              <a:ext cx="914400" cy="393480"/>
            </a:xfrm>
            <a:prstGeom prst="rightArrow">
              <a:avLst>
                <a:gd name="adj1" fmla="val 50000"/>
                <a:gd name="adj2" fmla="val 580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485640" y="260280"/>
              <a:ext cx="1079280" cy="107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485640" y="260280"/>
            <a:ext cx="1079280" cy="1079280"/>
            <a:chOff x="485640" y="260280"/>
            <a:chExt cx="1079280" cy="1079280"/>
          </a:xfrm>
        </p:grpSpPr>
        <p:sp>
          <p:nvSpPr>
            <p:cNvPr id="246" name="AutoShape 23"/>
            <p:cNvSpPr/>
            <p:nvPr/>
          </p:nvSpPr>
          <p:spPr>
            <a:xfrm>
              <a:off x="592200" y="601560"/>
              <a:ext cx="914400" cy="393480"/>
            </a:xfrm>
            <a:prstGeom prst="rightArrow">
              <a:avLst>
                <a:gd name="adj1" fmla="val 50000"/>
                <a:gd name="adj2" fmla="val 580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485640" y="260280"/>
              <a:ext cx="1079280" cy="107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61"/>
          <p:cNvGrpSpPr/>
          <p:nvPr/>
        </p:nvGrpSpPr>
        <p:grpSpPr>
          <a:xfrm>
            <a:off x="485640" y="260280"/>
            <a:ext cx="1079280" cy="1079280"/>
            <a:chOff x="485640" y="260280"/>
            <a:chExt cx="1079280" cy="1079280"/>
          </a:xfrm>
        </p:grpSpPr>
        <p:sp>
          <p:nvSpPr>
            <p:cNvPr id="249" name="AutoShape 23"/>
            <p:cNvSpPr/>
            <p:nvPr/>
          </p:nvSpPr>
          <p:spPr>
            <a:xfrm>
              <a:off x="592200" y="601560"/>
              <a:ext cx="914400" cy="393480"/>
            </a:xfrm>
            <a:prstGeom prst="rightArrow">
              <a:avLst>
                <a:gd name="adj1" fmla="val 50000"/>
                <a:gd name="adj2" fmla="val 5809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485640" y="260280"/>
              <a:ext cx="1079280" cy="10792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4"/>
          <p:cNvGrpSpPr/>
          <p:nvPr/>
        </p:nvGrpSpPr>
        <p:grpSpPr>
          <a:xfrm>
            <a:off x="485640" y="293760"/>
            <a:ext cx="1079280" cy="1078920"/>
            <a:chOff x="485640" y="293760"/>
            <a:chExt cx="1079280" cy="1078920"/>
          </a:xfrm>
        </p:grpSpPr>
        <p:sp>
          <p:nvSpPr>
            <p:cNvPr id="252" name="AutoShape 23"/>
            <p:cNvSpPr/>
            <p:nvPr/>
          </p:nvSpPr>
          <p:spPr>
            <a:xfrm>
              <a:off x="592200" y="634680"/>
              <a:ext cx="914400" cy="393120"/>
            </a:xfrm>
            <a:prstGeom prst="rightArrow">
              <a:avLst>
                <a:gd name="adj1" fmla="val 50000"/>
                <a:gd name="adj2" fmla="val 581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>
              <a:off x="485640" y="293760"/>
              <a:ext cx="1079280" cy="10789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67"/>
          <p:cNvGrpSpPr/>
          <p:nvPr/>
        </p:nvGrpSpPr>
        <p:grpSpPr>
          <a:xfrm>
            <a:off x="485640" y="293760"/>
            <a:ext cx="1079280" cy="1078920"/>
            <a:chOff x="485640" y="293760"/>
            <a:chExt cx="1079280" cy="1078920"/>
          </a:xfrm>
        </p:grpSpPr>
        <p:sp>
          <p:nvSpPr>
            <p:cNvPr id="255" name="AutoShape 23"/>
            <p:cNvSpPr/>
            <p:nvPr/>
          </p:nvSpPr>
          <p:spPr>
            <a:xfrm>
              <a:off x="592200" y="634680"/>
              <a:ext cx="914400" cy="393120"/>
            </a:xfrm>
            <a:prstGeom prst="rightArrow">
              <a:avLst>
                <a:gd name="adj1" fmla="val 50000"/>
                <a:gd name="adj2" fmla="val 581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>
              <a:off x="485640" y="293760"/>
              <a:ext cx="1079280" cy="10789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70"/>
          <p:cNvGrpSpPr/>
          <p:nvPr/>
        </p:nvGrpSpPr>
        <p:grpSpPr>
          <a:xfrm>
            <a:off x="485640" y="293760"/>
            <a:ext cx="1079280" cy="1078920"/>
            <a:chOff x="485640" y="293760"/>
            <a:chExt cx="1079280" cy="1078920"/>
          </a:xfrm>
        </p:grpSpPr>
        <p:sp>
          <p:nvSpPr>
            <p:cNvPr id="258" name="AutoShape 23"/>
            <p:cNvSpPr/>
            <p:nvPr/>
          </p:nvSpPr>
          <p:spPr>
            <a:xfrm>
              <a:off x="592200" y="634680"/>
              <a:ext cx="914400" cy="393120"/>
            </a:xfrm>
            <a:prstGeom prst="rightArrow">
              <a:avLst>
                <a:gd name="adj1" fmla="val 50000"/>
                <a:gd name="adj2" fmla="val 581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>
              <a:off x="485640" y="293760"/>
              <a:ext cx="1079280" cy="10789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xit" presetID="2" presetSubtype="8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4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4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"/>
                            </p:stCondLst>
                            <p:childTnLst>
                              <p:par>
                                <p:cTn id="294" nodeType="after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" dur="1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2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8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4824E-006 4.44444E-006 L -1.64824E-006 -0.53311 E">
                                      <p:cBhvr>
                                        <p:cTn id="302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4" dur="12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1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300"/>
                            </p:stCondLst>
                            <p:childTnLst>
                              <p:par>
                                <p:cTn id="31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6" dur="4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700"/>
                            </p:stCondLst>
                            <p:childTnLst>
                              <p:par>
                                <p:cTn id="323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98684E-006 -1.11111E-006 L 0.4526 -0.09028 E">
                                      <p:cBhvr>
                                        <p:cTn id="326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2807E-006 -1.11111E-006 L 0.09558 -1.11111E-006 E">
                                      <p:cBhvr>
                                        <p:cTn id="332" dur="3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2807E-006 -1.11111E-006 L 0.09558 -1.11111E-006 E">
                                      <p:cBhvr>
                                        <p:cTn id="342" dur="3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1" dur="8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3" dur="4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5" repeatCount="4000">
                                  <p:stCondLst>
                                    <p:cond delay="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8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57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4.29173E-006 7.40741E-007 L 4.29173E-006 -0.19421 C 4.29173E-006 -0.28079 -0.06991 -0.38843 -0.1256 -0.38843 L -0.25079 -0.38843 E">
                                      <p:cBhvr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3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2200"/>
                                  </p:stCondLst>
                                  <p:childTnLst>
                                    <p:animRot by="21600000">
                                      <p:cBhvr>
                                        <p:cTn id="374" dur="1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56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0289 0.03843 L 0.31662 -0.0912 E">
                                      <p:cBhvr>
                                        <p:cTn id="376" dur="12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9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0" dur="2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8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0" dur="4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5" repeatCount="4000">
                                  <p:stCondLst>
                                    <p:cond delay="4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8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autoRev="1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420" dur="2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6" dur="7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9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760">
                                      <p:cBhvr>
                                        <p:cTn id="4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5" repeatCount="4000">
                                  <p:stCondLst>
                                    <p:cond delay="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8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35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22854E-006 4.07407E-006 L -0.16719 4.07407E-006 E">
                                      <p:cBhvr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501"/>
                            </p:stCondLst>
                            <p:childTnLst>
                              <p:par>
                                <p:cTn id="4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0621E-006 0.00069 L -0.11559 -0.14653 E">
                                      <p:cBhvr>
                                        <p:cTn id="448" dur="25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1675E-006 0.00069 L 0.1481 0.15208 E">
                                      <p:cBhvr>
                                        <p:cTn id="450" dur="25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751"/>
                            </p:stCondLst>
                            <p:childTnLst>
                              <p:par>
                                <p:cTn id="45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6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5399760">
                                      <p:cBhvr>
                                        <p:cTn id="456" dur="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399760">
                                      <p:cBhvr>
                                        <p:cTn id="4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-5399760">
                                      <p:cBhvr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-5399760">
                                      <p:cBhvr>
                                        <p:cTn id="4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6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-5399760">
                                      <p:cBhvr>
                                        <p:cTn id="476" dur="6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-5399760">
                                      <p:cBhvr>
                                        <p:cTn id="4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8">
                                  <p:stCondLst>
                                    <p:cond delay="6700"/>
                                  </p:stCondLst>
                                  <p:childTnLst>
                                    <p:animRot by="-5399760">
                                      <p:cBhvr>
                                        <p:cTn id="486" dur="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6900"/>
                                  </p:stCondLst>
                                  <p:childTnLst>
                                    <p:animRot by="-5399760">
                                      <p:cBhvr>
                                        <p:cTn id="4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6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8600"/>
                                  </p:stCondLst>
                                  <p:childTnLst>
                                    <p:animRot by="-5399760">
                                      <p:cBhvr>
                                        <p:cTn id="496" dur="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8800"/>
                                  </p:stCondLst>
                                  <p:childTnLst>
                                    <p:animRot by="-5399760">
                                      <p:cBhvr>
                                        <p:cTn id="5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8">
                                  <p:stCondLst>
                                    <p:cond delay="10500"/>
                                  </p:stCondLst>
                                  <p:childTnLst>
                                    <p:animRot by="-5399760">
                                      <p:cBhvr>
                                        <p:cTn id="506" dur="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10700"/>
                                  </p:stCondLst>
                                  <p:childTnLst>
                                    <p:animRot by="-5399760">
                                      <p:cBhvr>
                                        <p:cTn id="5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1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6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12400"/>
                                  </p:stCondLst>
                                  <p:childTnLst>
                                    <p:animRot by="-5399760">
                                      <p:cBhvr>
                                        <p:cTn id="516" dur="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>
                                  <p:stCondLst>
                                    <p:cond delay="12600"/>
                                  </p:stCondLst>
                                  <p:childTnLst>
                                    <p:animRot by="-5399760">
                                      <p:cBhvr>
                                        <p:cTn id="5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1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6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8">
                                  <p:stCondLst>
                                    <p:cond delay="14300"/>
                                  </p:stCondLst>
                                  <p:childTnLst>
                                    <p:animRot by="-5399760">
                                      <p:cBhvr>
                                        <p:cTn id="526" dur="6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14500"/>
                                  </p:stCondLst>
                                  <p:childTnLst>
                                    <p:animRot by="-5399760">
                                      <p:cBhvr>
                                        <p:cTn id="5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1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6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15700"/>
                                  </p:stCondLst>
                                  <p:childTnLst>
                                    <p:animRot by="-5399760">
                                      <p:cBhvr>
                                        <p:cTn id="536" dur="6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8">
                                  <p:stCondLst>
                                    <p:cond delay="15900"/>
                                  </p:stCondLst>
                                  <p:childTnLst>
                                    <p:animRot by="-5399760">
                                      <p:cBhvr>
                                        <p:cTn id="5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1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6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8">
                                  <p:stCondLst>
                                    <p:cond delay="17600"/>
                                  </p:stCondLst>
                                  <p:childTnLst>
                                    <p:animRot by="-5399760">
                                      <p:cBhvr>
                                        <p:cTn id="546" dur="6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8" repeatCount="6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5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6">
                                  <p:stCondLst>
                                    <p:cond delay="17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9">
                                  <p:stCondLst>
                                    <p:cond delay="17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6">
                                  <p:stCondLst>
                                    <p:cond delay="17700"/>
                                  </p:stCondLst>
                                  <p:childTnLst>
                                    <p:animScale>
                                      <p:cBhvr>
                                        <p:cTn id="563" dur="250" fill="hold"/>
                                        <p:tgtEl>
                                          <p:spTgt spid="22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6">
                                  <p:stCondLst>
                                    <p:cond delay="17700"/>
                                  </p:stCondLst>
                                  <p:childTnLst>
                                    <p:animScale>
                                      <p:cBhvr>
                                        <p:cTn id="565" dur="250" fill="hold"/>
                                        <p:tgtEl>
                                          <p:spTgt spid="22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3" presetSubtype="32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3" presetSubtype="32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3" presetSubtype="32">
                                  <p:stCondLst>
                                    <p:cond delay="1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88" dur="5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 repeatCount="2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6" repeatCount="2000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95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 repeatCount="200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 repeatCount="2000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602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 repeatCount="200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6" repeatCount="2000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609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 repeatCount="200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6" repeatCount="2000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616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 repeatCount="200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 repeatCount="2000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23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63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-4.74987E-006 -2.59259E-006 L 0.99434 -2.59259E-006 E">
                                      <p:cBhvr>
                                        <p:cTn id="625" dur="7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7040" y="189000"/>
            <a:ext cx="10827000" cy="57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2560" y="1269720"/>
            <a:ext cx="117759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612360" y="333360"/>
            <a:ext cx="1832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8"/>
          <p:cNvSpPr/>
          <p:nvPr/>
        </p:nvSpPr>
        <p:spPr>
          <a:xfrm>
            <a:off x="0" y="1844640"/>
            <a:ext cx="120618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0" y="2492280"/>
            <a:ext cx="120618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0" y="311040"/>
            <a:ext cx="108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198360" y="476280"/>
            <a:ext cx="8712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7" descr="图片3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367080" y="3478320"/>
            <a:ext cx="5111640" cy="3403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2"/>
          <p:cNvSpPr/>
          <p:nvPr/>
        </p:nvSpPr>
        <p:spPr>
          <a:xfrm>
            <a:off x="3149640" y="2204640"/>
            <a:ext cx="75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微软雅黑"/>
              </a:rPr>
              <a:t>影           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3149640" y="2204640"/>
            <a:ext cx="75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微软雅黑"/>
              </a:rPr>
              <a:t>影           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149640" y="2204640"/>
            <a:ext cx="75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微软雅黑"/>
              </a:rPr>
              <a:t>影           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157560" y="2204640"/>
            <a:ext cx="75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微软雅黑"/>
              </a:rPr>
              <a:t>影           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1"/>
          <p:cNvGrpSpPr/>
          <p:nvPr/>
        </p:nvGrpSpPr>
        <p:grpSpPr>
          <a:xfrm>
            <a:off x="-21979080" y="-2135880"/>
            <a:ext cx="21916080" cy="9020880"/>
            <a:chOff x="-21979080" y="-2135880"/>
            <a:chExt cx="21916080" cy="9020880"/>
          </a:xfrm>
        </p:grpSpPr>
        <p:sp>
          <p:nvSpPr>
            <p:cNvPr id="273" name="AutoShape 4"/>
            <p:cNvSpPr/>
            <p:nvPr/>
          </p:nvSpPr>
          <p:spPr>
            <a:xfrm rot="19853400">
              <a:off x="-8207280" y="-817200"/>
              <a:ext cx="7056720" cy="630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/>
            <p:cNvSpPr/>
            <p:nvPr/>
          </p:nvSpPr>
          <p:spPr>
            <a:xfrm>
              <a:off x="-21979080" y="-503280"/>
              <a:ext cx="15770160" cy="73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3440" y="1298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6961E-006 1.85185E-006 L 1.62987 1.85185E-006 E">
                                      <p:cBhvr>
                                        <p:cTn id="631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6:09:0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2:33:52Z</dcterms:modified>
  <cp:revision>2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