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2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B44-E225-4BC9-8DCD-D287DB11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B14-614D-47C0-AD17-45743736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213-FF8C-4D6D-B32E-EBFA7AEE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2820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52256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3348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602820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52256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480-9F14-4048-900C-399F3647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06CF-B9FE-4B99-A6AB-CA851C63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1739-B128-4A22-964F-88A8454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73C8-B1FE-415B-A0C9-B646446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189-EFE4-4E0E-B6B0-C3EF31F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670C-24AE-40D6-864C-188E1D57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D54-DF82-4EF3-B008-DA252E7E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8F05-44A1-41B9-8B6C-742D4F9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C3A-F0E4-4C67-AD7E-9A4E0F5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3B8-B76B-4FB3-88F3-F019F297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78F-EAF7-4D6E-9BE7-CC85414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BDF6-F766-4DAF-9EED-D7C51C3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1279-A3CC-45E5-BE9D-10F9B0CC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2820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2256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3348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602820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52256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67D4-A148-45C7-84E2-1C62747A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470-EE4F-4892-B5D6-9DB219DA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E8E-BE82-445E-8A29-0A888F3A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E4C-1A0C-4D7A-A3D2-81282B9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483-A49C-4DD0-9278-80172F7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70B-5054-46A5-BC1E-A89E21B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21F-FA95-4B31-91ED-6C98111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27A-67F8-418B-A511-F079ACF4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8c948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F8D-5AFB-4C18-BB32-53C58620A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rcRect l="0" t="0" r="0" b="16514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 rot="20663400">
            <a:off x="304920" y="-74520"/>
            <a:ext cx="442800" cy="1674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8c9484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16514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492720" y="404640"/>
              <a:ext cx="565128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506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A2E-29FA-46B8-BEEB-0B18CD998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680" y="29376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image" Target="../media/image11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wmf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wmf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wmf"/><Relationship Id="rId10" Type="http://schemas.openxmlformats.org/officeDocument/2006/relationships/image" Target="../media/image13.png"/><Relationship Id="rId11" Type="http://schemas.openxmlformats.org/officeDocument/2006/relationships/image" Target="../media/image11.png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f506d"/>
                </a:solidFill>
                <a:latin typeface="Arial"/>
              </a:rPr>
              <a:t>ThemeGallery </a:t>
            </a:r>
            <a:r>
              <a:rPr b="1" lang="en-US" sz="4800" spc="-1" strike="noStrike">
                <a:solidFill>
                  <a:srgbClr val="4f506d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1640" y="19810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1986120" y="569592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2685960" y="2590920"/>
            <a:ext cx="5240520" cy="3011400"/>
          </a:xfrm>
          <a:prstGeom prst="pie">
            <a:avLst/>
          </a:prstGeom>
          <a:gradFill rotWithShape="0">
            <a:gsLst>
              <a:gs pos="0">
                <a:srgbClr val="eef3f9">
                  <a:alpha val="80000"/>
                </a:srgbClr>
              </a:gs>
              <a:gs pos="100000">
                <a:srgbClr val="8c948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800440" y="571644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2964960" y="4786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36360" y="466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097880" y="3924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4866480" y="3214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5496480" y="4735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979240" y="383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6724440" y="2170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3d00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7758720" y="28940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1973160" y="61261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  (unit: %)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2043000" y="57783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658800" y="288144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533520" y="2732040"/>
            <a:ext cx="3870360" cy="0"/>
          </a:xfrm>
          <a:prstGeom prst="line">
            <a:avLst/>
          </a:prstGeom>
          <a:ln w="12600">
            <a:solidFill>
              <a:srgbClr val="4f50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6" name="Oval 18"/>
          <p:cNvSpPr/>
          <p:nvPr/>
        </p:nvSpPr>
        <p:spPr>
          <a:xfrm>
            <a:off x="3119400" y="5046840"/>
            <a:ext cx="193680" cy="19332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7" name="Oval 19"/>
          <p:cNvSpPr/>
          <p:nvPr/>
        </p:nvSpPr>
        <p:spPr>
          <a:xfrm>
            <a:off x="3778200" y="497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8" name="Oval 20"/>
          <p:cNvSpPr/>
          <p:nvPr/>
        </p:nvSpPr>
        <p:spPr>
          <a:xfrm>
            <a:off x="4402080" y="4265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9" name="Oval 21"/>
          <p:cNvSpPr/>
          <p:nvPr/>
        </p:nvSpPr>
        <p:spPr>
          <a:xfrm>
            <a:off x="5035680" y="3492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0" name="Oval 22"/>
          <p:cNvSpPr/>
          <p:nvPr/>
        </p:nvSpPr>
        <p:spPr>
          <a:xfrm>
            <a:off x="5716440" y="4549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1" name="Oval 23"/>
          <p:cNvSpPr/>
          <p:nvPr/>
        </p:nvSpPr>
        <p:spPr>
          <a:xfrm>
            <a:off x="6332400" y="41450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2" name="Oval 24"/>
          <p:cNvSpPr/>
          <p:nvPr/>
        </p:nvSpPr>
        <p:spPr>
          <a:xfrm>
            <a:off x="7101000" y="2575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3" name="Oval 25"/>
          <p:cNvSpPr/>
          <p:nvPr/>
        </p:nvSpPr>
        <p:spPr>
          <a:xfrm>
            <a:off x="7792920" y="316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4" name="Text Box 26"/>
          <p:cNvSpPr/>
          <p:nvPr/>
        </p:nvSpPr>
        <p:spPr>
          <a:xfrm>
            <a:off x="2454120" y="288144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5" name="Rectangle 27"/>
          <p:cNvSpPr/>
          <p:nvPr/>
        </p:nvSpPr>
        <p:spPr>
          <a:xfrm>
            <a:off x="859680" y="228132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506d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921280" y="1847880"/>
            <a:ext cx="2379600" cy="608040"/>
            <a:chOff x="5921280" y="1847880"/>
            <a:chExt cx="2379600" cy="608040"/>
          </a:xfrm>
        </p:grpSpPr>
        <p:sp>
          <p:nvSpPr>
            <p:cNvPr id="499" name=""/>
            <p:cNvSpPr/>
            <p:nvPr/>
          </p:nvSpPr>
          <p:spPr>
            <a:xfrm>
              <a:off x="5921280" y="1854360"/>
              <a:ext cx="2379600" cy="6015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5943600" y="212256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7855920" y="1847880"/>
              <a:ext cx="41940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"/>
          <p:cNvGrpSpPr/>
          <p:nvPr/>
        </p:nvGrpSpPr>
        <p:grpSpPr>
          <a:xfrm>
            <a:off x="3398760" y="1847880"/>
            <a:ext cx="2379600" cy="608040"/>
            <a:chOff x="3398760" y="1847880"/>
            <a:chExt cx="2379600" cy="608040"/>
          </a:xfrm>
        </p:grpSpPr>
        <p:sp>
          <p:nvSpPr>
            <p:cNvPr id="503" name=""/>
            <p:cNvSpPr/>
            <p:nvPr/>
          </p:nvSpPr>
          <p:spPr>
            <a:xfrm>
              <a:off x="339876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257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3409920" y="212256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342040" y="1847880"/>
              <a:ext cx="419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"/>
          <p:cNvGrpSpPr/>
          <p:nvPr/>
        </p:nvGrpSpPr>
        <p:grpSpPr>
          <a:xfrm>
            <a:off x="914400" y="1847880"/>
            <a:ext cx="2379600" cy="608040"/>
            <a:chOff x="914400" y="1847880"/>
            <a:chExt cx="2379600" cy="608040"/>
          </a:xfrm>
        </p:grpSpPr>
        <p:sp>
          <p:nvSpPr>
            <p:cNvPr id="507" name=""/>
            <p:cNvSpPr/>
            <p:nvPr/>
          </p:nvSpPr>
          <p:spPr>
            <a:xfrm>
              <a:off x="91440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46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933480" y="211284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2855880" y="1847880"/>
              <a:ext cx="419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"/>
          <p:cNvGrpSpPr/>
          <p:nvPr/>
        </p:nvGrpSpPr>
        <p:grpSpPr>
          <a:xfrm>
            <a:off x="928800" y="2406600"/>
            <a:ext cx="2369880" cy="3765240"/>
            <a:chOff x="928800" y="2406600"/>
            <a:chExt cx="2369880" cy="3765240"/>
          </a:xfrm>
        </p:grpSpPr>
        <p:sp>
          <p:nvSpPr>
            <p:cNvPr id="511" name=""/>
            <p:cNvSpPr/>
            <p:nvPr/>
          </p:nvSpPr>
          <p:spPr>
            <a:xfrm>
              <a:off x="928800" y="6107760"/>
              <a:ext cx="2369880" cy="6408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2880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047600" y="2570040"/>
            <a:ext cx="7073640" cy="2830320"/>
            <a:chOff x="1047600" y="2570040"/>
            <a:chExt cx="7073640" cy="2830320"/>
          </a:xfrm>
        </p:grpSpPr>
        <p:sp>
          <p:nvSpPr>
            <p:cNvPr id="514" name=""/>
            <p:cNvSpPr/>
            <p:nvPr/>
          </p:nvSpPr>
          <p:spPr>
            <a:xfrm>
              <a:off x="1176840" y="2695680"/>
              <a:ext cx="2080440" cy="25873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11320" y="2942280"/>
              <a:ext cx="55800" cy="374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15680" y="3106800"/>
              <a:ext cx="63720" cy="424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99440" y="3181320"/>
              <a:ext cx="160560" cy="98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21480" y="3693960"/>
              <a:ext cx="259200" cy="1119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34600" y="3779640"/>
              <a:ext cx="162720" cy="54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07040" y="3814200"/>
              <a:ext cx="6228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99200" y="3818160"/>
              <a:ext cx="19440" cy="33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98600" y="2688480"/>
              <a:ext cx="295560" cy="117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0000" y="2634120"/>
              <a:ext cx="239760" cy="79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6600" y="2727360"/>
              <a:ext cx="382320" cy="2534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3360" y="2617920"/>
              <a:ext cx="72000" cy="4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25480" y="2711160"/>
              <a:ext cx="106200" cy="561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37080" y="2722320"/>
              <a:ext cx="88560" cy="331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89560" y="2674080"/>
              <a:ext cx="104760" cy="45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5280" y="2631240"/>
              <a:ext cx="72000" cy="32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32120" y="2635200"/>
              <a:ext cx="187200" cy="1026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47600" y="2962440"/>
              <a:ext cx="40680" cy="201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90320" y="364464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95360" y="367812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30520" y="3854160"/>
              <a:ext cx="244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33920" y="3207960"/>
              <a:ext cx="619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9760" y="2934360"/>
              <a:ext cx="619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76320" y="2695680"/>
              <a:ext cx="637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0000" y="2839680"/>
              <a:ext cx="6228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06280" y="2570040"/>
              <a:ext cx="1142640" cy="461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55840" y="28155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20600" y="2903400"/>
              <a:ext cx="209880" cy="7236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86560" y="2685960"/>
              <a:ext cx="63720" cy="316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28280" y="2643480"/>
              <a:ext cx="254160" cy="835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7400" y="2687400"/>
              <a:ext cx="78840" cy="280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08240" y="3050640"/>
              <a:ext cx="178560" cy="1760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19680" y="3114720"/>
              <a:ext cx="113040" cy="9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7720" y="4640760"/>
              <a:ext cx="778320" cy="6609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9280" y="4292280"/>
              <a:ext cx="523440" cy="280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44040" y="4294800"/>
              <a:ext cx="510840" cy="2818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2040" y="5322960"/>
              <a:ext cx="73440" cy="774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4880" y="5202720"/>
              <a:ext cx="268920" cy="1134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4240" y="5136120"/>
              <a:ext cx="170640" cy="1227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14240" y="5081400"/>
              <a:ext cx="60840" cy="342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85360" y="4432680"/>
              <a:ext cx="201600" cy="2682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58720" y="4015800"/>
              <a:ext cx="80640" cy="81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05560" y="4104000"/>
              <a:ext cx="181800" cy="244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51120" y="4027680"/>
              <a:ext cx="118080" cy="1828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31400" y="4174560"/>
              <a:ext cx="65880" cy="1749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05560" y="4357800"/>
              <a:ext cx="106560" cy="72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76560" y="4231080"/>
              <a:ext cx="136080" cy="1558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30480" y="3672720"/>
              <a:ext cx="36000" cy="95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53520" y="3831480"/>
              <a:ext cx="100080" cy="1576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23720" y="4039920"/>
              <a:ext cx="105120" cy="1051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49000" y="4228200"/>
              <a:ext cx="47160" cy="651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22720" y="4337640"/>
              <a:ext cx="29160" cy="22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67000" y="4324320"/>
              <a:ext cx="73440" cy="49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80040" y="441792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18880" y="4361760"/>
              <a:ext cx="75240" cy="62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66560" y="4440600"/>
              <a:ext cx="75240" cy="666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6280" y="4465800"/>
              <a:ext cx="52200" cy="36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51720" y="4427280"/>
              <a:ext cx="39240" cy="414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07520" y="4441680"/>
              <a:ext cx="55800" cy="320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7240" y="3998520"/>
              <a:ext cx="44280" cy="73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10760" y="3986640"/>
              <a:ext cx="30960" cy="730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47120" y="3963960"/>
              <a:ext cx="16200" cy="331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63320" y="3979800"/>
              <a:ext cx="34560" cy="637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1600" y="4071960"/>
              <a:ext cx="19440" cy="36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05400" y="40413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8560" y="4017240"/>
              <a:ext cx="19440" cy="18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8760" y="3963960"/>
              <a:ext cx="1800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82360" y="3997080"/>
              <a:ext cx="26280" cy="16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55040" y="4829040"/>
              <a:ext cx="73440" cy="79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34120" y="4763520"/>
              <a:ext cx="87120" cy="612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71680" y="4730400"/>
              <a:ext cx="27720" cy="30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58720" y="4700880"/>
              <a:ext cx="32760" cy="22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07440" y="444168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63240" y="4499280"/>
              <a:ext cx="42120" cy="439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07520" y="4583520"/>
              <a:ext cx="45720" cy="370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63320" y="4570200"/>
              <a:ext cx="45720" cy="342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47120" y="4521960"/>
              <a:ext cx="42120" cy="26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04280" y="4488480"/>
              <a:ext cx="42480" cy="46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1720" y="446724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17240" y="453780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73760" y="2703240"/>
              <a:ext cx="231120" cy="1440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11640" y="2842200"/>
              <a:ext cx="65520" cy="158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48240" y="2634120"/>
              <a:ext cx="68760" cy="370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97200" y="2651400"/>
              <a:ext cx="82080" cy="26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85760" y="2655360"/>
              <a:ext cx="82080" cy="42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8880" y="2691360"/>
              <a:ext cx="144720" cy="4140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6840" y="2689920"/>
              <a:ext cx="75240" cy="32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72640" y="2728800"/>
              <a:ext cx="60480" cy="22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86280" y="3027960"/>
              <a:ext cx="124560" cy="1519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6360" y="3185280"/>
              <a:ext cx="90360" cy="1040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27320" y="3292200"/>
              <a:ext cx="178920" cy="2520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85280" y="2619360"/>
              <a:ext cx="84960" cy="399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09600" y="2631240"/>
              <a:ext cx="30600" cy="291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48840" y="2629800"/>
              <a:ext cx="60480" cy="36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49280" y="2617920"/>
              <a:ext cx="32760" cy="208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19400" y="2642040"/>
              <a:ext cx="24480" cy="16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1400" y="2663280"/>
              <a:ext cx="29520" cy="43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9880" y="4602240"/>
              <a:ext cx="50760" cy="237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05400" y="459288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5600" y="438732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94240" y="428976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54640" y="428832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36280" y="431748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95600" y="436284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26920" y="43455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22720" y="302652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22640" y="298116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32040" y="2691360"/>
              <a:ext cx="3382560" cy="21949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08576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4116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08576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4116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8576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4116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576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4116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8576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4116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8576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4116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05732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05732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05732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05732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05732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974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4452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974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44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4974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5244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974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44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974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244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974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5244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544920" y="3024000"/>
            <a:ext cx="21495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544920" y="3747960"/>
            <a:ext cx="21495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544920" y="445896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544920" y="499068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544920" y="553860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246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8000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246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8000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246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8000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8000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246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8000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246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47208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08184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08184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08184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08184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8184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29000" y="2406600"/>
            <a:ext cx="2387520" cy="3765240"/>
            <a:chOff x="3429000" y="2406600"/>
            <a:chExt cx="2387520" cy="3765240"/>
          </a:xfrm>
        </p:grpSpPr>
        <p:sp>
          <p:nvSpPr>
            <p:cNvPr id="674" name=""/>
            <p:cNvSpPr/>
            <p:nvPr/>
          </p:nvSpPr>
          <p:spPr>
            <a:xfrm>
              <a:off x="3429000" y="6107760"/>
              <a:ext cx="2387520" cy="6408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954760" y="2406600"/>
            <a:ext cx="2389320" cy="3765240"/>
            <a:chOff x="5954760" y="2406600"/>
            <a:chExt cx="2389320" cy="3765240"/>
          </a:xfrm>
        </p:grpSpPr>
        <p:sp>
          <p:nvSpPr>
            <p:cNvPr id="677" name=""/>
            <p:cNvSpPr/>
            <p:nvPr/>
          </p:nvSpPr>
          <p:spPr>
            <a:xfrm>
              <a:off x="5954760" y="6107760"/>
              <a:ext cx="2389320" cy="6408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5476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96660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5888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9256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478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480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/>
          <p:cNvSpPr/>
          <p:nvPr/>
        </p:nvSpPr>
        <p:spPr>
          <a:xfrm rot="18445200">
            <a:off x="2736720" y="39855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13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7" name="AutoShape 4"/>
          <p:cNvSpPr/>
          <p:nvPr/>
        </p:nvSpPr>
        <p:spPr>
          <a:xfrm rot="3096600">
            <a:off x="4549320" y="37670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7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8" name="AutoShape 5"/>
          <p:cNvSpPr/>
          <p:nvPr/>
        </p:nvSpPr>
        <p:spPr>
          <a:xfrm rot="10800000">
            <a:off x="3770280" y="5016240"/>
            <a:ext cx="1596960" cy="595080"/>
          </a:xfrm>
          <a:prstGeom prst="rightArrow">
            <a:avLst>
              <a:gd name="adj1" fmla="val 49380"/>
              <a:gd name="adj2" fmla="val 6629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380880" y="36320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90" name="Group 7"/>
          <p:cNvGrpSpPr/>
          <p:nvPr/>
        </p:nvGrpSpPr>
        <p:grpSpPr>
          <a:xfrm>
            <a:off x="3848040" y="2379600"/>
            <a:ext cx="1289160" cy="1317600"/>
            <a:chOff x="3848040" y="2379600"/>
            <a:chExt cx="1289160" cy="1317600"/>
          </a:xfrm>
        </p:grpSpPr>
        <p:sp>
          <p:nvSpPr>
            <p:cNvPr id="691" name="Oval 8"/>
            <p:cNvSpPr/>
            <p:nvPr/>
          </p:nvSpPr>
          <p:spPr>
            <a:xfrm>
              <a:off x="3848040" y="2423880"/>
              <a:ext cx="1289160" cy="1273320"/>
            </a:xfrm>
            <a:prstGeom prst="ellipse">
              <a:avLst/>
            </a:prstGeom>
            <a:solidFill>
              <a:srgbClr val="8c9484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92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480" y="237960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Rectangle 10"/>
          <p:cNvSpPr/>
          <p:nvPr/>
        </p:nvSpPr>
        <p:spPr>
          <a:xfrm>
            <a:off x="3887280" y="2892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94" name="Group 11"/>
          <p:cNvGrpSpPr/>
          <p:nvPr/>
        </p:nvGrpSpPr>
        <p:grpSpPr>
          <a:xfrm>
            <a:off x="5300640" y="4641840"/>
            <a:ext cx="1289160" cy="1317600"/>
            <a:chOff x="5300640" y="4641840"/>
            <a:chExt cx="1289160" cy="1317600"/>
          </a:xfrm>
        </p:grpSpPr>
        <p:sp>
          <p:nvSpPr>
            <p:cNvPr id="695" name="Oval 12"/>
            <p:cNvSpPr/>
            <p:nvPr/>
          </p:nvSpPr>
          <p:spPr>
            <a:xfrm>
              <a:off x="5300640" y="4686120"/>
              <a:ext cx="1289160" cy="1273320"/>
            </a:xfrm>
            <a:prstGeom prst="ellipse">
              <a:avLst/>
            </a:prstGeom>
            <a:solidFill>
              <a:srgbClr val="a56f73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96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080" y="46418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Rectangle 14"/>
          <p:cNvSpPr/>
          <p:nvPr/>
        </p:nvSpPr>
        <p:spPr>
          <a:xfrm>
            <a:off x="533988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98" name="Group 15"/>
          <p:cNvGrpSpPr/>
          <p:nvPr/>
        </p:nvGrpSpPr>
        <p:grpSpPr>
          <a:xfrm>
            <a:off x="2438280" y="4641840"/>
            <a:ext cx="1289160" cy="1317600"/>
            <a:chOff x="2438280" y="4641840"/>
            <a:chExt cx="1289160" cy="1317600"/>
          </a:xfrm>
        </p:grpSpPr>
        <p:sp>
          <p:nvSpPr>
            <p:cNvPr id="699" name="Oval 16"/>
            <p:cNvSpPr/>
            <p:nvPr/>
          </p:nvSpPr>
          <p:spPr>
            <a:xfrm>
              <a:off x="2438280" y="4686120"/>
              <a:ext cx="1289160" cy="1273320"/>
            </a:xfrm>
            <a:prstGeom prst="ellipse">
              <a:avLst/>
            </a:prstGeom>
            <a:solidFill>
              <a:srgbClr val="6b7fad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00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7720" y="46418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1" name="Rectangle 18"/>
          <p:cNvSpPr/>
          <p:nvPr/>
        </p:nvSpPr>
        <p:spPr>
          <a:xfrm>
            <a:off x="247752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5846760" y="35463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3060720" y="6051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58752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2b9a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b7fad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b2b9a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b2b9a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4844880" y="267660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18363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2808360" y="26780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2598840" y="2378160"/>
            <a:ext cx="4349520" cy="517320"/>
          </a:xfrm>
          <a:prstGeom prst="pie">
            <a:avLst/>
          </a:prstGeom>
          <a:gradFill rotWithShape="0">
            <a:gsLst>
              <a:gs pos="0">
                <a:srgbClr val="a56f73"/>
              </a:gs>
              <a:gs pos="100000">
                <a:srgbClr val="4c33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1347840" y="2376360"/>
            <a:ext cx="2400120" cy="28958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3c36"/>
              </a:gs>
              <a:gs pos="100000">
                <a:srgbClr val="8c9484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1496880" y="304020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3286080" y="240516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5600880" y="34290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1371600" y="19051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3710160" y="34257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1335240" y="5378400"/>
            <a:ext cx="6049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725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4a3c2d"/>
                </a:gs>
                <a:gs pos="100000">
                  <a:srgbClr val="a183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6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72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30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731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13a4f"/>
                </a:gs>
                <a:gs pos="100000">
                  <a:srgbClr val="6b7f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3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36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737" name="Freeform 23"/>
            <p:cNvSpPr/>
            <p:nvPr/>
          </p:nvSpPr>
          <p:spPr>
            <a:xfrm>
              <a:off x="4101840" y="498960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8" name="Freeform 24"/>
            <p:cNvSpPr/>
            <p:nvPr/>
          </p:nvSpPr>
          <p:spPr>
            <a:xfrm>
              <a:off x="4551480" y="486648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9" name="Freeform 25"/>
            <p:cNvSpPr/>
            <p:nvPr/>
          </p:nvSpPr>
          <p:spPr>
            <a:xfrm>
              <a:off x="5017680" y="5067720"/>
              <a:ext cx="600120" cy="2786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3935520" y="42130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1" name="Freeform 27"/>
            <p:cNvSpPr/>
            <p:nvPr/>
          </p:nvSpPr>
          <p:spPr>
            <a:xfrm>
              <a:off x="4358160" y="3794040"/>
              <a:ext cx="551520" cy="139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2" name="Freeform 28"/>
            <p:cNvSpPr/>
            <p:nvPr/>
          </p:nvSpPr>
          <p:spPr>
            <a:xfrm>
              <a:off x="4862520" y="42364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4760" y="1600200"/>
            <a:ext cx="8388360" cy="4800240"/>
            <a:chOff x="374760" y="1600200"/>
            <a:chExt cx="8388360" cy="4800240"/>
          </a:xfrm>
        </p:grpSpPr>
        <p:sp>
          <p:nvSpPr>
            <p:cNvPr id="746" name=""/>
            <p:cNvSpPr/>
            <p:nvPr/>
          </p:nvSpPr>
          <p:spPr>
            <a:xfrm>
              <a:off x="37476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89680" y="23493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8" y="0"/>
                  </a:moveTo>
                  <a:arcTo wR="488" hR="488" stAng="16200000" swAng="-5400000"/>
                  <a:lnTo>
                    <a:pt x="0" y="32322"/>
                  </a:lnTo>
                  <a:arcTo wR="488" hR="488" stAng="10800000" swAng="-5400000"/>
                  <a:lnTo>
                    <a:pt x="21112" y="3281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53280" y="23493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8" y="0"/>
                  </a:moveTo>
                  <a:arcTo wR="488" hR="488" stAng="16200000" swAng="-5400000"/>
                  <a:lnTo>
                    <a:pt x="0" y="32407"/>
                  </a:lnTo>
                  <a:arcTo wR="488" hR="488" stAng="10800000" swAng="-5400000"/>
                  <a:lnTo>
                    <a:pt x="21112" y="3289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68760" y="16002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Arial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Arial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Arial"/>
                </a:rPr>
                <a:t>by Guild Design Inc.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139788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651636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99900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a3c2d"/>
                </a:gs>
                <a:gs pos="100000">
                  <a:srgbClr val="a1836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24920" y="23857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Arial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3072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75472"/>
                </a:gs>
                <a:gs pos="100000">
                  <a:srgbClr val="6b7fad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7588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Arial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550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418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6464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390924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351036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45080" y="23857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Arial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6676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746160" y="3957840"/>
              <a:ext cx="1890360" cy="1987200"/>
              <a:chOff x="3746160" y="3957840"/>
              <a:chExt cx="1890360" cy="1987200"/>
            </a:xfrm>
          </p:grpSpPr>
          <p:pic>
            <p:nvPicPr>
              <p:cNvPr id="7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128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>
                <a:off x="3761280" y="4030920"/>
                <a:ext cx="1811880" cy="1829520"/>
              </a:xfrm>
              <a:prstGeom prst="ellipse">
                <a:avLst/>
              </a:prstGeom>
              <a:solidFill>
                <a:srgbClr val="a56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766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74616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7" name=""/>
              <p:cNvGrpSpPr/>
              <p:nvPr/>
            </p:nvGrpSpPr>
            <p:grpSpPr>
              <a:xfrm>
                <a:off x="4342680" y="4763520"/>
                <a:ext cx="1293840" cy="1181520"/>
                <a:chOff x="4342680" y="4763520"/>
                <a:chExt cx="1293840" cy="118152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4641480" y="4763520"/>
                  <a:ext cx="995040" cy="1169640"/>
                  <a:chOff x="4641480" y="4763520"/>
                  <a:chExt cx="995040" cy="11696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flipH="1" flipV="1" rot="1528800">
                    <a:off x="519660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 rot="2344200">
                    <a:off x="512064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 rot="2640000">
                    <a:off x="505908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 rot="3172200">
                    <a:off x="498168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4342680" y="5087160"/>
                  <a:ext cx="1251360" cy="857880"/>
                  <a:chOff x="4342680" y="5087160"/>
                  <a:chExt cx="1251360" cy="8578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H="1" flipV="1" rot="2881800">
                    <a:off x="503532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 rot="3697200">
                    <a:off x="491112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 rot="3993000">
                    <a:off x="482616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 rot="4525200">
                    <a:off x="472428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8" name=""/>
            <p:cNvGrpSpPr/>
            <p:nvPr/>
          </p:nvGrpSpPr>
          <p:grpSpPr>
            <a:xfrm>
              <a:off x="1266840" y="3957840"/>
              <a:ext cx="1890360" cy="1987200"/>
              <a:chOff x="1266840" y="3957840"/>
              <a:chExt cx="1890360" cy="1987200"/>
            </a:xfrm>
          </p:grpSpPr>
          <p:pic>
            <p:nvPicPr>
              <p:cNvPr id="7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8196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1281960" y="4030920"/>
                <a:ext cx="1811880" cy="1829520"/>
              </a:xfrm>
              <a:prstGeom prst="ellipse">
                <a:avLst/>
              </a:prstGeom>
              <a:solidFill>
                <a:srgbClr val="a183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781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26684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2" name=""/>
              <p:cNvGrpSpPr/>
              <p:nvPr/>
            </p:nvGrpSpPr>
            <p:grpSpPr>
              <a:xfrm>
                <a:off x="1863360" y="4763520"/>
                <a:ext cx="1293840" cy="1181520"/>
                <a:chOff x="1863360" y="4763520"/>
                <a:chExt cx="1293840" cy="1181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2162160" y="4763520"/>
                  <a:ext cx="995040" cy="1169640"/>
                  <a:chOff x="2162160" y="4763520"/>
                  <a:chExt cx="995040" cy="116964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H="1" flipV="1" rot="1528800">
                    <a:off x="271728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 rot="2344200">
                    <a:off x="264132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 rot="2640000">
                    <a:off x="257976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 rot="3172200">
                    <a:off x="250236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1863360" y="5087160"/>
                  <a:ext cx="1251360" cy="857880"/>
                  <a:chOff x="1863360" y="5087160"/>
                  <a:chExt cx="1251360" cy="85788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flipV="1" rot="2881800">
                    <a:off x="255600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 rot="3697200">
                    <a:off x="243180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 rot="3993000">
                    <a:off x="234684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 rot="4525200">
                    <a:off x="224496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3" name=""/>
            <p:cNvGrpSpPr/>
            <p:nvPr/>
          </p:nvGrpSpPr>
          <p:grpSpPr>
            <a:xfrm>
              <a:off x="6338160" y="3957840"/>
              <a:ext cx="1890360" cy="1987200"/>
              <a:chOff x="6338160" y="3957840"/>
              <a:chExt cx="1890360" cy="1987200"/>
            </a:xfrm>
          </p:grpSpPr>
          <p:pic>
            <p:nvPicPr>
              <p:cNvPr id="7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5328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"/>
              <p:cNvSpPr/>
              <p:nvPr/>
            </p:nvSpPr>
            <p:spPr>
              <a:xfrm>
                <a:off x="6353280" y="4030920"/>
                <a:ext cx="1811880" cy="1829520"/>
              </a:xfrm>
              <a:prstGeom prst="ellipse">
                <a:avLst/>
              </a:prstGeom>
              <a:solidFill>
                <a:srgbClr val="6b7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796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3816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7" name=""/>
              <p:cNvGrpSpPr/>
              <p:nvPr/>
            </p:nvGrpSpPr>
            <p:grpSpPr>
              <a:xfrm>
                <a:off x="6934680" y="4763520"/>
                <a:ext cx="1293840" cy="1181520"/>
                <a:chOff x="6934680" y="4763520"/>
                <a:chExt cx="1293840" cy="118152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7233480" y="4763520"/>
                  <a:ext cx="995040" cy="1169640"/>
                  <a:chOff x="7233480" y="4763520"/>
                  <a:chExt cx="995040" cy="116964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flipV="1" rot="1528800">
                    <a:off x="778860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 rot="2344200">
                    <a:off x="771264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 rot="2640000">
                    <a:off x="765108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 rot="3172200">
                    <a:off x="757368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934680" y="5087160"/>
                  <a:ext cx="1251360" cy="857880"/>
                  <a:chOff x="6934680" y="5087160"/>
                  <a:chExt cx="1251360" cy="857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H="1" flipV="1" rot="2881800">
                    <a:off x="762732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 rot="3697200">
                    <a:off x="750312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 rot="3993000">
                    <a:off x="741816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 rot="4525200">
                    <a:off x="731628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08" name=""/>
            <p:cNvSpPr/>
            <p:nvPr/>
          </p:nvSpPr>
          <p:spPr>
            <a:xfrm>
              <a:off x="143748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96576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23920" y="46555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2"/>
          <p:cNvSpPr/>
          <p:nvPr/>
        </p:nvSpPr>
        <p:spPr>
          <a:xfrm>
            <a:off x="674640" y="31971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813" name="Group 4"/>
          <p:cNvGrpSpPr/>
          <p:nvPr/>
        </p:nvGrpSpPr>
        <p:grpSpPr>
          <a:xfrm>
            <a:off x="3571920" y="2668680"/>
            <a:ext cx="2095560" cy="2681280"/>
            <a:chOff x="3571920" y="2668680"/>
            <a:chExt cx="2095560" cy="2681280"/>
          </a:xfrm>
        </p:grpSpPr>
        <p:sp>
          <p:nvSpPr>
            <p:cNvPr id="814" name="Freeform 5"/>
            <p:cNvSpPr/>
            <p:nvPr/>
          </p:nvSpPr>
          <p:spPr>
            <a:xfrm>
              <a:off x="3571920" y="3083040"/>
              <a:ext cx="1038240" cy="2266920"/>
            </a:xfrm>
            <a:prstGeom prst="pie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4602240" y="3090960"/>
              <a:ext cx="1065240" cy="2257560"/>
            </a:xfrm>
            <a:prstGeom prst="pie">
              <a:avLst/>
            </a:pr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>
              <a:off x="3573360" y="2668680"/>
              <a:ext cx="2070360" cy="598320"/>
            </a:xfrm>
            <a:prstGeom prst="pie">
              <a:avLst/>
            </a:prstGeom>
            <a:solidFill>
              <a:srgbClr val="d1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754440" y="2913120"/>
              <a:ext cx="839880" cy="1798560"/>
            </a:xfrm>
            <a:prstGeom prst="pie">
              <a:avLst/>
            </a:pr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>
              <a:off x="4587840" y="2914920"/>
              <a:ext cx="838440" cy="1782720"/>
            </a:xfrm>
            <a:prstGeom prst="pie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749760" y="4310280"/>
              <a:ext cx="1684440" cy="744480"/>
            </a:xfrm>
            <a:prstGeom prst="pie">
              <a:avLst/>
            </a:pr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20" name="Line 11"/>
          <p:cNvSpPr/>
          <p:nvPr/>
        </p:nvSpPr>
        <p:spPr>
          <a:xfrm flipV="1">
            <a:off x="2166840" y="48481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 flipV="1">
            <a:off x="5668560" y="48513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22" name="Line 13"/>
          <p:cNvSpPr/>
          <p:nvPr/>
        </p:nvSpPr>
        <p:spPr>
          <a:xfrm flipV="1">
            <a:off x="5641920" y="17002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23" name="Line 14"/>
          <p:cNvSpPr/>
          <p:nvPr/>
        </p:nvSpPr>
        <p:spPr>
          <a:xfrm flipH="1" flipV="1">
            <a:off x="2155680" y="169380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824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56876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6" descr="circuler_1"/>
          <p:cNvPicPr/>
          <p:nvPr/>
        </p:nvPicPr>
        <p:blipFill>
          <a:blip r:embed="rId2"/>
          <a:stretch/>
        </p:blipFill>
        <p:spPr>
          <a:xfrm>
            <a:off x="3833640" y="3309840"/>
            <a:ext cx="14796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826" name="Oval 17"/>
          <p:cNvGrpSpPr/>
          <p:nvPr/>
        </p:nvGrpSpPr>
        <p:grpSpPr>
          <a:xfrm>
            <a:off x="3825720" y="3301920"/>
            <a:ext cx="1481040" cy="1498680"/>
            <a:chOff x="3825720" y="3301920"/>
            <a:chExt cx="1481040" cy="1498680"/>
          </a:xfrm>
        </p:grpSpPr>
        <p:pic>
          <p:nvPicPr>
            <p:cNvPr id="827" name="Oval 17" descr=""/>
            <p:cNvPicPr/>
            <p:nvPr/>
          </p:nvPicPr>
          <p:blipFill>
            <a:blip r:embed="rId3"/>
            <a:stretch/>
          </p:blipFill>
          <p:spPr>
            <a:xfrm>
              <a:off x="3825720" y="3301920"/>
              <a:ext cx="148104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4047840" y="3527280"/>
              <a:ext cx="104004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29" name="Freeform 18"/>
          <p:cNvSpPr/>
          <p:nvPr/>
        </p:nvSpPr>
        <p:spPr>
          <a:xfrm>
            <a:off x="3986280" y="3340080"/>
            <a:ext cx="115416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0" name="Rectangle 19"/>
          <p:cNvSpPr/>
          <p:nvPr/>
        </p:nvSpPr>
        <p:spPr>
          <a:xfrm>
            <a:off x="741240" y="32194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1" name="AutoShape 20"/>
          <p:cNvSpPr/>
          <p:nvPr/>
        </p:nvSpPr>
        <p:spPr>
          <a:xfrm>
            <a:off x="5899320" y="313524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2" name="Rectangle 21"/>
          <p:cNvSpPr/>
          <p:nvPr/>
        </p:nvSpPr>
        <p:spPr>
          <a:xfrm>
            <a:off x="5965920" y="315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3" name="Rectangle 22"/>
          <p:cNvSpPr/>
          <p:nvPr/>
        </p:nvSpPr>
        <p:spPr>
          <a:xfrm>
            <a:off x="3095640" y="184464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4" name="Rectangle 23"/>
          <p:cNvSpPr/>
          <p:nvPr/>
        </p:nvSpPr>
        <p:spPr>
          <a:xfrm>
            <a:off x="423720" y="36925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5702400" y="36306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6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f506d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7" name="Text Box 29"/>
          <p:cNvSpPr/>
          <p:nvPr/>
        </p:nvSpPr>
        <p:spPr>
          <a:xfrm>
            <a:off x="4239000" y="3895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5350320" y="2292840"/>
            <a:ext cx="3482280" cy="3481920"/>
            <a:chOff x="5350320" y="2292840"/>
            <a:chExt cx="3482280" cy="3481920"/>
          </a:xfrm>
        </p:grpSpPr>
        <p:sp>
          <p:nvSpPr>
            <p:cNvPr id="840" name=""/>
            <p:cNvSpPr/>
            <p:nvPr/>
          </p:nvSpPr>
          <p:spPr>
            <a:xfrm rot="160542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70" y="10800"/>
                  </a:moveTo>
                  <a:arcTo wR="-7330" hR="-7330" stAng="-10800000" swAng="-3585125"/>
                  <a:lnTo>
                    <a:pt x="16240" y="1470"/>
                  </a:lnTo>
                  <a:arcTo wR="10800" hR="10800" stAng="-3585125" swAng="3585125"/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594f"/>
                </a:gs>
                <a:gs pos="50000">
                  <a:srgbClr val="8c9484"/>
                </a:gs>
                <a:gs pos="100000">
                  <a:srgbClr val="54594f"/>
                </a:gs>
              </a:gsLst>
              <a:lin ang="190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8000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68" y="10083"/>
                  </a:moveTo>
                  <a:arcTo wR="-7367" hR="-7367" stAng="-10464933" swAng="-3927566"/>
                  <a:lnTo>
                    <a:pt x="16220" y="1459"/>
                  </a:lnTo>
                  <a:arcTo wR="10800" hR="10800" stAng="-3592498" swAng="3927566"/>
                  <a:lnTo>
                    <a:pt x="24236" y="12114"/>
                  </a:lnTo>
                  <a:lnTo>
                    <a:pt x="19411" y="16079"/>
                  </a:lnTo>
                  <a:lnTo>
                    <a:pt x="15445" y="11254"/>
                  </a:lnTo>
                  <a:close/>
                </a:path>
              </a:pathLst>
            </a:custGeom>
            <a:gradFill rotWithShape="0">
              <a:gsLst>
                <a:gs pos="0">
                  <a:srgbClr val="604e3b"/>
                </a:gs>
                <a:gs pos="50000">
                  <a:srgbClr val="a18363"/>
                </a:gs>
                <a:gs pos="100000">
                  <a:srgbClr val="604e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70" y="10800"/>
                  </a:moveTo>
                  <a:arcTo wR="-7330" hR="-7330" stAng="-10800000" swAng="-3537303"/>
                  <a:lnTo>
                    <a:pt x="16370" y="1547"/>
                  </a:lnTo>
                  <a:arcTo wR="10800" hR="10800" stAng="-3537303" swAng="3537303"/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04c68"/>
                </a:gs>
                <a:gs pos="50000">
                  <a:srgbClr val="6b7fad"/>
                </a:gs>
                <a:gs pos="100000">
                  <a:srgbClr val="404c6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19800" y="236232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38" y="10933"/>
                  </a:moveTo>
                  <a:arcTo wR="-7263" hR="-7263" stAng="10737046" swAng="-3582181"/>
                  <a:lnTo>
                    <a:pt x="16077" y="1377"/>
                  </a:lnTo>
                  <a:arcTo wR="10800" hR="10800" stAng="-3645135" swAng="3582181"/>
                  <a:lnTo>
                    <a:pt x="24298" y="10553"/>
                  </a:lnTo>
                  <a:lnTo>
                    <a:pt x="19912" y="15102"/>
                  </a:lnTo>
                  <a:lnTo>
                    <a:pt x="15362" y="10716"/>
                  </a:lnTo>
                  <a:close/>
                </a:path>
              </a:pathLst>
            </a:custGeom>
            <a:gradFill rotWithShape="0">
              <a:gsLst>
                <a:gs pos="0">
                  <a:srgbClr val="634245"/>
                </a:gs>
                <a:gs pos="50000">
                  <a:srgbClr val="a56f73"/>
                </a:gs>
                <a:gs pos="100000">
                  <a:srgbClr val="6342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6377040" y="3778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8720" y="2101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5200" y="243828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1082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65200" y="343368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58720" y="4044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65200" y="4359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8720" y="4970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65200" y="5273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49360" y="2149560"/>
            <a:ext cx="80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180120" y="29242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56f73"/>
              </a:gs>
              <a:gs pos="100000">
                <a:srgbClr val="6343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44840" y="2898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bca791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95160" y="2925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313a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6848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0376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723960" y="5340240"/>
            <a:ext cx="2111400" cy="451080"/>
            <a:chOff x="723960" y="5340240"/>
            <a:chExt cx="2111400" cy="451080"/>
          </a:xfrm>
        </p:grpSpPr>
        <p:sp>
          <p:nvSpPr>
            <p:cNvPr id="861" name=""/>
            <p:cNvSpPr/>
            <p:nvPr/>
          </p:nvSpPr>
          <p:spPr>
            <a:xfrm>
              <a:off x="72396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636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457440" y="5340240"/>
            <a:ext cx="2111400" cy="451080"/>
            <a:chOff x="3457440" y="5340240"/>
            <a:chExt cx="2111400" cy="451080"/>
          </a:xfrm>
        </p:grpSpPr>
        <p:sp>
          <p:nvSpPr>
            <p:cNvPr id="864" name=""/>
            <p:cNvSpPr/>
            <p:nvPr/>
          </p:nvSpPr>
          <p:spPr>
            <a:xfrm>
              <a:off x="34574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8984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6200640" y="5340240"/>
            <a:ext cx="2111400" cy="451080"/>
            <a:chOff x="6200640" y="5340240"/>
            <a:chExt cx="2111400" cy="451080"/>
          </a:xfrm>
        </p:grpSpPr>
        <p:sp>
          <p:nvSpPr>
            <p:cNvPr id="867" name=""/>
            <p:cNvSpPr/>
            <p:nvPr/>
          </p:nvSpPr>
          <p:spPr>
            <a:xfrm>
              <a:off x="62006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3304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917640" y="5375160"/>
            <a:ext cx="172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95256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576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3392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0080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2514600" y="2746440"/>
            <a:ext cx="3961800" cy="3729960"/>
            <a:chOff x="2514600" y="2746440"/>
            <a:chExt cx="3961800" cy="3729960"/>
          </a:xfrm>
        </p:grpSpPr>
        <p:sp>
          <p:nvSpPr>
            <p:cNvPr id="876" name=""/>
            <p:cNvSpPr/>
            <p:nvPr/>
          </p:nvSpPr>
          <p:spPr>
            <a:xfrm>
              <a:off x="2514600" y="275904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89200" y="274644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51960" y="464580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c948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2971800" y="3127320"/>
            <a:ext cx="3202920" cy="3016080"/>
            <a:chOff x="2971800" y="3127320"/>
            <a:chExt cx="3202920" cy="3016080"/>
          </a:xfrm>
        </p:grpSpPr>
        <p:sp>
          <p:nvSpPr>
            <p:cNvPr id="881" name=""/>
            <p:cNvSpPr/>
            <p:nvPr/>
          </p:nvSpPr>
          <p:spPr>
            <a:xfrm>
              <a:off x="2971800" y="3137400"/>
              <a:ext cx="1944720" cy="23796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c5a2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68040" y="3127320"/>
              <a:ext cx="1606680" cy="182916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bf999c"/>
                </a:gs>
                <a:gs pos="100000">
                  <a:srgbClr val="a56f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48600" y="466308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5356"/>
                </a:gs>
                <a:gs pos="100000">
                  <a:srgbClr val="a56f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733320" y="1871640"/>
            <a:ext cx="7328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963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255200" y="43704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47760" y="2987640"/>
            <a:ext cx="398520" cy="406440"/>
            <a:chOff x="5747760" y="2987640"/>
            <a:chExt cx="398520" cy="40644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tretch/>
          </p:blipFill>
          <p:spPr>
            <a:xfrm rot="4977000">
              <a:off x="5806800" y="30513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 rot="4977000">
              <a:off x="5807520" y="30506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797440" y="3080520"/>
              <a:ext cx="108000" cy="241560"/>
              <a:chOff x="5797440" y="3080520"/>
              <a:chExt cx="108000" cy="24156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5799960" y="3125160"/>
                <a:ext cx="105480" cy="196920"/>
                <a:chOff x="5799960" y="3125160"/>
                <a:chExt cx="105480" cy="196920"/>
              </a:xfrm>
            </p:grpSpPr>
            <p:sp>
              <p:nvSpPr>
                <p:cNvPr id="891" name=""/>
                <p:cNvSpPr/>
                <p:nvPr/>
              </p:nvSpPr>
              <p:spPr>
                <a:xfrm flipH="1" flipV="1" rot="8941800">
                  <a:off x="5834160" y="31766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 rot="9757200">
                  <a:off x="5823360" y="3155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flipV="1" rot="10053000">
                  <a:off x="5820480" y="314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 rot="10585200">
                  <a:off x="5816880" y="31255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5797440" y="3080520"/>
                <a:ext cx="82080" cy="202680"/>
                <a:chOff x="5797440" y="3080520"/>
                <a:chExt cx="82080" cy="202680"/>
              </a:xfrm>
            </p:grpSpPr>
            <p:sp>
              <p:nvSpPr>
                <p:cNvPr id="896" name=""/>
                <p:cNvSpPr/>
                <p:nvPr/>
              </p:nvSpPr>
              <p:spPr>
                <a:xfrm flipH="1" flipV="1" rot="10294800">
                  <a:off x="5817960" y="31363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1110200">
                  <a:off x="5815800" y="3112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1406000">
                  <a:off x="5816520" y="3098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1938200">
                  <a:off x="5820120" y="30823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0" name=""/>
            <p:cNvSpPr/>
            <p:nvPr/>
          </p:nvSpPr>
          <p:spPr>
            <a:xfrm flipH="1" rot="1129200">
              <a:off x="5790960" y="30290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901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5882760" y="30657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"/>
          <p:cNvGrpSpPr/>
          <p:nvPr/>
        </p:nvGrpSpPr>
        <p:grpSpPr>
          <a:xfrm>
            <a:off x="2778840" y="3490920"/>
            <a:ext cx="398520" cy="406440"/>
            <a:chOff x="2778840" y="3490920"/>
            <a:chExt cx="398520" cy="406440"/>
          </a:xfrm>
        </p:grpSpPr>
        <p:pic>
          <p:nvPicPr>
            <p:cNvPr id="903" name="" descr=""/>
            <p:cNvPicPr/>
            <p:nvPr/>
          </p:nvPicPr>
          <p:blipFill>
            <a:blip r:embed="rId3"/>
            <a:stretch/>
          </p:blipFill>
          <p:spPr>
            <a:xfrm rot="4977000">
              <a:off x="2837880" y="35546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 rot="4977000">
              <a:off x="2838600" y="355392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828520" y="3583800"/>
              <a:ext cx="108000" cy="241560"/>
              <a:chOff x="2828520" y="3583800"/>
              <a:chExt cx="108000" cy="24156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831040" y="3628440"/>
                <a:ext cx="105480" cy="196920"/>
                <a:chOff x="2831040" y="3628440"/>
                <a:chExt cx="105480" cy="19692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flipV="1" rot="8941800">
                  <a:off x="2865240" y="367992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 rot="9757200">
                  <a:off x="2854440" y="3659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flipV="1" rot="10053000">
                  <a:off x="2851560" y="3645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flipV="1" rot="10585200">
                  <a:off x="2847960" y="3628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2828520" y="3583800"/>
                <a:ext cx="82080" cy="202680"/>
                <a:chOff x="2828520" y="3583800"/>
                <a:chExt cx="82080" cy="202680"/>
              </a:xfrm>
            </p:grpSpPr>
            <p:sp>
              <p:nvSpPr>
                <p:cNvPr id="912" name=""/>
                <p:cNvSpPr/>
                <p:nvPr/>
              </p:nvSpPr>
              <p:spPr>
                <a:xfrm flipH="1" flipV="1" rot="10294800">
                  <a:off x="2849040" y="363960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flipV="1" rot="11110200">
                  <a:off x="2846880" y="3616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 rot="11406000">
                  <a:off x="2847600" y="3601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 rot="11938200">
                  <a:off x="2851200" y="3585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6" name=""/>
            <p:cNvSpPr/>
            <p:nvPr/>
          </p:nvSpPr>
          <p:spPr>
            <a:xfrm flipH="1" rot="1129200">
              <a:off x="2822040" y="353232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917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3600">
              <a:off x="2913840" y="35690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8" name=""/>
          <p:cNvGrpSpPr/>
          <p:nvPr/>
        </p:nvGrpSpPr>
        <p:grpSpPr>
          <a:xfrm>
            <a:off x="4752360" y="5937120"/>
            <a:ext cx="398520" cy="406800"/>
            <a:chOff x="4752360" y="5937120"/>
            <a:chExt cx="398520" cy="406800"/>
          </a:xfrm>
        </p:grpSpPr>
        <p:pic>
          <p:nvPicPr>
            <p:cNvPr id="919" name="" descr=""/>
            <p:cNvPicPr/>
            <p:nvPr/>
          </p:nvPicPr>
          <p:blipFill>
            <a:blip r:embed="rId5"/>
            <a:stretch/>
          </p:blipFill>
          <p:spPr>
            <a:xfrm rot="4977600">
              <a:off x="4811040" y="60012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 rot="4977000">
              <a:off x="4811760" y="60004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802040" y="6030360"/>
              <a:ext cx="108360" cy="241560"/>
              <a:chOff x="4802040" y="6030360"/>
              <a:chExt cx="108360" cy="24156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4804920" y="6075000"/>
                <a:ext cx="105480" cy="196920"/>
                <a:chOff x="4804920" y="6075000"/>
                <a:chExt cx="105480" cy="196920"/>
              </a:xfrm>
            </p:grpSpPr>
            <p:sp>
              <p:nvSpPr>
                <p:cNvPr id="923" name=""/>
                <p:cNvSpPr/>
                <p:nvPr/>
              </p:nvSpPr>
              <p:spPr>
                <a:xfrm flipH="1" flipV="1" rot="8941800">
                  <a:off x="4839120" y="612648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flipV="1" rot="9757200">
                  <a:off x="4828320" y="6105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flipV="1" rot="10053000">
                  <a:off x="4825080" y="6091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flipV="1" rot="10585200">
                  <a:off x="4821480" y="6075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802040" y="6030360"/>
                <a:ext cx="82080" cy="202680"/>
                <a:chOff x="4802040" y="6030360"/>
                <a:chExt cx="82080" cy="202680"/>
              </a:xfrm>
            </p:grpSpPr>
            <p:sp>
              <p:nvSpPr>
                <p:cNvPr id="928" name=""/>
                <p:cNvSpPr/>
                <p:nvPr/>
              </p:nvSpPr>
              <p:spPr>
                <a:xfrm flipH="1" flipV="1" rot="10294800">
                  <a:off x="4822560" y="6086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flipV="1" rot="11110200">
                  <a:off x="4820400" y="6062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flipV="1" rot="11406000">
                  <a:off x="4821120" y="6048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flipV="1" rot="11938200">
                  <a:off x="4824720" y="6032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2" name=""/>
            <p:cNvSpPr/>
            <p:nvPr/>
          </p:nvSpPr>
          <p:spPr>
            <a:xfrm flipH="1" rot="1129200">
              <a:off x="4795920" y="59785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933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4800">
              <a:off x="4887360" y="60159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4" name=""/>
          <p:cNvSpPr/>
          <p:nvPr/>
        </p:nvSpPr>
        <p:spPr>
          <a:xfrm>
            <a:off x="36262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0536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63000" y="5159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101000" y="2681280"/>
            <a:ext cx="1509480" cy="36684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162840" y="5826240"/>
            <a:ext cx="150948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3640" y="3311640"/>
            <a:ext cx="150984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2038320"/>
            <a:ext cx="7238880" cy="421020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38320" y="4633920"/>
            <a:ext cx="5089680" cy="471600"/>
            <a:chOff x="2038320" y="4633920"/>
            <a:chExt cx="5089680" cy="471600"/>
          </a:xfrm>
        </p:grpSpPr>
        <p:sp>
          <p:nvSpPr>
            <p:cNvPr id="113" name=""/>
            <p:cNvSpPr/>
            <p:nvPr/>
          </p:nvSpPr>
          <p:spPr>
            <a:xfrm>
              <a:off x="2038320" y="463392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4160" y="464184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038320" y="3971880"/>
            <a:ext cx="5089680" cy="471600"/>
            <a:chOff x="2038320" y="3971880"/>
            <a:chExt cx="5089680" cy="471600"/>
          </a:xfrm>
        </p:grpSpPr>
        <p:sp>
          <p:nvSpPr>
            <p:cNvPr id="116" name=""/>
            <p:cNvSpPr/>
            <p:nvPr/>
          </p:nvSpPr>
          <p:spPr>
            <a:xfrm>
              <a:off x="2038320" y="397188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4160" y="39798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038320" y="5264280"/>
            <a:ext cx="5089680" cy="471240"/>
            <a:chOff x="2038320" y="5264280"/>
            <a:chExt cx="5089680" cy="471240"/>
          </a:xfrm>
        </p:grpSpPr>
        <p:sp>
          <p:nvSpPr>
            <p:cNvPr id="119" name=""/>
            <p:cNvSpPr/>
            <p:nvPr/>
          </p:nvSpPr>
          <p:spPr>
            <a:xfrm>
              <a:off x="2038320" y="5264280"/>
              <a:ext cx="5089680" cy="4712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4160" y="52722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38320" y="3316320"/>
            <a:ext cx="5089680" cy="471600"/>
            <a:chOff x="2038320" y="3316320"/>
            <a:chExt cx="5089680" cy="471600"/>
          </a:xfrm>
        </p:grpSpPr>
        <p:sp>
          <p:nvSpPr>
            <p:cNvPr id="122" name=""/>
            <p:cNvSpPr/>
            <p:nvPr/>
          </p:nvSpPr>
          <p:spPr>
            <a:xfrm>
              <a:off x="2038320" y="331632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4160" y="332424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038320" y="2654280"/>
            <a:ext cx="5089680" cy="471600"/>
            <a:chOff x="2038320" y="2654280"/>
            <a:chExt cx="5089680" cy="471600"/>
          </a:xfrm>
        </p:grpSpPr>
        <p:sp>
          <p:nvSpPr>
            <p:cNvPr id="125" name=""/>
            <p:cNvSpPr/>
            <p:nvPr/>
          </p:nvSpPr>
          <p:spPr>
            <a:xfrm>
              <a:off x="2038320" y="265428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4160" y="26622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38600" y="33498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38600" y="39942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38600" y="465948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8600" y="5302080"/>
            <a:ext cx="350496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77336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8600" y="268452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4000" y="2394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2b9a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073-52E2-4267-B132-BE2587A779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666520" y="5181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4f506d"/>
                </a:solidFill>
                <a:latin typeface="Arial"/>
              </a:rPr>
              <a:t>Thank You!</a:t>
            </a:r>
            <a:endParaRPr b="1" lang="en-US" sz="57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5981400" y="617220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771200"/>
            <a:ext cx="763416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0734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148520" y="3116160"/>
            <a:ext cx="1753920" cy="1789920"/>
            <a:chOff x="7148520" y="3116160"/>
            <a:chExt cx="1753920" cy="1789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148520" y="3116160"/>
              <a:ext cx="1753920" cy="17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148520" y="3116160"/>
              <a:ext cx="1742400" cy="17046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240" y="3150360"/>
              <a:ext cx="1368720" cy="591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272360" y="4293000"/>
              <a:ext cx="1537560" cy="613080"/>
              <a:chOff x="7272360" y="4293000"/>
              <a:chExt cx="1537560" cy="6130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7540200" y="4293000"/>
                <a:ext cx="1269720" cy="576720"/>
                <a:chOff x="7540200" y="4293000"/>
                <a:chExt cx="1269720" cy="5767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 flipV="1" rot="3964800">
                  <a:off x="8232840" y="41194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 rot="4780200">
                  <a:off x="8090280" y="4176360"/>
                  <a:ext cx="22068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 rot="5076000">
                  <a:off x="8002440" y="41878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 rot="5608200">
                  <a:off x="7896960" y="41986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272360" y="4302360"/>
                <a:ext cx="1268280" cy="603720"/>
                <a:chOff x="7272360" y="4302360"/>
                <a:chExt cx="1268280" cy="603720"/>
              </a:xfrm>
            </p:grpSpPr>
            <p:sp>
              <p:nvSpPr>
                <p:cNvPr id="149" name=""/>
                <p:cNvSpPr/>
                <p:nvPr/>
              </p:nvSpPr>
              <p:spPr>
                <a:xfrm flipH="1" flipV="1" rot="5317800">
                  <a:off x="7965000" y="419940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 rot="6133800">
                  <a:off x="7812360" y="419580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 rot="6429000">
                  <a:off x="7726320" y="417348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 rot="6961200">
                  <a:off x="7624440" y="414216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3" name="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154" name=""/>
            <p:cNvSpPr/>
            <p:nvPr/>
          </p:nvSpPr>
          <p:spPr>
            <a:xfrm rot="16200000">
              <a:off x="5439960" y="447372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6243120" y="3284640"/>
              <a:ext cx="351360" cy="1420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158" name=""/>
            <p:cNvSpPr/>
            <p:nvPr/>
          </p:nvSpPr>
          <p:spPr>
            <a:xfrm>
              <a:off x="2704320" y="3843360"/>
              <a:ext cx="394920" cy="398520"/>
            </a:xfrm>
            <a:prstGeom prst="ellipse">
              <a:avLst/>
            </a:prstGeom>
            <a:gradFill rotWithShape="0">
              <a:gsLst>
                <a:gs pos="0">
                  <a:srgbClr val="6a5641"/>
                </a:gs>
                <a:gs pos="50000">
                  <a:srgbClr val="a18363"/>
                </a:gs>
                <a:gs pos="100000">
                  <a:srgbClr val="6a5641"/>
                </a:gs>
              </a:gsLst>
              <a:lin ang="135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680560" y="4042800"/>
              <a:ext cx="334440" cy="217080"/>
              <a:chOff x="2680560" y="4042800"/>
              <a:chExt cx="334440" cy="2170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680560" y="4042800"/>
                <a:ext cx="334440" cy="217080"/>
                <a:chOff x="2680560" y="4042800"/>
                <a:chExt cx="334440" cy="2170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716560" y="4108320"/>
                  <a:ext cx="298440" cy="148680"/>
                  <a:chOff x="2716560" y="4108320"/>
                  <a:chExt cx="298440" cy="148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flipV="1" rot="5374200">
                    <a:off x="2877480" y="4088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flipV="1" rot="6189600">
                    <a:off x="2841480" y="4087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2680560" y="4042800"/>
                  <a:ext cx="271080" cy="217080"/>
                  <a:chOff x="2680560" y="4042800"/>
                  <a:chExt cx="271080" cy="2170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flipV="1" rot="6727200">
                    <a:off x="2811960" y="4079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2707560" y="4064760"/>
                <a:ext cx="273960" cy="177840"/>
                <a:chOff x="2707560" y="4064760"/>
                <a:chExt cx="273960" cy="17784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2736720" y="4118040"/>
                  <a:ext cx="244800" cy="122040"/>
                  <a:chOff x="2736720" y="4118040"/>
                  <a:chExt cx="244800" cy="1220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flipV="1" rot="5374200">
                    <a:off x="2868840" y="41022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flipV="1" rot="6189600">
                    <a:off x="2838960" y="41007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flipV="1" rot="6485400">
                    <a:off x="2822760" y="40957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flipV="1" rot="7017600">
                    <a:off x="2803320" y="40892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2707560" y="4064760"/>
                  <a:ext cx="222480" cy="177840"/>
                  <a:chOff x="2707560" y="4064760"/>
                  <a:chExt cx="222480" cy="1778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flipV="1" rot="6727200">
                    <a:off x="281520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flipV="1" rot="7542600">
                    <a:off x="278856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flipV="1" rot="7838400">
                    <a:off x="277524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flipV="1" rot="8370600">
                    <a:off x="275940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" name=""/>
            <p:cNvGrpSpPr/>
            <p:nvPr/>
          </p:nvGrpSpPr>
          <p:grpSpPr>
            <a:xfrm>
              <a:off x="2824560" y="3828960"/>
              <a:ext cx="308160" cy="252360"/>
              <a:chOff x="2824560" y="3828960"/>
              <a:chExt cx="308160" cy="25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824560" y="3828960"/>
                <a:ext cx="308160" cy="252360"/>
                <a:chOff x="2824560" y="3828960"/>
                <a:chExt cx="308160" cy="2523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2824560" y="3828960"/>
                  <a:ext cx="289440" cy="183960"/>
                  <a:chOff x="2824560" y="3828960"/>
                  <a:chExt cx="289440" cy="183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flipV="1" rot="16891800">
                    <a:off x="2908080" y="3782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flipV="1" rot="17707200">
                    <a:off x="2943360" y="379116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892960" y="3830400"/>
                  <a:ext cx="239760" cy="250920"/>
                  <a:chOff x="2892960" y="3830400"/>
                  <a:chExt cx="239760" cy="2509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flipV="1" rot="18244800">
                    <a:off x="2970360" y="38059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2856960" y="3849480"/>
                <a:ext cx="252360" cy="205920"/>
                <a:chOff x="2856960" y="3849480"/>
                <a:chExt cx="252360" cy="20592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2856960" y="3849480"/>
                  <a:ext cx="237240" cy="150840"/>
                  <a:chOff x="2856960" y="3849480"/>
                  <a:chExt cx="237240" cy="150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flipV="1" rot="16891800">
                    <a:off x="2925360" y="3810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17707200">
                    <a:off x="2954160" y="38181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18003000">
                    <a:off x="2968920" y="38260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 rot="18535200">
                    <a:off x="2986560" y="38368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2913120" y="3849480"/>
                  <a:ext cx="196200" cy="205920"/>
                  <a:chOff x="2913120" y="3849480"/>
                  <a:chExt cx="196200" cy="205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flipV="1" rot="18244800">
                    <a:off x="297612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 rot="19060800">
                    <a:off x="299988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19356000">
                    <a:off x="301068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19888200">
                    <a:off x="302292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205" name=""/>
          <p:cNvCxnSpPr>
            <a:stCxn id="158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58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209" name="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724d4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212" name="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61665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215" name="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4a587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3621240" y="515124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3267000"/>
            <a:ext cx="25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06400" y="18622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30240" y="26654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50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118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55808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26764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76480" y="3615840"/>
            <a:ext cx="423720" cy="1925640"/>
            <a:chOff x="1176480" y="3615840"/>
            <a:chExt cx="423720" cy="1925640"/>
          </a:xfrm>
        </p:grpSpPr>
        <p:sp>
          <p:nvSpPr>
            <p:cNvPr id="229" name=""/>
            <p:cNvSpPr/>
            <p:nvPr/>
          </p:nvSpPr>
          <p:spPr>
            <a:xfrm rot="16200000">
              <a:off x="425520" y="436680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511200" y="4422600"/>
              <a:ext cx="1849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44720" y="3206880"/>
            <a:ext cx="423720" cy="2328480"/>
            <a:chOff x="1944720" y="3206880"/>
            <a:chExt cx="423720" cy="2328480"/>
          </a:xfrm>
        </p:grpSpPr>
        <p:sp>
          <p:nvSpPr>
            <p:cNvPr id="232" name=""/>
            <p:cNvSpPr/>
            <p:nvPr/>
          </p:nvSpPr>
          <p:spPr>
            <a:xfrm rot="16200000">
              <a:off x="992160" y="41590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1085760" y="4212720"/>
              <a:ext cx="2236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92440" y="4751280"/>
            <a:ext cx="423720" cy="787680"/>
            <a:chOff x="2692440" y="4751280"/>
            <a:chExt cx="423720" cy="787680"/>
          </a:xfrm>
        </p:grpSpPr>
        <p:sp>
          <p:nvSpPr>
            <p:cNvPr id="235" name=""/>
            <p:cNvSpPr/>
            <p:nvPr/>
          </p:nvSpPr>
          <p:spPr>
            <a:xfrm rot="16200000">
              <a:off x="2510280" y="49330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2573640" y="4992480"/>
              <a:ext cx="7567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398760" y="4063680"/>
            <a:ext cx="423720" cy="1468440"/>
            <a:chOff x="3398760" y="4063680"/>
            <a:chExt cx="423720" cy="1468440"/>
          </a:xfrm>
        </p:grpSpPr>
        <p:sp>
          <p:nvSpPr>
            <p:cNvPr id="238" name=""/>
            <p:cNvSpPr/>
            <p:nvPr/>
          </p:nvSpPr>
          <p:spPr>
            <a:xfrm rot="16200000">
              <a:off x="2876400" y="45860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2953080" y="4643280"/>
              <a:ext cx="14104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212840" y="55911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5640" y="322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85320" y="2955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44200" y="440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0240" y="3728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941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376880" y="2960640"/>
            <a:ext cx="552240" cy="583920"/>
            <a:chOff x="4376880" y="2960640"/>
            <a:chExt cx="552240" cy="583920"/>
          </a:xfrm>
        </p:grpSpPr>
        <p:grpSp>
          <p:nvGrpSpPr>
            <p:cNvPr id="247" name=""/>
            <p:cNvGrpSpPr/>
            <p:nvPr/>
          </p:nvGrpSpPr>
          <p:grpSpPr>
            <a:xfrm>
              <a:off x="4376880" y="2960640"/>
              <a:ext cx="552240" cy="583920"/>
              <a:chOff x="4376880" y="2960640"/>
              <a:chExt cx="552240" cy="583920"/>
            </a:xfrm>
          </p:grpSpPr>
          <p:pic>
            <p:nvPicPr>
              <p:cNvPr id="2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4185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29606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4376880" y="29606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62d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62d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4431240" y="2965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5034960" y="304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01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376880" y="3728880"/>
            <a:ext cx="552240" cy="583920"/>
            <a:chOff x="4376880" y="3728880"/>
            <a:chExt cx="552240" cy="583920"/>
          </a:xfrm>
        </p:grpSpPr>
        <p:grpSp>
          <p:nvGrpSpPr>
            <p:cNvPr id="255" name=""/>
            <p:cNvGrpSpPr/>
            <p:nvPr/>
          </p:nvGrpSpPr>
          <p:grpSpPr>
            <a:xfrm>
              <a:off x="4376880" y="3728880"/>
              <a:ext cx="552240" cy="583920"/>
              <a:chOff x="4376880" y="3728880"/>
              <a:chExt cx="552240" cy="5839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41868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7288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376880" y="37288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92f23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92f2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31240" y="37335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5034960" y="3811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44863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76880" y="4505400"/>
            <a:ext cx="552240" cy="583920"/>
            <a:chOff x="4376880" y="4505400"/>
            <a:chExt cx="552240" cy="583920"/>
          </a:xfrm>
        </p:grpSpPr>
        <p:grpSp>
          <p:nvGrpSpPr>
            <p:cNvPr id="263" name=""/>
            <p:cNvGrpSpPr/>
            <p:nvPr/>
          </p:nvGrpSpPr>
          <p:grpSpPr>
            <a:xfrm>
              <a:off x="4376880" y="4505400"/>
              <a:ext cx="552240" cy="583920"/>
              <a:chOff x="4376880" y="4505400"/>
              <a:chExt cx="552240" cy="583920"/>
            </a:xfrm>
          </p:grpSpPr>
          <p:pic>
            <p:nvPicPr>
              <p:cNvPr id="2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49633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5054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4376880" y="45054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b27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b27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67" name="" descr=""/>
            <p:cNvPicPr/>
            <p:nvPr/>
          </p:nvPicPr>
          <p:blipFill>
            <a:blip r:embed="rId9"/>
            <a:stretch/>
          </p:blipFill>
          <p:spPr>
            <a:xfrm>
              <a:off x="4431240" y="45100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5034960" y="45878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2228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376880" y="5241960"/>
            <a:ext cx="552240" cy="583920"/>
            <a:chOff x="4376880" y="5241960"/>
            <a:chExt cx="552240" cy="583920"/>
          </a:xfrm>
        </p:grpSpPr>
        <p:grpSp>
          <p:nvGrpSpPr>
            <p:cNvPr id="271" name=""/>
            <p:cNvGrpSpPr/>
            <p:nvPr/>
          </p:nvGrpSpPr>
          <p:grpSpPr>
            <a:xfrm>
              <a:off x="4376880" y="5241960"/>
              <a:ext cx="552240" cy="583920"/>
              <a:chOff x="4376880" y="5241960"/>
              <a:chExt cx="552240" cy="58392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69988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24196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4376880" y="524196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2352f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235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75" name="" descr=""/>
            <p:cNvPicPr/>
            <p:nvPr/>
          </p:nvPicPr>
          <p:blipFill>
            <a:blip r:embed="rId12"/>
            <a:stretch/>
          </p:blipFill>
          <p:spPr>
            <a:xfrm>
              <a:off x="4431240" y="52466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5034960" y="53244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57840" y="2273400"/>
            <a:ext cx="2166840" cy="29937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42">
                <a:moveTo>
                  <a:pt x="2716" y="0"/>
                </a:moveTo>
                <a:arcTo wR="2716" hR="2716" stAng="16200000" swAng="-5400000"/>
                <a:lnTo>
                  <a:pt x="0" y="27126"/>
                </a:lnTo>
                <a:arcTo wR="2716" hR="2716" stAng="10800000" swAng="-5400000"/>
                <a:lnTo>
                  <a:pt x="18884" y="29842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54600" y="449100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7cb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3680" y="228276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ded4ca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417840" y="2554200"/>
            <a:ext cx="2169720" cy="2712960"/>
            <a:chOff x="3417840" y="2554200"/>
            <a:chExt cx="2169720" cy="2712960"/>
          </a:xfrm>
        </p:grpSpPr>
        <p:sp>
          <p:nvSpPr>
            <p:cNvPr id="282" name=""/>
            <p:cNvSpPr/>
            <p:nvPr/>
          </p:nvSpPr>
          <p:spPr>
            <a:xfrm>
              <a:off x="3420720" y="255420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17840" y="456336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9c2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7920" y="256248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0cecf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11320" y="2959200"/>
            <a:ext cx="2169720" cy="2307960"/>
            <a:chOff x="1111320" y="2959200"/>
            <a:chExt cx="2169720" cy="2307960"/>
          </a:xfrm>
        </p:grpSpPr>
        <p:sp>
          <p:nvSpPr>
            <p:cNvPr id="286" name=""/>
            <p:cNvSpPr/>
            <p:nvPr/>
          </p:nvSpPr>
          <p:spPr>
            <a:xfrm>
              <a:off x="1114200" y="295920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11320" y="466812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ced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012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7dad5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21140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648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5468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4452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5000" y="186372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0840" y="1623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554832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23840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37000" y="2629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842080" y="2354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89760" y="459576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342324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48360" y="453060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072120" y="50655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86440" y="4478400"/>
            <a:ext cx="1649520" cy="164772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6480" y="2738520"/>
            <a:ext cx="2481120" cy="248292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992320" y="4704840"/>
            <a:ext cx="48744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908440" y="4554000"/>
            <a:ext cx="48564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59480" y="3065040"/>
            <a:ext cx="48744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473800" y="2914200"/>
            <a:ext cx="48888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15960" y="471960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6b7fad"/>
              </a:gs>
              <a:gs pos="100000">
                <a:srgbClr val="212836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76360" y="46544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498680" y="51674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14440" y="4602240"/>
            <a:ext cx="1647720" cy="164628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5908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a18363"/>
              </a:gs>
              <a:gs pos="100000">
                <a:srgbClr val="4a3c2d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41768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1440" y="22827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55760" y="1736640"/>
            <a:ext cx="1649520" cy="164628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79640" y="2957400"/>
            <a:ext cx="561960" cy="34308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93960" y="3102120"/>
            <a:ext cx="563760" cy="3427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6592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8c9484"/>
              </a:gs>
              <a:gs pos="100000">
                <a:srgbClr val="2c2e29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592452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948280" y="227160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2600" y="1736640"/>
            <a:ext cx="1647720" cy="164628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43720" y="4419720"/>
            <a:ext cx="561960" cy="3427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7680" y="4564080"/>
            <a:ext cx="563760" cy="3445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59320" y="20224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721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59320" y="57056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3840" y="160020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1400" y="165276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3d00"/>
                </a:solidFill>
                <a:latin typeface="Arial"/>
              </a:rPr>
              <a:t>A title about content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2200" y="4776840"/>
            <a:ext cx="110880" cy="111240"/>
          </a:xfrm>
          <a:prstGeom prst="ellipse">
            <a:avLst/>
          </a:pr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60400" y="4460760"/>
            <a:ext cx="111240" cy="111240"/>
          </a:xfrm>
          <a:prstGeom prst="ellipse">
            <a:avLst/>
          </a:pr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84240" y="46609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73080" y="434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28640" y="3247920"/>
            <a:ext cx="3295800" cy="66996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83360" y="350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58960" y="4157640"/>
            <a:ext cx="114120" cy="11124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6342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84240" y="4046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2362320"/>
            <a:ext cx="3047040" cy="4266720"/>
            <a:chOff x="4191120" y="2362320"/>
            <a:chExt cx="3047040" cy="4266720"/>
          </a:xfrm>
        </p:grpSpPr>
        <p:grpSp>
          <p:nvGrpSpPr>
            <p:cNvPr id="345" name=""/>
            <p:cNvGrpSpPr/>
            <p:nvPr/>
          </p:nvGrpSpPr>
          <p:grpSpPr>
            <a:xfrm>
              <a:off x="4222440" y="2446560"/>
              <a:ext cx="3015720" cy="4182480"/>
              <a:chOff x="4222440" y="2446560"/>
              <a:chExt cx="3015720" cy="41824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0252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50252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05080" y="315252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05080" y="315252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09600" y="2686680"/>
                <a:ext cx="1015560" cy="115344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09600" y="2686680"/>
                <a:ext cx="1015560" cy="115344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9128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128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59600" y="349452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59600" y="349452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65800" y="368820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5800" y="368820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96760" y="4196520"/>
                <a:ext cx="21708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96760" y="4196520"/>
                <a:ext cx="21708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07560" y="354060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407560" y="354060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57200" y="361008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57200" y="361008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19600" y="4464000"/>
                <a:ext cx="118512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19600" y="4464000"/>
                <a:ext cx="118512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50560" y="4704120"/>
                <a:ext cx="129096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50560" y="4704120"/>
                <a:ext cx="129096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69760" y="45885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69760" y="45885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78080" y="482868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78080" y="482868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65160" y="512388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65160" y="512388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22440" y="5054760"/>
                <a:ext cx="164556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22440" y="5054760"/>
                <a:ext cx="164556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81280" y="628308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81280" y="628308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91120" y="2362320"/>
              <a:ext cx="3015000" cy="4182840"/>
              <a:chOff x="4191120" y="2362320"/>
              <a:chExt cx="3015000" cy="4182840"/>
            </a:xfrm>
          </p:grpSpPr>
          <p:sp>
            <p:nvSpPr>
              <p:cNvPr id="379" name="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73760" y="306828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73760" y="306828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78280" y="2602440"/>
                <a:ext cx="101520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78280" y="2602440"/>
                <a:ext cx="101520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59960" y="2362320"/>
                <a:ext cx="175608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59960" y="2362320"/>
                <a:ext cx="175608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34480" y="360396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34480" y="360396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65440" y="4112280"/>
                <a:ext cx="217080" cy="23976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5440" y="4112280"/>
                <a:ext cx="217080" cy="23976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76240" y="345636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6240" y="345636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25520" y="3525840"/>
                <a:ext cx="138060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25520" y="3525840"/>
                <a:ext cx="138060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88280" y="4379760"/>
                <a:ext cx="1185120" cy="74340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88280" y="4379760"/>
                <a:ext cx="1185120" cy="74340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19240" y="4620240"/>
                <a:ext cx="129060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19240" y="4620240"/>
                <a:ext cx="129060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38080" y="45043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38080" y="45043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46400" y="474480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46400" y="474480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33480" y="504000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33480" y="504000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91120" y="4970880"/>
                <a:ext cx="164520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91120" y="4970880"/>
                <a:ext cx="164520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49960" y="619920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49960" y="619920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060880" y="3138480"/>
              <a:ext cx="153360" cy="130320"/>
            </a:xfrm>
            <a:prstGeom prst="ellips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7750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7040" y="4605480"/>
              <a:ext cx="14868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31960" y="5389560"/>
              <a:ext cx="15048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3120" y="5543640"/>
              <a:ext cx="15048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46600" y="3645000"/>
              <a:ext cx="15048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6600" y="3797280"/>
              <a:ext cx="15048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22880" y="4888080"/>
              <a:ext cx="14868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22880" y="5040360"/>
              <a:ext cx="14868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14680" y="2840040"/>
              <a:ext cx="15048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99040" y="2671920"/>
              <a:ext cx="14868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0200" y="2826000"/>
              <a:ext cx="14868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32400" y="4562640"/>
              <a:ext cx="15048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21320" y="4035600"/>
              <a:ext cx="14868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6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7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8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3d00"/>
                </a:solidFill>
                <a:latin typeface="Arial"/>
                <a:ea typeface="Arial"/>
              </a:rPr>
              <a:t>203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9" name="Line 42"/>
          <p:cNvSpPr/>
          <p:nvPr/>
        </p:nvSpPr>
        <p:spPr>
          <a:xfrm>
            <a:off x="2494080" y="568476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0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1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2" name="Line 45"/>
          <p:cNvSpPr/>
          <p:nvPr/>
        </p:nvSpPr>
        <p:spPr>
          <a:xfrm flipV="1">
            <a:off x="1414440" y="282096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3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4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3d00"/>
                </a:solidFill>
                <a:latin typeface="Arial"/>
                <a:ea typeface="Arial"/>
              </a:rPr>
              <a:t>+40%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35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436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38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439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441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2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3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4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45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446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448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9" name="Freeform 62"/>
          <p:cNvSpPr/>
          <p:nvPr/>
        </p:nvSpPr>
        <p:spPr>
          <a:xfrm>
            <a:off x="2281320" y="3854520"/>
            <a:ext cx="1861920" cy="1278000"/>
          </a:xfrm>
          <a:prstGeom prst="pie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50" name="Group 63"/>
          <p:cNvGrpSpPr/>
          <p:nvPr/>
        </p:nvGrpSpPr>
        <p:grpSpPr>
          <a:xfrm>
            <a:off x="3505320" y="2101680"/>
            <a:ext cx="1796400" cy="1674720"/>
            <a:chOff x="3505320" y="2101680"/>
            <a:chExt cx="1796400" cy="1674720"/>
          </a:xfrm>
        </p:grpSpPr>
        <p:sp>
          <p:nvSpPr>
            <p:cNvPr id="451" name="Freeform 64"/>
            <p:cNvSpPr/>
            <p:nvPr/>
          </p:nvSpPr>
          <p:spPr>
            <a:xfrm>
              <a:off x="3701880" y="3317760"/>
              <a:ext cx="740880" cy="36828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2" name="Freeform 65"/>
            <p:cNvSpPr/>
            <p:nvPr/>
          </p:nvSpPr>
          <p:spPr>
            <a:xfrm>
              <a:off x="3505320" y="2357280"/>
              <a:ext cx="495000" cy="132876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3" name="Freeform 66"/>
            <p:cNvSpPr/>
            <p:nvPr/>
          </p:nvSpPr>
          <p:spPr>
            <a:xfrm>
              <a:off x="4174920" y="3340080"/>
              <a:ext cx="917280" cy="436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4" name="Freeform 67"/>
            <p:cNvSpPr/>
            <p:nvPr/>
          </p:nvSpPr>
          <p:spPr>
            <a:xfrm>
              <a:off x="4784400" y="3392280"/>
              <a:ext cx="51732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5" name="Freeform 68"/>
            <p:cNvSpPr/>
            <p:nvPr/>
          </p:nvSpPr>
          <p:spPr>
            <a:xfrm>
              <a:off x="4601880" y="2293920"/>
              <a:ext cx="496440" cy="132876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68464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6" name="Freeform 69"/>
            <p:cNvSpPr/>
            <p:nvPr/>
          </p:nvSpPr>
          <p:spPr>
            <a:xfrm>
              <a:off x="3925800" y="2101680"/>
              <a:ext cx="623520" cy="167328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57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458" name="Freeform 71"/>
            <p:cNvSpPr/>
            <p:nvPr/>
          </p:nvSpPr>
          <p:spPr>
            <a:xfrm>
              <a:off x="2614320" y="5100480"/>
              <a:ext cx="51768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2438280" y="4006800"/>
              <a:ext cx="496800" cy="132876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60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461" name="Freeform 74"/>
            <p:cNvSpPr/>
            <p:nvPr/>
          </p:nvSpPr>
          <p:spPr>
            <a:xfrm>
              <a:off x="5429160" y="4676760"/>
              <a:ext cx="701280" cy="701280"/>
            </a:xfrm>
            <a:prstGeom prst="pie">
              <a:avLst/>
            </a:pr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2" name="Freeform 75"/>
            <p:cNvSpPr/>
            <p:nvPr/>
          </p:nvSpPr>
          <p:spPr>
            <a:xfrm>
              <a:off x="5607000" y="4898160"/>
              <a:ext cx="347400" cy="324720"/>
            </a:xfrm>
            <a:prstGeom prst="pie">
              <a:avLst/>
            </a:pr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63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464" name="Freeform 77"/>
            <p:cNvSpPr/>
            <p:nvPr/>
          </p:nvSpPr>
          <p:spPr>
            <a:xfrm>
              <a:off x="5410080" y="3613320"/>
              <a:ext cx="701280" cy="698040"/>
            </a:xfrm>
            <a:prstGeom prst="pie">
              <a:avLst/>
            </a:prstGeom>
            <a:solidFill>
              <a:srgbClr val="6b7fad"/>
            </a:solidFill>
            <a:ln w="19080">
              <a:solidFill>
                <a:srgbClr val="6b7f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5" name="Freeform 78"/>
            <p:cNvSpPr/>
            <p:nvPr/>
          </p:nvSpPr>
          <p:spPr>
            <a:xfrm>
              <a:off x="5717160" y="3751200"/>
              <a:ext cx="240840" cy="390960"/>
            </a:xfrm>
            <a:prstGeom prst="pie">
              <a:avLst/>
            </a:pr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6" name="Freeform 79"/>
            <p:cNvSpPr/>
            <p:nvPr/>
          </p:nvSpPr>
          <p:spPr>
            <a:xfrm>
              <a:off x="5515560" y="3860640"/>
              <a:ext cx="174240" cy="192960"/>
            </a:xfrm>
            <a:prstGeom prst="pie">
              <a:avLst/>
            </a:pr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67" name="Group 80"/>
          <p:cNvGrpSpPr/>
          <p:nvPr/>
        </p:nvGrpSpPr>
        <p:grpSpPr>
          <a:xfrm>
            <a:off x="5438880" y="2558880"/>
            <a:ext cx="698040" cy="698400"/>
            <a:chOff x="5438880" y="2558880"/>
            <a:chExt cx="698040" cy="698400"/>
          </a:xfrm>
        </p:grpSpPr>
        <p:sp>
          <p:nvSpPr>
            <p:cNvPr id="468" name="Freeform 81"/>
            <p:cNvSpPr/>
            <p:nvPr/>
          </p:nvSpPr>
          <p:spPr>
            <a:xfrm>
              <a:off x="5438880" y="2558880"/>
              <a:ext cx="698040" cy="349200"/>
            </a:xfrm>
            <a:prstGeom prst="pie">
              <a:avLst/>
            </a:pr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9" name="Freeform 82"/>
            <p:cNvSpPr/>
            <p:nvPr/>
          </p:nvSpPr>
          <p:spPr>
            <a:xfrm>
              <a:off x="5524920" y="2674440"/>
              <a:ext cx="262800" cy="466560"/>
            </a:xfrm>
            <a:prstGeom prst="pie">
              <a:avLst/>
            </a:pr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0" name="Freeform 83"/>
            <p:cNvSpPr/>
            <p:nvPr/>
          </p:nvSpPr>
          <p:spPr>
            <a:xfrm>
              <a:off x="5438880" y="2908080"/>
              <a:ext cx="698040" cy="349200"/>
            </a:xfrm>
            <a:prstGeom prst="pie">
              <a:avLst/>
            </a:pr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31:0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3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