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64485-9D84-44A1-B142-3D410D859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55E31-654C-4091-83A8-0F8EB39C9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8634F-8410-4C8C-A035-9A04443A0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515D0-4A6A-469D-AB39-99DC9A7F9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73D5D-6EB9-4CB7-B601-8F0B77A2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F5AFF-BEA7-4147-98C2-8276CF49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C2FA4-807A-43C1-8A5D-94187F8C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E4954-44F7-455C-8BDB-DE50AADD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DB594-7622-4A63-97EC-BE0945ED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617920"/>
            <a:ext cx="8486640" cy="74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4B9DF-68B1-467E-9FE7-B75C91AA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B1081-50C3-4E4A-924F-18631ACB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4947D-FB54-498F-9037-133A6D654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847B8-F907-4557-85D4-C5C39017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6136E-9AF7-48A9-B66C-8AFEF19D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B370F-DE7E-46F5-9A1A-8AE37BCE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B3563-E1E6-43FC-A48B-9971AB32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D47C7-4DD4-4097-B400-FA510FB2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1E35-DF14-4D39-B62E-7F1E9C892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CA2E6-AF30-4765-BCE3-28222C861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86BFE-739F-4C96-85F3-D1380FF54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617920"/>
            <a:ext cx="8486640" cy="74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68F51-F5CF-4B1C-98D5-F70BBF98D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9F8DC-D697-4158-A282-8379DEB54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6B49B-7A6C-4DF1-98A2-4CEC09A96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E37C3-156D-43C3-B2C0-832F4AE89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0000"/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60000"/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0000"/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8f8f8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2286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f8f8f8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769E-B88C-4F9F-8BFC-9832473E6B2A}" type="slidenum">
              <a:rPr b="1" lang="ko-KR" sz="1200" spc="-1" strike="noStrike">
                <a:solidFill>
                  <a:srgbClr val="f8f8f8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85800"/>
            <a:ext cx="9144000" cy="776160"/>
            <a:chOff x="0" y="685800"/>
            <a:chExt cx="9144000" cy="776160"/>
          </a:xfrm>
        </p:grpSpPr>
        <p:sp>
          <p:nvSpPr>
            <p:cNvPr id="5" name=""/>
            <p:cNvSpPr/>
            <p:nvPr/>
          </p:nvSpPr>
          <p:spPr>
            <a:xfrm>
              <a:off x="0" y="685800"/>
              <a:ext cx="9144000" cy="23184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917640"/>
              <a:ext cx="9144000" cy="122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75008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2472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1081080"/>
            <a:ext cx="9144000" cy="5776920"/>
            <a:chOff x="0" y="1081080"/>
            <a:chExt cx="9144000" cy="5776920"/>
          </a:xfrm>
        </p:grpSpPr>
        <p:sp>
          <p:nvSpPr>
            <p:cNvPr id="48" name=""/>
            <p:cNvSpPr/>
            <p:nvPr/>
          </p:nvSpPr>
          <p:spPr>
            <a:xfrm>
              <a:off x="0" y="3691080"/>
              <a:ext cx="9144000" cy="3166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1081080"/>
              <a:ext cx="9144000" cy="2817720"/>
              <a:chOff x="0" y="1081080"/>
              <a:chExt cx="9144000" cy="2817720"/>
            </a:xfrm>
          </p:grpSpPr>
          <p:sp>
            <p:nvSpPr>
              <p:cNvPr id="50" name=""/>
              <p:cNvSpPr/>
              <p:nvPr/>
            </p:nvSpPr>
            <p:spPr>
              <a:xfrm>
                <a:off x="0" y="3298680"/>
                <a:ext cx="9144000" cy="392400"/>
              </a:xfrm>
              <a:prstGeom prst="rect">
                <a:avLst/>
              </a:prstGeom>
              <a:gradFill rotWithShape="0">
                <a:gsLst>
                  <a:gs pos="0">
                    <a:srgbClr val="669900"/>
                  </a:gs>
                  <a:gs pos="100000">
                    <a:srgbClr val="2f4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691080"/>
                <a:ext cx="9144000" cy="2077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522360" y="1081080"/>
                <a:ext cx="1686960" cy="1204920"/>
                <a:chOff x="522360" y="1081080"/>
                <a:chExt cx="1686960" cy="12049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522360" y="1081080"/>
                  <a:ext cx="163080" cy="1634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902880" y="1380960"/>
                  <a:ext cx="163440" cy="1638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447560" y="1217520"/>
                  <a:ext cx="163080" cy="1634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284120" y="1741320"/>
                  <a:ext cx="163080" cy="1638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665000" y="2122560"/>
                  <a:ext cx="163080" cy="1634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045880" y="1741320"/>
                  <a:ext cx="163440" cy="1638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20440" y="2038320"/>
                  <a:ext cx="163080" cy="1634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" name="PlaceHolder 1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4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5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5965-FC33-437D-AC7F-E6B58CA8DA8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6248520"/>
            <a:ext cx="575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440" y="2286000"/>
            <a:ext cx="638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9900"/>
                </a:solidFill>
                <a:latin typeface="Verdana"/>
              </a:rPr>
              <a:t>Click to edit the title text format</a:t>
            </a: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52880" y="3857760"/>
            <a:ext cx="3657600" cy="741240"/>
            <a:chOff x="4952880" y="3857760"/>
            <a:chExt cx="3657600" cy="741240"/>
          </a:xfrm>
        </p:grpSpPr>
        <p:sp>
          <p:nvSpPr>
            <p:cNvPr id="67" name=""/>
            <p:cNvSpPr/>
            <p:nvPr/>
          </p:nvSpPr>
          <p:spPr>
            <a:xfrm>
              <a:off x="4952880" y="385776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57920" y="385776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42080" y="385776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56480" y="385776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SzPct val="60000"/>
              <a:buFont typeface="Verdana"/>
              <a:buChar char="n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ccff"/>
              </a:buClr>
              <a:buSzPct val="60000"/>
              <a:buFont typeface="Verdana"/>
              <a:buChar char="n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SzPct val="60000"/>
              <a:buFont typeface="Verdana"/>
              <a:buChar char="n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9900"/>
                </a:solidFill>
                <a:latin typeface="Verdana"/>
                <a:ea typeface="Gulim"/>
              </a:rPr>
              <a:t>个人简历</a:t>
            </a:r>
            <a:r>
              <a:rPr b="1" lang="en-US" sz="5000" spc="-1" strike="noStrike">
                <a:solidFill>
                  <a:srgbClr val="669900"/>
                </a:solidFill>
                <a:latin typeface="Verdana"/>
                <a:ea typeface="Gulim"/>
              </a:rPr>
              <a:t>PPT</a:t>
            </a:r>
            <a:r>
              <a:rPr b="1" lang="en-US" sz="5000" spc="-1" strike="noStrike">
                <a:solidFill>
                  <a:srgbClr val="669900"/>
                </a:solidFill>
                <a:latin typeface="Verdana"/>
                <a:ea typeface="Gulim"/>
              </a:rPr>
              <a:t>模板</a:t>
            </a:r>
            <a:r>
              <a:rPr b="1" lang="zh-CN" sz="5000" spc="-1" strike="noStrike">
                <a:solidFill>
                  <a:srgbClr val="669900"/>
                </a:solidFill>
                <a:latin typeface="Verdana"/>
                <a:ea typeface="宋体"/>
              </a:rPr>
              <a:t>在线</a:t>
            </a:r>
            <a:r>
              <a:rPr b="1" lang="en-US" sz="5000" spc="-1" strike="noStrike">
                <a:solidFill>
                  <a:srgbClr val="669900"/>
                </a:solidFill>
                <a:latin typeface="Verdana"/>
                <a:ea typeface="Gulim"/>
              </a:rPr>
              <a:t>下载</a:t>
            </a: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  <a:ea typeface="Gulim"/>
              </a:rPr>
              <a:t>Chart 2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  <a:ea typeface="Gulim"/>
              </a:rPr>
              <a:t>Chart 3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20800" y="1523880"/>
            <a:ext cx="59785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</a:rPr>
              <a:t>使用规范说明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60A6E-C04E-4358-8EB6-33BDA5FCD5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9900"/>
                </a:solidFill>
                <a:latin typeface="Verdana"/>
                <a:ea typeface="Gulim"/>
              </a:rPr>
              <a:t>Thank you</a:t>
            </a: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120" y="48006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000" spc="-1" strike="noStrike">
              <a:solidFill>
                <a:srgbClr val="000000"/>
              </a:solidFill>
              <a:latin typeface="Verdana"/>
              <a:ea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  <a:ea typeface="Gulim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Gulim"/>
              </a:rPr>
              <a:t>Cont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06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  <a:ea typeface="Gulim"/>
              </a:rPr>
              <a:t>Contents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Gulim"/>
              </a:rPr>
              <a:t>Cont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33864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Gulim"/>
              </a:rPr>
              <a:t>Cont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Gulim"/>
              </a:rPr>
              <a:t>Cont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Gulim"/>
              </a:rPr>
              <a:t>Cont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  <a:ea typeface="Gulim"/>
              </a:rPr>
              <a:t>Click to edit Master title style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309840" y="2666880"/>
            <a:ext cx="2362320" cy="2362320"/>
          </a:xfrm>
          <a:prstGeom prst="ellipse">
            <a:avLst/>
          </a:prstGeom>
          <a:noFill/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384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66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  <a:ea typeface="Gulim"/>
              </a:rPr>
              <a:t>Diagram 1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3767040" y="1905120"/>
            <a:ext cx="1447920" cy="1447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43080" y="2376360"/>
            <a:ext cx="11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092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8f8f8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91280" y="196524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800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81640" y="4724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724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8f8f8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76280" y="4148280"/>
            <a:ext cx="11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36576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66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76040" y="4129200"/>
            <a:ext cx="11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67160" y="1981080"/>
            <a:ext cx="4400280" cy="2122560"/>
          </a:xfrm>
          <a:prstGeom prst="ellipse">
            <a:avLst/>
          </a:prstGeom>
          <a:noFill/>
          <a:ln w="12600">
            <a:solidFill>
              <a:srgbClr val="66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  <a:ea typeface="Gulim"/>
              </a:rPr>
              <a:t>Diagram 2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2727360"/>
            <a:ext cx="289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48690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4175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3954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827800">
            <a:off x="2090520" y="3627360"/>
            <a:ext cx="6094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381560"/>
            <a:ext cx="60984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8767400">
            <a:off x="6553080" y="3657240"/>
            <a:ext cx="6094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295280" y="22860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e8f3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62480" y="2286000"/>
            <a:ext cx="2442960" cy="3962520"/>
          </a:xfrm>
          <a:custGeom>
            <a:avLst/>
            <a:gdLst>
              <a:gd name="textAreaLeft" fmla="*/ 0 w 2442960"/>
              <a:gd name="textAreaRight" fmla="*/ 2443320 w 244296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e8f3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22860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e8f3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  <a:ea typeface="Gulim"/>
              </a:rPr>
              <a:t>Diagram 3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1600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1600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2438280"/>
            <a:ext cx="19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51440" y="2438280"/>
            <a:ext cx="189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84880" y="2438280"/>
            <a:ext cx="194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60800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hart 1</a:t>
            </a:r>
            <a:endParaRPr b="1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3860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Guli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89080" y="2133720"/>
          <a:ext cx="6708600" cy="3886200"/>
        </p:xfrm>
        <a:graphic>
          <a:graphicData uri="http://schemas.openxmlformats.org/drawingml/2006/table">
            <a:tbl>
              <a:tblPr/>
              <a:tblGrid>
                <a:gridCol w="1119240"/>
                <a:gridCol w="1117440"/>
                <a:gridCol w="1117800"/>
                <a:gridCol w="1117440"/>
                <a:gridCol w="1119240"/>
                <a:gridCol w="111744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8f8f8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8f8f8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8f8f8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8f8f8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8f8f8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8f8f8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6666"/>
                          </a:solidFill>
                          <a:latin typeface="Verdana"/>
                          <a:ea typeface="Gulim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66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50000">
                          <a:srgbClr val="ffffff"/>
                        </a:gs>
                        <a:gs pos="100000">
                          <a:srgbClr val="33cc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6666"/>
                          </a:solidFill>
                          <a:latin typeface="Verdana"/>
                          <a:ea typeface="Gulim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50000">
                          <a:srgbClr val="ffffff"/>
                        </a:gs>
                        <a:gs pos="100000">
                          <a:srgbClr val="33cc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6666"/>
                          </a:solidFill>
                          <a:latin typeface="Verdana"/>
                          <a:ea typeface="Gulim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50000">
                          <a:srgbClr val="ffffff"/>
                        </a:gs>
                        <a:gs pos="100000">
                          <a:srgbClr val="33cc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6666"/>
                          </a:solidFill>
                          <a:latin typeface="Verdana"/>
                          <a:ea typeface="Gulim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50000">
                          <a:srgbClr val="ffffff"/>
                        </a:gs>
                        <a:gs pos="100000">
                          <a:srgbClr val="33cc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6666"/>
                          </a:solidFill>
                          <a:latin typeface="Verdana"/>
                          <a:ea typeface="Gulim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50000">
                          <a:srgbClr val="ffffff"/>
                        </a:gs>
                        <a:gs pos="100000">
                          <a:srgbClr val="33cc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  <a:ea typeface="Gulim"/>
              </a:rPr>
              <a:t>Click to edit Master title style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62" name="File"/>
          <p:cNvSpPr/>
          <p:nvPr/>
        </p:nvSpPr>
        <p:spPr>
          <a:xfrm>
            <a:off x="878040" y="1349280"/>
            <a:ext cx="3693960" cy="467064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50000">
                <a:srgbClr val="e2f0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14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2590920"/>
            <a:ext cx="434340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b2b2b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ea typeface="Gulim"/>
              </a:rPr>
              <a:t>Competito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b2b2b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ea typeface="Gulim"/>
              </a:rPr>
              <a:t>Strength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5080" y="2647800"/>
            <a:ext cx="2911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ile"/>
          <p:cNvSpPr/>
          <p:nvPr/>
        </p:nvSpPr>
        <p:spPr>
          <a:xfrm>
            <a:off x="609480" y="1295280"/>
            <a:ext cx="3694320" cy="467064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50000">
                <a:srgbClr val="e2f0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5170320" y="1371600"/>
            <a:ext cx="3694320" cy="467028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50000">
                <a:srgbClr val="e2f0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  <a:ea typeface="Gulim"/>
              </a:rPr>
              <a:t>Click to edit Master title style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614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6480" y="2647800"/>
            <a:ext cx="2911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1614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02160" y="2647800"/>
            <a:ext cx="291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4226040" y="3394080"/>
            <a:ext cx="730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43:5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02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AdHocReviewCycleID">
    <vt:r8>1344399779</vt:r8>
  </property>
  <property fmtid="{D5CDD505-2E9C-101B-9397-08002B2CF9AE}" pid="4" name="_AuthorEmail">
    <vt:lpwstr>support@themegallery.co.kr</vt:lpwstr>
  </property>
  <property fmtid="{D5CDD505-2E9C-101B-9397-08002B2CF9AE}" pid="5" name="_AuthorEmailDisplayName">
    <vt:lpwstr>support</vt:lpwstr>
  </property>
  <property fmtid="{D5CDD505-2E9C-101B-9397-08002B2CF9AE}" pid="6" name="_EmailSubject">
    <vt:lpwstr>안녕하세요 사이너에서 파워포인트 문제로 알려드릴께 있어서 메일보냅니다.</vt:lpwstr>
  </property>
  <property fmtid="{D5CDD505-2E9C-101B-9397-08002B2CF9AE}" pid="7" name="_PreviousAdHocReviewCycleID">
    <vt:r8>-338095602</vt:r8>
  </property>
  <property fmtid="{D5CDD505-2E9C-101B-9397-08002B2CF9AE}" pid="8" name="_ReviewingToolsShownOnce">
    <vt:lpwstr/>
  </property>
</Properties>
</file>