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DBF-F1A4-4A09-BB2E-CF3E6C3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198-269B-4993-83C6-E3FADE0F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BE6-4B40-4768-829D-C30390BA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CE5-A685-4325-A202-45EFB986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BCF9-07AC-4495-AB6D-C111E12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A01C-38C9-4C72-A5BD-D553BF88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1605-4EC2-47B3-9166-A2EBA0AA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8178-0FCF-4DD8-9BDE-08F3312A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3735-024A-4128-B730-228B4AE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9F7-861E-4C10-9DE7-CFA667C3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F950-A573-4E7E-AF72-74EA793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480-820F-4EED-8F5F-56B631CE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59B-7EC2-4E88-9F51-5194597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5CD-383B-4028-AA10-E0304D2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AF73-E527-4CBA-A18D-A9500FFB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F82-354D-4BD5-8BCE-FFAE706C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41E0-414C-4505-9A5C-E66CB98A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63C-2ED9-4991-B139-4F42960C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5EA-33CB-4E6E-8109-CC10C683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A07-F7BA-405A-BCC7-1C8AB91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A7C-2F1B-4126-820A-ED28E29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D8D-2862-4093-8175-EABFE6C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AD6-81E3-4984-BAF8-6735B45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4CD-7C44-4032-80B1-4ED109E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920" cy="304560"/>
              <a:chOff x="228600" y="990720"/>
              <a:chExt cx="30492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6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29E-7329-4046-BED5-1A1268C8D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472C-78BC-4EC7-BE53-C47748CD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3280" y="2276280"/>
            <a:ext cx="58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某某个人简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42920" y="414936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姓       名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专        业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毕业学校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15080" y="40464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人制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简历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087-AC07-4560-96CA-3A41E6557E96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960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1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