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4791-72FC-41F2-BE52-129B4910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D88-2534-4304-927C-AAC16EB7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39F-3B5D-458E-A1B4-74835623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878E-CFB3-4E6B-848A-22E61791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250-6E92-4518-B987-D5888B63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EF1C-BF2B-4F15-BE4C-1B0814C0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754-404D-4A9F-A140-6327D82C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4B3-0644-4CE5-A41B-B5A93C81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016-7810-4773-9812-AC748AF4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9BC-E171-4D69-8857-968897C1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1F2-6C71-4B89-8342-CCEC998B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C48-89F2-4E3F-9AA3-B5E8361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ED67-F8EB-47FA-BFDE-A8257891E6B1}" type="datetime">
              <a:rPr b="0" lang="zh-CN" sz="1200" spc="-1" strike="noStrike">
                <a:solidFill>
                  <a:srgbClr val="4b4b4b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E5BE-171D-4044-9EC2-07E64294ABA3}" type="slidenum">
              <a:rPr b="0" lang="zh-CN" sz="1200" spc="-1" strike="noStrike">
                <a:solidFill>
                  <a:srgbClr val="4b4b4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主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点击此处添加幻灯副标题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69520" y="10098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11111"/>
                </a:solidFill>
                <a:latin typeface="Arial"/>
              </a:rPr>
              <a:t>公司企业</a:t>
            </a: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111111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85A-DA28-4BBB-AC11-A611BE9528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22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EDE-09C1-4F85-8025-4D93D8E7EB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26" name="Freeform 65"/>
            <p:cNvSpPr/>
            <p:nvPr/>
          </p:nvSpPr>
          <p:spPr>
            <a:xfrm>
              <a:off x="676800" y="1631880"/>
              <a:ext cx="4841640" cy="186264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640"/>
                <a:gd name="textAreaBottom" fmla="*/ 1863000 h 186264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Freeform 66"/>
            <p:cNvSpPr/>
            <p:nvPr/>
          </p:nvSpPr>
          <p:spPr>
            <a:xfrm>
              <a:off x="4049640" y="2203920"/>
              <a:ext cx="558720" cy="57060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570600"/>
                <a:gd name="textAreaBottom" fmla="*/ 570600 h 57060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Freeform 67"/>
            <p:cNvSpPr/>
            <p:nvPr/>
          </p:nvSpPr>
          <p:spPr>
            <a:xfrm>
              <a:off x="480960" y="2618280"/>
              <a:ext cx="1681200" cy="176292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920"/>
                <a:gd name="textAreaBottom" fmla="*/ 1763280 h 176292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Freeform 69"/>
            <p:cNvSpPr/>
            <p:nvPr/>
          </p:nvSpPr>
          <p:spPr>
            <a:xfrm>
              <a:off x="5547600" y="1708920"/>
              <a:ext cx="3273840" cy="3159720"/>
            </a:xfrm>
            <a:custGeom>
              <a:avLst/>
              <a:gdLst>
                <a:gd name="textAreaLeft" fmla="*/ 0 w 3273840"/>
                <a:gd name="textAreaRight" fmla="*/ 3274200 w 3273840"/>
                <a:gd name="textAreaTop" fmla="*/ 0 h 3159720"/>
                <a:gd name="textAreaBottom" fmla="*/ 3160080 h 315972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Freeform 70"/>
            <p:cNvSpPr/>
            <p:nvPr/>
          </p:nvSpPr>
          <p:spPr>
            <a:xfrm>
              <a:off x="659520" y="2083320"/>
              <a:ext cx="299520" cy="22788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2" name="Freeform 71"/>
            <p:cNvSpPr/>
            <p:nvPr/>
          </p:nvSpPr>
          <p:spPr>
            <a:xfrm>
              <a:off x="1951200" y="381060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3" name="Freeform 72"/>
            <p:cNvSpPr/>
            <p:nvPr/>
          </p:nvSpPr>
          <p:spPr>
            <a:xfrm>
              <a:off x="3203280" y="3378240"/>
              <a:ext cx="785160" cy="40968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4" name="Freeform 73"/>
            <p:cNvSpPr/>
            <p:nvPr/>
          </p:nvSpPr>
          <p:spPr>
            <a:xfrm>
              <a:off x="3547440" y="335160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5" name="Freeform 74"/>
            <p:cNvSpPr/>
            <p:nvPr/>
          </p:nvSpPr>
          <p:spPr>
            <a:xfrm>
              <a:off x="3957840" y="3463560"/>
              <a:ext cx="671400" cy="327600"/>
            </a:xfrm>
            <a:custGeom>
              <a:avLst/>
              <a:gdLst>
                <a:gd name="textAreaLeft" fmla="*/ 0 w 671400"/>
                <a:gd name="textAreaRight" fmla="*/ 671400 w 6714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6" name="Freeform 75"/>
            <p:cNvSpPr/>
            <p:nvPr/>
          </p:nvSpPr>
          <p:spPr>
            <a:xfrm>
              <a:off x="3737880" y="3051720"/>
              <a:ext cx="238680" cy="3412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7" name="Freeform 76"/>
            <p:cNvSpPr/>
            <p:nvPr/>
          </p:nvSpPr>
          <p:spPr>
            <a:xfrm>
              <a:off x="4404240" y="4481280"/>
              <a:ext cx="112320" cy="101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8" name="Freeform 77"/>
            <p:cNvSpPr/>
            <p:nvPr/>
          </p:nvSpPr>
          <p:spPr>
            <a:xfrm>
              <a:off x="4920480" y="4347360"/>
              <a:ext cx="318240" cy="31536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360"/>
                <a:gd name="textAreaBottom" fmla="*/ 315360 h 31536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9" name="Freeform 78"/>
            <p:cNvSpPr/>
            <p:nvPr/>
          </p:nvSpPr>
          <p:spPr>
            <a:xfrm>
              <a:off x="7583040" y="2955240"/>
              <a:ext cx="456480" cy="15192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0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a838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42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3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8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9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0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E3B-DA38-463C-988A-56BB97079D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FC8E-8F37-4C5C-BCEC-22F96D72C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460-81EC-4FA4-8113-51C86752F4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a83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f168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a83800"/>
          </a:solidFill>
          <a:ln w="9360">
            <a:solidFill>
              <a:srgbClr val="541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内容占位符 6"/>
          <p:cNvSpPr/>
          <p:nvPr/>
        </p:nvSpPr>
        <p:spPr>
          <a:xfrm>
            <a:off x="3179880" y="3332160"/>
            <a:ext cx="5568840" cy="20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2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直接连接符 150"/>
          <p:cNvSpPr/>
          <p:nvPr/>
        </p:nvSpPr>
        <p:spPr>
          <a:xfrm>
            <a:off x="395280" y="194004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D163-CF58-4B92-A93E-98770E31CC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6870600"/>
          </a:xfrm>
          <a:prstGeom prst="rect">
            <a:avLst/>
          </a:prstGeom>
          <a:ln w="0">
            <a:noFill/>
          </a:ln>
        </p:spPr>
      </p:pic>
      <p:sp>
        <p:nvSpPr>
          <p:cNvPr id="96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1747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4C0B-7C99-40CB-BACE-AAC34D23A6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2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31B-5B6A-41CD-926E-3EBD2CA90F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6" name="内容占位符 12"/>
          <p:cNvSpPr/>
          <p:nvPr/>
        </p:nvSpPr>
        <p:spPr>
          <a:xfrm>
            <a:off x="395280" y="1339920"/>
            <a:ext cx="8353440" cy="46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371-93EB-4A87-93C5-1CE365BC49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8" name="内容占位符 15"/>
          <p:cNvSpPr/>
          <p:nvPr/>
        </p:nvSpPr>
        <p:spPr>
          <a:xfrm>
            <a:off x="906480" y="1339920"/>
            <a:ext cx="7332480" cy="44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7FFF-2938-438F-A2C5-EED4B01091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11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0FE-D2AE-42D1-93D3-8F3F2E321B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内容占位符 6"/>
          <p:cNvSpPr/>
          <p:nvPr/>
        </p:nvSpPr>
        <p:spPr>
          <a:xfrm>
            <a:off x="39528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内容占位符 6"/>
          <p:cNvSpPr/>
          <p:nvPr/>
        </p:nvSpPr>
        <p:spPr>
          <a:xfrm>
            <a:off x="4635360" y="1197000"/>
            <a:ext cx="4105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2D64-255E-4DC2-B5BC-2A591E709D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18" name="内容占位符 6"/>
          <p:cNvSpPr/>
          <p:nvPr/>
        </p:nvSpPr>
        <p:spPr>
          <a:xfrm>
            <a:off x="395280" y="1197000"/>
            <a:ext cx="8353440" cy="475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0EF-EDCA-4E7A-8FB4-6B2FF7268B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1:20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24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