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50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50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50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85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85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50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50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50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50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50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50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4687200" y="6488280"/>
            <a:ext cx="53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4687200" y="6488280"/>
            <a:ext cx="53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4200" y="1785600"/>
            <a:ext cx="621504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5000" spc="-1" strike="noStrike">
                <a:solidFill>
                  <a:srgbClr val="1f497d"/>
                </a:solidFill>
                <a:latin typeface="Calibri"/>
              </a:rPr>
              <a:t>Entertainment  </a:t>
            </a:r>
            <a:br>
              <a:rPr sz="5000"/>
            </a:br>
            <a:r>
              <a:rPr b="1" lang="en-US" sz="5000" spc="-1" strike="noStrike">
                <a:solidFill>
                  <a:srgbClr val="1f497d"/>
                </a:solidFill>
                <a:latin typeface="Calibri"/>
              </a:rPr>
              <a:t>       in Mathematics</a:t>
            </a:r>
            <a:endParaRPr b="1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71320" y="3714840"/>
            <a:ext cx="4400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3b3721"/>
                </a:solidFill>
                <a:latin typeface="Calibri"/>
                <a:ea typeface="宋体"/>
              </a:rPr>
              <a:t>- Dr. Me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746360" y="6093000"/>
            <a:ext cx="56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620640"/>
            <a:ext cx="65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读书教育完整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troductio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ll 2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 exploring nature of inf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Semester, Spring 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e Sh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e Show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y of calculus and Fundamental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Content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6791400" y="4289400"/>
            <a:ext cx="1398600" cy="14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146320" y="2533680"/>
            <a:ext cx="5207040" cy="2576520"/>
          </a:xfrm>
          <a:prstGeom prst="upArrow">
            <a:avLst>
              <a:gd name="adj1" fmla="val 57824"/>
              <a:gd name="adj2" fmla="val 543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3035160" y="4289400"/>
            <a:ext cx="1398600" cy="14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790640" y="1789200"/>
            <a:ext cx="545148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1214280" y="4292640"/>
            <a:ext cx="1398600" cy="14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316160" y="4789440"/>
            <a:ext cx="11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079800" y="478944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4933800" y="4289400"/>
            <a:ext cx="1398600" cy="14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4857840" y="4789440"/>
            <a:ext cx="14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1"/>
          <p:cNvSpPr/>
          <p:nvPr/>
        </p:nvSpPr>
        <p:spPr>
          <a:xfrm>
            <a:off x="6258960" y="47894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4687200" y="6488280"/>
            <a:ext cx="53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249984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5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5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02:28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2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