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media/image11.wmf" ContentType="image/x-wmf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5CA7-DD50-4894-B6C8-09BEA9FD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9CC7-1834-4218-9F9A-C2E588CD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04F0-BBCA-43D6-9C0D-FD76800C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51C6-33A0-40CE-8129-ADA982CE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B20F8-E646-48A5-B299-F598CE107E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D58DD-B20A-481F-92DD-69D48FCF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14786-6F02-490D-B258-9ECE588A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8FAD0-16C9-4F20-83A2-73965A0C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724A9-9BC2-4252-8C4E-61C81A80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9DDBE-7033-4A38-A5CC-A64BF9BB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0D224-BA66-49D6-89F1-47E104EB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D22B-B6EF-477D-9E48-C788A35C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E1E6F-7F70-4B1B-948F-230410DB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BA480-C993-4349-A593-BFD122EA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F2856-4BCB-4659-B3FF-D12573CE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EFDC0-D189-4E6C-B291-A9A52750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7228B-8032-40D9-A3BA-C98FDA2344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11F7-2D10-46C8-B569-12733D05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9A6C-6FB6-4469-9ABE-D6004D77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7218-1515-42E7-AA64-5007ADCE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847B-4242-4CE2-AD82-3D3374B2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41CB-57CC-4153-A4D7-929E384E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E07B-EC06-49A5-BD74-9D6841AF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A871-F63E-4020-B121-D3E75B2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d9c2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-11160" y="343080"/>
            <a:ext cx="603108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PMingLiU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358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9ca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9c21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78000" y="6530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8E79-89E6-4FCC-AECE-B76D1695E420}" type="slidenum"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1074600" cy="111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14240" y="-6480"/>
            <a:ext cx="0" cy="114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357120"/>
            <a:ext cx="107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58920" y="-20520"/>
            <a:ext cx="0" cy="1154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69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5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ED58-7DE8-4933-A561-47B3133FC45E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d9c2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PMingLiU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884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9c215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40892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6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193583"/>
                </a:solidFill>
                <a:latin typeface="Arial"/>
                <a:ea typeface="PMingLiU"/>
              </a:rPr>
              <a:t> </a:t>
            </a:r>
            <a:r>
              <a:rPr b="1" lang="en-US" sz="4000" spc="-1" strike="noStrike">
                <a:solidFill>
                  <a:srgbClr val="04884e"/>
                </a:solidFill>
                <a:latin typeface="Arial"/>
                <a:ea typeface="PMingLiU"/>
              </a:rPr>
              <a:t>PowerTemplate</a:t>
            </a:r>
            <a:endParaRPr b="1" lang="en-US" sz="40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562720" y="32115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117440" cy="1096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24360" y="763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儿童早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461" name="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5f2dd"/>
                </a:gs>
                <a:gs pos="100000">
                  <a:srgbClr val="89ca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464" name="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9e4d8"/>
                </a:gs>
                <a:gs pos="100000">
                  <a:srgbClr val="0488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467" name="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5f1cc"/>
                </a:gs>
                <a:gs pos="100000">
                  <a:srgbClr val="d9c2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d9c215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ff96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89ca64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c215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89ca64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4884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未知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d9c2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未知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89ca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未知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518" name="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9ca64">
                    <a:alpha val="90196"/>
                  </a:srgbClr>
                </a:gs>
                <a:gs pos="50000">
                  <a:srgbClr val="d6ecc9"/>
                </a:gs>
                <a:gs pos="100000">
                  <a:srgbClr val="89ca64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522" name="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4884e">
                    <a:alpha val="90196"/>
                  </a:srgbClr>
                </a:gs>
                <a:gs pos="50000">
                  <a:srgbClr val="a9d6c2"/>
                </a:gs>
                <a:gs pos="100000">
                  <a:srgbClr val="04884e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526" name="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d4507"/>
                </a:gs>
                <a:gs pos="50000">
                  <a:srgbClr val="d9c215"/>
                </a:gs>
                <a:gs pos="100000">
                  <a:srgbClr val="4d4507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c215">
                    <a:alpha val="90196"/>
                  </a:srgbClr>
                </a:gs>
                <a:gs pos="50000">
                  <a:srgbClr val="f1e9af"/>
                </a:gs>
                <a:gs pos="100000">
                  <a:srgbClr val="d9c21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9c21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4884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324880" y="1933560"/>
            <a:ext cx="4217760" cy="4161960"/>
            <a:chOff x="2324880" y="1933560"/>
            <a:chExt cx="4217760" cy="4161960"/>
          </a:xfrm>
        </p:grpSpPr>
        <p:sp>
          <p:nvSpPr>
            <p:cNvPr id="534" name=""/>
            <p:cNvSpPr/>
            <p:nvPr/>
          </p:nvSpPr>
          <p:spPr>
            <a:xfrm rot="10800000">
              <a:off x="3814560" y="5043240"/>
              <a:ext cx="1193760" cy="10522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31840" y="1933560"/>
              <a:ext cx="1193760" cy="1052640"/>
            </a:xfrm>
            <a:prstGeom prst="triangle">
              <a:avLst>
                <a:gd name="adj" fmla="val 50000"/>
              </a:avLst>
            </a:prstGeom>
            <a:solidFill>
              <a:srgbClr val="89ca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86200">
              <a:off x="5191920" y="4245120"/>
              <a:ext cx="1193760" cy="1053720"/>
            </a:xfrm>
            <a:prstGeom prst="triangle">
              <a:avLst>
                <a:gd name="adj" fmla="val 50000"/>
              </a:avLst>
            </a:prstGeom>
            <a:solidFill>
              <a:srgbClr val="89ca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3597000">
              <a:off x="5189040" y="2711520"/>
              <a:ext cx="1191960" cy="10522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4374200">
              <a:off x="2484720" y="4253760"/>
              <a:ext cx="1192320" cy="1053720"/>
            </a:xfrm>
            <a:prstGeom prst="triangle">
              <a:avLst>
                <a:gd name="adj" fmla="val 50000"/>
              </a:avLst>
            </a:prstGeom>
            <a:solidFill>
              <a:srgbClr val="89ca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7985000">
              <a:off x="2488680" y="2707200"/>
              <a:ext cx="1193760" cy="105372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56480" y="5429160"/>
              <a:ext cx="1184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81320" y="545796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516200" y="245124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03480" y="328608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03480" y="4705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744880" y="33037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5744880" y="46753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d9c2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5a8642">
                  <a:alpha val="12156"/>
                </a:srgbClr>
              </a:gs>
              <a:gs pos="50000">
                <a:srgbClr val="89ca64"/>
              </a:gs>
              <a:gs pos="100000">
                <a:srgbClr val="5a864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97a0d"/>
              </a:gs>
              <a:gs pos="100000">
                <a:srgbClr val="d9c21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4"/>
              </a:gs>
              <a:gs pos="100000">
                <a:srgbClr val="89ca64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4"/>
              </a:gs>
              <a:gs pos="100000">
                <a:srgbClr val="89ca64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4"/>
              </a:gs>
              <a:gs pos="100000">
                <a:srgbClr val="89ca64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2260440" y="1744920"/>
            <a:ext cx="1536120" cy="40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2396880" y="1643400"/>
            <a:ext cx="1379160" cy="39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94cbb3"/>
              </a:gs>
              <a:gs pos="100000">
                <a:srgbClr val="04884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6200000">
            <a:off x="2334600" y="1743480"/>
            <a:ext cx="137952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9600"/>
              </a:gs>
              <a:gs pos="100000">
                <a:srgbClr val="fecb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16200000">
            <a:off x="2326680" y="1731960"/>
            <a:ext cx="1414080" cy="38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eee59f"/>
              </a:gs>
              <a:gs pos="100000">
                <a:srgbClr val="d9c21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6200000">
            <a:off x="2291040" y="1361880"/>
            <a:ext cx="1844640" cy="470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466733"/>
              </a:gs>
              <a:gs pos="100000">
                <a:srgbClr val="89ca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未知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2301120" y="1197720"/>
            <a:ext cx="184536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89ca64"/>
              </a:gs>
              <a:gs pos="100000">
                <a:srgbClr val="77b05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>
            <a:endCxn id="580" idx="3"/>
          </p:cNvCxnSpPr>
          <p:nvPr/>
        </p:nvCxnSpPr>
        <p:spPr>
          <a:xfrm flipV="1" rot="10800000">
            <a:off x="3631320" y="2179440"/>
            <a:ext cx="2417040" cy="88488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"/>
          <p:cNvCxnSpPr>
            <a:endCxn id="573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583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586" name="未知"/>
            <p:cNvSpPr/>
            <p:nvPr/>
          </p:nvSpPr>
          <p:spPr>
            <a:xfrm>
              <a:off x="6167880" y="22748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b9e4e"/>
                </a:gs>
                <a:gs pos="100000">
                  <a:srgbClr val="89ca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589" name="未知"/>
            <p:cNvSpPr/>
            <p:nvPr/>
          </p:nvSpPr>
          <p:spPr>
            <a:xfrm>
              <a:off x="6167880" y="3828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036a3d"/>
                </a:gs>
                <a:gs pos="100000">
                  <a:srgbClr val="0488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592" name="未知"/>
            <p:cNvSpPr/>
            <p:nvPr/>
          </p:nvSpPr>
          <p:spPr>
            <a:xfrm>
              <a:off x="6167880" y="5200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c87500"/>
                </a:gs>
                <a:gs pos="100000">
                  <a:srgbClr val="ff9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595" name="未知"/>
            <p:cNvSpPr/>
            <p:nvPr/>
          </p:nvSpPr>
          <p:spPr>
            <a:xfrm>
              <a:off x="986400" y="542916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aa9810"/>
                </a:gs>
                <a:gs pos="100000">
                  <a:srgbClr val="d9c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9" name="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603" name="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604" name="未知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未知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2029320" y="2155680"/>
              <a:ext cx="344520" cy="359280"/>
              <a:chOff x="2029320" y="2155680"/>
              <a:chExt cx="344520" cy="35928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2037960" y="2155680"/>
                <a:ext cx="335880" cy="273960"/>
                <a:chOff x="2037960" y="2155680"/>
                <a:chExt cx="335880" cy="273960"/>
              </a:xfrm>
            </p:grpSpPr>
            <p:sp>
              <p:nvSpPr>
                <p:cNvPr id="612" name=""/>
                <p:cNvSpPr/>
                <p:nvPr/>
              </p:nvSpPr>
              <p:spPr>
                <a:xfrm flipH="1" rot="15040200">
                  <a:off x="2190240" y="212292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rot="13928400">
                  <a:off x="2132280" y="21556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2029320" y="2177640"/>
                <a:ext cx="271800" cy="337320"/>
                <a:chOff x="2029320" y="2177640"/>
                <a:chExt cx="271800" cy="337320"/>
              </a:xfrm>
            </p:grpSpPr>
            <p:sp>
              <p:nvSpPr>
                <p:cNvPr id="617" name=""/>
                <p:cNvSpPr/>
                <p:nvPr/>
              </p:nvSpPr>
              <p:spPr>
                <a:xfrm flipH="1" rot="13687200">
                  <a:off x="2126160" y="21711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 rot="12871200">
                  <a:off x="209556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 rot="12576000">
                  <a:off x="2085120" y="22237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 rot="12043800">
                  <a:off x="20739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1" name=""/>
            <p:cNvGrpSpPr/>
            <p:nvPr/>
          </p:nvGrpSpPr>
          <p:grpSpPr>
            <a:xfrm>
              <a:off x="1849320" y="2691360"/>
              <a:ext cx="429480" cy="517320"/>
              <a:chOff x="1849320" y="2691360"/>
              <a:chExt cx="429480" cy="517320"/>
            </a:xfrm>
          </p:grpSpPr>
          <p:grpSp>
            <p:nvGrpSpPr>
              <p:cNvPr id="622" name=""/>
              <p:cNvGrpSpPr/>
              <p:nvPr/>
            </p:nvGrpSpPr>
            <p:grpSpPr>
              <a:xfrm>
                <a:off x="1849320" y="2691360"/>
                <a:ext cx="429480" cy="405000"/>
                <a:chOff x="1849320" y="2691360"/>
                <a:chExt cx="429480" cy="405000"/>
              </a:xfrm>
            </p:grpSpPr>
            <p:sp>
              <p:nvSpPr>
                <p:cNvPr id="623" name=""/>
                <p:cNvSpPr/>
                <p:nvPr/>
              </p:nvSpPr>
              <p:spPr>
                <a:xfrm flipH="1" rot="14424600">
                  <a:off x="204588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rot="13608600">
                  <a:off x="199332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rot="13313400">
                  <a:off x="196956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 rot="12781200">
                  <a:off x="194148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1850400" y="2719080"/>
                <a:ext cx="308880" cy="489600"/>
                <a:chOff x="1850400" y="2719080"/>
                <a:chExt cx="308880" cy="489600"/>
              </a:xfrm>
            </p:grpSpPr>
            <p:sp>
              <p:nvSpPr>
                <p:cNvPr id="628" name=""/>
                <p:cNvSpPr/>
                <p:nvPr/>
              </p:nvSpPr>
              <p:spPr>
                <a:xfrm flipH="1" rot="13071600">
                  <a:off x="195876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 rot="12256200">
                  <a:off x="192168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 rot="11960400">
                  <a:off x="190908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 rot="11428200">
                  <a:off x="189648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2" name="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634" name="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635" name="未知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未知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c215"/>
                </a:gs>
                <a:gs pos="100000">
                  <a:srgbClr val="38320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9c215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796c0b"/>
                </a:gs>
                <a:gs pos="50000">
                  <a:srgbClr val="d9c215"/>
                </a:gs>
                <a:gs pos="100000">
                  <a:srgbClr val="796c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9c215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1496160" y="2155680"/>
              <a:ext cx="344880" cy="359280"/>
              <a:chOff x="1496160" y="2155680"/>
              <a:chExt cx="344880" cy="359280"/>
            </a:xfrm>
          </p:grpSpPr>
          <p:grpSp>
            <p:nvGrpSpPr>
              <p:cNvPr id="642" name="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643" name="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496160" y="2177280"/>
                <a:ext cx="271800" cy="337680"/>
                <a:chOff x="1496160" y="2177280"/>
                <a:chExt cx="271800" cy="337680"/>
              </a:xfrm>
            </p:grpSpPr>
            <p:sp>
              <p:nvSpPr>
                <p:cNvPr id="648" name=""/>
                <p:cNvSpPr/>
                <p:nvPr/>
              </p:nvSpPr>
              <p:spPr>
                <a:xfrm flipH="1" rot="13687200">
                  <a:off x="159264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rot="12871200">
                  <a:off x="156240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 rot="12576000">
                  <a:off x="15519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rot="12043800">
                  <a:off x="154044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2" name=""/>
            <p:cNvGrpSpPr/>
            <p:nvPr/>
          </p:nvGrpSpPr>
          <p:grpSpPr>
            <a:xfrm>
              <a:off x="1315800" y="2691360"/>
              <a:ext cx="429480" cy="517320"/>
              <a:chOff x="1315800" y="2691360"/>
              <a:chExt cx="429480" cy="51732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1315800" y="2691360"/>
                <a:ext cx="429480" cy="405000"/>
                <a:chOff x="1315800" y="2691360"/>
                <a:chExt cx="429480" cy="405000"/>
              </a:xfrm>
            </p:grpSpPr>
            <p:sp>
              <p:nvSpPr>
                <p:cNvPr id="654" name=""/>
                <p:cNvSpPr/>
                <p:nvPr/>
              </p:nvSpPr>
              <p:spPr>
                <a:xfrm flipH="1" rot="14424600">
                  <a:off x="151236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rot="13608600">
                  <a:off x="145980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rot="13313400">
                  <a:off x="143604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rot="12781200">
                  <a:off x="140796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1316880" y="2719080"/>
                <a:ext cx="308880" cy="489600"/>
                <a:chOff x="1316880" y="2719080"/>
                <a:chExt cx="308880" cy="489600"/>
              </a:xfrm>
            </p:grpSpPr>
            <p:sp>
              <p:nvSpPr>
                <p:cNvPr id="659" name=""/>
                <p:cNvSpPr/>
                <p:nvPr/>
              </p:nvSpPr>
              <p:spPr>
                <a:xfrm flipH="1" rot="13071600">
                  <a:off x="142524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rot="12256200">
                  <a:off x="138816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 rot="11960400">
                  <a:off x="137556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 rot="11428200">
                  <a:off x="136296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3" name="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00200" y="1066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4884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48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4884e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4884e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02492a"/>
              </a:gs>
              <a:gs pos="50000">
                <a:srgbClr val="04884e"/>
              </a:gs>
              <a:gs pos="100000">
                <a:srgbClr val="02492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04884e">
                  <a:alpha val="0"/>
                </a:srgbClr>
              </a:gs>
              <a:gs pos="100000">
                <a:srgbClr val="02563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96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ff96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895000"/>
              </a:gs>
              <a:gs pos="50000">
                <a:srgbClr val="ff9600"/>
              </a:gs>
              <a:gs pos="100000">
                <a:srgbClr val="895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ff9600">
                  <a:alpha val="0"/>
                </a:srgbClr>
              </a:gs>
              <a:gs pos="100000">
                <a:srgbClr val="a1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679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9ca6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3f5d2e"/>
              </a:gs>
              <a:gs pos="100000">
                <a:srgbClr val="89ca6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96c35"/>
              </a:gs>
              <a:gs pos="50000">
                <a:srgbClr val="89ca64"/>
              </a:gs>
              <a:gs pos="100000">
                <a:srgbClr val="496c3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9ca64">
                  <a:alpha val="0"/>
                </a:srgbClr>
              </a:gs>
              <a:gs pos="100000">
                <a:srgbClr val="567f3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689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694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706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710" name="未知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89ca64"/>
                </a:gs>
                <a:gs pos="100000">
                  <a:srgbClr val="3f5d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d9c215"/>
                </a:gs>
                <a:gs pos="100000">
                  <a:srgbClr val="645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04884e"/>
                </a:gs>
                <a:gs pos="100000">
                  <a:srgbClr val="48a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89ca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19358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98480" y="4781520"/>
            <a:ext cx="7653240" cy="847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08200" y="4076640"/>
            <a:ext cx="7643520" cy="70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9ca64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08200" y="3411360"/>
            <a:ext cx="7643520" cy="66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98480" y="2814480"/>
            <a:ext cx="7653240" cy="596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9ca64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98480" y="2378160"/>
            <a:ext cx="7653240" cy="43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63680" y="281448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63680" y="340524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63680" y="408132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3680" y="478476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730600" y="4627440"/>
            <a:ext cx="3456000" cy="1239840"/>
            <a:chOff x="2730600" y="4627440"/>
            <a:chExt cx="3456000" cy="1239840"/>
          </a:xfrm>
        </p:grpSpPr>
        <p:sp>
          <p:nvSpPr>
            <p:cNvPr id="727" name=""/>
            <p:cNvSpPr/>
            <p:nvPr/>
          </p:nvSpPr>
          <p:spPr>
            <a:xfrm>
              <a:off x="2730600" y="462744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14823"/>
                </a:gs>
                <a:gs pos="50000">
                  <a:srgbClr val="89ca64"/>
                </a:gs>
                <a:gs pos="100000">
                  <a:srgbClr val="3148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730600" y="4634280"/>
              <a:ext cx="3456000" cy="612720"/>
            </a:xfrm>
            <a:prstGeom prst="ellipse">
              <a:avLst/>
            </a:prstGeom>
            <a:gradFill rotWithShape="0">
              <a:gsLst>
                <a:gs pos="0">
                  <a:srgbClr val="436431"/>
                </a:gs>
                <a:gs pos="100000">
                  <a:srgbClr val="89ca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017880" y="3959280"/>
            <a:ext cx="2860560" cy="1062000"/>
            <a:chOff x="3017880" y="3959280"/>
            <a:chExt cx="2860560" cy="1062000"/>
          </a:xfrm>
        </p:grpSpPr>
        <p:sp>
          <p:nvSpPr>
            <p:cNvPr id="730" name=""/>
            <p:cNvSpPr/>
            <p:nvPr/>
          </p:nvSpPr>
          <p:spPr>
            <a:xfrm>
              <a:off x="3017880" y="39592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8e5300"/>
                </a:gs>
                <a:gs pos="50000">
                  <a:srgbClr val="ff9600"/>
                </a:gs>
                <a:gs pos="100000">
                  <a:srgbClr val="8e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17880" y="39650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ff9600"/>
                </a:gs>
                <a:gs pos="100000">
                  <a:srgbClr val="8e5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244680" y="3316320"/>
            <a:ext cx="2364120" cy="1003320"/>
            <a:chOff x="3244680" y="3316320"/>
            <a:chExt cx="2364120" cy="1003320"/>
          </a:xfrm>
        </p:grpSpPr>
        <p:sp>
          <p:nvSpPr>
            <p:cNvPr id="733" name=""/>
            <p:cNvSpPr/>
            <p:nvPr/>
          </p:nvSpPr>
          <p:spPr>
            <a:xfrm>
              <a:off x="3249360" y="33163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4c7037"/>
                </a:gs>
                <a:gs pos="50000">
                  <a:srgbClr val="89ca64"/>
                </a:gs>
                <a:gs pos="100000">
                  <a:srgbClr val="4c70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44680" y="33210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89ca64"/>
                </a:gs>
                <a:gs pos="100000">
                  <a:srgbClr val="4c70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97400" y="2768760"/>
            <a:ext cx="1885680" cy="822240"/>
            <a:chOff x="3497400" y="2768760"/>
            <a:chExt cx="1885680" cy="822240"/>
          </a:xfrm>
        </p:grpSpPr>
        <p:sp>
          <p:nvSpPr>
            <p:cNvPr id="736" name=""/>
            <p:cNvSpPr/>
            <p:nvPr/>
          </p:nvSpPr>
          <p:spPr>
            <a:xfrm>
              <a:off x="3497400" y="27687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a76200"/>
                </a:gs>
                <a:gs pos="50000">
                  <a:srgbClr val="ff9600"/>
                </a:gs>
                <a:gs pos="100000">
                  <a:srgbClr val="a7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4240" y="27687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ff9600"/>
                </a:gs>
                <a:gs pos="100000">
                  <a:srgbClr val="c27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733920" y="2359080"/>
            <a:ext cx="1473120" cy="560160"/>
          </a:xfrm>
          <a:prstGeom prst="can">
            <a:avLst>
              <a:gd name="adj" fmla="val 36643"/>
            </a:avLst>
          </a:pr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643200" y="32004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43200" y="3875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643200" y="456552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43200" y="54626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643200" y="26020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6192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63800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42380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26972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5380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48136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76216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07176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0828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6388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274840" y="17161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4884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c215"/>
                </a:gs>
                <a:gs pos="50000">
                  <a:srgbClr val="f5f1cc"/>
                </a:gs>
                <a:gs pos="100000">
                  <a:srgbClr val="d9c21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c21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8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9ca64"/>
                </a:gs>
                <a:gs pos="50000">
                  <a:srgbClr val="e5f2dd"/>
                </a:gs>
                <a:gs pos="100000">
                  <a:srgbClr val="89ca6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89ca6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3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4884e"/>
                </a:gs>
                <a:gs pos="50000">
                  <a:srgbClr val="c9e4d8"/>
                </a:gs>
                <a:gs pos="100000">
                  <a:srgbClr val="04884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04884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600"/>
                </a:gs>
                <a:gs pos="50000">
                  <a:srgbClr val="fee7c8"/>
                </a:gs>
                <a:gs pos="100000">
                  <a:srgbClr val="ff9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ff96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4F77-19A8-41C8-A0D4-3293122A6F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5181120" y="23623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181480" y="2743200"/>
            <a:ext cx="3733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9ca64"/>
                    </a:gs>
                    <a:gs pos="100000">
                      <a:srgbClr val="d9c215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9ca64"/>
                  </a:gs>
                  <a:gs pos="100000">
                    <a:srgbClr val="d9c215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19358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89ca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PMingLiU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952880"/>
            <a:ext cx="63244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CD_School life_PHOTODISC(MULTIBITS), School Days_EYEWIRE(NFIN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89ca64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89ca64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ae3d"/>
              </a:gs>
              <a:gs pos="50000">
                <a:srgbClr val="ff9600"/>
              </a:gs>
              <a:gs pos="100000">
                <a:srgbClr val="feae3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d04d"/>
              </a:gs>
              <a:gs pos="50000">
                <a:srgbClr val="d9c215"/>
              </a:gs>
              <a:gs pos="100000">
                <a:srgbClr val="e1d04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47" name="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9ca64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9ca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50" name="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9c215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9c2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53" name="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9ca64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9ca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9" name="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66" name="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72" name="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73" name="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9" name="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12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4884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ff96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4884e"/>
          </a:solidFill>
          <a:ln w="9360">
            <a:solidFill>
              <a:srgbClr val="c0c0c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d9c215"/>
          </a:solidFill>
          <a:ln w="9360">
            <a:solidFill>
              <a:srgbClr val="d9c21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d9c215">
              <a:alpha val="50000"/>
            </a:srgbClr>
          </a:solidFill>
          <a:ln w="9360">
            <a:solidFill>
              <a:srgbClr val="d9c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ff9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9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18694800">
              <a:off x="3393000" y="31636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884e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c215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24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25" name=""/>
              <p:cNvSpPr/>
              <p:nvPr/>
            </p:nvSpPr>
            <p:spPr>
              <a:xfrm flipV="1" rot="8983800">
                <a:off x="5456160" y="1504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 rot="8167800">
                <a:off x="5336640" y="1317600"/>
                <a:ext cx="29628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243320" y="1317600"/>
              <a:ext cx="1742760" cy="1050120"/>
              <a:chOff x="4243320" y="1317600"/>
              <a:chExt cx="1742760" cy="1050120"/>
            </a:xfrm>
          </p:grpSpPr>
          <p:sp>
            <p:nvSpPr>
              <p:cNvPr id="230" name=""/>
              <p:cNvSpPr/>
              <p:nvPr/>
            </p:nvSpPr>
            <p:spPr>
              <a:xfrm flipV="1" rot="7630800">
                <a:off x="5217480" y="11815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 rot="6814800">
                <a:off x="5036400" y="105444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未知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d6ecc9"/>
              </a:gs>
              <a:gs pos="100000">
                <a:srgbClr val="89ca64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193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未知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255" name="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269" name="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287" name="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305" name="未知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31" name="未知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357" name="未知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71120" y="465408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362" name="未知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8116920" y="464904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367" name="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368" name="未知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374" name="未知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380" name="未知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386" name="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387" name="未知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393" name="未知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399" name="未知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89ca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89ca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20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 rot="5400000">
              <a:off x="3033000" y="231840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 flipV="1" rot="16200000">
              <a:off x="303660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28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438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446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447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4884e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0:23:3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27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