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9CD-0FCC-486A-AB07-645F0482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7960" y="400536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585-3B02-4D4B-B7EC-894FC065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35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C50-FC08-4453-B129-E1D54A7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788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744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796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788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744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D83-0FDC-4E80-8276-3A1A3D39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577-2EEC-4116-A767-BEF2CDA6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7960" y="1219320"/>
            <a:ext cx="87537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8ED-ABCA-4E34-B204-60EB6154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8753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F006-9A25-4C77-80C5-A9044FCE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16EF-FCC6-4AF3-9525-7DE9E5E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7D0-ABEE-4B3F-9D94-198C70E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906-D2B6-4CF2-98EB-12DDF25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F025-B89E-4A8A-A102-3E97A3B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7960" y="1219320"/>
            <a:ext cx="87537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F3C-D6DD-4515-A856-B9A4680A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35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A74-7071-4379-80FC-B8453BA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B8A5-1ECD-4178-AF87-2E4A1E1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7960" y="400536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74DC-851D-4252-9303-BF55DD7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35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5C1C-7E7C-4629-8212-2CF8528C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788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7440" y="121932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3796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788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7440" y="4005360"/>
            <a:ext cx="2818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0693-80C5-465C-B78E-35F84033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8753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163-9BCB-4D92-B365-09C6485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925-0E62-4340-807E-93F0D213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EE5-D7B3-4CA9-BF15-E79BD83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3049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8E9-F354-4BE6-8299-021C371C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241-4192-45CB-A2D2-1393EDF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3560" y="400536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58F-D235-4ECA-A0BB-19ADD1A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79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3560" y="1219320"/>
            <a:ext cx="4271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7960" y="4005360"/>
            <a:ext cx="87537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229-71B9-4497-B172-4F401AF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228600"/>
            <a:ext cx="9144000" cy="640080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 rot="10800000">
            <a:off x="0" y="-36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61447"/>
                </a:solidFill>
                <a:latin typeface="Eras Medium ITC"/>
              </a:rPr>
              <a:t>Click to edit the title text format</a:t>
            </a:r>
            <a:endParaRPr b="0" lang="en-US" sz="44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37960" y="1219320"/>
            <a:ext cx="8753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9d5d9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Click to edit the outline text format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1" marL="743040" indent="-285840">
              <a:spcBef>
                <a:spcPts val="901"/>
              </a:spcBef>
              <a:buClr>
                <a:srgbClr val="a9d5d9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Second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2" marL="1143000" indent="-228600">
              <a:spcBef>
                <a:spcPts val="901"/>
              </a:spcBef>
              <a:buClr>
                <a:srgbClr val="a9d5d9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Third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3" marL="1600200" indent="-228600">
              <a:spcBef>
                <a:spcPts val="901"/>
              </a:spcBef>
              <a:buClr>
                <a:srgbClr val="a9d5d9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Fourth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4" marL="2057400" indent="-228600">
              <a:spcBef>
                <a:spcPts val="901"/>
              </a:spcBef>
              <a:buClr>
                <a:srgbClr val="a9d5d9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Fifth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5" marL="2057400" indent="-228600">
              <a:spcBef>
                <a:spcPts val="901"/>
              </a:spcBef>
              <a:buClr>
                <a:srgbClr val="061447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Sixth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  <a:p>
            <a:pPr lvl="6" marL="2057400" indent="-228600">
              <a:spcBef>
                <a:spcPts val="901"/>
              </a:spcBef>
              <a:buClr>
                <a:srgbClr val="061447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68666d"/>
                </a:solidFill>
                <a:latin typeface="Eras Light ITC"/>
              </a:rPr>
              <a:t>Seventh Outline Level</a:t>
            </a:r>
            <a:endParaRPr b="0" lang="en-US" sz="36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38520" y="66639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2a7"/>
                </a:solidFill>
                <a:latin typeface="Arial"/>
                <a:ea typeface="Arial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9FC1-803B-4244-AFD7-1764D671A864}" type="datetime">
              <a:rPr b="0" lang="en-US" sz="1400" spc="-1" strike="noStrike">
                <a:solidFill>
                  <a:srgbClr val="a3a2a7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438280" y="666396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610480" y="66639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2a7"/>
                </a:solidFill>
                <a:latin typeface="Arial"/>
                <a:ea typeface="Arial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70B-2553-4D0D-AF88-71F6E084E02D}" type="slidenum">
              <a:rPr b="0" lang="en-US" sz="1400" spc="-1" strike="noStrike">
                <a:solidFill>
                  <a:srgbClr val="a3a2a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CE69-EB6D-4B3B-938B-A44857D72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6144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22E1-247D-453D-9095-C226683AEF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655308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 rot="10800000">
            <a:off x="0" y="6598800"/>
            <a:ext cx="9144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90" name="文字方塊 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19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6000" spc="-1" strike="noStrike">
                <a:solidFill>
                  <a:srgbClr val="061447"/>
                </a:solidFill>
                <a:latin typeface="Eras Demi ITC"/>
                <a:ea typeface="宋体"/>
              </a:rPr>
              <a:t> </a:t>
            </a:r>
            <a:endParaRPr b="0" lang="en-US" sz="6000" spc="-1" strike="noStrike">
              <a:solidFill>
                <a:srgbClr val="061447"/>
              </a:solidFill>
              <a:latin typeface="Eras Medium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54860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68666d"/>
                </a:solidFill>
                <a:latin typeface="Eras Medium ITC"/>
                <a:ea typeface="宋体"/>
              </a:rPr>
              <a:t> </a:t>
            </a:r>
            <a:endParaRPr b="0" lang="en-US" sz="3200" spc="-1" strike="noStrike">
              <a:solidFill>
                <a:srgbClr val="68666d"/>
              </a:solidFill>
              <a:latin typeface="Eras Light ITC"/>
            </a:endParaRPr>
          </a:p>
        </p:txBody>
      </p:sp>
      <p:sp>
        <p:nvSpPr>
          <p:cNvPr id="93" name=""/>
          <p:cNvSpPr/>
          <p:nvPr/>
        </p:nvSpPr>
        <p:spPr>
          <a:xfrm>
            <a:off x="106200" y="6526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6144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6144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6144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54080" y="260280"/>
            <a:ext cx="65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61447"/>
                </a:solidFill>
                <a:latin typeface="Arial"/>
                <a:ea typeface="宋体"/>
              </a:rPr>
              <a:t>国外欢乐家庭完整版</a:t>
            </a:r>
            <a:r>
              <a:rPr b="0" lang="zh-CN" sz="4000" spc="-1" strike="noStrike">
                <a:solidFill>
                  <a:srgbClr val="061447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61447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61447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3:47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