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0B9-E58B-4D45-B12F-AA73FFCC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9520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40C-A624-47D3-BC14-05654E59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2220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9520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9520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414-BECF-44D9-BDB9-0764603A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2220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2220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9520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9520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9520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5CB-A4CA-4EAF-969B-65347CB6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222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771-CAEA-47A1-A6A7-066E34BB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E83-94F3-47C8-AD8D-CB2B76FE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2220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941-F28A-40C5-AE84-90107EB2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99E-3F11-4B19-9E59-77283091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BBA-0CDC-46CD-B566-1145EE0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2220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9520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F0A-3C86-465D-8056-5B0D9FC1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2220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9520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256-11F5-4A00-92D0-706EC152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2220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9520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4F0-4343-4273-9D34-B3DE2BF4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222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bas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  <a:p>
            <a:pPr lvl="1" marL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bas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  <a:p>
            <a:pPr lvl="2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bas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  <a:p>
            <a:pPr lvl="3" marL="112464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bas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  <a:p>
            <a:pPr lvl="4" marL="1499400" indent="-11246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bas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  <a:p>
            <a:pPr lvl="5" marL="1499400" indent="-11246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bas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  <a:p>
            <a:pPr lvl="6" marL="1499400" indent="-11246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bas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D41B2-288F-49DE-B585-4D9B4CA94B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BD547-D688-4B4F-9A87-DC7DB16920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120" y="129492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8a6d2"/>
                </a:solidFill>
                <a:latin typeface="Bebas Neue"/>
              </a:rPr>
              <a:t>Quotes to inspire a better life</a:t>
            </a:r>
            <a:endParaRPr b="0" lang="en-US" sz="40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120" y="219348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Bebas Neue"/>
              </a:rPr>
              <a:t>Sit back and enjoy</a:t>
            </a:r>
            <a:endParaRPr b="0" lang="en-US" sz="28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1120" y="145800"/>
            <a:ext cx="8221680" cy="3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Bebas Neue"/>
              </a:rPr>
              <a:t>A gallery of inspirational quotes</a:t>
            </a:r>
            <a:endParaRPr b="0" lang="en-US" sz="16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44" name=""/>
          <p:cNvSpPr/>
          <p:nvPr/>
        </p:nvSpPr>
        <p:spPr>
          <a:xfrm>
            <a:off x="96840" y="4606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2520" y="7984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经典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6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82120" y="3002040"/>
            <a:ext cx="240372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ebas Neue"/>
              </a:rPr>
              <a:t>Even if I knew that tomorrow the world would go to pieces, I would still plant my apple tree</a:t>
            </a:r>
            <a:endParaRPr b="0" lang="en-US" sz="1400" spc="-1" strike="noStrike">
              <a:solidFill>
                <a:srgbClr val="000000"/>
              </a:solidFill>
              <a:latin typeface="Bebas Neue"/>
            </a:endParaRPr>
          </a:p>
        </p:txBody>
      </p:sp>
      <p:pic>
        <p:nvPicPr>
          <p:cNvPr id="47" name="Picture Placeholder 10" descr="martinlutherK.jpg"/>
          <p:cNvPicPr/>
          <p:nvPr/>
        </p:nvPicPr>
        <p:blipFill>
          <a:blip r:embed="rId1"/>
          <a:srcRect l="16722" t="0" r="16722" b="0"/>
          <a:stretch/>
        </p:blipFill>
        <p:spPr>
          <a:xfrm>
            <a:off x="1784520" y="765000"/>
            <a:ext cx="2597040" cy="2594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886360" y="764640"/>
            <a:ext cx="2401920" cy="14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"/>
              </a:rPr>
              <a:t>I have decided to stick with love. Hate is too great a burden to bear.</a:t>
            </a:r>
            <a:endParaRPr b="0" lang="en-US" sz="1800" spc="-1" strike="noStrike">
              <a:solidFill>
                <a:srgbClr val="000000"/>
              </a:solidFill>
              <a:latin typeface="Bebas Neue"/>
            </a:endParaRPr>
          </a:p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ebas Neue"/>
            </a:endParaRPr>
          </a:p>
        </p:txBody>
      </p:sp>
      <p:pic>
        <p:nvPicPr>
          <p:cNvPr id="49" name="Picture Placeholder 11" descr="martinlutherK1.jpg"/>
          <p:cNvPicPr/>
          <p:nvPr/>
        </p:nvPicPr>
        <p:blipFill>
          <a:blip r:embed="rId2"/>
          <a:srcRect l="0" t="34" r="0" b="34"/>
          <a:stretch/>
        </p:blipFill>
        <p:spPr>
          <a:xfrm>
            <a:off x="4492800" y="1557360"/>
            <a:ext cx="2595240" cy="2593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172200" y="4403880"/>
            <a:ext cx="23385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ing"/>
              </a:rPr>
              <a:t>Martin Luther King</a:t>
            </a:r>
            <a:endParaRPr b="0" lang="en-US" sz="1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51" name=""/>
          <p:cNvSpPr/>
          <p:nvPr/>
        </p:nvSpPr>
        <p:spPr>
          <a:xfrm>
            <a:off x="717480" y="430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AF5-4BA5-4AEB-86B5-C4D8A3FC89CF}" type="slidenum">
              <a:t>2</a:t>
            </a:fld>
          </a:p>
        </p:txBody>
      </p:sp>
    </p:spTree>
  </p:cSld>
  <p:transition spd="slow" advTm="10000">
    <p:push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dur="indefinite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3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90400" y="1774440"/>
            <a:ext cx="31370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"/>
              </a:rPr>
              <a:t>Happiness resides not in possessions, and not in gold, happiness dwells in the soul.</a:t>
            </a:r>
            <a:endParaRPr b="0" lang="en-US" sz="1600" spc="-1" strike="noStrike">
              <a:solidFill>
                <a:srgbClr val="000000"/>
              </a:solidFill>
              <a:latin typeface="Bebas Neue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Bebas Neue"/>
            </a:endParaRPr>
          </a:p>
        </p:txBody>
      </p:sp>
      <p:pic>
        <p:nvPicPr>
          <p:cNvPr id="53" name="Picture Placeholder 9" descr=""/>
          <p:cNvPicPr/>
          <p:nvPr/>
        </p:nvPicPr>
        <p:blipFill>
          <a:blip r:embed="rId1"/>
          <a:stretch/>
        </p:blipFill>
        <p:spPr>
          <a:xfrm>
            <a:off x="4641840" y="1438200"/>
            <a:ext cx="3714840" cy="249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90400" y="2964960"/>
            <a:ext cx="3137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ing"/>
              </a:rPr>
              <a:t>Democritus</a:t>
            </a:r>
            <a:endParaRPr b="0" lang="en-US" sz="1400" spc="-1" strike="noStrike">
              <a:solidFill>
                <a:srgbClr val="000000"/>
              </a:solidFill>
              <a:latin typeface="Bebas Neue"/>
            </a:endParaRPr>
          </a:p>
        </p:txBody>
      </p:sp>
    </p:spTree>
  </p:cSld>
  <p:transition spd="slow" advTm="5000">
    <p:push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5b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80680" y="2410920"/>
            <a:ext cx="231444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"/>
              </a:rPr>
              <a:t>Start where you are. Use what you have. Do what you can.</a:t>
            </a:r>
            <a:endParaRPr b="0" lang="en-US" sz="1800" spc="-1" strike="noStrike">
              <a:solidFill>
                <a:srgbClr val="000000"/>
              </a:solidFill>
              <a:latin typeface="Bebas Neue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41600" y="2452680"/>
            <a:ext cx="23148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"/>
              </a:rPr>
              <a:t>We can change our lives. We can do, have, and be exactly what we wish.</a:t>
            </a:r>
            <a:endParaRPr b="0" lang="en-US" sz="1600" spc="-1" strike="noStrike">
              <a:solidFill>
                <a:srgbClr val="000000"/>
              </a:solidFill>
              <a:latin typeface="Bebas Neu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06760" y="2416320"/>
            <a:ext cx="231444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"/>
              </a:rPr>
              <a:t>Men must live and create. Live to the point of tears.</a:t>
            </a:r>
            <a:endParaRPr b="0" lang="en-US" sz="1600" spc="-1" strike="noStrike">
              <a:solidFill>
                <a:srgbClr val="000000"/>
              </a:solidFill>
              <a:latin typeface="Bebas Neu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Bebas Neue"/>
            </a:endParaRPr>
          </a:p>
        </p:txBody>
      </p:sp>
      <p:pic>
        <p:nvPicPr>
          <p:cNvPr id="58" name="Picture Placeholder 16" descr="arthurashe.jpeg"/>
          <p:cNvPicPr/>
          <p:nvPr/>
        </p:nvPicPr>
        <p:blipFill>
          <a:blip r:embed="rId1"/>
          <a:srcRect l="0" t="8230" r="0" b="8230"/>
          <a:stretch/>
        </p:blipFill>
        <p:spPr>
          <a:xfrm>
            <a:off x="1206360" y="857160"/>
            <a:ext cx="124164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Placeholder 17" descr="tonyrobbins.jpg"/>
          <p:cNvPicPr/>
          <p:nvPr/>
        </p:nvPicPr>
        <p:blipFill>
          <a:blip r:embed="rId2"/>
          <a:srcRect l="0" t="15575" r="0" b="15575"/>
          <a:stretch/>
        </p:blipFill>
        <p:spPr>
          <a:xfrm>
            <a:off x="4062240" y="85716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Placeholder 18" descr="arthurcamus.jpeg"/>
          <p:cNvPicPr/>
          <p:nvPr/>
        </p:nvPicPr>
        <p:blipFill>
          <a:blip r:embed="rId3"/>
          <a:srcRect l="2169" t="0" r="2169" b="0"/>
          <a:stretch/>
        </p:blipFill>
        <p:spPr>
          <a:xfrm>
            <a:off x="6840360" y="857160"/>
            <a:ext cx="1243080" cy="124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81040" y="3614400"/>
            <a:ext cx="234000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ing"/>
              </a:rPr>
              <a:t>Arthur Ashe</a:t>
            </a:r>
            <a:endParaRPr b="0" lang="en-US" sz="1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11440" y="3619440"/>
            <a:ext cx="2340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ing"/>
              </a:rPr>
              <a:t>Tony Robbins</a:t>
            </a:r>
            <a:endParaRPr b="0" lang="en-US" sz="1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07120" y="3627000"/>
            <a:ext cx="234000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ing"/>
              </a:rPr>
              <a:t>Albert Camus</a:t>
            </a:r>
            <a:endParaRPr b="0" lang="en-US" sz="14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64" name=""/>
          <p:cNvSpPr/>
          <p:nvPr/>
        </p:nvSpPr>
        <p:spPr>
          <a:xfrm>
            <a:off x="768240" y="398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Bebas Neue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Bebas Neue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Bebas Neue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Bebas Neue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Bebas Neue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Bebas Neue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Bebas Neue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Bebas Neue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Bebas Neue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5E3-D319-47DF-8007-5AD0D781C3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1120" y="1114560"/>
            <a:ext cx="449568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8a6d2"/>
                </a:solidFill>
                <a:latin typeface="Bebas Neue"/>
              </a:rPr>
              <a:t>Thank you for watching</a:t>
            </a:r>
            <a:endParaRPr b="0" lang="en-US" sz="3600" spc="-1" strike="noStrike">
              <a:solidFill>
                <a:srgbClr val="000000"/>
              </a:solidFill>
              <a:latin typeface="Bebas Neue"/>
            </a:endParaRPr>
          </a:p>
        </p:txBody>
      </p:sp>
      <p:sp>
        <p:nvSpPr>
          <p:cNvPr id="69" name="Straight Connector 11"/>
          <p:cNvSpPr/>
          <p:nvPr/>
        </p:nvSpPr>
        <p:spPr>
          <a:xfrm>
            <a:off x="5079960" y="1509840"/>
            <a:ext cx="0" cy="2390760"/>
          </a:xfrm>
          <a:prstGeom prst="line">
            <a:avLst/>
          </a:prstGeom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2T09:3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20T02:28:48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