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53734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92544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53734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19800" y="121896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9254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19800" y="39254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53734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11480" y="12189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42800" y="12189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9254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11480" y="39254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42800" y="39254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53734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189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53734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53734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19800" y="121896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53734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53734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19800" y="121896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9254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53734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1896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19800" y="39254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53734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1896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92544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953734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953734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89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5000"/>
              <a:buFont typeface="Impact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4193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eaf1dd"/>
                </a:solidFill>
                <a:latin typeface="Impact"/>
              </a:rPr>
              <a:t>HALL PASSES</a:t>
            </a:r>
            <a:endParaRPr b="0" lang="en-US" sz="2800" spc="-1" strike="noStrike">
              <a:solidFill>
                <a:srgbClr val="953734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533520" y="4952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abf8e"/>
                </a:solidFill>
                <a:latin typeface="Impact"/>
              </a:rPr>
              <a:t>Your Subtitle Goes Her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403280" y="1447920"/>
            <a:ext cx="68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国外教育教学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953734"/>
                </a:solidFill>
                <a:latin typeface="Impact"/>
              </a:rPr>
              <a:t>YOUR TOPIC GOES HERE</a:t>
            </a:r>
            <a:endParaRPr b="0" lang="en-US" sz="4000" spc="-1" strike="noStrike">
              <a:solidFill>
                <a:srgbClr val="953734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5000"/>
              <a:buFont typeface="Impact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953734"/>
                </a:solidFill>
                <a:latin typeface="Impact"/>
              </a:rPr>
              <a:t>TRANSITIONAL PAGE</a:t>
            </a:r>
            <a:endParaRPr b="0" lang="en-US" sz="4000" spc="-1" strike="noStrike">
              <a:solidFill>
                <a:srgbClr val="953734"/>
              </a:solidFill>
              <a:latin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762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953734"/>
                </a:solidFill>
                <a:latin typeface="Impact"/>
              </a:rPr>
              <a:t>使用规范说明</a:t>
            </a:r>
            <a:endParaRPr b="0" lang="en-US" sz="4000" spc="-1" strike="noStrike">
              <a:solidFill>
                <a:srgbClr val="953734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3352680" y="25146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Impact"/>
              </a:rPr>
              <a:t>Template Provid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90920" y="4038480"/>
            <a:ext cx="396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Impact"/>
              </a:rPr>
              <a:t>500,000 Downloadable PowerPoint Templates, Animated Clip Art, Backgrounds and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af_logo_long.png"/>
          <p:cNvPicPr/>
          <p:nvPr/>
        </p:nvPicPr>
        <p:blipFill>
          <a:blip r:embed="rId2"/>
          <a:stretch/>
        </p:blipFill>
        <p:spPr>
          <a:xfrm>
            <a:off x="1371600" y="2917800"/>
            <a:ext cx="64008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4:47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35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103367941033</vt:lpwstr>
  </property>
</Properties>
</file>