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261-4F4B-475D-B44A-D842B195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A5A-15FF-423A-93B7-8CC89FFA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0CA-B333-42E0-A745-158AE6FC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A4A-00E0-447C-A7BE-67F50794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ED9-4485-4B43-B7EE-CB53D1A4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14EE-B9F7-4A55-A711-5353F042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C81-7D24-4358-8039-3E2B77F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451-F853-4488-AA36-24C20BC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D9C0-F164-4B5A-BA61-8E9E557E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8728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0BE9-BDE1-49E2-ABEC-94A39232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43E-B649-460D-9432-CDC62A9E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E21-065A-4F61-8DBF-EAD1FF09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3790-4649-4A32-856F-791B5D3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D7DA-749C-4500-8E68-4E7F85B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B2F1-9855-471F-B59F-80682321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18D0-5AA5-4D84-AF79-EFDCA01A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A0D1-9686-4F57-B8E8-A2C22D34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32E3-2178-4577-BC79-0D0E8538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2D73-124A-4591-9C8D-11DE36F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A12F-1280-48F8-81AA-E4242443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F59C-0073-4D86-953E-5532CB4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4EC8-812E-4648-9429-12BF8964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DEF-D384-4A65-826F-A667D029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8728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8B36-0850-47D6-BA25-B48B941B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9E9FB-8F81-4CB8-B670-21FEFC7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4064-E49E-4AE2-A2FF-3D965A7F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92C6-4A9C-4C6F-8DCC-21BF862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1343-3E39-433B-90C7-BD117F0D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F216-F474-4FA6-9AD6-9D9A3443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FA84-1496-4CBB-9C56-E800A7D3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81B-FDA5-449A-A2CE-CB1039C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F94-514D-461F-98E9-6B6EF704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728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C48-4729-42A2-AD1C-99DE8A6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9E0-847D-49B3-8B8C-5EA86A6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368-1D04-4E0E-96FB-193EAA2C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DF6-310E-49C1-A855-C27C8EC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8486-A9D6-4ED3-BD2A-E2E1CB4AB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ACA6-4E06-4014-8F69-776F2250D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537E-2D5D-41F7-B795-ED631539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教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AC53-55AA-4AFB-9869-55A17663EB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2033640" cy="152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2624040"/>
            <a:ext cx="2033640" cy="152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92360" y="4724280"/>
            <a:ext cx="2033640" cy="152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"/>
          <p:cNvSpPr/>
          <p:nvPr/>
        </p:nvSpPr>
        <p:spPr>
          <a:xfrm>
            <a:off x="3997440" y="1628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7440" y="3716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744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Details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4:40:4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3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