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EE7-A248-4E02-A81A-1A2CE43D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436-A744-4D90-9442-ECEE061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C34-1A45-4101-BB76-02E0E111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DCE-24FB-4CD8-A83A-DF9310D0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57C-FB30-4500-9913-2357E37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564-4476-4B98-915E-DFF1567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01F-DE83-4D21-A6CF-00FC8521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3D6-7116-4185-B2A1-13E7DA7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488-718F-415A-BE8F-156DBAC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D74-9EC6-4E33-B9BD-96AD296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F20-FD58-41F7-B169-FB1D914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534-FA6A-45FF-B20F-C1C0312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88C-E057-4B21-BE01-CE720E7D57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79480" y="2565360"/>
            <a:ext cx="57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cript MT Bold"/>
                <a:ea typeface="宋体"/>
              </a:rPr>
              <a:t>Se abre el telón y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2960" y="836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国外开场序幕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9640" y="1773360"/>
            <a:ext cx="538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Aparece un tio con un piano diciendo: ¿Cuál es la nota?,¿Cuál es la nota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57040" y="2440080"/>
            <a:ext cx="68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cript MT Bold"/>
                <a:ea typeface="宋体"/>
              </a:rPr>
              <a:t>¿ Cómo se titula la películ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C14-D708-42AB-A679-288B93565E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836640"/>
            <a:ext cx="53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Es 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4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8:18:5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2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