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B07A-5DBF-43E7-A8D0-1DEF2E88B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BCE3-D051-4922-8CA6-AB1DD5FD9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BC04-CB2A-4183-A4F6-F591C3489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3644-0DC4-4F90-83D3-4D9A29539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E69C3-82C8-488A-98A3-A132DB18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324F4-90FA-4658-A947-512E5822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8ECA7-3CA2-4A17-AFB5-5F9C8090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89082-C58C-4F1D-B8BD-FFE36043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287E5-B449-4BBE-9585-9515B5DC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F929C-4E4D-484B-861E-7A26A61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2D677-CCBC-4FB0-9150-799E8936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35CD-A575-428B-AA38-649D5C495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B23D5-5DD0-4D94-B4C1-98512A85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6FDA2-5AA7-47A4-BE7C-D8DE6D3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93961-28BD-4EC3-856F-0BBD906A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33552-BADD-499F-B50B-F96E1C4D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8922F-80BE-4265-91B2-2EC31CCA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3773-AC99-4DB4-8AE1-B4B1DB15E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A05F-16A8-4F1F-B581-704659B8F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889D-B189-4A5F-9AA9-ED52E71F7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CA8A-1E98-4496-B26D-36A6AEBFB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D22D-B81D-4CCB-B6B1-7C6D46AB5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BF0E-BE45-47BF-9F7E-8036057B3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4D4B-F159-42A1-86BD-762B6D403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438280" y="671832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7819920" y="6705720"/>
            <a:ext cx="13082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07800"/>
                </a:solidFill>
                <a:latin typeface="Verdana"/>
                <a:ea typeface="Gulim"/>
              </a:rPr>
              <a:t>YOUR SITE HERE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397160"/>
          </a:xfrm>
          <a:custGeom>
            <a:avLst/>
            <a:gdLst/>
            <a:ahLst/>
            <a:rect l="l" t="t" r="r" b="b"/>
            <a:pathLst>
              <a:path w="5760" h="880">
                <a:moveTo>
                  <a:pt x="0" y="856"/>
                </a:moveTo>
                <a:lnTo>
                  <a:pt x="72" y="856"/>
                </a:lnTo>
                <a:lnTo>
                  <a:pt x="72" y="576"/>
                </a:lnTo>
                <a:lnTo>
                  <a:pt x="4584" y="576"/>
                </a:lnTo>
                <a:lnTo>
                  <a:pt x="4888" y="880"/>
                </a:lnTo>
                <a:lnTo>
                  <a:pt x="5760" y="880"/>
                </a:lnTo>
                <a:lnTo>
                  <a:pt x="5760" y="0"/>
                </a:lnTo>
                <a:lnTo>
                  <a:pt x="0" y="0"/>
                </a:lnTo>
                <a:lnTo>
                  <a:pt x="0" y="856"/>
                </a:lnTo>
                <a:close/>
              </a:path>
            </a:pathLst>
          </a:cu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be8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33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CC3E-E97A-4748-8FC4-4E3A703745B4}" type="slidenum">
              <a:rPr b="0" lang="ko-KR" sz="1200" spc="-1" strike="noStrike">
                <a:solidFill>
                  <a:srgbClr val="0033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013600" y="987480"/>
            <a:ext cx="1155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438280" y="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657520" y="4680"/>
            <a:ext cx="6351480" cy="135000"/>
            <a:chOff x="2657520" y="4680"/>
            <a:chExt cx="6351480" cy="135000"/>
          </a:xfrm>
        </p:grpSpPr>
        <p:sp>
          <p:nvSpPr>
            <p:cNvPr id="10" name=""/>
            <p:cNvSpPr/>
            <p:nvPr/>
          </p:nvSpPr>
          <p:spPr>
            <a:xfrm>
              <a:off x="26575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735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891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051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211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7371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95280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168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384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00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81644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324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484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46408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80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896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112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32772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5437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7597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9753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913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4073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233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83900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55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271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7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70264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9186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14f15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872B-4249-4074-B3EE-3C0B54AD5145}" type="slidenum">
              <a:rPr b="0" lang="ko-KR" sz="1400" spc="-1" strike="noStrike">
                <a:solidFill>
                  <a:srgbClr val="0033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31400" cy="825480"/>
          </a:xfrm>
          <a:custGeom>
            <a:avLst/>
            <a:gdLst/>
            <a:ahLst/>
            <a:rect l="l" t="t" r="r" b="b"/>
            <a:pathLst>
              <a:path w="5752" h="520">
                <a:moveTo>
                  <a:pt x="0" y="432"/>
                </a:moveTo>
                <a:lnTo>
                  <a:pt x="0" y="0"/>
                </a:lnTo>
                <a:lnTo>
                  <a:pt x="5752" y="0"/>
                </a:lnTo>
                <a:lnTo>
                  <a:pt x="5752" y="520"/>
                </a:lnTo>
                <a:lnTo>
                  <a:pt x="3960" y="520"/>
                </a:lnTo>
                <a:lnTo>
                  <a:pt x="3672" y="232"/>
                </a:lnTo>
                <a:lnTo>
                  <a:pt x="80" y="232"/>
                </a:lnTo>
                <a:lnTo>
                  <a:pt x="80" y="432"/>
                </a:lnTo>
                <a:lnTo>
                  <a:pt x="0" y="432"/>
                </a:lnTo>
                <a:close/>
              </a:path>
            </a:pathLst>
          </a:cu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360" y="3165480"/>
            <a:ext cx="9136080" cy="2705040"/>
            <a:chOff x="9360" y="3165480"/>
            <a:chExt cx="9136080" cy="2705040"/>
          </a:xfrm>
        </p:grpSpPr>
        <p:sp>
          <p:nvSpPr>
            <p:cNvPr id="82" name=""/>
            <p:cNvSpPr/>
            <p:nvPr/>
          </p:nvSpPr>
          <p:spPr>
            <a:xfrm>
              <a:off x="9360" y="3165480"/>
              <a:ext cx="9136080" cy="270360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507800"/>
                </a:gs>
                <a:gs pos="100000">
                  <a:srgbClr val="bad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09240" y="3166920"/>
              <a:ext cx="8421840" cy="2703600"/>
              <a:chOff x="309240" y="3166920"/>
              <a:chExt cx="8421840" cy="2703600"/>
            </a:xfrm>
          </p:grpSpPr>
          <p:sp>
            <p:nvSpPr>
              <p:cNvPr id="84" name=""/>
              <p:cNvSpPr/>
              <p:nvPr/>
            </p:nvSpPr>
            <p:spPr>
              <a:xfrm>
                <a:off x="30924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8552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5072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2700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9220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86812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43332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0960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7480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108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1628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99256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55776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03404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59888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07516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64036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3571920" y="5175360"/>
            <a:ext cx="1365120" cy="1365120"/>
            <a:chOff x="3571920" y="5175360"/>
            <a:chExt cx="1365120" cy="1365120"/>
          </a:xfrm>
        </p:grpSpPr>
        <p:sp>
          <p:nvSpPr>
            <p:cNvPr id="102" name=""/>
            <p:cNvSpPr/>
            <p:nvPr/>
          </p:nvSpPr>
          <p:spPr>
            <a:xfrm>
              <a:off x="3571920" y="5175360"/>
              <a:ext cx="1365120" cy="1365120"/>
            </a:xfrm>
            <a:prstGeom prst="ellipse">
              <a:avLst/>
            </a:pr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8120" y="5614920"/>
              <a:ext cx="755640" cy="7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9033200">
              <a:off x="3686400" y="5385960"/>
              <a:ext cx="57456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46840" y="4230720"/>
            <a:ext cx="1949400" cy="1949400"/>
            <a:chOff x="5046840" y="4230720"/>
            <a:chExt cx="1949400" cy="1949400"/>
          </a:xfrm>
        </p:grpSpPr>
        <p:sp>
          <p:nvSpPr>
            <p:cNvPr id="106" name=""/>
            <p:cNvSpPr/>
            <p:nvPr/>
          </p:nvSpPr>
          <p:spPr>
            <a:xfrm>
              <a:off x="5046840" y="4230720"/>
              <a:ext cx="1949400" cy="1949400"/>
            </a:xfrm>
            <a:prstGeom prst="ellipse">
              <a:avLst/>
            </a:pr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85040" y="4857840"/>
              <a:ext cx="107640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9033200">
              <a:off x="5211720" y="4530240"/>
              <a:ext cx="819000" cy="45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489800" y="3583080"/>
            <a:ext cx="1655640" cy="16556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3720" y="2386080"/>
            <a:ext cx="1873080" cy="1873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13511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be8b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9640" y="671040"/>
            <a:ext cx="52369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Verdana"/>
                <a:ea typeface="Gulim"/>
              </a:rPr>
              <a:t>PowerPoint </a:t>
            </a:r>
            <a:r>
              <a:rPr b="1" lang="en-US" sz="6600" spc="-1" strike="noStrike">
                <a:solidFill>
                  <a:srgbClr val="003300"/>
                </a:solidFill>
                <a:latin typeface="Verdana"/>
                <a:ea typeface="Gulim"/>
              </a:rPr>
              <a:t>TEMPLATE</a:t>
            </a:r>
            <a:endParaRPr b="1" lang="en-US" sz="6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2760" y="2014560"/>
            <a:ext cx="496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34360" y="4264200"/>
            <a:ext cx="1785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  <a:ea typeface="Gulim"/>
              </a:rPr>
              <a:t>Your Site Here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03840" y="3081240"/>
            <a:ext cx="17859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COMPAN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27880" y="2239920"/>
            <a:ext cx="43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国外绿色风格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PPT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模板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下载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C0C6-D835-491C-A1B3-1E474F8046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307" name="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507800"/>
                </a:gs>
                <a:gs pos="100000">
                  <a:srgbClr val="bad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309" name=""/>
              <p:cNvSpPr/>
              <p:nvPr/>
            </p:nvSpPr>
            <p:spPr>
              <a:xfrm>
                <a:off x="30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4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2556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666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318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081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733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496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48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911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56320" y="5613480"/>
                <a:ext cx="90360" cy="12618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032600" y="5613480"/>
                <a:ext cx="269640" cy="126180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974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0737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3892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14f15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4267080" y="5124600"/>
            <a:ext cx="1365120" cy="1365120"/>
            <a:chOff x="4267080" y="5124600"/>
            <a:chExt cx="1365120" cy="1365120"/>
          </a:xfrm>
        </p:grpSpPr>
        <p:sp>
          <p:nvSpPr>
            <p:cNvPr id="327" name=""/>
            <p:cNvSpPr/>
            <p:nvPr/>
          </p:nvSpPr>
          <p:spPr>
            <a:xfrm>
              <a:off x="4267080" y="5124600"/>
              <a:ext cx="1365120" cy="1365120"/>
            </a:xfrm>
            <a:prstGeom prst="ellipse">
              <a:avLst/>
            </a:pr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43280" y="5564160"/>
              <a:ext cx="755640" cy="7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9033200">
              <a:off x="4381560" y="5335200"/>
              <a:ext cx="57456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42000" y="4243320"/>
            <a:ext cx="1949400" cy="1949400"/>
            <a:chOff x="5742000" y="4243320"/>
            <a:chExt cx="1949400" cy="1949400"/>
          </a:xfrm>
        </p:grpSpPr>
        <p:sp>
          <p:nvSpPr>
            <p:cNvPr id="331" name=""/>
            <p:cNvSpPr/>
            <p:nvPr/>
          </p:nvSpPr>
          <p:spPr>
            <a:xfrm>
              <a:off x="5742000" y="4243320"/>
              <a:ext cx="1949400" cy="1949400"/>
            </a:xfrm>
            <a:prstGeom prst="ellipse">
              <a:avLst/>
            </a:pr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0200" y="4870440"/>
              <a:ext cx="107640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9033200">
              <a:off x="5906880" y="4542840"/>
              <a:ext cx="819000" cy="45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270920" y="2819520"/>
            <a:ext cx="1873080" cy="1873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13511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32840" y="3502080"/>
            <a:ext cx="1785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COMPAN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360684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00"/>
                </a:solidFill>
                <a:latin typeface="Verdana"/>
                <a:ea typeface="Gulim"/>
              </a:rPr>
              <a:t>Thank you!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9720" y="3378240"/>
            <a:ext cx="496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0"/>
            <a:ext cx="9156600" cy="2003400"/>
            <a:chOff x="0" y="0"/>
            <a:chExt cx="9156600" cy="2003400"/>
          </a:xfrm>
        </p:grpSpPr>
        <p:sp>
          <p:nvSpPr>
            <p:cNvPr id="339" name=""/>
            <p:cNvSpPr/>
            <p:nvPr/>
          </p:nvSpPr>
          <p:spPr>
            <a:xfrm>
              <a:off x="12600" y="12600"/>
              <a:ext cx="9144000" cy="19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0"/>
              <a:ext cx="9131400" cy="825480"/>
            </a:xfrm>
            <a:custGeom>
              <a:avLst/>
              <a:gdLst/>
              <a:ahLst/>
              <a:rect l="l" t="t" r="r" b="b"/>
              <a:pathLst>
                <a:path w="5752" h="520">
                  <a:moveTo>
                    <a:pt x="0" y="432"/>
                  </a:moveTo>
                  <a:lnTo>
                    <a:pt x="0" y="0"/>
                  </a:lnTo>
                  <a:lnTo>
                    <a:pt x="5752" y="0"/>
                  </a:lnTo>
                  <a:lnTo>
                    <a:pt x="5752" y="520"/>
                  </a:lnTo>
                  <a:lnTo>
                    <a:pt x="3960" y="520"/>
                  </a:lnTo>
                  <a:lnTo>
                    <a:pt x="3672" y="232"/>
                  </a:lnTo>
                  <a:lnTo>
                    <a:pt x="80" y="232"/>
                  </a:lnTo>
                  <a:lnTo>
                    <a:pt x="80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dbe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71600" y="4572000"/>
            <a:ext cx="4964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07600" y="1663200"/>
            <a:ext cx="810252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3511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5113"/>
                </a:solidFill>
                <a:latin typeface="Verdana"/>
                <a:ea typeface="Gulim"/>
              </a:rPr>
              <a:t>Competitors </a:t>
            </a:r>
            <a:endParaRPr b="1" lang="en-US" sz="26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7800"/>
                </a:solidFill>
                <a:latin typeface="Verdana"/>
                <a:ea typeface="Gulim"/>
              </a:rPr>
              <a:t>- You may want to allocate one slide per competitor</a:t>
            </a:r>
            <a:endParaRPr b="0" lang="en-US" sz="2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13511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5113"/>
                </a:solidFill>
                <a:latin typeface="Verdana"/>
                <a:ea typeface="Gulim"/>
              </a:rPr>
              <a:t>Strengths </a:t>
            </a:r>
            <a:endParaRPr b="1" lang="en-US" sz="26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7800"/>
                </a:solidFill>
                <a:latin typeface="Verdana"/>
                <a:ea typeface="Gulim"/>
              </a:rPr>
              <a:t>- Your strengths relative to competitors</a:t>
            </a:r>
            <a:endParaRPr b="0" lang="en-US" sz="2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13511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5113"/>
                </a:solidFill>
                <a:latin typeface="Verdana"/>
                <a:ea typeface="Gulim"/>
              </a:rPr>
              <a:t>Weaknesses</a:t>
            </a:r>
            <a:endParaRPr b="1" lang="en-US" sz="26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7800"/>
                </a:solidFill>
                <a:latin typeface="Verdana"/>
                <a:ea typeface="Gulim"/>
              </a:rPr>
              <a:t>- Your weaknesses relative to competitor</a:t>
            </a:r>
            <a:endParaRPr b="0" lang="en-US" sz="2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Related Docum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984320" y="4786200"/>
            <a:ext cx="5229360" cy="623880"/>
            <a:chOff x="1984320" y="4786200"/>
            <a:chExt cx="5229360" cy="623880"/>
          </a:xfrm>
        </p:grpSpPr>
        <p:sp>
          <p:nvSpPr>
            <p:cNvPr id="158" name=""/>
            <p:cNvSpPr/>
            <p:nvPr/>
          </p:nvSpPr>
          <p:spPr>
            <a:xfrm>
              <a:off x="2006640" y="48117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984320" y="4786200"/>
              <a:ext cx="5213520" cy="606600"/>
              <a:chOff x="1984320" y="4786200"/>
              <a:chExt cx="5213520" cy="606600"/>
            </a:xfrm>
          </p:grpSpPr>
          <p:sp>
            <p:nvSpPr>
              <p:cNvPr id="160" name=""/>
              <p:cNvSpPr/>
              <p:nvPr/>
            </p:nvSpPr>
            <p:spPr>
              <a:xfrm>
                <a:off x="2298600" y="47862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bad1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24160" y="48798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507800"/>
                  </a:gs>
                  <a:gs pos="50000">
                    <a:srgbClr val="8fad2f"/>
                  </a:gs>
                  <a:gs pos="100000">
                    <a:srgbClr val="5078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1984320" y="4787640"/>
                <a:ext cx="604800" cy="605160"/>
                <a:chOff x="1984320" y="4787640"/>
                <a:chExt cx="604800" cy="60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984320" y="4787640"/>
                  <a:ext cx="604800" cy="60516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0640" y="498168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9033200">
                  <a:off x="2035800" y="4880520"/>
                  <a:ext cx="253440" cy="1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92680" y="4787640"/>
                <a:ext cx="605160" cy="605160"/>
                <a:chOff x="6592680" y="4787640"/>
                <a:chExt cx="605160" cy="6051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92680" y="4787640"/>
                  <a:ext cx="605160" cy="60516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759360" y="4981680"/>
                  <a:ext cx="33444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9033200">
                  <a:off x="6644160" y="4880520"/>
                  <a:ext cx="253440" cy="1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0" name=""/>
          <p:cNvGrpSpPr/>
          <p:nvPr/>
        </p:nvGrpSpPr>
        <p:grpSpPr>
          <a:xfrm>
            <a:off x="1959120" y="3859200"/>
            <a:ext cx="5228640" cy="623880"/>
            <a:chOff x="1959120" y="3859200"/>
            <a:chExt cx="5228640" cy="623880"/>
          </a:xfrm>
        </p:grpSpPr>
        <p:sp>
          <p:nvSpPr>
            <p:cNvPr id="171" name=""/>
            <p:cNvSpPr/>
            <p:nvPr/>
          </p:nvSpPr>
          <p:spPr>
            <a:xfrm>
              <a:off x="1981080" y="3884760"/>
              <a:ext cx="520668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959120" y="3859200"/>
              <a:ext cx="5212800" cy="606240"/>
              <a:chOff x="1959120" y="3859200"/>
              <a:chExt cx="5212800" cy="6062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73040" y="3859200"/>
                <a:ext cx="4587480" cy="604800"/>
              </a:xfrm>
              <a:prstGeom prst="roundRect">
                <a:avLst>
                  <a:gd name="adj" fmla="val 0"/>
                </a:avLst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98600" y="3952800"/>
                <a:ext cx="4563720" cy="432000"/>
              </a:xfrm>
              <a:prstGeom prst="rect">
                <a:avLst/>
              </a:prstGeom>
              <a:gradFill rotWithShape="0">
                <a:gsLst>
                  <a:gs pos="0">
                    <a:srgbClr val="003300"/>
                  </a:gs>
                  <a:gs pos="50000">
                    <a:srgbClr val="507800"/>
                  </a:gs>
                  <a:gs pos="100000">
                    <a:srgbClr val="00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1959120" y="3860640"/>
                <a:ext cx="604440" cy="604800"/>
                <a:chOff x="1959120" y="3860640"/>
                <a:chExt cx="604440" cy="604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959120" y="3860640"/>
                  <a:ext cx="604440" cy="60480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125440" y="4054320"/>
                  <a:ext cx="33300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9033200">
                  <a:off x="2009520" y="3953880"/>
                  <a:ext cx="253800" cy="14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567120" y="3860640"/>
                <a:ext cx="604800" cy="604800"/>
                <a:chOff x="6567120" y="3860640"/>
                <a:chExt cx="604800" cy="6048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567120" y="3860640"/>
                  <a:ext cx="604800" cy="60480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33800" y="40543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9033200">
                  <a:off x="6617880" y="3953880"/>
                  <a:ext cx="254160" cy="14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3" name=""/>
          <p:cNvGrpSpPr/>
          <p:nvPr/>
        </p:nvGrpSpPr>
        <p:grpSpPr>
          <a:xfrm>
            <a:off x="1984320" y="2932200"/>
            <a:ext cx="5229360" cy="623880"/>
            <a:chOff x="1984320" y="2932200"/>
            <a:chExt cx="5229360" cy="623880"/>
          </a:xfrm>
        </p:grpSpPr>
        <p:sp>
          <p:nvSpPr>
            <p:cNvPr id="184" name=""/>
            <p:cNvSpPr/>
            <p:nvPr/>
          </p:nvSpPr>
          <p:spPr>
            <a:xfrm>
              <a:off x="2006640" y="29577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984320" y="2932200"/>
              <a:ext cx="5213520" cy="606600"/>
              <a:chOff x="1984320" y="2932200"/>
              <a:chExt cx="5213520" cy="606600"/>
            </a:xfrm>
          </p:grpSpPr>
          <p:sp>
            <p:nvSpPr>
              <p:cNvPr id="186" name=""/>
              <p:cNvSpPr/>
              <p:nvPr/>
            </p:nvSpPr>
            <p:spPr>
              <a:xfrm>
                <a:off x="2298600" y="29322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bad1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24160" y="30258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507800"/>
                  </a:gs>
                  <a:gs pos="50000">
                    <a:srgbClr val="8fad2f"/>
                  </a:gs>
                  <a:gs pos="100000">
                    <a:srgbClr val="5078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984320" y="2933640"/>
                <a:ext cx="604800" cy="605160"/>
                <a:chOff x="1984320" y="2933640"/>
                <a:chExt cx="604800" cy="6051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984320" y="2933640"/>
                  <a:ext cx="604800" cy="60516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150640" y="312768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9033200">
                  <a:off x="2035800" y="3026520"/>
                  <a:ext cx="253440" cy="1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592680" y="2933640"/>
                <a:ext cx="605160" cy="605160"/>
                <a:chOff x="6592680" y="2933640"/>
                <a:chExt cx="605160" cy="605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592680" y="2933640"/>
                  <a:ext cx="605160" cy="60516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759360" y="3127680"/>
                  <a:ext cx="33444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9033200">
                  <a:off x="6644160" y="3026520"/>
                  <a:ext cx="253440" cy="1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" name=""/>
          <p:cNvGrpSpPr/>
          <p:nvPr/>
        </p:nvGrpSpPr>
        <p:grpSpPr>
          <a:xfrm>
            <a:off x="1959120" y="2030400"/>
            <a:ext cx="5228640" cy="623880"/>
            <a:chOff x="1959120" y="2030400"/>
            <a:chExt cx="5228640" cy="623880"/>
          </a:xfrm>
        </p:grpSpPr>
        <p:sp>
          <p:nvSpPr>
            <p:cNvPr id="197" name=""/>
            <p:cNvSpPr/>
            <p:nvPr/>
          </p:nvSpPr>
          <p:spPr>
            <a:xfrm>
              <a:off x="1981080" y="2055960"/>
              <a:ext cx="520668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959120" y="2030400"/>
              <a:ext cx="5212800" cy="606240"/>
              <a:chOff x="1959120" y="2030400"/>
              <a:chExt cx="5212800" cy="6062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73040" y="2030400"/>
                <a:ext cx="4587480" cy="604800"/>
              </a:xfrm>
              <a:prstGeom prst="roundRect">
                <a:avLst>
                  <a:gd name="adj" fmla="val 0"/>
                </a:avLst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98600" y="2124000"/>
                <a:ext cx="4563720" cy="432000"/>
              </a:xfrm>
              <a:prstGeom prst="rect">
                <a:avLst/>
              </a:prstGeom>
              <a:gradFill rotWithShape="0">
                <a:gsLst>
                  <a:gs pos="0">
                    <a:srgbClr val="003300"/>
                  </a:gs>
                  <a:gs pos="50000">
                    <a:srgbClr val="507800"/>
                  </a:gs>
                  <a:gs pos="100000">
                    <a:srgbClr val="00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959120" y="2031840"/>
                <a:ext cx="604440" cy="604800"/>
                <a:chOff x="1959120" y="2031840"/>
                <a:chExt cx="604440" cy="604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959120" y="2031840"/>
                  <a:ext cx="604440" cy="60480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25440" y="2225520"/>
                  <a:ext cx="33300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9033200">
                  <a:off x="2009520" y="2125080"/>
                  <a:ext cx="253800" cy="14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567120" y="2031840"/>
                <a:ext cx="604800" cy="604800"/>
                <a:chOff x="6567120" y="2031840"/>
                <a:chExt cx="604800" cy="604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567120" y="2031840"/>
                  <a:ext cx="604800" cy="60480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73380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9033200">
                  <a:off x="6617880" y="2125080"/>
                  <a:ext cx="254160" cy="14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" name=""/>
          <p:cNvSpPr/>
          <p:nvPr/>
        </p:nvSpPr>
        <p:spPr>
          <a:xfrm>
            <a:off x="2577960" y="2124000"/>
            <a:ext cx="36338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51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3013200"/>
            <a:ext cx="36338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51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03520" y="3952800"/>
            <a:ext cx="420516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51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6120" y="4867200"/>
            <a:ext cx="36338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51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ont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1015920" y="2730600"/>
            <a:ext cx="3301920" cy="3504960"/>
            <a:chOff x="1015920" y="2730600"/>
            <a:chExt cx="3301920" cy="3504960"/>
          </a:xfrm>
        </p:grpSpPr>
        <p:sp>
          <p:nvSpPr>
            <p:cNvPr id="215" name=""/>
            <p:cNvSpPr/>
            <p:nvPr/>
          </p:nvSpPr>
          <p:spPr>
            <a:xfrm>
              <a:off x="1015920" y="2730600"/>
              <a:ext cx="3301920" cy="3504960"/>
            </a:xfrm>
            <a:custGeom>
              <a:avLst/>
              <a:gdLst>
                <a:gd name="textAreaLeft" fmla="*/ 101520 w 3301920"/>
                <a:gd name="textAreaRight" fmla="*/ 3200400 w 3301920"/>
                <a:gd name="textAreaTop" fmla="*/ 101520 h 3504960"/>
                <a:gd name="textAreaBottom" fmla="*/ 3403440 h 3504960"/>
              </a:gdLst>
              <a:ahLst/>
              <a:rect l="textAreaLeft" t="textAreaTop" r="textAreaRight" b="textAreaBottom"/>
              <a:pathLst>
                <a:path w="21600" h="22928">
                  <a:moveTo>
                    <a:pt x="2274" y="0"/>
                  </a:moveTo>
                  <a:arcTo wR="2274" hR="2274" stAng="16200000" swAng="-5400000"/>
                  <a:lnTo>
                    <a:pt x="0" y="20654"/>
                  </a:lnTo>
                  <a:arcTo wR="2274" hR="2274" stAng="10800000" swAng="-5400000"/>
                  <a:lnTo>
                    <a:pt x="19326" y="22928"/>
                  </a:lnTo>
                  <a:arcTo wR="2274" hR="2274" stAng="5400000" swAng="-5400000"/>
                  <a:lnTo>
                    <a:pt x="21600" y="2274"/>
                  </a:lnTo>
                  <a:arcTo wR="2274" hR="2274" stAng="0" swAng="-5400000"/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8fad2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15920" y="2965680"/>
              <a:ext cx="3301920" cy="3045960"/>
            </a:xfrm>
            <a:prstGeom prst="rect">
              <a:avLst/>
            </a:prstGeom>
            <a:gradFill rotWithShape="0">
              <a:gsLst>
                <a:gs pos="0">
                  <a:srgbClr val="dbe8b2"/>
                </a:gs>
                <a:gs pos="50000">
                  <a:srgbClr val="ffffff"/>
                </a:gs>
                <a:gs pos="100000">
                  <a:srgbClr val="dbe8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915080" y="2730600"/>
            <a:ext cx="3301920" cy="3504960"/>
            <a:chOff x="4915080" y="2730600"/>
            <a:chExt cx="3301920" cy="3504960"/>
          </a:xfrm>
        </p:grpSpPr>
        <p:sp>
          <p:nvSpPr>
            <p:cNvPr id="218" name=""/>
            <p:cNvSpPr/>
            <p:nvPr/>
          </p:nvSpPr>
          <p:spPr>
            <a:xfrm>
              <a:off x="4915080" y="2730600"/>
              <a:ext cx="3301920" cy="3504960"/>
            </a:xfrm>
            <a:custGeom>
              <a:avLst/>
              <a:gdLst>
                <a:gd name="textAreaLeft" fmla="*/ 101520 w 3301920"/>
                <a:gd name="textAreaRight" fmla="*/ 3200400 w 3301920"/>
                <a:gd name="textAreaTop" fmla="*/ 101520 h 3504960"/>
                <a:gd name="textAreaBottom" fmla="*/ 3403440 h 3504960"/>
              </a:gdLst>
              <a:ahLst/>
              <a:rect l="textAreaLeft" t="textAreaTop" r="textAreaRight" b="textAreaBottom"/>
              <a:pathLst>
                <a:path w="21600" h="22928">
                  <a:moveTo>
                    <a:pt x="2274" y="0"/>
                  </a:moveTo>
                  <a:arcTo wR="2274" hR="2274" stAng="16200000" swAng="-5400000"/>
                  <a:lnTo>
                    <a:pt x="0" y="20654"/>
                  </a:lnTo>
                  <a:arcTo wR="2274" hR="2274" stAng="10800000" swAng="-5400000"/>
                  <a:lnTo>
                    <a:pt x="19326" y="22928"/>
                  </a:lnTo>
                  <a:arcTo wR="2274" hR="2274" stAng="5400000" swAng="-5400000"/>
                  <a:lnTo>
                    <a:pt x="21600" y="2274"/>
                  </a:lnTo>
                  <a:arcTo wR="2274" hR="2274" stAng="0" swAng="-5400000"/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8fad2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15080" y="2965680"/>
              <a:ext cx="3301920" cy="3045960"/>
            </a:xfrm>
            <a:prstGeom prst="rect">
              <a:avLst/>
            </a:prstGeom>
            <a:gradFill rotWithShape="0">
              <a:gsLst>
                <a:gs pos="0">
                  <a:srgbClr val="dbe8b2"/>
                </a:gs>
                <a:gs pos="50000">
                  <a:srgbClr val="ffffff"/>
                </a:gs>
                <a:gs pos="100000">
                  <a:srgbClr val="dbe8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V="1">
            <a:off x="2451240" y="2196360"/>
            <a:ext cx="761760" cy="47484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ffffff"/>
              </a:gs>
              <a:gs pos="100000">
                <a:srgbClr val="bad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146640" y="2196360"/>
            <a:ext cx="762120" cy="47484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ffffff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057400" y="1460520"/>
            <a:ext cx="5219640" cy="622440"/>
            <a:chOff x="2057400" y="1460520"/>
            <a:chExt cx="5219640" cy="622440"/>
          </a:xfrm>
        </p:grpSpPr>
        <p:sp>
          <p:nvSpPr>
            <p:cNvPr id="224" name=""/>
            <p:cNvSpPr/>
            <p:nvPr/>
          </p:nvSpPr>
          <p:spPr>
            <a:xfrm>
              <a:off x="2070000" y="148428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1460520"/>
              <a:ext cx="5207040" cy="59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8b2"/>
                </a:gs>
                <a:gs pos="100000">
                  <a:srgbClr val="bad1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033200">
              <a:off x="2112480" y="155376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033200">
              <a:off x="6938640" y="178236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40160" y="155268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57480" y="2324160"/>
            <a:ext cx="6680160" cy="3936960"/>
          </a:xfrm>
          <a:prstGeom prst="roundRect">
            <a:avLst>
              <a:gd name="adj" fmla="val 6699"/>
            </a:avLst>
          </a:prstGeom>
          <a:gradFill rotWithShape="0">
            <a:gsLst>
              <a:gs pos="0">
                <a:srgbClr val="8fad2f"/>
              </a:gs>
              <a:gs pos="50000">
                <a:srgbClr val="dbe8b2"/>
              </a:gs>
              <a:gs pos="100000">
                <a:srgbClr val="8fad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4520" y="2438280"/>
            <a:ext cx="1676520" cy="43200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44520" y="28702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44520" y="3683160"/>
            <a:ext cx="1676520" cy="8125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44520" y="44956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44520" y="530856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50880" y="2444760"/>
            <a:ext cx="987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21040" y="2438280"/>
            <a:ext cx="1676520" cy="43200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21040" y="28702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21040" y="3683160"/>
            <a:ext cx="1676520" cy="8125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21040" y="44956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21040" y="530856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97560" y="2438280"/>
            <a:ext cx="1676160" cy="43200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97560" y="2870280"/>
            <a:ext cx="167616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97560" y="3683160"/>
            <a:ext cx="1676160" cy="8125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97560" y="4495680"/>
            <a:ext cx="167616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97560" y="5308560"/>
            <a:ext cx="167616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73720" y="2438280"/>
            <a:ext cx="1676520" cy="432000"/>
          </a:xfrm>
          <a:prstGeom prst="rect">
            <a:avLst/>
          </a:prstGeom>
          <a:gradFill rotWithShape="0">
            <a:gsLst>
              <a:gs pos="0">
                <a:srgbClr val="243700"/>
              </a:gs>
              <a:gs pos="50000">
                <a:srgbClr val="507800"/>
              </a:gs>
              <a:gs pos="100000">
                <a:srgbClr val="243700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3720" y="28702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73720" y="3683160"/>
            <a:ext cx="1676520" cy="81252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73720" y="449568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73720" y="5308560"/>
            <a:ext cx="1676520" cy="8128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108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56200" y="2438280"/>
            <a:ext cx="797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45320" y="2438280"/>
            <a:ext cx="74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90760" y="2438280"/>
            <a:ext cx="936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09680" y="1434960"/>
            <a:ext cx="5219640" cy="622440"/>
            <a:chOff x="2209680" y="1434960"/>
            <a:chExt cx="5219640" cy="622440"/>
          </a:xfrm>
        </p:grpSpPr>
        <p:sp>
          <p:nvSpPr>
            <p:cNvPr id="256" name=""/>
            <p:cNvSpPr/>
            <p:nvPr/>
          </p:nvSpPr>
          <p:spPr>
            <a:xfrm>
              <a:off x="2222280" y="145872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09680" y="1434960"/>
              <a:ext cx="5207040" cy="59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8b2"/>
                </a:gs>
                <a:gs pos="100000">
                  <a:srgbClr val="bad1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9033200">
              <a:off x="2264760" y="152820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033200">
              <a:off x="7090920" y="175680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692440" y="15271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279360" y="1879560"/>
            <a:ext cx="3263760" cy="622440"/>
            <a:chOff x="279360" y="1879560"/>
            <a:chExt cx="3263760" cy="622440"/>
          </a:xfrm>
        </p:grpSpPr>
        <p:sp>
          <p:nvSpPr>
            <p:cNvPr id="262" name=""/>
            <p:cNvSpPr/>
            <p:nvPr/>
          </p:nvSpPr>
          <p:spPr>
            <a:xfrm>
              <a:off x="291960" y="1903320"/>
              <a:ext cx="325116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9360" y="1879560"/>
              <a:ext cx="3251160" cy="59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8b2"/>
                </a:gs>
                <a:gs pos="100000">
                  <a:srgbClr val="bad1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033200">
              <a:off x="334440" y="197280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9033200">
              <a:off x="3179520" y="2214000"/>
              <a:ext cx="25236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275000" y="1817640"/>
            <a:ext cx="4238280" cy="4238280"/>
            <a:chOff x="4275000" y="1817640"/>
            <a:chExt cx="4238280" cy="4238280"/>
          </a:xfrm>
        </p:grpSpPr>
        <p:sp>
          <p:nvSpPr>
            <p:cNvPr id="267" name=""/>
            <p:cNvSpPr/>
            <p:nvPr/>
          </p:nvSpPr>
          <p:spPr>
            <a:xfrm>
              <a:off x="4275000" y="1817640"/>
              <a:ext cx="4238280" cy="4238280"/>
            </a:xfrm>
            <a:prstGeom prst="ellipse">
              <a:avLst/>
            </a:prstGeom>
            <a:noFill/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360480" y="2678400"/>
              <a:ext cx="0" cy="57852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83400" y="4535280"/>
              <a:ext cx="403200" cy="40320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620320" y="4535280"/>
              <a:ext cx="403200" cy="40320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5124960" y="3630600"/>
              <a:ext cx="559080" cy="11376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009200" y="3630240"/>
              <a:ext cx="559080" cy="11412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484960" y="3112920"/>
            <a:ext cx="1736640" cy="173700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50000">
                <a:srgbClr val="5078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97560" y="3257640"/>
            <a:ext cx="1736640" cy="147168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dbe8b2"/>
              </a:gs>
              <a:gs pos="100000">
                <a:srgbClr val="5078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871720"/>
            <a:ext cx="1459080" cy="14590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0" y="2871720"/>
            <a:ext cx="1459080" cy="14590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8200" y="299880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26080" y="1297080"/>
            <a:ext cx="145908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27520" y="1411200"/>
            <a:ext cx="145764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4865760"/>
            <a:ext cx="145872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07160" y="499284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33840" y="4853160"/>
            <a:ext cx="145908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35640" y="497988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9040" y="2986200"/>
            <a:ext cx="145764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0560" y="2505240"/>
            <a:ext cx="28846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-</a:t>
            </a:r>
            <a:br>
              <a:rPr sz="2200"/>
            </a:b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-</a:t>
            </a:r>
            <a:br>
              <a:rPr sz="2200"/>
            </a:b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-</a:t>
            </a:r>
            <a:br>
              <a:rPr sz="2200"/>
            </a:b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5240" y="17701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1200" y="33829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54277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11920" y="54277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75560" y="33829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0760" y="3675240"/>
            <a:ext cx="1513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Gulim"/>
              </a:rPr>
              <a:t>Text 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0280" y="1971720"/>
            <a:ext cx="24145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09600" y="1463760"/>
            <a:ext cx="6496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977760" y="1469880"/>
          <a:ext cx="6848640" cy="50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469880"/>
                    <a:ext cx="6848640" cy="50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33520" y="990720"/>
          <a:ext cx="822960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22960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2:37:4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-338095602</vt:r8>
  </property>
  <property fmtid="{D5CDD505-2E9C-101B-9397-08002B2CF9AE}" pid="4" name="_AuthorEmail">
    <vt:lpwstr>shpark@guilddesign.com</vt:lpwstr>
  </property>
  <property fmtid="{D5CDD505-2E9C-101B-9397-08002B2CF9AE}" pid="5" name="_AuthorEmailDisplayName">
    <vt:lpwstr>Sung Ha, Park</vt:lpwstr>
  </property>
  <property fmtid="{D5CDD505-2E9C-101B-9397-08002B2CF9AE}" pid="6" name="_EmailSubject">
    <vt:lpwstr>영문 파워포인트 마스타 페이지 </vt:lpwstr>
  </property>
  <property fmtid="{D5CDD505-2E9C-101B-9397-08002B2CF9AE}" pid="7" name="_ReviewingToolsShownOnce">
    <vt:lpwstr/>
  </property>
</Properties>
</file>