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5.png" ContentType="image/png"/>
  <Override PartName="/ppt/media/image8.jpeg" ContentType="image/jpeg"/>
  <Override PartName="/ppt/media/image9.gif" ContentType="image/gif"/>
  <Override PartName="/ppt/media/image10.gif" ContentType="image/gif"/>
  <Override PartName="/ppt/media/image1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CEB-1879-4AF4-982B-6F97E8F6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9612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F8B-86EF-423C-8F00-0567ECBB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609-4D8F-4345-9407-8FA45FD2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9612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9612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9612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C47-9F67-4C68-9703-8239EA2A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8944-B97B-4187-B2FB-50DCA5DD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7CC1-5218-41A2-B062-EBA5B15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2140-56F4-4C65-9B6B-CBB36D1E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E7FA-F467-42A2-A07A-7AB41FE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920-6767-4CED-8897-16E87F35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3F41-2F30-4EB0-864F-E6DEEABA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88A0-62C5-452B-ADAF-BA1AA53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95F-9FDA-4F16-92F8-9AA04CA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69F5-FB90-497D-994B-D3393340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9612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6BBD-4E2C-4118-B3C5-8DEE1C2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9612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76F2-D994-4AC4-9325-47013610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53C-B995-4999-AC1C-7B682316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9612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9612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9612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1EDC-583A-414B-9377-672E2779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CA8-3BFE-47EF-981A-5171361D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556-A304-43B9-8C78-104B32F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8BF-B57E-4663-BCF5-6A121805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B0D-45E6-434D-9328-CC22064E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FB4-624A-4D3D-853A-A28E982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9612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7F3-7B15-472E-98FD-4E78E15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9612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C7A-ED72-4636-BA4A-0CF3FE4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7617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9237-F636-4E26-AE4D-B0B4A0CDEA39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D9C9-DF51-4D18-9D66-785CC2D8B86F}" type="slidenum">
              <a:rPr b="0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4.gif"/><Relationship Id="rId7" Type="http://schemas.openxmlformats.org/officeDocument/2006/relationships/image" Target="../media/image7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5.png"/><Relationship Id="rId11" Type="http://schemas.openxmlformats.org/officeDocument/2006/relationships/image" Target="../media/image13.gif"/><Relationship Id="rId12" Type="http://schemas.openxmlformats.org/officeDocument/2006/relationships/image" Target="../media/image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ean Count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7800" y="32464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61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890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1863720"/>
            <a:ext cx="5181480" cy="4994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61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948200"/>
            <a:ext cx="2362320" cy="1909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144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046-344A-4662-AFBA-8C5E0F2CB1FE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ww.animationfactory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93920" y="4602240"/>
            <a:ext cx="2756160" cy="2065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61040" y="4602240"/>
            <a:ext cx="2754360" cy="206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8600" y="4602240"/>
            <a:ext cx="2754360" cy="206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1143000" cy="71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160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666880" y="838080"/>
            <a:ext cx="1019160" cy="127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962520" y="1143000"/>
            <a:ext cx="1143000" cy="923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7848720" y="1143000"/>
            <a:ext cx="1143000" cy="8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62940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3429000" y="2362320"/>
            <a:ext cx="2133720" cy="205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5257800" y="106668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6172200" y="2590920"/>
            <a:ext cx="2743200" cy="1697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228600" y="2228760"/>
            <a:ext cx="2362320" cy="2297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8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