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gif" ContentType="image/gif"/>
  <Override PartName="/ppt/media/image4.jpeg" ContentType="image/jpeg"/>
  <Override PartName="/ppt/media/image5.gif" ContentType="image/gif"/>
  <Override PartName="/ppt/media/image10.gif" ContentType="image/gif"/>
  <Override PartName="/ppt/media/image6.jpeg" ContentType="image/jpeg"/>
  <Override PartName="/ppt/media/image7.gif" ContentType="image/gif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A9642-0B7C-42EB-B73A-8622A8364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333333"/>
              </a:solidFill>
              <a:latin typeface="Eras Bold IT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9144000" cy="1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9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0" y="804960"/>
            <a:ext cx="9144000" cy="1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9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18AF3-A193-4F41-B126-1A39FFF13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333333"/>
              </a:solidFill>
              <a:latin typeface="Eras Bold ITC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4462200" cy="1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9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5760" y="685440"/>
            <a:ext cx="4462200" cy="1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9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0" y="804960"/>
            <a:ext cx="4462200" cy="1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9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5760" y="804960"/>
            <a:ext cx="4462200" cy="1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9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13540-482F-4224-AEAF-77CBB097C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333333"/>
              </a:solidFill>
              <a:latin typeface="Eras Bold ITC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2944080" cy="1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9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91680" y="685440"/>
            <a:ext cx="2944080" cy="1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9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83360" y="685440"/>
            <a:ext cx="2944080" cy="1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9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0" y="804960"/>
            <a:ext cx="2944080" cy="1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9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091680" y="804960"/>
            <a:ext cx="2944080" cy="1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9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83360" y="804960"/>
            <a:ext cx="2944080" cy="1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9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7BA6E-AF74-46AD-BD65-2E91BD2F9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EF116-C78C-4D4A-BD9F-65D36AFB0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333333"/>
              </a:solidFill>
              <a:latin typeface="Eras Bold IT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0" y="685440"/>
            <a:ext cx="91440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26167-E581-4FFB-9AD7-91B85A0B4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333333"/>
              </a:solidFill>
              <a:latin typeface="Eras Bold IT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914400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449E6-1728-462A-BF05-57911AF56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333333"/>
              </a:solidFill>
              <a:latin typeface="Eras Bold IT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446220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85760" y="685440"/>
            <a:ext cx="446220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C4FDF-12FB-4DB2-989C-7B6A97D8D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333333"/>
              </a:solidFill>
              <a:latin typeface="Eras Bold IT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AEED7-F023-4435-AC1E-884365CEE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18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66513-5785-4721-A418-C54177FDC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333333"/>
              </a:solidFill>
              <a:latin typeface="Eras Bold IT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4462200" cy="1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9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5760" y="685440"/>
            <a:ext cx="446220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0" y="804960"/>
            <a:ext cx="4462200" cy="1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9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7D988-0919-49A7-96AA-1EF57DF8A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333333"/>
              </a:solidFill>
              <a:latin typeface="Eras Bold ITC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0" y="685440"/>
            <a:ext cx="91440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B2D76-F017-4F4F-A811-1AA20006F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333333"/>
              </a:solidFill>
              <a:latin typeface="Eras Bold IT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446220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85760" y="685440"/>
            <a:ext cx="4462200" cy="1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9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85760" y="804960"/>
            <a:ext cx="4462200" cy="1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9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F2976-866D-4C59-AFFC-D32651344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333333"/>
              </a:solidFill>
              <a:latin typeface="Eras Bold IT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4462200" cy="1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9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5760" y="685440"/>
            <a:ext cx="4462200" cy="1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9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0" y="804960"/>
            <a:ext cx="9144000" cy="1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9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DE889-550F-4B34-AD9B-664B3C9A3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333333"/>
              </a:solidFill>
              <a:latin typeface="Eras Bold IT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9144000" cy="1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9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0" y="804960"/>
            <a:ext cx="9144000" cy="1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9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637AD-E247-433C-97C7-AD80A6720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333333"/>
              </a:solidFill>
              <a:latin typeface="Eras Bold IT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4462200" cy="1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9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5760" y="685440"/>
            <a:ext cx="4462200" cy="1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9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0" y="804960"/>
            <a:ext cx="4462200" cy="1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9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85760" y="804960"/>
            <a:ext cx="4462200" cy="1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9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82786-0802-457D-A42F-FDD6C6FE4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333333"/>
              </a:solidFill>
              <a:latin typeface="Eras Bold IT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2944080" cy="1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9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091680" y="685440"/>
            <a:ext cx="2944080" cy="1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9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83360" y="685440"/>
            <a:ext cx="2944080" cy="1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9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0" y="804960"/>
            <a:ext cx="2944080" cy="1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9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091680" y="804960"/>
            <a:ext cx="2944080" cy="1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9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183360" y="804960"/>
            <a:ext cx="2944080" cy="1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9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B4F44-9445-44A2-B5FF-A71384F76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333333"/>
              </a:solidFill>
              <a:latin typeface="Eras Bold IT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914400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1E920-8D8B-4158-A4CE-9FBA7693C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333333"/>
              </a:solidFill>
              <a:latin typeface="Eras Bold IT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446220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5760" y="685440"/>
            <a:ext cx="446220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3E9EE-517F-4EF6-A4F8-86CBCF35A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333333"/>
              </a:solidFill>
              <a:latin typeface="Eras Bold IT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B896B-4CE1-4D2A-B9C9-1FC096054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18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ED555-2DEE-488C-A983-780107D72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333333"/>
              </a:solidFill>
              <a:latin typeface="Eras Bold ITC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4462200" cy="1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9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685440"/>
            <a:ext cx="446220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0" y="804960"/>
            <a:ext cx="4462200" cy="1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9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F3B02-4DE1-4B95-9CFE-27ADEF241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333333"/>
              </a:solidFill>
              <a:latin typeface="Eras Bold ITC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446220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685440"/>
            <a:ext cx="4462200" cy="1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9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5760" y="804960"/>
            <a:ext cx="4462200" cy="1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9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0B698-EF4C-48B6-9C2B-F8BBE0A2C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333333"/>
              </a:solidFill>
              <a:latin typeface="Eras Bold ITC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4462200" cy="1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9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5760" y="685440"/>
            <a:ext cx="4462200" cy="1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9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0" y="804960"/>
            <a:ext cx="9144000" cy="1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9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064BF-57EC-4DBA-BA60-60E66A851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image" Target="../media/image3.gif"/><Relationship Id="rId7" Type="http://schemas.openxmlformats.org/officeDocument/2006/relationships/image" Target="../media/image3.gif"/><Relationship Id="rId8" Type="http://schemas.openxmlformats.org/officeDocument/2006/relationships/image" Target="../media/image3.gif"/><Relationship Id="rId9" Type="http://schemas.openxmlformats.org/officeDocument/2006/relationships/image" Target="../media/image3.gif"/><Relationship Id="rId10" Type="http://schemas.openxmlformats.org/officeDocument/2006/relationships/image" Target="../media/image3.gif"/><Relationship Id="rId11" Type="http://schemas.openxmlformats.org/officeDocument/2006/relationships/slideLayout" Target="../slideLayouts/slideLayout1.xml"/><Relationship Id="rId12" Type="http://schemas.openxmlformats.org/officeDocument/2006/relationships/slideLayout" Target="../slideLayouts/slideLayout2.xml"/><Relationship Id="rId13" Type="http://schemas.openxmlformats.org/officeDocument/2006/relationships/slideLayout" Target="../slideLayouts/slideLayout3.xml"/><Relationship Id="rId14" Type="http://schemas.openxmlformats.org/officeDocument/2006/relationships/slideLayout" Target="../slideLayouts/slideLayout4.xml"/><Relationship Id="rId15" Type="http://schemas.openxmlformats.org/officeDocument/2006/relationships/slideLayout" Target="../slideLayouts/slideLayout5.xml"/><Relationship Id="rId16" Type="http://schemas.openxmlformats.org/officeDocument/2006/relationships/slideLayout" Target="../slideLayouts/slideLayout6.xml"/><Relationship Id="rId17" Type="http://schemas.openxmlformats.org/officeDocument/2006/relationships/slideLayout" Target="../slideLayouts/slideLayout7.xml"/><Relationship Id="rId18" Type="http://schemas.openxmlformats.org/officeDocument/2006/relationships/slideLayout" Target="../slideLayouts/slideLayout8.xml"/><Relationship Id="rId19" Type="http://schemas.openxmlformats.org/officeDocument/2006/relationships/slideLayout" Target="../slideLayouts/slideLayout9.xml"/><Relationship Id="rId20" Type="http://schemas.openxmlformats.org/officeDocument/2006/relationships/slideLayout" Target="../slideLayouts/slideLayout10.xml"/><Relationship Id="rId21" Type="http://schemas.openxmlformats.org/officeDocument/2006/relationships/slideLayout" Target="../slideLayouts/slideLayout11.xml"/><Relationship Id="rId22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image" Target="../media/image3.gif"/><Relationship Id="rId7" Type="http://schemas.openxmlformats.org/officeDocument/2006/relationships/image" Target="../media/image3.gif"/><Relationship Id="rId8" Type="http://schemas.openxmlformats.org/officeDocument/2006/relationships/image" Target="../media/image3.gif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3"/>
          <a:stretch/>
        </p:blipFill>
        <p:spPr>
          <a:xfrm>
            <a:off x="-838080" y="762120"/>
            <a:ext cx="3921120" cy="61722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676160" y="76320"/>
            <a:ext cx="83055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Eras Bold ITC"/>
              </a:rPr>
              <a:t>Click to edit the title text format</a:t>
            </a:r>
            <a:endParaRPr b="0" lang="en-US" sz="4000" spc="-1" strike="noStrike">
              <a:solidFill>
                <a:srgbClr val="333333"/>
              </a:solidFill>
              <a:latin typeface="Eras Bold IT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905120" y="609480"/>
            <a:ext cx="723888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35992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29988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26986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SzPct val="23983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SzPct val="239838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SzPct val="239838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SzPct val="239838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-360" y="662904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Eras Bold IT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Eras Bold IT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657840"/>
            <a:ext cx="2895840" cy="2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3333"/>
                </a:solidFill>
                <a:latin typeface="Eras Bold IT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Eras Bold ITC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09920" y="6657840"/>
            <a:ext cx="2133720" cy="2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3333"/>
                </a:solidFill>
                <a:latin typeface="Eras Bold IT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9193B-775B-4DCF-AF54-D943E20FCAF5}" type="slidenum">
              <a:rPr b="0" lang="en-US" sz="1000" spc="-1" strike="noStrike">
                <a:solidFill>
                  <a:srgbClr val="333333"/>
                </a:solidFill>
                <a:latin typeface="Eras Bold IT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1"/>
    <p:sldLayoutId id="2147483650" r:id="rId12"/>
    <p:sldLayoutId id="2147483651" r:id="rId13"/>
    <p:sldLayoutId id="2147483652" r:id="rId14"/>
    <p:sldLayoutId id="2147483653" r:id="rId15"/>
    <p:sldLayoutId id="2147483654" r:id="rId16"/>
    <p:sldLayoutId id="2147483655" r:id="rId17"/>
    <p:sldLayoutId id="2147483656" r:id="rId18"/>
    <p:sldLayoutId id="2147483657" r:id="rId19"/>
    <p:sldLayoutId id="2147483658" r:id="rId20"/>
    <p:sldLayoutId id="2147483659" r:id="rId21"/>
    <p:sldLayoutId id="2147483660" r:id="rId22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33"/>
                </a:solidFill>
                <a:latin typeface="Eras Bold ITC"/>
              </a:rPr>
              <a:t>Click to edit the title text format</a:t>
            </a:r>
            <a:endParaRPr b="0" lang="en-US" sz="5400" spc="-1" strike="noStrike">
              <a:solidFill>
                <a:srgbClr val="333333"/>
              </a:solidFill>
              <a:latin typeface="Eras Bold IT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-36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Eras Bold IT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Eras Bold IT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Eras Bold IT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Eras Bold ITC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700992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Eras Bold IT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22260-5B78-4982-B77A-B02FFBCD4CA8}" type="slidenum">
              <a:rPr b="0" lang="en-US" sz="900" spc="-1" strike="noStrike">
                <a:solidFill>
                  <a:srgbClr val="ffffff"/>
                </a:solidFill>
                <a:latin typeface="Eras Bold IT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457200" algn="ctr">
              <a:spcBef>
                <a:spcPts val="499"/>
              </a:spcBef>
              <a:buSzPct val="3597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SzPct val="359955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333333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SzPct val="360182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333333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SzPct val="360182"/>
              <a:buBlip>
                <a:blip r:embed="rId6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333333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SzPct val="36018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333333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SzPct val="36018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3.gif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8.jpeg"/><Relationship Id="rId4" Type="http://schemas.openxmlformats.org/officeDocument/2006/relationships/image" Target="../media/image4.jpeg"/><Relationship Id="rId5" Type="http://schemas.openxmlformats.org/officeDocument/2006/relationships/image" Target="../media/image2.png"/><Relationship Id="rId6" Type="http://schemas.openxmlformats.org/officeDocument/2006/relationships/image" Target="../media/image3.gif"/><Relationship Id="rId7" Type="http://schemas.openxmlformats.org/officeDocument/2006/relationships/image" Target="../media/image7.gif"/><Relationship Id="rId8" Type="http://schemas.openxmlformats.org/officeDocument/2006/relationships/image" Target="../media/image5.gif"/><Relationship Id="rId9" Type="http://schemas.openxmlformats.org/officeDocument/2006/relationships/image" Target="../media/image10.gif"/><Relationship Id="rId10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33"/>
                </a:solidFill>
                <a:latin typeface="Eras Bold ITC"/>
              </a:rPr>
              <a:t>Acoustic Jam</a:t>
            </a:r>
            <a:endParaRPr b="0" lang="en-US" sz="5400" spc="-1" strike="noStrike">
              <a:solidFill>
                <a:srgbClr val="333333"/>
              </a:solidFill>
              <a:latin typeface="Eras Bold ITC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0" y="685440"/>
            <a:ext cx="91440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Your Subtitle Goes Here</a:t>
            </a:r>
            <a:endParaRPr b="1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6360" y="64548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587400" y="1371600"/>
            <a:ext cx="384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国外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模板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238880" y="4952880"/>
            <a:ext cx="1905120" cy="190512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676160" y="76320"/>
            <a:ext cx="83055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Eras Bold ITC"/>
              </a:rPr>
              <a:t>Your Topic Goes Here</a:t>
            </a:r>
            <a:endParaRPr b="0" lang="en-US" sz="3600" spc="-1" strike="noStrike">
              <a:solidFill>
                <a:srgbClr val="333333"/>
              </a:solidFill>
              <a:latin typeface="Eras Bold IT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905120" y="609480"/>
            <a:ext cx="723888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499"/>
              </a:spcBef>
              <a:buSzPct val="3597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Your subtopic goes here</a:t>
            </a: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33"/>
                </a:solidFill>
                <a:latin typeface="Eras Bold ITC"/>
              </a:rPr>
              <a:t>Transitional Page</a:t>
            </a:r>
            <a:endParaRPr b="0" lang="en-US" sz="4800" spc="-1" strike="noStrike">
              <a:solidFill>
                <a:srgbClr val="333333"/>
              </a:solidFill>
              <a:latin typeface="Eras Bold IT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0" y="685440"/>
            <a:ext cx="91440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2438280" y="2286000"/>
            <a:ext cx="4964400" cy="349740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676160" y="76320"/>
            <a:ext cx="83055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Eras Bold ITC"/>
              </a:rPr>
              <a:t>Your Topic Goes Here</a:t>
            </a:r>
            <a:endParaRPr b="0" lang="en-US" sz="3600" spc="-1" strike="noStrike">
              <a:solidFill>
                <a:srgbClr val="333333"/>
              </a:solidFill>
              <a:latin typeface="Eras Bold ITC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905120" y="609480"/>
            <a:ext cx="723888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499"/>
              </a:spcBef>
              <a:buSzPct val="3597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Your subtopic goes here</a:t>
            </a: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81080" y="144792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33"/>
                </a:solidFill>
                <a:latin typeface="Eras Bold ITC"/>
              </a:rPr>
              <a:t>使用规范说明</a:t>
            </a:r>
            <a:endParaRPr b="0" lang="en-US" sz="4000" spc="-1" strike="noStrike">
              <a:solidFill>
                <a:srgbClr val="333333"/>
              </a:solidFill>
              <a:latin typeface="Eras Bold IT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1" lang="en-US" sz="1400" spc="-1" strike="noStrike">
              <a:solidFill>
                <a:srgbClr val="333333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333333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1" lang="en-US" sz="1400" spc="-1" strike="noStrike">
              <a:solidFill>
                <a:srgbClr val="333333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333333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333333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1" lang="en-US" sz="1400" spc="-1" strike="noStrike">
              <a:solidFill>
                <a:srgbClr val="333333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33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1" lang="en-US" sz="1400" spc="-1" strike="noStrike">
              <a:solidFill>
                <a:srgbClr val="333333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333333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333333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333333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1" lang="en-US" sz="1400" spc="-1" strike="noStrike">
              <a:solidFill>
                <a:srgbClr val="333333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1" lang="en-US" sz="1200" spc="-1" strike="noStrike">
              <a:solidFill>
                <a:srgbClr val="333333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1" lang="en-US" sz="1200" spc="-1" strike="noStrike">
              <a:solidFill>
                <a:srgbClr val="333333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1" lang="en-US" sz="1200" spc="-1" strike="noStrike">
              <a:solidFill>
                <a:srgbClr val="333333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1" lang="en-US" sz="1200" spc="-1" strike="noStrike">
              <a:solidFill>
                <a:srgbClr val="333333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1" lang="en-US" sz="1200" spc="-1" strike="noStrike">
              <a:solidFill>
                <a:srgbClr val="333333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1" lang="en-US" sz="1200" spc="-1" strike="noStrike">
              <a:solidFill>
                <a:srgbClr val="333333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1" lang="en-US" sz="1200" spc="-1" strike="noStrike">
              <a:solidFill>
                <a:srgbClr val="333333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1" lang="en-US" sz="1200" spc="-1" strike="noStrike">
              <a:solidFill>
                <a:srgbClr val="333333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1" lang="en-US" sz="1200" spc="-1" strike="noStrike">
              <a:solidFill>
                <a:srgbClr val="333333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1" lang="en-US" sz="1200" spc="-1" strike="noStrike">
              <a:solidFill>
                <a:srgbClr val="333333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1" lang="en-US" sz="1200" spc="-1" strike="noStrike">
              <a:solidFill>
                <a:srgbClr val="333333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33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33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33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33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33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3375F-2905-46D3-96D4-66C68FAF37E1}" type="slidenum">
              <a:t>5</a:t>
            </a:fld>
          </a:p>
        </p:txBody>
      </p:sp>
    </p:spTree>
  </p:cSld>
  <p:transition spd="med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Eras Bold ITC"/>
              </a:rPr>
              <a:t>Elements</a:t>
            </a:r>
            <a:endParaRPr b="0" lang="en-US" sz="4800" spc="-1" strike="noStrike">
              <a:solidFill>
                <a:srgbClr val="333333"/>
              </a:solidFill>
              <a:latin typeface="Eras Bold IT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0" y="685440"/>
            <a:ext cx="91440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www.animationfactory.com</a:t>
            </a:r>
            <a:endParaRPr b="1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6912000" y="1816200"/>
            <a:ext cx="2079720" cy="15602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6912000" y="3481560"/>
            <a:ext cx="2079720" cy="15602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6912000" y="5145120"/>
            <a:ext cx="2079720" cy="15606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912000" y="152280"/>
            <a:ext cx="2079720" cy="15606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5"/>
          <a:stretch/>
        </p:blipFill>
        <p:spPr>
          <a:xfrm>
            <a:off x="2895480" y="990720"/>
            <a:ext cx="3629160" cy="57150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6"/>
          <a:stretch/>
        </p:blipFill>
        <p:spPr>
          <a:xfrm>
            <a:off x="152280" y="5627520"/>
            <a:ext cx="2286000" cy="12304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7"/>
          <a:stretch/>
        </p:blipFill>
        <p:spPr>
          <a:xfrm>
            <a:off x="217440" y="2406600"/>
            <a:ext cx="1992240" cy="14032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8"/>
          <a:stretch/>
        </p:blipFill>
        <p:spPr>
          <a:xfrm>
            <a:off x="217440" y="120600"/>
            <a:ext cx="1981080" cy="198108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9"/>
          <a:stretch/>
        </p:blipFill>
        <p:spPr>
          <a:xfrm>
            <a:off x="533520" y="3886200"/>
            <a:ext cx="1523880" cy="198108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9T23:01:14Z</dcterms:created>
  <dc:creator>幻灯片之家：www.eeppt.com</dc:creator>
  <dc:description>幻灯片之家：www.eeppt.com</dc:description>
  <cp:keywords>幻灯片之家：www.eeppt.com</cp:keywords>
  <dc:language>en-US</dc:language>
  <cp:lastModifiedBy/>
  <dcterms:modified xsi:type="dcterms:W3CDTF">2015-09-18T13:18:15Z</dcterms:modified>
  <cp:revision>44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