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1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4C5A-7FBE-44D3-802E-5DDEB659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495B-F957-4CC7-BFFC-B036B4A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1C37-BF73-4841-B9ED-3359933C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E9DC-5F13-446D-978E-6D10FF6D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9D838-E40C-4BCE-936C-E9A7A52E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92EF-C287-49D8-BD1C-8E41841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B6F94-D5E4-4E4E-B3B1-0CE6E0F4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5D495-AD57-4268-9AF2-A699C562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C377-2423-4DAD-9C3B-520BBDCD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2B0E-1E55-4093-BDEB-3E2187DC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80B1A-07A0-460B-B811-95B4A3E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8A7B-9252-4670-A08D-DCAA234E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BA14-7368-41FB-9803-66DBE604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80014-EA4B-4C92-97E3-76CEC64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37793-FA56-46AD-A49D-9165B6E9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E409-F262-4417-A443-3EFC7112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52775-9848-41A7-B538-98E5B20F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10B7-3084-4AEE-AFF2-0DDA2DC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1280-CD29-474D-AED9-5B9A319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517C-789C-4053-AEA3-55E8306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32B4-0A04-433D-8CEE-81D5188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AD60-6490-449C-8299-7753FD1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93D5-A70F-46C6-92B1-41792A0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78F6-8AA8-46D7-B8FE-08725AC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E3A-FDF9-4C1C-90F8-D8DA8AC9534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440" y="-6480"/>
            <a:ext cx="1074600" cy="111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8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1F8-4D38-4939-9302-768D97052F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564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6"/>
          </p:nvPr>
        </p:nvSpPr>
        <p:spPr>
          <a:xfrm>
            <a:off x="6019920" y="53179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0080a2"/>
                </a:solidFill>
                <a:latin typeface="Arial"/>
                <a:ea typeface="宋体"/>
              </a:rPr>
              <a:t>PowerTemplate</a:t>
            </a:r>
            <a:endParaRPr b="1" lang="en-US" sz="40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0240" y="76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汽车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84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92" name="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02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10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11" name="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13716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93c05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4ea7e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0080a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c052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0080a2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999ff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0080a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49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80a2">
                    <a:alpha val="90196"/>
                  </a:srgbClr>
                </a:gs>
                <a:gs pos="50000">
                  <a:srgbClr val="a8d3de"/>
                </a:gs>
                <a:gs pos="100000">
                  <a:srgbClr val="0080a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53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>
                    <a:alpha val="90196"/>
                  </a:srgbClr>
                </a:gs>
                <a:gs pos="50000">
                  <a:srgbClr val="dbdbfe"/>
                </a:gs>
                <a:gs pos="100000">
                  <a:srgbClr val="9999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57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451d"/>
                </a:gs>
                <a:gs pos="50000">
                  <a:srgbClr val="93c052"/>
                </a:gs>
                <a:gs pos="100000">
                  <a:srgbClr val="34451d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>
                    <a:alpha val="90196"/>
                  </a:srgbClr>
                </a:gs>
                <a:gs pos="50000">
                  <a:srgbClr val="d9e8c3"/>
                </a:gs>
                <a:gs pos="100000">
                  <a:srgbClr val="93c05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a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67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8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0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1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2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00556b">
                  <a:alpha val="12156"/>
                </a:srgbClr>
              </a:gs>
              <a:gs pos="50000">
                <a:srgbClr val="0080a2"/>
              </a:gs>
              <a:gs pos="100000">
                <a:srgbClr val="00556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5d7933"/>
              </a:gs>
              <a:gs pos="100000">
                <a:srgbClr val="93c05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f6f8"/>
              </a:gs>
              <a:gs pos="100000">
                <a:srgbClr val="0080a2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2d2fe"/>
              </a:gs>
              <a:gs pos="100000">
                <a:srgbClr val="99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a8d3f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d2e4b8"/>
              </a:gs>
              <a:gs pos="100000">
                <a:srgbClr val="93c05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004152"/>
              </a:gs>
              <a:gs pos="100000">
                <a:srgbClr val="008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70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"/>
          <p:cNvCxnSpPr>
            <a:endCxn id="653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endCxn id="646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659" name="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00647f"/>
                </a:gs>
                <a:gs pos="100000">
                  <a:srgbClr val="0080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662" name="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7878c8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665" name="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3d83b7"/>
                </a:gs>
                <a:gs pos="100000">
                  <a:srgbClr val="4ea7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668" name="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739640"/>
                </a:gs>
                <a:gs pos="100000">
                  <a:srgbClr val="93c0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0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76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77" name="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029320" y="2155680"/>
              <a:ext cx="344880" cy="359280"/>
              <a:chOff x="2029320" y="2155680"/>
              <a:chExt cx="344880" cy="3592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2037960" y="2155680"/>
                <a:ext cx="336240" cy="273960"/>
                <a:chOff x="2037960" y="2155680"/>
                <a:chExt cx="336240" cy="273960"/>
              </a:xfrm>
            </p:grpSpPr>
            <p:sp>
              <p:nvSpPr>
                <p:cNvPr id="685" name=""/>
                <p:cNvSpPr/>
                <p:nvPr/>
              </p:nvSpPr>
              <p:spPr>
                <a:xfrm flipH="1" rot="15040200">
                  <a:off x="219024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2029320" y="2177280"/>
                <a:ext cx="271800" cy="337680"/>
                <a:chOff x="2029320" y="2177280"/>
                <a:chExt cx="271800" cy="337680"/>
              </a:xfrm>
            </p:grpSpPr>
            <p:sp>
              <p:nvSpPr>
                <p:cNvPr id="690" name=""/>
                <p:cNvSpPr/>
                <p:nvPr/>
              </p:nvSpPr>
              <p:spPr>
                <a:xfrm flipH="1" rot="13687200">
                  <a:off x="212580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 rot="12871200">
                  <a:off x="20959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4" name=""/>
            <p:cNvGrpSpPr/>
            <p:nvPr/>
          </p:nvGrpSpPr>
          <p:grpSpPr>
            <a:xfrm>
              <a:off x="1849320" y="2691360"/>
              <a:ext cx="429120" cy="517320"/>
              <a:chOff x="1849320" y="2691360"/>
              <a:chExt cx="429120" cy="51732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1849320" y="2691360"/>
                <a:ext cx="429120" cy="405000"/>
                <a:chOff x="1849320" y="2691360"/>
                <a:chExt cx="429120" cy="40500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rot="14424600">
                  <a:off x="204516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rot="13608600">
                  <a:off x="199296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850760" y="2719800"/>
                <a:ext cx="307800" cy="488880"/>
                <a:chOff x="1850760" y="2719800"/>
                <a:chExt cx="307800" cy="488880"/>
              </a:xfrm>
            </p:grpSpPr>
            <p:sp>
              <p:nvSpPr>
                <p:cNvPr id="701" name=""/>
                <p:cNvSpPr/>
                <p:nvPr/>
              </p:nvSpPr>
              <p:spPr>
                <a:xfrm flipH="1" rot="13071600">
                  <a:off x="195804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rot="12256200">
                  <a:off x="192240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5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707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716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721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315800" y="2691360"/>
              <a:ext cx="429120" cy="517320"/>
              <a:chOff x="1315800" y="2691360"/>
              <a:chExt cx="429120" cy="51732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1315800" y="2691360"/>
                <a:ext cx="429120" cy="405000"/>
                <a:chOff x="1315800" y="2691360"/>
                <a:chExt cx="429120" cy="405000"/>
              </a:xfrm>
            </p:grpSpPr>
            <p:sp>
              <p:nvSpPr>
                <p:cNvPr id="727" name=""/>
                <p:cNvSpPr/>
                <p:nvPr/>
              </p:nvSpPr>
              <p:spPr>
                <a:xfrm flipH="1" rot="14424600">
                  <a:off x="151164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rot="13608600">
                  <a:off x="145944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1317240" y="2719800"/>
                <a:ext cx="307800" cy="488880"/>
                <a:chOff x="1317240" y="2719800"/>
                <a:chExt cx="307800" cy="488880"/>
              </a:xfrm>
            </p:grpSpPr>
            <p:sp>
              <p:nvSpPr>
                <p:cNvPr id="732" name=""/>
                <p:cNvSpPr/>
                <p:nvPr/>
              </p:nvSpPr>
              <p:spPr>
                <a:xfrm flipH="1" rot="13071600">
                  <a:off x="142452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 rot="12256200">
                  <a:off x="138888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6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93c05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80a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4ea7e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033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674a2"/>
              </a:gs>
              <a:gs pos="100000">
                <a:srgbClr val="4ea7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59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172f"/>
              </a:gs>
              <a:gs pos="100000">
                <a:srgbClr val="003366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597431"/>
              </a:gs>
              <a:gs pos="100000">
                <a:srgbClr val="93c0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748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752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756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760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ea7e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ea7e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2a5a7e"/>
              </a:gs>
              <a:gs pos="50000">
                <a:srgbClr val="4ea7ea"/>
              </a:gs>
              <a:gs pos="100000">
                <a:srgbClr val="2a5a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ea7ea">
                  <a:alpha val="0"/>
                </a:srgbClr>
              </a:gs>
              <a:gs pos="100000">
                <a:srgbClr val="31699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790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80a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3b4a"/>
              </a:gs>
              <a:gs pos="100000">
                <a:srgbClr val="0080a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4557"/>
              </a:gs>
              <a:gs pos="50000">
                <a:srgbClr val="0080a2"/>
              </a:gs>
              <a:gs pos="100000">
                <a:srgbClr val="0045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0080a2">
                  <a:alpha val="0"/>
                </a:srgbClr>
              </a:gs>
              <a:gs pos="100000">
                <a:srgbClr val="0051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800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805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818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6f913e"/>
              </a:gs>
              <a:gs pos="100000">
                <a:srgbClr val="93c0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438fc9"/>
              </a:gs>
              <a:gs pos="100000">
                <a:srgbClr val="4ea7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006e8b"/>
              </a:gs>
              <a:gs pos="100000">
                <a:srgbClr val="0080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80a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80a2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4ea7ea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847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2e3a"/>
                </a:gs>
                <a:gs pos="50000">
                  <a:srgbClr val="0080a2"/>
                </a:gs>
                <a:gs pos="100000">
                  <a:srgbClr val="002e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003f50"/>
                </a:gs>
                <a:gs pos="100000">
                  <a:srgbClr val="0080a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850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b5d82"/>
                </a:gs>
                <a:gs pos="50000">
                  <a:srgbClr val="4ea7ea"/>
                </a:gs>
                <a:gs pos="100000">
                  <a:srgbClr val="2b5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2b5d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853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00475a"/>
                </a:gs>
                <a:gs pos="50000">
                  <a:srgbClr val="0080a2"/>
                </a:gs>
                <a:gs pos="100000">
                  <a:srgbClr val="0047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0080a2"/>
                </a:gs>
                <a:gs pos="100000">
                  <a:srgbClr val="0047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856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336d99"/>
                </a:gs>
                <a:gs pos="50000">
                  <a:srgbClr val="4ea7ea"/>
                </a:gs>
                <a:gs pos="100000">
                  <a:srgbClr val="336d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3b7f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008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50000">
                  <a:srgbClr val="e7f0d9"/>
                </a:gs>
                <a:gs pos="100000">
                  <a:srgbClr val="93c05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93c05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a2"/>
                </a:gs>
                <a:gs pos="50000">
                  <a:srgbClr val="c8e3ea"/>
                </a:gs>
                <a:gs pos="100000">
                  <a:srgbClr val="0080a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e8e8fe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d8ebf9"/>
                </a:gs>
                <a:gs pos="100000">
                  <a:srgbClr val="4ea7e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ea7e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086B-4013-4F26-A2F5-20F3169FF2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3c052"/>
                    </a:gs>
                    <a:gs pos="100000">
                      <a:srgbClr val="9999f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3c052"/>
                  </a:gs>
                  <a:gs pos="100000">
                    <a:srgbClr val="9999f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0080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600" spc="-1" strike="noStrike">
                <a:solidFill>
                  <a:srgbClr val="93c052"/>
                </a:solidFill>
                <a:latin typeface="Arial"/>
                <a:ea typeface="宋体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952880"/>
            <a:ext cx="7238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CD__Wired Business_PHOTODISC(MULTIBITS), business on the go_EYEWIRE(NFINE), www.photosclub.co.k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080a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8bbee"/>
              </a:gs>
              <a:gs pos="50000">
                <a:srgbClr val="4ea7ea"/>
              </a:gs>
              <a:gs pos="100000">
                <a:srgbClr val="78bbe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ce7b"/>
              </a:gs>
              <a:gs pos="50000">
                <a:srgbClr val="93c052"/>
              </a:gs>
              <a:gs pos="100000">
                <a:srgbClr val="acce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80a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4ea7ea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9999ff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93c052"/>
          </a:solidFill>
          <a:ln w="9360">
            <a:solidFill>
              <a:srgbClr val="93c052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93c052">
              <a:alpha val="50000"/>
            </a:srgbClr>
          </a:solidFill>
          <a:ln w="936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4ea7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8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a7ea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3c052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3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4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9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4ea7ea"/>
              </a:gs>
              <a:gs pos="100000">
                <a:srgbClr val="3674a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7daf5"/>
              </a:gs>
              <a:gs pos="100000">
                <a:srgbClr val="4ea7ea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8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9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234c6b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6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66853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2e4b9"/>
              </a:gs>
              <a:gs pos="100000">
                <a:srgbClr val="93c05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9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60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35825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7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0080a2"/>
              </a:gs>
              <a:gs pos="100000">
                <a:srgbClr val="00597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8cbd8"/>
              </a:gs>
              <a:gs pos="100000">
                <a:srgbClr val="0080a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80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81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003b4a"/>
                </a:gs>
                <a:gs pos="100000">
                  <a:srgbClr val="0080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8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a8d3de"/>
              </a:gs>
              <a:gs pos="100000">
                <a:srgbClr val="0080a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19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20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33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51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69" name="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95" name="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421" name="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426" name="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31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50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51" name="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57" name="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00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e09000000000001024140</vt:lpwstr>
  </property>
</Properties>
</file>