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43A35-4F30-4247-A552-1613622C82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6705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5079240"/>
            <a:ext cx="6705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C6254-F912-4014-8F93-C2334657D3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55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5FC6-1EE9-4E2A-B4B4-B15ABCEBAC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86600" y="480060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53880" y="480060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507924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86600" y="507924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53880" y="507924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1603E-94D2-4CD9-B4D6-0B83A64BF8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761760" y="365724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12193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07C17-8D69-4BDD-82C6-9A4D3AD4DD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46555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1219320" y="5079240"/>
            <a:ext cx="6705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6705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1219320" y="5079240"/>
            <a:ext cx="6705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12193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46555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486600" y="480060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5753880" y="480060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1219320" y="507924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486600" y="507924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5753880" y="5079240"/>
            <a:ext cx="215892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FE2D-769E-44A0-ABF3-201DDC5A1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7ABFD-017E-4499-A6C6-D6C27BB757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2F37D-D822-43A2-A1CB-2E3880ED2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1760" y="3657240"/>
            <a:ext cx="7467480" cy="35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07A2-BB15-4EFA-8F95-A724793B5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7240-F050-4027-8F97-088454F46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5520" y="507924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E430A-B452-44DE-9DBA-8A9CB4D930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5520" y="4800600"/>
            <a:ext cx="32720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5079240"/>
            <a:ext cx="6705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6F9B-2A60-41DE-960E-B52082B3F4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38080" y="0"/>
            <a:ext cx="7426440" cy="8827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8261280" y="0"/>
            <a:ext cx="882720" cy="8938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3240" y="0"/>
            <a:ext cx="885600" cy="884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456840" y="6448320"/>
            <a:ext cx="76212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24631"/>
                </a:solidFill>
                <a:latin typeface="Verdana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60A7-7674-430D-81B2-F0ADBE87F015}" type="slidenum">
              <a:rPr b="0" lang="zh-CN" sz="1200" spc="-1" strike="noStrike">
                <a:solidFill>
                  <a:srgbClr val="024631"/>
                </a:solidFill>
                <a:latin typeface="Verdana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611280" y="609480"/>
            <a:ext cx="7792920" cy="339840"/>
          </a:xfrm>
          <a:custGeom>
            <a:avLst/>
            <a:gdLst/>
            <a:ahLst/>
            <a:rect l="l" t="t" r="r" b="b"/>
            <a:pathLst>
              <a:path w="5780" h="365">
                <a:moveTo>
                  <a:pt x="3001" y="12"/>
                </a:moveTo>
                <a:cubicBezTo>
                  <a:pt x="5072" y="24"/>
                  <a:pt x="5780" y="322"/>
                  <a:pt x="5777" y="342"/>
                </a:cubicBezTo>
                <a:lnTo>
                  <a:pt x="0" y="365"/>
                </a:lnTo>
                <a:cubicBezTo>
                  <a:pt x="295" y="258"/>
                  <a:pt x="930" y="0"/>
                  <a:pt x="300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9907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9a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8e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24631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24631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2463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2463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2463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78280" y="0"/>
            <a:ext cx="3270240" cy="3429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6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227640" y="0"/>
            <a:ext cx="2914920" cy="3573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019320" cy="3573360"/>
          </a:xfrm>
          <a:prstGeom prst="rect">
            <a:avLst/>
          </a:prstGeom>
          <a:ln w="0">
            <a:noFill/>
          </a:ln>
        </p:spPr>
      </p:pic>
      <p:grpSp>
        <p:nvGrpSpPr>
          <p:cNvPr id="46" name=""/>
          <p:cNvGrpSpPr/>
          <p:nvPr/>
        </p:nvGrpSpPr>
        <p:grpSpPr>
          <a:xfrm>
            <a:off x="3348000" y="836640"/>
            <a:ext cx="2509920" cy="2498760"/>
            <a:chOff x="3348000" y="836640"/>
            <a:chExt cx="2509920" cy="2498760"/>
          </a:xfrm>
        </p:grpSpPr>
        <p:sp>
          <p:nvSpPr>
            <p:cNvPr id="47" name=""/>
            <p:cNvSpPr/>
            <p:nvPr/>
          </p:nvSpPr>
          <p:spPr>
            <a:xfrm flipH="1">
              <a:off x="4905360" y="2205000"/>
              <a:ext cx="24768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 flipV="1">
              <a:off x="4919760" y="2190600"/>
              <a:ext cx="326880" cy="114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4887720" y="2379240"/>
              <a:ext cx="3240" cy="366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5472000" y="2182680"/>
              <a:ext cx="11160" cy="400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482800" y="1793880"/>
              <a:ext cx="11160" cy="388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743360" y="1255680"/>
              <a:ext cx="3240" cy="371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890960" y="2349360"/>
              <a:ext cx="1440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5" y="4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732200" y="2305080"/>
              <a:ext cx="33192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741920" y="2293920"/>
              <a:ext cx="330120" cy="114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727160" y="2322360"/>
              <a:ext cx="330120" cy="115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91160" y="2697120"/>
              <a:ext cx="295200" cy="104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38440" y="2008080"/>
              <a:ext cx="184320" cy="66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3622680" y="2101680"/>
              <a:ext cx="100080" cy="53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227120" y="2255400"/>
              <a:ext cx="322200" cy="112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191120" y="2215800"/>
              <a:ext cx="25848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4568760" y="2397240"/>
              <a:ext cx="1440" cy="36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4438440" y="2504880"/>
              <a:ext cx="255600" cy="150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335480" y="2163960"/>
              <a:ext cx="1728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4352760" y="2168280"/>
              <a:ext cx="1800" cy="20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3889080" y="2263320"/>
              <a:ext cx="4680" cy="405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97320" y="2286000"/>
              <a:ext cx="1011240" cy="371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4067280" y="2327040"/>
              <a:ext cx="1440" cy="21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 flipV="1">
              <a:off x="4046400" y="2322360"/>
              <a:ext cx="2088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3733920" y="2208240"/>
              <a:ext cx="312480" cy="114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715920" y="2201760"/>
              <a:ext cx="1764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V="1">
              <a:off x="3716280" y="2201760"/>
              <a:ext cx="1440" cy="208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722760" y="2583000"/>
              <a:ext cx="1440" cy="21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22760" y="2604960"/>
              <a:ext cx="1908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41840" y="2611440"/>
              <a:ext cx="311040" cy="115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052880" y="2727360"/>
              <a:ext cx="1584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68720" y="2712960"/>
              <a:ext cx="144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212720" y="2776680"/>
              <a:ext cx="3240" cy="250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4086360" y="2776320"/>
              <a:ext cx="125280" cy="75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 flipV="1">
              <a:off x="4208040" y="1855800"/>
              <a:ext cx="3240" cy="371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4079880" y="2049480"/>
              <a:ext cx="258840" cy="141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71800" y="1722600"/>
              <a:ext cx="317520" cy="107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3897360" y="1708200"/>
              <a:ext cx="263520" cy="136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41840" y="2732040"/>
              <a:ext cx="31104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94120" y="2668680"/>
              <a:ext cx="6480" cy="374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30680" y="2081160"/>
              <a:ext cx="315720" cy="112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882960" y="1871640"/>
              <a:ext cx="6480" cy="392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5454720" y="1625400"/>
              <a:ext cx="50760" cy="27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629320" y="1785960"/>
              <a:ext cx="3240" cy="100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5710320" y="1893960"/>
              <a:ext cx="28440" cy="17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391000" y="1581120"/>
              <a:ext cx="1584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5406840" y="1585440"/>
              <a:ext cx="180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4979880" y="1715760"/>
              <a:ext cx="6480" cy="336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813200" y="1978200"/>
              <a:ext cx="180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813200" y="1997280"/>
              <a:ext cx="1764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5284800" y="1284120"/>
              <a:ext cx="6480" cy="315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5249880" y="1471320"/>
              <a:ext cx="149040" cy="81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5209920" y="1150920"/>
              <a:ext cx="21960" cy="1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827600" y="2119320"/>
              <a:ext cx="129960" cy="44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 flipV="1">
              <a:off x="4830480" y="2003400"/>
              <a:ext cx="166680" cy="55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606640" y="1903320"/>
              <a:ext cx="66600" cy="38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 flipV="1">
              <a:off x="5605200" y="2027160"/>
              <a:ext cx="680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986360" y="2135160"/>
              <a:ext cx="14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4986360" y="2130120"/>
              <a:ext cx="1260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727520" y="2505240"/>
              <a:ext cx="32688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5087880" y="2157480"/>
              <a:ext cx="758880" cy="465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613480" y="2104560"/>
              <a:ext cx="144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5599080" y="210492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5362200" y="2112840"/>
              <a:ext cx="236520" cy="139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5349600" y="2252520"/>
              <a:ext cx="12600" cy="8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349960" y="2260440"/>
              <a:ext cx="1440" cy="21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40240" y="2646360"/>
              <a:ext cx="1800" cy="20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340240" y="2657520"/>
              <a:ext cx="11160" cy="9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5351400" y="2511360"/>
              <a:ext cx="236520" cy="146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5587920" y="2504880"/>
              <a:ext cx="1440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602320" y="2482920"/>
              <a:ext cx="1440" cy="22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5202000" y="2741760"/>
              <a:ext cx="115560" cy="41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5165640" y="1807920"/>
              <a:ext cx="9720" cy="369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 flipV="1">
              <a:off x="5005080" y="2015640"/>
              <a:ext cx="330120" cy="1112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7960" y="1647360"/>
              <a:ext cx="239760" cy="133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43320" y="1660680"/>
              <a:ext cx="330480" cy="106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5349960" y="2635200"/>
              <a:ext cx="234720" cy="147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5460480" y="2583000"/>
              <a:ext cx="11160" cy="374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5365800" y="1985760"/>
              <a:ext cx="239760" cy="1378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 flipV="1">
              <a:off x="3774960" y="1352520"/>
              <a:ext cx="7920" cy="355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 flipV="1">
              <a:off x="3633840" y="1555560"/>
              <a:ext cx="296640" cy="99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619440" y="1671480"/>
              <a:ext cx="1440" cy="20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619440" y="1663560"/>
              <a:ext cx="14400" cy="8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3789360" y="1247760"/>
              <a:ext cx="160200" cy="77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67040" y="1217520"/>
              <a:ext cx="182520" cy="60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41840" y="2997360"/>
              <a:ext cx="311040" cy="118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4730760" y="2857680"/>
              <a:ext cx="1440" cy="344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608360" y="2793960"/>
              <a:ext cx="1908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4627080" y="2790720"/>
              <a:ext cx="1116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986360" y="2993760"/>
              <a:ext cx="189000" cy="119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5098680" y="2965320"/>
              <a:ext cx="3240" cy="244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4624200" y="317196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flipV="1">
              <a:off x="4608360" y="3171960"/>
              <a:ext cx="1584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4368240" y="2998800"/>
              <a:ext cx="241560" cy="147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4541760" y="2868120"/>
              <a:ext cx="1800" cy="344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9720" y="3076560"/>
              <a:ext cx="189000" cy="73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183200" y="3054240"/>
              <a:ext cx="2880" cy="206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4366800" y="1414440"/>
              <a:ext cx="252360" cy="130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545000" y="1263240"/>
              <a:ext cx="1440" cy="373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91040" y="1039320"/>
              <a:ext cx="1440" cy="55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19720" y="1022400"/>
              <a:ext cx="352440" cy="108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4186080" y="884160"/>
              <a:ext cx="797040" cy="393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616280" y="1195560"/>
              <a:ext cx="1584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632120" y="1192320"/>
              <a:ext cx="1440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646520" y="1066320"/>
              <a:ext cx="247680" cy="125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4894200" y="1061640"/>
              <a:ext cx="1440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887720" y="1055880"/>
              <a:ext cx="2088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>
              <a:off x="4557240" y="955440"/>
              <a:ext cx="1764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544640" y="955800"/>
              <a:ext cx="12600" cy="6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293720" y="961920"/>
              <a:ext cx="250920" cy="122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79680" y="1084320"/>
              <a:ext cx="14040" cy="4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4280040" y="1089000"/>
              <a:ext cx="1728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16160" y="1441440"/>
              <a:ext cx="317520" cy="103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72040" y="1306440"/>
              <a:ext cx="2880" cy="3747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632120" y="1604880"/>
              <a:ext cx="1440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13400" y="1604880"/>
              <a:ext cx="18720" cy="6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56040" y="1192320"/>
              <a:ext cx="79200" cy="25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flipV="1">
              <a:off x="4172040" y="1074240"/>
              <a:ext cx="2880" cy="78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649760" y="1411200"/>
              <a:ext cx="325440" cy="103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4761000" y="1103400"/>
              <a:ext cx="244440" cy="125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72160" y="1130400"/>
              <a:ext cx="344160" cy="1029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186080" y="929880"/>
              <a:ext cx="24948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094280" y="922320"/>
              <a:ext cx="325440" cy="100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08680" y="1384200"/>
              <a:ext cx="241200" cy="130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5127480" y="1262160"/>
              <a:ext cx="5040" cy="371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514680" y="1733400"/>
              <a:ext cx="255600" cy="130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3547800" y="1719000"/>
              <a:ext cx="190440" cy="66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499920" y="1889280"/>
              <a:ext cx="3240" cy="133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59160" y="2014560"/>
              <a:ext cx="93600" cy="34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333680" y="1703520"/>
              <a:ext cx="135000" cy="71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427720" y="1644840"/>
              <a:ext cx="1260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8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273640" y="1593720"/>
              <a:ext cx="328680" cy="106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880" y="1608120"/>
              <a:ext cx="328680" cy="1033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94400" y="1697040"/>
              <a:ext cx="11160" cy="144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9"/>
                  </a:move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 flipV="1">
              <a:off x="5262480" y="1593720"/>
              <a:ext cx="331920" cy="1065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15922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7"/>
                  </a:lnTo>
                  <a:lnTo>
                    <a:pt x="7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400560" y="2449440"/>
              <a:ext cx="15840" cy="255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16"/>
                  </a:moveTo>
                  <a:lnTo>
                    <a:pt x="7" y="14"/>
                  </a:lnTo>
                  <a:lnTo>
                    <a:pt x="3" y="9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592440" y="253512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7" y="9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08480" y="2475000"/>
              <a:ext cx="311040" cy="115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16400" y="2475000"/>
              <a:ext cx="306360" cy="1141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19520" y="2583000"/>
              <a:ext cx="3240" cy="792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4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flipV="1">
              <a:off x="3403080" y="2463480"/>
              <a:ext cx="319320" cy="119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403440" y="2463840"/>
              <a:ext cx="1296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83120" y="2730600"/>
              <a:ext cx="19080" cy="15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"/>
                  </a:moveTo>
                  <a:lnTo>
                    <a:pt x="7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083120" y="2734920"/>
              <a:ext cx="19080" cy="1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05160" y="276552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83120" y="2730600"/>
              <a:ext cx="328680" cy="1220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02200" y="2732040"/>
              <a:ext cx="32040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08560" y="2841480"/>
              <a:ext cx="14040" cy="129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7"/>
                  </a:move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 flipV="1">
              <a:off x="4068720" y="2712600"/>
              <a:ext cx="339840" cy="1285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68720" y="2712960"/>
              <a:ext cx="33480" cy="1908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12"/>
                  </a:moveTo>
                  <a:lnTo>
                    <a:pt x="14" y="12"/>
                  </a:lnTo>
                  <a:lnTo>
                    <a:pt x="11" y="11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49680" y="2763720"/>
              <a:ext cx="19080" cy="1296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435560" y="2700000"/>
              <a:ext cx="252360" cy="152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422600" y="2701440"/>
              <a:ext cx="252720" cy="1508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675320" y="2689200"/>
              <a:ext cx="18720" cy="126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438440" y="2689200"/>
              <a:ext cx="255600" cy="149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422600" y="2838600"/>
              <a:ext cx="1584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3" y="10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675320" y="2671920"/>
              <a:ext cx="12600" cy="2988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3" y="16"/>
                  </a:lnTo>
                  <a:lnTo>
                    <a:pt x="7" y="11"/>
                  </a:lnTo>
                  <a:lnTo>
                    <a:pt x="8" y="5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14840" y="217476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3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10" y="3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3677760" y="1941120"/>
              <a:ext cx="41400" cy="176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3669840" y="1941120"/>
              <a:ext cx="49320" cy="190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70200" y="193824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1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82800" y="1955880"/>
              <a:ext cx="36720" cy="11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22600" y="200808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3393720" y="1944720"/>
              <a:ext cx="261720" cy="1332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3405240" y="1941480"/>
              <a:ext cx="264960" cy="136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92280" y="20750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392280" y="1955520"/>
              <a:ext cx="260640" cy="135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652920" y="1941480"/>
              <a:ext cx="1728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585960" y="2146320"/>
              <a:ext cx="1440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97320" y="2089080"/>
              <a:ext cx="314280" cy="1126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05240" y="2077920"/>
              <a:ext cx="309600" cy="1112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711600" y="2189160"/>
              <a:ext cx="4680" cy="3348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2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3" y="2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 flipV="1">
              <a:off x="3392280" y="2104560"/>
              <a:ext cx="324000" cy="117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392280" y="2077920"/>
              <a:ext cx="12960" cy="2700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17"/>
                  </a:moveTo>
                  <a:lnTo>
                    <a:pt x="1" y="12"/>
                  </a:lnTo>
                  <a:lnTo>
                    <a:pt x="3" y="7"/>
                  </a:lnTo>
                  <a:lnTo>
                    <a:pt x="5" y="3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11640" y="2227320"/>
              <a:ext cx="15840" cy="284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4086360" y="2171880"/>
              <a:ext cx="25848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4096800" y="2182680"/>
              <a:ext cx="258840" cy="144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079880" y="2300400"/>
              <a:ext cx="17280" cy="270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17"/>
                  </a:moveTo>
                  <a:lnTo>
                    <a:pt x="7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4079880" y="2157120"/>
              <a:ext cx="258840" cy="142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338720" y="2157480"/>
              <a:ext cx="17280" cy="252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7" y="14"/>
                  </a:lnTo>
                  <a:lnTo>
                    <a:pt x="4" y="9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201920" y="2368440"/>
              <a:ext cx="14400" cy="2880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6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78080" y="2335320"/>
              <a:ext cx="333720" cy="120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97160" y="2327400"/>
              <a:ext cx="32544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408560" y="2444760"/>
              <a:ext cx="14040" cy="270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4067280" y="2349360"/>
              <a:ext cx="341280" cy="122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067280" y="2327400"/>
              <a:ext cx="29880" cy="2196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0"/>
                  </a:moveTo>
                  <a:lnTo>
                    <a:pt x="14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9680" y="2368440"/>
              <a:ext cx="19080" cy="2880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2"/>
                  </a:lnTo>
                  <a:lnTo>
                    <a:pt x="9" y="7"/>
                  </a:lnTo>
                  <a:lnTo>
                    <a:pt x="11" y="13"/>
                  </a:lnTo>
                  <a:lnTo>
                    <a:pt x="12" y="1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435560" y="2307960"/>
              <a:ext cx="255600" cy="144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422600" y="2297160"/>
              <a:ext cx="254160" cy="1476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76760" y="2297160"/>
              <a:ext cx="20520" cy="2556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6" y="2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3" y="16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4438080" y="2322720"/>
              <a:ext cx="258840" cy="1458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422600" y="2444760"/>
              <a:ext cx="15840" cy="2376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0"/>
                  </a:lnTo>
                  <a:lnTo>
                    <a:pt x="8" y="7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475160" y="222264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9" y="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 flipV="1">
              <a:off x="4357440" y="2179800"/>
              <a:ext cx="330120" cy="1173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 flipV="1">
              <a:off x="4355640" y="2182680"/>
              <a:ext cx="320760" cy="1144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352760" y="2179800"/>
              <a:ext cx="5040" cy="936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352760" y="2189160"/>
              <a:ext cx="338400" cy="11916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676760" y="229392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694040" y="2502000"/>
              <a:ext cx="3348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0" y="2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3386160" y="1103400"/>
              <a:ext cx="2454120" cy="2016000"/>
              <a:chOff x="3386160" y="1103400"/>
              <a:chExt cx="2454120" cy="2016000"/>
            </a:xfrm>
          </p:grpSpPr>
          <p:sp>
            <p:nvSpPr>
              <p:cNvPr id="247" name=""/>
              <p:cNvSpPr/>
              <p:nvPr/>
            </p:nvSpPr>
            <p:spPr>
              <a:xfrm flipV="1">
                <a:off x="4708440" y="2319480"/>
                <a:ext cx="180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V="1">
                <a:off x="4694400" y="2322720"/>
                <a:ext cx="2880" cy="366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697280" y="231948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4723920" y="2322720"/>
                <a:ext cx="3240" cy="363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694400" y="2683080"/>
                <a:ext cx="29880" cy="612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78120" y="1941480"/>
                <a:ext cx="504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691160" y="249084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4704840" y="2311560"/>
                <a:ext cx="32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4687560" y="2308320"/>
                <a:ext cx="32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687920" y="267192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2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4721400" y="2308320"/>
                <a:ext cx="288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91160" y="2308320"/>
                <a:ext cx="3312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649680" y="194148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9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392640" y="2271960"/>
                <a:ext cx="4680" cy="140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 flipV="1">
                <a:off x="3386160" y="2100240"/>
                <a:ext cx="7920" cy="3571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3392640" y="2090880"/>
                <a:ext cx="7920" cy="358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386160" y="209088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392640" y="2105280"/>
                <a:ext cx="11160" cy="358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394080" y="244944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408560" y="265608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V="1">
                <a:off x="4424400" y="2474640"/>
                <a:ext cx="144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4408560" y="2471760"/>
                <a:ext cx="144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408560" y="246852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438800" y="2468520"/>
                <a:ext cx="144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408560" y="283860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6" y="3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737160" y="27939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733920" y="2613240"/>
                <a:ext cx="4680" cy="363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3738600" y="2616120"/>
                <a:ext cx="648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738600" y="2968560"/>
                <a:ext cx="93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 flipV="1">
                <a:off x="3741480" y="2611080"/>
                <a:ext cx="612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733920" y="261144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745080" y="296856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7" y="14"/>
                    </a:lnTo>
                    <a:lnTo>
                      <a:pt x="3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986280" y="166680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855960" y="1719360"/>
                <a:ext cx="15840" cy="172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727440" y="1658880"/>
                <a:ext cx="26352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722760" y="1670040"/>
                <a:ext cx="263520" cy="135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722760" y="1789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2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738600" y="1656000"/>
                <a:ext cx="26352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86280" y="16560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22760" y="19893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716280" y="1811520"/>
                <a:ext cx="9720" cy="37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722760" y="1805040"/>
                <a:ext cx="792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26000" y="2175120"/>
                <a:ext cx="7920" cy="331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" y="16"/>
                    </a:lnTo>
                    <a:lnTo>
                      <a:pt x="5" y="2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 flipV="1">
                <a:off x="3726000" y="1815840"/>
                <a:ext cx="7920" cy="392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719520" y="180504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56120" y="292428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68720" y="2741760"/>
                <a:ext cx="3240" cy="366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83120" y="2746440"/>
                <a:ext cx="6480" cy="355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56120" y="310212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5" y="4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 flipV="1">
                <a:off x="4052520" y="2727360"/>
                <a:ext cx="3240" cy="37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052880" y="2727360"/>
                <a:ext cx="30240" cy="1908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12"/>
                    </a:moveTo>
                    <a:lnTo>
                      <a:pt x="12" y="9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197240" y="302760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3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083120" y="2963880"/>
                <a:ext cx="252360" cy="152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4089600" y="2952360"/>
                <a:ext cx="252360" cy="149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324320" y="2952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4068720" y="2963880"/>
                <a:ext cx="255600" cy="152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68720" y="3102120"/>
                <a:ext cx="2088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9"/>
                    </a:moveTo>
                    <a:lnTo>
                      <a:pt x="6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4344840" y="2827440"/>
                <a:ext cx="1800" cy="115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4341960" y="2827440"/>
                <a:ext cx="1440" cy="12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335480" y="2824200"/>
                <a:ext cx="324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338720" y="2935440"/>
                <a:ext cx="6120" cy="172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1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334040" y="19591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4341960" y="1781280"/>
                <a:ext cx="2880" cy="37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4338720" y="1788840"/>
                <a:ext cx="144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34040" y="17748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334040" y="1774800"/>
                <a:ext cx="1440" cy="38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335480" y="215748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189320" y="183060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H="1">
                <a:off x="4071960" y="1771560"/>
                <a:ext cx="262080" cy="136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H="1">
                <a:off x="4078080" y="1789200"/>
                <a:ext cx="260280" cy="136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057560" y="1900440"/>
                <a:ext cx="20880" cy="2520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6"/>
                    </a:moveTo>
                    <a:lnTo>
                      <a:pt x="11" y="10"/>
                    </a:lnTo>
                    <a:lnTo>
                      <a:pt x="9" y="7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4057560" y="1760760"/>
                <a:ext cx="262080" cy="139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19640" y="176076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0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6400" y="2113200"/>
                <a:ext cx="32040" cy="288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0"/>
                    </a:moveTo>
                    <a:lnTo>
                      <a:pt x="16" y="2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060800" y="1930320"/>
                <a:ext cx="3240" cy="382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078440" y="1925640"/>
                <a:ext cx="144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046400" y="2300400"/>
                <a:ext cx="3348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0"/>
                    </a:moveTo>
                    <a:lnTo>
                      <a:pt x="16" y="5"/>
                    </a:lnTo>
                    <a:lnTo>
                      <a:pt x="13" y="8"/>
                    </a:lnTo>
                    <a:lnTo>
                      <a:pt x="7" y="10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044960" y="1927440"/>
                <a:ext cx="1440" cy="39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044960" y="192564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7" y="3"/>
                    </a:lnTo>
                    <a:lnTo>
                      <a:pt x="14" y="3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24320" y="296388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4338720" y="29354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175280" y="1692360"/>
                <a:ext cx="14040" cy="30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2"/>
                    </a:lnTo>
                    <a:lnTo>
                      <a:pt x="2" y="8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022640" y="1652760"/>
                <a:ext cx="316080" cy="10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4016520" y="1670040"/>
                <a:ext cx="317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34040" y="17478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2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 flipV="1">
                <a:off x="4033440" y="1641240"/>
                <a:ext cx="312840" cy="10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016520" y="1641600"/>
                <a:ext cx="17280" cy="2844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4160880" y="16812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 flipV="1">
                <a:off x="4013280" y="1644480"/>
                <a:ext cx="317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4002120" y="1655640"/>
                <a:ext cx="317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002120" y="162720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4016520" y="1627200"/>
                <a:ext cx="317520" cy="106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319640" y="17337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882960" y="18446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6" y="3"/>
                    </a:lnTo>
                    <a:lnTo>
                      <a:pt x="4" y="7"/>
                    </a:lnTo>
                    <a:lnTo>
                      <a:pt x="2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30680" y="1800360"/>
                <a:ext cx="31572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3738600" y="1789200"/>
                <a:ext cx="31896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044960" y="190044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 flipV="1">
                <a:off x="3726000" y="1815840"/>
                <a:ext cx="31896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726000" y="17892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4"/>
                    </a:lnTo>
                    <a:lnTo>
                      <a:pt x="3" y="9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900600" y="30434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2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753000" y="2997360"/>
                <a:ext cx="30780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747960" y="2986200"/>
                <a:ext cx="3081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056120" y="310536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 flipV="1">
                <a:off x="3760560" y="2997000"/>
                <a:ext cx="30780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747960" y="2986200"/>
                <a:ext cx="1296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4808520" y="198288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97480" y="1859040"/>
                <a:ext cx="1404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5" y="14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86480" y="193356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502160" y="1882800"/>
                <a:ext cx="30636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11520" y="1882800"/>
                <a:ext cx="29700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808520" y="197820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 flipV="1">
                <a:off x="4500720" y="1871640"/>
                <a:ext cx="312480" cy="106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00720" y="1871640"/>
                <a:ext cx="1080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H="1">
                <a:off x="5346720" y="1589040"/>
                <a:ext cx="55440" cy="30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5365800" y="1596960"/>
                <a:ext cx="47520" cy="2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5324400" y="1571760"/>
                <a:ext cx="71640" cy="39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396040" y="157176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6" y="14"/>
                    </a:lnTo>
                    <a:lnTo>
                      <a:pt x="4" y="11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16720" y="17607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V="1">
                <a:off x="5613480" y="1704600"/>
                <a:ext cx="125280" cy="73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5613480" y="1696680"/>
                <a:ext cx="114120" cy="63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727600" y="169704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5613120" y="1722600"/>
                <a:ext cx="129960" cy="7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527800" y="163368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 flipH="1" flipV="1">
                <a:off x="5412960" y="1594080"/>
                <a:ext cx="322200" cy="10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 flipV="1">
                <a:off x="5412960" y="1596960"/>
                <a:ext cx="31428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407200" y="1596960"/>
                <a:ext cx="612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407200" y="1604880"/>
                <a:ext cx="33156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727600" y="16938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732640" y="1882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V="1">
                <a:off x="5740560" y="1714320"/>
                <a:ext cx="6120" cy="207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 flipV="1">
                <a:off x="5735520" y="1722240"/>
                <a:ext cx="7920" cy="199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738760" y="17082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 flipH="1">
                <a:off x="5729400" y="1708200"/>
                <a:ext cx="9360" cy="211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467240" y="168912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 flipV="1">
                <a:off x="4483080" y="1681200"/>
                <a:ext cx="1800" cy="179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4497480" y="1671840"/>
                <a:ext cx="1440" cy="187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467240" y="1689120"/>
                <a:ext cx="1440" cy="171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467240" y="185904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2" y="3"/>
                    </a:lnTo>
                    <a:lnTo>
                      <a:pt x="7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468680" y="170028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483080" y="1681200"/>
                <a:ext cx="1800" cy="189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500720" y="1671840"/>
                <a:ext cx="1440" cy="199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468680" y="1870200"/>
                <a:ext cx="3204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 flipV="1">
                <a:off x="4468680" y="1685880"/>
                <a:ext cx="1800" cy="185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19680" y="217800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 flipH="1">
                <a:off x="4819680" y="2005200"/>
                <a:ext cx="1440" cy="239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 flipH="1">
                <a:off x="4820760" y="2008440"/>
                <a:ext cx="3240" cy="233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 flipV="1">
                <a:off x="4827600" y="2003040"/>
                <a:ext cx="3240" cy="235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1120" y="2003400"/>
                <a:ext cx="972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64120" y="111780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1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 flipH="1">
                <a:off x="5052960" y="1106640"/>
                <a:ext cx="15840" cy="7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V="1">
                <a:off x="5057640" y="1106280"/>
                <a:ext cx="22320" cy="11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64120" y="110664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396040" y="1386000"/>
                <a:ext cx="936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 flipV="1">
                <a:off x="5399280" y="1217880"/>
                <a:ext cx="7920" cy="3571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 flipV="1">
                <a:off x="5396040" y="1222560"/>
                <a:ext cx="9360" cy="349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399280" y="1211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390640" y="1211400"/>
                <a:ext cx="8280" cy="3697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391000" y="1571760"/>
                <a:ext cx="8280" cy="93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73640" y="125892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254560" y="1208160"/>
                <a:ext cx="144720" cy="76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254200" y="1222560"/>
                <a:ext cx="150840" cy="81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5257800" y="1197000"/>
                <a:ext cx="130320" cy="69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88120" y="1197000"/>
                <a:ext cx="1728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4"/>
                    </a:lnTo>
                    <a:lnTo>
                      <a:pt x="7" y="7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232600" y="1150920"/>
                <a:ext cx="14040" cy="1296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8"/>
                    </a:moveTo>
                    <a:lnTo>
                      <a:pt x="7" y="5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087880" y="1106640"/>
                <a:ext cx="30816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091120" y="1117800"/>
                <a:ext cx="30816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388120" y="11970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 flipV="1">
                <a:off x="5079960" y="1106280"/>
                <a:ext cx="308160" cy="90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079960" y="110340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307120" y="2667240"/>
                <a:ext cx="1404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5"/>
                    </a:lnTo>
                    <a:lnTo>
                      <a:pt x="9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21400" y="267192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88080" y="274644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7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4730760" y="2697120"/>
                <a:ext cx="324000" cy="122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4738680" y="2697120"/>
                <a:ext cx="3268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052960" y="2805120"/>
                <a:ext cx="1260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5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 flipV="1">
                <a:off x="4723920" y="2685600"/>
                <a:ext cx="3286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724280" y="26859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5" y="9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219640" y="27082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3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V="1">
                <a:off x="5079960" y="2660760"/>
                <a:ext cx="247680" cy="155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5065560" y="2667240"/>
                <a:ext cx="24156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307120" y="2646360"/>
                <a:ext cx="33120" cy="2088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3"/>
                    </a:moveTo>
                    <a:lnTo>
                      <a:pt x="7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 flipH="1">
                <a:off x="5086080" y="2646360"/>
                <a:ext cx="253800" cy="158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065560" y="2805120"/>
                <a:ext cx="20880" cy="1440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583240" y="24894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680080" y="24242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3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>
                <a:off x="5602320" y="2346120"/>
                <a:ext cx="233280" cy="144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V="1">
                <a:off x="5595840" y="2349720"/>
                <a:ext cx="225720" cy="139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21560" y="2335320"/>
                <a:ext cx="1872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5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>
                <a:off x="5601960" y="2335320"/>
                <a:ext cx="237960" cy="147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595840" y="248292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21560" y="232272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9" y="5"/>
                    </a:lnTo>
                    <a:lnTo>
                      <a:pt x="7" y="8"/>
                    </a:lnTo>
                    <a:lnTo>
                      <a:pt x="4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153040" y="217800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5"/>
                    </a:lnTo>
                    <a:lnTo>
                      <a:pt x="7" y="10"/>
                    </a:lnTo>
                    <a:lnTo>
                      <a:pt x="8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 flipH="1" flipV="1">
                <a:off x="4998600" y="2138400"/>
                <a:ext cx="328680" cy="114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 flipH="1" flipV="1">
                <a:off x="4987800" y="2149560"/>
                <a:ext cx="330480" cy="114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4987800" y="21225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002200" y="2122560"/>
                <a:ext cx="330120" cy="112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318280" y="2235240"/>
                <a:ext cx="1404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6" y="9"/>
                    </a:lnTo>
                    <a:lnTo>
                      <a:pt x="7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4880160" y="2202120"/>
                <a:ext cx="1872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>
                <a:off x="4730400" y="2149560"/>
                <a:ext cx="252360" cy="144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>
                <a:off x="4741560" y="2149560"/>
                <a:ext cx="245880" cy="144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447" name=""/>
            <p:cNvGrpSpPr/>
            <p:nvPr/>
          </p:nvGrpSpPr>
          <p:grpSpPr>
            <a:xfrm>
              <a:off x="3619440" y="1158480"/>
              <a:ext cx="2238480" cy="2173680"/>
              <a:chOff x="3619440" y="1158480"/>
              <a:chExt cx="2238480" cy="2173680"/>
            </a:xfrm>
          </p:grpSpPr>
          <p:sp>
            <p:nvSpPr>
              <p:cNvPr id="448" name=""/>
              <p:cNvSpPr/>
              <p:nvPr/>
            </p:nvSpPr>
            <p:spPr>
              <a:xfrm>
                <a:off x="4724280" y="229068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V="1">
                <a:off x="4724280" y="2157120"/>
                <a:ext cx="26208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983120" y="214632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057640" y="2408040"/>
                <a:ext cx="14400" cy="30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0"/>
                    </a:moveTo>
                    <a:lnTo>
                      <a:pt x="5" y="3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727520" y="229392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227560" y="231624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5" y="4"/>
                    </a:lnTo>
                    <a:lnTo>
                      <a:pt x="8" y="7"/>
                    </a:lnTo>
                    <a:lnTo>
                      <a:pt x="10" y="12"/>
                    </a:lnTo>
                    <a:lnTo>
                      <a:pt x="12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 flipV="1">
                <a:off x="5086440" y="2268000"/>
                <a:ext cx="25236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V="1">
                <a:off x="5072040" y="2263320"/>
                <a:ext cx="245880" cy="144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17920" y="2263680"/>
                <a:ext cx="32040" cy="1908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6" y="0"/>
                    </a:lnTo>
                    <a:lnTo>
                      <a:pt x="11" y="2"/>
                    </a:lnTo>
                    <a:lnTo>
                      <a:pt x="16" y="7"/>
                    </a:lnTo>
                    <a:lnTo>
                      <a:pt x="20" y="1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090760" y="2282760"/>
                <a:ext cx="258840" cy="152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072040" y="240804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9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595840" y="2077920"/>
                <a:ext cx="11160" cy="158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8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694480" y="204156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V="1">
                <a:off x="5613480" y="1966680"/>
                <a:ext cx="236520" cy="137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V="1">
                <a:off x="5607000" y="1955520"/>
                <a:ext cx="228600" cy="135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35600" y="1955880"/>
                <a:ext cx="1908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5" y="2"/>
                    </a:lnTo>
                    <a:lnTo>
                      <a:pt x="9" y="7"/>
                    </a:lnTo>
                    <a:lnTo>
                      <a:pt x="10" y="10"/>
                    </a:lnTo>
                    <a:lnTo>
                      <a:pt x="12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5613480" y="1981080"/>
                <a:ext cx="241200" cy="142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607000" y="209088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0" y="0"/>
                    </a:moveTo>
                    <a:lnTo>
                      <a:pt x="4" y="6"/>
                    </a:lnTo>
                    <a:lnTo>
                      <a:pt x="4" y="11"/>
                    </a:lnTo>
                    <a:lnTo>
                      <a:pt x="4" y="16"/>
                    </a:lnTo>
                    <a:lnTo>
                      <a:pt x="4" y="2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673600" y="1900080"/>
                <a:ext cx="11160" cy="144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flipV="1">
                <a:off x="5609880" y="1881000"/>
                <a:ext cx="236520" cy="74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 flipV="1">
                <a:off x="5610240" y="1882440"/>
                <a:ext cx="225360" cy="73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610240" y="1892160"/>
                <a:ext cx="239760" cy="74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35600" y="19526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7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54400" y="2622600"/>
                <a:ext cx="3348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 flipV="1">
                <a:off x="5068800" y="2438280"/>
                <a:ext cx="648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V="1">
                <a:off x="5052960" y="2437920"/>
                <a:ext cx="468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57640" y="2435040"/>
                <a:ext cx="334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5086080" y="2435040"/>
                <a:ext cx="468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52960" y="280512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40280" y="214632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7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5843520" y="1974600"/>
                <a:ext cx="1440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V="1">
                <a:off x="5840280" y="1981080"/>
                <a:ext cx="14400" cy="354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50000" y="19670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5835600" y="1967040"/>
                <a:ext cx="14400" cy="355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35600" y="2322360"/>
                <a:ext cx="7920" cy="1296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2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316480" y="285444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5328720" y="2671560"/>
                <a:ext cx="972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5313240" y="2679840"/>
                <a:ext cx="7920" cy="355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313240" y="303192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V="1">
                <a:off x="5343480" y="2657520"/>
                <a:ext cx="792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321160" y="26575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5" y="11"/>
                    </a:lnTo>
                    <a:lnTo>
                      <a:pt x="11" y="9"/>
                    </a:lnTo>
                    <a:lnTo>
                      <a:pt x="16" y="6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153040" y="297504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 flipV="1">
                <a:off x="4997520" y="2926800"/>
                <a:ext cx="3189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 flipH="1" flipV="1">
                <a:off x="4990680" y="2916360"/>
                <a:ext cx="32220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4991040" y="291636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05440" y="2927160"/>
                <a:ext cx="32220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313240" y="303516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997520" y="192708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3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4994280" y="1749240"/>
                <a:ext cx="4680" cy="37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flipV="1">
                <a:off x="5002200" y="1755360"/>
                <a:ext cx="6480" cy="36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998960" y="1741320"/>
                <a:ext cx="9720" cy="1440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4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998960" y="1741320"/>
                <a:ext cx="6480" cy="38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994280" y="212256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175360" y="178128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013360" y="1738440"/>
                <a:ext cx="330120" cy="10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08680" y="1755720"/>
                <a:ext cx="331560" cy="108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40240" y="18367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 flipH="1" flipV="1">
                <a:off x="5021280" y="1727280"/>
                <a:ext cx="333360" cy="10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008680" y="172728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5560" y="204768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 flipH="1">
                <a:off x="5349960" y="1866960"/>
                <a:ext cx="7920" cy="379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 flipH="1">
                <a:off x="5332320" y="1863720"/>
                <a:ext cx="792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332320" y="2235240"/>
                <a:ext cx="30240" cy="172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0"/>
                    </a:moveTo>
                    <a:lnTo>
                      <a:pt x="5" y="6"/>
                    </a:lnTo>
                    <a:lnTo>
                      <a:pt x="12" y="9"/>
                    </a:lnTo>
                    <a:lnTo>
                      <a:pt x="19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flipV="1">
                <a:off x="5362560" y="1860120"/>
                <a:ext cx="9360" cy="392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340240" y="1860480"/>
                <a:ext cx="31680" cy="648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4" y="4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576760" y="26938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 flipH="1">
                <a:off x="5579640" y="2512800"/>
                <a:ext cx="11160" cy="362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 flipH="1">
                <a:off x="5571720" y="2516040"/>
                <a:ext cx="1116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572080" y="28684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 flipV="1">
                <a:off x="5576760" y="2511360"/>
                <a:ext cx="1116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583240" y="2511360"/>
                <a:ext cx="7920" cy="468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557680" y="2868480"/>
                <a:ext cx="14400" cy="2880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3" y="14"/>
                    </a:lnTo>
                    <a:lnTo>
                      <a:pt x="7" y="9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246640" y="160488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3722760" y="258912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  <a:lnTo>
                      <a:pt x="9" y="12"/>
                    </a:lnTo>
                    <a:lnTo>
                      <a:pt x="1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599080" y="1897200"/>
                <a:ext cx="1116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H="1">
                <a:off x="5605560" y="1719360"/>
                <a:ext cx="10800" cy="374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 flipH="1">
                <a:off x="5595480" y="1711440"/>
                <a:ext cx="9720" cy="366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595840" y="2077920"/>
                <a:ext cx="9720" cy="3492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0" y="0"/>
                    </a:moveTo>
                    <a:lnTo>
                      <a:pt x="2" y="5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2" y="2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599080" y="1725480"/>
                <a:ext cx="11160" cy="38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605560" y="1711440"/>
                <a:ext cx="1080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9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986360" y="2924280"/>
                <a:ext cx="19080" cy="140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8" y="0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108400" y="164952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11"/>
                    </a:lnTo>
                    <a:lnTo>
                      <a:pt x="8" y="6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4998960" y="1593720"/>
                <a:ext cx="241200" cy="131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5005440" y="1608120"/>
                <a:ext cx="24120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227560" y="158256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4986360" y="1582560"/>
                <a:ext cx="241200" cy="131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986360" y="171432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8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127480" y="1633680"/>
                <a:ext cx="15840" cy="2664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 flipH="1">
                <a:off x="5010120" y="1582560"/>
                <a:ext cx="24120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 flipH="1">
                <a:off x="5021280" y="1593720"/>
                <a:ext cx="24120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005440" y="1700280"/>
                <a:ext cx="15840" cy="2700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5005440" y="1569960"/>
                <a:ext cx="241200" cy="130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246640" y="15699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7" y="14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473800" y="176688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6" y="2"/>
                    </a:lnTo>
                    <a:lnTo>
                      <a:pt x="9" y="7"/>
                    </a:lnTo>
                    <a:lnTo>
                      <a:pt x="11" y="10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 flipV="1">
                <a:off x="5369040" y="1707840"/>
                <a:ext cx="237960" cy="136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 flipV="1">
                <a:off x="5354640" y="1699920"/>
                <a:ext cx="239760" cy="136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594400" y="1700280"/>
                <a:ext cx="15840" cy="2520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5"/>
                    </a:lnTo>
                    <a:lnTo>
                      <a:pt x="10" y="10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 flipH="1">
                <a:off x="5371920" y="1725480"/>
                <a:ext cx="238320" cy="135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354640" y="1836720"/>
                <a:ext cx="17280" cy="2376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443560" y="295740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11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 flipV="1">
                <a:off x="5338800" y="2894040"/>
                <a:ext cx="23328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 flipV="1">
                <a:off x="5343480" y="2882880"/>
                <a:ext cx="23328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557680" y="28828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5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 flipH="1">
                <a:off x="5327280" y="2897280"/>
                <a:ext cx="23004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327640" y="303192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3" y="9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3770280" y="1708200"/>
                <a:ext cx="12600" cy="2520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7" y="5"/>
                    </a:lnTo>
                    <a:lnTo>
                      <a:pt x="5" y="9"/>
                    </a:lnTo>
                    <a:lnTo>
                      <a:pt x="3" y="14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 flipH="1" flipV="1">
                <a:off x="3630240" y="1671480"/>
                <a:ext cx="196920" cy="66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 flipH="1" flipV="1">
                <a:off x="3637080" y="1658520"/>
                <a:ext cx="210960" cy="71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3622680" y="1658880"/>
                <a:ext cx="14400" cy="2376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0"/>
                    </a:moveTo>
                    <a:lnTo>
                      <a:pt x="7" y="3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3622680" y="1682640"/>
                <a:ext cx="189000" cy="66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3625920" y="1514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8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3619440" y="1296720"/>
                <a:ext cx="7920" cy="363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 flipH="1" flipV="1">
                <a:off x="3627000" y="1306080"/>
                <a:ext cx="9720" cy="352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622680" y="1292040"/>
                <a:ext cx="4680" cy="1440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25920" y="1292040"/>
                <a:ext cx="792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627360" y="1658880"/>
                <a:ext cx="972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774960" y="13255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630600" y="1289160"/>
                <a:ext cx="29988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627360" y="1306440"/>
                <a:ext cx="29844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3925800" y="1374840"/>
                <a:ext cx="12600" cy="2844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 flipV="1">
                <a:off x="3641760" y="1277640"/>
                <a:ext cx="29664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627360" y="1278000"/>
                <a:ext cx="1440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27240" y="1625400"/>
                <a:ext cx="3204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41640" y="1403280"/>
                <a:ext cx="6480" cy="277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925800" y="1403280"/>
                <a:ext cx="4680" cy="285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flipH="1" flipV="1">
                <a:off x="3955680" y="1400040"/>
                <a:ext cx="4680" cy="271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3925800" y="140004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3875040" y="117000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3900600" y="1158840"/>
                <a:ext cx="48960" cy="15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05280" y="1173240"/>
                <a:ext cx="44280" cy="12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 flipV="1">
                <a:off x="3891960" y="1158480"/>
                <a:ext cx="57240" cy="19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892320" y="1158840"/>
                <a:ext cx="1296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749760" y="1217520"/>
                <a:ext cx="1728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2" y="5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3630600" y="1161720"/>
                <a:ext cx="2509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V="1">
                <a:off x="3625920" y="1173240"/>
                <a:ext cx="24912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3875040" y="1158840"/>
                <a:ext cx="1728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3641760" y="1158840"/>
                <a:ext cx="25056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3625920" y="12780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938400" y="136188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4" y="8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3956040" y="1388880"/>
                <a:ext cx="22320" cy="11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956040" y="13860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10160" y="2994120"/>
                <a:ext cx="31680" cy="468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2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4624200" y="2820600"/>
                <a:ext cx="324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4641840" y="2824200"/>
                <a:ext cx="1440" cy="341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613040" y="2820960"/>
                <a:ext cx="3024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4610160" y="2827440"/>
                <a:ext cx="2880" cy="341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610160" y="3163680"/>
                <a:ext cx="31680" cy="504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1"/>
                    </a:moveTo>
                    <a:lnTo>
                      <a:pt x="14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757760" y="284148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38600" y="2805120"/>
                <a:ext cx="32220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43280" y="2824200"/>
                <a:ext cx="311400" cy="11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954680" y="291312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 flipV="1">
                <a:off x="4638240" y="2790720"/>
                <a:ext cx="330120" cy="122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638600" y="2790720"/>
                <a:ext cx="4680" cy="334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952880" y="311292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5" y="2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965480" y="2943360"/>
                <a:ext cx="6480" cy="344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4952520" y="2941560"/>
                <a:ext cx="180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952880" y="3286080"/>
                <a:ext cx="3024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0"/>
                    </a:moveTo>
                    <a:lnTo>
                      <a:pt x="3" y="1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4983120" y="2938320"/>
                <a:ext cx="3240" cy="347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54680" y="2938320"/>
                <a:ext cx="31680" cy="504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54520" y="320976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 flipV="1">
                <a:off x="4635000" y="3174840"/>
                <a:ext cx="319320" cy="122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 flipV="1">
                <a:off x="4641840" y="3165120"/>
                <a:ext cx="311040" cy="120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35360" y="3165480"/>
                <a:ext cx="6480" cy="936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638600" y="3171960"/>
                <a:ext cx="325440" cy="12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4952880" y="328608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7"/>
                    </a:moveTo>
                    <a:lnTo>
                      <a:pt x="5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413240" y="2827440"/>
                <a:ext cx="11160" cy="2520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7" y="3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19640" y="3009960"/>
                <a:ext cx="1440" cy="11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210280" y="3008160"/>
                <a:ext cx="1440" cy="111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210280" y="3119400"/>
                <a:ext cx="93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1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2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V="1">
                <a:off x="5213160" y="3007800"/>
                <a:ext cx="3240" cy="127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197320" y="311940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079960" y="3209760"/>
                <a:ext cx="19080" cy="1116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11" y="4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4976640" y="3146040"/>
                <a:ext cx="23184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V="1">
                <a:off x="4983120" y="3134880"/>
                <a:ext cx="23004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197320" y="3135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4964040" y="3146400"/>
                <a:ext cx="23328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964040" y="3286080"/>
                <a:ext cx="19080" cy="1260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5" y="8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024080" y="3102120"/>
                <a:ext cx="3240" cy="91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4030560" y="3105000"/>
                <a:ext cx="1800" cy="810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027320" y="3186000"/>
                <a:ext cx="792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4033800" y="3104640"/>
                <a:ext cx="1440" cy="96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030560" y="3186000"/>
                <a:ext cx="19080" cy="2700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475160" y="287496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10" y="10"/>
                    </a:lnTo>
                    <a:lnTo>
                      <a:pt x="7" y="7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4363920" y="2808360"/>
                <a:ext cx="249120" cy="149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4368240" y="2827440"/>
                <a:ext cx="244440" cy="147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4352760" y="2946240"/>
                <a:ext cx="15840" cy="288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9" y="12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4352760" y="2793600"/>
                <a:ext cx="255600" cy="152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08360" y="2793960"/>
                <a:ext cx="7920" cy="334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21"/>
                    </a:moveTo>
                    <a:lnTo>
                      <a:pt x="5" y="16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338720" y="3146400"/>
                <a:ext cx="2988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352760" y="2976480"/>
                <a:ext cx="3240" cy="347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4368600" y="2975040"/>
                <a:ext cx="1800" cy="344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338720" y="331956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3"/>
                    </a:lnTo>
                    <a:lnTo>
                      <a:pt x="11" y="3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V="1">
                <a:off x="4338720" y="2974680"/>
                <a:ext cx="1440" cy="345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4338720" y="2975040"/>
                <a:ext cx="29880" cy="468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4475160" y="32432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V="1">
                <a:off x="4363920" y="3176640"/>
                <a:ext cx="249120" cy="155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V="1">
                <a:off x="4368600" y="3168360"/>
                <a:ext cx="241560" cy="150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8360" y="3168720"/>
                <a:ext cx="4680" cy="792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4352760" y="3171960"/>
                <a:ext cx="255600" cy="160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352760" y="331956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3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3348000" y="836640"/>
              <a:ext cx="2495520" cy="2498760"/>
              <a:chOff x="3348000" y="836640"/>
              <a:chExt cx="2495520" cy="2498760"/>
            </a:xfrm>
          </p:grpSpPr>
          <p:sp>
            <p:nvSpPr>
              <p:cNvPr id="649" name=""/>
              <p:cNvSpPr/>
              <p:nvPr/>
            </p:nvSpPr>
            <p:spPr>
              <a:xfrm>
                <a:off x="4186080" y="326088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038480" y="3213000"/>
                <a:ext cx="3031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4035240" y="3201840"/>
                <a:ext cx="3034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338720" y="332100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 flipV="1">
                <a:off x="4049640" y="3212640"/>
                <a:ext cx="30312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35240" y="3201840"/>
                <a:ext cx="1440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6" y="7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263840" y="1106640"/>
                <a:ext cx="504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7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172040" y="114768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2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4013280" y="1100160"/>
                <a:ext cx="264960" cy="128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4011480" y="1117800"/>
                <a:ext cx="255600" cy="123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011480" y="1225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7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flipV="1">
                <a:off x="4027320" y="1095120"/>
                <a:ext cx="270000" cy="129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267080" y="109548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5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08240" y="142884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005360" y="1247760"/>
                <a:ext cx="288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011480" y="1241280"/>
                <a:ext cx="1800" cy="37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011480" y="1614600"/>
                <a:ext cx="4680" cy="126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 flipV="1">
                <a:off x="4013280" y="1255680"/>
                <a:ext cx="288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005360" y="124128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13280" y="161460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5"/>
                    </a:lnTo>
                    <a:lnTo>
                      <a:pt x="4" y="10"/>
                    </a:lnTo>
                    <a:lnTo>
                      <a:pt x="7" y="14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38520" y="96984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809960" y="851040"/>
                <a:ext cx="3204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7" y="0"/>
                    </a:lnTo>
                    <a:lnTo>
                      <a:pt x="13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660920" y="90792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568760" y="839880"/>
                <a:ext cx="247680" cy="119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4568760" y="852480"/>
                <a:ext cx="241200" cy="11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568760" y="9590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4575240" y="836640"/>
                <a:ext cx="252360" cy="125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809960" y="83664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619520" y="141120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4632120" y="1222200"/>
                <a:ext cx="3240" cy="3711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flipV="1">
                <a:off x="4619520" y="1228320"/>
                <a:ext cx="180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19520" y="122256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4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>
                <a:off x="4649400" y="1225440"/>
                <a:ext cx="3240" cy="371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619520" y="1593720"/>
                <a:ext cx="30240" cy="324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508640" y="1247760"/>
                <a:ext cx="18720" cy="2556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0"/>
                    </a:lnTo>
                    <a:lnTo>
                      <a:pt x="9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H="1">
                <a:off x="4360680" y="1206360"/>
                <a:ext cx="26064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flipH="1">
                <a:off x="4366800" y="1228680"/>
                <a:ext cx="252360" cy="127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346640" y="132876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17"/>
                    </a:moveTo>
                    <a:lnTo>
                      <a:pt x="11" y="12"/>
                    </a:lnTo>
                    <a:lnTo>
                      <a:pt x="9" y="7"/>
                    </a:lnTo>
                    <a:lnTo>
                      <a:pt x="6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V="1">
                <a:off x="4346640" y="1195560"/>
                <a:ext cx="26964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616280" y="1195560"/>
                <a:ext cx="5040" cy="331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2" y="21"/>
                    </a:moveTo>
                    <a:lnTo>
                      <a:pt x="3" y="15"/>
                    </a:lnTo>
                    <a:lnTo>
                      <a:pt x="3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333680" y="154476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49880" y="1359000"/>
                <a:ext cx="1440" cy="377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367160" y="1355760"/>
                <a:ext cx="144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333680" y="1730520"/>
                <a:ext cx="33480" cy="612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4" y="4"/>
                    </a:lnTo>
                    <a:lnTo>
                      <a:pt x="7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V="1">
                <a:off x="4333680" y="1355400"/>
                <a:ext cx="1800" cy="377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333680" y="1355760"/>
                <a:ext cx="33480" cy="324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508640" y="1647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V="1">
                <a:off x="4360680" y="1607760"/>
                <a:ext cx="258840" cy="1364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4367160" y="1596600"/>
                <a:ext cx="252360" cy="133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13400" y="1596960"/>
                <a:ext cx="6120" cy="1116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H="1">
                <a:off x="4346280" y="1604880"/>
                <a:ext cx="266760" cy="142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4346640" y="1730520"/>
                <a:ext cx="20520" cy="172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4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4916520" y="10746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5160960" y="950760"/>
                <a:ext cx="3240" cy="1774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5154480" y="955800"/>
                <a:ext cx="3240" cy="169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154480" y="944640"/>
                <a:ext cx="9720" cy="1116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H="1">
                <a:off x="5149440" y="944640"/>
                <a:ext cx="4680" cy="181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991040" y="100656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908240" y="939960"/>
                <a:ext cx="245880" cy="122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H="1">
                <a:off x="4920840" y="955800"/>
                <a:ext cx="23652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887720" y="1055880"/>
                <a:ext cx="33480" cy="187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1" y="12"/>
                    </a:moveTo>
                    <a:lnTo>
                      <a:pt x="18" y="7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4887720" y="929880"/>
                <a:ext cx="254160" cy="125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141880" y="930240"/>
                <a:ext cx="15840" cy="2556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6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983120" y="880920"/>
                <a:ext cx="14400" cy="162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835520" y="839880"/>
                <a:ext cx="314280" cy="90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842000" y="851040"/>
                <a:ext cx="31248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141880" y="928800"/>
                <a:ext cx="12600" cy="158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10"/>
                    </a:moveTo>
                    <a:lnTo>
                      <a:pt x="8" y="7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H="1" flipV="1">
                <a:off x="4827240" y="836640"/>
                <a:ext cx="314280" cy="9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827600" y="8366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9" y="7"/>
                    </a:lnTo>
                    <a:lnTo>
                      <a:pt x="9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72040" y="1278000"/>
                <a:ext cx="14040" cy="284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016160" y="1236600"/>
                <a:ext cx="31932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4027320" y="1225440"/>
                <a:ext cx="31932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333680" y="1328760"/>
                <a:ext cx="1296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 flipV="1">
                <a:off x="4013280" y="1255680"/>
                <a:ext cx="32040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013280" y="1225440"/>
                <a:ext cx="14040" cy="3024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4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H="1" flipV="1">
                <a:off x="3970080" y="1385640"/>
                <a:ext cx="34920" cy="14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 flipV="1">
                <a:off x="3959280" y="1372680"/>
                <a:ext cx="46080" cy="16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59280" y="1373040"/>
                <a:ext cx="1260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3949560" y="117792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 flipV="1">
                <a:off x="3948120" y="1003320"/>
                <a:ext cx="1440" cy="363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3955680" y="1008000"/>
                <a:ext cx="3240" cy="3650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948120" y="9968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3952800" y="996840"/>
                <a:ext cx="3240" cy="3654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3952800" y="1362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08320" y="102888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959280" y="992160"/>
                <a:ext cx="31896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956040" y="1008000"/>
                <a:ext cx="307800" cy="98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63840" y="1084320"/>
                <a:ext cx="30240" cy="2232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 flipV="1">
                <a:off x="3970080" y="980640"/>
                <a:ext cx="32364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3956040" y="9810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3" y="3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813200" y="12477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646520" y="1206360"/>
                <a:ext cx="336600" cy="101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653000" y="1225440"/>
                <a:ext cx="323640" cy="103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76640" y="1297080"/>
                <a:ext cx="14400" cy="316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20"/>
                    </a:moveTo>
                    <a:lnTo>
                      <a:pt x="2" y="14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 flipV="1">
                <a:off x="4646160" y="1191960"/>
                <a:ext cx="34452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4646520" y="1192320"/>
                <a:ext cx="6480" cy="331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975200" y="1514520"/>
                <a:ext cx="3348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5" y="1"/>
                    </a:lnTo>
                    <a:lnTo>
                      <a:pt x="10" y="1"/>
                    </a:lnTo>
                    <a:lnTo>
                      <a:pt x="15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4987800" y="1328760"/>
                <a:ext cx="648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4971600" y="1328760"/>
                <a:ext cx="468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971960" y="170028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2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5005440" y="1325160"/>
                <a:ext cx="4680" cy="37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976640" y="1325520"/>
                <a:ext cx="33480" cy="468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1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4809960" y="16495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 flipV="1">
                <a:off x="4643280" y="1604520"/>
                <a:ext cx="333360" cy="109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>
                <a:off x="4649400" y="1596960"/>
                <a:ext cx="322200" cy="106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4646520" y="1596960"/>
                <a:ext cx="3240" cy="792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4646520" y="1604880"/>
                <a:ext cx="339840" cy="109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4971960" y="170352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4201920" y="874800"/>
                <a:ext cx="32040" cy="324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371840" y="907920"/>
                <a:ext cx="14400" cy="176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227480" y="863640"/>
                <a:ext cx="317520" cy="9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233960" y="878040"/>
                <a:ext cx="304560" cy="91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538520" y="961920"/>
                <a:ext cx="6480" cy="792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 flipV="1">
                <a:off x="4219560" y="863280"/>
                <a:ext cx="325440" cy="9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219560" y="8622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9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072040" y="1119240"/>
                <a:ext cx="14400" cy="172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913280" y="1073160"/>
                <a:ext cx="33336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24440" y="1085760"/>
                <a:ext cx="325440" cy="10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235480" y="117000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7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 flipV="1">
                <a:off x="4894200" y="1066680"/>
                <a:ext cx="341280" cy="1065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246640" y="13730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5249880" y="1192320"/>
                <a:ext cx="7920" cy="3682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5239800" y="1185840"/>
                <a:ext cx="9720" cy="370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5240160" y="1555920"/>
                <a:ext cx="97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V="1">
                <a:off x="5246640" y="1197000"/>
                <a:ext cx="7920" cy="37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249880" y="118584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227560" y="1555920"/>
                <a:ext cx="12600" cy="2700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8" y="5"/>
                    </a:lnTo>
                    <a:lnTo>
                      <a:pt x="7" y="9"/>
                    </a:lnTo>
                    <a:lnTo>
                      <a:pt x="3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078080" y="922320"/>
                <a:ext cx="1620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V="1">
                <a:off x="3956040" y="866880"/>
                <a:ext cx="249120" cy="11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V="1">
                <a:off x="3952800" y="878040"/>
                <a:ext cx="249120" cy="1188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201920" y="86364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3970440" y="863640"/>
                <a:ext cx="249120" cy="1173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952800" y="98100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116320" y="1233360"/>
                <a:ext cx="16200" cy="2880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0" y="12"/>
                    </a:lnTo>
                    <a:lnTo>
                      <a:pt x="10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V="1">
                <a:off x="5005440" y="1180800"/>
                <a:ext cx="244440" cy="127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V="1">
                <a:off x="4991040" y="1173240"/>
                <a:ext cx="244440" cy="123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235480" y="1173240"/>
                <a:ext cx="19080" cy="2376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0"/>
                    </a:moveTo>
                    <a:lnTo>
                      <a:pt x="5" y="1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12" y="15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5009760" y="1197000"/>
                <a:ext cx="244440" cy="1285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991040" y="129708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1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360600" y="2174760"/>
                <a:ext cx="17640" cy="2556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367080" y="2200320"/>
                <a:ext cx="22320" cy="7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378240" y="2200320"/>
                <a:ext cx="11160" cy="46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 flipV="1">
                <a:off x="3363480" y="2189160"/>
                <a:ext cx="25560" cy="7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363840" y="218916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341600" y="1936800"/>
                <a:ext cx="1116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V="1">
                <a:off x="4344840" y="1882440"/>
                <a:ext cx="122400" cy="666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4341600" y="1886040"/>
                <a:ext cx="111240" cy="619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4452840" y="1871640"/>
                <a:ext cx="15840" cy="1440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4341240" y="1871640"/>
                <a:ext cx="127080" cy="698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4452840" y="186048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3" y="13"/>
                    </a:lnTo>
                    <a:lnTo>
                      <a:pt x="7" y="9"/>
                    </a:lnTo>
                    <a:lnTo>
                      <a:pt x="9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481200" y="1747800"/>
                <a:ext cx="1296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3355560" y="1682640"/>
                <a:ext cx="260280" cy="131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3367080" y="1682640"/>
                <a:ext cx="255600" cy="1288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349440" y="181152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3349440" y="1692360"/>
                <a:ext cx="270000" cy="133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6200" y="168264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500280" y="1863720"/>
                <a:ext cx="14400" cy="2556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359160" y="1822320"/>
                <a:ext cx="29376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367080" y="1811520"/>
                <a:ext cx="297000" cy="1047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9680" y="191628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6" y="2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3352320" y="1838520"/>
                <a:ext cx="297000" cy="10296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352680" y="181152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674880" y="1903320"/>
                <a:ext cx="44640" cy="2232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V="1">
                <a:off x="3664080" y="1886040"/>
                <a:ext cx="55440" cy="302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>
                <a:off x="3681360" y="1922400"/>
                <a:ext cx="38160" cy="1908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664080" y="1916280"/>
                <a:ext cx="17280" cy="2520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52680" y="2000160"/>
                <a:ext cx="6480" cy="1440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3348000" y="1833480"/>
                <a:ext cx="7920" cy="349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 flipV="1">
                <a:off x="3349080" y="1825560"/>
                <a:ext cx="11160" cy="34920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348000" y="1825560"/>
                <a:ext cx="4680" cy="1296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352680" y="1838520"/>
                <a:ext cx="11160" cy="350640"/>
              </a:xfrm>
              <a:prstGeom prst="line">
                <a:avLst/>
              </a:prstGeom>
              <a:ln w="3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355920" y="217476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594400" y="1700280"/>
                <a:ext cx="21960" cy="1908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2"/>
                    </a:moveTo>
                    <a:lnTo>
                      <a:pt x="14" y="9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605560" y="1703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397320" y="2449440"/>
                <a:ext cx="11160" cy="2556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2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6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397320" y="2460600"/>
                <a:ext cx="14040" cy="792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408560" y="2841480"/>
                <a:ext cx="27000" cy="1116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7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416480" y="2841480"/>
                <a:ext cx="17280" cy="1296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386160" y="2077920"/>
                <a:ext cx="19080" cy="2232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8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389400" y="208296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22600" y="2444760"/>
                <a:ext cx="1800" cy="3024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19"/>
                    </a:moveTo>
                    <a:lnTo>
                      <a:pt x="1" y="14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408560" y="2460600"/>
                <a:ext cx="2988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41840" y="2968560"/>
                <a:ext cx="10800" cy="2880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2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7" y="18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41840" y="2979720"/>
                <a:ext cx="14040" cy="1116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19520" y="1800360"/>
                <a:ext cx="1116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719520" y="1789200"/>
                <a:ext cx="14400" cy="252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068720" y="3108240"/>
                <a:ext cx="3240" cy="1116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5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057560" y="3110040"/>
                <a:ext cx="28800" cy="612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0"/>
                    </a:moveTo>
                    <a:lnTo>
                      <a:pt x="14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057560" y="1900440"/>
                <a:ext cx="3240" cy="2988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19"/>
                    </a:moveTo>
                    <a:lnTo>
                      <a:pt x="2" y="14"/>
                    </a:lnTo>
                    <a:lnTo>
                      <a:pt x="2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044960" y="1916280"/>
                <a:ext cx="3024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727600" y="169704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1"/>
                    </a:move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738760" y="1700280"/>
                <a:ext cx="4680" cy="1116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1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068800" y="1106640"/>
                <a:ext cx="223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4" y="7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068800" y="110340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398920" y="1206360"/>
                <a:ext cx="6480" cy="504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394240" y="1197000"/>
                <a:ext cx="12600" cy="2232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14"/>
                    </a:moveTo>
                    <a:lnTo>
                      <a:pt x="8" y="9"/>
                    </a:lnTo>
                    <a:lnTo>
                      <a:pt x="7" y="6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054400" y="2805120"/>
                <a:ext cx="32040" cy="1440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7" y="9"/>
                    </a:lnTo>
                    <a:lnTo>
                      <a:pt x="11" y="7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064120" y="28083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821200" y="2327400"/>
                <a:ext cx="22320" cy="21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5" y="12"/>
                    </a:lnTo>
                    <a:lnTo>
                      <a:pt x="11" y="11"/>
                    </a:lnTo>
                    <a:lnTo>
                      <a:pt x="12" y="5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5832360" y="23306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4" y="3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849" name=""/>
            <p:cNvSpPr/>
            <p:nvPr/>
          </p:nvSpPr>
          <p:spPr>
            <a:xfrm>
              <a:off x="5072040" y="2408400"/>
              <a:ext cx="3240" cy="298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6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060880" y="2424240"/>
              <a:ext cx="27000" cy="324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850000" y="1963800"/>
              <a:ext cx="4680" cy="324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40280" y="1955880"/>
              <a:ext cx="17640" cy="2232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lnTo>
                    <a:pt x="11" y="9"/>
                  </a:lnTo>
                  <a:lnTo>
                    <a:pt x="9" y="5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313240" y="3035160"/>
              <a:ext cx="25560" cy="1116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2" y="4"/>
                  </a:lnTo>
                  <a:lnTo>
                    <a:pt x="5" y="5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6" y="5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317920" y="3035160"/>
              <a:ext cx="17640" cy="14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7"/>
                  </a:moveTo>
                  <a:lnTo>
                    <a:pt x="4" y="9"/>
                  </a:lnTo>
                  <a:lnTo>
                    <a:pt x="7" y="7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340240" y="1844640"/>
              <a:ext cx="28800" cy="1908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9" y="5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349960" y="1841400"/>
              <a:ext cx="15840" cy="2232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7" y="11"/>
                  </a:lnTo>
                  <a:lnTo>
                    <a:pt x="5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557680" y="2874960"/>
              <a:ext cx="22320" cy="2232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5" y="12"/>
                  </a:lnTo>
                  <a:lnTo>
                    <a:pt x="10" y="10"/>
                  </a:lnTo>
                  <a:lnTo>
                    <a:pt x="12" y="5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568840" y="287640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3" y="4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3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22680" y="1281240"/>
              <a:ext cx="7920" cy="2520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22680" y="1284480"/>
              <a:ext cx="14400" cy="126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889440" y="11588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875040" y="1162080"/>
              <a:ext cx="2844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954680" y="3286080"/>
              <a:ext cx="28440" cy="1260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960800" y="3287880"/>
              <a:ext cx="111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6"/>
                  </a:move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08480" y="3119400"/>
              <a:ext cx="4680" cy="2700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7"/>
                  </a:moveTo>
                  <a:lnTo>
                    <a:pt x="3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3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02360" y="3130560"/>
              <a:ext cx="1728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30560" y="3186000"/>
              <a:ext cx="7920" cy="2700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027320" y="3197160"/>
              <a:ext cx="14400" cy="1116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5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352760" y="3324240"/>
              <a:ext cx="3240" cy="1116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5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338720" y="3327480"/>
              <a:ext cx="28440" cy="468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14" y="3"/>
                  </a:lnTo>
                  <a:lnTo>
                    <a:pt x="11" y="3"/>
                  </a:lnTo>
                  <a:lnTo>
                    <a:pt x="5" y="3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008240" y="1236600"/>
              <a:ext cx="7920" cy="468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005360" y="1225440"/>
              <a:ext cx="14040" cy="2556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2" y="16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824360" y="836640"/>
              <a:ext cx="3240" cy="1440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813200" y="839880"/>
              <a:ext cx="25560" cy="468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6" y="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346640" y="1328760"/>
              <a:ext cx="3240" cy="3024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333680" y="1344600"/>
              <a:ext cx="30240" cy="324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0"/>
                  </a:move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154480" y="936720"/>
              <a:ext cx="6480" cy="792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146560" y="928800"/>
              <a:ext cx="17640" cy="2376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5"/>
                  </a:moveTo>
                  <a:lnTo>
                    <a:pt x="11" y="10"/>
                  </a:lnTo>
                  <a:lnTo>
                    <a:pt x="7" y="5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949560" y="984240"/>
              <a:ext cx="6480" cy="2376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948120" y="98604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991040" y="1297080"/>
              <a:ext cx="3240" cy="316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20"/>
                  </a:moveTo>
                  <a:lnTo>
                    <a:pt x="2" y="16"/>
                  </a:lnTo>
                  <a:lnTo>
                    <a:pt x="2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4979880" y="1314360"/>
              <a:ext cx="28800" cy="324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4205160" y="863640"/>
              <a:ext cx="28800" cy="1440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5" y="0"/>
                  </a:lnTo>
                  <a:lnTo>
                    <a:pt x="11" y="2"/>
                  </a:lnTo>
                  <a:lnTo>
                    <a:pt x="14" y="6"/>
                  </a:lnTo>
                  <a:lnTo>
                    <a:pt x="18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4208400" y="863640"/>
              <a:ext cx="1584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5235480" y="1173240"/>
              <a:ext cx="22320" cy="1908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7"/>
                  </a:lnTo>
                  <a:lnTo>
                    <a:pt x="12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246640" y="1177920"/>
              <a:ext cx="7920" cy="1116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359160" y="2174760"/>
              <a:ext cx="7920" cy="2556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6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359160" y="2185920"/>
              <a:ext cx="111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5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348000" y="1811520"/>
              <a:ext cx="19080" cy="2196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4"/>
                  </a:moveTo>
                  <a:lnTo>
                    <a:pt x="0" y="9"/>
                  </a:lnTo>
                  <a:lnTo>
                    <a:pt x="3" y="3"/>
                  </a:lnTo>
                  <a:lnTo>
                    <a:pt x="7" y="2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49440" y="1816200"/>
              <a:ext cx="648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 flipV="1">
              <a:off x="5257800" y="1251000"/>
              <a:ext cx="15840" cy="79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5153040" y="2768400"/>
              <a:ext cx="1440" cy="20628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991040" y="2916360"/>
              <a:ext cx="1440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9"/>
                  </a:lnTo>
                  <a:lnTo>
                    <a:pt x="9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 flipV="1">
              <a:off x="4983120" y="2790360"/>
              <a:ext cx="3240" cy="11772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4991040" y="2793960"/>
              <a:ext cx="3240" cy="1224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987800" y="2793960"/>
              <a:ext cx="1800" cy="10800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983120" y="2901960"/>
              <a:ext cx="7920" cy="1440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4986360" y="2924280"/>
              <a:ext cx="19080" cy="172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4968720" y="2901960"/>
              <a:ext cx="19080" cy="1440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0" y="7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954680" y="291312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2" y="14"/>
                  </a:lnTo>
                  <a:lnTo>
                    <a:pt x="4" y="9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954680" y="2941560"/>
              <a:ext cx="3168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00360" y="1703520"/>
              <a:ext cx="498600" cy="163440"/>
            </a:xfrm>
            <a:prstGeom prst="line">
              <a:avLst/>
            </a:prstGeom>
            <a:ln w="3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5867280" y="3789000"/>
            <a:ext cx="2798640" cy="2786040"/>
            <a:chOff x="5867280" y="3789000"/>
            <a:chExt cx="2798640" cy="2786040"/>
          </a:xfrm>
        </p:grpSpPr>
        <p:sp>
          <p:nvSpPr>
            <p:cNvPr id="904" name=""/>
            <p:cNvSpPr/>
            <p:nvPr/>
          </p:nvSpPr>
          <p:spPr>
            <a:xfrm flipH="1">
              <a:off x="7603560" y="5314680"/>
              <a:ext cx="27612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 flipV="1">
              <a:off x="7619760" y="5298840"/>
              <a:ext cx="364320" cy="127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584120" y="5509440"/>
              <a:ext cx="3600" cy="4089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8235720" y="5289480"/>
              <a:ext cx="12240" cy="446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>
              <a:off x="8248320" y="4856400"/>
              <a:ext cx="12240" cy="433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423200" y="4256280"/>
              <a:ext cx="360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587720" y="5475960"/>
              <a:ext cx="15840" cy="3348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9" y="0"/>
                  </a:moveTo>
                  <a:lnTo>
                    <a:pt x="5" y="4"/>
                  </a:lnTo>
                  <a:lnTo>
                    <a:pt x="4" y="9"/>
                  </a:lnTo>
                  <a:lnTo>
                    <a:pt x="2" y="12"/>
                  </a:lnTo>
                  <a:lnTo>
                    <a:pt x="0" y="1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410600" y="5426280"/>
              <a:ext cx="37008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421400" y="5414040"/>
              <a:ext cx="367920" cy="127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7405560" y="5445720"/>
              <a:ext cx="367920" cy="128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364880" y="5863680"/>
              <a:ext cx="329040" cy="116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079320" y="5095080"/>
              <a:ext cx="205200" cy="74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 flipV="1">
              <a:off x="6173280" y="5200200"/>
              <a:ext cx="111600" cy="597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847920" y="5371560"/>
              <a:ext cx="359280" cy="125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6807240" y="5326920"/>
              <a:ext cx="28800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7228440" y="5528880"/>
              <a:ext cx="1440" cy="408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7083000" y="5649120"/>
              <a:ext cx="284760" cy="168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968160" y="5268960"/>
              <a:ext cx="1908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6987600" y="5274000"/>
              <a:ext cx="1800" cy="22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 flipH="1" flipV="1">
              <a:off x="6471000" y="5380200"/>
              <a:ext cx="5040" cy="451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5922000" y="5405040"/>
              <a:ext cx="112752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 flipV="1">
              <a:off x="6669360" y="5451480"/>
              <a:ext cx="1440" cy="2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645960" y="5446080"/>
              <a:ext cx="230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 flipV="1">
              <a:off x="6297120" y="5318280"/>
              <a:ext cx="348120" cy="127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 flipH="1" flipV="1">
              <a:off x="6277680" y="5311080"/>
              <a:ext cx="194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 flipV="1">
              <a:off x="6277680" y="5311080"/>
              <a:ext cx="1440" cy="23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284880" y="5736240"/>
              <a:ext cx="1440" cy="2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284880" y="5760720"/>
              <a:ext cx="212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306120" y="5767920"/>
              <a:ext cx="346680" cy="129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653160" y="5897160"/>
              <a:ext cx="176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670800" y="5881320"/>
              <a:ext cx="144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 flipV="1">
              <a:off x="6831720" y="5952240"/>
              <a:ext cx="3600" cy="2793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6690600" y="5951880"/>
              <a:ext cx="139680" cy="84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 flipV="1">
              <a:off x="6826680" y="4925520"/>
              <a:ext cx="360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6683400" y="5141160"/>
              <a:ext cx="288360" cy="157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51200" y="4776840"/>
              <a:ext cx="353880" cy="119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6479640" y="4761000"/>
              <a:ext cx="293760" cy="15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306120" y="5902560"/>
              <a:ext cx="34668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76040" y="5831640"/>
              <a:ext cx="7200" cy="417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93880" y="5176800"/>
              <a:ext cx="351720" cy="125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63800" y="4943160"/>
              <a:ext cx="7200" cy="437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 flipV="1">
              <a:off x="8216280" y="4668480"/>
              <a:ext cx="56520" cy="29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 flipV="1">
              <a:off x="8411040" y="4847400"/>
              <a:ext cx="3600" cy="11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 flipV="1">
              <a:off x="8501400" y="4967640"/>
              <a:ext cx="31680" cy="19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145360" y="4619160"/>
              <a:ext cx="176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 flipV="1">
              <a:off x="8163000" y="4624200"/>
              <a:ext cx="180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 flipV="1">
              <a:off x="7687080" y="4769640"/>
              <a:ext cx="7200" cy="375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500960" y="5061960"/>
              <a:ext cx="180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500960" y="5083200"/>
              <a:ext cx="194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8026920" y="4288320"/>
              <a:ext cx="7200" cy="351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7988040" y="4497120"/>
              <a:ext cx="165960" cy="90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 flipH="1">
              <a:off x="7943760" y="4139640"/>
              <a:ext cx="24480" cy="12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517160" y="5219280"/>
              <a:ext cx="144720" cy="49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 flipH="1" flipV="1">
              <a:off x="7520760" y="5089680"/>
              <a:ext cx="185760" cy="615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 flipH="1">
              <a:off x="8386200" y="4978440"/>
              <a:ext cx="74160" cy="42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 flipH="1" flipV="1">
              <a:off x="8384760" y="5116320"/>
              <a:ext cx="75600" cy="2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694280" y="5236560"/>
              <a:ext cx="1440" cy="2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694280" y="5231880"/>
              <a:ext cx="140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405560" y="5649480"/>
              <a:ext cx="36432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V="1">
              <a:off x="7807320" y="5261760"/>
              <a:ext cx="846000" cy="5184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V="1">
              <a:off x="8393400" y="5202720"/>
              <a:ext cx="144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8377560" y="5203080"/>
              <a:ext cx="158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8113680" y="5212080"/>
              <a:ext cx="263520" cy="155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8099280" y="5367960"/>
              <a:ext cx="14040" cy="9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 flipV="1">
              <a:off x="8099640" y="5376960"/>
              <a:ext cx="1440" cy="2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8088840" y="5806800"/>
              <a:ext cx="1800" cy="22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8088840" y="5819400"/>
              <a:ext cx="12240" cy="10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 flipV="1">
              <a:off x="8101080" y="5656320"/>
              <a:ext cx="263520" cy="162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8364960" y="5649480"/>
              <a:ext cx="158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8381160" y="5624640"/>
              <a:ext cx="1440" cy="2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 flipV="1">
              <a:off x="7934760" y="5913000"/>
              <a:ext cx="128520" cy="45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 flipV="1">
              <a:off x="7894080" y="4872240"/>
              <a:ext cx="10800" cy="412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 flipV="1">
              <a:off x="7715520" y="5104080"/>
              <a:ext cx="367920" cy="123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 flipV="1">
              <a:off x="7918920" y="4692960"/>
              <a:ext cx="267120" cy="148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869240" y="4708080"/>
              <a:ext cx="368280" cy="118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 flipV="1">
              <a:off x="8099640" y="5794200"/>
              <a:ext cx="261720" cy="164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8223120" y="5736240"/>
              <a:ext cx="12240" cy="417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 flipV="1">
              <a:off x="8117280" y="5070600"/>
              <a:ext cx="267120" cy="153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 flipH="1" flipV="1">
              <a:off x="6343200" y="4363920"/>
              <a:ext cx="8640" cy="3963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 flipH="1" flipV="1">
              <a:off x="6185880" y="4591080"/>
              <a:ext cx="330480" cy="110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6169680" y="4719960"/>
              <a:ext cx="1440" cy="22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>
              <a:off x="6169680" y="4711320"/>
              <a:ext cx="15840" cy="9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6359400" y="4247640"/>
              <a:ext cx="178560" cy="864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334560" y="4213800"/>
              <a:ext cx="203400" cy="67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309800" y="6198120"/>
              <a:ext cx="346680" cy="132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 flipV="1">
              <a:off x="7409160" y="6042240"/>
              <a:ext cx="1440" cy="3834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272720" y="5971320"/>
              <a:ext cx="212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7293960" y="5967720"/>
              <a:ext cx="122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 flipV="1">
              <a:off x="7694280" y="6194160"/>
              <a:ext cx="210600" cy="132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>
              <a:off x="7819920" y="6162480"/>
              <a:ext cx="3600" cy="272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 flipH="1">
              <a:off x="7290360" y="6392880"/>
              <a:ext cx="158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 flipH="1" flipV="1">
              <a:off x="7272360" y="6392880"/>
              <a:ext cx="176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H="1">
              <a:off x="7005240" y="6199920"/>
              <a:ext cx="269280" cy="164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 flipV="1">
              <a:off x="7198200" y="6054120"/>
              <a:ext cx="1800" cy="384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6761160" y="6286680"/>
              <a:ext cx="210600" cy="813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798600" y="6261840"/>
              <a:ext cx="2880" cy="230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>
              <a:off x="7003440" y="4433400"/>
              <a:ext cx="281160" cy="145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V="1">
              <a:off x="7201800" y="4265280"/>
              <a:ext cx="1440" cy="416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699320" y="4015440"/>
              <a:ext cx="1440" cy="6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062120" y="3996360"/>
              <a:ext cx="392760" cy="120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6801840" y="3842280"/>
              <a:ext cx="888480" cy="438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281360" y="4189320"/>
              <a:ext cx="176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7299000" y="4185720"/>
              <a:ext cx="158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V="1">
              <a:off x="7315200" y="4045320"/>
              <a:ext cx="276120" cy="140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7591320" y="4040280"/>
              <a:ext cx="1584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84120" y="4033800"/>
              <a:ext cx="230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 flipV="1">
              <a:off x="7215840" y="3922200"/>
              <a:ext cx="194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7201440" y="3922200"/>
              <a:ext cx="14040" cy="6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6921720" y="3929040"/>
              <a:ext cx="279720" cy="136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 flipH="1">
              <a:off x="6906240" y="4065480"/>
              <a:ext cx="15480" cy="5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H="1" flipV="1">
              <a:off x="6906240" y="4070520"/>
              <a:ext cx="1908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612120" y="4463640"/>
              <a:ext cx="3538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86000" y="4313160"/>
              <a:ext cx="2880" cy="4176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299000" y="4645800"/>
              <a:ext cx="1584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278120" y="4645800"/>
              <a:ext cx="20520" cy="7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545160" y="4185720"/>
              <a:ext cx="88200" cy="28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6786000" y="4053960"/>
              <a:ext cx="2880" cy="867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7318800" y="4429800"/>
              <a:ext cx="3628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7442640" y="4086720"/>
              <a:ext cx="272520" cy="139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455240" y="4116600"/>
              <a:ext cx="383760" cy="114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V="1">
              <a:off x="6801840" y="3893040"/>
              <a:ext cx="27792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699240" y="3884760"/>
              <a:ext cx="362880" cy="11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7719120" y="4399200"/>
              <a:ext cx="268920" cy="145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7851240" y="4263480"/>
              <a:ext cx="5400" cy="4140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H="1">
              <a:off x="6052680" y="4789080"/>
              <a:ext cx="284760" cy="145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 flipV="1">
              <a:off x="6090120" y="4773240"/>
              <a:ext cx="212040" cy="74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 flipV="1">
              <a:off x="6036840" y="4962960"/>
              <a:ext cx="3600" cy="148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879520" y="5102640"/>
              <a:ext cx="104040" cy="388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V="1">
              <a:off x="6966360" y="4755600"/>
              <a:ext cx="150480" cy="792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186400" y="4690440"/>
              <a:ext cx="14040" cy="17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10"/>
                  </a:moveTo>
                  <a:lnTo>
                    <a:pt x="8" y="5"/>
                  </a:lnTo>
                  <a:lnTo>
                    <a:pt x="7" y="2"/>
                  </a:lnTo>
                  <a:lnTo>
                    <a:pt x="5" y="0"/>
                  </a:lnTo>
                  <a:lnTo>
                    <a:pt x="1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014320" y="4633200"/>
              <a:ext cx="366480" cy="1188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8018280" y="4649400"/>
              <a:ext cx="366480" cy="114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8372160" y="4748400"/>
              <a:ext cx="12240" cy="158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9"/>
                  </a:moveTo>
                  <a:lnTo>
                    <a:pt x="7" y="7"/>
                  </a:lnTo>
                  <a:lnTo>
                    <a:pt x="7" y="4"/>
                  </a:lnTo>
                  <a:lnTo>
                    <a:pt x="7" y="2"/>
                  </a:lnTo>
                  <a:lnTo>
                    <a:pt x="5" y="0"/>
                  </a:lnTo>
                  <a:lnTo>
                    <a:pt x="3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H="1" flipV="1">
              <a:off x="8002080" y="4633200"/>
              <a:ext cx="370080" cy="11880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002080" y="4631760"/>
              <a:ext cx="1584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9" y="10"/>
                  </a:moveTo>
                  <a:lnTo>
                    <a:pt x="9" y="7"/>
                  </a:lnTo>
                  <a:lnTo>
                    <a:pt x="7" y="3"/>
                  </a:lnTo>
                  <a:lnTo>
                    <a:pt x="7" y="1"/>
                  </a:lnTo>
                  <a:lnTo>
                    <a:pt x="4" y="0"/>
                  </a:lnTo>
                  <a:lnTo>
                    <a:pt x="0" y="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25600" y="5587200"/>
              <a:ext cx="17640" cy="2844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10" y="16"/>
                  </a:moveTo>
                  <a:lnTo>
                    <a:pt x="7" y="14"/>
                  </a:lnTo>
                  <a:lnTo>
                    <a:pt x="3" y="9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139800" y="568296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7"/>
                  </a:moveTo>
                  <a:lnTo>
                    <a:pt x="7" y="9"/>
                  </a:lnTo>
                  <a:lnTo>
                    <a:pt x="3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34600" y="5616000"/>
              <a:ext cx="346680" cy="129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943240" y="5616000"/>
              <a:ext cx="341280" cy="1270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281280" y="5736240"/>
              <a:ext cx="3600" cy="864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2" y="4"/>
                  </a:move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H="1" flipV="1">
              <a:off x="5928480" y="5603040"/>
              <a:ext cx="356040" cy="132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928840" y="560340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0" y="3"/>
                  </a:lnTo>
                  <a:lnTo>
                    <a:pt x="1" y="7"/>
                  </a:lnTo>
                  <a:lnTo>
                    <a:pt x="3" y="9"/>
                  </a:lnTo>
                  <a:lnTo>
                    <a:pt x="5" y="9"/>
                  </a:lnTo>
                  <a:lnTo>
                    <a:pt x="8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687000" y="5900760"/>
              <a:ext cx="21240" cy="176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12" y="1"/>
                  </a:moveTo>
                  <a:lnTo>
                    <a:pt x="7" y="0"/>
                  </a:lnTo>
                  <a:lnTo>
                    <a:pt x="5" y="1"/>
                  </a:lnTo>
                  <a:lnTo>
                    <a:pt x="2" y="3"/>
                  </a:lnTo>
                  <a:lnTo>
                    <a:pt x="2" y="5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6687000" y="5906160"/>
              <a:ext cx="21240" cy="12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823080" y="5939640"/>
              <a:ext cx="15840" cy="12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7" y="7"/>
                  </a:lnTo>
                  <a:lnTo>
                    <a:pt x="5" y="7"/>
                  </a:lnTo>
                  <a:lnTo>
                    <a:pt x="2" y="7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687000" y="5900760"/>
              <a:ext cx="366480" cy="1357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08240" y="5902560"/>
              <a:ext cx="35712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049880" y="6024600"/>
              <a:ext cx="15480" cy="14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7"/>
                  </a:move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H="1" flipV="1">
              <a:off x="6670800" y="5881320"/>
              <a:ext cx="378720" cy="143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670800" y="5881320"/>
              <a:ext cx="37080" cy="21240"/>
            </a:xfrm>
            <a:custGeom>
              <a:avLst/>
              <a:gdLst/>
              <a:ahLst/>
              <a:rect l="l" t="t" r="r" b="b"/>
              <a:pathLst>
                <a:path w="21" h="12">
                  <a:moveTo>
                    <a:pt x="21" y="12"/>
                  </a:moveTo>
                  <a:lnTo>
                    <a:pt x="14" y="12"/>
                  </a:lnTo>
                  <a:lnTo>
                    <a:pt x="11" y="11"/>
                  </a:lnTo>
                  <a:lnTo>
                    <a:pt x="7" y="9"/>
                  </a:lnTo>
                  <a:lnTo>
                    <a:pt x="4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7207200" y="5937840"/>
              <a:ext cx="21240" cy="1440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4" y="8"/>
                  </a:lnTo>
                  <a:lnTo>
                    <a:pt x="5" y="8"/>
                  </a:lnTo>
                  <a:lnTo>
                    <a:pt x="9" y="7"/>
                  </a:lnTo>
                  <a:lnTo>
                    <a:pt x="11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7079760" y="5866920"/>
              <a:ext cx="281160" cy="1695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 flipV="1">
              <a:off x="7065360" y="5868360"/>
              <a:ext cx="281520" cy="168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7347240" y="5854680"/>
              <a:ext cx="20520" cy="14040"/>
            </a:xfrm>
            <a:custGeom>
              <a:avLst/>
              <a:gdLst/>
              <a:ahLst/>
              <a:rect l="l" t="t" r="r" b="b"/>
              <a:pathLst>
                <a:path w="12" h="8">
                  <a:moveTo>
                    <a:pt x="0" y="8"/>
                  </a:moveTo>
                  <a:lnTo>
                    <a:pt x="5" y="8"/>
                  </a:lnTo>
                  <a:lnTo>
                    <a:pt x="7" y="8"/>
                  </a:lnTo>
                  <a:lnTo>
                    <a:pt x="10" y="7"/>
                  </a:lnTo>
                  <a:lnTo>
                    <a:pt x="12" y="3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 flipH="1">
              <a:off x="7082640" y="5854680"/>
              <a:ext cx="284760" cy="166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065360" y="6021360"/>
              <a:ext cx="17640" cy="176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5"/>
                  </a:lnTo>
                  <a:lnTo>
                    <a:pt x="8" y="7"/>
                  </a:lnTo>
                  <a:lnTo>
                    <a:pt x="7" y="9"/>
                  </a:lnTo>
                  <a:lnTo>
                    <a:pt x="3" y="10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347240" y="5835600"/>
              <a:ext cx="14040" cy="3312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19"/>
                  </a:moveTo>
                  <a:lnTo>
                    <a:pt x="3" y="16"/>
                  </a:lnTo>
                  <a:lnTo>
                    <a:pt x="7" y="11"/>
                  </a:lnTo>
                  <a:lnTo>
                    <a:pt x="8" y="5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76240" y="528120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9"/>
                  </a:moveTo>
                  <a:lnTo>
                    <a:pt x="3" y="9"/>
                  </a:lnTo>
                  <a:lnTo>
                    <a:pt x="7" y="9"/>
                  </a:lnTo>
                  <a:lnTo>
                    <a:pt x="8" y="7"/>
                  </a:lnTo>
                  <a:lnTo>
                    <a:pt x="10" y="3"/>
                  </a:lnTo>
                  <a:lnTo>
                    <a:pt x="1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6235200" y="5020920"/>
              <a:ext cx="46080" cy="19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 flipV="1">
              <a:off x="6226560" y="5020560"/>
              <a:ext cx="54720" cy="21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226560" y="5017320"/>
              <a:ext cx="14040" cy="194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7" y="4"/>
                  </a:lnTo>
                  <a:lnTo>
                    <a:pt x="8" y="7"/>
                  </a:lnTo>
                  <a:lnTo>
                    <a:pt x="8" y="1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240600" y="5037120"/>
              <a:ext cx="40680" cy="12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061680" y="509544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3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 flipH="1">
              <a:off x="5918400" y="5024520"/>
              <a:ext cx="291600" cy="1483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H="1">
              <a:off x="5931000" y="5020920"/>
              <a:ext cx="295200" cy="151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916600" y="5169960"/>
              <a:ext cx="14400" cy="17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8" y="2"/>
                  </a:moveTo>
                  <a:lnTo>
                    <a:pt x="5" y="0"/>
                  </a:lnTo>
                  <a:lnTo>
                    <a:pt x="3" y="2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V="1">
              <a:off x="5916600" y="5037120"/>
              <a:ext cx="290520" cy="1504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207120" y="5020920"/>
              <a:ext cx="19080" cy="158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11" y="0"/>
                  </a:moveTo>
                  <a:lnTo>
                    <a:pt x="5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132600" y="5249520"/>
              <a:ext cx="15840" cy="31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922000" y="5185440"/>
              <a:ext cx="350280" cy="125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931000" y="5173200"/>
              <a:ext cx="345240" cy="123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272640" y="5297040"/>
              <a:ext cx="5040" cy="37080"/>
            </a:xfrm>
            <a:custGeom>
              <a:avLst/>
              <a:gdLst/>
              <a:ahLst/>
              <a:rect l="l" t="t" r="r" b="b"/>
              <a:pathLst>
                <a:path w="3" h="21">
                  <a:moveTo>
                    <a:pt x="2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3" y="2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5916240" y="5203080"/>
              <a:ext cx="361080" cy="131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916600" y="5173200"/>
              <a:ext cx="14400" cy="29880"/>
            </a:xfrm>
            <a:custGeom>
              <a:avLst/>
              <a:gdLst/>
              <a:ahLst/>
              <a:rect l="l" t="t" r="r" b="b"/>
              <a:pathLst>
                <a:path w="8" h="17">
                  <a:moveTo>
                    <a:pt x="0" y="17"/>
                  </a:moveTo>
                  <a:lnTo>
                    <a:pt x="1" y="12"/>
                  </a:lnTo>
                  <a:lnTo>
                    <a:pt x="3" y="7"/>
                  </a:lnTo>
                  <a:lnTo>
                    <a:pt x="5" y="3"/>
                  </a:lnTo>
                  <a:lnTo>
                    <a:pt x="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6830280" y="5339880"/>
              <a:ext cx="17640" cy="3168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10" y="18"/>
                  </a:moveTo>
                  <a:lnTo>
                    <a:pt x="7" y="14"/>
                  </a:lnTo>
                  <a:lnTo>
                    <a:pt x="3" y="11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690600" y="5277960"/>
              <a:ext cx="28800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702120" y="5289840"/>
              <a:ext cx="288360" cy="161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6683400" y="5421240"/>
              <a:ext cx="19080" cy="2988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11" y="17"/>
                  </a:moveTo>
                  <a:lnTo>
                    <a:pt x="7" y="14"/>
                  </a:lnTo>
                  <a:lnTo>
                    <a:pt x="4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 flipV="1">
              <a:off x="6683400" y="5261760"/>
              <a:ext cx="288360" cy="1591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971760" y="5261760"/>
              <a:ext cx="19080" cy="2808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1" y="16"/>
                  </a:moveTo>
                  <a:lnTo>
                    <a:pt x="7" y="14"/>
                  </a:lnTo>
                  <a:lnTo>
                    <a:pt x="4" y="9"/>
                  </a:lnTo>
                  <a:lnTo>
                    <a:pt x="0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819480" y="5497200"/>
              <a:ext cx="15840" cy="320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9" y="0"/>
                  </a:moveTo>
                  <a:lnTo>
                    <a:pt x="6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0" y="1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681240" y="5460120"/>
              <a:ext cx="371880" cy="1342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702480" y="5451480"/>
              <a:ext cx="36288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7049880" y="5582160"/>
              <a:ext cx="15480" cy="2988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5" y="3"/>
                  </a:lnTo>
                  <a:lnTo>
                    <a:pt x="2" y="7"/>
                  </a:lnTo>
                  <a:lnTo>
                    <a:pt x="0" y="12"/>
                  </a:lnTo>
                  <a:lnTo>
                    <a:pt x="0" y="1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H="1" flipV="1">
              <a:off x="6669000" y="5475600"/>
              <a:ext cx="380520" cy="136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669360" y="5451480"/>
              <a:ext cx="33120" cy="2448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19" y="0"/>
                  </a:moveTo>
                  <a:lnTo>
                    <a:pt x="14" y="2"/>
                  </a:lnTo>
                  <a:lnTo>
                    <a:pt x="8" y="4"/>
                  </a:lnTo>
                  <a:lnTo>
                    <a:pt x="3" y="9"/>
                  </a:lnTo>
                  <a:lnTo>
                    <a:pt x="0" y="14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207200" y="5497200"/>
              <a:ext cx="21240" cy="320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0" y="0"/>
                  </a:moveTo>
                  <a:lnTo>
                    <a:pt x="5" y="2"/>
                  </a:lnTo>
                  <a:lnTo>
                    <a:pt x="9" y="7"/>
                  </a:lnTo>
                  <a:lnTo>
                    <a:pt x="11" y="13"/>
                  </a:lnTo>
                  <a:lnTo>
                    <a:pt x="12" y="1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7079760" y="5429520"/>
              <a:ext cx="284760" cy="1609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 flipV="1">
              <a:off x="7065360" y="5417280"/>
              <a:ext cx="283320" cy="16452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7349040" y="5417640"/>
              <a:ext cx="22680" cy="28440"/>
            </a:xfrm>
            <a:custGeom>
              <a:avLst/>
              <a:gdLst/>
              <a:ahLst/>
              <a:rect l="l" t="t" r="r" b="b"/>
              <a:pathLst>
                <a:path w="13" h="16">
                  <a:moveTo>
                    <a:pt x="0" y="0"/>
                  </a:moveTo>
                  <a:lnTo>
                    <a:pt x="6" y="2"/>
                  </a:lnTo>
                  <a:lnTo>
                    <a:pt x="9" y="7"/>
                  </a:lnTo>
                  <a:lnTo>
                    <a:pt x="11" y="10"/>
                  </a:lnTo>
                  <a:lnTo>
                    <a:pt x="13" y="16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H="1">
              <a:off x="7082640" y="5446080"/>
              <a:ext cx="288360" cy="1623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7065360" y="5582160"/>
              <a:ext cx="17640" cy="2628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10" y="15"/>
                  </a:moveTo>
                  <a:lnTo>
                    <a:pt x="10" y="10"/>
                  </a:lnTo>
                  <a:lnTo>
                    <a:pt x="8" y="7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7124040" y="5334480"/>
              <a:ext cx="15840" cy="14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1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9" y="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H="1" flipV="1">
              <a:off x="6993360" y="5286240"/>
              <a:ext cx="367920" cy="130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H="1" flipV="1">
              <a:off x="6990840" y="5289840"/>
              <a:ext cx="357480" cy="127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987600" y="5286600"/>
              <a:ext cx="5400" cy="10080"/>
            </a:xfrm>
            <a:custGeom>
              <a:avLst/>
              <a:gdLst/>
              <a:ahLst/>
              <a:rect l="l" t="t" r="r" b="b"/>
              <a:pathLst>
                <a:path w="3" h="6">
                  <a:moveTo>
                    <a:pt x="2" y="2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6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6987600" y="5297040"/>
              <a:ext cx="377280" cy="1328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7349040" y="5414040"/>
              <a:ext cx="15840" cy="15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2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368120" y="5645880"/>
              <a:ext cx="37080" cy="360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0" y="2"/>
                  </a:moveTo>
                  <a:lnTo>
                    <a:pt x="5" y="0"/>
                  </a:lnTo>
                  <a:lnTo>
                    <a:pt x="10" y="0"/>
                  </a:lnTo>
                  <a:lnTo>
                    <a:pt x="16" y="0"/>
                  </a:lnTo>
                  <a:lnTo>
                    <a:pt x="21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1103" name=""/>
            <p:cNvGrpSpPr/>
            <p:nvPr/>
          </p:nvGrpSpPr>
          <p:grpSpPr>
            <a:xfrm>
              <a:off x="5909760" y="4086720"/>
              <a:ext cx="2736000" cy="2247120"/>
              <a:chOff x="5909760" y="4086720"/>
              <a:chExt cx="2736000" cy="2247120"/>
            </a:xfrm>
          </p:grpSpPr>
          <p:sp>
            <p:nvSpPr>
              <p:cNvPr id="1104" name=""/>
              <p:cNvSpPr/>
              <p:nvPr/>
            </p:nvSpPr>
            <p:spPr>
              <a:xfrm flipV="1">
                <a:off x="7383960" y="5441760"/>
                <a:ext cx="180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 flipV="1">
                <a:off x="7368480" y="5445720"/>
                <a:ext cx="2880" cy="408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7371720" y="544212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7401600" y="5445720"/>
                <a:ext cx="3600" cy="404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368480" y="5847480"/>
                <a:ext cx="33120" cy="648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4"/>
                    </a:moveTo>
                    <a:lnTo>
                      <a:pt x="5" y="0"/>
                    </a:lnTo>
                    <a:lnTo>
                      <a:pt x="9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235200" y="5020920"/>
                <a:ext cx="5400" cy="15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364880" y="563328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H="1">
                <a:off x="7380360" y="5433480"/>
                <a:ext cx="360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 flipH="1">
                <a:off x="7361280" y="5429880"/>
                <a:ext cx="360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7361280" y="583524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0"/>
                    </a:moveTo>
                    <a:lnTo>
                      <a:pt x="6" y="2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 flipV="1">
                <a:off x="7398720" y="5429520"/>
                <a:ext cx="288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7364880" y="5429880"/>
                <a:ext cx="3672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5" y="2"/>
                    </a:lnTo>
                    <a:lnTo>
                      <a:pt x="11" y="2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6203520" y="50209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9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916960" y="5389200"/>
                <a:ext cx="5040" cy="1548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1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 flipH="1" flipV="1">
                <a:off x="5909760" y="5197320"/>
                <a:ext cx="8640" cy="397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 flipV="1">
                <a:off x="5916960" y="5187240"/>
                <a:ext cx="8640" cy="399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909760" y="518724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0"/>
                    </a:moveTo>
                    <a:lnTo>
                      <a:pt x="0" y="2"/>
                    </a:lnTo>
                    <a:lnTo>
                      <a:pt x="0" y="6"/>
                    </a:lnTo>
                    <a:lnTo>
                      <a:pt x="2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916960" y="5203440"/>
                <a:ext cx="12240" cy="399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918400" y="558720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049520" y="581760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7067520" y="5615640"/>
                <a:ext cx="1440" cy="41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V="1">
                <a:off x="7049520" y="5612040"/>
                <a:ext cx="1440" cy="412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049520" y="560844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4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083360" y="5608440"/>
                <a:ext cx="1440" cy="412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049520" y="602100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6" y="3"/>
                    </a:lnTo>
                    <a:lnTo>
                      <a:pt x="10" y="3"/>
                    </a:lnTo>
                    <a:lnTo>
                      <a:pt x="5" y="3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6301080" y="59713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1" y="2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297480" y="5769720"/>
                <a:ext cx="5040" cy="404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6302520" y="5772960"/>
                <a:ext cx="720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6302520" y="6165720"/>
                <a:ext cx="10080" cy="194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4" y="0"/>
                    </a:moveTo>
                    <a:lnTo>
                      <a:pt x="2" y="4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6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6306120" y="5767560"/>
                <a:ext cx="648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6297480" y="5767560"/>
                <a:ext cx="864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3" y="3"/>
                    </a:moveTo>
                    <a:lnTo>
                      <a:pt x="2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5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6309720" y="6165720"/>
                <a:ext cx="17640" cy="32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7" y="14"/>
                    </a:lnTo>
                    <a:lnTo>
                      <a:pt x="3" y="11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6578640" y="471456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6433560" y="4773240"/>
                <a:ext cx="17640" cy="1908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9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H="1">
                <a:off x="6290280" y="4705920"/>
                <a:ext cx="29376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284880" y="4718160"/>
                <a:ext cx="293760" cy="150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6284880" y="485100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2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V="1">
                <a:off x="6302520" y="4702680"/>
                <a:ext cx="293760" cy="14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578640" y="470268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284880" y="5074200"/>
                <a:ext cx="8640" cy="15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6277680" y="4875840"/>
                <a:ext cx="10800" cy="42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6284880" y="4868640"/>
                <a:ext cx="8640" cy="412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6288480" y="5281200"/>
                <a:ext cx="8640" cy="3672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" y="16"/>
                    </a:lnTo>
                    <a:lnTo>
                      <a:pt x="5" y="2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6288480" y="4881240"/>
                <a:ext cx="8640" cy="437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6281280" y="486864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656760" y="611640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6670800" y="5913000"/>
                <a:ext cx="3600" cy="408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6686640" y="5918040"/>
                <a:ext cx="7200" cy="396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6656760" y="631476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5" y="4"/>
                    </a:lnTo>
                    <a:lnTo>
                      <a:pt x="10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6653160" y="5896800"/>
                <a:ext cx="3600" cy="421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653160" y="5896800"/>
                <a:ext cx="33480" cy="21240"/>
              </a:xfrm>
              <a:custGeom>
                <a:avLst/>
                <a:gdLst/>
                <a:ahLst/>
                <a:rect l="l" t="t" r="r" b="b"/>
                <a:pathLst>
                  <a:path w="19" h="12">
                    <a:moveTo>
                      <a:pt x="19" y="12"/>
                    </a:moveTo>
                    <a:lnTo>
                      <a:pt x="12" y="9"/>
                    </a:lnTo>
                    <a:lnTo>
                      <a:pt x="5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6814080" y="623160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3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V="1">
                <a:off x="6686640" y="6160680"/>
                <a:ext cx="281160" cy="169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6693840" y="6148080"/>
                <a:ext cx="281160" cy="166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6955920" y="614808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11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7" y="8"/>
                    </a:lnTo>
                    <a:lnTo>
                      <a:pt x="4" y="8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 flipH="1">
                <a:off x="6670440" y="6160680"/>
                <a:ext cx="284760" cy="169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670800" y="6314760"/>
                <a:ext cx="23040" cy="190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0" y="9"/>
                    </a:moveTo>
                    <a:lnTo>
                      <a:pt x="6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1" y="5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V="1">
                <a:off x="6978600" y="6008400"/>
                <a:ext cx="1800" cy="128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6975360" y="6008040"/>
                <a:ext cx="1440" cy="139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968160" y="6004800"/>
                <a:ext cx="360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71760" y="6129000"/>
                <a:ext cx="6480" cy="1908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2" y="11"/>
                    </a:moveTo>
                    <a:lnTo>
                      <a:pt x="4" y="7"/>
                    </a:lnTo>
                    <a:lnTo>
                      <a:pt x="4" y="5"/>
                    </a:lnTo>
                    <a:lnTo>
                      <a:pt x="2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66720" y="504036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8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 flipV="1">
                <a:off x="6975360" y="4842000"/>
                <a:ext cx="2880" cy="423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6971760" y="4851000"/>
                <a:ext cx="1440" cy="41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6966720" y="483516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6966720" y="4835160"/>
                <a:ext cx="1440" cy="433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968160" y="5261760"/>
                <a:ext cx="10080" cy="720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2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805080" y="489708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5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6674040" y="4831560"/>
                <a:ext cx="291960" cy="152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H="1">
                <a:off x="6681600" y="4851000"/>
                <a:ext cx="290160" cy="151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658200" y="4975200"/>
                <a:ext cx="23040" cy="28080"/>
              </a:xfrm>
              <a:custGeom>
                <a:avLst/>
                <a:gdLst/>
                <a:ahLst/>
                <a:rect l="l" t="t" r="r" b="b"/>
                <a:pathLst>
                  <a:path w="13" h="16">
                    <a:moveTo>
                      <a:pt x="13" y="16"/>
                    </a:moveTo>
                    <a:lnTo>
                      <a:pt x="11" y="10"/>
                    </a:lnTo>
                    <a:lnTo>
                      <a:pt x="9" y="7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V="1">
                <a:off x="6658200" y="4819320"/>
                <a:ext cx="291960" cy="155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950520" y="4819320"/>
                <a:ext cx="21240" cy="31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0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6645960" y="5212440"/>
                <a:ext cx="35640" cy="288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0"/>
                    </a:moveTo>
                    <a:lnTo>
                      <a:pt x="16" y="2"/>
                    </a:lnTo>
                    <a:lnTo>
                      <a:pt x="11" y="2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6661800" y="5008320"/>
                <a:ext cx="3600" cy="426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6681600" y="5003280"/>
                <a:ext cx="144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6645960" y="5420880"/>
                <a:ext cx="37080" cy="248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0"/>
                    </a:moveTo>
                    <a:lnTo>
                      <a:pt x="16" y="5"/>
                    </a:lnTo>
                    <a:lnTo>
                      <a:pt x="13" y="8"/>
                    </a:lnTo>
                    <a:lnTo>
                      <a:pt x="7" y="10"/>
                    </a:lnTo>
                    <a:lnTo>
                      <a:pt x="0" y="1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 flipV="1">
                <a:off x="6644160" y="5005080"/>
                <a:ext cx="1440" cy="440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644160" y="5003280"/>
                <a:ext cx="370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7" y="3"/>
                    </a:lnTo>
                    <a:lnTo>
                      <a:pt x="14" y="3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955920" y="616068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0"/>
                    </a:moveTo>
                    <a:lnTo>
                      <a:pt x="2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7" y="5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971760" y="612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789600" y="4743000"/>
                <a:ext cx="15480" cy="334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2"/>
                    </a:lnTo>
                    <a:lnTo>
                      <a:pt x="2" y="8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619320" y="4699080"/>
                <a:ext cx="352440" cy="118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612480" y="4718160"/>
                <a:ext cx="35388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966720" y="480492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2"/>
                    </a:lnTo>
                    <a:lnTo>
                      <a:pt x="3" y="7"/>
                    </a:lnTo>
                    <a:lnTo>
                      <a:pt x="5" y="1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H="1" flipV="1">
                <a:off x="6631560" y="4686480"/>
                <a:ext cx="348840" cy="118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612480" y="4686480"/>
                <a:ext cx="19080" cy="31680"/>
              </a:xfrm>
              <a:custGeom>
                <a:avLst/>
                <a:gdLst/>
                <a:ahLst/>
                <a:rect l="l" t="t" r="r" b="b"/>
                <a:pathLst>
                  <a:path w="11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773400" y="473076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5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 flipV="1">
                <a:off x="6608520" y="4690080"/>
                <a:ext cx="35388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 flipV="1">
                <a:off x="6595920" y="4702680"/>
                <a:ext cx="35388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96280" y="467064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7" y="9"/>
                    </a:lnTo>
                    <a:lnTo>
                      <a:pt x="9" y="6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612480" y="4670640"/>
                <a:ext cx="353880" cy="11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950520" y="47894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463440" y="491292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6" y="3"/>
                    </a:lnTo>
                    <a:lnTo>
                      <a:pt x="4" y="7"/>
                    </a:lnTo>
                    <a:lnTo>
                      <a:pt x="2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293880" y="4863600"/>
                <a:ext cx="35172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302520" y="4851000"/>
                <a:ext cx="35568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644160" y="497520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 flipV="1">
                <a:off x="6288480" y="4881240"/>
                <a:ext cx="35568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288480" y="485100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1" y="14"/>
                    </a:lnTo>
                    <a:lnTo>
                      <a:pt x="3" y="9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6483240" y="624924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0"/>
                    </a:moveTo>
                    <a:lnTo>
                      <a:pt x="2" y="6"/>
                    </a:lnTo>
                    <a:lnTo>
                      <a:pt x="3" y="7"/>
                    </a:lnTo>
                    <a:lnTo>
                      <a:pt x="7" y="9"/>
                    </a:lnTo>
                    <a:lnTo>
                      <a:pt x="1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318720" y="6197760"/>
                <a:ext cx="3430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312960" y="6185520"/>
                <a:ext cx="34344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656760" y="6318360"/>
                <a:ext cx="14040" cy="154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9"/>
                    </a:lnTo>
                    <a:lnTo>
                      <a:pt x="7" y="9"/>
                    </a:lnTo>
                    <a:lnTo>
                      <a:pt x="8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H="1" flipV="1">
                <a:off x="6327000" y="6197760"/>
                <a:ext cx="3430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312960" y="6185520"/>
                <a:ext cx="14400" cy="1224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7" y="7"/>
                    </a:lnTo>
                    <a:lnTo>
                      <a:pt x="3" y="7"/>
                    </a:lnTo>
                    <a:lnTo>
                      <a:pt x="1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495560" y="506700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7" y="7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7148880" y="4928760"/>
                <a:ext cx="15480" cy="26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15"/>
                    </a:moveTo>
                    <a:lnTo>
                      <a:pt x="5" y="14"/>
                    </a:lnTo>
                    <a:lnTo>
                      <a:pt x="2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359480" y="501192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153920" y="4955400"/>
                <a:ext cx="34128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164360" y="4955400"/>
                <a:ext cx="33084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495560" y="506160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0" y="3"/>
                    </a:move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 flipH="1" flipV="1">
                <a:off x="7152120" y="4942440"/>
                <a:ext cx="348120" cy="11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152480" y="4942800"/>
                <a:ext cx="1188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7"/>
                    </a:moveTo>
                    <a:lnTo>
                      <a:pt x="5" y="9"/>
                    </a:lnTo>
                    <a:lnTo>
                      <a:pt x="1" y="7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>
                <a:off x="8095680" y="4627800"/>
                <a:ext cx="61560" cy="33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H="1">
                <a:off x="8116920" y="4636800"/>
                <a:ext cx="52920" cy="32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V="1">
                <a:off x="8070840" y="4608720"/>
                <a:ext cx="79560" cy="43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50760" y="4608720"/>
                <a:ext cx="19080" cy="28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6" y="14"/>
                    </a:lnTo>
                    <a:lnTo>
                      <a:pt x="4" y="11"/>
                    </a:lnTo>
                    <a:lnTo>
                      <a:pt x="0" y="6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8397000" y="48193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6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8393400" y="4757040"/>
                <a:ext cx="139680" cy="81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V="1">
                <a:off x="8393400" y="4748040"/>
                <a:ext cx="127080" cy="70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8520480" y="474840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8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H="1">
                <a:off x="8393400" y="4776840"/>
                <a:ext cx="144720" cy="82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8297640" y="467784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 flipH="1" flipV="1">
                <a:off x="8170200" y="4633560"/>
                <a:ext cx="35928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H="1" flipV="1">
                <a:off x="8169840" y="4636440"/>
                <a:ext cx="35028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8163360" y="4636800"/>
                <a:ext cx="648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0"/>
                    </a:moveTo>
                    <a:lnTo>
                      <a:pt x="4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8163360" y="4645440"/>
                <a:ext cx="3697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8520480" y="474480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1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8526240" y="495540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V="1">
                <a:off x="8534880" y="4767480"/>
                <a:ext cx="6480" cy="231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 flipV="1">
                <a:off x="8529480" y="4776840"/>
                <a:ext cx="8640" cy="22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8533080" y="476064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4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>
                <a:off x="8522640" y="4760640"/>
                <a:ext cx="10080" cy="235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7115040" y="473940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V="1">
                <a:off x="7132680" y="4730400"/>
                <a:ext cx="1800" cy="199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7148880" y="4719960"/>
                <a:ext cx="1440" cy="20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115040" y="4739400"/>
                <a:ext cx="1440" cy="190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115040" y="492876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2" y="3"/>
                    </a:lnTo>
                    <a:lnTo>
                      <a:pt x="7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116840" y="4752000"/>
                <a:ext cx="35640" cy="360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132680" y="4730760"/>
                <a:ext cx="1800" cy="21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152480" y="4720320"/>
                <a:ext cx="1440" cy="22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116840" y="4941360"/>
                <a:ext cx="3564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20" y="1"/>
                    </a:moveTo>
                    <a:lnTo>
                      <a:pt x="13" y="0"/>
                    </a:lnTo>
                    <a:lnTo>
                      <a:pt x="7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V="1">
                <a:off x="7116840" y="4735440"/>
                <a:ext cx="1800" cy="207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508160" y="528444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3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H="1">
                <a:off x="7508160" y="5091840"/>
                <a:ext cx="1440" cy="267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7509600" y="5095440"/>
                <a:ext cx="3600" cy="259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V="1">
                <a:off x="7517160" y="5089680"/>
                <a:ext cx="3600" cy="261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09600" y="5090040"/>
                <a:ext cx="10800" cy="540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2" y="3"/>
                    </a:moveTo>
                    <a:lnTo>
                      <a:pt x="0" y="3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780680" y="4102560"/>
                <a:ext cx="2988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1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7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7768080" y="4090320"/>
                <a:ext cx="17640" cy="8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V="1">
                <a:off x="7773480" y="4090320"/>
                <a:ext cx="24840" cy="12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780680" y="409032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10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3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8150760" y="4401720"/>
                <a:ext cx="1008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6" y="7"/>
                    </a:lnTo>
                    <a:lnTo>
                      <a:pt x="6" y="6"/>
                    </a:lnTo>
                    <a:lnTo>
                      <a:pt x="4" y="4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8154360" y="4213800"/>
                <a:ext cx="8640" cy="397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8150760" y="4218840"/>
                <a:ext cx="10080" cy="389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54360" y="420696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4" y="7"/>
                    </a:moveTo>
                    <a:lnTo>
                      <a:pt x="5" y="5"/>
                    </a:lnTo>
                    <a:lnTo>
                      <a:pt x="5" y="4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 flipH="1">
                <a:off x="8145000" y="4206960"/>
                <a:ext cx="9000" cy="411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8145360" y="4608720"/>
                <a:ext cx="9000" cy="1008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3" y="0"/>
                    </a:moveTo>
                    <a:lnTo>
                      <a:pt x="5" y="2"/>
                    </a:lnTo>
                    <a:lnTo>
                      <a:pt x="5" y="2"/>
                    </a:lnTo>
                    <a:lnTo>
                      <a:pt x="5" y="4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8014320" y="425988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6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H="1">
                <a:off x="7993080" y="4203360"/>
                <a:ext cx="161280" cy="84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7992720" y="4219200"/>
                <a:ext cx="168120" cy="90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V="1">
                <a:off x="7996680" y="4190760"/>
                <a:ext cx="145080" cy="77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8142120" y="419076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4"/>
                    </a:lnTo>
                    <a:lnTo>
                      <a:pt x="7" y="7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968600" y="4139640"/>
                <a:ext cx="15480" cy="1440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9" y="8"/>
                    </a:moveTo>
                    <a:lnTo>
                      <a:pt x="7" y="5"/>
                    </a:lnTo>
                    <a:lnTo>
                      <a:pt x="5" y="1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807320" y="4090320"/>
                <a:ext cx="34344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7810920" y="4102560"/>
                <a:ext cx="34344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142120" y="41907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7" y="9"/>
                    </a:moveTo>
                    <a:lnTo>
                      <a:pt x="7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>
                <a:off x="7798320" y="4089960"/>
                <a:ext cx="343440" cy="100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7798320" y="408672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8051760" y="5829840"/>
                <a:ext cx="1548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4" y="0"/>
                    </a:lnTo>
                    <a:lnTo>
                      <a:pt x="6" y="0"/>
                    </a:lnTo>
                    <a:lnTo>
                      <a:pt x="7" y="1"/>
                    </a:lnTo>
                    <a:lnTo>
                      <a:pt x="9" y="5"/>
                    </a:lnTo>
                    <a:lnTo>
                      <a:pt x="9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7398720" y="5835240"/>
                <a:ext cx="19080" cy="28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1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7584480" y="5918040"/>
                <a:ext cx="1548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7" y="7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09160" y="5863320"/>
                <a:ext cx="361080" cy="136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7417800" y="5863320"/>
                <a:ext cx="36432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7768440" y="5983560"/>
                <a:ext cx="1404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8" y="7"/>
                    </a:moveTo>
                    <a:lnTo>
                      <a:pt x="5" y="9"/>
                    </a:lnTo>
                    <a:lnTo>
                      <a:pt x="3" y="9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 flipV="1">
                <a:off x="7401600" y="5850720"/>
                <a:ext cx="3664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7401600" y="5850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7"/>
                    </a:moveTo>
                    <a:lnTo>
                      <a:pt x="5" y="9"/>
                    </a:lnTo>
                    <a:lnTo>
                      <a:pt x="4" y="9"/>
                    </a:lnTo>
                    <a:lnTo>
                      <a:pt x="2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954200" y="5875560"/>
                <a:ext cx="21240" cy="17640"/>
              </a:xfrm>
              <a:custGeom>
                <a:avLst/>
                <a:gdLst/>
                <a:ahLst/>
                <a:rect l="l" t="t" r="r" b="b"/>
                <a:pathLst>
                  <a:path w="12" h="10">
                    <a:moveTo>
                      <a:pt x="0" y="8"/>
                    </a:moveTo>
                    <a:lnTo>
                      <a:pt x="3" y="10"/>
                    </a:lnTo>
                    <a:lnTo>
                      <a:pt x="7" y="8"/>
                    </a:lnTo>
                    <a:lnTo>
                      <a:pt x="8" y="8"/>
                    </a:lnTo>
                    <a:lnTo>
                      <a:pt x="10" y="5"/>
                    </a:lnTo>
                    <a:lnTo>
                      <a:pt x="12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V="1">
                <a:off x="7798320" y="5822280"/>
                <a:ext cx="276120" cy="17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7782480" y="5829480"/>
                <a:ext cx="26928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051760" y="5806800"/>
                <a:ext cx="36720" cy="23040"/>
              </a:xfrm>
              <a:custGeom>
                <a:avLst/>
                <a:gdLst/>
                <a:ahLst/>
                <a:rect l="l" t="t" r="r" b="b"/>
                <a:pathLst>
                  <a:path w="21" h="13">
                    <a:moveTo>
                      <a:pt x="0" y="13"/>
                    </a:moveTo>
                    <a:lnTo>
                      <a:pt x="7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H="1">
                <a:off x="7805520" y="5806800"/>
                <a:ext cx="282960" cy="176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82480" y="5983560"/>
                <a:ext cx="23040" cy="15840"/>
              </a:xfrm>
              <a:custGeom>
                <a:avLst/>
                <a:gdLst/>
                <a:ahLst/>
                <a:rect l="l" t="t" r="r" b="b"/>
                <a:pathLst>
                  <a:path w="13" h="9">
                    <a:moveTo>
                      <a:pt x="13" y="0"/>
                    </a:moveTo>
                    <a:lnTo>
                      <a:pt x="11" y="3"/>
                    </a:lnTo>
                    <a:lnTo>
                      <a:pt x="9" y="7"/>
                    </a:lnTo>
                    <a:lnTo>
                      <a:pt x="6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8359560" y="563148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8467560" y="555912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3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8380800" y="5472000"/>
                <a:ext cx="259920" cy="160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V="1">
                <a:off x="8373600" y="5475960"/>
                <a:ext cx="251640" cy="155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625240" y="5459760"/>
                <a:ext cx="2052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5" y="9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H="1">
                <a:off x="8380440" y="5459760"/>
                <a:ext cx="265320" cy="164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373600" y="5624280"/>
                <a:ext cx="720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4"/>
                    </a:moveTo>
                    <a:lnTo>
                      <a:pt x="0" y="5"/>
                    </a:lnTo>
                    <a:lnTo>
                      <a:pt x="2" y="7"/>
                    </a:lnTo>
                    <a:lnTo>
                      <a:pt x="4" y="5"/>
                    </a:lnTo>
                    <a:lnTo>
                      <a:pt x="4" y="4"/>
                    </a:lnTo>
                    <a:lnTo>
                      <a:pt x="4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625240" y="544572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9" y="5"/>
                    </a:lnTo>
                    <a:lnTo>
                      <a:pt x="7" y="8"/>
                    </a:lnTo>
                    <a:lnTo>
                      <a:pt x="4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880040" y="528444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5"/>
                    </a:lnTo>
                    <a:lnTo>
                      <a:pt x="7" y="10"/>
                    </a:lnTo>
                    <a:lnTo>
                      <a:pt x="8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 flipV="1">
                <a:off x="7707960" y="5240520"/>
                <a:ext cx="366480" cy="127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 flipV="1">
                <a:off x="7695360" y="5252760"/>
                <a:ext cx="368280" cy="127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695720" y="522288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5"/>
                    </a:lnTo>
                    <a:lnTo>
                      <a:pt x="7" y="10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11560" y="5222880"/>
                <a:ext cx="367920" cy="125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8064000" y="5348160"/>
                <a:ext cx="15480" cy="32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4" y="14"/>
                    </a:lnTo>
                    <a:lnTo>
                      <a:pt x="6" y="9"/>
                    </a:lnTo>
                    <a:lnTo>
                      <a:pt x="7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575480" y="5311440"/>
                <a:ext cx="20520" cy="15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9" y="0"/>
                    </a:lnTo>
                    <a:lnTo>
                      <a:pt x="7" y="0"/>
                    </a:lnTo>
                    <a:lnTo>
                      <a:pt x="4" y="2"/>
                    </a:lnTo>
                    <a:lnTo>
                      <a:pt x="2" y="6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H="1">
                <a:off x="7408800" y="5252760"/>
                <a:ext cx="281160" cy="160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>
                <a:off x="7421040" y="5252760"/>
                <a:ext cx="273960" cy="160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1304" name=""/>
            <p:cNvGrpSpPr/>
            <p:nvPr/>
          </p:nvGrpSpPr>
          <p:grpSpPr>
            <a:xfrm>
              <a:off x="6169680" y="4147920"/>
              <a:ext cx="2495880" cy="2422800"/>
              <a:chOff x="6169680" y="4147920"/>
              <a:chExt cx="2495880" cy="2422800"/>
            </a:xfrm>
          </p:grpSpPr>
          <p:sp>
            <p:nvSpPr>
              <p:cNvPr id="1305" name=""/>
              <p:cNvSpPr/>
              <p:nvPr/>
            </p:nvSpPr>
            <p:spPr>
              <a:xfrm>
                <a:off x="7401600" y="5409720"/>
                <a:ext cx="19440" cy="1944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11" y="2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0" y="6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V="1">
                <a:off x="7401600" y="5261040"/>
                <a:ext cx="29196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7690320" y="5248800"/>
                <a:ext cx="5040" cy="12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2"/>
                    </a:moveTo>
                    <a:lnTo>
                      <a:pt x="3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7773120" y="5540760"/>
                <a:ext cx="15840" cy="334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9" y="0"/>
                    </a:moveTo>
                    <a:lnTo>
                      <a:pt x="5" y="3"/>
                    </a:lnTo>
                    <a:lnTo>
                      <a:pt x="4" y="9"/>
                    </a:lnTo>
                    <a:lnTo>
                      <a:pt x="2" y="14"/>
                    </a:lnTo>
                    <a:lnTo>
                      <a:pt x="0" y="1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7405200" y="541332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962840" y="5438160"/>
                <a:ext cx="21240" cy="31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0" y="0"/>
                    </a:moveTo>
                    <a:lnTo>
                      <a:pt x="5" y="4"/>
                    </a:lnTo>
                    <a:lnTo>
                      <a:pt x="8" y="7"/>
                    </a:lnTo>
                    <a:lnTo>
                      <a:pt x="10" y="12"/>
                    </a:lnTo>
                    <a:lnTo>
                      <a:pt x="12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 flipV="1">
                <a:off x="7805520" y="5384520"/>
                <a:ext cx="28116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 flipV="1">
                <a:off x="7789320" y="5379480"/>
                <a:ext cx="273960" cy="160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8063640" y="5379840"/>
                <a:ext cx="35640" cy="2124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6" y="0"/>
                    </a:lnTo>
                    <a:lnTo>
                      <a:pt x="11" y="2"/>
                    </a:lnTo>
                    <a:lnTo>
                      <a:pt x="16" y="7"/>
                    </a:lnTo>
                    <a:lnTo>
                      <a:pt x="20" y="1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 flipH="1">
                <a:off x="7810200" y="5401080"/>
                <a:ext cx="288360" cy="16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7789320" y="5540760"/>
                <a:ext cx="21240" cy="298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9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8373600" y="5172840"/>
                <a:ext cx="12240" cy="1764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7" y="8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8483400" y="513216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3" y="2"/>
                    </a:lnTo>
                    <a:lnTo>
                      <a:pt x="7" y="5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8393040" y="5049000"/>
                <a:ext cx="263520" cy="153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8385840" y="5036760"/>
                <a:ext cx="254880" cy="150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8640720" y="5036760"/>
                <a:ext cx="21240" cy="2808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0" y="0"/>
                    </a:moveTo>
                    <a:lnTo>
                      <a:pt x="5" y="2"/>
                    </a:lnTo>
                    <a:lnTo>
                      <a:pt x="9" y="7"/>
                    </a:lnTo>
                    <a:lnTo>
                      <a:pt x="10" y="10"/>
                    </a:lnTo>
                    <a:lnTo>
                      <a:pt x="12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 flipH="1">
                <a:off x="8392680" y="5064840"/>
                <a:ext cx="268920" cy="159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8385840" y="5187240"/>
                <a:ext cx="7200" cy="367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0" y="0"/>
                    </a:moveTo>
                    <a:lnTo>
                      <a:pt x="4" y="6"/>
                    </a:lnTo>
                    <a:lnTo>
                      <a:pt x="4" y="11"/>
                    </a:lnTo>
                    <a:lnTo>
                      <a:pt x="4" y="16"/>
                    </a:lnTo>
                    <a:lnTo>
                      <a:pt x="4" y="2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8460000" y="497448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2"/>
                    </a:moveTo>
                    <a:lnTo>
                      <a:pt x="2" y="0"/>
                    </a:lnTo>
                    <a:lnTo>
                      <a:pt x="4" y="2"/>
                    </a:lnTo>
                    <a:lnTo>
                      <a:pt x="6" y="2"/>
                    </a:lnTo>
                    <a:lnTo>
                      <a:pt x="7" y="5"/>
                    </a:lnTo>
                    <a:lnTo>
                      <a:pt x="7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H="1" flipV="1">
                <a:off x="8389440" y="4952880"/>
                <a:ext cx="263520" cy="8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 flipH="1" flipV="1">
                <a:off x="8389440" y="4955040"/>
                <a:ext cx="251280" cy="81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8389440" y="4965480"/>
                <a:ext cx="267120" cy="8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8640720" y="5033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9" y="9"/>
                    </a:moveTo>
                    <a:lnTo>
                      <a:pt x="9" y="7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7769520" y="5779800"/>
                <a:ext cx="3708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 flipV="1">
                <a:off x="7785720" y="5573880"/>
                <a:ext cx="7200" cy="41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 flipV="1">
                <a:off x="7768080" y="5573880"/>
                <a:ext cx="504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7773120" y="5570640"/>
                <a:ext cx="37080" cy="720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1" y="4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 flipH="1">
                <a:off x="7805520" y="5570640"/>
                <a:ext cx="5040" cy="412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7768080" y="5983200"/>
                <a:ext cx="3708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8646120" y="524880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4" y="7"/>
                    </a:moveTo>
                    <a:lnTo>
                      <a:pt x="7" y="6"/>
                    </a:lnTo>
                    <a:lnTo>
                      <a:pt x="7" y="4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 flipV="1">
                <a:off x="8649720" y="5057640"/>
                <a:ext cx="1584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 flipV="1">
                <a:off x="8646120" y="5064840"/>
                <a:ext cx="15840" cy="394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8656920" y="5049000"/>
                <a:ext cx="8640" cy="15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3" y="9"/>
                    </a:moveTo>
                    <a:lnTo>
                      <a:pt x="5" y="7"/>
                    </a:lnTo>
                    <a:lnTo>
                      <a:pt x="5" y="5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 flipH="1">
                <a:off x="8640720" y="5049000"/>
                <a:ext cx="15840" cy="396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8640720" y="5445000"/>
                <a:ext cx="8640" cy="1440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2" y="1"/>
                    </a:lnTo>
                    <a:lnTo>
                      <a:pt x="5" y="3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8061840" y="603828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flipH="1">
                <a:off x="8075880" y="5834520"/>
                <a:ext cx="1080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 flipH="1">
                <a:off x="8058240" y="5843520"/>
                <a:ext cx="8640" cy="396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8058240" y="623628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0" y="2"/>
                    </a:moveTo>
                    <a:lnTo>
                      <a:pt x="5" y="4"/>
                    </a:lnTo>
                    <a:lnTo>
                      <a:pt x="10" y="4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 flipV="1">
                <a:off x="8092080" y="5818320"/>
                <a:ext cx="8640" cy="417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8067240" y="581868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5" y="11"/>
                    </a:lnTo>
                    <a:lnTo>
                      <a:pt x="11" y="9"/>
                    </a:lnTo>
                    <a:lnTo>
                      <a:pt x="16" y="6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7879680" y="617292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 flipH="1" flipV="1">
                <a:off x="7706160" y="6119280"/>
                <a:ext cx="3556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 flipH="1" flipV="1">
                <a:off x="7698960" y="6107040"/>
                <a:ext cx="359280" cy="132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7698960" y="610740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5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7715160" y="6119280"/>
                <a:ext cx="3592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058240" y="623988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7706160" y="500436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3" y="7"/>
                    </a:ln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 flipV="1">
                <a:off x="7702560" y="4806360"/>
                <a:ext cx="5040" cy="4212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 flipV="1">
                <a:off x="7711560" y="4813200"/>
                <a:ext cx="7200" cy="40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7707960" y="4797360"/>
                <a:ext cx="10800" cy="158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6" y="9"/>
                    </a:moveTo>
                    <a:lnTo>
                      <a:pt x="4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flipH="1">
                <a:off x="7707960" y="4797360"/>
                <a:ext cx="7200" cy="433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7702560" y="5222520"/>
                <a:ext cx="8640" cy="864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0"/>
                    </a:moveTo>
                    <a:lnTo>
                      <a:pt x="3" y="1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3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7904520" y="484200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0" y="12"/>
                    </a:lnTo>
                    <a:lnTo>
                      <a:pt x="1" y="7"/>
                    </a:lnTo>
                    <a:lnTo>
                      <a:pt x="5" y="3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7723800" y="4794120"/>
                <a:ext cx="367920" cy="121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7718760" y="4813560"/>
                <a:ext cx="369720" cy="120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8088480" y="490392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H="1" flipV="1">
                <a:off x="7732800" y="4781880"/>
                <a:ext cx="371520" cy="121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7718760" y="4781880"/>
                <a:ext cx="14040" cy="3168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8083080" y="5139000"/>
                <a:ext cx="37080" cy="540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1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 flipH="1">
                <a:off x="8099280" y="4937400"/>
                <a:ext cx="8640" cy="422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 flipH="1">
                <a:off x="8079480" y="4933800"/>
                <a:ext cx="864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8079480" y="5348160"/>
                <a:ext cx="33480" cy="1908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0" y="0"/>
                    </a:moveTo>
                    <a:lnTo>
                      <a:pt x="5" y="6"/>
                    </a:lnTo>
                    <a:lnTo>
                      <a:pt x="12" y="9"/>
                    </a:lnTo>
                    <a:lnTo>
                      <a:pt x="19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 flipV="1">
                <a:off x="8113320" y="4929840"/>
                <a:ext cx="10080" cy="436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8088480" y="4930200"/>
                <a:ext cx="35280" cy="7200"/>
              </a:xfrm>
              <a:custGeom>
                <a:avLst/>
                <a:gdLst/>
                <a:ahLst/>
                <a:rect l="l" t="t" r="r" b="b"/>
                <a:pathLst>
                  <a:path w="20" h="4">
                    <a:moveTo>
                      <a:pt x="20" y="0"/>
                    </a:moveTo>
                    <a:lnTo>
                      <a:pt x="14" y="4"/>
                    </a:lnTo>
                    <a:lnTo>
                      <a:pt x="11" y="4"/>
                    </a:lnTo>
                    <a:lnTo>
                      <a:pt x="6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8352000" y="585936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2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 flipH="1">
                <a:off x="8355960" y="5657400"/>
                <a:ext cx="12240" cy="403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 flipH="1">
                <a:off x="8346960" y="5661000"/>
                <a:ext cx="1224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8346960" y="605412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3" y="2"/>
                    </a:lnTo>
                    <a:lnTo>
                      <a:pt x="5" y="4"/>
                    </a:lnTo>
                    <a:lnTo>
                      <a:pt x="5" y="5"/>
                    </a:lnTo>
                    <a:lnTo>
                      <a:pt x="5" y="7"/>
                    </a:lnTo>
                    <a:lnTo>
                      <a:pt x="3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 flipV="1">
                <a:off x="8352000" y="5655960"/>
                <a:ext cx="1224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8359560" y="5655960"/>
                <a:ext cx="8640" cy="5040"/>
              </a:xfrm>
              <a:custGeom>
                <a:avLst/>
                <a:gdLst/>
                <a:ahLst/>
                <a:rect l="l" t="t" r="r" b="b"/>
                <a:pathLst>
                  <a:path w="5" h="3">
                    <a:moveTo>
                      <a:pt x="0" y="3"/>
                    </a:moveTo>
                    <a:lnTo>
                      <a:pt x="1" y="3"/>
                    </a:lnTo>
                    <a:lnTo>
                      <a:pt x="3" y="3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5" y="1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8330760" y="6054120"/>
                <a:ext cx="15840" cy="3204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3" y="14"/>
                    </a:lnTo>
                    <a:lnTo>
                      <a:pt x="7" y="9"/>
                    </a:lnTo>
                    <a:lnTo>
                      <a:pt x="9" y="5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7984080" y="464544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284880" y="5742360"/>
                <a:ext cx="17640" cy="2988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  <a:lnTo>
                      <a:pt x="9" y="12"/>
                    </a:lnTo>
                    <a:lnTo>
                      <a:pt x="1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8377200" y="4971240"/>
                <a:ext cx="12240" cy="15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4" y="0"/>
                    </a:lnTo>
                    <a:lnTo>
                      <a:pt x="5" y="2"/>
                    </a:lnTo>
                    <a:lnTo>
                      <a:pt x="7" y="4"/>
                    </a:lnTo>
                    <a:lnTo>
                      <a:pt x="7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 flipH="1">
                <a:off x="8384040" y="4772880"/>
                <a:ext cx="11880" cy="417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 flipH="1">
                <a:off x="8373600" y="4764240"/>
                <a:ext cx="10800" cy="408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8373600" y="5172840"/>
                <a:ext cx="10800" cy="38880"/>
              </a:xfrm>
              <a:custGeom>
                <a:avLst/>
                <a:gdLst/>
                <a:ahLst/>
                <a:rect l="l" t="t" r="r" b="b"/>
                <a:pathLst>
                  <a:path w="6" h="22">
                    <a:moveTo>
                      <a:pt x="0" y="0"/>
                    </a:moveTo>
                    <a:lnTo>
                      <a:pt x="2" y="5"/>
                    </a:lnTo>
                    <a:lnTo>
                      <a:pt x="6" y="8"/>
                    </a:lnTo>
                    <a:lnTo>
                      <a:pt x="6" y="12"/>
                    </a:lnTo>
                    <a:lnTo>
                      <a:pt x="6" y="17"/>
                    </a:lnTo>
                    <a:lnTo>
                      <a:pt x="2" y="2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 flipV="1">
                <a:off x="8377200" y="4779360"/>
                <a:ext cx="12240" cy="431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8384400" y="4764240"/>
                <a:ext cx="11880" cy="1548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3" y="9"/>
                    </a:moveTo>
                    <a:lnTo>
                      <a:pt x="7" y="7"/>
                    </a:lnTo>
                    <a:lnTo>
                      <a:pt x="7" y="5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7693920" y="6116040"/>
                <a:ext cx="21240" cy="1548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2"/>
                    </a:moveTo>
                    <a:lnTo>
                      <a:pt x="8" y="0"/>
                    </a:lnTo>
                    <a:lnTo>
                      <a:pt x="5" y="2"/>
                    </a:lnTo>
                    <a:lnTo>
                      <a:pt x="1" y="4"/>
                    </a:lnTo>
                    <a:lnTo>
                      <a:pt x="1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7830000" y="469512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10" y="16"/>
                    </a:moveTo>
                    <a:lnTo>
                      <a:pt x="10" y="11"/>
                    </a:lnTo>
                    <a:lnTo>
                      <a:pt x="8" y="6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 flipV="1">
                <a:off x="7707960" y="4632840"/>
                <a:ext cx="2689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 flipV="1">
                <a:off x="7715160" y="4649040"/>
                <a:ext cx="268920" cy="14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7962840" y="4620600"/>
                <a:ext cx="21240" cy="284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1"/>
                    </a:lnTo>
                    <a:lnTo>
                      <a:pt x="8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 flipH="1">
                <a:off x="7693560" y="4620600"/>
                <a:ext cx="26892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7693920" y="4767480"/>
                <a:ext cx="21240" cy="298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10" y="12"/>
                    </a:lnTo>
                    <a:lnTo>
                      <a:pt x="8" y="7"/>
                    </a:lnTo>
                    <a:lnTo>
                      <a:pt x="5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7851240" y="4677480"/>
                <a:ext cx="17640" cy="2952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 flipH="1">
                <a:off x="7719840" y="4620600"/>
                <a:ext cx="26892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 flipH="1">
                <a:off x="7732440" y="4632840"/>
                <a:ext cx="26892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715160" y="4751640"/>
                <a:ext cx="17640" cy="29880"/>
              </a:xfrm>
              <a:custGeom>
                <a:avLst/>
                <a:gdLst/>
                <a:ahLst/>
                <a:rect l="l" t="t" r="r" b="b"/>
                <a:pathLst>
                  <a:path w="10" h="17">
                    <a:moveTo>
                      <a:pt x="10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 flipV="1">
                <a:off x="7715160" y="4606200"/>
                <a:ext cx="268920" cy="1450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984080" y="4606560"/>
                <a:ext cx="17640" cy="26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7" y="14"/>
                    </a:lnTo>
                    <a:lnTo>
                      <a:pt x="3" y="8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237520" y="482580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6" y="2"/>
                    </a:lnTo>
                    <a:lnTo>
                      <a:pt x="9" y="7"/>
                    </a:lnTo>
                    <a:lnTo>
                      <a:pt x="11" y="10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 flipV="1">
                <a:off x="8120520" y="4760640"/>
                <a:ext cx="265320" cy="151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 flipV="1">
                <a:off x="8104320" y="4751640"/>
                <a:ext cx="267120" cy="151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8371800" y="4751640"/>
                <a:ext cx="17640" cy="2808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5"/>
                    </a:lnTo>
                    <a:lnTo>
                      <a:pt x="10" y="10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 flipH="1">
                <a:off x="8123760" y="4779720"/>
                <a:ext cx="265680" cy="150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8104320" y="4903920"/>
                <a:ext cx="19080" cy="26280"/>
              </a:xfrm>
              <a:custGeom>
                <a:avLst/>
                <a:gdLst/>
                <a:ahLst/>
                <a:rect l="l" t="t" r="r" b="b"/>
                <a:pathLst>
                  <a:path w="11" h="15">
                    <a:moveTo>
                      <a:pt x="11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8203680" y="615312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11" y="4"/>
                    </a:lnTo>
                    <a:lnTo>
                      <a:pt x="7" y="7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 flipV="1">
                <a:off x="8086680" y="6082200"/>
                <a:ext cx="25992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 flipV="1">
                <a:off x="8092080" y="6069600"/>
                <a:ext cx="25992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8330760" y="606996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12" y="0"/>
                    </a:moveTo>
                    <a:lnTo>
                      <a:pt x="10" y="5"/>
                    </a:lnTo>
                    <a:lnTo>
                      <a:pt x="9" y="7"/>
                    </a:lnTo>
                    <a:lnTo>
                      <a:pt x="5" y="9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 flipH="1">
                <a:off x="8074440" y="6086160"/>
                <a:ext cx="25632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8074440" y="62362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3" y="9"/>
                    </a:lnTo>
                    <a:lnTo>
                      <a:pt x="7" y="9"/>
                    </a:lnTo>
                    <a:lnTo>
                      <a:pt x="10" y="6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0" name=""/>
              <p:cNvSpPr/>
              <p:nvPr/>
            </p:nvSpPr>
            <p:spPr>
              <a:xfrm>
                <a:off x="6337800" y="4760640"/>
                <a:ext cx="14040" cy="28080"/>
              </a:xfrm>
              <a:custGeom>
                <a:avLst/>
                <a:gdLst/>
                <a:ahLst/>
                <a:rect l="l" t="t" r="r" b="b"/>
                <a:pathLst>
                  <a:path w="8" h="16">
                    <a:moveTo>
                      <a:pt x="8" y="0"/>
                    </a:moveTo>
                    <a:lnTo>
                      <a:pt x="7" y="5"/>
                    </a:lnTo>
                    <a:lnTo>
                      <a:pt x="5" y="9"/>
                    </a:lnTo>
                    <a:lnTo>
                      <a:pt x="3" y="14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 flipH="1" flipV="1">
                <a:off x="6181560" y="4719240"/>
                <a:ext cx="219240" cy="74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H="1" flipV="1">
                <a:off x="6188760" y="4705200"/>
                <a:ext cx="235080" cy="7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6173280" y="4705560"/>
                <a:ext cx="15840" cy="2628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9" y="0"/>
                    </a:moveTo>
                    <a:lnTo>
                      <a:pt x="7" y="3"/>
                    </a:lnTo>
                    <a:lnTo>
                      <a:pt x="5" y="8"/>
                    </a:lnTo>
                    <a:lnTo>
                      <a:pt x="3" y="12"/>
                    </a:lnTo>
                    <a:lnTo>
                      <a:pt x="0" y="1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6173280" y="4731840"/>
                <a:ext cx="210600" cy="74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176880" y="454464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5" y="8"/>
                    </a:moveTo>
                    <a:lnTo>
                      <a:pt x="1" y="7"/>
                    </a:lnTo>
                    <a:lnTo>
                      <a:pt x="0" y="5"/>
                    </a:lnTo>
                    <a:lnTo>
                      <a:pt x="1" y="3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 flipH="1" flipV="1">
                <a:off x="6169680" y="4302360"/>
                <a:ext cx="8640" cy="404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 flipV="1">
                <a:off x="6178320" y="4312440"/>
                <a:ext cx="10800" cy="392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6173280" y="429660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3" h="9">
                    <a:moveTo>
                      <a:pt x="3" y="9"/>
                    </a:moveTo>
                    <a:lnTo>
                      <a:pt x="0" y="7"/>
                    </a:lnTo>
                    <a:lnTo>
                      <a:pt x="0" y="5"/>
                    </a:lnTo>
                    <a:lnTo>
                      <a:pt x="0" y="2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6176880" y="4296600"/>
                <a:ext cx="864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6178320" y="4705560"/>
                <a:ext cx="10800" cy="504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2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2" y="3"/>
                    </a:lnTo>
                    <a:lnTo>
                      <a:pt x="4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6342840" y="43340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6181920" y="4293360"/>
                <a:ext cx="334080" cy="10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178320" y="4312800"/>
                <a:ext cx="332640" cy="10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10960" y="4388760"/>
                <a:ext cx="14040" cy="31680"/>
              </a:xfrm>
              <a:custGeom>
                <a:avLst/>
                <a:gdLst/>
                <a:ahLst/>
                <a:rect l="l" t="t" r="r" b="b"/>
                <a:pathLst>
                  <a:path w="8" h="18">
                    <a:moveTo>
                      <a:pt x="0" y="18"/>
                    </a:moveTo>
                    <a:lnTo>
                      <a:pt x="1" y="13"/>
                    </a:lnTo>
                    <a:lnTo>
                      <a:pt x="3" y="7"/>
                    </a:lnTo>
                    <a:lnTo>
                      <a:pt x="5" y="4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 flipH="1" flipV="1">
                <a:off x="6194520" y="4280400"/>
                <a:ext cx="330480" cy="10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6178320" y="4280760"/>
                <a:ext cx="1584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6" y="4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6512760" y="4668120"/>
                <a:ext cx="35640" cy="180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6" y="1"/>
                    </a:lnTo>
                    <a:lnTo>
                      <a:pt x="11" y="1"/>
                    </a:lnTo>
                    <a:lnTo>
                      <a:pt x="16" y="1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6528960" y="4420440"/>
                <a:ext cx="7200" cy="309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6510960" y="4420440"/>
                <a:ext cx="5040" cy="318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 flipV="1">
                <a:off x="6544800" y="4416840"/>
                <a:ext cx="5040" cy="302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6510960" y="441684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6454440" y="416052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2"/>
                    </a:moveTo>
                    <a:lnTo>
                      <a:pt x="12" y="0"/>
                    </a:lnTo>
                    <a:lnTo>
                      <a:pt x="5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6482880" y="4148280"/>
                <a:ext cx="54360" cy="1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6488280" y="4164120"/>
                <a:ext cx="49320" cy="1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 flipH="1" flipV="1">
                <a:off x="6473520" y="4147920"/>
                <a:ext cx="63720" cy="2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6473880" y="4148280"/>
                <a:ext cx="14400" cy="158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5"/>
                    </a:lnTo>
                    <a:lnTo>
                      <a:pt x="8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6314760" y="4213440"/>
                <a:ext cx="19080" cy="17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0" y="10"/>
                    </a:moveTo>
                    <a:lnTo>
                      <a:pt x="2" y="5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 flipV="1">
                <a:off x="6181920" y="4151880"/>
                <a:ext cx="27972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6176880" y="4163760"/>
                <a:ext cx="277560" cy="132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6454440" y="4148280"/>
                <a:ext cx="1908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5"/>
                    </a:lnTo>
                    <a:lnTo>
                      <a:pt x="2" y="3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H="1">
                <a:off x="6194520" y="4148280"/>
                <a:ext cx="27936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6176880" y="428076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7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6525360" y="4374360"/>
                <a:ext cx="19440" cy="144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4" y="8"/>
                    </a:lnTo>
                    <a:lnTo>
                      <a:pt x="7" y="8"/>
                    </a:lnTo>
                    <a:lnTo>
                      <a:pt x="9" y="5"/>
                    </a:lnTo>
                    <a:lnTo>
                      <a:pt x="11" y="3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 flipH="1">
                <a:off x="6544440" y="4404600"/>
                <a:ext cx="24840" cy="12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6544800" y="4401360"/>
                <a:ext cx="17640" cy="1548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2" y="6"/>
                    </a:lnTo>
                    <a:lnTo>
                      <a:pt x="2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7274160" y="6194160"/>
                <a:ext cx="35280" cy="504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2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6" y="2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 flipV="1">
                <a:off x="7290000" y="6000840"/>
                <a:ext cx="360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7309440" y="6004440"/>
                <a:ext cx="1440" cy="380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7277400" y="6000840"/>
                <a:ext cx="3348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2"/>
                    </a:moveTo>
                    <a:lnTo>
                      <a:pt x="14" y="0"/>
                    </a:lnTo>
                    <a:lnTo>
                      <a:pt x="9" y="0"/>
                    </a:lnTo>
                    <a:lnTo>
                      <a:pt x="4" y="2"/>
                    </a:lnTo>
                    <a:lnTo>
                      <a:pt x="0" y="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>
                <a:off x="7274160" y="6008040"/>
                <a:ext cx="2880" cy="380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7274160" y="6383160"/>
                <a:ext cx="35280" cy="54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20" y="1"/>
                    </a:moveTo>
                    <a:lnTo>
                      <a:pt x="14" y="1"/>
                    </a:lnTo>
                    <a:lnTo>
                      <a:pt x="11" y="0"/>
                    </a:lnTo>
                    <a:lnTo>
                      <a:pt x="6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7439040" y="6023880"/>
                <a:ext cx="1548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7305840" y="5983200"/>
                <a:ext cx="359280" cy="132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7311240" y="6004440"/>
                <a:ext cx="34704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7658640" y="6103800"/>
                <a:ext cx="1548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0" y="18"/>
                    </a:moveTo>
                    <a:lnTo>
                      <a:pt x="2" y="12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 flipH="1" flipV="1">
                <a:off x="7305840" y="5967000"/>
                <a:ext cx="367920" cy="136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7305840" y="5967360"/>
                <a:ext cx="5040" cy="3708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3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7656480" y="6326280"/>
                <a:ext cx="3708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2"/>
                    </a:moveTo>
                    <a:lnTo>
                      <a:pt x="5" y="2"/>
                    </a:lnTo>
                    <a:lnTo>
                      <a:pt x="10" y="2"/>
                    </a:lnTo>
                    <a:lnTo>
                      <a:pt x="15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H="1">
                <a:off x="7670520" y="6137280"/>
                <a:ext cx="7200" cy="383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>
                <a:off x="7656120" y="6135480"/>
                <a:ext cx="180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656480" y="6519600"/>
                <a:ext cx="3348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0" y="0"/>
                    </a:moveTo>
                    <a:lnTo>
                      <a:pt x="3" y="1"/>
                    </a:lnTo>
                    <a:lnTo>
                      <a:pt x="8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7690320" y="6131880"/>
                <a:ext cx="3600" cy="387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7658640" y="6131880"/>
                <a:ext cx="35280" cy="5400"/>
              </a:xfrm>
              <a:custGeom>
                <a:avLst/>
                <a:gdLst/>
                <a:ahLst/>
                <a:rect l="l" t="t" r="r" b="b"/>
                <a:pathLst>
                  <a:path w="20" h="3">
                    <a:moveTo>
                      <a:pt x="0" y="2"/>
                    </a:moveTo>
                    <a:lnTo>
                      <a:pt x="6" y="3"/>
                    </a:lnTo>
                    <a:lnTo>
                      <a:pt x="11" y="3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7435440" y="64342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H="1" flipV="1">
                <a:off x="7301880" y="6395040"/>
                <a:ext cx="356040" cy="136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H="1" flipV="1">
                <a:off x="7309080" y="6384600"/>
                <a:ext cx="346680" cy="1342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302240" y="6384960"/>
                <a:ext cx="7200" cy="1008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2"/>
                    </a:lnTo>
                    <a:lnTo>
                      <a:pt x="2" y="4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2" y="4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7305840" y="6392160"/>
                <a:ext cx="362880" cy="139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656480" y="651960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7" y="7"/>
                    </a:moveTo>
                    <a:lnTo>
                      <a:pt x="5" y="8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7054560" y="6008040"/>
                <a:ext cx="12240" cy="2808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7" y="0"/>
                    </a:moveTo>
                    <a:lnTo>
                      <a:pt x="7" y="3"/>
                    </a:lnTo>
                    <a:lnTo>
                      <a:pt x="6" y="9"/>
                    </a:lnTo>
                    <a:lnTo>
                      <a:pt x="4" y="12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 flipH="1">
                <a:off x="7953840" y="6211800"/>
                <a:ext cx="144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7943400" y="6209640"/>
                <a:ext cx="1440" cy="123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7943400" y="6333840"/>
                <a:ext cx="10080" cy="176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1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2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7946640" y="6209280"/>
                <a:ext cx="3600" cy="141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7929000" y="633384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0" y="17"/>
                    </a:moveTo>
                    <a:lnTo>
                      <a:pt x="3" y="14"/>
                    </a:lnTo>
                    <a:lnTo>
                      <a:pt x="7" y="10"/>
                    </a:lnTo>
                    <a:lnTo>
                      <a:pt x="7" y="5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7798320" y="6434280"/>
                <a:ext cx="21240" cy="12240"/>
              </a:xfrm>
              <a:custGeom>
                <a:avLst/>
                <a:gdLst/>
                <a:ahLst/>
                <a:rect l="l" t="t" r="r" b="b"/>
                <a:pathLst>
                  <a:path w="12" h="7">
                    <a:moveTo>
                      <a:pt x="12" y="0"/>
                    </a:moveTo>
                    <a:lnTo>
                      <a:pt x="11" y="4"/>
                    </a:lnTo>
                    <a:lnTo>
                      <a:pt x="9" y="7"/>
                    </a:lnTo>
                    <a:lnTo>
                      <a:pt x="5" y="7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 flipV="1">
                <a:off x="7683120" y="6363360"/>
                <a:ext cx="25848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 flipV="1">
                <a:off x="7690320" y="6351120"/>
                <a:ext cx="25632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7929000" y="635148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8" y="7"/>
                    </a:lnTo>
                    <a:lnTo>
                      <a:pt x="5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H="1">
                <a:off x="7669080" y="6363720"/>
                <a:ext cx="25992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669080" y="6519600"/>
                <a:ext cx="21240" cy="1404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0" y="7"/>
                    </a:moveTo>
                    <a:lnTo>
                      <a:pt x="5" y="8"/>
                    </a:lnTo>
                    <a:lnTo>
                      <a:pt x="8" y="7"/>
                    </a:lnTo>
                    <a:lnTo>
                      <a:pt x="10" y="3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6620760" y="6314400"/>
                <a:ext cx="3600" cy="102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627960" y="6317640"/>
                <a:ext cx="1800" cy="90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6624360" y="6408000"/>
                <a:ext cx="8640" cy="176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5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H="1" flipV="1">
                <a:off x="6631560" y="6317280"/>
                <a:ext cx="1440" cy="10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6627960" y="6408000"/>
                <a:ext cx="21240" cy="29880"/>
              </a:xfrm>
              <a:custGeom>
                <a:avLst/>
                <a:gdLst/>
                <a:ahLst/>
                <a:rect l="l" t="t" r="r" b="b"/>
                <a:pathLst>
                  <a:path w="12" h="17">
                    <a:moveTo>
                      <a:pt x="12" y="17"/>
                    </a:moveTo>
                    <a:lnTo>
                      <a:pt x="7" y="14"/>
                    </a:lnTo>
                    <a:lnTo>
                      <a:pt x="3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7123680" y="6061320"/>
                <a:ext cx="17640" cy="2628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10" y="15"/>
                    </a:moveTo>
                    <a:lnTo>
                      <a:pt x="10" y="10"/>
                    </a:lnTo>
                    <a:lnTo>
                      <a:pt x="7" y="7"/>
                    </a:lnTo>
                    <a:lnTo>
                      <a:pt x="3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 flipH="1">
                <a:off x="6999480" y="5986800"/>
                <a:ext cx="277560" cy="1659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 flipH="1">
                <a:off x="7004520" y="6008040"/>
                <a:ext cx="272520" cy="164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6987240" y="6140520"/>
                <a:ext cx="17640" cy="32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10" y="18"/>
                    </a:moveTo>
                    <a:lnTo>
                      <a:pt x="9" y="12"/>
                    </a:lnTo>
                    <a:lnTo>
                      <a:pt x="7" y="7"/>
                    </a:lnTo>
                    <a:lnTo>
                      <a:pt x="3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 flipV="1">
                <a:off x="6987240" y="5970600"/>
                <a:ext cx="284760" cy="169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7272360" y="5970960"/>
                <a:ext cx="8640" cy="37080"/>
              </a:xfrm>
              <a:custGeom>
                <a:avLst/>
                <a:gdLst/>
                <a:ahLst/>
                <a:rect l="l" t="t" r="r" b="b"/>
                <a:pathLst>
                  <a:path w="5" h="21">
                    <a:moveTo>
                      <a:pt x="3" y="21"/>
                    </a:moveTo>
                    <a:lnTo>
                      <a:pt x="5" y="16"/>
                    </a:lnTo>
                    <a:lnTo>
                      <a:pt x="5" y="10"/>
                    </a:lnTo>
                    <a:lnTo>
                      <a:pt x="3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6971760" y="6363720"/>
                <a:ext cx="33120" cy="7200"/>
              </a:xfrm>
              <a:custGeom>
                <a:avLst/>
                <a:gdLst/>
                <a:ahLst/>
                <a:rect l="l" t="t" r="r" b="b"/>
                <a:pathLst>
                  <a:path w="19" h="4">
                    <a:moveTo>
                      <a:pt x="19" y="0"/>
                    </a:moveTo>
                    <a:lnTo>
                      <a:pt x="14" y="2"/>
                    </a:lnTo>
                    <a:lnTo>
                      <a:pt x="11" y="4"/>
                    </a:lnTo>
                    <a:lnTo>
                      <a:pt x="5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6987240" y="6174360"/>
                <a:ext cx="3600" cy="387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7004880" y="6172920"/>
                <a:ext cx="1800" cy="383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971760" y="6556680"/>
                <a:ext cx="3312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3"/>
                    </a:lnTo>
                    <a:lnTo>
                      <a:pt x="11" y="3"/>
                    </a:lnTo>
                    <a:lnTo>
                      <a:pt x="5" y="3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 flipV="1">
                <a:off x="6971760" y="6172560"/>
                <a:ext cx="1440" cy="385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6971760" y="6172920"/>
                <a:ext cx="33120" cy="5040"/>
              </a:xfrm>
              <a:custGeom>
                <a:avLst/>
                <a:gdLst/>
                <a:ahLst/>
                <a:rect l="l" t="t" r="r" b="b"/>
                <a:pathLst>
                  <a:path w="19" h="3">
                    <a:moveTo>
                      <a:pt x="19" y="0"/>
                    </a:moveTo>
                    <a:lnTo>
                      <a:pt x="14" y="1"/>
                    </a:lnTo>
                    <a:lnTo>
                      <a:pt x="9" y="3"/>
                    </a:lnTo>
                    <a:lnTo>
                      <a:pt x="4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123680" y="647172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10" y="0"/>
                    </a:moveTo>
                    <a:lnTo>
                      <a:pt x="10" y="4"/>
                    </a:lnTo>
                    <a:lnTo>
                      <a:pt x="7" y="7"/>
                    </a:lnTo>
                    <a:lnTo>
                      <a:pt x="3" y="9"/>
                    </a:lnTo>
                    <a:lnTo>
                      <a:pt x="0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6999840" y="6397200"/>
                <a:ext cx="277560" cy="173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 flipV="1">
                <a:off x="7004880" y="6388200"/>
                <a:ext cx="269280" cy="168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7272360" y="6388560"/>
                <a:ext cx="5040" cy="8640"/>
              </a:xfrm>
              <a:custGeom>
                <a:avLst/>
                <a:gdLst/>
                <a:ahLst/>
                <a:rect l="l" t="t" r="r" b="b"/>
                <a:pathLst>
                  <a:path w="3" h="5">
                    <a:moveTo>
                      <a:pt x="1" y="0"/>
                    </a:moveTo>
                    <a:lnTo>
                      <a:pt x="3" y="2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1" y="5"/>
                    </a:lnTo>
                    <a:lnTo>
                      <a:pt x="1" y="5"/>
                    </a:lnTo>
                    <a:lnTo>
                      <a:pt x="0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 flipH="1">
                <a:off x="6986880" y="6392160"/>
                <a:ext cx="284760" cy="178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6987240" y="6556680"/>
                <a:ext cx="17640" cy="1404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8"/>
                    </a:moveTo>
                    <a:lnTo>
                      <a:pt x="3" y="8"/>
                    </a:lnTo>
                    <a:lnTo>
                      <a:pt x="7" y="8"/>
                    </a:lnTo>
                    <a:lnTo>
                      <a:pt x="10" y="5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1505" name=""/>
            <p:cNvGrpSpPr/>
            <p:nvPr/>
          </p:nvGrpSpPr>
          <p:grpSpPr>
            <a:xfrm>
              <a:off x="5867280" y="3789000"/>
              <a:ext cx="2782440" cy="2785680"/>
              <a:chOff x="5867280" y="3789000"/>
              <a:chExt cx="2782440" cy="2785680"/>
            </a:xfrm>
          </p:grpSpPr>
          <p:sp>
            <p:nvSpPr>
              <p:cNvPr id="1506" name=""/>
              <p:cNvSpPr/>
              <p:nvPr/>
            </p:nvSpPr>
            <p:spPr>
              <a:xfrm>
                <a:off x="6801480" y="649188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6636960" y="6438240"/>
                <a:ext cx="33768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6633360" y="6426000"/>
                <a:ext cx="33840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6971760" y="655884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6"/>
                    </a:lnTo>
                    <a:lnTo>
                      <a:pt x="4" y="7"/>
                    </a:lnTo>
                    <a:lnTo>
                      <a:pt x="5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 flipV="1">
                <a:off x="6649560" y="6437880"/>
                <a:ext cx="33768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633360" y="6426000"/>
                <a:ext cx="1584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6" y="7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888240" y="409032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2" y="7"/>
                    </a:moveTo>
                    <a:lnTo>
                      <a:pt x="3" y="5"/>
                    </a:lnTo>
                    <a:lnTo>
                      <a:pt x="3" y="3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6786000" y="4136040"/>
                <a:ext cx="21240" cy="15840"/>
              </a:xfrm>
              <a:custGeom>
                <a:avLst/>
                <a:gdLst/>
                <a:ahLst/>
                <a:rect l="l" t="t" r="r" b="b"/>
                <a:pathLst>
                  <a:path w="12" h="9">
                    <a:moveTo>
                      <a:pt x="0" y="9"/>
                    </a:moveTo>
                    <a:lnTo>
                      <a:pt x="2" y="5"/>
                    </a:lnTo>
                    <a:lnTo>
                      <a:pt x="4" y="2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H="1">
                <a:off x="6608880" y="4083120"/>
                <a:ext cx="295200" cy="142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>
                <a:off x="6606720" y="4102560"/>
                <a:ext cx="284760" cy="1375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6607080" y="422244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0" y="10"/>
                    </a:moveTo>
                    <a:lnTo>
                      <a:pt x="0" y="7"/>
                    </a:lnTo>
                    <a:lnTo>
                      <a:pt x="1" y="3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V="1">
                <a:off x="6624720" y="4077720"/>
                <a:ext cx="300960" cy="144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6891840" y="407772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5" y="5"/>
                    </a:lnTo>
                    <a:lnTo>
                      <a:pt x="8" y="1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6603480" y="444924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5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6600240" y="4247640"/>
                <a:ext cx="288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607080" y="4240440"/>
                <a:ext cx="1800" cy="416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6607080" y="4656600"/>
                <a:ext cx="5040" cy="1404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H="1" flipV="1">
                <a:off x="6608880" y="4256280"/>
                <a:ext cx="288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6600240" y="424044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608880" y="465660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0" y="0"/>
                    </a:moveTo>
                    <a:lnTo>
                      <a:pt x="2" y="5"/>
                    </a:lnTo>
                    <a:lnTo>
                      <a:pt x="4" y="10"/>
                    </a:lnTo>
                    <a:lnTo>
                      <a:pt x="7" y="14"/>
                    </a:lnTo>
                    <a:lnTo>
                      <a:pt x="13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194600" y="393768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19" y="0"/>
                    </a:moveTo>
                    <a:lnTo>
                      <a:pt x="14" y="2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7497360" y="3805200"/>
                <a:ext cx="35640" cy="1440"/>
              </a:xfrm>
              <a:custGeom>
                <a:avLst/>
                <a:gdLst/>
                <a:ahLst/>
                <a:rect l="l" t="t" r="r" b="b"/>
                <a:pathLst>
                  <a:path w="20" h="1">
                    <a:moveTo>
                      <a:pt x="0" y="1"/>
                    </a:moveTo>
                    <a:lnTo>
                      <a:pt x="7" y="0"/>
                    </a:lnTo>
                    <a:lnTo>
                      <a:pt x="13" y="0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331040" y="3868560"/>
                <a:ext cx="17640" cy="1944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11"/>
                    </a:moveTo>
                    <a:lnTo>
                      <a:pt x="0" y="7"/>
                    </a:lnTo>
                    <a:lnTo>
                      <a:pt x="3" y="4"/>
                    </a:lnTo>
                    <a:lnTo>
                      <a:pt x="5" y="2"/>
                    </a:lnTo>
                    <a:lnTo>
                      <a:pt x="7" y="0"/>
                    </a:lnTo>
                    <a:lnTo>
                      <a:pt x="1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 flipH="1">
                <a:off x="7228080" y="3792960"/>
                <a:ext cx="276120" cy="132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>
                <a:off x="7228080" y="3807000"/>
                <a:ext cx="26892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228440" y="392580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0" y="7"/>
                    </a:moveTo>
                    <a:lnTo>
                      <a:pt x="0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 flipV="1">
                <a:off x="7235640" y="3789000"/>
                <a:ext cx="281160" cy="139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7497360" y="378936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284960" y="442980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8" y="0"/>
                    </a:lnTo>
                    <a:lnTo>
                      <a:pt x="14" y="0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7299000" y="4219200"/>
                <a:ext cx="3600" cy="413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7284960" y="4226400"/>
                <a:ext cx="1800" cy="41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7284960" y="421956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0" y="4"/>
                    </a:moveTo>
                    <a:lnTo>
                      <a:pt x="7" y="0"/>
                    </a:lnTo>
                    <a:lnTo>
                      <a:pt x="14" y="0"/>
                    </a:lnTo>
                    <a:lnTo>
                      <a:pt x="21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 flipH="1">
                <a:off x="7318800" y="4222440"/>
                <a:ext cx="3600" cy="414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7284960" y="4633200"/>
                <a:ext cx="33480" cy="3600"/>
              </a:xfrm>
              <a:custGeom>
                <a:avLst/>
                <a:gdLst/>
                <a:ahLst/>
                <a:rect l="l" t="t" r="r" b="b"/>
                <a:pathLst>
                  <a:path w="19" h="2">
                    <a:moveTo>
                      <a:pt x="0" y="2"/>
                    </a:moveTo>
                    <a:lnTo>
                      <a:pt x="5" y="0"/>
                    </a:lnTo>
                    <a:lnTo>
                      <a:pt x="12" y="0"/>
                    </a:lnTo>
                    <a:lnTo>
                      <a:pt x="19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7161480" y="4247640"/>
                <a:ext cx="20520" cy="2844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6"/>
                    </a:moveTo>
                    <a:lnTo>
                      <a:pt x="10" y="10"/>
                    </a:lnTo>
                    <a:lnTo>
                      <a:pt x="9" y="7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H="1">
                <a:off x="6995880" y="4201200"/>
                <a:ext cx="29052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>
                <a:off x="7003080" y="4226400"/>
                <a:ext cx="281160" cy="141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6980760" y="4337640"/>
                <a:ext cx="22680" cy="29880"/>
              </a:xfrm>
              <a:custGeom>
                <a:avLst/>
                <a:gdLst/>
                <a:ahLst/>
                <a:rect l="l" t="t" r="r" b="b"/>
                <a:pathLst>
                  <a:path w="13" h="17">
                    <a:moveTo>
                      <a:pt x="13" y="17"/>
                    </a:moveTo>
                    <a:lnTo>
                      <a:pt x="11" y="12"/>
                    </a:lnTo>
                    <a:lnTo>
                      <a:pt x="9" y="7"/>
                    </a:lnTo>
                    <a:lnTo>
                      <a:pt x="6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6980760" y="4189320"/>
                <a:ext cx="300600" cy="14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7281360" y="4189320"/>
                <a:ext cx="5400" cy="36720"/>
              </a:xfrm>
              <a:custGeom>
                <a:avLst/>
                <a:gdLst/>
                <a:ahLst/>
                <a:rect l="l" t="t" r="r" b="b"/>
                <a:pathLst>
                  <a:path w="3" h="21">
                    <a:moveTo>
                      <a:pt x="2" y="21"/>
                    </a:moveTo>
                    <a:lnTo>
                      <a:pt x="3" y="15"/>
                    </a:lnTo>
                    <a:lnTo>
                      <a:pt x="3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6966360" y="4578480"/>
                <a:ext cx="3708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21" y="0"/>
                    </a:moveTo>
                    <a:lnTo>
                      <a:pt x="15" y="2"/>
                    </a:lnTo>
                    <a:lnTo>
                      <a:pt x="10" y="2"/>
                    </a:ln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6984360" y="4371480"/>
                <a:ext cx="1440" cy="420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7003440" y="4367880"/>
                <a:ext cx="144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6966360" y="4785840"/>
                <a:ext cx="37080" cy="6480"/>
              </a:xfrm>
              <a:custGeom>
                <a:avLst/>
                <a:gdLst/>
                <a:ahLst/>
                <a:rect l="l" t="t" r="r" b="b"/>
                <a:pathLst>
                  <a:path w="21" h="4">
                    <a:moveTo>
                      <a:pt x="21" y="0"/>
                    </a:moveTo>
                    <a:lnTo>
                      <a:pt x="14" y="4"/>
                    </a:lnTo>
                    <a:lnTo>
                      <a:pt x="7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V="1">
                <a:off x="6966360" y="4367520"/>
                <a:ext cx="1800" cy="420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6966360" y="4367880"/>
                <a:ext cx="37080" cy="3600"/>
              </a:xfrm>
              <a:custGeom>
                <a:avLst/>
                <a:gdLst/>
                <a:ahLst/>
                <a:rect l="l" t="t" r="r" b="b"/>
                <a:pathLst>
                  <a:path w="21" h="2">
                    <a:moveTo>
                      <a:pt x="0" y="0"/>
                    </a:moveTo>
                    <a:lnTo>
                      <a:pt x="7" y="2"/>
                    </a:lnTo>
                    <a:lnTo>
                      <a:pt x="14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7161480" y="469332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0"/>
                    </a:moveTo>
                    <a:lnTo>
                      <a:pt x="10" y="5"/>
                    </a:lnTo>
                    <a:lnTo>
                      <a:pt x="9" y="8"/>
                    </a:lnTo>
                    <a:lnTo>
                      <a:pt x="5" y="8"/>
                    </a:lnTo>
                    <a:lnTo>
                      <a:pt x="3" y="10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 flipV="1">
                <a:off x="6996240" y="4649400"/>
                <a:ext cx="288360" cy="151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003440" y="4636440"/>
                <a:ext cx="281160" cy="148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7278120" y="46368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0"/>
                    </a:moveTo>
                    <a:lnTo>
                      <a:pt x="4" y="4"/>
                    </a:lnTo>
                    <a:lnTo>
                      <a:pt x="4" y="5"/>
                    </a:lnTo>
                    <a:lnTo>
                      <a:pt x="4" y="7"/>
                    </a:lnTo>
                    <a:lnTo>
                      <a:pt x="2" y="7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H="1">
                <a:off x="6980760" y="4645800"/>
                <a:ext cx="297360" cy="159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6980760" y="4785840"/>
                <a:ext cx="22680" cy="19080"/>
              </a:xfrm>
              <a:custGeom>
                <a:avLst/>
                <a:gdLst/>
                <a:ahLst/>
                <a:rect l="l" t="t" r="r" b="b"/>
                <a:pathLst>
                  <a:path w="13" h="11">
                    <a:moveTo>
                      <a:pt x="13" y="0"/>
                    </a:moveTo>
                    <a:lnTo>
                      <a:pt x="13" y="4"/>
                    </a:lnTo>
                    <a:lnTo>
                      <a:pt x="11" y="7"/>
                    </a:lnTo>
                    <a:lnTo>
                      <a:pt x="7" y="9"/>
                    </a:lnTo>
                    <a:lnTo>
                      <a:pt x="6" y="11"/>
                    </a:lnTo>
                    <a:lnTo>
                      <a:pt x="0" y="1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7616160" y="40543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0"/>
                    </a:moveTo>
                    <a:lnTo>
                      <a:pt x="0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3" y="7"/>
                    </a:lnTo>
                    <a:lnTo>
                      <a:pt x="5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 flipV="1">
                <a:off x="7888680" y="3916440"/>
                <a:ext cx="3600" cy="197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 flipV="1">
                <a:off x="7881480" y="3922200"/>
                <a:ext cx="3600" cy="1893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7881480" y="3909600"/>
                <a:ext cx="10800" cy="122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2" y="7"/>
                    </a:moveTo>
                    <a:lnTo>
                      <a:pt x="4" y="5"/>
                    </a:lnTo>
                    <a:lnTo>
                      <a:pt x="6" y="4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 flipH="1">
                <a:off x="7876440" y="3909600"/>
                <a:ext cx="5040" cy="201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7699320" y="397872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12" y="15"/>
                    </a:moveTo>
                    <a:lnTo>
                      <a:pt x="11" y="10"/>
                    </a:lnTo>
                    <a:lnTo>
                      <a:pt x="9" y="5"/>
                    </a:lnTo>
                    <a:lnTo>
                      <a:pt x="5" y="1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 flipH="1">
                <a:off x="7606800" y="3904200"/>
                <a:ext cx="273960" cy="1357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 flipH="1">
                <a:off x="7621200" y="3922200"/>
                <a:ext cx="263520" cy="132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7584120" y="4033440"/>
                <a:ext cx="37080" cy="20520"/>
              </a:xfrm>
              <a:custGeom>
                <a:avLst/>
                <a:gdLst/>
                <a:ahLst/>
                <a:rect l="l" t="t" r="r" b="b"/>
                <a:pathLst>
                  <a:path w="21" h="12">
                    <a:moveTo>
                      <a:pt x="21" y="12"/>
                    </a:moveTo>
                    <a:lnTo>
                      <a:pt x="18" y="7"/>
                    </a:lnTo>
                    <a:lnTo>
                      <a:pt x="13" y="4"/>
                    </a:lnTo>
                    <a:lnTo>
                      <a:pt x="7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 flipV="1">
                <a:off x="7584120" y="3893040"/>
                <a:ext cx="283320" cy="140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67440" y="3893400"/>
                <a:ext cx="17640" cy="28440"/>
              </a:xfrm>
              <a:custGeom>
                <a:avLst/>
                <a:gdLst/>
                <a:ahLst/>
                <a:rect l="l" t="t" r="r" b="b"/>
                <a:pathLst>
                  <a:path w="10" h="16">
                    <a:moveTo>
                      <a:pt x="0" y="0"/>
                    </a:moveTo>
                    <a:lnTo>
                      <a:pt x="5" y="2"/>
                    </a:lnTo>
                    <a:lnTo>
                      <a:pt x="8" y="6"/>
                    </a:lnTo>
                    <a:lnTo>
                      <a:pt x="10" y="11"/>
                    </a:lnTo>
                    <a:lnTo>
                      <a:pt x="1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690320" y="383868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5"/>
                    </a:lnTo>
                    <a:lnTo>
                      <a:pt x="7" y="2"/>
                    </a:lnTo>
                    <a:lnTo>
                      <a:pt x="5" y="2"/>
                    </a:lnTo>
                    <a:lnTo>
                      <a:pt x="2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525800" y="3792960"/>
                <a:ext cx="350280" cy="100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533000" y="3805200"/>
                <a:ext cx="34812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7867440" y="3891960"/>
                <a:ext cx="14040" cy="1764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8" y="10"/>
                    </a:moveTo>
                    <a:lnTo>
                      <a:pt x="8" y="7"/>
                    </a:lnTo>
                    <a:lnTo>
                      <a:pt x="7" y="3"/>
                    </a:ln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1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 flipH="1" flipV="1">
                <a:off x="7516800" y="3789000"/>
                <a:ext cx="350280" cy="104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7517160" y="3789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3" y="0"/>
                    </a:lnTo>
                    <a:lnTo>
                      <a:pt x="5" y="0"/>
                    </a:lnTo>
                    <a:lnTo>
                      <a:pt x="7" y="2"/>
                    </a:lnTo>
                    <a:lnTo>
                      <a:pt x="7" y="3"/>
                    </a:lnTo>
                    <a:lnTo>
                      <a:pt x="9" y="7"/>
                    </a:lnTo>
                    <a:lnTo>
                      <a:pt x="9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6786000" y="4281120"/>
                <a:ext cx="15480" cy="31680"/>
              </a:xfrm>
              <a:custGeom>
                <a:avLst/>
                <a:gdLst/>
                <a:ahLst/>
                <a:rect l="l" t="t" r="r" b="b"/>
                <a:pathLst>
                  <a:path w="9" h="18">
                    <a:moveTo>
                      <a:pt x="9" y="0"/>
                    </a:moveTo>
                    <a:lnTo>
                      <a:pt x="5" y="2"/>
                    </a:lnTo>
                    <a:lnTo>
                      <a:pt x="2" y="7"/>
                    </a:lnTo>
                    <a:lnTo>
                      <a:pt x="0" y="12"/>
                    </a:lnTo>
                    <a:lnTo>
                      <a:pt x="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6612120" y="4235040"/>
                <a:ext cx="35604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6624720" y="4222440"/>
                <a:ext cx="35604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6966360" y="4337640"/>
                <a:ext cx="1440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5" y="3"/>
                    </a:lnTo>
                    <a:lnTo>
                      <a:pt x="1" y="8"/>
                    </a:lnTo>
                    <a:lnTo>
                      <a:pt x="0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 flipV="1">
                <a:off x="6608880" y="4255920"/>
                <a:ext cx="35712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6608880" y="4222440"/>
                <a:ext cx="15480" cy="3348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0" y="19"/>
                    </a:moveTo>
                    <a:lnTo>
                      <a:pt x="0" y="14"/>
                    </a:lnTo>
                    <a:lnTo>
                      <a:pt x="2" y="9"/>
                    </a:lnTo>
                    <a:lnTo>
                      <a:pt x="6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 flipH="1" flipV="1">
                <a:off x="6561360" y="4401360"/>
                <a:ext cx="38880" cy="15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 flipH="1" flipV="1">
                <a:off x="6548760" y="4387320"/>
                <a:ext cx="51120" cy="18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548760" y="438732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0" y="3"/>
                    </a:lnTo>
                    <a:lnTo>
                      <a:pt x="1" y="7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8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537960" y="416952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4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 flipH="1" flipV="1">
                <a:off x="6536160" y="3974760"/>
                <a:ext cx="1440" cy="4050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H="1" flipV="1">
                <a:off x="6545160" y="3980160"/>
                <a:ext cx="3600" cy="406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6536160" y="39679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5" y="7"/>
                    </a:moveTo>
                    <a:lnTo>
                      <a:pt x="1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6541560" y="3967920"/>
                <a:ext cx="3600" cy="407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6541560" y="4375080"/>
                <a:ext cx="7200" cy="11880"/>
              </a:xfrm>
              <a:custGeom>
                <a:avLst/>
                <a:gdLst/>
                <a:ahLst/>
                <a:rect l="l" t="t" r="r" b="b"/>
                <a:pathLst>
                  <a:path w="4" h="7">
                    <a:moveTo>
                      <a:pt x="4" y="7"/>
                    </a:moveTo>
                    <a:lnTo>
                      <a:pt x="2" y="5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6715080" y="400356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6548760" y="3962520"/>
                <a:ext cx="35532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6545160" y="3980160"/>
                <a:ext cx="343080" cy="1098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6888240" y="4065120"/>
                <a:ext cx="33480" cy="24840"/>
              </a:xfrm>
              <a:custGeom>
                <a:avLst/>
                <a:gdLst/>
                <a:ahLst/>
                <a:rect l="l" t="t" r="r" b="b"/>
                <a:pathLst>
                  <a:path w="19" h="14">
                    <a:moveTo>
                      <a:pt x="0" y="14"/>
                    </a:moveTo>
                    <a:lnTo>
                      <a:pt x="3" y="8"/>
                    </a:lnTo>
                    <a:lnTo>
                      <a:pt x="9" y="3"/>
                    </a:lnTo>
                    <a:lnTo>
                      <a:pt x="14" y="1"/>
                    </a:lnTo>
                    <a:lnTo>
                      <a:pt x="1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H="1" flipV="1">
                <a:off x="6561360" y="3949920"/>
                <a:ext cx="3607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6545160" y="395028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3" y="3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7500960" y="42476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2" y="12"/>
                    </a:lnTo>
                    <a:lnTo>
                      <a:pt x="4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315200" y="4201200"/>
                <a:ext cx="375120" cy="113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322400" y="4222440"/>
                <a:ext cx="360720" cy="11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683120" y="430236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9" h="20">
                    <a:moveTo>
                      <a:pt x="0" y="20"/>
                    </a:moveTo>
                    <a:lnTo>
                      <a:pt x="2" y="14"/>
                    </a:lnTo>
                    <a:lnTo>
                      <a:pt x="4" y="9"/>
                    </a:lnTo>
                    <a:lnTo>
                      <a:pt x="6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 flipV="1">
                <a:off x="7314840" y="4185720"/>
                <a:ext cx="38412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315200" y="4185720"/>
                <a:ext cx="7200" cy="36720"/>
              </a:xfrm>
              <a:custGeom>
                <a:avLst/>
                <a:gdLst/>
                <a:ahLst/>
                <a:rect l="l" t="t" r="r" b="b"/>
                <a:pathLst>
                  <a:path w="4" h="21">
                    <a:moveTo>
                      <a:pt x="4" y="21"/>
                    </a:moveTo>
                    <a:lnTo>
                      <a:pt x="0" y="14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681680" y="4545000"/>
                <a:ext cx="37080" cy="1440"/>
              </a:xfrm>
              <a:custGeom>
                <a:avLst/>
                <a:gdLst/>
                <a:ahLst/>
                <a:rect l="l" t="t" r="r" b="b"/>
                <a:pathLst>
                  <a:path w="21" h="1">
                    <a:moveTo>
                      <a:pt x="0" y="0"/>
                    </a:moveTo>
                    <a:lnTo>
                      <a:pt x="5" y="1"/>
                    </a:lnTo>
                    <a:lnTo>
                      <a:pt x="10" y="1"/>
                    </a:lnTo>
                    <a:lnTo>
                      <a:pt x="15" y="1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7695720" y="4337640"/>
                <a:ext cx="720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H="1">
                <a:off x="7678080" y="4337640"/>
                <a:ext cx="504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7678080" y="4752000"/>
                <a:ext cx="370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0" y="2"/>
                    </a:moveTo>
                    <a:lnTo>
                      <a:pt x="5" y="3"/>
                    </a:lnTo>
                    <a:lnTo>
                      <a:pt x="10" y="3"/>
                    </a:lnTo>
                    <a:lnTo>
                      <a:pt x="16" y="2"/>
                    </a:lnTo>
                    <a:lnTo>
                      <a:pt x="2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7715160" y="4334040"/>
                <a:ext cx="5040" cy="417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7683120" y="4334040"/>
                <a:ext cx="37080" cy="5040"/>
              </a:xfrm>
              <a:custGeom>
                <a:avLst/>
                <a:gdLst/>
                <a:ahLst/>
                <a:rect l="l" t="t" r="r" b="b"/>
                <a:pathLst>
                  <a:path w="21" h="3">
                    <a:moveTo>
                      <a:pt x="21" y="0"/>
                    </a:moveTo>
                    <a:lnTo>
                      <a:pt x="16" y="2"/>
                    </a:lnTo>
                    <a:lnTo>
                      <a:pt x="11" y="3"/>
                    </a:lnTo>
                    <a:lnTo>
                      <a:pt x="6" y="2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7497360" y="4695480"/>
                <a:ext cx="15840" cy="1548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4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6" y="9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 flipH="1" flipV="1">
                <a:off x="7311600" y="4645800"/>
                <a:ext cx="371520" cy="122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 flipH="1" flipV="1">
                <a:off x="7318800" y="4636440"/>
                <a:ext cx="359280" cy="11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7315200" y="4636800"/>
                <a:ext cx="3600" cy="8640"/>
              </a:xfrm>
              <a:custGeom>
                <a:avLst/>
                <a:gdLst/>
                <a:ahLst/>
                <a:rect l="l" t="t" r="r" b="b"/>
                <a:pathLst>
                  <a:path w="2" h="5">
                    <a:moveTo>
                      <a:pt x="2" y="0"/>
                    </a:moveTo>
                    <a:lnTo>
                      <a:pt x="2" y="2"/>
                    </a:lnTo>
                    <a:lnTo>
                      <a:pt x="0" y="4"/>
                    </a:lnTo>
                    <a:lnTo>
                      <a:pt x="0" y="5"/>
                    </a:lnTo>
                    <a:lnTo>
                      <a:pt x="0" y="5"/>
                    </a:lnTo>
                    <a:lnTo>
                      <a:pt x="0" y="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7315200" y="4645800"/>
                <a:ext cx="378720" cy="122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7678080" y="475560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2" y="3"/>
                    </a:lnTo>
                    <a:lnTo>
                      <a:pt x="2" y="5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6819480" y="3831840"/>
                <a:ext cx="35640" cy="3600"/>
              </a:xfrm>
              <a:custGeom>
                <a:avLst/>
                <a:gdLst/>
                <a:ahLst/>
                <a:rect l="l" t="t" r="r" b="b"/>
                <a:pathLst>
                  <a:path w="20" h="2">
                    <a:moveTo>
                      <a:pt x="20" y="2"/>
                    </a:moveTo>
                    <a:lnTo>
                      <a:pt x="13" y="0"/>
                    </a:lnTo>
                    <a:lnTo>
                      <a:pt x="6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7008840" y="3868560"/>
                <a:ext cx="15840" cy="1944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4"/>
                    </a:lnTo>
                    <a:lnTo>
                      <a:pt x="5" y="0"/>
                    </a:lnTo>
                    <a:lnTo>
                      <a:pt x="4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6847920" y="3819240"/>
                <a:ext cx="353880" cy="109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6855120" y="3835440"/>
                <a:ext cx="339480" cy="102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7194600" y="3928680"/>
                <a:ext cx="720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5"/>
                    </a:moveTo>
                    <a:lnTo>
                      <a:pt x="2" y="3"/>
                    </a:lnTo>
                    <a:lnTo>
                      <a:pt x="4" y="1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6838920" y="3819240"/>
                <a:ext cx="362880" cy="109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6838920" y="381780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1"/>
                    </a:moveTo>
                    <a:lnTo>
                      <a:pt x="3" y="0"/>
                    </a:lnTo>
                    <a:lnTo>
                      <a:pt x="5" y="1"/>
                    </a:lnTo>
                    <a:lnTo>
                      <a:pt x="7" y="3"/>
                    </a:lnTo>
                    <a:lnTo>
                      <a:pt x="7" y="7"/>
                    </a:lnTo>
                    <a:lnTo>
                      <a:pt x="9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789680" y="4104360"/>
                <a:ext cx="15840" cy="1908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9" y="11"/>
                    </a:moveTo>
                    <a:lnTo>
                      <a:pt x="9" y="6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612560" y="4052880"/>
                <a:ext cx="37152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625160" y="4066920"/>
                <a:ext cx="362880" cy="11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7971840" y="4160880"/>
                <a:ext cx="15840" cy="1764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9" y="10"/>
                    </a:moveTo>
                    <a:lnTo>
                      <a:pt x="9" y="7"/>
                    </a:lnTo>
                    <a:lnTo>
                      <a:pt x="9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7590960" y="4045320"/>
                <a:ext cx="380520" cy="118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7984440" y="43873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0" y="0"/>
                    </a:moveTo>
                    <a:lnTo>
                      <a:pt x="2" y="0"/>
                    </a:lnTo>
                    <a:lnTo>
                      <a:pt x="3" y="1"/>
                    </a:lnTo>
                    <a:lnTo>
                      <a:pt x="5" y="3"/>
                    </a:lnTo>
                    <a:lnTo>
                      <a:pt x="3" y="5"/>
                    </a:lnTo>
                    <a:lnTo>
                      <a:pt x="2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H="1">
                <a:off x="7988040" y="4185720"/>
                <a:ext cx="8640" cy="4104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 flipH="1">
                <a:off x="7976880" y="4178520"/>
                <a:ext cx="10800" cy="4125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976880" y="4591080"/>
                <a:ext cx="10800" cy="1548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2"/>
                    </a:lnTo>
                    <a:lnTo>
                      <a:pt x="6" y="3"/>
                    </a:lnTo>
                    <a:lnTo>
                      <a:pt x="6" y="5"/>
                    </a:lnTo>
                    <a:lnTo>
                      <a:pt x="6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 flipV="1">
                <a:off x="7984440" y="4190760"/>
                <a:ext cx="8640" cy="4154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7988040" y="4178520"/>
                <a:ext cx="8640" cy="12240"/>
              </a:xfrm>
              <a:custGeom>
                <a:avLst/>
                <a:gdLst/>
                <a:ahLst/>
                <a:rect l="l" t="t" r="r" b="b"/>
                <a:pathLst>
                  <a:path w="5" h="7">
                    <a:moveTo>
                      <a:pt x="3" y="7"/>
                    </a:moveTo>
                    <a:lnTo>
                      <a:pt x="5" y="6"/>
                    </a:lnTo>
                    <a:lnTo>
                      <a:pt x="5" y="4"/>
                    </a:lnTo>
                    <a:lnTo>
                      <a:pt x="3" y="2"/>
                    </a:lnTo>
                    <a:lnTo>
                      <a:pt x="1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7962840" y="4591080"/>
                <a:ext cx="14040" cy="29880"/>
              </a:xfrm>
              <a:custGeom>
                <a:avLst/>
                <a:gdLst/>
                <a:ahLst/>
                <a:rect l="l" t="t" r="r" b="b"/>
                <a:pathLst>
                  <a:path w="8" h="17">
                    <a:moveTo>
                      <a:pt x="8" y="0"/>
                    </a:moveTo>
                    <a:lnTo>
                      <a:pt x="8" y="5"/>
                    </a:lnTo>
                    <a:lnTo>
                      <a:pt x="7" y="9"/>
                    </a:lnTo>
                    <a:lnTo>
                      <a:pt x="3" y="14"/>
                    </a:lnTo>
                    <a:lnTo>
                      <a:pt x="0" y="1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6681240" y="3884760"/>
                <a:ext cx="1800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0" y="5"/>
                    </a:lnTo>
                    <a:lnTo>
                      <a:pt x="3" y="2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6545160" y="3822480"/>
                <a:ext cx="27756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6541560" y="3835080"/>
                <a:ext cx="277560" cy="1321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6819480" y="381924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0" y="9"/>
                    </a:move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lnTo>
                      <a:pt x="7" y="0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H="1">
                <a:off x="6561000" y="3819240"/>
                <a:ext cx="277560" cy="1306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6541560" y="3950280"/>
                <a:ext cx="19440" cy="1764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11" y="0"/>
                    </a:moveTo>
                    <a:lnTo>
                      <a:pt x="7" y="0"/>
                    </a:lnTo>
                    <a:lnTo>
                      <a:pt x="4" y="2"/>
                    </a:lnTo>
                    <a:lnTo>
                      <a:pt x="2" y="3"/>
                    </a:lnTo>
                    <a:lnTo>
                      <a:pt x="0" y="7"/>
                    </a:lnTo>
                    <a:lnTo>
                      <a:pt x="0" y="1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7839000" y="4231440"/>
                <a:ext cx="18000" cy="32040"/>
              </a:xfrm>
              <a:custGeom>
                <a:avLst/>
                <a:gdLst/>
                <a:ahLst/>
                <a:rect l="l" t="t" r="r" b="b"/>
                <a:pathLst>
                  <a:path w="10" h="18">
                    <a:moveTo>
                      <a:pt x="0" y="0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0" y="12"/>
                    </a:lnTo>
                    <a:lnTo>
                      <a:pt x="10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 flipV="1">
                <a:off x="7715160" y="4172760"/>
                <a:ext cx="272520" cy="141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 flipV="1">
                <a:off x="7699320" y="4164120"/>
                <a:ext cx="272520" cy="137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7971840" y="4164480"/>
                <a:ext cx="21240" cy="2628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0" y="0"/>
                    </a:moveTo>
                    <a:lnTo>
                      <a:pt x="5" y="1"/>
                    </a:lnTo>
                    <a:lnTo>
                      <a:pt x="9" y="5"/>
                    </a:lnTo>
                    <a:lnTo>
                      <a:pt x="10" y="10"/>
                    </a:lnTo>
                    <a:lnTo>
                      <a:pt x="12" y="15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 flipH="1">
                <a:off x="7720200" y="4190760"/>
                <a:ext cx="272520" cy="1429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7699320" y="4302360"/>
                <a:ext cx="21240" cy="3168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12" y="18"/>
                    </a:moveTo>
                    <a:lnTo>
                      <a:pt x="11" y="13"/>
                    </a:lnTo>
                    <a:lnTo>
                      <a:pt x="9" y="7"/>
                    </a:lnTo>
                    <a:lnTo>
                      <a:pt x="5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881320" y="528084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11" y="16"/>
                    </a:moveTo>
                    <a:lnTo>
                      <a:pt x="7" y="14"/>
                    </a:lnTo>
                    <a:lnTo>
                      <a:pt x="4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5888520" y="5309280"/>
                <a:ext cx="24840" cy="8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5900760" y="5309280"/>
                <a:ext cx="12240" cy="50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 flipH="1" flipV="1">
                <a:off x="5884560" y="5297040"/>
                <a:ext cx="28440" cy="8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5884920" y="5297040"/>
                <a:ext cx="15840" cy="1404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0" y="0"/>
                    </a:moveTo>
                    <a:lnTo>
                      <a:pt x="0" y="3"/>
                    </a:lnTo>
                    <a:lnTo>
                      <a:pt x="2" y="7"/>
                    </a:lnTo>
                    <a:lnTo>
                      <a:pt x="4" y="8"/>
                    </a:lnTo>
                    <a:lnTo>
                      <a:pt x="5" y="8"/>
                    </a:lnTo>
                    <a:lnTo>
                      <a:pt x="9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6975000" y="5015520"/>
                <a:ext cx="12240" cy="1404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8"/>
                    </a:lnTo>
                    <a:lnTo>
                      <a:pt x="5" y="7"/>
                    </a:lnTo>
                    <a:lnTo>
                      <a:pt x="7" y="3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 flipV="1">
                <a:off x="6978600" y="4955400"/>
                <a:ext cx="136440" cy="74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 flipV="1">
                <a:off x="6975000" y="4958640"/>
                <a:ext cx="123840" cy="68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7099200" y="4943160"/>
                <a:ext cx="17640" cy="1584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0" y="9"/>
                    </a:moveTo>
                    <a:lnTo>
                      <a:pt x="5" y="9"/>
                    </a:lnTo>
                    <a:lnTo>
                      <a:pt x="7" y="9"/>
                    </a:lnTo>
                    <a:lnTo>
                      <a:pt x="9" y="7"/>
                    </a:lnTo>
                    <a:lnTo>
                      <a:pt x="10" y="4"/>
                    </a:lnTo>
                    <a:lnTo>
                      <a:pt x="1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 flipH="1">
                <a:off x="6974640" y="4943160"/>
                <a:ext cx="141480" cy="777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7099200" y="49305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3" y="13"/>
                    </a:lnTo>
                    <a:lnTo>
                      <a:pt x="7" y="9"/>
                    </a:lnTo>
                    <a:lnTo>
                      <a:pt x="9" y="4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6015600" y="48049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0"/>
                    </a:moveTo>
                    <a:lnTo>
                      <a:pt x="5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0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 flipH="1">
                <a:off x="5875920" y="4732200"/>
                <a:ext cx="290160" cy="1468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 flipH="1">
                <a:off x="5888160" y="4732200"/>
                <a:ext cx="284760" cy="143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868720" y="4875840"/>
                <a:ext cx="19440" cy="1548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 flipV="1">
                <a:off x="5868720" y="4743000"/>
                <a:ext cx="300960" cy="14832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6166080" y="4732200"/>
                <a:ext cx="7200" cy="10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4" y="0"/>
                    </a:moveTo>
                    <a:lnTo>
                      <a:pt x="2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6036840" y="4934160"/>
                <a:ext cx="15840" cy="2844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5" y="2"/>
                    </a:lnTo>
                    <a:lnTo>
                      <a:pt x="3" y="7"/>
                    </a:lnTo>
                    <a:lnTo>
                      <a:pt x="2" y="11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879520" y="4888080"/>
                <a:ext cx="32724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888520" y="4875840"/>
                <a:ext cx="330840" cy="1166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6203520" y="4992840"/>
                <a:ext cx="15840" cy="280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9" y="0"/>
                    </a:moveTo>
                    <a:lnTo>
                      <a:pt x="6" y="2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0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 flipV="1">
                <a:off x="5871960" y="4906080"/>
                <a:ext cx="330840" cy="114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872320" y="4875840"/>
                <a:ext cx="15840" cy="2988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0" y="12"/>
                    </a:lnTo>
                    <a:lnTo>
                      <a:pt x="2" y="7"/>
                    </a:ln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 flipV="1">
                <a:off x="6231600" y="4978080"/>
                <a:ext cx="49680" cy="248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6219720" y="4958640"/>
                <a:ext cx="61560" cy="3348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 flipH="1">
                <a:off x="6238800" y="4999680"/>
                <a:ext cx="42480" cy="2124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6219720" y="4992840"/>
                <a:ext cx="19080" cy="28080"/>
              </a:xfrm>
              <a:custGeom>
                <a:avLst/>
                <a:gdLst/>
                <a:ahLst/>
                <a:rect l="l" t="t" r="r" b="b"/>
                <a:pathLst>
                  <a:path w="11" h="16">
                    <a:moveTo>
                      <a:pt x="0" y="0"/>
                    </a:moveTo>
                    <a:lnTo>
                      <a:pt x="4" y="2"/>
                    </a:lnTo>
                    <a:lnTo>
                      <a:pt x="7" y="6"/>
                    </a:lnTo>
                    <a:lnTo>
                      <a:pt x="11" y="11"/>
                    </a:lnTo>
                    <a:lnTo>
                      <a:pt x="11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872320" y="5086440"/>
                <a:ext cx="7200" cy="15840"/>
              </a:xfrm>
              <a:custGeom>
                <a:avLst/>
                <a:gdLst/>
                <a:ahLst/>
                <a:rect l="l" t="t" r="r" b="b"/>
                <a:pathLst>
                  <a:path w="4" h="9">
                    <a:moveTo>
                      <a:pt x="2" y="0"/>
                    </a:moveTo>
                    <a:lnTo>
                      <a:pt x="0" y="3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 flipV="1">
                <a:off x="5867280" y="4899960"/>
                <a:ext cx="8640" cy="389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 flipH="1" flipV="1">
                <a:off x="5868720" y="4891320"/>
                <a:ext cx="12240" cy="38916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867280" y="4891680"/>
                <a:ext cx="5040" cy="14400"/>
              </a:xfrm>
              <a:custGeom>
                <a:avLst/>
                <a:gdLst/>
                <a:ahLst/>
                <a:rect l="l" t="t" r="r" b="b"/>
                <a:pathLst>
                  <a:path w="3" h="8">
                    <a:moveTo>
                      <a:pt x="1" y="0"/>
                    </a:moveTo>
                    <a:lnTo>
                      <a:pt x="0" y="1"/>
                    </a:lnTo>
                    <a:lnTo>
                      <a:pt x="0" y="5"/>
                    </a:lnTo>
                    <a:lnTo>
                      <a:pt x="1" y="7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872320" y="4906080"/>
                <a:ext cx="12240" cy="390600"/>
              </a:xfrm>
              <a:prstGeom prst="line">
                <a:avLst/>
              </a:prstGeom>
              <a:ln w="32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875920" y="5280840"/>
                <a:ext cx="8640" cy="1584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5" y="9"/>
                    </a:moveTo>
                    <a:lnTo>
                      <a:pt x="2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3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8372160" y="4752000"/>
                <a:ext cx="24480" cy="2124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12"/>
                    </a:moveTo>
                    <a:lnTo>
                      <a:pt x="14" y="9"/>
                    </a:lnTo>
                    <a:lnTo>
                      <a:pt x="10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8384400" y="4755600"/>
                <a:ext cx="8640" cy="14040"/>
              </a:xfrm>
              <a:custGeom>
                <a:avLst/>
                <a:gdLst/>
                <a:ahLst/>
                <a:rect l="l" t="t" r="r" b="b"/>
                <a:pathLst>
                  <a:path w="5" h="8">
                    <a:moveTo>
                      <a:pt x="0" y="0"/>
                    </a:moveTo>
                    <a:lnTo>
                      <a:pt x="1" y="0"/>
                    </a:lnTo>
                    <a:lnTo>
                      <a:pt x="3" y="1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3" y="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922000" y="5587200"/>
                <a:ext cx="12240" cy="28440"/>
              </a:xfrm>
              <a:custGeom>
                <a:avLst/>
                <a:gdLst/>
                <a:ahLst/>
                <a:rect l="l" t="t" r="r" b="b"/>
                <a:pathLst>
                  <a:path w="7" h="16">
                    <a:moveTo>
                      <a:pt x="2" y="0"/>
                    </a:moveTo>
                    <a:lnTo>
                      <a:pt x="0" y="4"/>
                    </a:lnTo>
                    <a:lnTo>
                      <a:pt x="0" y="7"/>
                    </a:lnTo>
                    <a:lnTo>
                      <a:pt x="2" y="12"/>
                    </a:lnTo>
                    <a:lnTo>
                      <a:pt x="4" y="14"/>
                    </a:lnTo>
                    <a:lnTo>
                      <a:pt x="7" y="16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922000" y="5599440"/>
                <a:ext cx="15480" cy="864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5" y="5"/>
                    </a:ln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7049880" y="6024240"/>
                <a:ext cx="29880" cy="12240"/>
              </a:xfrm>
              <a:custGeom>
                <a:avLst/>
                <a:gdLst/>
                <a:ahLst/>
                <a:rect l="l" t="t" r="r" b="b"/>
                <a:pathLst>
                  <a:path w="17" h="7">
                    <a:moveTo>
                      <a:pt x="0" y="0"/>
                    </a:moveTo>
                    <a:lnTo>
                      <a:pt x="2" y="3"/>
                    </a:lnTo>
                    <a:lnTo>
                      <a:pt x="5" y="5"/>
                    </a:lnTo>
                    <a:lnTo>
                      <a:pt x="10" y="7"/>
                    </a:lnTo>
                    <a:lnTo>
                      <a:pt x="14" y="7"/>
                    </a:lnTo>
                    <a:lnTo>
                      <a:pt x="17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7058520" y="6024240"/>
                <a:ext cx="19080" cy="14400"/>
              </a:xfrm>
              <a:custGeom>
                <a:avLst/>
                <a:gdLst/>
                <a:ahLst/>
                <a:rect l="l" t="t" r="r" b="b"/>
                <a:pathLst>
                  <a:path w="11" h="8">
                    <a:moveTo>
                      <a:pt x="0" y="8"/>
                    </a:moveTo>
                    <a:lnTo>
                      <a:pt x="2" y="8"/>
                    </a:lnTo>
                    <a:lnTo>
                      <a:pt x="5" y="7"/>
                    </a:lnTo>
                    <a:lnTo>
                      <a:pt x="7" y="5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5909760" y="5172840"/>
                <a:ext cx="21240" cy="24840"/>
              </a:xfrm>
              <a:custGeom>
                <a:avLst/>
                <a:gdLst/>
                <a:ahLst/>
                <a:rect l="l" t="t" r="r" b="b"/>
                <a:pathLst>
                  <a:path w="12" h="14">
                    <a:moveTo>
                      <a:pt x="0" y="14"/>
                    </a:moveTo>
                    <a:lnTo>
                      <a:pt x="0" y="8"/>
                    </a:lnTo>
                    <a:lnTo>
                      <a:pt x="4" y="3"/>
                    </a:lnTo>
                    <a:lnTo>
                      <a:pt x="7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5913360" y="5178600"/>
                <a:ext cx="5040" cy="12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3" y="7"/>
                    </a:moveTo>
                    <a:lnTo>
                      <a:pt x="2" y="5"/>
                    </a:lnTo>
                    <a:lnTo>
                      <a:pt x="0" y="2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7065360" y="5581800"/>
                <a:ext cx="1800" cy="33480"/>
              </a:xfrm>
              <a:custGeom>
                <a:avLst/>
                <a:gdLst/>
                <a:ahLst/>
                <a:rect l="l" t="t" r="r" b="b"/>
                <a:pathLst>
                  <a:path w="1" h="19">
                    <a:moveTo>
                      <a:pt x="1" y="19"/>
                    </a:moveTo>
                    <a:lnTo>
                      <a:pt x="1" y="14"/>
                    </a:lnTo>
                    <a:lnTo>
                      <a:pt x="1" y="10"/>
                    </a:lnTo>
                    <a:lnTo>
                      <a:pt x="0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7049880" y="5599440"/>
                <a:ext cx="33120" cy="180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6306120" y="6165720"/>
                <a:ext cx="11880" cy="32040"/>
              </a:xfrm>
              <a:custGeom>
                <a:avLst/>
                <a:gdLst/>
                <a:ahLst/>
                <a:rect l="l" t="t" r="r" b="b"/>
                <a:pathLst>
                  <a:path w="7" h="18">
                    <a:moveTo>
                      <a:pt x="2" y="0"/>
                    </a:moveTo>
                    <a:lnTo>
                      <a:pt x="0" y="5"/>
                    </a:lnTo>
                    <a:lnTo>
                      <a:pt x="0" y="9"/>
                    </a:lnTo>
                    <a:lnTo>
                      <a:pt x="2" y="12"/>
                    </a:lnTo>
                    <a:lnTo>
                      <a:pt x="4" y="16"/>
                    </a:lnTo>
                    <a:lnTo>
                      <a:pt x="7" y="18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6306120" y="6178320"/>
                <a:ext cx="15480" cy="1224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9" y="7"/>
                    </a:moveTo>
                    <a:lnTo>
                      <a:pt x="5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6281280" y="4863600"/>
                <a:ext cx="12240" cy="50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2" y="3"/>
                    </a:moveTo>
                    <a:lnTo>
                      <a:pt x="2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6281280" y="4851000"/>
                <a:ext cx="15840" cy="2808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0" y="10"/>
                    </a:lnTo>
                    <a:lnTo>
                      <a:pt x="2" y="7"/>
                    </a:ln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6670800" y="6321600"/>
                <a:ext cx="3600" cy="12240"/>
              </a:xfrm>
              <a:custGeom>
                <a:avLst/>
                <a:gdLst/>
                <a:ahLst/>
                <a:rect l="l" t="t" r="r" b="b"/>
                <a:pathLst>
                  <a:path w="2" h="7">
                    <a:moveTo>
                      <a:pt x="0" y="5"/>
                    </a:move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7"/>
                    </a:lnTo>
                    <a:lnTo>
                      <a:pt x="2" y="5"/>
                    </a:lnTo>
                    <a:lnTo>
                      <a:pt x="2" y="3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6658200" y="6323760"/>
                <a:ext cx="32040" cy="6480"/>
              </a:xfrm>
              <a:custGeom>
                <a:avLst/>
                <a:gdLst/>
                <a:ahLst/>
                <a:rect l="l" t="t" r="r" b="b"/>
                <a:pathLst>
                  <a:path w="18" h="4">
                    <a:moveTo>
                      <a:pt x="18" y="0"/>
                    </a:moveTo>
                    <a:lnTo>
                      <a:pt x="14" y="4"/>
                    </a:lnTo>
                    <a:lnTo>
                      <a:pt x="9" y="4"/>
                    </a:lnTo>
                    <a:lnTo>
                      <a:pt x="4" y="4"/>
                    </a:lnTo>
                    <a:lnTo>
                      <a:pt x="0" y="2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6658200" y="4975200"/>
                <a:ext cx="3600" cy="33120"/>
              </a:xfrm>
              <a:custGeom>
                <a:avLst/>
                <a:gdLst/>
                <a:ahLst/>
                <a:rect l="l" t="t" r="r" b="b"/>
                <a:pathLst>
                  <a:path w="2" h="19">
                    <a:moveTo>
                      <a:pt x="2" y="19"/>
                    </a:moveTo>
                    <a:lnTo>
                      <a:pt x="2" y="14"/>
                    </a:lnTo>
                    <a:lnTo>
                      <a:pt x="2" y="10"/>
                    </a:ln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6644160" y="4992840"/>
                <a:ext cx="33480" cy="1440"/>
              </a:xfrm>
              <a:custGeom>
                <a:avLst/>
                <a:gdLst/>
                <a:ahLst/>
                <a:rect l="l" t="t" r="r" b="b"/>
                <a:pathLst>
                  <a:path w="19" h="0">
                    <a:moveTo>
                      <a:pt x="19" y="0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5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8520480" y="4748400"/>
                <a:ext cx="21240" cy="1944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12" y="11"/>
                    </a:moveTo>
                    <a:lnTo>
                      <a:pt x="12" y="7"/>
                    </a:lnTo>
                    <a:lnTo>
                      <a:pt x="10" y="4"/>
                    </a:lnTo>
                    <a:lnTo>
                      <a:pt x="7" y="2"/>
                    </a:lnTo>
                    <a:lnTo>
                      <a:pt x="3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8533080" y="4752000"/>
                <a:ext cx="5040" cy="12240"/>
              </a:xfrm>
              <a:custGeom>
                <a:avLst/>
                <a:gdLst/>
                <a:ahLst/>
                <a:rect l="l" t="t" r="r" b="b"/>
                <a:pathLst>
                  <a:path w="3" h="7">
                    <a:moveTo>
                      <a:pt x="0" y="0"/>
                    </a:moveTo>
                    <a:lnTo>
                      <a:pt x="0" y="0"/>
                    </a:lnTo>
                    <a:lnTo>
                      <a:pt x="1" y="2"/>
                    </a:lnTo>
                    <a:lnTo>
                      <a:pt x="3" y="2"/>
                    </a:lnTo>
                    <a:lnTo>
                      <a:pt x="3" y="5"/>
                    </a:lnTo>
                    <a:lnTo>
                      <a:pt x="1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7786080" y="4090320"/>
                <a:ext cx="24840" cy="122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4" y="0"/>
                    </a:lnTo>
                    <a:lnTo>
                      <a:pt x="9" y="1"/>
                    </a:lnTo>
                    <a:lnTo>
                      <a:pt x="12" y="5"/>
                    </a:lnTo>
                    <a:lnTo>
                      <a:pt x="14" y="7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7786080" y="4086720"/>
                <a:ext cx="19440" cy="1584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7" y="0"/>
                    </a:lnTo>
                    <a:lnTo>
                      <a:pt x="5" y="2"/>
                    </a:lnTo>
                    <a:lnTo>
                      <a:pt x="2" y="5"/>
                    </a:lnTo>
                    <a:lnTo>
                      <a:pt x="0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8154000" y="4201200"/>
                <a:ext cx="7200" cy="5400"/>
              </a:xfrm>
              <a:custGeom>
                <a:avLst/>
                <a:gdLst/>
                <a:ahLst/>
                <a:rect l="l" t="t" r="r" b="b"/>
                <a:pathLst>
                  <a:path w="4" h="3">
                    <a:moveTo>
                      <a:pt x="0" y="1"/>
                    </a:moveTo>
                    <a:lnTo>
                      <a:pt x="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1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0" y="3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8148960" y="4190760"/>
                <a:ext cx="14040" cy="24840"/>
              </a:xfrm>
              <a:custGeom>
                <a:avLst/>
                <a:gdLst/>
                <a:ahLst/>
                <a:rect l="l" t="t" r="r" b="b"/>
                <a:pathLst>
                  <a:path w="8" h="14">
                    <a:moveTo>
                      <a:pt x="8" y="14"/>
                    </a:moveTo>
                    <a:lnTo>
                      <a:pt x="8" y="9"/>
                    </a:lnTo>
                    <a:lnTo>
                      <a:pt x="7" y="6"/>
                    </a:ln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7769880" y="5983560"/>
                <a:ext cx="35640" cy="15840"/>
              </a:xfrm>
              <a:custGeom>
                <a:avLst/>
                <a:gdLst/>
                <a:ahLst/>
                <a:rect l="l" t="t" r="r" b="b"/>
                <a:pathLst>
                  <a:path w="20" h="9">
                    <a:moveTo>
                      <a:pt x="0" y="9"/>
                    </a:moveTo>
                    <a:lnTo>
                      <a:pt x="7" y="9"/>
                    </a:lnTo>
                    <a:lnTo>
                      <a:pt x="11" y="7"/>
                    </a:lnTo>
                    <a:lnTo>
                      <a:pt x="16" y="3"/>
                    </a:lnTo>
                    <a:lnTo>
                      <a:pt x="2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7780680" y="5987160"/>
                <a:ext cx="12240" cy="122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5" y="7"/>
                    </a:lnTo>
                    <a:lnTo>
                      <a:pt x="5" y="7"/>
                    </a:lnTo>
                    <a:lnTo>
                      <a:pt x="3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8624880" y="5451120"/>
                <a:ext cx="24840" cy="2448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14"/>
                    </a:moveTo>
                    <a:lnTo>
                      <a:pt x="5" y="12"/>
                    </a:lnTo>
                    <a:lnTo>
                      <a:pt x="11" y="11"/>
                    </a:lnTo>
                    <a:lnTo>
                      <a:pt x="12" y="5"/>
                    </a:lnTo>
                    <a:lnTo>
                      <a:pt x="14" y="0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8637480" y="5454720"/>
                <a:ext cx="8640" cy="15480"/>
              </a:xfrm>
              <a:custGeom>
                <a:avLst/>
                <a:gdLst/>
                <a:ahLst/>
                <a:rect l="l" t="t" r="r" b="b"/>
                <a:pathLst>
                  <a:path w="5" h="9">
                    <a:moveTo>
                      <a:pt x="0" y="0"/>
                    </a:moveTo>
                    <a:lnTo>
                      <a:pt x="4" y="3"/>
                    </a:lnTo>
                    <a:lnTo>
                      <a:pt x="5" y="7"/>
                    </a:lnTo>
                    <a:lnTo>
                      <a:pt x="5" y="7"/>
                    </a:lnTo>
                    <a:lnTo>
                      <a:pt x="5" y="9"/>
                    </a:lnTo>
                    <a:lnTo>
                      <a:pt x="4" y="9"/>
                    </a:lnTo>
                  </a:path>
                </a:pathLst>
              </a:custGeom>
              <a:noFill/>
              <a:ln w="3240">
                <a:solidFill>
                  <a:srgbClr val="ddddd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7789680" y="5541480"/>
              <a:ext cx="3600" cy="3312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6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777080" y="5559120"/>
              <a:ext cx="29880" cy="3600"/>
            </a:xfrm>
            <a:custGeom>
              <a:avLst/>
              <a:gdLst/>
              <a:ahLst/>
              <a:rect l="l" t="t" r="r" b="b"/>
              <a:pathLst>
                <a:path w="17" h="2">
                  <a:moveTo>
                    <a:pt x="17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8657280" y="5045760"/>
              <a:ext cx="5040" cy="3600"/>
            </a:xfrm>
            <a:custGeom>
              <a:avLst/>
              <a:gdLst/>
              <a:ahLst/>
              <a:rect l="l" t="t" r="r" b="b"/>
              <a:pathLst>
                <a:path w="3" h="2">
                  <a:moveTo>
                    <a:pt x="0" y="2"/>
                  </a:moveTo>
                  <a:lnTo>
                    <a:pt x="1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8646480" y="5037120"/>
              <a:ext cx="19440" cy="2484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11" y="14"/>
                  </a:moveTo>
                  <a:lnTo>
                    <a:pt x="11" y="9"/>
                  </a:lnTo>
                  <a:lnTo>
                    <a:pt x="9" y="5"/>
                  </a:lnTo>
                  <a:lnTo>
                    <a:pt x="6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8058600" y="6240600"/>
              <a:ext cx="28440" cy="1224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0" y="0"/>
                  </a:moveTo>
                  <a:lnTo>
                    <a:pt x="2" y="4"/>
                  </a:lnTo>
                  <a:lnTo>
                    <a:pt x="5" y="5"/>
                  </a:lnTo>
                  <a:lnTo>
                    <a:pt x="10" y="7"/>
                  </a:lnTo>
                  <a:lnTo>
                    <a:pt x="12" y="7"/>
                  </a:lnTo>
                  <a:lnTo>
                    <a:pt x="16" y="5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8064000" y="6240600"/>
              <a:ext cx="19440" cy="1584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7"/>
                  </a:moveTo>
                  <a:lnTo>
                    <a:pt x="4" y="9"/>
                  </a:lnTo>
                  <a:lnTo>
                    <a:pt x="7" y="7"/>
                  </a:lnTo>
                  <a:lnTo>
                    <a:pt x="9" y="4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8088840" y="4912920"/>
              <a:ext cx="32040" cy="2124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12"/>
                  </a:moveTo>
                  <a:lnTo>
                    <a:pt x="9" y="5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8099640" y="4909320"/>
              <a:ext cx="17640" cy="2484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10" y="14"/>
                  </a:moveTo>
                  <a:lnTo>
                    <a:pt x="7" y="11"/>
                  </a:lnTo>
                  <a:lnTo>
                    <a:pt x="5" y="7"/>
                  </a:lnTo>
                  <a:lnTo>
                    <a:pt x="1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8331120" y="6061680"/>
              <a:ext cx="24840" cy="2484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14"/>
                  </a:moveTo>
                  <a:lnTo>
                    <a:pt x="5" y="12"/>
                  </a:lnTo>
                  <a:lnTo>
                    <a:pt x="10" y="10"/>
                  </a:lnTo>
                  <a:lnTo>
                    <a:pt x="12" y="5"/>
                  </a:lnTo>
                  <a:lnTo>
                    <a:pt x="14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8343720" y="6063480"/>
              <a:ext cx="8640" cy="15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0" y="0"/>
                  </a:moveTo>
                  <a:lnTo>
                    <a:pt x="3" y="4"/>
                  </a:lnTo>
                  <a:lnTo>
                    <a:pt x="5" y="7"/>
                  </a:lnTo>
                  <a:lnTo>
                    <a:pt x="5" y="7"/>
                  </a:lnTo>
                  <a:lnTo>
                    <a:pt x="5" y="9"/>
                  </a:lnTo>
                  <a:lnTo>
                    <a:pt x="3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6173280" y="4284720"/>
              <a:ext cx="8640" cy="2808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3" y="16"/>
                  </a:moveTo>
                  <a:lnTo>
                    <a:pt x="2" y="12"/>
                  </a:lnTo>
                  <a:lnTo>
                    <a:pt x="0" y="9"/>
                  </a:lnTo>
                  <a:lnTo>
                    <a:pt x="2" y="3"/>
                  </a:lnTo>
                  <a:lnTo>
                    <a:pt x="2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173280" y="4288680"/>
              <a:ext cx="15840" cy="1404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9" y="0"/>
                  </a:moveTo>
                  <a:lnTo>
                    <a:pt x="5" y="0"/>
                  </a:lnTo>
                  <a:lnTo>
                    <a:pt x="2" y="1"/>
                  </a:lnTo>
                  <a:lnTo>
                    <a:pt x="0" y="5"/>
                  </a:lnTo>
                  <a:lnTo>
                    <a:pt x="0" y="8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471000" y="4148280"/>
              <a:ext cx="3600" cy="12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7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454800" y="4151880"/>
              <a:ext cx="31680" cy="144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0" y="1"/>
                  </a:moveTo>
                  <a:lnTo>
                    <a:pt x="5" y="0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658640" y="6520320"/>
              <a:ext cx="31680" cy="14040"/>
            </a:xfrm>
            <a:custGeom>
              <a:avLst/>
              <a:gdLst/>
              <a:ahLst/>
              <a:rect l="l" t="t" r="r" b="b"/>
              <a:pathLst>
                <a:path w="18" h="8">
                  <a:moveTo>
                    <a:pt x="0" y="7"/>
                  </a:moveTo>
                  <a:lnTo>
                    <a:pt x="6" y="8"/>
                  </a:lnTo>
                  <a:lnTo>
                    <a:pt x="11" y="7"/>
                  </a:lnTo>
                  <a:lnTo>
                    <a:pt x="14" y="3"/>
                  </a:lnTo>
                  <a:lnTo>
                    <a:pt x="18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7665480" y="6522120"/>
              <a:ext cx="12240" cy="118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6"/>
                  </a:moveTo>
                  <a:lnTo>
                    <a:pt x="5" y="7"/>
                  </a:lnTo>
                  <a:lnTo>
                    <a:pt x="3" y="6"/>
                  </a:lnTo>
                  <a:lnTo>
                    <a:pt x="2" y="4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7941960" y="6334200"/>
              <a:ext cx="5040" cy="29880"/>
            </a:xfrm>
            <a:custGeom>
              <a:avLst/>
              <a:gdLst/>
              <a:ahLst/>
              <a:rect l="l" t="t" r="r" b="b"/>
              <a:pathLst>
                <a:path w="3" h="17">
                  <a:moveTo>
                    <a:pt x="0" y="17"/>
                  </a:moveTo>
                  <a:lnTo>
                    <a:pt x="3" y="15"/>
                  </a:lnTo>
                  <a:lnTo>
                    <a:pt x="3" y="12"/>
                  </a:lnTo>
                  <a:lnTo>
                    <a:pt x="3" y="8"/>
                  </a:lnTo>
                  <a:lnTo>
                    <a:pt x="3" y="3"/>
                  </a:lnTo>
                  <a:lnTo>
                    <a:pt x="1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935120" y="6346800"/>
              <a:ext cx="19080" cy="122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7"/>
                  </a:moveTo>
                  <a:lnTo>
                    <a:pt x="4" y="7"/>
                  </a:lnTo>
                  <a:lnTo>
                    <a:pt x="7" y="5"/>
                  </a:lnTo>
                  <a:lnTo>
                    <a:pt x="9" y="3"/>
                  </a:lnTo>
                  <a:lnTo>
                    <a:pt x="11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628320" y="6408720"/>
              <a:ext cx="8640" cy="29880"/>
            </a:xfrm>
            <a:custGeom>
              <a:avLst/>
              <a:gdLst/>
              <a:ahLst/>
              <a:rect l="l" t="t" r="r" b="b"/>
              <a:pathLst>
                <a:path w="5" h="17">
                  <a:moveTo>
                    <a:pt x="0" y="0"/>
                  </a:moveTo>
                  <a:lnTo>
                    <a:pt x="0" y="5"/>
                  </a:lnTo>
                  <a:lnTo>
                    <a:pt x="0" y="8"/>
                  </a:lnTo>
                  <a:lnTo>
                    <a:pt x="0" y="12"/>
                  </a:lnTo>
                  <a:lnTo>
                    <a:pt x="2" y="15"/>
                  </a:lnTo>
                  <a:lnTo>
                    <a:pt x="5" y="1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624720" y="6420960"/>
              <a:ext cx="15840" cy="1224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9" y="7"/>
                  </a:moveTo>
                  <a:lnTo>
                    <a:pt x="5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987600" y="6562800"/>
              <a:ext cx="3600" cy="12240"/>
            </a:xfrm>
            <a:custGeom>
              <a:avLst/>
              <a:gdLst/>
              <a:ahLst/>
              <a:rect l="l" t="t" r="r" b="b"/>
              <a:pathLst>
                <a:path w="2" h="7">
                  <a:moveTo>
                    <a:pt x="0" y="5"/>
                  </a:moveTo>
                  <a:lnTo>
                    <a:pt x="0" y="5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5"/>
                  </a:lnTo>
                  <a:lnTo>
                    <a:pt x="2" y="5"/>
                  </a:lnTo>
                  <a:lnTo>
                    <a:pt x="2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6971760" y="6566400"/>
              <a:ext cx="31680" cy="5040"/>
            </a:xfrm>
            <a:custGeom>
              <a:avLst/>
              <a:gdLst/>
              <a:ahLst/>
              <a:rect l="l" t="t" r="r" b="b"/>
              <a:pathLst>
                <a:path w="18" h="3">
                  <a:moveTo>
                    <a:pt x="18" y="0"/>
                  </a:moveTo>
                  <a:lnTo>
                    <a:pt x="14" y="3"/>
                  </a:lnTo>
                  <a:lnTo>
                    <a:pt x="11" y="3"/>
                  </a:lnTo>
                  <a:lnTo>
                    <a:pt x="5" y="3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6603480" y="4235040"/>
              <a:ext cx="8640" cy="5040"/>
            </a:xfrm>
            <a:custGeom>
              <a:avLst/>
              <a:gdLst/>
              <a:ahLst/>
              <a:rect l="l" t="t" r="r" b="b"/>
              <a:pathLst>
                <a:path w="5" h="3">
                  <a:moveTo>
                    <a:pt x="2" y="3"/>
                  </a:move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600240" y="4222800"/>
              <a:ext cx="15480" cy="28440"/>
            </a:xfrm>
            <a:custGeom>
              <a:avLst/>
              <a:gdLst/>
              <a:ahLst/>
              <a:rect l="l" t="t" r="r" b="b"/>
              <a:pathLst>
                <a:path w="9" h="16">
                  <a:moveTo>
                    <a:pt x="2" y="16"/>
                  </a:moveTo>
                  <a:lnTo>
                    <a:pt x="0" y="12"/>
                  </a:lnTo>
                  <a:lnTo>
                    <a:pt x="2" y="7"/>
                  </a:lnTo>
                  <a:lnTo>
                    <a:pt x="5" y="3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513560" y="3789360"/>
              <a:ext cx="3600" cy="15840"/>
            </a:xfrm>
            <a:custGeom>
              <a:avLst/>
              <a:gdLst/>
              <a:ahLst/>
              <a:rect l="l" t="t" r="r" b="b"/>
              <a:pathLst>
                <a:path w="2" h="9">
                  <a:moveTo>
                    <a:pt x="0" y="9"/>
                  </a:moveTo>
                  <a:lnTo>
                    <a:pt x="0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500960" y="3792960"/>
              <a:ext cx="28440" cy="5040"/>
            </a:xfrm>
            <a:custGeom>
              <a:avLst/>
              <a:gdLst/>
              <a:ahLst/>
              <a:rect l="l" t="t" r="r" b="b"/>
              <a:pathLst>
                <a:path w="16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6" y="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980760" y="4338000"/>
              <a:ext cx="3600" cy="33480"/>
            </a:xfrm>
            <a:custGeom>
              <a:avLst/>
              <a:gdLst/>
              <a:ahLst/>
              <a:rect l="l" t="t" r="r" b="b"/>
              <a:pathLst>
                <a:path w="2" h="19">
                  <a:moveTo>
                    <a:pt x="2" y="19"/>
                  </a:move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966360" y="4355640"/>
              <a:ext cx="33480" cy="3600"/>
            </a:xfrm>
            <a:custGeom>
              <a:avLst/>
              <a:gdLst/>
              <a:ahLst/>
              <a:rect l="l" t="t" r="r" b="b"/>
              <a:pathLst>
                <a:path w="19" h="2">
                  <a:moveTo>
                    <a:pt x="19" y="0"/>
                  </a:moveTo>
                  <a:lnTo>
                    <a:pt x="14" y="0"/>
                  </a:lnTo>
                  <a:lnTo>
                    <a:pt x="10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881480" y="3900600"/>
              <a:ext cx="7200" cy="8640"/>
            </a:xfrm>
            <a:custGeom>
              <a:avLst/>
              <a:gdLst/>
              <a:ahLst/>
              <a:rect l="l" t="t" r="r" b="b"/>
              <a:pathLst>
                <a:path w="4" h="5">
                  <a:moveTo>
                    <a:pt x="0" y="2"/>
                  </a:moveTo>
                  <a:lnTo>
                    <a:pt x="0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0" y="3"/>
                  </a:lnTo>
                  <a:lnTo>
                    <a:pt x="0" y="5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7872840" y="3891960"/>
              <a:ext cx="19440" cy="26280"/>
            </a:xfrm>
            <a:custGeom>
              <a:avLst/>
              <a:gdLst/>
              <a:ahLst/>
              <a:rect l="l" t="t" r="r" b="b"/>
              <a:pathLst>
                <a:path w="11" h="15">
                  <a:moveTo>
                    <a:pt x="11" y="15"/>
                  </a:moveTo>
                  <a:lnTo>
                    <a:pt x="11" y="10"/>
                  </a:lnTo>
                  <a:lnTo>
                    <a:pt x="7" y="5"/>
                  </a:lnTo>
                  <a:lnTo>
                    <a:pt x="5" y="1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537960" y="3953880"/>
              <a:ext cx="7200" cy="2628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4" y="15"/>
                  </a:moveTo>
                  <a:lnTo>
                    <a:pt x="0" y="12"/>
                  </a:lnTo>
                  <a:lnTo>
                    <a:pt x="0" y="8"/>
                  </a:lnTo>
                  <a:lnTo>
                    <a:pt x="0" y="5"/>
                  </a:lnTo>
                  <a:lnTo>
                    <a:pt x="2" y="1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6536160" y="3955680"/>
              <a:ext cx="14040" cy="154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8" y="0"/>
                  </a:moveTo>
                  <a:lnTo>
                    <a:pt x="5" y="2"/>
                  </a:lnTo>
                  <a:lnTo>
                    <a:pt x="1" y="4"/>
                  </a:lnTo>
                  <a:lnTo>
                    <a:pt x="0" y="6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7699320" y="4302720"/>
              <a:ext cx="3600" cy="35280"/>
            </a:xfrm>
            <a:custGeom>
              <a:avLst/>
              <a:gdLst/>
              <a:ahLst/>
              <a:rect l="l" t="t" r="r" b="b"/>
              <a:pathLst>
                <a:path w="2" h="20">
                  <a:moveTo>
                    <a:pt x="2" y="20"/>
                  </a:moveTo>
                  <a:lnTo>
                    <a:pt x="2" y="16"/>
                  </a:lnTo>
                  <a:lnTo>
                    <a:pt x="2" y="11"/>
                  </a:lnTo>
                  <a:lnTo>
                    <a:pt x="2" y="6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7687080" y="4321800"/>
              <a:ext cx="32040" cy="360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8" y="0"/>
                  </a:moveTo>
                  <a:lnTo>
                    <a:pt x="14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6823080" y="3819240"/>
              <a:ext cx="32040" cy="1584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0" y="2"/>
                  </a:moveTo>
                  <a:lnTo>
                    <a:pt x="5" y="0"/>
                  </a:lnTo>
                  <a:lnTo>
                    <a:pt x="11" y="2"/>
                  </a:lnTo>
                  <a:lnTo>
                    <a:pt x="14" y="6"/>
                  </a:lnTo>
                  <a:lnTo>
                    <a:pt x="18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6826680" y="3819240"/>
              <a:ext cx="17640" cy="15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10" y="0"/>
                  </a:moveTo>
                  <a:lnTo>
                    <a:pt x="7" y="0"/>
                  </a:lnTo>
                  <a:lnTo>
                    <a:pt x="5" y="2"/>
                  </a:lnTo>
                  <a:lnTo>
                    <a:pt x="3" y="4"/>
                  </a:lnTo>
                  <a:lnTo>
                    <a:pt x="0" y="9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7971840" y="4164480"/>
              <a:ext cx="24840" cy="212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14" y="12"/>
                  </a:moveTo>
                  <a:lnTo>
                    <a:pt x="14" y="7"/>
                  </a:lnTo>
                  <a:lnTo>
                    <a:pt x="12" y="3"/>
                  </a:lnTo>
                  <a:lnTo>
                    <a:pt x="9" y="1"/>
                  </a:lnTo>
                  <a:lnTo>
                    <a:pt x="5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7984440" y="4169520"/>
              <a:ext cx="8640" cy="1224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0"/>
                  </a:moveTo>
                  <a:lnTo>
                    <a:pt x="3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3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879520" y="5281200"/>
              <a:ext cx="8640" cy="28440"/>
            </a:xfrm>
            <a:custGeom>
              <a:avLst/>
              <a:gdLst/>
              <a:ahLst/>
              <a:rect l="l" t="t" r="r" b="b"/>
              <a:pathLst>
                <a:path w="5" h="16">
                  <a:moveTo>
                    <a:pt x="1" y="0"/>
                  </a:moveTo>
                  <a:lnTo>
                    <a:pt x="0" y="3"/>
                  </a:lnTo>
                  <a:lnTo>
                    <a:pt x="0" y="7"/>
                  </a:lnTo>
                  <a:lnTo>
                    <a:pt x="1" y="12"/>
                  </a:lnTo>
                  <a:lnTo>
                    <a:pt x="3" y="14"/>
                  </a:lnTo>
                  <a:lnTo>
                    <a:pt x="5" y="16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879520" y="5293440"/>
              <a:ext cx="12240" cy="1224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5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867280" y="4876200"/>
              <a:ext cx="21240" cy="24480"/>
            </a:xfrm>
            <a:custGeom>
              <a:avLst/>
              <a:gdLst/>
              <a:ahLst/>
              <a:rect l="l" t="t" r="r" b="b"/>
              <a:pathLst>
                <a:path w="12" h="14">
                  <a:moveTo>
                    <a:pt x="0" y="14"/>
                  </a:moveTo>
                  <a:lnTo>
                    <a:pt x="0" y="9"/>
                  </a:lnTo>
                  <a:lnTo>
                    <a:pt x="3" y="3"/>
                  </a:lnTo>
                  <a:lnTo>
                    <a:pt x="7" y="2"/>
                  </a:lnTo>
                  <a:lnTo>
                    <a:pt x="1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868720" y="4881240"/>
              <a:ext cx="7200" cy="1224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2" y="6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 flipH="1" flipV="1">
              <a:off x="7996320" y="4251240"/>
              <a:ext cx="17640" cy="86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V="1">
              <a:off x="7880040" y="5943240"/>
              <a:ext cx="1440" cy="22968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699320" y="6108120"/>
              <a:ext cx="15840" cy="154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0" y="3"/>
                  </a:lnTo>
                  <a:lnTo>
                    <a:pt x="2" y="5"/>
                  </a:lnTo>
                  <a:lnTo>
                    <a:pt x="4" y="7"/>
                  </a:lnTo>
                  <a:lnTo>
                    <a:pt x="5" y="9"/>
                  </a:lnTo>
                  <a:lnTo>
                    <a:pt x="9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V="1">
              <a:off x="7690680" y="5967720"/>
              <a:ext cx="3600" cy="1310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 flipV="1">
              <a:off x="7699320" y="5970960"/>
              <a:ext cx="3600" cy="1364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7695720" y="5971320"/>
              <a:ext cx="1800" cy="12024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7690680" y="6091920"/>
              <a:ext cx="8640" cy="15840"/>
            </a:xfrm>
            <a:custGeom>
              <a:avLst/>
              <a:gdLst/>
              <a:ahLst/>
              <a:rect l="l" t="t" r="r" b="b"/>
              <a:pathLst>
                <a:path w="5" h="9">
                  <a:moveTo>
                    <a:pt x="5" y="9"/>
                  </a:moveTo>
                  <a:lnTo>
                    <a:pt x="2" y="7"/>
                  </a:lnTo>
                  <a:lnTo>
                    <a:pt x="0" y="5"/>
                  </a:lnTo>
                  <a:lnTo>
                    <a:pt x="0" y="2"/>
                  </a:lnTo>
                  <a:lnTo>
                    <a:pt x="3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7694280" y="6116760"/>
              <a:ext cx="21240" cy="19080"/>
            </a:xfrm>
            <a:custGeom>
              <a:avLst/>
              <a:gdLst/>
              <a:ahLst/>
              <a:rect l="l" t="t" r="r" b="b"/>
              <a:pathLst>
                <a:path w="12" h="11">
                  <a:moveTo>
                    <a:pt x="12" y="2"/>
                  </a:moveTo>
                  <a:lnTo>
                    <a:pt x="8" y="0"/>
                  </a:lnTo>
                  <a:lnTo>
                    <a:pt x="5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11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7674480" y="6091920"/>
              <a:ext cx="21240" cy="1584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12" y="0"/>
                  </a:moveTo>
                  <a:lnTo>
                    <a:pt x="11" y="4"/>
                  </a:lnTo>
                  <a:lnTo>
                    <a:pt x="11" y="7"/>
                  </a:lnTo>
                  <a:lnTo>
                    <a:pt x="7" y="9"/>
                  </a:lnTo>
                  <a:lnTo>
                    <a:pt x="4" y="9"/>
                  </a:lnTo>
                  <a:lnTo>
                    <a:pt x="0" y="7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7658640" y="6104520"/>
              <a:ext cx="15480" cy="3168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0" y="18"/>
                  </a:moveTo>
                  <a:lnTo>
                    <a:pt x="2" y="14"/>
                  </a:lnTo>
                  <a:lnTo>
                    <a:pt x="4" y="9"/>
                  </a:lnTo>
                  <a:lnTo>
                    <a:pt x="6" y="4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7658640" y="6136200"/>
              <a:ext cx="35280" cy="1800"/>
            </a:xfrm>
            <a:custGeom>
              <a:avLst/>
              <a:gdLst/>
              <a:ahLst/>
              <a:rect l="l" t="t" r="r" b="b"/>
              <a:pathLst>
                <a:path w="20" h="1">
                  <a:moveTo>
                    <a:pt x="0" y="0"/>
                  </a:moveTo>
                  <a:lnTo>
                    <a:pt x="6" y="1"/>
                  </a:lnTo>
                  <a:lnTo>
                    <a:pt x="11" y="1"/>
                  </a:lnTo>
                  <a:lnTo>
                    <a:pt x="16" y="1"/>
                  </a:lnTo>
                  <a:lnTo>
                    <a:pt x="20" y="0"/>
                  </a:lnTo>
                </a:path>
              </a:pathLst>
            </a:custGeom>
            <a:noFill/>
            <a:ln w="324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152120" y="4755600"/>
              <a:ext cx="555840" cy="182160"/>
            </a:xfrm>
            <a:prstGeom prst="line">
              <a:avLst/>
            </a:prstGeom>
            <a:ln w="32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760" name=""/>
          <p:cNvSpPr/>
          <p:nvPr/>
        </p:nvSpPr>
        <p:spPr>
          <a:xfrm>
            <a:off x="3962520" y="228600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-27000" y="3017880"/>
            <a:ext cx="9175680" cy="579240"/>
          </a:xfrm>
          <a:custGeom>
            <a:avLst/>
            <a:gdLst/>
            <a:ahLst/>
            <a:rect l="l" t="t" r="r" b="b"/>
            <a:pathLst>
              <a:path w="5780" h="365">
                <a:moveTo>
                  <a:pt x="3001" y="12"/>
                </a:moveTo>
                <a:cubicBezTo>
                  <a:pt x="5072" y="24"/>
                  <a:pt x="5780" y="322"/>
                  <a:pt x="5777" y="342"/>
                </a:cubicBezTo>
                <a:lnTo>
                  <a:pt x="0" y="365"/>
                </a:lnTo>
                <a:cubicBezTo>
                  <a:pt x="295" y="258"/>
                  <a:pt x="930" y="0"/>
                  <a:pt x="3001" y="1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761760" y="36572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4631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631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463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24631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24631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4631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2463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24631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463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24631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463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2463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463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24631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463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09120" y="35809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24631"/>
                </a:solidFill>
                <a:latin typeface="Arial"/>
                <a:ea typeface="宋体"/>
              </a:rPr>
              <a:t>PowerPoint Template</a:t>
            </a:r>
            <a:endParaRPr b="1" lang="en-US" sz="4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24631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24631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>
            <a:off x="2739240" y="476280"/>
            <a:ext cx="35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国外企业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幻灯片打包下载</a:t>
            </a:r>
            <a:endParaRPr b="0" lang="en-US" sz="40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5" name="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1976" name="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151440" y="2452680"/>
              <a:ext cx="399960" cy="449280"/>
            </a:xfrm>
            <a:custGeom>
              <a:avLst/>
              <a:gdLst>
                <a:gd name="textAreaLeft" fmla="*/ 0 w 399960"/>
                <a:gd name="textAreaRight" fmla="*/ 400320 w 39996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c8e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69aab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9aab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62215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9aab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3327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85b5f"/>
                </a:gs>
                <a:gs pos="50000">
                  <a:srgbClr val="69aab1"/>
                </a:gs>
                <a:gs pos="100000">
                  <a:srgbClr val="385b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6357960" y="19526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69aab1">
                    <a:alpha val="0"/>
                  </a:srgbClr>
                </a:gs>
                <a:gs pos="100000">
                  <a:srgbClr val="426b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411960" y="2016000"/>
              <a:ext cx="13352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386b2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295640" y="182880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386b2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406520" y="193824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1e3911"/>
                </a:gs>
                <a:gs pos="50000">
                  <a:srgbClr val="386b21"/>
                </a:gs>
                <a:gs pos="100000">
                  <a:srgbClr val="1e391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408320" y="194148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86b21">
                    <a:alpha val="0"/>
                  </a:srgbClr>
                </a:gs>
                <a:gs pos="100000">
                  <a:srgbClr val="2343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48140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1992" name="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51848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c8e0b0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75948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5c6751"/>
                </a:gs>
                <a:gs pos="100000">
                  <a:srgbClr val="c8e0b0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387036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6b785e"/>
                </a:gs>
                <a:gs pos="50000">
                  <a:srgbClr val="c8e0b0"/>
                </a:gs>
                <a:gs pos="100000">
                  <a:srgbClr val="6b785e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872160" y="194616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c8e0b0">
                    <a:alpha val="0"/>
                  </a:srgbClr>
                </a:gs>
                <a:gs pos="100000">
                  <a:srgbClr val="7e8d6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3965760" y="2031840"/>
              <a:ext cx="1290600" cy="1278000"/>
              <a:chOff x="3965760" y="2031840"/>
              <a:chExt cx="1290600" cy="1278000"/>
            </a:xfrm>
          </p:grpSpPr>
          <p:sp>
            <p:nvSpPr>
              <p:cNvPr id="2002" name=""/>
              <p:cNvSpPr/>
              <p:nvPr/>
            </p:nvSpPr>
            <p:spPr>
              <a:xfrm>
                <a:off x="396576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3982320" y="203868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99564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006" name="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007" name="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6452280" y="2038680"/>
                <a:ext cx="12610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011" name="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7006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5" name=""/>
          <p:cNvGrpSpPr/>
          <p:nvPr/>
        </p:nvGrpSpPr>
        <p:grpSpPr>
          <a:xfrm>
            <a:off x="1371600" y="1374840"/>
            <a:ext cx="5715000" cy="5330880"/>
            <a:chOff x="1371600" y="1374840"/>
            <a:chExt cx="5715000" cy="5330880"/>
          </a:xfrm>
        </p:grpSpPr>
        <p:sp>
          <p:nvSpPr>
            <p:cNvPr id="2016" name=""/>
            <p:cNvSpPr/>
            <p:nvPr/>
          </p:nvSpPr>
          <p:spPr>
            <a:xfrm rot="13770000">
              <a:off x="4707000" y="3962160"/>
              <a:ext cx="1015920" cy="19656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6d6d6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 rot="20856000">
              <a:off x="2679480" y="3479400"/>
              <a:ext cx="1036440" cy="18252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8d8d8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 rot="18394200">
              <a:off x="4842000" y="2323800"/>
              <a:ext cx="631800" cy="1364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6e6e6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019" name=""/>
            <p:cNvGrpSpPr/>
            <p:nvPr/>
          </p:nvGrpSpPr>
          <p:grpSpPr>
            <a:xfrm>
              <a:off x="3643200" y="2357640"/>
              <a:ext cx="1652760" cy="1684080"/>
              <a:chOff x="3643200" y="2357640"/>
              <a:chExt cx="1652760" cy="1684080"/>
            </a:xfrm>
          </p:grpSpPr>
          <p:grpSp>
            <p:nvGrpSpPr>
              <p:cNvPr id="2020" name=""/>
              <p:cNvGrpSpPr/>
              <p:nvPr/>
            </p:nvGrpSpPr>
            <p:grpSpPr>
              <a:xfrm>
                <a:off x="3643200" y="2357640"/>
                <a:ext cx="1652760" cy="1684080"/>
                <a:chOff x="3643200" y="2357640"/>
                <a:chExt cx="1652760" cy="1684080"/>
              </a:xfrm>
            </p:grpSpPr>
            <p:sp>
              <p:nvSpPr>
                <p:cNvPr id="2021" name=""/>
                <p:cNvSpPr/>
                <p:nvPr/>
              </p:nvSpPr>
              <p:spPr>
                <a:xfrm>
                  <a:off x="3643200" y="2357640"/>
                  <a:ext cx="1652760" cy="1684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86b21"/>
                    </a:gs>
                    <a:gs pos="100000">
                      <a:srgbClr val="0d190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3831840" y="2385360"/>
                  <a:ext cx="1275120" cy="635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386b2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3" name=""/>
              <p:cNvSpPr/>
              <p:nvPr/>
            </p:nvSpPr>
            <p:spPr>
              <a:xfrm>
                <a:off x="3750120" y="308988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024" name=""/>
            <p:cNvGrpSpPr/>
            <p:nvPr/>
          </p:nvGrpSpPr>
          <p:grpSpPr>
            <a:xfrm>
              <a:off x="5089680" y="1374840"/>
              <a:ext cx="925200" cy="912960"/>
              <a:chOff x="5089680" y="1374840"/>
              <a:chExt cx="925200" cy="912960"/>
            </a:xfrm>
          </p:grpSpPr>
          <p:grpSp>
            <p:nvGrpSpPr>
              <p:cNvPr id="2025" name=""/>
              <p:cNvGrpSpPr/>
              <p:nvPr/>
            </p:nvGrpSpPr>
            <p:grpSpPr>
              <a:xfrm>
                <a:off x="5089680" y="1374840"/>
                <a:ext cx="894600" cy="912960"/>
                <a:chOff x="5089680" y="1374840"/>
                <a:chExt cx="894600" cy="91296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5089680" y="1374840"/>
                  <a:ext cx="894600" cy="912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8e0b0"/>
                    </a:gs>
                    <a:gs pos="100000">
                      <a:srgbClr val="30362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5191920" y="1389960"/>
                  <a:ext cx="690120" cy="34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8e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8" name=""/>
              <p:cNvSpPr/>
              <p:nvPr/>
            </p:nvSpPr>
            <p:spPr>
              <a:xfrm>
                <a:off x="5105520" y="172548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029" name=""/>
            <p:cNvGrpSpPr/>
            <p:nvPr/>
          </p:nvGrpSpPr>
          <p:grpSpPr>
            <a:xfrm>
              <a:off x="1371600" y="2708280"/>
              <a:ext cx="1790640" cy="1895400"/>
              <a:chOff x="1371600" y="2708280"/>
              <a:chExt cx="1790640" cy="1895400"/>
            </a:xfrm>
          </p:grpSpPr>
          <p:grpSp>
            <p:nvGrpSpPr>
              <p:cNvPr id="2030" name=""/>
              <p:cNvGrpSpPr/>
              <p:nvPr/>
            </p:nvGrpSpPr>
            <p:grpSpPr>
              <a:xfrm>
                <a:off x="1371600" y="2708280"/>
                <a:ext cx="1790640" cy="1895400"/>
                <a:chOff x="1371600" y="2708280"/>
                <a:chExt cx="1790640" cy="189540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1371600" y="2708280"/>
                  <a:ext cx="1790640" cy="1895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cc00"/>
                    </a:gs>
                    <a:gs pos="100000">
                      <a:srgbClr val="6081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1576080" y="2739600"/>
                  <a:ext cx="1381320" cy="715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3" name=""/>
              <p:cNvSpPr/>
              <p:nvPr/>
            </p:nvSpPr>
            <p:spPr>
              <a:xfrm>
                <a:off x="1487880" y="355068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034" name=""/>
            <p:cNvGrpSpPr/>
            <p:nvPr/>
          </p:nvGrpSpPr>
          <p:grpSpPr>
            <a:xfrm>
              <a:off x="5021280" y="4111560"/>
              <a:ext cx="2065320" cy="2105280"/>
              <a:chOff x="5021280" y="4111560"/>
              <a:chExt cx="2065320" cy="2105280"/>
            </a:xfrm>
          </p:grpSpPr>
          <p:grpSp>
            <p:nvGrpSpPr>
              <p:cNvPr id="2035" name=""/>
              <p:cNvGrpSpPr/>
              <p:nvPr/>
            </p:nvGrpSpPr>
            <p:grpSpPr>
              <a:xfrm>
                <a:off x="5021280" y="4111560"/>
                <a:ext cx="2065320" cy="2105280"/>
                <a:chOff x="5021280" y="4111560"/>
                <a:chExt cx="2065320" cy="2105280"/>
              </a:xfrm>
            </p:grpSpPr>
            <p:sp>
              <p:nvSpPr>
                <p:cNvPr id="2036" name=""/>
                <p:cNvSpPr/>
                <p:nvPr/>
              </p:nvSpPr>
              <p:spPr>
                <a:xfrm>
                  <a:off x="5021280" y="4111560"/>
                  <a:ext cx="2065320" cy="2105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aab1"/>
                    </a:gs>
                    <a:gs pos="100000">
                      <a:srgbClr val="3556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5257080" y="4146480"/>
                  <a:ext cx="1593360" cy="794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9a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8" name=""/>
              <p:cNvSpPr/>
              <p:nvPr/>
            </p:nvSpPr>
            <p:spPr>
              <a:xfrm>
                <a:off x="5336280" y="502380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039" name=""/>
            <p:cNvSpPr/>
            <p:nvPr/>
          </p:nvSpPr>
          <p:spPr>
            <a:xfrm>
              <a:off x="1577880" y="4673520"/>
              <a:ext cx="145440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781440" y="4044960"/>
              <a:ext cx="1455840" cy="487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5365800" y="6216840"/>
              <a:ext cx="1454040" cy="4888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227560" y="2357640"/>
              <a:ext cx="666720" cy="2444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efef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3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44" name=""/>
          <p:cNvGrpSpPr/>
          <p:nvPr/>
        </p:nvGrpSpPr>
        <p:grpSpPr>
          <a:xfrm>
            <a:off x="752760" y="1828800"/>
            <a:ext cx="7282440" cy="3770280"/>
            <a:chOff x="752760" y="1828800"/>
            <a:chExt cx="7282440" cy="3770280"/>
          </a:xfrm>
        </p:grpSpPr>
        <p:sp>
          <p:nvSpPr>
            <p:cNvPr id="2045" name=""/>
            <p:cNvSpPr/>
            <p:nvPr/>
          </p:nvSpPr>
          <p:spPr>
            <a:xfrm rot="17973000">
              <a:off x="4561560" y="253404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3a9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 rot="3465600">
              <a:off x="4611960" y="4644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3a9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 rot="14368800">
              <a:off x="3393000" y="255636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33a9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 rot="7534800">
              <a:off x="3354840" y="4610880"/>
              <a:ext cx="792360" cy="288720"/>
            </a:xfrm>
            <a:prstGeom prst="rightArrow">
              <a:avLst>
                <a:gd name="adj1" fmla="val 35167"/>
                <a:gd name="adj2" fmla="val 111135"/>
              </a:avLst>
            </a:prstGeom>
            <a:solidFill>
              <a:srgbClr val="33a9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94080" y="3611520"/>
              <a:ext cx="792360" cy="289080"/>
            </a:xfrm>
            <a:prstGeom prst="rightArrow">
              <a:avLst>
                <a:gd name="adj1" fmla="val 35167"/>
                <a:gd name="adj2" fmla="val 110997"/>
              </a:avLst>
            </a:prstGeom>
            <a:solidFill>
              <a:srgbClr val="33a9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 rot="10800000">
              <a:off x="278388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33a97f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50488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555624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47064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55624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361960" y="36320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58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27636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58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58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20040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cce58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58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cce582"/>
                </a:gs>
                <a:gs pos="100000">
                  <a:srgbClr val="99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54492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69aab1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54960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69aab1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655800" y="29941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385b5f"/>
                </a:gs>
                <a:gs pos="50000">
                  <a:srgbClr val="69aab1"/>
                </a:gs>
                <a:gs pos="100000">
                  <a:srgbClr val="385b5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652560" y="299736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69aab1">
                    <a:alpha val="0"/>
                  </a:srgbClr>
                </a:gs>
                <a:gs pos="100000">
                  <a:srgbClr val="426b7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730320" y="3068640"/>
              <a:ext cx="133380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069" name="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2070" name="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76776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074" name="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6" name="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2077" name="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083" name="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2084" name="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190188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089" name="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2091" name="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2092" name="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53880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256280" y="19890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264200" y="19922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270320" y="19987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305600" y="20145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58164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5085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5528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2105" name="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2106" name=""/>
            <p:cNvSpPr/>
            <p:nvPr/>
          </p:nvSpPr>
          <p:spPr>
            <a:xfrm>
              <a:off x="586764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591840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591840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110" name=""/>
            <p:cNvGrpSpPr/>
            <p:nvPr/>
          </p:nvGrpSpPr>
          <p:grpSpPr>
            <a:xfrm>
              <a:off x="6612120" y="1984320"/>
              <a:ext cx="642960" cy="642960"/>
              <a:chOff x="6612120" y="1984320"/>
              <a:chExt cx="642960" cy="642960"/>
            </a:xfrm>
          </p:grpSpPr>
          <p:sp>
            <p:nvSpPr>
              <p:cNvPr id="2111" name=""/>
              <p:cNvSpPr/>
              <p:nvPr/>
            </p:nvSpPr>
            <p:spPr>
              <a:xfrm>
                <a:off x="661212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661860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662652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663300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666684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116" name="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6f9db7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59054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8baa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1" name=""/>
          <p:cNvGrpSpPr/>
          <p:nvPr/>
        </p:nvGrpSpPr>
        <p:grpSpPr>
          <a:xfrm>
            <a:off x="241200" y="2031840"/>
            <a:ext cx="8664480" cy="3985920"/>
            <a:chOff x="241200" y="2031840"/>
            <a:chExt cx="8664480" cy="3985920"/>
          </a:xfrm>
        </p:grpSpPr>
        <p:grpSp>
          <p:nvGrpSpPr>
            <p:cNvPr id="2122" name=""/>
            <p:cNvGrpSpPr/>
            <p:nvPr/>
          </p:nvGrpSpPr>
          <p:grpSpPr>
            <a:xfrm>
              <a:off x="241200" y="3238200"/>
              <a:ext cx="8664480" cy="142560"/>
              <a:chOff x="241200" y="3238200"/>
              <a:chExt cx="8664480" cy="142560"/>
            </a:xfrm>
          </p:grpSpPr>
          <p:sp>
            <p:nvSpPr>
              <p:cNvPr id="2123" name=""/>
              <p:cNvSpPr/>
              <p:nvPr/>
            </p:nvSpPr>
            <p:spPr>
              <a:xfrm>
                <a:off x="241200" y="323820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aeae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41200" y="329292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dcdcd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761760" y="2685960"/>
              <a:ext cx="1931760" cy="3264840"/>
              <a:chOff x="761760" y="2685960"/>
              <a:chExt cx="1931760" cy="3264840"/>
            </a:xfrm>
          </p:grpSpPr>
          <p:grpSp>
            <p:nvGrpSpPr>
              <p:cNvPr id="2126" name=""/>
              <p:cNvGrpSpPr/>
              <p:nvPr/>
            </p:nvGrpSpPr>
            <p:grpSpPr>
              <a:xfrm>
                <a:off x="1167480" y="3526560"/>
                <a:ext cx="1526040" cy="2424240"/>
                <a:chOff x="1167480" y="3526560"/>
                <a:chExt cx="1526040" cy="2424240"/>
              </a:xfrm>
            </p:grpSpPr>
            <p:grpSp>
              <p:nvGrpSpPr>
                <p:cNvPr id="2127" name=""/>
                <p:cNvGrpSpPr/>
                <p:nvPr/>
              </p:nvGrpSpPr>
              <p:grpSpPr>
                <a:xfrm>
                  <a:off x="1167480" y="3684240"/>
                  <a:ext cx="1420200" cy="2266560"/>
                  <a:chOff x="1167480" y="3684240"/>
                  <a:chExt cx="1420200" cy="2266560"/>
                </a:xfrm>
              </p:grpSpPr>
              <p:sp>
                <p:nvSpPr>
                  <p:cNvPr id="2128" name=""/>
                  <p:cNvSpPr/>
                  <p:nvPr/>
                </p:nvSpPr>
                <p:spPr>
                  <a:xfrm rot="3876600">
                    <a:off x="7398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 rot="3876600">
                    <a:off x="21070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30" name=""/>
                <p:cNvGrpSpPr/>
                <p:nvPr/>
              </p:nvGrpSpPr>
              <p:grpSpPr>
                <a:xfrm>
                  <a:off x="1603800" y="3526560"/>
                  <a:ext cx="1089720" cy="1739160"/>
                  <a:chOff x="1603800" y="3526560"/>
                  <a:chExt cx="1089720" cy="1739160"/>
                </a:xfrm>
              </p:grpSpPr>
              <p:sp>
                <p:nvSpPr>
                  <p:cNvPr id="2131" name=""/>
                  <p:cNvSpPr/>
                  <p:nvPr/>
                </p:nvSpPr>
                <p:spPr>
                  <a:xfrm flipV="1" rot="3876600">
                    <a:off x="12754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2" name=""/>
                  <p:cNvSpPr/>
                  <p:nvPr/>
                </p:nvSpPr>
                <p:spPr>
                  <a:xfrm flipV="1" rot="3876600">
                    <a:off x="23086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3" name=""/>
              <p:cNvGrpSpPr/>
              <p:nvPr/>
            </p:nvGrpSpPr>
            <p:grpSpPr>
              <a:xfrm>
                <a:off x="761760" y="2685960"/>
                <a:ext cx="1270440" cy="1309320"/>
                <a:chOff x="761760" y="2685960"/>
                <a:chExt cx="1270440" cy="130932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7617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8456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8456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9003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grpSp>
              <p:nvGrpSpPr>
                <p:cNvPr id="2139" name=""/>
                <p:cNvGrpSpPr/>
                <p:nvPr/>
              </p:nvGrpSpPr>
              <p:grpSpPr>
                <a:xfrm>
                  <a:off x="915480" y="2844360"/>
                  <a:ext cx="962280" cy="992880"/>
                  <a:chOff x="915480" y="2844360"/>
                  <a:chExt cx="962280" cy="992880"/>
                </a:xfrm>
              </p:grpSpPr>
              <p:sp>
                <p:nvSpPr>
                  <p:cNvPr id="2140" name=""/>
                  <p:cNvSpPr/>
                  <p:nvPr/>
                </p:nvSpPr>
                <p:spPr>
                  <a:xfrm>
                    <a:off x="9154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"/>
                  <p:cNvSpPr/>
                  <p:nvPr/>
                </p:nvSpPr>
                <p:spPr>
                  <a:xfrm>
                    <a:off x="9277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9374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9900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44" name=""/>
              <p:cNvSpPr/>
              <p:nvPr/>
            </p:nvSpPr>
            <p:spPr>
              <a:xfrm rot="3925800">
                <a:off x="112860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 rot="3925800">
                <a:off x="1590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463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146" name=""/>
            <p:cNvGrpSpPr/>
            <p:nvPr/>
          </p:nvGrpSpPr>
          <p:grpSpPr>
            <a:xfrm>
              <a:off x="2509560" y="2685960"/>
              <a:ext cx="1930680" cy="3264840"/>
              <a:chOff x="2509560" y="2685960"/>
              <a:chExt cx="1930680" cy="3264840"/>
            </a:xfrm>
          </p:grpSpPr>
          <p:grpSp>
            <p:nvGrpSpPr>
              <p:cNvPr id="2147" name=""/>
              <p:cNvGrpSpPr/>
              <p:nvPr/>
            </p:nvGrpSpPr>
            <p:grpSpPr>
              <a:xfrm>
                <a:off x="2914200" y="3526560"/>
                <a:ext cx="1526040" cy="2424240"/>
                <a:chOff x="2914200" y="3526560"/>
                <a:chExt cx="1526040" cy="2424240"/>
              </a:xfrm>
            </p:grpSpPr>
            <p:grpSp>
              <p:nvGrpSpPr>
                <p:cNvPr id="2148" name=""/>
                <p:cNvGrpSpPr/>
                <p:nvPr/>
              </p:nvGrpSpPr>
              <p:grpSpPr>
                <a:xfrm>
                  <a:off x="2914200" y="3684240"/>
                  <a:ext cx="1420200" cy="2266560"/>
                  <a:chOff x="2914200" y="3684240"/>
                  <a:chExt cx="1420200" cy="2266560"/>
                </a:xfrm>
              </p:grpSpPr>
              <p:sp>
                <p:nvSpPr>
                  <p:cNvPr id="2149" name=""/>
                  <p:cNvSpPr/>
                  <p:nvPr/>
                </p:nvSpPr>
                <p:spPr>
                  <a:xfrm rot="3876600">
                    <a:off x="248652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 rot="3876600">
                    <a:off x="385344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51" name=""/>
                <p:cNvGrpSpPr/>
                <p:nvPr/>
              </p:nvGrpSpPr>
              <p:grpSpPr>
                <a:xfrm>
                  <a:off x="3350160" y="3526560"/>
                  <a:ext cx="1090080" cy="1739160"/>
                  <a:chOff x="3350160" y="3526560"/>
                  <a:chExt cx="1090080" cy="1739160"/>
                </a:xfrm>
              </p:grpSpPr>
              <p:sp>
                <p:nvSpPr>
                  <p:cNvPr id="2152" name=""/>
                  <p:cNvSpPr/>
                  <p:nvPr/>
                </p:nvSpPr>
                <p:spPr>
                  <a:xfrm flipV="1" rot="3876600">
                    <a:off x="3021840" y="4206960"/>
                    <a:ext cx="1746000" cy="37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3" name=""/>
                  <p:cNvSpPr/>
                  <p:nvPr/>
                </p:nvSpPr>
                <p:spPr>
                  <a:xfrm flipV="1" rot="3876600">
                    <a:off x="4055760" y="4888080"/>
                    <a:ext cx="274320" cy="30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4" name=""/>
              <p:cNvGrpSpPr/>
              <p:nvPr/>
            </p:nvGrpSpPr>
            <p:grpSpPr>
              <a:xfrm>
                <a:off x="2509560" y="2685960"/>
                <a:ext cx="1270440" cy="1309320"/>
                <a:chOff x="2509560" y="2685960"/>
                <a:chExt cx="1270440" cy="130932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2509560" y="2685960"/>
                  <a:ext cx="12704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2593440" y="277092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2593440" y="2773800"/>
                  <a:ext cx="110196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2648160" y="2828880"/>
                  <a:ext cx="99288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grpSp>
              <p:nvGrpSpPr>
                <p:cNvPr id="2160" name=""/>
                <p:cNvGrpSpPr/>
                <p:nvPr/>
              </p:nvGrpSpPr>
              <p:grpSpPr>
                <a:xfrm>
                  <a:off x="2663280" y="2844360"/>
                  <a:ext cx="962280" cy="992880"/>
                  <a:chOff x="2663280" y="2844360"/>
                  <a:chExt cx="962280" cy="992880"/>
                </a:xfrm>
              </p:grpSpPr>
              <p:sp>
                <p:nvSpPr>
                  <p:cNvPr id="2161" name=""/>
                  <p:cNvSpPr/>
                  <p:nvPr/>
                </p:nvSpPr>
                <p:spPr>
                  <a:xfrm>
                    <a:off x="2663280" y="2844360"/>
                    <a:ext cx="96228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2" name=""/>
                  <p:cNvSpPr/>
                  <p:nvPr/>
                </p:nvSpPr>
                <p:spPr>
                  <a:xfrm>
                    <a:off x="2675520" y="2849760"/>
                    <a:ext cx="93924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2685240" y="2859120"/>
                    <a:ext cx="89316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2737800" y="2884680"/>
                    <a:ext cx="79380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65" name=""/>
              <p:cNvSpPr/>
              <p:nvPr/>
            </p:nvSpPr>
            <p:spPr>
              <a:xfrm rot="3925800">
                <a:off x="286992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 rot="3925800">
                <a:off x="333216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463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167" name=""/>
            <p:cNvGrpSpPr/>
            <p:nvPr/>
          </p:nvGrpSpPr>
          <p:grpSpPr>
            <a:xfrm>
              <a:off x="4313160" y="2685960"/>
              <a:ext cx="1931760" cy="3264840"/>
              <a:chOff x="4313160" y="2685960"/>
              <a:chExt cx="1931760" cy="3264840"/>
            </a:xfrm>
          </p:grpSpPr>
          <p:grpSp>
            <p:nvGrpSpPr>
              <p:cNvPr id="2168" name=""/>
              <p:cNvGrpSpPr/>
              <p:nvPr/>
            </p:nvGrpSpPr>
            <p:grpSpPr>
              <a:xfrm>
                <a:off x="4718880" y="3526560"/>
                <a:ext cx="1526040" cy="2424240"/>
                <a:chOff x="4718880" y="3526560"/>
                <a:chExt cx="1526040" cy="2424240"/>
              </a:xfrm>
            </p:grpSpPr>
            <p:grpSp>
              <p:nvGrpSpPr>
                <p:cNvPr id="2169" name=""/>
                <p:cNvGrpSpPr/>
                <p:nvPr/>
              </p:nvGrpSpPr>
              <p:grpSpPr>
                <a:xfrm>
                  <a:off x="4718880" y="3684240"/>
                  <a:ext cx="1420200" cy="2266560"/>
                  <a:chOff x="4718880" y="3684240"/>
                  <a:chExt cx="1420200" cy="2266560"/>
                </a:xfrm>
              </p:grpSpPr>
              <p:sp>
                <p:nvSpPr>
                  <p:cNvPr id="2170" name=""/>
                  <p:cNvSpPr/>
                  <p:nvPr/>
                </p:nvSpPr>
                <p:spPr>
                  <a:xfrm rot="3876600">
                    <a:off x="4291200" y="4571280"/>
                    <a:ext cx="227520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 rot="3876600">
                    <a:off x="5658480" y="545004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2" name=""/>
                <p:cNvGrpSpPr/>
                <p:nvPr/>
              </p:nvGrpSpPr>
              <p:grpSpPr>
                <a:xfrm>
                  <a:off x="5155200" y="3526560"/>
                  <a:ext cx="1089720" cy="1739160"/>
                  <a:chOff x="5155200" y="3526560"/>
                  <a:chExt cx="1089720" cy="1739160"/>
                </a:xfrm>
              </p:grpSpPr>
              <p:sp>
                <p:nvSpPr>
                  <p:cNvPr id="2173" name=""/>
                  <p:cNvSpPr/>
                  <p:nvPr/>
                </p:nvSpPr>
                <p:spPr>
                  <a:xfrm flipV="1" rot="3876600">
                    <a:off x="4826880" y="4206960"/>
                    <a:ext cx="174600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"/>
                  <p:cNvSpPr/>
                  <p:nvPr/>
                </p:nvSpPr>
                <p:spPr>
                  <a:xfrm flipV="1" rot="3876600">
                    <a:off x="5860080" y="488916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5" name=""/>
              <p:cNvGrpSpPr/>
              <p:nvPr/>
            </p:nvGrpSpPr>
            <p:grpSpPr>
              <a:xfrm>
                <a:off x="4313160" y="2685960"/>
                <a:ext cx="1272240" cy="1309320"/>
                <a:chOff x="4313160" y="2685960"/>
                <a:chExt cx="1272240" cy="130932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83a6a7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313160" y="2685960"/>
                  <a:ext cx="1272240" cy="1309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0000">
                        <a:alpha val="90196"/>
                      </a:srgbClr>
                    </a:gs>
                    <a:gs pos="100000">
                      <a:srgbClr val="83a6a7">
                        <a:alpha val="32156"/>
                      </a:srgbClr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397400" y="277092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6595a"/>
                    </a:gs>
                    <a:gs pos="50000">
                      <a:srgbClr val="83a6a7"/>
                    </a:gs>
                    <a:gs pos="100000">
                      <a:srgbClr val="46595a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397400" y="2773800"/>
                  <a:ext cx="1103400" cy="1137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0"/>
                      </a:srgbClr>
                    </a:gs>
                    <a:gs pos="100000">
                      <a:srgbClr val="52696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452120" y="2828880"/>
                  <a:ext cx="993960" cy="10231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grpSp>
              <p:nvGrpSpPr>
                <p:cNvPr id="2181" name=""/>
                <p:cNvGrpSpPr/>
                <p:nvPr/>
              </p:nvGrpSpPr>
              <p:grpSpPr>
                <a:xfrm>
                  <a:off x="4467240" y="2844360"/>
                  <a:ext cx="963720" cy="992880"/>
                  <a:chOff x="4467240" y="2844360"/>
                  <a:chExt cx="963720" cy="992880"/>
                </a:xfrm>
              </p:grpSpPr>
              <p:sp>
                <p:nvSpPr>
                  <p:cNvPr id="2182" name=""/>
                  <p:cNvSpPr/>
                  <p:nvPr/>
                </p:nvSpPr>
                <p:spPr>
                  <a:xfrm>
                    <a:off x="4467240" y="2844360"/>
                    <a:ext cx="963720" cy="9928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26768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"/>
                  <p:cNvSpPr/>
                  <p:nvPr/>
                </p:nvSpPr>
                <p:spPr>
                  <a:xfrm>
                    <a:off x="4479480" y="2849760"/>
                    <a:ext cx="940680" cy="968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eff3f3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4489560" y="2859120"/>
                    <a:ext cx="894240" cy="904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8b1b2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4541760" y="2884680"/>
                    <a:ext cx="795240" cy="734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efefe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86" name=""/>
              <p:cNvSpPr/>
              <p:nvPr/>
            </p:nvSpPr>
            <p:spPr>
              <a:xfrm rot="3925800">
                <a:off x="4683240" y="450288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 rot="3925800">
                <a:off x="5145120" y="42235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463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188" name=""/>
            <p:cNvGrpSpPr/>
            <p:nvPr/>
          </p:nvGrpSpPr>
          <p:grpSpPr>
            <a:xfrm>
              <a:off x="6089400" y="2541600"/>
              <a:ext cx="2122560" cy="3476160"/>
              <a:chOff x="6089400" y="2541600"/>
              <a:chExt cx="2122560" cy="3476160"/>
            </a:xfrm>
          </p:grpSpPr>
          <p:grpSp>
            <p:nvGrpSpPr>
              <p:cNvPr id="2189" name=""/>
              <p:cNvGrpSpPr/>
              <p:nvPr/>
            </p:nvGrpSpPr>
            <p:grpSpPr>
              <a:xfrm>
                <a:off x="6685920" y="3593160"/>
                <a:ext cx="1526040" cy="2424600"/>
                <a:chOff x="6685920" y="3593160"/>
                <a:chExt cx="1526040" cy="2424600"/>
              </a:xfrm>
            </p:grpSpPr>
            <p:grpSp>
              <p:nvGrpSpPr>
                <p:cNvPr id="2190" name=""/>
                <p:cNvGrpSpPr/>
                <p:nvPr/>
              </p:nvGrpSpPr>
              <p:grpSpPr>
                <a:xfrm>
                  <a:off x="6685920" y="3750840"/>
                  <a:ext cx="1420200" cy="2266920"/>
                  <a:chOff x="6685920" y="3750840"/>
                  <a:chExt cx="1420200" cy="2266920"/>
                </a:xfrm>
              </p:grpSpPr>
              <p:sp>
                <p:nvSpPr>
                  <p:cNvPr id="2191" name=""/>
                  <p:cNvSpPr/>
                  <p:nvPr/>
                </p:nvSpPr>
                <p:spPr>
                  <a:xfrm rot="3876600">
                    <a:off x="6258240" y="4637880"/>
                    <a:ext cx="2275560" cy="4921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 rot="3876600">
                    <a:off x="7625520" y="5517000"/>
                    <a:ext cx="357480" cy="40284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93" name=""/>
                <p:cNvGrpSpPr/>
                <p:nvPr/>
              </p:nvGrpSpPr>
              <p:grpSpPr>
                <a:xfrm>
                  <a:off x="7122240" y="3593160"/>
                  <a:ext cx="1089720" cy="1739520"/>
                  <a:chOff x="7122240" y="3593160"/>
                  <a:chExt cx="1089720" cy="1739520"/>
                </a:xfrm>
              </p:grpSpPr>
              <p:sp>
                <p:nvSpPr>
                  <p:cNvPr id="2194" name=""/>
                  <p:cNvSpPr/>
                  <p:nvPr/>
                </p:nvSpPr>
                <p:spPr>
                  <a:xfrm flipV="1" rot="3876600">
                    <a:off x="6793560" y="4273920"/>
                    <a:ext cx="1746360" cy="37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5" name=""/>
                  <p:cNvSpPr/>
                  <p:nvPr/>
                </p:nvSpPr>
                <p:spPr>
                  <a:xfrm flipV="1" rot="3876600">
                    <a:off x="7827480" y="4956120"/>
                    <a:ext cx="274320" cy="30888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196" name="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3399ff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089400" y="2541600"/>
                <a:ext cx="1526760" cy="1569960"/>
              </a:xfrm>
              <a:prstGeom prst="ellipse">
                <a:avLst/>
              </a:prstGeom>
              <a:gradFill rotWithShape="0">
                <a:gsLst>
                  <a:gs pos="0">
                    <a:srgbClr val="000000">
                      <a:alpha val="90196"/>
                    </a:srgbClr>
                  </a:gs>
                  <a:gs pos="100000">
                    <a:srgbClr val="3399ff">
                      <a:alpha val="32156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190920" y="2644920"/>
                <a:ext cx="1326240" cy="1362960"/>
              </a:xfrm>
              <a:prstGeom prst="ellipse">
                <a:avLst/>
              </a:prstGeom>
              <a:gradFill rotWithShape="0">
                <a:gsLst>
                  <a:gs pos="0">
                    <a:srgbClr val="1b5289"/>
                  </a:gs>
                  <a:gs pos="50000">
                    <a:srgbClr val="3399ff"/>
                  </a:gs>
                  <a:gs pos="100000">
                    <a:srgbClr val="1b5289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6192720" y="2647800"/>
                <a:ext cx="1325880" cy="13633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0"/>
                    </a:srgbClr>
                  </a:gs>
                  <a:gs pos="100000">
                    <a:srgbClr val="2060a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6256080" y="2712960"/>
                <a:ext cx="1194480" cy="12268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grpSp>
            <p:nvGrpSpPr>
              <p:cNvPr id="2201" name=""/>
              <p:cNvGrpSpPr/>
              <p:nvPr/>
            </p:nvGrpSpPr>
            <p:grpSpPr>
              <a:xfrm>
                <a:off x="6275160" y="2732040"/>
                <a:ext cx="1157760" cy="1190160"/>
                <a:chOff x="6275160" y="2732040"/>
                <a:chExt cx="1157760" cy="1190160"/>
              </a:xfrm>
            </p:grpSpPr>
            <p:sp>
              <p:nvSpPr>
                <p:cNvPr id="2202" name=""/>
                <p:cNvSpPr/>
                <p:nvPr/>
              </p:nvSpPr>
              <p:spPr>
                <a:xfrm>
                  <a:off x="6275160" y="2732040"/>
                  <a:ext cx="1157760" cy="1190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26768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203" name=""/>
                <p:cNvSpPr/>
                <p:nvPr/>
              </p:nvSpPr>
              <p:spPr>
                <a:xfrm>
                  <a:off x="6289920" y="2738520"/>
                  <a:ext cx="1129680" cy="116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eff3f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6301800" y="2750040"/>
                  <a:ext cx="1074600" cy="1084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8b1b2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6364800" y="2780280"/>
                  <a:ext cx="955080" cy="880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6" name=""/>
              <p:cNvSpPr/>
              <p:nvPr/>
            </p:nvSpPr>
            <p:spPr>
              <a:xfrm rot="3925800">
                <a:off x="6635880" y="46461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 rot="3925800">
                <a:off x="7096320" y="43668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24631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208" name=""/>
            <p:cNvGrpSpPr/>
            <p:nvPr/>
          </p:nvGrpSpPr>
          <p:grpSpPr>
            <a:xfrm>
              <a:off x="1098360" y="2031840"/>
              <a:ext cx="6056640" cy="407880"/>
              <a:chOff x="1098360" y="2031840"/>
              <a:chExt cx="6056640" cy="407880"/>
            </a:xfrm>
          </p:grpSpPr>
          <p:sp>
            <p:nvSpPr>
              <p:cNvPr id="2209" name="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a97f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a97f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4598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33a97f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38892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a97f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cxnSp>
            <p:nvCxnSpPr>
              <p:cNvPr id="2213" name=""/>
              <p:cNvCxnSpPr>
                <a:stCxn id="2209" idx="3"/>
                <a:endCxn id="2210" idx="1"/>
              </p:cNvCxnSpPr>
              <p:nvPr/>
            </p:nvCxnSpPr>
            <p:spPr>
              <a:xfrm>
                <a:off x="1834560" y="2255400"/>
                <a:ext cx="986760" cy="1080"/>
              </a:xfrm>
              <a:prstGeom prst="straightConnector1">
                <a:avLst/>
              </a:prstGeom>
              <a:ln w="9360">
                <a:solidFill>
                  <a:srgbClr val="33a97f"/>
                </a:solidFill>
                <a:miter/>
                <a:tailEnd len="med" type="triangle" w="med"/>
              </a:ln>
            </p:spPr>
          </p:cxnSp>
          <p:cxnSp>
            <p:nvCxnSpPr>
              <p:cNvPr id="2214" name=""/>
              <p:cNvCxnSpPr>
                <a:stCxn id="2210" idx="3"/>
                <a:endCxn id="2211" idx="1"/>
              </p:cNvCxnSpPr>
              <p:nvPr/>
            </p:nvCxnSpPr>
            <p:spPr>
              <a:xfrm>
                <a:off x="3589200" y="225540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a97f"/>
                </a:solidFill>
                <a:miter/>
                <a:tailEnd len="med" type="triangle" w="med"/>
              </a:ln>
            </p:spPr>
          </p:cxnSp>
          <p:cxnSp>
            <p:nvCxnSpPr>
              <p:cNvPr id="2215" name="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a97f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17" name=""/>
          <p:cNvGrpSpPr/>
          <p:nvPr/>
        </p:nvGrpSpPr>
        <p:grpSpPr>
          <a:xfrm>
            <a:off x="1676520" y="1523880"/>
            <a:ext cx="5867280" cy="1301760"/>
            <a:chOff x="1676520" y="1523880"/>
            <a:chExt cx="5867280" cy="1301760"/>
          </a:xfrm>
        </p:grpSpPr>
        <p:sp>
          <p:nvSpPr>
            <p:cNvPr id="2218" name=""/>
            <p:cNvSpPr/>
            <p:nvPr/>
          </p:nvSpPr>
          <p:spPr>
            <a:xfrm>
              <a:off x="1676520" y="152388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19" name=""/>
            <p:cNvGrpSpPr/>
            <p:nvPr/>
          </p:nvGrpSpPr>
          <p:grpSpPr>
            <a:xfrm>
              <a:off x="1804680" y="1643400"/>
              <a:ext cx="1130760" cy="1064520"/>
              <a:chOff x="1804680" y="1643400"/>
              <a:chExt cx="1130760" cy="1064520"/>
            </a:xfrm>
          </p:grpSpPr>
          <p:sp>
            <p:nvSpPr>
              <p:cNvPr id="2220" name=""/>
              <p:cNvSpPr/>
              <p:nvPr/>
            </p:nvSpPr>
            <p:spPr>
              <a:xfrm>
                <a:off x="1804680" y="164340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c8e0b0"/>
                  </a:gs>
                  <a:gs pos="100000">
                    <a:srgbClr val="8b9b7a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1875240" y="171180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0edd3"/>
                  </a:gs>
                  <a:gs pos="50000">
                    <a:srgbClr val="c8e0b0">
                      <a:alpha val="0"/>
                    </a:srgbClr>
                  </a:gs>
                  <a:gs pos="100000">
                    <a:srgbClr val="e0ed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1930680" y="19328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23" name=""/>
            <p:cNvSpPr/>
            <p:nvPr/>
          </p:nvSpPr>
          <p:spPr>
            <a:xfrm>
              <a:off x="3090240" y="17251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2224" name=""/>
          <p:cNvGrpSpPr/>
          <p:nvPr/>
        </p:nvGrpSpPr>
        <p:grpSpPr>
          <a:xfrm>
            <a:off x="1676520" y="3054240"/>
            <a:ext cx="5867280" cy="1301760"/>
            <a:chOff x="1676520" y="3054240"/>
            <a:chExt cx="5867280" cy="1301760"/>
          </a:xfrm>
        </p:grpSpPr>
        <p:sp>
          <p:nvSpPr>
            <p:cNvPr id="2225" name=""/>
            <p:cNvSpPr/>
            <p:nvPr/>
          </p:nvSpPr>
          <p:spPr>
            <a:xfrm>
              <a:off x="1676520" y="305424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0f0f0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26" name=""/>
            <p:cNvGrpSpPr/>
            <p:nvPr/>
          </p:nvGrpSpPr>
          <p:grpSpPr>
            <a:xfrm>
              <a:off x="1804680" y="3173760"/>
              <a:ext cx="1130760" cy="1064520"/>
              <a:chOff x="1804680" y="3173760"/>
              <a:chExt cx="1130760" cy="1064520"/>
            </a:xfrm>
          </p:grpSpPr>
          <p:sp>
            <p:nvSpPr>
              <p:cNvPr id="2227" name=""/>
              <p:cNvSpPr/>
              <p:nvPr/>
            </p:nvSpPr>
            <p:spPr>
              <a:xfrm>
                <a:off x="1804680" y="317376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1c0c5"/>
                  </a:gs>
                  <a:gs pos="100000">
                    <a:srgbClr val="69aab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1875240" y="324216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9aab1">
                      <a:alpha val="0"/>
                    </a:srgbClr>
                  </a:gs>
                  <a:gs pos="100000">
                    <a:srgbClr val="bedadd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1930680" y="346464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30" name=""/>
            <p:cNvSpPr/>
            <p:nvPr/>
          </p:nvSpPr>
          <p:spPr>
            <a:xfrm>
              <a:off x="3090240" y="323244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24631"/>
                  </a:solidFill>
                  <a:latin typeface="Arial"/>
                  <a:ea typeface="宋体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2231" name=""/>
          <p:cNvGrpSpPr/>
          <p:nvPr/>
        </p:nvGrpSpPr>
        <p:grpSpPr>
          <a:xfrm>
            <a:off x="1676520" y="4594320"/>
            <a:ext cx="5867280" cy="1301760"/>
            <a:chOff x="1676520" y="4594320"/>
            <a:chExt cx="5867280" cy="1301760"/>
          </a:xfrm>
        </p:grpSpPr>
        <p:sp>
          <p:nvSpPr>
            <p:cNvPr id="2232" name=""/>
            <p:cNvSpPr/>
            <p:nvPr/>
          </p:nvSpPr>
          <p:spPr>
            <a:xfrm>
              <a:off x="1676520" y="4594320"/>
              <a:ext cx="5867280" cy="1301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ededed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33" name=""/>
            <p:cNvGrpSpPr/>
            <p:nvPr/>
          </p:nvGrpSpPr>
          <p:grpSpPr>
            <a:xfrm>
              <a:off x="1804680" y="4713840"/>
              <a:ext cx="1130760" cy="1064520"/>
              <a:chOff x="1804680" y="4713840"/>
              <a:chExt cx="1130760" cy="1064520"/>
            </a:xfrm>
          </p:grpSpPr>
          <p:sp>
            <p:nvSpPr>
              <p:cNvPr id="2234" name=""/>
              <p:cNvSpPr/>
              <p:nvPr/>
            </p:nvSpPr>
            <p:spPr>
              <a:xfrm>
                <a:off x="1804680" y="4713840"/>
                <a:ext cx="1130760" cy="10645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80a071"/>
                  </a:gs>
                  <a:gs pos="100000">
                    <a:srgbClr val="386b2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1875240" y="4782240"/>
                <a:ext cx="563760" cy="53172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86b21">
                      <a:alpha val="0"/>
                    </a:srgbClr>
                  </a:gs>
                  <a:gs pos="100000">
                    <a:srgbClr val="9db692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1930680" y="5004720"/>
                <a:ext cx="852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2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37" name=""/>
            <p:cNvSpPr/>
            <p:nvPr/>
          </p:nvSpPr>
          <p:spPr>
            <a:xfrm>
              <a:off x="3090240" y="4772520"/>
              <a:ext cx="4312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238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9aab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2463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0" name="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24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41" name="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24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42" name="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24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43" name="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0246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grpSp>
        <p:nvGrpSpPr>
          <p:cNvPr id="2244" name=""/>
          <p:cNvGrpSpPr/>
          <p:nvPr/>
        </p:nvGrpSpPr>
        <p:grpSpPr>
          <a:xfrm>
            <a:off x="1127520" y="1863360"/>
            <a:ext cx="6215400" cy="1324800"/>
            <a:chOff x="1127520" y="1863360"/>
            <a:chExt cx="6215400" cy="1324800"/>
          </a:xfrm>
        </p:grpSpPr>
        <p:sp>
          <p:nvSpPr>
            <p:cNvPr id="2245" name="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69aab1"/>
                </a:gs>
                <a:gs pos="100000">
                  <a:srgbClr val="304e51"/>
                </a:gs>
              </a:gsLst>
              <a:lin ang="1980000"/>
            </a:gradFill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46" name=""/>
            <p:cNvGrpSpPr/>
            <p:nvPr/>
          </p:nvGrpSpPr>
          <p:grpSpPr>
            <a:xfrm>
              <a:off x="2258280" y="2244600"/>
              <a:ext cx="901080" cy="124200"/>
              <a:chOff x="2258280" y="2244600"/>
              <a:chExt cx="901080" cy="124200"/>
            </a:xfrm>
          </p:grpSpPr>
          <p:sp>
            <p:nvSpPr>
              <p:cNvPr id="2247" name="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234468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302292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309600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51" name="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52" name=""/>
            <p:cNvGrpSpPr/>
            <p:nvPr/>
          </p:nvGrpSpPr>
          <p:grpSpPr>
            <a:xfrm>
              <a:off x="3922920" y="2244600"/>
              <a:ext cx="901080" cy="124200"/>
              <a:chOff x="3922920" y="2244600"/>
              <a:chExt cx="901080" cy="124200"/>
            </a:xfrm>
          </p:grpSpPr>
          <p:sp>
            <p:nvSpPr>
              <p:cNvPr id="2253" name="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4009320" y="2245320"/>
                <a:ext cx="74736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687560" y="2246400"/>
                <a:ext cx="13644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4760640" y="2285280"/>
                <a:ext cx="3816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57" name=""/>
            <p:cNvSpPr/>
            <p:nvPr/>
          </p:nvSpPr>
          <p:spPr>
            <a:xfrm rot="3418800">
              <a:off x="4595760" y="2008800"/>
              <a:ext cx="874080" cy="971280"/>
            </a:xfrm>
            <a:prstGeom prst="rect">
              <a:avLst/>
            </a:prstGeom>
            <a:gradFill rotWithShape="0">
              <a:gsLst>
                <a:gs pos="0">
                  <a:srgbClr val="69aab1"/>
                </a:gs>
                <a:gs pos="100000">
                  <a:srgbClr val="304e51"/>
                </a:gs>
              </a:gsLst>
              <a:lin ang="1980000"/>
            </a:gradFill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5587560" y="2244600"/>
              <a:ext cx="1178640" cy="124200"/>
              <a:chOff x="5587560" y="2244600"/>
              <a:chExt cx="1178640" cy="124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558756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570060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6587640" y="2246400"/>
                <a:ext cx="178560" cy="1195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6683040" y="2285280"/>
                <a:ext cx="50040" cy="349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63" name=""/>
            <p:cNvSpPr/>
            <p:nvPr/>
          </p:nvSpPr>
          <p:spPr>
            <a:xfrm rot="3418800">
              <a:off x="6260400" y="2008800"/>
              <a:ext cx="874080" cy="971280"/>
            </a:xfrm>
            <a:prstGeom prst="rect">
              <a:avLst/>
            </a:prstGeom>
            <a:solidFill>
              <a:srgbClr val="c8e0b0"/>
            </a:solidFill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264" name="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5" name="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6" name="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7" name="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8" name="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63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69" name="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63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0" name="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63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271" name="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24631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2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73" name=""/>
          <p:cNvGraphicFramePr/>
          <p:nvPr/>
        </p:nvGraphicFramePr>
        <p:xfrm>
          <a:off x="838080" y="2111400"/>
          <a:ext cx="7467480" cy="2946240"/>
        </p:xfrm>
        <a:graphic>
          <a:graphicData uri="http://schemas.openxmlformats.org/drawingml/2006/table">
            <a:tbl>
              <a:tblPr/>
              <a:tblGrid>
                <a:gridCol w="1684440"/>
                <a:gridCol w="1174680"/>
                <a:gridCol w="1152360"/>
                <a:gridCol w="1149480"/>
                <a:gridCol w="1157400"/>
                <a:gridCol w="1149120"/>
              </a:tblGrid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24631"/>
                      </a:solidFill>
                    </a:lnR>
                    <a:lnT>
                      <a:noFill/>
                    </a:lnT>
                    <a:lnB w="5760">
                      <a:solidFill>
                        <a:srgbClr val="024631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33a9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33a97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33a97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33a97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33a97f"/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20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1d528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2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1d528d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24631"/>
                          </a:solidFill>
                          <a:latin typeface="Arial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024631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4631"/>
                      </a:solidFill>
                    </a:lnL>
                    <a:lnR w="5760">
                      <a:solidFill>
                        <a:srgbClr val="024631"/>
                      </a:solidFill>
                    </a:lnR>
                    <a:lnT w="5760">
                      <a:solidFill>
                        <a:srgbClr val="024631"/>
                      </a:solidFill>
                    </a:lnT>
                    <a:lnB w="5760">
                      <a:solidFill>
                        <a:srgbClr val="024631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4" name=""/>
          <p:cNvGrpSpPr/>
          <p:nvPr/>
        </p:nvGrpSpPr>
        <p:grpSpPr>
          <a:xfrm>
            <a:off x="824760" y="732960"/>
            <a:ext cx="7379640" cy="5581800"/>
            <a:chOff x="824760" y="732960"/>
            <a:chExt cx="7379640" cy="5581800"/>
          </a:xfrm>
        </p:grpSpPr>
        <p:sp>
          <p:nvSpPr>
            <p:cNvPr id="2275" name=""/>
            <p:cNvSpPr/>
            <p:nvPr/>
          </p:nvSpPr>
          <p:spPr>
            <a:xfrm>
              <a:off x="2362320" y="451980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rot="20601600">
              <a:off x="1672920" y="2408040"/>
              <a:ext cx="5686560" cy="3016080"/>
            </a:xfrm>
            <a:prstGeom prst="ellipse">
              <a:avLst/>
            </a:prstGeom>
            <a:gradFill rotWithShape="0">
              <a:gsLst>
                <a:gs pos="0">
                  <a:srgbClr val="565656"/>
                </a:gs>
                <a:gs pos="50000">
                  <a:srgbClr val="dddddd"/>
                </a:gs>
                <a:gs pos="100000">
                  <a:srgbClr val="56565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rot="20601600">
              <a:off x="1692000" y="2244960"/>
              <a:ext cx="5564160" cy="29224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2791bb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 rot="20601600">
              <a:off x="1609560" y="2230200"/>
              <a:ext cx="5698440" cy="292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7395" y="2248"/>
                  </a:moveTo>
                  <a:arcTo wR="10800" hR="10800" stAng="-3141777" swAng="5155523"/>
                  <a:lnTo>
                    <a:pt x="10800" y="10800"/>
                  </a:lnTo>
                  <a:close/>
                </a:path>
                <a:path fill="none" w="21600" h="21600">
                  <a:moveTo>
                    <a:pt x="17395" y="2248"/>
                  </a:moveTo>
                  <a:arcTo wR="10800" hR="10800" stAng="-3141777" swAng="5155523"/>
                </a:path>
              </a:pathLst>
            </a:custGeom>
            <a:gradFill rotWithShape="0">
              <a:gsLst>
                <a:gs pos="0">
                  <a:srgbClr val="9ac5ca"/>
                </a:gs>
                <a:gs pos="100000">
                  <a:srgbClr val="69aab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H="1" rot="20602200">
              <a:off x="1658520" y="2229840"/>
              <a:ext cx="5644080" cy="295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528" y="12048"/>
                  </a:moveTo>
                  <a:arcTo wR="10800" hR="10800" stAng="398260" swAng="5586891"/>
                  <a:lnTo>
                    <a:pt x="10800" y="10800"/>
                  </a:lnTo>
                  <a:close/>
                </a:path>
                <a:path fill="none" w="21600" h="21600">
                  <a:moveTo>
                    <a:pt x="21528" y="12048"/>
                  </a:moveTo>
                  <a:arcTo wR="10800" hR="10800" stAng="398260" swAng="5586891"/>
                </a:path>
              </a:pathLst>
            </a:custGeom>
            <a:gradFill rotWithShape="0">
              <a:gsLst>
                <a:gs pos="0">
                  <a:srgbClr val="79876a"/>
                </a:gs>
                <a:gs pos="100000">
                  <a:srgbClr val="c8e0b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rot="20601600">
              <a:off x="1616400" y="2242440"/>
              <a:ext cx="568152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587" y="1342"/>
                  </a:moveTo>
                  <a:arcTo wR="10800" hR="10800" stAng="-7131749" swAng="4032112"/>
                  <a:lnTo>
                    <a:pt x="10800" y="10800"/>
                  </a:lnTo>
                  <a:close/>
                </a:path>
                <a:path fill="none" w="21600" h="21600">
                  <a:moveTo>
                    <a:pt x="5587" y="1342"/>
                  </a:moveTo>
                  <a:arcTo wR="10800" hR="10800" stAng="-7131749" swAng="4032112"/>
                </a:path>
              </a:pathLst>
            </a:custGeom>
            <a:gradFill rotWithShape="0">
              <a:gsLst>
                <a:gs pos="0">
                  <a:srgbClr val="1a5842"/>
                </a:gs>
                <a:gs pos="100000">
                  <a:srgbClr val="33a97f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H="1" rot="20602200">
              <a:off x="1626480" y="2223000"/>
              <a:ext cx="5698440" cy="297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674" y="719"/>
                  </a:moveTo>
                  <a:arcTo wR="10800" hR="10800" stAng="-4138599" swAng="58879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4674" y="719"/>
                  </a:moveTo>
                  <a:arcTo wR="10800" hR="10800" stAng="-4138599" swAng="5887996"/>
                </a:path>
              </a:pathLst>
            </a:custGeom>
            <a:gradFill rotWithShape="0">
              <a:gsLst>
                <a:gs pos="0">
                  <a:srgbClr val="536e00"/>
                </a:gs>
                <a:gs pos="100000">
                  <a:srgbClr val="99cc00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rot="20601600">
              <a:off x="3154320" y="2958840"/>
              <a:ext cx="2695680" cy="133992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50000">
                  <a:srgbClr val="f5f5f5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145240" y="36385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050360" y="241956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5879160" y="272412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286" name=""/>
            <p:cNvGrpSpPr/>
            <p:nvPr/>
          </p:nvGrpSpPr>
          <p:grpSpPr>
            <a:xfrm>
              <a:off x="824760" y="732960"/>
              <a:ext cx="7379640" cy="5581800"/>
              <a:chOff x="824760" y="732960"/>
              <a:chExt cx="7379640" cy="5581800"/>
            </a:xfrm>
          </p:grpSpPr>
          <p:sp>
            <p:nvSpPr>
              <p:cNvPr id="2287" name=""/>
              <p:cNvSpPr/>
              <p:nvPr/>
            </p:nvSpPr>
            <p:spPr>
              <a:xfrm>
                <a:off x="5668920" y="3677040"/>
                <a:ext cx="1773000" cy="1776240"/>
              </a:xfrm>
              <a:custGeom>
                <a:avLst/>
                <a:gdLst/>
                <a:ahLst/>
                <a:rect l="l" t="t" r="r" b="b"/>
                <a:pathLst>
                  <a:path w="1117" h="1119">
                    <a:moveTo>
                      <a:pt x="21" y="888"/>
                    </a:moveTo>
                    <a:lnTo>
                      <a:pt x="1117" y="0"/>
                    </a:lnTo>
                    <a:lnTo>
                      <a:pt x="1093" y="256"/>
                    </a:lnTo>
                    <a:cubicBezTo>
                      <a:pt x="1026" y="373"/>
                      <a:pt x="896" y="560"/>
                      <a:pt x="717" y="704"/>
                    </a:cubicBezTo>
                    <a:cubicBezTo>
                      <a:pt x="538" y="848"/>
                      <a:pt x="133" y="1088"/>
                      <a:pt x="17" y="1119"/>
                    </a:cubicBezTo>
                    <a:cubicBezTo>
                      <a:pt x="0" y="1037"/>
                      <a:pt x="21" y="888"/>
                      <a:pt x="21" y="88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386b21"/>
                  </a:gs>
                  <a:gs pos="100000">
                    <a:srgbClr val="21401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20539200">
                <a:off x="1243080" y="1636920"/>
                <a:ext cx="6542640" cy="3773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9808" y="16758"/>
                    </a:moveTo>
                    <a:arcTo wR="10800" hR="10800" stAng="2008784" swAng="280024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9808" y="16758"/>
                    </a:moveTo>
                    <a:arcTo wR="10800" hR="10800" stAng="2008784" swAng="2800242"/>
                  </a:path>
                </a:pathLst>
              </a:custGeom>
              <a:gradFill rotWithShape="0">
                <a:gsLst>
                  <a:gs pos="0">
                    <a:srgbClr val="19310f"/>
                  </a:gs>
                  <a:gs pos="100000">
                    <a:srgbClr val="386b21"/>
                  </a:gs>
                </a:gsLst>
                <a:lin ang="11862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803480" y="4153320"/>
                <a:ext cx="924120" cy="1311120"/>
              </a:xfrm>
              <a:custGeom>
                <a:avLst/>
                <a:gdLst/>
                <a:ahLst/>
                <a:rect l="l" t="t" r="r" b="b"/>
                <a:pathLst>
                  <a:path w="582" h="826">
                    <a:moveTo>
                      <a:pt x="582" y="572"/>
                    </a:moveTo>
                    <a:lnTo>
                      <a:pt x="562" y="826"/>
                    </a:lnTo>
                    <a:lnTo>
                      <a:pt x="0" y="42"/>
                    </a:lnTo>
                    <a:lnTo>
                      <a:pt x="90" y="0"/>
                    </a:lnTo>
                    <a:lnTo>
                      <a:pt x="582" y="5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10f"/>
                  </a:gs>
                  <a:gs pos="100000">
                    <a:srgbClr val="386b2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573880" y="3943800"/>
                <a:ext cx="811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Text4</a:t>
                </a:r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2291" name=""/>
            <p:cNvSpPr/>
            <p:nvPr/>
          </p:nvSpPr>
          <p:spPr>
            <a:xfrm>
              <a:off x="3364560" y="46292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648320" y="4219560"/>
              <a:ext cx="838080" cy="1108080"/>
            </a:xfrm>
            <a:custGeom>
              <a:avLst/>
              <a:gdLst/>
              <a:ahLst/>
              <a:rect l="l" t="t" r="r" b="b"/>
              <a:pathLst>
                <a:path w="528" h="698">
                  <a:moveTo>
                    <a:pt x="0" y="34"/>
                  </a:moveTo>
                  <a:lnTo>
                    <a:pt x="248" y="546"/>
                  </a:lnTo>
                  <a:lnTo>
                    <a:pt x="256" y="698"/>
                  </a:lnTo>
                  <a:lnTo>
                    <a:pt x="435" y="642"/>
                  </a:lnTo>
                  <a:lnTo>
                    <a:pt x="528" y="594"/>
                  </a:lnTo>
                  <a:lnTo>
                    <a:pt x="119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24631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rot="20601600">
              <a:off x="3257640" y="3210120"/>
              <a:ext cx="2587680" cy="1112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6" name=""/>
          <p:cNvGrpSpPr/>
          <p:nvPr/>
        </p:nvGrpSpPr>
        <p:grpSpPr>
          <a:xfrm>
            <a:off x="914400" y="1752480"/>
            <a:ext cx="7391160" cy="4724280"/>
            <a:chOff x="914400" y="1752480"/>
            <a:chExt cx="7391160" cy="4724280"/>
          </a:xfrm>
        </p:grpSpPr>
        <p:sp>
          <p:nvSpPr>
            <p:cNvPr id="2297" name=""/>
            <p:cNvSpPr/>
            <p:nvPr/>
          </p:nvSpPr>
          <p:spPr>
            <a:xfrm>
              <a:off x="1905120" y="2514600"/>
              <a:ext cx="5530680" cy="274320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676520" y="1752480"/>
              <a:ext cx="5790960" cy="574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a97f"/>
                </a:gs>
                <a:gs pos="50000">
                  <a:srgbClr val="206a50"/>
                </a:gs>
                <a:gs pos="100000">
                  <a:srgbClr val="33a97f"/>
                </a:gs>
              </a:gsLst>
              <a:lin ang="1080000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3656160" y="312408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4631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2300" name=""/>
            <p:cNvGrpSpPr/>
            <p:nvPr/>
          </p:nvGrpSpPr>
          <p:grpSpPr>
            <a:xfrm>
              <a:off x="914400" y="4387680"/>
              <a:ext cx="1486080" cy="1989000"/>
              <a:chOff x="914400" y="4387680"/>
              <a:chExt cx="1486080" cy="1989000"/>
            </a:xfrm>
          </p:grpSpPr>
          <p:grpSp>
            <p:nvGrpSpPr>
              <p:cNvPr id="2301" name=""/>
              <p:cNvGrpSpPr/>
              <p:nvPr/>
            </p:nvGrpSpPr>
            <p:grpSpPr>
              <a:xfrm>
                <a:off x="914400" y="4387680"/>
                <a:ext cx="1486080" cy="1514520"/>
                <a:chOff x="914400" y="4387680"/>
                <a:chExt cx="1486080" cy="1514520"/>
              </a:xfrm>
            </p:grpSpPr>
            <p:grpSp>
              <p:nvGrpSpPr>
                <p:cNvPr id="2302" name=""/>
                <p:cNvGrpSpPr/>
                <p:nvPr/>
              </p:nvGrpSpPr>
              <p:grpSpPr>
                <a:xfrm>
                  <a:off x="914400" y="4387680"/>
                  <a:ext cx="1486080" cy="1514520"/>
                  <a:chOff x="914400" y="4387680"/>
                  <a:chExt cx="1486080" cy="1514520"/>
                </a:xfrm>
              </p:grpSpPr>
              <p:sp>
                <p:nvSpPr>
                  <p:cNvPr id="2303" name=""/>
                  <p:cNvSpPr/>
                  <p:nvPr/>
                </p:nvSpPr>
                <p:spPr>
                  <a:xfrm>
                    <a:off x="914400" y="4387680"/>
                    <a:ext cx="1486080" cy="1514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99cc00"/>
                      </a:gs>
                      <a:gs pos="100000">
                        <a:srgbClr val="6081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4" name=""/>
                  <p:cNvSpPr/>
                  <p:nvPr/>
                </p:nvSpPr>
                <p:spPr>
                  <a:xfrm>
                    <a:off x="1084320" y="4412520"/>
                    <a:ext cx="1146240" cy="5716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99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05" name=""/>
                <p:cNvSpPr/>
                <p:nvPr/>
              </p:nvSpPr>
              <p:spPr>
                <a:xfrm>
                  <a:off x="1072440" y="515880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6" name=""/>
              <p:cNvSpPr/>
              <p:nvPr/>
            </p:nvSpPr>
            <p:spPr>
              <a:xfrm>
                <a:off x="1066680" y="5987880"/>
                <a:ext cx="1206720" cy="3888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307" name=""/>
            <p:cNvGrpSpPr/>
            <p:nvPr/>
          </p:nvGrpSpPr>
          <p:grpSpPr>
            <a:xfrm>
              <a:off x="6781680" y="4343400"/>
              <a:ext cx="1523880" cy="2066760"/>
              <a:chOff x="6781680" y="4343400"/>
              <a:chExt cx="1523880" cy="2066760"/>
            </a:xfrm>
          </p:grpSpPr>
          <p:grpSp>
            <p:nvGrpSpPr>
              <p:cNvPr id="2308" name=""/>
              <p:cNvGrpSpPr/>
              <p:nvPr/>
            </p:nvGrpSpPr>
            <p:grpSpPr>
              <a:xfrm>
                <a:off x="6781680" y="4343400"/>
                <a:ext cx="1523880" cy="1531800"/>
                <a:chOff x="6781680" y="4343400"/>
                <a:chExt cx="1523880" cy="1531800"/>
              </a:xfrm>
            </p:grpSpPr>
            <p:grpSp>
              <p:nvGrpSpPr>
                <p:cNvPr id="2309" name=""/>
                <p:cNvGrpSpPr/>
                <p:nvPr/>
              </p:nvGrpSpPr>
              <p:grpSpPr>
                <a:xfrm>
                  <a:off x="6781680" y="4343400"/>
                  <a:ext cx="1523880" cy="1531800"/>
                  <a:chOff x="6781680" y="4343400"/>
                  <a:chExt cx="1523880" cy="1531800"/>
                </a:xfrm>
              </p:grpSpPr>
              <p:sp>
                <p:nvSpPr>
                  <p:cNvPr id="2310" name=""/>
                  <p:cNvSpPr/>
                  <p:nvPr/>
                </p:nvSpPr>
                <p:spPr>
                  <a:xfrm>
                    <a:off x="6781680" y="4343400"/>
                    <a:ext cx="1523880" cy="15318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86b21"/>
                      </a:gs>
                      <a:gs pos="100000">
                        <a:srgbClr val="0d1907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1" name=""/>
                  <p:cNvSpPr/>
                  <p:nvPr/>
                </p:nvSpPr>
                <p:spPr>
                  <a:xfrm>
                    <a:off x="6955920" y="4368600"/>
                    <a:ext cx="1175400" cy="57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386b21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24631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12" name=""/>
                <p:cNvSpPr/>
                <p:nvPr/>
              </p:nvSpPr>
              <p:spPr>
                <a:xfrm>
                  <a:off x="6924600" y="505728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3" name=""/>
              <p:cNvSpPr/>
              <p:nvPr/>
            </p:nvSpPr>
            <p:spPr>
              <a:xfrm>
                <a:off x="6824520" y="5923080"/>
                <a:ext cx="1455840" cy="4870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314" name=""/>
            <p:cNvGrpSpPr/>
            <p:nvPr/>
          </p:nvGrpSpPr>
          <p:grpSpPr>
            <a:xfrm>
              <a:off x="2819520" y="4387680"/>
              <a:ext cx="1523880" cy="2089080"/>
              <a:chOff x="2819520" y="4387680"/>
              <a:chExt cx="1523880" cy="2089080"/>
            </a:xfrm>
          </p:grpSpPr>
          <p:grpSp>
            <p:nvGrpSpPr>
              <p:cNvPr id="2315" name=""/>
              <p:cNvGrpSpPr/>
              <p:nvPr/>
            </p:nvGrpSpPr>
            <p:grpSpPr>
              <a:xfrm>
                <a:off x="2819520" y="4387680"/>
                <a:ext cx="1523880" cy="1521000"/>
                <a:chOff x="2819520" y="4387680"/>
                <a:chExt cx="1523880" cy="1521000"/>
              </a:xfrm>
            </p:grpSpPr>
            <p:sp>
              <p:nvSpPr>
                <p:cNvPr id="2316" name=""/>
                <p:cNvSpPr/>
                <p:nvPr/>
              </p:nvSpPr>
              <p:spPr>
                <a:xfrm>
                  <a:off x="2819520" y="438768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aab1"/>
                    </a:gs>
                    <a:gs pos="100000">
                      <a:srgbClr val="3556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317" name=""/>
                <p:cNvSpPr/>
                <p:nvPr/>
              </p:nvSpPr>
              <p:spPr>
                <a:xfrm>
                  <a:off x="2993760" y="441288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9aab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8" name=""/>
              <p:cNvSpPr/>
              <p:nvPr/>
            </p:nvSpPr>
            <p:spPr>
              <a:xfrm>
                <a:off x="2895840" y="511776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2819520" y="598788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grpSp>
          <p:nvGrpSpPr>
            <p:cNvPr id="2320" name=""/>
            <p:cNvGrpSpPr/>
            <p:nvPr/>
          </p:nvGrpSpPr>
          <p:grpSpPr>
            <a:xfrm>
              <a:off x="4876920" y="4343400"/>
              <a:ext cx="1523880" cy="2089080"/>
              <a:chOff x="4876920" y="4343400"/>
              <a:chExt cx="1523880" cy="2089080"/>
            </a:xfrm>
          </p:grpSpPr>
          <p:grpSp>
            <p:nvGrpSpPr>
              <p:cNvPr id="2321" name=""/>
              <p:cNvGrpSpPr/>
              <p:nvPr/>
            </p:nvGrpSpPr>
            <p:grpSpPr>
              <a:xfrm>
                <a:off x="4876920" y="4343400"/>
                <a:ext cx="1523880" cy="1521000"/>
                <a:chOff x="4876920" y="4343400"/>
                <a:chExt cx="1523880" cy="152100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4876920" y="4343400"/>
                  <a:ext cx="1523880" cy="152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8e0b0"/>
                    </a:gs>
                    <a:gs pos="100000">
                      <a:srgbClr val="66725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5051160" y="4368600"/>
                  <a:ext cx="1175400" cy="5738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8e0b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4" name=""/>
              <p:cNvSpPr/>
              <p:nvPr/>
            </p:nvSpPr>
            <p:spPr>
              <a:xfrm>
                <a:off x="4953240" y="5073480"/>
                <a:ext cx="1371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4876920" y="5943600"/>
                <a:ext cx="1454040" cy="48888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efef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</p:grpSp>
      <p:sp>
        <p:nvSpPr>
          <p:cNvPr id="2326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69aab1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24631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5" name="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1806" name="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1807" name="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1828800" y="20239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1873080" y="20631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aab1"/>
                  </a:gs>
                  <a:gs pos="100000">
                    <a:srgbClr val="304e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810" name=""/>
            <p:cNvSpPr/>
            <p:nvPr/>
          </p:nvSpPr>
          <p:spPr>
            <a:xfrm>
              <a:off x="2438280" y="2633400"/>
              <a:ext cx="4800600" cy="0"/>
            </a:xfrm>
            <a:prstGeom prst="line">
              <a:avLst/>
            </a:prstGeom>
            <a:ln w="25560">
              <a:solidFill>
                <a:srgbClr val="386b21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4631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027520" y="21222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1813" name="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814" name=""/>
            <p:cNvGrpSpPr/>
            <p:nvPr/>
          </p:nvGrpSpPr>
          <p:grpSpPr>
            <a:xfrm>
              <a:off x="1828800" y="2938320"/>
              <a:ext cx="762120" cy="665280"/>
              <a:chOff x="1828800" y="2938320"/>
              <a:chExt cx="762120" cy="665280"/>
            </a:xfrm>
          </p:grpSpPr>
          <p:sp>
            <p:nvSpPr>
              <p:cNvPr id="1815" name=""/>
              <p:cNvSpPr/>
              <p:nvPr/>
            </p:nvSpPr>
            <p:spPr>
              <a:xfrm>
                <a:off x="1834920" y="2949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828800" y="29383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873080" y="297756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c8e0b0"/>
                  </a:gs>
                  <a:gs pos="100000">
                    <a:srgbClr val="5c67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818" name=""/>
            <p:cNvSpPr/>
            <p:nvPr/>
          </p:nvSpPr>
          <p:spPr>
            <a:xfrm>
              <a:off x="2438280" y="3547800"/>
              <a:ext cx="4800600" cy="0"/>
            </a:xfrm>
            <a:prstGeom prst="line">
              <a:avLst/>
            </a:prstGeom>
            <a:ln w="25560">
              <a:solidFill>
                <a:srgbClr val="386b21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4631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027520" y="30366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1821" name="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822" name="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823" name="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1828800" y="38307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1873080" y="38700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69aab1"/>
                  </a:gs>
                  <a:gs pos="100000">
                    <a:srgbClr val="304e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826" name=""/>
            <p:cNvSpPr/>
            <p:nvPr/>
          </p:nvSpPr>
          <p:spPr>
            <a:xfrm>
              <a:off x="2438280" y="4439880"/>
              <a:ext cx="4800600" cy="0"/>
            </a:xfrm>
            <a:prstGeom prst="line">
              <a:avLst/>
            </a:prstGeom>
            <a:ln w="25560">
              <a:solidFill>
                <a:srgbClr val="386b21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4631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027520" y="3928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1829" name="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830" name=""/>
            <p:cNvGrpSpPr/>
            <p:nvPr/>
          </p:nvGrpSpPr>
          <p:grpSpPr>
            <a:xfrm>
              <a:off x="1828800" y="4745160"/>
              <a:ext cx="762120" cy="664920"/>
              <a:chOff x="1828800" y="4745160"/>
              <a:chExt cx="762120" cy="664920"/>
            </a:xfrm>
          </p:grpSpPr>
          <p:sp>
            <p:nvSpPr>
              <p:cNvPr id="1831" name=""/>
              <p:cNvSpPr/>
              <p:nvPr/>
            </p:nvSpPr>
            <p:spPr>
              <a:xfrm>
                <a:off x="1834920" y="47563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1828800" y="474516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1873080" y="4784400"/>
                <a:ext cx="664200" cy="574920"/>
              </a:xfrm>
              <a:prstGeom prst="hexagon">
                <a:avLst>
                  <a:gd name="adj" fmla="val 28882"/>
                  <a:gd name="vf" fmla="val 115470"/>
                </a:avLst>
              </a:prstGeom>
              <a:gradFill rotWithShape="0">
                <a:gsLst>
                  <a:gs pos="0">
                    <a:srgbClr val="c8e0b0"/>
                  </a:gs>
                  <a:gs pos="100000">
                    <a:srgbClr val="5c6751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834" name=""/>
            <p:cNvSpPr/>
            <p:nvPr/>
          </p:nvSpPr>
          <p:spPr>
            <a:xfrm>
              <a:off x="2438280" y="5354280"/>
              <a:ext cx="4800600" cy="0"/>
            </a:xfrm>
            <a:prstGeom prst="line">
              <a:avLst/>
            </a:prstGeom>
            <a:ln w="25560">
              <a:solidFill>
                <a:srgbClr val="386b21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4631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027520" y="4843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837" name="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69aab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23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24631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2463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01975-2CC5-4E3A-85BD-B582C3FA54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0" name=""/>
          <p:cNvSpPr txBox="1"/>
          <p:nvPr/>
        </p:nvSpPr>
        <p:spPr>
          <a:xfrm>
            <a:off x="1981080" y="3657600"/>
            <a:ext cx="5410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86b21"/>
                    </a:gs>
                    <a:gs pos="100000">
                      <a:srgbClr val="99cc00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24631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86b21"/>
                  </a:gs>
                  <a:gs pos="100000">
                    <a:srgbClr val="99cc00"/>
                  </a:gs>
                </a:gsLst>
                <a:lin ang="10800000"/>
              </a:gradFill>
              <a:effectLst>
                <a:outerShdw dist="53966" dir="2700000" blurRad="0" rotWithShape="0">
                  <a:srgbClr val="024631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331" name="PlaceHolder 1"/>
          <p:cNvSpPr>
            <a:spLocks noGrp="1"/>
          </p:cNvSpPr>
          <p:nvPr>
            <p:ph type="subTitle"/>
          </p:nvPr>
        </p:nvSpPr>
        <p:spPr>
          <a:xfrm>
            <a:off x="1219320" y="4800600"/>
            <a:ext cx="670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24631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9aab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4631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024631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463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8e0b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On the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[View]</a:t>
            </a: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 menu, point to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[Master</a:t>
            </a:r>
            <a:r>
              <a:rPr b="0" lang="en-US" sz="2400" spc="-1" strike="noStrike">
                <a:solidFill>
                  <a:srgbClr val="33a97f"/>
                </a:solidFill>
                <a:latin typeface="Arial"/>
                <a:ea typeface="宋体"/>
              </a:rPr>
              <a:t>],</a:t>
            </a: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 and then click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[Slide Master]</a:t>
            </a: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 or </a:t>
            </a:r>
            <a:r>
              <a:rPr b="0" lang="en-US" sz="2400" spc="-1" strike="noStrike">
                <a:solidFill>
                  <a:srgbClr val="99cc00"/>
                </a:solidFill>
                <a:latin typeface="Arial"/>
                <a:ea typeface="宋体"/>
              </a:rPr>
              <a:t>[Notes Master].</a:t>
            </a: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2463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   </a:t>
            </a:r>
            <a:r>
              <a:rPr b="0" lang="en-US" sz="2400" spc="-1" strike="noStrike">
                <a:solidFill>
                  <a:srgbClr val="024631"/>
                </a:solidFill>
                <a:latin typeface="Arial"/>
                <a:ea typeface="宋体"/>
              </a:rPr>
              <a:t>Change images to the one you like, then it will apply to all the other slides. </a:t>
            </a:r>
            <a:br>
              <a:rPr sz="2400"/>
            </a:br>
            <a:endParaRPr b="0" lang="en-US" sz="2400" spc="-1" strike="noStrike">
              <a:solidFill>
                <a:srgbClr val="02463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463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1143000" y="3171960"/>
            <a:ext cx="2286000" cy="2666880"/>
            <a:chOff x="1143000" y="3171960"/>
            <a:chExt cx="2286000" cy="2666880"/>
          </a:xfrm>
        </p:grpSpPr>
        <p:sp>
          <p:nvSpPr>
            <p:cNvPr id="1842" name=""/>
            <p:cNvSpPr/>
            <p:nvPr/>
          </p:nvSpPr>
          <p:spPr>
            <a:xfrm>
              <a:off x="114300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2384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844" name=""/>
          <p:cNvSpPr/>
          <p:nvPr/>
        </p:nvSpPr>
        <p:spPr>
          <a:xfrm>
            <a:off x="322272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bddd5c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  <p:grpSp>
        <p:nvGrpSpPr>
          <p:cNvPr id="1845" name=""/>
          <p:cNvGrpSpPr/>
          <p:nvPr/>
        </p:nvGrpSpPr>
        <p:grpSpPr>
          <a:xfrm>
            <a:off x="3048120" y="1447920"/>
            <a:ext cx="2998440" cy="1601280"/>
            <a:chOff x="3048120" y="1447920"/>
            <a:chExt cx="2998440" cy="1601280"/>
          </a:xfrm>
        </p:grpSpPr>
        <p:grpSp>
          <p:nvGrpSpPr>
            <p:cNvPr id="1846" name=""/>
            <p:cNvGrpSpPr/>
            <p:nvPr/>
          </p:nvGrpSpPr>
          <p:grpSpPr>
            <a:xfrm>
              <a:off x="3048120" y="1447920"/>
              <a:ext cx="2998440" cy="1601280"/>
              <a:chOff x="3048120" y="1447920"/>
              <a:chExt cx="2998440" cy="1601280"/>
            </a:xfrm>
          </p:grpSpPr>
          <p:grpSp>
            <p:nvGrpSpPr>
              <p:cNvPr id="1847" name=""/>
              <p:cNvGrpSpPr/>
              <p:nvPr/>
            </p:nvGrpSpPr>
            <p:grpSpPr>
              <a:xfrm>
                <a:off x="3048120" y="1590840"/>
                <a:ext cx="2998440" cy="1458360"/>
                <a:chOff x="3048120" y="1590840"/>
                <a:chExt cx="2998440" cy="14583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3080880" y="1637280"/>
                  <a:ext cx="296568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25255"/>
                    </a:gs>
                    <a:gs pos="100000">
                      <a:srgbClr val="69aab1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3048120" y="1590840"/>
                  <a:ext cx="2966040" cy="1411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aab1"/>
                    </a:gs>
                    <a:gs pos="100000">
                      <a:srgbClr val="bbd8db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24631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50" name=""/>
              <p:cNvSpPr/>
              <p:nvPr/>
            </p:nvSpPr>
            <p:spPr>
              <a:xfrm>
                <a:off x="3189240" y="1447920"/>
                <a:ext cx="2684520" cy="1341360"/>
              </a:xfrm>
              <a:prstGeom prst="ellipse">
                <a:avLst/>
              </a:prstGeom>
              <a:gradFill rotWithShape="0">
                <a:gsLst>
                  <a:gs pos="0">
                    <a:srgbClr val="c8e0b0"/>
                  </a:gs>
                  <a:gs pos="100000">
                    <a:srgbClr val="5c67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224160" y="1455840"/>
                <a:ext cx="2619720" cy="1308240"/>
              </a:xfrm>
              <a:prstGeom prst="ellipse">
                <a:avLst/>
              </a:prstGeom>
              <a:gradFill rotWithShape="0">
                <a:gsLst>
                  <a:gs pos="0">
                    <a:srgbClr val="eaf3e2"/>
                  </a:gs>
                  <a:gs pos="100000">
                    <a:srgbClr val="c8e0b0">
                      <a:alpha val="0"/>
                    </a:srgbClr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251160" y="1468440"/>
                <a:ext cx="2492640" cy="1222560"/>
              </a:xfrm>
              <a:prstGeom prst="ellipse">
                <a:avLst/>
              </a:prstGeom>
              <a:gradFill rotWithShape="0">
                <a:gsLst>
                  <a:gs pos="0">
                    <a:srgbClr val="c8e0b0">
                      <a:alpha val="48235"/>
                    </a:srgbClr>
                  </a:gs>
                  <a:gs pos="100000">
                    <a:srgbClr val="9db08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382920" y="1495440"/>
                <a:ext cx="2194200" cy="990720"/>
              </a:xfrm>
              <a:prstGeom prst="ellipse">
                <a:avLst/>
              </a:prstGeom>
              <a:gradFill rotWithShape="0">
                <a:gsLst>
                  <a:gs pos="0">
                    <a:srgbClr val="c8e0b0">
                      <a:alpha val="38039"/>
                    </a:srgbClr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854" name=""/>
            <p:cNvSpPr/>
            <p:nvPr/>
          </p:nvSpPr>
          <p:spPr>
            <a:xfrm>
              <a:off x="3882960" y="1648080"/>
              <a:ext cx="123516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itle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5562720" y="3171960"/>
            <a:ext cx="2286000" cy="2666880"/>
            <a:chOff x="5562720" y="3171960"/>
            <a:chExt cx="2286000" cy="2666880"/>
          </a:xfrm>
        </p:grpSpPr>
        <p:sp>
          <p:nvSpPr>
            <p:cNvPr id="1856" name=""/>
            <p:cNvSpPr/>
            <p:nvPr/>
          </p:nvSpPr>
          <p:spPr>
            <a:xfrm>
              <a:off x="5562720" y="3171960"/>
              <a:ext cx="2286000" cy="2666880"/>
            </a:xfrm>
            <a:custGeom>
              <a:avLst/>
              <a:gdLst>
                <a:gd name="textAreaLeft" fmla="*/ 111600 w 2286000"/>
                <a:gd name="textAreaRight" fmla="*/ 2174400 w 2286000"/>
                <a:gd name="textAreaTop" fmla="*/ 111600 h 2666880"/>
                <a:gd name="textAreaBottom" fmla="*/ 2555280 h 2666880"/>
              </a:gdLst>
              <a:ahLst/>
              <a:rect l="textAreaLeft" t="textAreaTop" r="textAreaRight" b="textAreaBottom"/>
              <a:pathLst>
                <a:path w="21600" h="25198">
                  <a:moveTo>
                    <a:pt x="3600" y="0"/>
                  </a:moveTo>
                  <a:arcTo wR="3600" hR="3600" stAng="16200000" swAng="-5400000"/>
                  <a:lnTo>
                    <a:pt x="0" y="21598"/>
                  </a:lnTo>
                  <a:arcTo wR="3600" hR="3600" stAng="10800000" swAng="-5400000"/>
                  <a:lnTo>
                    <a:pt x="18000" y="2519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5715000" y="3372120"/>
              <a:ext cx="2038320" cy="125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is a Design Digital Content &amp; Contents mall developed by Guild Design Inc.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  <p:sp>
        <p:nvSpPr>
          <p:cNvPr id="1858" name=""/>
          <p:cNvSpPr/>
          <p:nvPr/>
        </p:nvSpPr>
        <p:spPr>
          <a:xfrm flipH="1">
            <a:off x="4874400" y="307512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ee3e5"/>
              </a:gs>
              <a:gs pos="100000">
                <a:srgbClr val="69aab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463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0" name=""/>
          <p:cNvGrpSpPr/>
          <p:nvPr/>
        </p:nvGrpSpPr>
        <p:grpSpPr>
          <a:xfrm>
            <a:off x="762120" y="1722240"/>
            <a:ext cx="6956640" cy="4583520"/>
            <a:chOff x="762120" y="1722240"/>
            <a:chExt cx="6956640" cy="4583520"/>
          </a:xfrm>
        </p:grpSpPr>
        <p:sp>
          <p:nvSpPr>
            <p:cNvPr id="1861" name="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69aab1"/>
                </a:gs>
                <a:gs pos="100000">
                  <a:srgbClr val="243a3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c8e0b0"/>
                </a:gs>
                <a:gs pos="100000">
                  <a:srgbClr val="3e4637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3648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4e4e4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386b21"/>
                </a:gs>
                <a:gs pos="100000">
                  <a:srgbClr val="13240b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53753" dir="2700000" blurRad="0" rotWithShape="0">
                <a:srgbClr val="001d3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766160" y="37418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69800" y="24242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679440" y="26640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087160" y="46641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2577600" y="520236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24631"/>
                  </a:solidFill>
                  <a:latin typeface="Arial"/>
                  <a:ea typeface="宋体"/>
                </a:rPr>
                <a:t>Cycle name</a:t>
              </a:r>
              <a:endParaRPr b="0" lang="en-US" sz="2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2463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cxnSp>
          <p:nvCxnSpPr>
            <p:cNvPr id="1874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24631"/>
              </a:solidFill>
              <a:miter/>
            </a:ln>
          </p:spPr>
        </p:cxnSp>
        <p:sp>
          <p:nvSpPr>
            <p:cNvPr id="1875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1295280" y="1752480"/>
            <a:ext cx="6476760" cy="4125960"/>
            <a:chOff x="1295280" y="1752480"/>
            <a:chExt cx="6476760" cy="4125960"/>
          </a:xfrm>
        </p:grpSpPr>
        <p:sp>
          <p:nvSpPr>
            <p:cNvPr id="1878" name=""/>
            <p:cNvSpPr/>
            <p:nvPr/>
          </p:nvSpPr>
          <p:spPr>
            <a:xfrm>
              <a:off x="3759120" y="4057920"/>
              <a:ext cx="1548720" cy="57924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310f"/>
                </a:gs>
                <a:gs pos="50000">
                  <a:srgbClr val="386b21"/>
                </a:gs>
                <a:gs pos="100000">
                  <a:srgbClr val="1931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3759120" y="355140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310f"/>
                </a:gs>
                <a:gs pos="50000">
                  <a:srgbClr val="386b21"/>
                </a:gs>
                <a:gs pos="100000">
                  <a:srgbClr val="1931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759120" y="3044520"/>
              <a:ext cx="1548720" cy="5788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310f"/>
                </a:gs>
                <a:gs pos="50000">
                  <a:srgbClr val="386b21"/>
                </a:gs>
                <a:gs pos="100000">
                  <a:srgbClr val="1931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222800" y="32634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4222800" y="37699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4222800" y="427680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125520" y="2827440"/>
              <a:ext cx="492840" cy="1954080"/>
            </a:xfrm>
            <a:prstGeom prst="leftArrow">
              <a:avLst>
                <a:gd name="adj1" fmla="val 65583"/>
                <a:gd name="adj2" fmla="val 65181"/>
              </a:avLst>
            </a:prstGeom>
            <a:gradFill rotWithShape="0">
              <a:gsLst>
                <a:gs pos="0">
                  <a:srgbClr val="656565">
                    <a:alpha val="12156"/>
                  </a:srgbClr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29528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365480" y="2537640"/>
              <a:ext cx="154836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082560" y="2320560"/>
              <a:ext cx="1689480" cy="2967840"/>
            </a:xfrm>
            <a:custGeom>
              <a:avLst/>
              <a:gdLst>
                <a:gd name="textAreaLeft" fmla="*/ 82440 w 1689480"/>
                <a:gd name="textAreaRight" fmla="*/ 1607040 w 1689480"/>
                <a:gd name="textAreaTop" fmla="*/ 82440 h 2967840"/>
                <a:gd name="textAreaBottom" fmla="*/ 2885400 h 2967840"/>
              </a:gdLst>
              <a:ahLst/>
              <a:rect l="textAreaLeft" t="textAreaTop" r="textAreaRight" b="textAreaBottom"/>
              <a:pathLst>
                <a:path w="21600" h="37940">
                  <a:moveTo>
                    <a:pt x="3600" y="0"/>
                  </a:moveTo>
                  <a:arcTo wR="3600" hR="3600" stAng="16200000" swAng="-5400000"/>
                  <a:lnTo>
                    <a:pt x="0" y="34340"/>
                  </a:lnTo>
                  <a:arcTo wR="3600" hR="3600" stAng="10800000" swAng="-5400000"/>
                  <a:lnTo>
                    <a:pt x="18000" y="379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153120" y="2537640"/>
              <a:ext cx="1548720" cy="19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Add Your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itle 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1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2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3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4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buClr>
                  <a:srgbClr val="001d3a"/>
                </a:buClr>
                <a:buSzPct val="6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1d3a"/>
                  </a:solidFill>
                  <a:latin typeface="Verdana"/>
                  <a:ea typeface="宋体"/>
                </a:rPr>
                <a:t>Text 5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5451840" y="2827440"/>
              <a:ext cx="489600" cy="1954080"/>
            </a:xfrm>
            <a:prstGeom prst="rightArrow">
              <a:avLst>
                <a:gd name="adj1" fmla="val 67750"/>
                <a:gd name="adj2" fmla="val 661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656565">
                    <a:alpha val="1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55320" y="1752480"/>
              <a:ext cx="2815920" cy="578880"/>
            </a:xfrm>
            <a:prstGeom prst="can">
              <a:avLst>
                <a:gd name="adj" fmla="val 27865"/>
              </a:avLst>
            </a:prstGeom>
            <a:gradFill rotWithShape="0">
              <a:gsLst>
                <a:gs pos="0">
                  <a:srgbClr val="5c6751"/>
                </a:gs>
                <a:gs pos="50000">
                  <a:srgbClr val="c8e0b0"/>
                </a:gs>
                <a:gs pos="100000">
                  <a:srgbClr val="5c67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728520" y="2465640"/>
              <a:ext cx="1618920" cy="506160"/>
            </a:xfrm>
            <a:prstGeom prst="upArrow">
              <a:avLst>
                <a:gd name="adj1" fmla="val 68380"/>
                <a:gd name="adj2" fmla="val 70833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e8e8e8">
                    <a:alpha val="1215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4201200" y="196344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125520" y="5288760"/>
              <a:ext cx="2816280" cy="578880"/>
            </a:xfrm>
            <a:prstGeom prst="can">
              <a:avLst>
                <a:gd name="adj" fmla="val 32032"/>
              </a:avLst>
            </a:prstGeom>
            <a:gradFill rotWithShape="0">
              <a:gsLst>
                <a:gs pos="0">
                  <a:srgbClr val="304e51"/>
                </a:gs>
                <a:gs pos="50000">
                  <a:srgbClr val="69aab1"/>
                </a:gs>
                <a:gs pos="100000">
                  <a:srgbClr val="304e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4201200" y="55101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708000" y="4709520"/>
              <a:ext cx="1622160" cy="498960"/>
            </a:xfrm>
            <a:prstGeom prst="downArrow">
              <a:avLst>
                <a:gd name="adj1" fmla="val 67093"/>
                <a:gd name="adj2" fmla="val 64051"/>
              </a:avLst>
            </a:prstGeom>
            <a:gradFill rotWithShape="0">
              <a:gsLst>
                <a:gs pos="0">
                  <a:srgbClr val="e8e8e8">
                    <a:alpha val="12156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97" name=""/>
          <p:cNvGrpSpPr/>
          <p:nvPr/>
        </p:nvGrpSpPr>
        <p:grpSpPr>
          <a:xfrm>
            <a:off x="1143000" y="2209680"/>
            <a:ext cx="6705720" cy="3352680"/>
            <a:chOff x="1143000" y="2209680"/>
            <a:chExt cx="6705720" cy="3352680"/>
          </a:xfrm>
        </p:grpSpPr>
        <p:grpSp>
          <p:nvGrpSpPr>
            <p:cNvPr id="1898" name=""/>
            <p:cNvGrpSpPr/>
            <p:nvPr/>
          </p:nvGrpSpPr>
          <p:grpSpPr>
            <a:xfrm>
              <a:off x="3009240" y="2209680"/>
              <a:ext cx="2900160" cy="2706120"/>
              <a:chOff x="3009240" y="2209680"/>
              <a:chExt cx="2900160" cy="2706120"/>
            </a:xfrm>
          </p:grpSpPr>
          <p:sp>
            <p:nvSpPr>
              <p:cNvPr id="1899" name=""/>
              <p:cNvSpPr/>
              <p:nvPr/>
            </p:nvSpPr>
            <p:spPr>
              <a:xfrm flipH="1" rot="16200000">
                <a:off x="2927880" y="325692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dccc"/>
                  </a:gs>
                  <a:gs pos="100000">
                    <a:srgbClr val="33a97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 flipH="1" rot="5400000">
                <a:off x="5531400" y="3206160"/>
                <a:ext cx="459360" cy="2966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dccc"/>
                  </a:gs>
                  <a:gs pos="100000">
                    <a:srgbClr val="33a97f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 flipH="1" rot="10800000">
                <a:off x="4238640" y="4609800"/>
                <a:ext cx="444240" cy="30600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aedccc"/>
                  </a:gs>
                  <a:gs pos="100000">
                    <a:srgbClr val="33a97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3305880" y="2209680"/>
                <a:ext cx="2328120" cy="240012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3438720" y="2344680"/>
                <a:ext cx="2061360" cy="2125080"/>
              </a:xfrm>
              <a:prstGeom prst="ellipse">
                <a:avLst/>
              </a:prstGeom>
              <a:gradFill rotWithShape="0">
                <a:gsLst>
                  <a:gs pos="0">
                    <a:srgbClr val="a1a1a1"/>
                  </a:gs>
                  <a:gs pos="50000">
                    <a:srgbClr val="ffffff"/>
                  </a:gs>
                  <a:gs pos="100000">
                    <a:srgbClr val="a1a1a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69aab1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3560040" y="2471040"/>
                <a:ext cx="1819080" cy="18784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00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385b5f"/>
                  </a:gs>
                  <a:gs pos="50000">
                    <a:srgbClr val="69aab1"/>
                  </a:gs>
                  <a:gs pos="100000">
                    <a:srgbClr val="385b5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3679560" y="2594520"/>
                <a:ext cx="1580040" cy="1631880"/>
              </a:xfrm>
              <a:prstGeom prst="ellipse">
                <a:avLst/>
              </a:prstGeom>
              <a:gradFill rotWithShape="0">
                <a:gsLst>
                  <a:gs pos="0">
                    <a:srgbClr val="7b6200"/>
                  </a:gs>
                  <a:gs pos="100000">
                    <a:srgbClr val="ffcc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908" name=""/>
            <p:cNvSpPr/>
            <p:nvPr/>
          </p:nvSpPr>
          <p:spPr>
            <a:xfrm>
              <a:off x="1143000" y="370764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310f"/>
                </a:gs>
                <a:gs pos="50000">
                  <a:srgbClr val="386b21"/>
                </a:gs>
                <a:gs pos="100000">
                  <a:srgbClr val="1931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143000" y="3208320"/>
              <a:ext cx="165888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310f"/>
                </a:gs>
                <a:gs pos="50000">
                  <a:srgbClr val="386b21"/>
                </a:gs>
                <a:gs pos="100000">
                  <a:srgbClr val="1931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143000" y="2709000"/>
              <a:ext cx="165888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19310f"/>
                </a:gs>
                <a:gs pos="50000">
                  <a:srgbClr val="386b21"/>
                </a:gs>
                <a:gs pos="100000">
                  <a:srgbClr val="19310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120360" y="370764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c6751"/>
                </a:gs>
                <a:gs pos="50000">
                  <a:srgbClr val="c8e0b0"/>
                </a:gs>
                <a:gs pos="100000">
                  <a:srgbClr val="5c67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120360" y="3208320"/>
              <a:ext cx="1728360" cy="57096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c6751"/>
                </a:gs>
                <a:gs pos="50000">
                  <a:srgbClr val="c8e0b0"/>
                </a:gs>
                <a:gs pos="100000">
                  <a:srgbClr val="5c67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120360" y="2709000"/>
              <a:ext cx="1728360" cy="57060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5c6751"/>
                </a:gs>
                <a:gs pos="50000">
                  <a:srgbClr val="c8e0b0"/>
                </a:gs>
                <a:gs pos="100000">
                  <a:srgbClr val="5c67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775320" y="320832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Concept</a:t>
              </a:r>
              <a:endParaRPr b="0" lang="en-US" sz="2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702520" y="5063400"/>
              <a:ext cx="3525480" cy="4989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81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Add Your 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58832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8832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58832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685200" y="2855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685200" y="335556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685200" y="385488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2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3" name=""/>
          <p:cNvGrpSpPr/>
          <p:nvPr/>
        </p:nvGrpSpPr>
        <p:grpSpPr>
          <a:xfrm>
            <a:off x="872640" y="2276640"/>
            <a:ext cx="7544160" cy="3352680"/>
            <a:chOff x="872640" y="2276640"/>
            <a:chExt cx="7544160" cy="3352680"/>
          </a:xfrm>
        </p:grpSpPr>
        <p:sp>
          <p:nvSpPr>
            <p:cNvPr id="1924" name=""/>
            <p:cNvSpPr/>
            <p:nvPr/>
          </p:nvSpPr>
          <p:spPr>
            <a:xfrm flipH="1">
              <a:off x="873000" y="5621400"/>
              <a:ext cx="1657440" cy="1800"/>
            </a:xfrm>
            <a:prstGeom prst="line">
              <a:avLst/>
            </a:prstGeom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02463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0246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0246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0246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024631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24631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2590560" y="2286000"/>
              <a:ext cx="5826240" cy="3343320"/>
              <a:chOff x="2590560" y="2286000"/>
              <a:chExt cx="5826240" cy="3343320"/>
            </a:xfrm>
          </p:grpSpPr>
          <p:sp>
            <p:nvSpPr>
              <p:cNvPr id="1938" name=""/>
              <p:cNvSpPr/>
              <p:nvPr/>
            </p:nvSpPr>
            <p:spPr>
              <a:xfrm>
                <a:off x="7833960" y="2286000"/>
                <a:ext cx="57636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5e00"/>
                  </a:gs>
                  <a:gs pos="50000">
                    <a:srgbClr val="99cc00"/>
                  </a:gs>
                  <a:gs pos="100000">
                    <a:srgbClr val="465e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073480" y="2286000"/>
                <a:ext cx="334332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4e51"/>
                  </a:gs>
                  <a:gs pos="50000">
                    <a:srgbClr val="69aab1"/>
                  </a:gs>
                  <a:gs pos="100000">
                    <a:srgbClr val="304e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4243320" y="3117960"/>
                <a:ext cx="359388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69aa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6673680" y="3949560"/>
                <a:ext cx="57312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9310f"/>
                  </a:gs>
                  <a:gs pos="50000">
                    <a:srgbClr val="386b21"/>
                  </a:gs>
                  <a:gs pos="100000">
                    <a:srgbClr val="19310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095880" y="4782960"/>
                <a:ext cx="57780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c6751"/>
                  </a:gs>
                  <a:gs pos="50000">
                    <a:srgbClr val="c8e0b0"/>
                  </a:gs>
                  <a:gs pos="100000">
                    <a:srgbClr val="5c6751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2592000" y="4788000"/>
                <a:ext cx="408168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c8e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3184200" y="2440080"/>
                <a:ext cx="1838520" cy="272232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008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5079600" y="2827440"/>
                <a:ext cx="2767320" cy="304560"/>
              </a:xfrm>
              <a:prstGeom prst="rect">
                <a:avLst/>
              </a:prstGeom>
              <a:gradFill rotWithShape="0">
                <a:gsLst>
                  <a:gs pos="0">
                    <a:srgbClr val="6e9300"/>
                  </a:gs>
                  <a:gs pos="50000">
                    <a:srgbClr val="99cc00"/>
                  </a:gs>
                  <a:gs pos="100000">
                    <a:srgbClr val="6e93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4b7a7f"/>
                  </a:gs>
                  <a:gs pos="50000">
                    <a:srgbClr val="69aab1"/>
                  </a:gs>
                  <a:gs pos="100000">
                    <a:srgbClr val="4b7a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3419280" y="3949560"/>
                <a:ext cx="3833640" cy="54468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386b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3422520" y="4492800"/>
                <a:ext cx="3263760" cy="298440"/>
              </a:xfrm>
              <a:prstGeom prst="rect">
                <a:avLst/>
              </a:prstGeom>
              <a:gradFill rotWithShape="0">
                <a:gsLst>
                  <a:gs pos="0">
                    <a:srgbClr val="284d17"/>
                  </a:gs>
                  <a:gs pos="50000">
                    <a:srgbClr val="386b21"/>
                  </a:gs>
                  <a:gs pos="100000">
                    <a:srgbClr val="284d1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2590560" y="5329080"/>
                <a:ext cx="3513240" cy="297000"/>
              </a:xfrm>
              <a:prstGeom prst="rect">
                <a:avLst/>
              </a:prstGeom>
              <a:gradFill rotWithShape="0">
                <a:gsLst>
                  <a:gs pos="0">
                    <a:srgbClr val="90a17f"/>
                  </a:gs>
                  <a:gs pos="50000">
                    <a:srgbClr val="c8e0b0"/>
                  </a:gs>
                  <a:gs pos="100000">
                    <a:srgbClr val="90a1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304560" y="45720"/>
            <a:ext cx="83818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914400" y="1219320"/>
            <a:ext cx="7315200" cy="5018760"/>
            <a:chOff x="914400" y="1219320"/>
            <a:chExt cx="7315200" cy="5018760"/>
          </a:xfrm>
        </p:grpSpPr>
        <p:sp>
          <p:nvSpPr>
            <p:cNvPr id="1953" name=""/>
            <p:cNvSpPr/>
            <p:nvPr/>
          </p:nvSpPr>
          <p:spPr>
            <a:xfrm>
              <a:off x="5073480" y="1219320"/>
              <a:ext cx="1467000" cy="1155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69aab1"/>
                </a:gs>
                <a:gs pos="100000">
                  <a:srgbClr val="76b0b7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3424320" y="2652480"/>
              <a:ext cx="2295360" cy="315576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760"/>
                <a:gd name="textAreaBottom" fmla="*/ 3124440 h 3155760"/>
              </a:gdLst>
              <a:ahLst/>
              <a:rect l="textAreaLeft" t="textAreaTop" r="textAreaRight" b="textAreaBottom"/>
              <a:pathLst>
                <a:path w="21600" h="29695">
                  <a:moveTo>
                    <a:pt x="1013" y="0"/>
                  </a:moveTo>
                  <a:arcTo wR="1013" hR="1013" stAng="16200000" swAng="-5400000"/>
                  <a:lnTo>
                    <a:pt x="0" y="28682"/>
                  </a:lnTo>
                  <a:arcTo wR="1013" hR="1013" stAng="10800000" swAng="-5400000"/>
                  <a:lnTo>
                    <a:pt x="20587" y="29695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657600" y="251424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65e00"/>
                </a:gs>
                <a:gs pos="50000">
                  <a:srgbClr val="99cc00"/>
                </a:gs>
                <a:gs pos="100000">
                  <a:srgbClr val="46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>
              <a:off x="5333400" y="2590560"/>
              <a:ext cx="7308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 flipH="1">
              <a:off x="3742560" y="2581200"/>
              <a:ext cx="71640" cy="14400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5934240" y="2151000"/>
              <a:ext cx="2295360" cy="3155400"/>
            </a:xfrm>
            <a:custGeom>
              <a:avLst/>
              <a:gdLst>
                <a:gd name="textAreaLeft" fmla="*/ 31320 w 2295360"/>
                <a:gd name="textAreaRight" fmla="*/ 2264040 w 2295360"/>
                <a:gd name="textAreaTop" fmla="*/ 31320 h 3155400"/>
                <a:gd name="textAreaBottom" fmla="*/ 3124080 h 3155400"/>
              </a:gdLst>
              <a:ahLst/>
              <a:rect l="textAreaLeft" t="textAreaTop" r="textAreaRight" b="textAreaBottom"/>
              <a:pathLst>
                <a:path w="21600" h="29692">
                  <a:moveTo>
                    <a:pt x="1013" y="0"/>
                  </a:moveTo>
                  <a:arcTo wR="1013" hR="1013" stAng="16200000" swAng="-5400000"/>
                  <a:lnTo>
                    <a:pt x="0" y="28679"/>
                  </a:lnTo>
                  <a:arcTo wR="1013" hR="1013" stAng="10800000" swAng="-5400000"/>
                  <a:lnTo>
                    <a:pt x="20587" y="29692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69aa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149880" y="2008080"/>
              <a:ext cx="1863720" cy="286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04e51"/>
                </a:gs>
                <a:gs pos="50000">
                  <a:srgbClr val="69aab1"/>
                </a:gs>
                <a:gs pos="100000">
                  <a:srgbClr val="304e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>
              <a:off x="7835040" y="2079360"/>
              <a:ext cx="7164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 flipH="1">
              <a:off x="6253200" y="2079360"/>
              <a:ext cx="71280" cy="14256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492280" y="1720440"/>
              <a:ext cx="1467000" cy="11570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386b21"/>
                </a:gs>
                <a:gs pos="100000">
                  <a:srgbClr val="8ba97e">
                    <a:alpha val="32156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913200" y="248580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6427800" y="19904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024631"/>
                </a:solidFill>
                <a:latin typeface="Arial"/>
              </a:endParaRPr>
            </a:p>
          </p:txBody>
        </p:sp>
        <p:grpSp>
          <p:nvGrpSpPr>
            <p:cNvPr id="1965" name=""/>
            <p:cNvGrpSpPr/>
            <p:nvPr/>
          </p:nvGrpSpPr>
          <p:grpSpPr>
            <a:xfrm>
              <a:off x="914400" y="2914560"/>
              <a:ext cx="2295360" cy="3323520"/>
              <a:chOff x="914400" y="2914560"/>
              <a:chExt cx="2295360" cy="3323520"/>
            </a:xfrm>
          </p:grpSpPr>
          <p:sp>
            <p:nvSpPr>
              <p:cNvPr id="1966" name=""/>
              <p:cNvSpPr/>
              <p:nvPr/>
            </p:nvSpPr>
            <p:spPr>
              <a:xfrm>
                <a:off x="914400" y="3082320"/>
                <a:ext cx="2295360" cy="3155760"/>
              </a:xfrm>
              <a:custGeom>
                <a:avLst/>
                <a:gdLst>
                  <a:gd name="textAreaLeft" fmla="*/ 31320 w 2295360"/>
                  <a:gd name="textAreaRight" fmla="*/ 2264040 w 2295360"/>
                  <a:gd name="textAreaTop" fmla="*/ 31320 h 3155760"/>
                  <a:gd name="textAreaBottom" fmla="*/ 3124440 h 3155760"/>
                </a:gdLst>
                <a:ahLst/>
                <a:rect l="textAreaLeft" t="textAreaTop" r="textAreaRight" b="textAreaBottom"/>
                <a:pathLst>
                  <a:path w="21600" h="29695">
                    <a:moveTo>
                      <a:pt x="1013" y="0"/>
                    </a:moveTo>
                    <a:arcTo wR="1013" hR="1013" stAng="16200000" swAng="-5400000"/>
                    <a:lnTo>
                      <a:pt x="0" y="28682"/>
                    </a:lnTo>
                    <a:arcTo wR="1013" hR="1013" stAng="10800000" swAng="-5400000"/>
                    <a:lnTo>
                      <a:pt x="20587" y="29695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386b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130400" y="2939760"/>
                <a:ext cx="1863720" cy="286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5290c"/>
                  </a:gs>
                  <a:gs pos="50000">
                    <a:srgbClr val="386b21"/>
                  </a:gs>
                  <a:gs pos="100000">
                    <a:srgbClr val="15290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H="1">
                <a:off x="2813760" y="3011040"/>
                <a:ext cx="7164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 flipH="1">
                <a:off x="1231200" y="3011040"/>
                <a:ext cx="73080" cy="14400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398600" y="291456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990720" y="3342960"/>
                <a:ext cx="213336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024631"/>
                  </a:solidFill>
                  <a:latin typeface="Arial"/>
                </a:endParaRPr>
              </a:p>
            </p:txBody>
          </p:sp>
        </p:grpSp>
        <p:sp>
          <p:nvSpPr>
            <p:cNvPr id="1972" name=""/>
            <p:cNvSpPr/>
            <p:nvPr/>
          </p:nvSpPr>
          <p:spPr>
            <a:xfrm>
              <a:off x="3505320" y="288576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6019920" y="2352600"/>
              <a:ext cx="213336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024631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3:19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8:25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