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482-BDAC-4853-B575-86C42A5A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966-A790-42E2-A194-9BA2D6E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AE9-DF90-48D9-A59D-A2F4A0D7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229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616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229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2616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F57-879E-404A-9571-1C3F6041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FDD3-26F9-4D4D-B509-939BA0FB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4D7-544A-49BA-8F87-CAF1B05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8B5-C06F-4AE4-A243-5E63C9DC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FA9-7CA4-47EC-98B2-8938ADE5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7DC8-DCA5-4908-BA80-BB419CF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895480"/>
            <a:ext cx="53337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0E13-C2DB-4246-8FD3-0B93F937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6300-7E3B-4E02-AF0B-9D97006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2E0-CEE1-437F-B1E5-1DC08EA4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43A9-90CE-4FAF-9271-4C3DAD6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C640-C1A5-4677-A154-FDFA8FA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457C-60DF-4B88-B0C7-97122B0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589C-DB78-4496-B348-C93BFCCC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229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616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229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2616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72C-66A0-4726-A049-A857E4A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57-5BC4-4187-8AAB-2BE0F75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800-FCB2-42DD-8E89-3D6AFA04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694-D63D-4B62-B6DD-71A84DC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895480"/>
            <a:ext cx="53337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FEF-700E-491F-8AA8-BAD1A32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720-BBB8-4E6F-9F98-B568B2B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DC1-B425-468C-A9BF-D8E7930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60D-6419-48DE-A019-A4DC539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27E0-B366-47ED-8EEF-678A9F9B8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136-6C26-438A-9189-6F57F060D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My Paperclip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4280" y="114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深色系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703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34290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7160" y="3352680"/>
            <a:ext cx="12765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cc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DA5-C0A0-43EB-9E81-E04872BBD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276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0:18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d402000000000001024140</vt:lpwstr>
  </property>
</Properties>
</file>