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3B1-5958-4B95-8EC7-D8851B4B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25646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1EE-E563-4FC8-8B24-012D868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944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A08-A702-432E-92F3-6773EA71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73440" y="22860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37760" y="22860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25646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73440" y="25646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937760" y="25646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19E-D5DF-4BBA-9309-BAEDC5E0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E79-F515-433B-9CB0-E8765B97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4ADA-2F0D-41AE-B986-30869B31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728-3220-490F-9876-2D8EC071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3D1-D495-4ED5-8AD4-2340662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6388-2F92-4619-955D-70F4A67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61960" y="434880"/>
            <a:ext cx="77724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CA08-1F4C-4535-99EA-BA284AA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7455-8322-442D-97F6-F3A4728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7D8-EA51-4C9C-9CFD-5F610C43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8944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84A-7C37-42A7-A267-C7C6712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25646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5491-02FE-42E4-8FEB-D0942AB8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25646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FAA-9893-4258-A234-52C6C59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8944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D9FB-0CC9-4FDD-8C6B-548CCFAD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773440" y="22860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37760" y="22860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25646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773440" y="25646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937760" y="256464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586D-70CA-40F2-A176-9BF5CBBF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3CA-7584-4D33-AB49-96DA6A4F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9F5-A607-473B-8469-00160F3C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42D-3C4F-4548-B977-543F84E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61960" y="434880"/>
            <a:ext cx="77724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325-FF10-4C0D-8AB3-5C8E5F0F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AA9-E25F-4033-97E6-E856199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9440" y="256464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F56-B381-408D-ACA9-BDBFA41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9440" y="22860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256464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9FA-1FC4-42B8-9474-510C542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1680" y="-22320"/>
            <a:ext cx="9198000" cy="6907320"/>
            <a:chOff x="-31680" y="-22320"/>
            <a:chExt cx="9198000" cy="6907320"/>
          </a:xfrm>
        </p:grpSpPr>
        <p:sp>
          <p:nvSpPr>
            <p:cNvPr id="1" name=""/>
            <p:cNvSpPr/>
            <p:nvPr/>
          </p:nvSpPr>
          <p:spPr>
            <a:xfrm>
              <a:off x="0" y="3809880"/>
              <a:ext cx="6831000" cy="2324160"/>
            </a:xfrm>
            <a:custGeom>
              <a:avLst/>
              <a:gdLst/>
              <a:ahLst/>
              <a:rect l="l" t="t" r="r" b="b"/>
              <a:pathLst>
                <a:path w="4303" h="1464">
                  <a:moveTo>
                    <a:pt x="0" y="100"/>
                  </a:moveTo>
                  <a:cubicBezTo>
                    <a:pt x="576" y="0"/>
                    <a:pt x="837" y="95"/>
                    <a:pt x="1283" y="266"/>
                  </a:cubicBezTo>
                  <a:cubicBezTo>
                    <a:pt x="1735" y="435"/>
                    <a:pt x="2353" y="933"/>
                    <a:pt x="2711" y="1117"/>
                  </a:cubicBezTo>
                  <a:cubicBezTo>
                    <a:pt x="3069" y="1301"/>
                    <a:pt x="3178" y="1316"/>
                    <a:pt x="3429" y="1368"/>
                  </a:cubicBezTo>
                  <a:cubicBezTo>
                    <a:pt x="3680" y="1420"/>
                    <a:pt x="4218" y="1424"/>
                    <a:pt x="4215" y="1429"/>
                  </a:cubicBezTo>
                  <a:cubicBezTo>
                    <a:pt x="4303" y="1464"/>
                    <a:pt x="3671" y="1434"/>
                    <a:pt x="3409" y="1395"/>
                  </a:cubicBezTo>
                  <a:cubicBezTo>
                    <a:pt x="3150" y="1356"/>
                    <a:pt x="3008" y="1330"/>
                    <a:pt x="2663" y="1192"/>
                  </a:cubicBezTo>
                  <a:cubicBezTo>
                    <a:pt x="2320" y="1033"/>
                    <a:pt x="2031" y="841"/>
                    <a:pt x="1340" y="570"/>
                  </a:cubicBezTo>
                  <a:cubicBezTo>
                    <a:pt x="649" y="298"/>
                    <a:pt x="173" y="657"/>
                    <a:pt x="15" y="770"/>
                  </a:cubicBezTo>
                </a:path>
              </a:pathLst>
            </a:custGeom>
            <a:gradFill rotWithShape="0">
              <a:gsLst>
                <a:gs pos="0">
                  <a:srgbClr val="757575">
                    <a:alpha val="5098"/>
                  </a:srgbClr>
                </a:gs>
                <a:gs pos="100000">
                  <a:srgbClr val="ffffff">
                    <a:alpha val="823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124080"/>
              <a:ext cx="4924440" cy="2720880"/>
            </a:xfrm>
            <a:custGeom>
              <a:avLst/>
              <a:gdLst/>
              <a:ahLst/>
              <a:rect l="l" t="t" r="r" b="b"/>
              <a:pathLst>
                <a:path w="3102" h="1864">
                  <a:moveTo>
                    <a:pt x="7" y="0"/>
                  </a:moveTo>
                  <a:cubicBezTo>
                    <a:pt x="457" y="100"/>
                    <a:pt x="1064" y="324"/>
                    <a:pt x="1389" y="561"/>
                  </a:cubicBezTo>
                  <a:cubicBezTo>
                    <a:pt x="1714" y="798"/>
                    <a:pt x="1824" y="901"/>
                    <a:pt x="2067" y="1089"/>
                  </a:cubicBezTo>
                  <a:cubicBezTo>
                    <a:pt x="2310" y="1277"/>
                    <a:pt x="2716" y="1590"/>
                    <a:pt x="2846" y="1692"/>
                  </a:cubicBezTo>
                  <a:cubicBezTo>
                    <a:pt x="2976" y="1794"/>
                    <a:pt x="3102" y="1864"/>
                    <a:pt x="2846" y="1699"/>
                  </a:cubicBezTo>
                  <a:cubicBezTo>
                    <a:pt x="2590" y="1534"/>
                    <a:pt x="1525" y="798"/>
                    <a:pt x="1308" y="703"/>
                  </a:cubicBezTo>
                  <a:cubicBezTo>
                    <a:pt x="1091" y="608"/>
                    <a:pt x="768" y="447"/>
                    <a:pt x="7" y="442"/>
                  </a:cubicBez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b8b8b8">
                    <a:alpha val="0"/>
                  </a:srgbClr>
                </a:gs>
                <a:gs pos="100000">
                  <a:srgbClr val="ffffff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73600" y="-11160"/>
              <a:ext cx="3429000" cy="5313240"/>
            </a:xfrm>
            <a:custGeom>
              <a:avLst/>
              <a:gdLst/>
              <a:ahLst/>
              <a:rect l="l" t="t" r="r" b="b"/>
              <a:pathLst>
                <a:path w="2160" h="3347">
                  <a:moveTo>
                    <a:pt x="6" y="7"/>
                  </a:moveTo>
                  <a:cubicBezTo>
                    <a:pt x="352" y="61"/>
                    <a:pt x="1158" y="339"/>
                    <a:pt x="1362" y="922"/>
                  </a:cubicBezTo>
                  <a:cubicBezTo>
                    <a:pt x="1566" y="1505"/>
                    <a:pt x="1477" y="1694"/>
                    <a:pt x="1504" y="2026"/>
                  </a:cubicBezTo>
                  <a:cubicBezTo>
                    <a:pt x="1531" y="2358"/>
                    <a:pt x="1601" y="2575"/>
                    <a:pt x="1707" y="2792"/>
                  </a:cubicBezTo>
                  <a:cubicBezTo>
                    <a:pt x="1813" y="3009"/>
                    <a:pt x="2133" y="3328"/>
                    <a:pt x="2141" y="3327"/>
                  </a:cubicBezTo>
                  <a:cubicBezTo>
                    <a:pt x="2160" y="3347"/>
                    <a:pt x="1837" y="3010"/>
                    <a:pt x="1755" y="2785"/>
                  </a:cubicBezTo>
                  <a:cubicBezTo>
                    <a:pt x="1673" y="2560"/>
                    <a:pt x="1652" y="2301"/>
                    <a:pt x="1646" y="1979"/>
                  </a:cubicBezTo>
                  <a:cubicBezTo>
                    <a:pt x="1640" y="1657"/>
                    <a:pt x="1774" y="1184"/>
                    <a:pt x="1721" y="854"/>
                  </a:cubicBezTo>
                  <a:cubicBezTo>
                    <a:pt x="1668" y="524"/>
                    <a:pt x="1484" y="129"/>
                    <a:pt x="1328" y="0"/>
                  </a:cubicBez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898989">
                    <a:alpha val="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37400" y="3284280"/>
              <a:ext cx="1517760" cy="2560680"/>
            </a:xfrm>
            <a:custGeom>
              <a:avLst/>
              <a:gdLst/>
              <a:ahLst/>
              <a:rect l="l" t="t" r="r" b="b"/>
              <a:pathLst>
                <a:path w="956" h="1613">
                  <a:moveTo>
                    <a:pt x="942" y="38"/>
                  </a:moveTo>
                  <a:lnTo>
                    <a:pt x="956" y="741"/>
                  </a:lnTo>
                  <a:cubicBezTo>
                    <a:pt x="773" y="622"/>
                    <a:pt x="461" y="666"/>
                    <a:pt x="312" y="804"/>
                  </a:cubicBezTo>
                  <a:cubicBezTo>
                    <a:pt x="163" y="942"/>
                    <a:pt x="80" y="1613"/>
                    <a:pt x="61" y="1570"/>
                  </a:cubicBezTo>
                  <a:cubicBezTo>
                    <a:pt x="74" y="1611"/>
                    <a:pt x="0" y="891"/>
                    <a:pt x="197" y="547"/>
                  </a:cubicBezTo>
                  <a:cubicBezTo>
                    <a:pt x="394" y="203"/>
                    <a:pt x="446" y="194"/>
                    <a:pt x="570" y="86"/>
                  </a:cubicBezTo>
                  <a:cubicBezTo>
                    <a:pt x="697" y="0"/>
                    <a:pt x="881" y="18"/>
                    <a:pt x="956" y="32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6274"/>
                  </a:srgbClr>
                </a:gs>
                <a:gs pos="100000">
                  <a:srgbClr val="757575">
                    <a:alpha val="509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540480" y="-22320"/>
              <a:ext cx="2625840" cy="6154560"/>
            </a:xfrm>
            <a:custGeom>
              <a:avLst/>
              <a:gdLst/>
              <a:ahLst/>
              <a:rect l="l" t="t" r="r" b="b"/>
              <a:pathLst>
                <a:path w="1654" h="3877">
                  <a:moveTo>
                    <a:pt x="0" y="21"/>
                  </a:moveTo>
                  <a:cubicBezTo>
                    <a:pt x="129" y="312"/>
                    <a:pt x="215" y="536"/>
                    <a:pt x="230" y="881"/>
                  </a:cubicBezTo>
                  <a:cubicBezTo>
                    <a:pt x="240" y="1220"/>
                    <a:pt x="69" y="1717"/>
                    <a:pt x="61" y="2054"/>
                  </a:cubicBezTo>
                  <a:cubicBezTo>
                    <a:pt x="53" y="2391"/>
                    <a:pt x="64" y="2599"/>
                    <a:pt x="183" y="2901"/>
                  </a:cubicBezTo>
                  <a:cubicBezTo>
                    <a:pt x="302" y="3203"/>
                    <a:pt x="717" y="3877"/>
                    <a:pt x="777" y="3867"/>
                  </a:cubicBezTo>
                  <a:cubicBezTo>
                    <a:pt x="777" y="3860"/>
                    <a:pt x="566" y="3131"/>
                    <a:pt x="542" y="2840"/>
                  </a:cubicBezTo>
                  <a:cubicBezTo>
                    <a:pt x="530" y="2538"/>
                    <a:pt x="560" y="2363"/>
                    <a:pt x="705" y="2054"/>
                  </a:cubicBezTo>
                  <a:cubicBezTo>
                    <a:pt x="850" y="1745"/>
                    <a:pt x="1252" y="1325"/>
                    <a:pt x="1410" y="983"/>
                  </a:cubicBezTo>
                  <a:cubicBezTo>
                    <a:pt x="1568" y="641"/>
                    <a:pt x="1618" y="161"/>
                    <a:pt x="1654" y="0"/>
                  </a:cubicBezTo>
                  <a:lnTo>
                    <a:pt x="1626" y="14"/>
                  </a:lnTo>
                  <a:lnTo>
                    <a:pt x="95" y="14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333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1680" y="5236920"/>
              <a:ext cx="7304040" cy="1648080"/>
            </a:xfrm>
            <a:custGeom>
              <a:avLst/>
              <a:gdLst/>
              <a:ahLst/>
              <a:rect l="l" t="t" r="r" b="b"/>
              <a:pathLst>
                <a:path w="4601" h="1038">
                  <a:moveTo>
                    <a:pt x="6" y="604"/>
                  </a:moveTo>
                  <a:cubicBezTo>
                    <a:pt x="61" y="428"/>
                    <a:pt x="829" y="30"/>
                    <a:pt x="1369" y="15"/>
                  </a:cubicBezTo>
                  <a:cubicBezTo>
                    <a:pt x="1909" y="0"/>
                    <a:pt x="2712" y="422"/>
                    <a:pt x="3246" y="516"/>
                  </a:cubicBezTo>
                  <a:cubicBezTo>
                    <a:pt x="3780" y="610"/>
                    <a:pt x="4547" y="577"/>
                    <a:pt x="4574" y="577"/>
                  </a:cubicBezTo>
                  <a:cubicBezTo>
                    <a:pt x="4601" y="577"/>
                    <a:pt x="3830" y="703"/>
                    <a:pt x="3313" y="679"/>
                  </a:cubicBezTo>
                  <a:cubicBezTo>
                    <a:pt x="2796" y="655"/>
                    <a:pt x="1907" y="375"/>
                    <a:pt x="1470" y="435"/>
                  </a:cubicBezTo>
                  <a:cubicBezTo>
                    <a:pt x="1033" y="495"/>
                    <a:pt x="725" y="970"/>
                    <a:pt x="691" y="1038"/>
                  </a:cubicBezTo>
                  <a:lnTo>
                    <a:pt x="6" y="1038"/>
                  </a:lnTo>
                  <a:lnTo>
                    <a:pt x="0" y="604"/>
                  </a:lnTo>
                </a:path>
              </a:pathLst>
            </a:custGeom>
            <a:gradFill rotWithShape="0">
              <a:gsLst>
                <a:gs pos="0">
                  <a:srgbClr val="a1a1a1">
                    <a:alpha val="5098"/>
                  </a:srgbClr>
                </a:gs>
                <a:gs pos="100000">
                  <a:srgbClr val="ffffff">
                    <a:alpha val="823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86C-02BA-4646-BF00-71515930D90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rcRect l="36363" t="0" r="0" b="35913"/>
          <a:stretch/>
        </p:blipFill>
        <p:spPr>
          <a:xfrm>
            <a:off x="6858000" y="5756400"/>
            <a:ext cx="2286000" cy="1122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924680" y="5910120"/>
            <a:ext cx="67968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4257720" cy="2068560"/>
          </a:xfrm>
          <a:custGeom>
            <a:avLst/>
            <a:gdLst/>
            <a:ahLst/>
            <a:rect l="l" t="t" r="r" b="b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0"/>
            <a:ext cx="5145120" cy="4338720"/>
          </a:xfrm>
          <a:custGeom>
            <a:avLst/>
            <a:gdLst/>
            <a:ahLst/>
            <a:rect l="l" t="t" r="r" b="b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c9c9c9">
                  <a:alpha val="6274"/>
                </a:srgbClr>
              </a:gs>
              <a:gs pos="100000">
                <a:srgbClr val="ffffff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0"/>
            <a:ext cx="2522520" cy="4613400"/>
          </a:xfrm>
          <a:custGeom>
            <a:avLst/>
            <a:gdLst/>
            <a:ahLst/>
            <a:rect l="l" t="t" r="r" b="b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/>
            <a:ahLst/>
            <a:rect l="l" t="t" r="r" b="b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/>
            <a:ahLst/>
            <a:rect l="l" t="t" r="r" b="b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12789" r="0" b="0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4200" y="2971800"/>
            <a:ext cx="282708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25909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28240" y="6460920"/>
            <a:ext cx="1523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1904760" y="64767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A72F-0402-406C-9413-003532668C0E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36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720a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4598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wmf"/><Relationship Id="rId3" Type="http://schemas.openxmlformats.org/officeDocument/2006/relationships/image" Target="../media/image19.png"/><Relationship Id="rId4" Type="http://schemas.openxmlformats.org/officeDocument/2006/relationships/image" Target="../media/image4.wmf"/><Relationship Id="rId5" Type="http://schemas.openxmlformats.org/officeDocument/2006/relationships/image" Target="../media/image19.png"/><Relationship Id="rId6" Type="http://schemas.openxmlformats.org/officeDocument/2006/relationships/image" Target="../media/image4.wmf"/><Relationship Id="rId7" Type="http://schemas.openxmlformats.org/officeDocument/2006/relationships/image" Target="../media/image19.png"/><Relationship Id="rId8" Type="http://schemas.openxmlformats.org/officeDocument/2006/relationships/image" Target="../media/image4.wmf"/><Relationship Id="rId9" Type="http://schemas.openxmlformats.org/officeDocument/2006/relationships/image" Target="../media/image19.png"/><Relationship Id="rId10" Type="http://schemas.openxmlformats.org/officeDocument/2006/relationships/image" Target="../media/image4.wmf"/><Relationship Id="rId11" Type="http://schemas.openxmlformats.org/officeDocument/2006/relationships/image" Target="../media/image19.png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wmf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4.wmf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3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5.png"/><Relationship Id="rId5" Type="http://schemas.openxmlformats.org/officeDocument/2006/relationships/image" Target="../media/image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image" Target="../media/image28.png"/><Relationship Id="rId6" Type="http://schemas.openxmlformats.org/officeDocument/2006/relationships/image" Target="../media/image24.png"/><Relationship Id="rId7" Type="http://schemas.openxmlformats.org/officeDocument/2006/relationships/image" Target="../media/image3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24.png"/><Relationship Id="rId11" Type="http://schemas.openxmlformats.org/officeDocument/2006/relationships/image" Target="../media/image3.png"/><Relationship Id="rId12" Type="http://schemas.openxmlformats.org/officeDocument/2006/relationships/image" Target="../media/image24.png"/><Relationship Id="rId13" Type="http://schemas.openxmlformats.org/officeDocument/2006/relationships/image" Target="../media/image3.png"/><Relationship Id="rId14" Type="http://schemas.openxmlformats.org/officeDocument/2006/relationships/image" Target="../media/image24.png"/><Relationship Id="rId15" Type="http://schemas.openxmlformats.org/officeDocument/2006/relationships/image" Target="../media/image3.png"/><Relationship Id="rId16" Type="http://schemas.openxmlformats.org/officeDocument/2006/relationships/image" Target="../media/image24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w Cen MT"/>
                <a:ea typeface="宋体"/>
              </a:rPr>
              <a:t>国外商务会议幻灯片下载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676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59080" y="5369040"/>
            <a:ext cx="6240240" cy="34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21120" y="2435400"/>
            <a:ext cx="4751280" cy="28461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9efe7">
                  <a:alpha val="80000"/>
                </a:srgbClr>
              </a:gs>
              <a:gs pos="100000">
                <a:srgbClr val="ce5f0c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11640" y="5361120"/>
            <a:ext cx="52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01        02        03       04        05        06        07        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93280" y="451476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6880" y="440388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63920" y="37004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28840" y="30034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86200" y="44672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8000" y="3689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1840" y="2036880"/>
            <a:ext cx="75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alibri"/>
                <a:ea typeface="宋体"/>
              </a:rPr>
              <a:t>38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19760" y="27273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47920" y="5775480"/>
            <a:ext cx="6262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3080" y="5446800"/>
            <a:ext cx="655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53224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2384280"/>
            <a:ext cx="46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56000" y="478152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473076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4065480"/>
            <a:ext cx="12996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3303720"/>
            <a:ext cx="130320" cy="12996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91320" y="4294080"/>
            <a:ext cx="12996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406548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2389320"/>
            <a:ext cx="130320" cy="12996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67640" y="300024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97120" y="253224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"/>
          <p:cNvSpPr/>
          <p:nvPr/>
        </p:nvSpPr>
        <p:spPr>
          <a:xfrm>
            <a:off x="4950000" y="2454120"/>
            <a:ext cx="3508200" cy="153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5f0c"/>
                </a:solidFill>
                <a:latin typeface="Calibri"/>
                <a:ea typeface="宋体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800240" y="2338560"/>
            <a:ext cx="4680" cy="30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2692800">
            <a:off x="885960" y="217152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9720a0"/>
              </a:gs>
              <a:gs pos="100000">
                <a:srgbClr val="b15ab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8892800">
            <a:off x="911880" y="21704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1c4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18907200">
            <a:off x="882720" y="21326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ce5f0c"/>
              </a:gs>
              <a:gs pos="100000">
                <a:srgbClr val="da884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 rot="2692800">
            <a:off x="910800" y="213372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93a719"/>
              </a:gs>
              <a:gs pos="100000">
                <a:srgbClr val="aebd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 rot="18991800">
            <a:off x="956880" y="27586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2" name=""/>
          <p:cNvSpPr txBox="1"/>
          <p:nvPr/>
        </p:nvSpPr>
        <p:spPr>
          <a:xfrm rot="2855400">
            <a:off x="2123640" y="28162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 rot="2855400">
            <a:off x="950400" y="39560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 rot="18739200">
            <a:off x="2147040" y="38948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36640" y="354960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81480" y="4145040"/>
            <a:ext cx="247680" cy="247680"/>
          </a:xfrm>
          <a:prstGeom prst="donut">
            <a:avLst>
              <a:gd name="adj" fmla="val 25000"/>
            </a:avLst>
          </a:prstGeom>
          <a:solidFill>
            <a:srgbClr val="93a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4478400"/>
            <a:ext cx="247680" cy="247680"/>
          </a:xfrm>
          <a:prstGeom prst="donut">
            <a:avLst>
              <a:gd name="adj" fmla="val 25000"/>
            </a:avLst>
          </a:prstGeom>
          <a:solidFill>
            <a:srgbClr val="1c4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4794120"/>
            <a:ext cx="247680" cy="247680"/>
          </a:xfrm>
          <a:prstGeom prst="donut">
            <a:avLst>
              <a:gd name="adj" fmla="val 25000"/>
            </a:avLst>
          </a:prstGeom>
          <a:solidFill>
            <a:srgbClr val="972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5121360"/>
            <a:ext cx="247680" cy="247680"/>
          </a:xfrm>
          <a:prstGeom prst="donut">
            <a:avLst>
              <a:gd name="adj" fmla="val 25000"/>
            </a:avLst>
          </a:pr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35640" y="40813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5640" y="44179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35640" y="47322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35640" y="50706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43440" y="30290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1628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9720a0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097000" y="2793960"/>
            <a:ext cx="5184720" cy="31910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 flipV="1" rot="10800000">
            <a:off x="2784960" y="2138400"/>
            <a:ext cx="671400" cy="144792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93a7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10480" y="3433680"/>
            <a:ext cx="3240" cy="735120"/>
          </a:xfrm>
          <a:custGeom>
            <a:avLst/>
            <a:gdLst/>
            <a:ahLst/>
            <a:rect l="l" t="t" r="r" b="b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972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94000" y="3549600"/>
            <a:ext cx="181080" cy="74448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ce5f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rot="5400000">
            <a:off x="4759200" y="2206800"/>
            <a:ext cx="1440000" cy="861840"/>
          </a:xfrm>
          <a:custGeom>
            <a:avLst/>
            <a:gdLst/>
            <a:ahLst/>
            <a:rect l="l" t="t" r="r" b="b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1c45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90760" y="550224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529240" y="1638360"/>
            <a:ext cx="1905120" cy="523800"/>
            <a:chOff x="5529240" y="1638360"/>
            <a:chExt cx="1905120" cy="523800"/>
          </a:xfrm>
        </p:grpSpPr>
        <p:sp>
          <p:nvSpPr>
            <p:cNvPr id="454" name=""/>
            <p:cNvSpPr/>
            <p:nvPr/>
          </p:nvSpPr>
          <p:spPr>
            <a:xfrm>
              <a:off x="5529240" y="163836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1c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33920" y="164160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c459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781680" y="3073320"/>
            <a:ext cx="1905120" cy="523800"/>
            <a:chOff x="6781680" y="3073320"/>
            <a:chExt cx="1905120" cy="523800"/>
          </a:xfrm>
        </p:grpSpPr>
        <p:sp>
          <p:nvSpPr>
            <p:cNvPr id="457" name=""/>
            <p:cNvSpPr/>
            <p:nvPr/>
          </p:nvSpPr>
          <p:spPr>
            <a:xfrm>
              <a:off x="6781680" y="307332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7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86360" y="307656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720a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770440" y="17096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020000" y="31417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57240" y="1897200"/>
            <a:ext cx="1905120" cy="523800"/>
            <a:chOff x="957240" y="1897200"/>
            <a:chExt cx="1905120" cy="523800"/>
          </a:xfrm>
        </p:grpSpPr>
        <p:sp>
          <p:nvSpPr>
            <p:cNvPr id="462" name=""/>
            <p:cNvSpPr/>
            <p:nvPr/>
          </p:nvSpPr>
          <p:spPr>
            <a:xfrm>
              <a:off x="957240" y="18972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3a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61920" y="190044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3a71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198440" y="196848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90680" y="3301920"/>
            <a:ext cx="1904760" cy="523800"/>
            <a:chOff x="490680" y="3301920"/>
            <a:chExt cx="1904760" cy="523800"/>
          </a:xfrm>
        </p:grpSpPr>
        <p:sp>
          <p:nvSpPr>
            <p:cNvPr id="466" name=""/>
            <p:cNvSpPr/>
            <p:nvPr/>
          </p:nvSpPr>
          <p:spPr>
            <a:xfrm>
              <a:off x="490680" y="330192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ce5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5000" y="330516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e5f0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31880" y="33735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285920" y="438156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010120" y="438156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881360" y="2346480"/>
            <a:ext cx="1066680" cy="23302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dc8ac"/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79600" y="323208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dc8ac"/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37200" y="249084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1bfdb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00720" y="3436920"/>
            <a:ext cx="4446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1bfdb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02400" y="3436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1bfdb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37320" y="3436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1bfdb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931080" y="3436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1bfdb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75080" y="3232080"/>
            <a:ext cx="66168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dc8ac"/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287360" y="4933800"/>
            <a:ext cx="269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5065560" y="4932360"/>
            <a:ext cx="2702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733400" y="1863720"/>
            <a:ext cx="109728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34259" y="9257"/>
                </a:lnTo>
                <a:lnTo>
                  <a:pt x="34259" y="44357"/>
                </a:lnTo>
                <a:lnTo>
                  <a:pt x="23881" y="754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2789280" y="1797120"/>
            <a:ext cx="154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838840" y="183996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35079" y="9312"/>
                </a:lnTo>
                <a:lnTo>
                  <a:pt x="35079" y="46821"/>
                </a:lnTo>
                <a:lnTo>
                  <a:pt x="24029" y="80191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6913440" y="1743120"/>
            <a:ext cx="154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3532320" y="2905200"/>
            <a:ext cx="1831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640560"/>
            <a:ext cx="9144000" cy="228600"/>
          </a:xfrm>
          <a:prstGeom prst="rect">
            <a:avLst/>
          </a:prstGeom>
          <a:solidFill>
            <a:srgbClr val="ce5f0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174680" y="1523880"/>
            <a:ext cx="2330640" cy="32767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265640" y="2057400"/>
            <a:ext cx="38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ffff99"/>
                </a:solidFill>
                <a:latin typeface="Calibri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980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8b3a37"/>
              </a:gs>
            </a:gsLst>
            <a:lin ang="81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0180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708740"/>
              </a:gs>
            </a:gsLst>
            <a:lin ang="81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56240" y="4141800"/>
            <a:ext cx="1684080" cy="1801800"/>
          </a:xfrm>
          <a:custGeom>
            <a:avLst/>
            <a:gdLst>
              <a:gd name="textAreaLeft" fmla="*/ 82080 w 1684080"/>
              <a:gd name="textAreaRight" fmla="*/ 1602000 w 168408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10">
                <a:moveTo>
                  <a:pt x="3600" y="0"/>
                </a:moveTo>
                <a:arcTo wR="3600" hR="3600" stAng="16200000" swAng="-5400000"/>
                <a:lnTo>
                  <a:pt x="0" y="19510"/>
                </a:lnTo>
                <a:arcTo wR="3600" hR="3600" stAng="10800000" swAng="-5400000"/>
                <a:lnTo>
                  <a:pt x="18000" y="23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64a2"/>
              </a:gs>
              <a:gs pos="100000">
                <a:srgbClr val="5d4875"/>
              </a:gs>
            </a:gsLst>
            <a:lin ang="81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62148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bacc6"/>
              </a:gs>
              <a:gs pos="100000">
                <a:srgbClr val="388296"/>
              </a:gs>
            </a:gsLst>
            <a:lin ang="81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85040" y="4394160"/>
            <a:ext cx="3240" cy="1306440"/>
          </a:xfrm>
          <a:prstGeom prst="line">
            <a:avLst/>
          </a:prstGeom>
          <a:ln w="19080">
            <a:solidFill>
              <a:srgbClr val="080808">
                <a:alpha val="2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57160" y="502596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70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698920" y="4344840"/>
            <a:ext cx="16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450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214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79560" y="502596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43360" y="502596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08600" y="502596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17760" y="4441680"/>
            <a:ext cx="257040" cy="26856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386240" y="443088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29520" y="443088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320" y="6629400"/>
            <a:ext cx="89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[Image Info]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www.wizdata.co.k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- Note to customers : This image has been licensed to be used within this PowerPoint template only.  You may not extract the image for any other use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862600" y="27162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444920" y="308628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408400" y="308772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720a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98520" y="2787480"/>
            <a:ext cx="442620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3a719"/>
              </a:gs>
              <a:gs pos="100000">
                <a:srgbClr val="434c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47880" y="27860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f4208"/>
              </a:gs>
              <a:gs pos="100000">
                <a:srgbClr val="ce5f0c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5760" y="3449520"/>
            <a:ext cx="18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86120" y="283356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00560" y="367020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3400" y="19051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366696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5640" y="1628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9720a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522" name="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c4598"/>
                </a:gs>
                <a:gs pos="100000">
                  <a:srgbClr val="0f25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94280" y="2778120"/>
              <a:ext cx="1688040" cy="2448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19760" y="5101200"/>
              <a:ext cx="183420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526" name="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ce5f0c"/>
                </a:gs>
                <a:gs pos="100000">
                  <a:srgbClr val="703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60000">
              <a:off x="721440" y="5163480"/>
              <a:ext cx="183924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530" name="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505b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3384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65080" y="2183760"/>
              <a:ext cx="1841760" cy="3168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535" name="" descr="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3063960" y="167652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656565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5656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7" name="" descr=""/>
            <p:cNvPicPr/>
            <p:nvPr/>
          </p:nvPicPr>
          <p:blipFill>
            <a:blip r:embed="rId2"/>
            <a:stretch/>
          </p:blipFill>
          <p:spPr>
            <a:xfrm>
              <a:off x="3169800" y="168660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539" name="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720a0"/>
                </a:gs>
                <a:gs pos="100000">
                  <a:srgbClr val="5211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40200" y="2193480"/>
              <a:ext cx="1718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71440" y="2183760"/>
              <a:ext cx="1842120" cy="3168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159520" y="1676520"/>
            <a:ext cx="1063440" cy="1065240"/>
            <a:chOff x="5159520" y="1676520"/>
            <a:chExt cx="1063440" cy="1065240"/>
          </a:xfrm>
        </p:grpSpPr>
        <p:pic>
          <p:nvPicPr>
            <p:cNvPr id="544" name="" descr=""/>
            <p:cNvPicPr/>
            <p:nvPr/>
          </p:nvPicPr>
          <p:blipFill>
            <a:blip r:embed="rId3"/>
            <a:stretch/>
          </p:blipFill>
          <p:spPr>
            <a:xfrm>
              <a:off x="5159520" y="1676520"/>
              <a:ext cx="1063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159520" y="1676520"/>
              <a:ext cx="1055160" cy="1065240"/>
            </a:xfrm>
            <a:prstGeom prst="ellipse">
              <a:avLst/>
            </a:prstGeom>
            <a:gradFill rotWithShape="0">
              <a:gsLst>
                <a:gs pos="0">
                  <a:srgbClr val="656565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5656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>
              <a:off x="5265360" y="1686600"/>
              <a:ext cx="84024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7" name="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7095960" y="228276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7095960" y="228276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656565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5656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6"/>
            <a:stretch/>
          </p:blipFill>
          <p:spPr>
            <a:xfrm>
              <a:off x="7201800" y="229284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"/>
          <p:cNvGrpSpPr/>
          <p:nvPr/>
        </p:nvGrpSpPr>
        <p:grpSpPr>
          <a:xfrm>
            <a:off x="1074600" y="2282760"/>
            <a:ext cx="1065240" cy="1065240"/>
            <a:chOff x="1074600" y="2282760"/>
            <a:chExt cx="1065240" cy="1065240"/>
          </a:xfrm>
        </p:grpSpPr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074600" y="228276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074600" y="228276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656565">
                    <a:alpha val="90196"/>
                  </a:srgbClr>
                </a:gs>
                <a:gs pos="50000">
                  <a:srgbClr val="dddddd">
                    <a:alpha val="55294"/>
                  </a:srgbClr>
                </a:gs>
                <a:gs pos="100000">
                  <a:srgbClr val="65656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8"/>
            <a:stretch/>
          </p:blipFill>
          <p:spPr>
            <a:xfrm>
              <a:off x="1180440" y="229284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Text Box 4"/>
          <p:cNvSpPr/>
          <p:nvPr/>
        </p:nvSpPr>
        <p:spPr>
          <a:xfrm>
            <a:off x="1119240" y="556272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782640" y="3392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752560" y="301140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4873680" y="301140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811920" y="3392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5" name=""/>
          <p:cNvSpPr/>
          <p:nvPr/>
        </p:nvSpPr>
        <p:spPr>
          <a:xfrm>
            <a:off x="5234040" y="2065320"/>
            <a:ext cx="2971800" cy="2971800"/>
          </a:xfrm>
          <a:prstGeom prst="ellipse">
            <a:avLst/>
          </a:prstGeom>
          <a:noFill/>
          <a:ln w="38160">
            <a:solidFill>
              <a:srgbClr val="1c459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73000" y="2065320"/>
            <a:ext cx="2971800" cy="2971800"/>
          </a:xfrm>
          <a:prstGeom prst="ellipse">
            <a:avLst/>
          </a:prstGeom>
          <a:noFill/>
          <a:ln w="38160">
            <a:solidFill>
              <a:srgbClr val="93a71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137808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5"/>
          <p:cNvGrpSpPr/>
          <p:nvPr/>
        </p:nvGrpSpPr>
        <p:grpSpPr>
          <a:xfrm>
            <a:off x="1298520" y="1676520"/>
            <a:ext cx="1000080" cy="977760"/>
            <a:chOff x="1298520" y="1676520"/>
            <a:chExt cx="1000080" cy="977760"/>
          </a:xfrm>
        </p:grpSpPr>
        <p:grpSp>
          <p:nvGrpSpPr>
            <p:cNvPr id="569" name="Group 16"/>
            <p:cNvGrpSpPr/>
            <p:nvPr/>
          </p:nvGrpSpPr>
          <p:grpSpPr>
            <a:xfrm>
              <a:off x="1298520" y="1676520"/>
              <a:ext cx="1000080" cy="977760"/>
              <a:chOff x="1298520" y="1676520"/>
              <a:chExt cx="1000080" cy="977760"/>
            </a:xfrm>
          </p:grpSpPr>
          <p:pic>
            <p:nvPicPr>
              <p:cNvPr id="57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98520" y="167652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Oval 18"/>
              <p:cNvSpPr/>
              <p:nvPr/>
            </p:nvSpPr>
            <p:spPr>
              <a:xfrm>
                <a:off x="1298520" y="167652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3a719"/>
                  </a:gs>
                  <a:gs pos="50000">
                    <a:srgbClr val="434c0b"/>
                  </a:gs>
                  <a:gs pos="100000">
                    <a:srgbClr val="93a7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7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98240" y="16858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Text Box 30"/>
          <p:cNvSpPr/>
          <p:nvPr/>
        </p:nvSpPr>
        <p:spPr>
          <a:xfrm>
            <a:off x="1327320" y="18860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08472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45"/>
          <p:cNvGrpSpPr/>
          <p:nvPr/>
        </p:nvGrpSpPr>
        <p:grpSpPr>
          <a:xfrm>
            <a:off x="6811920" y="1706400"/>
            <a:ext cx="1000080" cy="978120"/>
            <a:chOff x="6811920" y="1706400"/>
            <a:chExt cx="1000080" cy="978120"/>
          </a:xfrm>
        </p:grpSpPr>
        <p:grpSp>
          <p:nvGrpSpPr>
            <p:cNvPr id="576" name="Group 46"/>
            <p:cNvGrpSpPr/>
            <p:nvPr/>
          </p:nvGrpSpPr>
          <p:grpSpPr>
            <a:xfrm>
              <a:off x="6811920" y="1706400"/>
              <a:ext cx="1000080" cy="978120"/>
              <a:chOff x="6811920" y="1706400"/>
              <a:chExt cx="1000080" cy="978120"/>
            </a:xfrm>
          </p:grpSpPr>
          <p:pic>
            <p:nvPicPr>
              <p:cNvPr id="577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11920" y="170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Oval 48"/>
              <p:cNvSpPr/>
              <p:nvPr/>
            </p:nvSpPr>
            <p:spPr>
              <a:xfrm>
                <a:off x="6811920" y="17064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1c4598"/>
                  </a:gs>
                  <a:gs pos="50000">
                    <a:srgbClr val="0f2551"/>
                  </a:gs>
                  <a:gs pos="100000">
                    <a:srgbClr val="1c45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79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11640" y="171576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 Box 50"/>
          <p:cNvSpPr/>
          <p:nvPr/>
        </p:nvSpPr>
        <p:spPr>
          <a:xfrm>
            <a:off x="6778800" y="1916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1400040" y="568332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15"/>
          <p:cNvGrpSpPr/>
          <p:nvPr/>
        </p:nvGrpSpPr>
        <p:grpSpPr>
          <a:xfrm>
            <a:off x="1298520" y="4429080"/>
            <a:ext cx="1000080" cy="978120"/>
            <a:chOff x="1298520" y="4429080"/>
            <a:chExt cx="1000080" cy="978120"/>
          </a:xfrm>
        </p:grpSpPr>
        <p:grpSp>
          <p:nvGrpSpPr>
            <p:cNvPr id="583" name="Group 16"/>
            <p:cNvGrpSpPr/>
            <p:nvPr/>
          </p:nvGrpSpPr>
          <p:grpSpPr>
            <a:xfrm>
              <a:off x="1298520" y="4429080"/>
              <a:ext cx="1000080" cy="978120"/>
              <a:chOff x="1298520" y="4429080"/>
              <a:chExt cx="1000080" cy="978120"/>
            </a:xfrm>
          </p:grpSpPr>
          <p:pic>
            <p:nvPicPr>
              <p:cNvPr id="584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98520" y="44290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Oval 18"/>
              <p:cNvSpPr/>
              <p:nvPr/>
            </p:nvSpPr>
            <p:spPr>
              <a:xfrm>
                <a:off x="1298520" y="4429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93a719"/>
                  </a:gs>
                  <a:gs pos="50000">
                    <a:srgbClr val="525d0d"/>
                  </a:gs>
                  <a:gs pos="100000">
                    <a:srgbClr val="93a7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6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98240" y="443844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Text Box 30"/>
          <p:cNvSpPr/>
          <p:nvPr/>
        </p:nvSpPr>
        <p:spPr>
          <a:xfrm>
            <a:off x="1327320" y="46386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Group 15"/>
          <p:cNvGrpSpPr/>
          <p:nvPr/>
        </p:nvGrpSpPr>
        <p:grpSpPr>
          <a:xfrm>
            <a:off x="393840" y="3133800"/>
            <a:ext cx="1000080" cy="977760"/>
            <a:chOff x="393840" y="3133800"/>
            <a:chExt cx="1000080" cy="977760"/>
          </a:xfrm>
        </p:grpSpPr>
        <p:grpSp>
          <p:nvGrpSpPr>
            <p:cNvPr id="589" name="Group 16"/>
            <p:cNvGrpSpPr/>
            <p:nvPr/>
          </p:nvGrpSpPr>
          <p:grpSpPr>
            <a:xfrm>
              <a:off x="393840" y="3133800"/>
              <a:ext cx="1000080" cy="977760"/>
              <a:chOff x="393840" y="3133800"/>
              <a:chExt cx="1000080" cy="977760"/>
            </a:xfrm>
          </p:grpSpPr>
          <p:pic>
            <p:nvPicPr>
              <p:cNvPr id="590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93840" y="3133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Oval 18"/>
              <p:cNvSpPr/>
              <p:nvPr/>
            </p:nvSpPr>
            <p:spPr>
              <a:xfrm>
                <a:off x="393840" y="3133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3a719"/>
                  </a:gs>
                  <a:gs pos="50000">
                    <a:srgbClr val="525d0d"/>
                  </a:gs>
                  <a:gs pos="100000">
                    <a:srgbClr val="93a7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92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93560" y="3143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Text Box 30"/>
          <p:cNvSpPr/>
          <p:nvPr/>
        </p:nvSpPr>
        <p:spPr>
          <a:xfrm>
            <a:off x="422280" y="334332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Group 45"/>
          <p:cNvGrpSpPr/>
          <p:nvPr/>
        </p:nvGrpSpPr>
        <p:grpSpPr>
          <a:xfrm>
            <a:off x="6811920" y="4316400"/>
            <a:ext cx="1000080" cy="977760"/>
            <a:chOff x="6811920" y="4316400"/>
            <a:chExt cx="1000080" cy="977760"/>
          </a:xfrm>
        </p:grpSpPr>
        <p:grpSp>
          <p:nvGrpSpPr>
            <p:cNvPr id="595" name="Group 46"/>
            <p:cNvGrpSpPr/>
            <p:nvPr/>
          </p:nvGrpSpPr>
          <p:grpSpPr>
            <a:xfrm>
              <a:off x="6811920" y="4316400"/>
              <a:ext cx="1000080" cy="977760"/>
              <a:chOff x="6811920" y="4316400"/>
              <a:chExt cx="1000080" cy="977760"/>
            </a:xfrm>
          </p:grpSpPr>
          <p:pic>
            <p:nvPicPr>
              <p:cNvPr id="596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11920" y="431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Oval 48"/>
              <p:cNvSpPr/>
              <p:nvPr/>
            </p:nvSpPr>
            <p:spPr>
              <a:xfrm>
                <a:off x="6811920" y="431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1c4598"/>
                  </a:gs>
                  <a:gs pos="50000">
                    <a:srgbClr val="0f2551"/>
                  </a:gs>
                  <a:gs pos="100000">
                    <a:srgbClr val="1c45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98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11640" y="432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9" name="Text Box 50"/>
          <p:cNvSpPr/>
          <p:nvPr/>
        </p:nvSpPr>
        <p:spPr>
          <a:xfrm>
            <a:off x="6778800" y="45259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Group 45"/>
          <p:cNvGrpSpPr/>
          <p:nvPr/>
        </p:nvGrpSpPr>
        <p:grpSpPr>
          <a:xfrm>
            <a:off x="7659720" y="3078000"/>
            <a:ext cx="1000080" cy="978120"/>
            <a:chOff x="7659720" y="3078000"/>
            <a:chExt cx="1000080" cy="978120"/>
          </a:xfrm>
        </p:grpSpPr>
        <p:grpSp>
          <p:nvGrpSpPr>
            <p:cNvPr id="601" name="Group 46"/>
            <p:cNvGrpSpPr/>
            <p:nvPr/>
          </p:nvGrpSpPr>
          <p:grpSpPr>
            <a:xfrm>
              <a:off x="7659720" y="3078000"/>
              <a:ext cx="1000080" cy="978120"/>
              <a:chOff x="7659720" y="3078000"/>
              <a:chExt cx="1000080" cy="978120"/>
            </a:xfrm>
          </p:grpSpPr>
          <p:pic>
            <p:nvPicPr>
              <p:cNvPr id="602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59720" y="30780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Oval 48"/>
              <p:cNvSpPr/>
              <p:nvPr/>
            </p:nvSpPr>
            <p:spPr>
              <a:xfrm>
                <a:off x="7659720" y="30780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1c4598"/>
                  </a:gs>
                  <a:gs pos="50000">
                    <a:srgbClr val="0f2551"/>
                  </a:gs>
                  <a:gs pos="100000">
                    <a:srgbClr val="1c45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4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59440" y="308736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Text Box 50"/>
          <p:cNvSpPr/>
          <p:nvPr/>
        </p:nvSpPr>
        <p:spPr>
          <a:xfrm>
            <a:off x="7626240" y="32878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44800" y="214164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solidFill>
            <a:srgbClr val="93a71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78480" y="2847960"/>
            <a:ext cx="1676160" cy="1403280"/>
            <a:chOff x="4578480" y="2847960"/>
            <a:chExt cx="1676160" cy="1403280"/>
          </a:xfrm>
        </p:grpSpPr>
        <p:sp>
          <p:nvSpPr>
            <p:cNvPr id="608" name=""/>
            <p:cNvSpPr/>
            <p:nvPr/>
          </p:nvSpPr>
          <p:spPr>
            <a:xfrm>
              <a:off x="4578480" y="2847960"/>
              <a:ext cx="1676160" cy="14032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c4598"/>
                </a:gs>
                <a:gs pos="100000">
                  <a:srgbClr val="a0b1d3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33560" y="2903400"/>
              <a:ext cx="1550880" cy="128772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c4598"/>
                </a:gs>
                <a:gs pos="100000">
                  <a:srgbClr val="132f69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854440" y="2865600"/>
            <a:ext cx="1676160" cy="1403280"/>
            <a:chOff x="2854440" y="2865600"/>
            <a:chExt cx="1676160" cy="1403280"/>
          </a:xfrm>
        </p:grpSpPr>
        <p:sp>
          <p:nvSpPr>
            <p:cNvPr id="611" name=""/>
            <p:cNvSpPr/>
            <p:nvPr/>
          </p:nvSpPr>
          <p:spPr>
            <a:xfrm flipH="1">
              <a:off x="2854440" y="2865600"/>
              <a:ext cx="1676160" cy="1403280"/>
            </a:xfrm>
            <a:custGeom>
              <a:avLst/>
              <a:gdLst>
                <a:gd name="textAreaLeft" fmla="*/ 360 w 1676160"/>
                <a:gd name="textAreaRight" fmla="*/ 167688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7d189"/>
                </a:gs>
                <a:gs pos="100000">
                  <a:srgbClr val="93a719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24640" y="2921040"/>
              <a:ext cx="1550880" cy="1287720"/>
            </a:xfrm>
            <a:custGeom>
              <a:avLst/>
              <a:gdLst>
                <a:gd name="textAreaLeft" fmla="*/ 360 w 1550880"/>
                <a:gd name="textAreaRight" fmla="*/ 1551600 w 155088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16e10"/>
                </a:gs>
                <a:gs pos="100000">
                  <a:srgbClr val="93a719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Text Box 8"/>
          <p:cNvSpPr/>
          <p:nvPr/>
        </p:nvSpPr>
        <p:spPr>
          <a:xfrm>
            <a:off x="311940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70520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30"/>
          <p:cNvSpPr/>
          <p:nvPr/>
        </p:nvSpPr>
        <p:spPr>
          <a:xfrm>
            <a:off x="3616200" y="176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30"/>
          <p:cNvSpPr/>
          <p:nvPr/>
        </p:nvSpPr>
        <p:spPr>
          <a:xfrm>
            <a:off x="3616200" y="4991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3844800" y="379872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solidFill>
            <a:srgbClr val="1c45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9" name=""/>
          <p:cNvSpPr/>
          <p:nvPr/>
        </p:nvSpPr>
        <p:spPr>
          <a:xfrm>
            <a:off x="1101600" y="4967280"/>
            <a:ext cx="31528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317600" y="4780080"/>
            <a:ext cx="2712960" cy="416880"/>
            <a:chOff x="1317600" y="4780080"/>
            <a:chExt cx="2712960" cy="416880"/>
          </a:xfrm>
        </p:grpSpPr>
        <p:sp>
          <p:nvSpPr>
            <p:cNvPr id="621" name=""/>
            <p:cNvSpPr/>
            <p:nvPr/>
          </p:nvSpPr>
          <p:spPr>
            <a:xfrm>
              <a:off x="1317600" y="47800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5960" y="47833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4540320" y="49672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754520" y="4780080"/>
            <a:ext cx="2712960" cy="416880"/>
            <a:chOff x="4754520" y="4780080"/>
            <a:chExt cx="2712960" cy="416880"/>
          </a:xfrm>
        </p:grpSpPr>
        <p:sp>
          <p:nvSpPr>
            <p:cNvPr id="625" name=""/>
            <p:cNvSpPr/>
            <p:nvPr/>
          </p:nvSpPr>
          <p:spPr>
            <a:xfrm>
              <a:off x="4754520" y="47800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72880" y="47833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838080" y="4206960"/>
            <a:ext cx="7354800" cy="519120"/>
            <a:chOff x="838080" y="4206960"/>
            <a:chExt cx="7354800" cy="519120"/>
          </a:xfrm>
        </p:grpSpPr>
        <p:sp>
          <p:nvSpPr>
            <p:cNvPr id="628" name=""/>
            <p:cNvSpPr/>
            <p:nvPr/>
          </p:nvSpPr>
          <p:spPr>
            <a:xfrm>
              <a:off x="838080" y="4333680"/>
              <a:ext cx="32508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58680" y="4206960"/>
              <a:ext cx="7234200" cy="519120"/>
            </a:xfrm>
            <a:prstGeom prst="rightArrow">
              <a:avLst>
                <a:gd name="adj1" fmla="val 50000"/>
                <a:gd name="adj2" fmla="val 63226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1746360" y="429588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38560" y="42958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362640" y="42958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101600" y="2505240"/>
            <a:ext cx="0" cy="1790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316320" y="2189160"/>
            <a:ext cx="0" cy="2106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516640" y="1760040"/>
            <a:ext cx="0" cy="25354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737480" y="1401480"/>
            <a:ext cx="0" cy="28940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01600" y="386712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e2a273"/>
              </a:gs>
              <a:gs pos="100000">
                <a:srgbClr val="ce5f0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17760" y="3365640"/>
            <a:ext cx="220680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3ce82"/>
              </a:gs>
              <a:gs pos="100000">
                <a:srgbClr val="93a71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524560" y="27925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6e88bc"/>
              </a:gs>
              <a:gs pos="100000">
                <a:srgbClr val="1c459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01600" y="276552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3320" y="22906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549760" y="171756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317600" y="38685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26680" y="48308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65040" y="48308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527040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527040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537000" y="36511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726160" y="33987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4043520" y="2587680"/>
            <a:ext cx="1711080" cy="536040"/>
            <a:chOff x="4043520" y="2587680"/>
            <a:chExt cx="1711080" cy="536040"/>
          </a:xfrm>
        </p:grpSpPr>
        <p:sp>
          <p:nvSpPr>
            <p:cNvPr id="652" name=""/>
            <p:cNvSpPr/>
            <p:nvPr/>
          </p:nvSpPr>
          <p:spPr>
            <a:xfrm>
              <a:off x="4043520" y="258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69800" y="262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722160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93a719"/>
              </a:gs>
              <a:gs pos="100000">
                <a:srgbClr val="6a781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5808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93a719"/>
              </a:gs>
              <a:gs pos="100000">
                <a:srgbClr val="6a781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995400" y="3763800"/>
            <a:ext cx="2273400" cy="536400"/>
            <a:chOff x="995400" y="3763800"/>
            <a:chExt cx="2273400" cy="536400"/>
          </a:xfrm>
        </p:grpSpPr>
        <p:sp>
          <p:nvSpPr>
            <p:cNvPr id="657" name=""/>
            <p:cNvSpPr/>
            <p:nvPr/>
          </p:nvSpPr>
          <p:spPr>
            <a:xfrm>
              <a:off x="995400" y="37638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1c459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30320" y="37962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c459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040440" y="3763800"/>
            <a:ext cx="2273400" cy="536400"/>
            <a:chOff x="6040440" y="3763800"/>
            <a:chExt cx="2273400" cy="536400"/>
          </a:xfrm>
        </p:grpSpPr>
        <p:sp>
          <p:nvSpPr>
            <p:cNvPr id="660" name=""/>
            <p:cNvSpPr/>
            <p:nvPr/>
          </p:nvSpPr>
          <p:spPr>
            <a:xfrm>
              <a:off x="6040440" y="37638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93a71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75360" y="37962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3a71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514680" y="3773520"/>
            <a:ext cx="2273400" cy="536040"/>
            <a:chOff x="3514680" y="3773520"/>
            <a:chExt cx="2273400" cy="536040"/>
          </a:xfrm>
        </p:grpSpPr>
        <p:sp>
          <p:nvSpPr>
            <p:cNvPr id="663" name=""/>
            <p:cNvSpPr/>
            <p:nvPr/>
          </p:nvSpPr>
          <p:spPr>
            <a:xfrm>
              <a:off x="3514680" y="3773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e5f0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49600" y="38059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e5f0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870200" y="2587680"/>
            <a:ext cx="1711080" cy="536040"/>
            <a:chOff x="1870200" y="2587680"/>
            <a:chExt cx="1711080" cy="536040"/>
          </a:xfrm>
        </p:grpSpPr>
        <p:sp>
          <p:nvSpPr>
            <p:cNvPr id="666" name=""/>
            <p:cNvSpPr/>
            <p:nvPr/>
          </p:nvSpPr>
          <p:spPr>
            <a:xfrm>
              <a:off x="1870200" y="258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6480" y="262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928880" y="1728720"/>
            <a:ext cx="1596960" cy="536400"/>
            <a:chOff x="1928880" y="1728720"/>
            <a:chExt cx="1596960" cy="536400"/>
          </a:xfrm>
        </p:grpSpPr>
        <p:sp>
          <p:nvSpPr>
            <p:cNvPr id="669" name=""/>
            <p:cNvSpPr/>
            <p:nvPr/>
          </p:nvSpPr>
          <p:spPr>
            <a:xfrm>
              <a:off x="1928880" y="1728720"/>
              <a:ext cx="15969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53360" y="176112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01448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100000">
                <a:srgbClr val="14316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800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100000">
                <a:srgbClr val="14316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3" name=""/>
          <p:cNvCxnSpPr/>
          <p:nvPr/>
        </p:nvCxnSpPr>
        <p:spPr>
          <a:xfrm flipH="1">
            <a:off x="3599640" y="282852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74" name=""/>
          <p:cNvCxnSpPr>
            <a:stCxn id="657" idx="0"/>
            <a:endCxn id="666" idx="2"/>
          </p:cNvCxnSpPr>
          <p:nvPr/>
        </p:nvCxnSpPr>
        <p:spPr>
          <a:xfrm flipH="1" flipV="1" rot="5400000">
            <a:off x="2108520" y="3146400"/>
            <a:ext cx="640440" cy="594360"/>
          </a:xfrm>
          <a:prstGeom prst="bentConnector3">
            <a:avLst>
              <a:gd name="adj1" fmla="val 49831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75" name=""/>
          <p:cNvCxnSpPr>
            <a:stCxn id="660" idx="0"/>
            <a:endCxn id="666" idx="2"/>
          </p:cNvCxnSpPr>
          <p:nvPr/>
        </p:nvCxnSpPr>
        <p:spPr>
          <a:xfrm flipV="1" rot="16200000">
            <a:off x="4630680" y="1217520"/>
            <a:ext cx="640440" cy="4452120"/>
          </a:xfrm>
          <a:prstGeom prst="bentConnector3">
            <a:avLst>
              <a:gd name="adj1" fmla="val 4983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2224080" y="1809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  <a:ea typeface="宋体"/>
              </a:rPr>
              <a:t>C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052880" y="26877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Sub Depar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081840" y="3854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22400" y="38448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47862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073240" y="47862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44920" y="38512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3232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100000">
                <a:srgbClr val="94440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69584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100000">
                <a:srgbClr val="94440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32240" y="47862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91080" y="47862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958000" y="47862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16840" y="47862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00160" y="266400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0" name=""/>
          <p:cNvCxnSpPr>
            <a:stCxn id="669" idx="2"/>
            <a:endCxn id="666" idx="0"/>
          </p:cNvCxnSpPr>
          <p:nvPr/>
        </p:nvCxnSpPr>
        <p:spPr>
          <a:xfrm flipH="1">
            <a:off x="2724840" y="2265120"/>
            <a:ext cx="2520" cy="322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91" name=""/>
          <p:cNvCxnSpPr>
            <a:stCxn id="666" idx="2"/>
            <a:endCxn id="663" idx="0"/>
          </p:cNvCxnSpPr>
          <p:nvPr/>
        </p:nvCxnSpPr>
        <p:spPr>
          <a:xfrm flipH="1" rot="16200000">
            <a:off x="3362760" y="248580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ontents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"/>
          <p:cNvSpPr/>
          <p:nvPr/>
        </p:nvSpPr>
        <p:spPr>
          <a:xfrm>
            <a:off x="2928960" y="519912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14760" y="481824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39868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20178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62480" y="308448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7036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0988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4290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2480" y="45324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15116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54720" y="1978200"/>
            <a:ext cx="467280" cy="468360"/>
            <a:chOff x="2754720" y="1978200"/>
            <a:chExt cx="467280" cy="468360"/>
          </a:xfrm>
        </p:grpSpPr>
        <p:sp>
          <p:nvSpPr>
            <p:cNvPr id="114" name=""/>
            <p:cNvSpPr/>
            <p:nvPr/>
          </p:nvSpPr>
          <p:spPr>
            <a:xfrm>
              <a:off x="2790720" y="20178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754720" y="1978200"/>
              <a:ext cx="467280" cy="468360"/>
              <a:chOff x="2754720" y="1978200"/>
              <a:chExt cx="467280" cy="4683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2823120" y="20444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19311000">
                <a:off x="2823480" y="20437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472104">
                      <a:alpha val="90196"/>
                    </a:srgbClr>
                  </a:gs>
                  <a:gs pos="50000">
                    <a:srgbClr val="ce5f0c">
                      <a:alpha val="75294"/>
                    </a:srgbClr>
                  </a:gs>
                  <a:gs pos="100000">
                    <a:srgbClr val="472104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791080" y="20700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" name="" descr=""/>
            <p:cNvPicPr/>
            <p:nvPr/>
          </p:nvPicPr>
          <p:blipFill>
            <a:blip r:embed="rId3"/>
            <a:srcRect l="12029" t="9307" r="12418" b="12612"/>
            <a:stretch/>
          </p:blipFill>
          <p:spPr>
            <a:xfrm>
              <a:off x="2816280" y="20307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3289680" y="2665440"/>
            <a:ext cx="467280" cy="468360"/>
            <a:chOff x="3289680" y="2665440"/>
            <a:chExt cx="467280" cy="468360"/>
          </a:xfrm>
        </p:grpSpPr>
        <p:sp>
          <p:nvSpPr>
            <p:cNvPr id="121" name=""/>
            <p:cNvSpPr/>
            <p:nvPr/>
          </p:nvSpPr>
          <p:spPr>
            <a:xfrm>
              <a:off x="3325680" y="27050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289680" y="2665440"/>
              <a:ext cx="467280" cy="468360"/>
              <a:chOff x="3289680" y="2665440"/>
              <a:chExt cx="467280" cy="4683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358080" y="27316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 rot="19311000">
                <a:off x="3358440" y="27309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33a08">
                      <a:alpha val="90196"/>
                    </a:srgbClr>
                  </a:gs>
                  <a:gs pos="50000">
                    <a:srgbClr val="93a719">
                      <a:alpha val="75294"/>
                    </a:srgbClr>
                  </a:gs>
                  <a:gs pos="100000">
                    <a:srgbClr val="333a08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26040" y="275724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" name="" descr=""/>
            <p:cNvPicPr/>
            <p:nvPr/>
          </p:nvPicPr>
          <p:blipFill>
            <a:blip r:embed="rId6"/>
            <a:srcRect l="12029" t="9307" r="12418" b="12612"/>
            <a:stretch/>
          </p:blipFill>
          <p:spPr>
            <a:xfrm>
              <a:off x="3351240" y="27180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3458160" y="3387960"/>
            <a:ext cx="467280" cy="468360"/>
            <a:chOff x="3458160" y="3387960"/>
            <a:chExt cx="467280" cy="468360"/>
          </a:xfrm>
        </p:grpSpPr>
        <p:sp>
          <p:nvSpPr>
            <p:cNvPr id="128" name=""/>
            <p:cNvSpPr/>
            <p:nvPr/>
          </p:nvSpPr>
          <p:spPr>
            <a:xfrm>
              <a:off x="3494160" y="342756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458160" y="3387960"/>
              <a:ext cx="467280" cy="468360"/>
              <a:chOff x="3458160" y="3387960"/>
              <a:chExt cx="467280" cy="4683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526560" y="34542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19311000">
                <a:off x="3526920" y="34534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40b37">
                      <a:alpha val="90196"/>
                    </a:srgbClr>
                  </a:gs>
                  <a:gs pos="50000">
                    <a:srgbClr val="9720a0">
                      <a:alpha val="75294"/>
                    </a:srgbClr>
                  </a:gs>
                  <a:gs pos="100000">
                    <a:srgbClr val="340b37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2" name="" descr="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494520" y="34797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" descr=""/>
            <p:cNvPicPr/>
            <p:nvPr/>
          </p:nvPicPr>
          <p:blipFill>
            <a:blip r:embed="rId9"/>
            <a:srcRect l="12029" t="9307" r="12418" b="12612"/>
            <a:stretch/>
          </p:blipFill>
          <p:spPr>
            <a:xfrm>
              <a:off x="3521520" y="344052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3240720" y="4100760"/>
            <a:ext cx="467280" cy="468360"/>
            <a:chOff x="3240720" y="4100760"/>
            <a:chExt cx="467280" cy="468360"/>
          </a:xfrm>
        </p:grpSpPr>
        <p:sp>
          <p:nvSpPr>
            <p:cNvPr id="135" name=""/>
            <p:cNvSpPr/>
            <p:nvPr/>
          </p:nvSpPr>
          <p:spPr>
            <a:xfrm>
              <a:off x="3276720" y="414036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240720" y="4100760"/>
              <a:ext cx="467280" cy="468360"/>
              <a:chOff x="3240720" y="4100760"/>
              <a:chExt cx="467280" cy="46836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309120" y="41670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19311000">
                <a:off x="3309480" y="41662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091734">
                      <a:alpha val="90196"/>
                    </a:srgbClr>
                  </a:gs>
                  <a:gs pos="50000">
                    <a:srgbClr val="1c4598">
                      <a:alpha val="75294"/>
                    </a:srgbClr>
                  </a:gs>
                  <a:gs pos="100000">
                    <a:srgbClr val="091734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277080" y="41925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" descr=""/>
            <p:cNvPicPr/>
            <p:nvPr/>
          </p:nvPicPr>
          <p:blipFill>
            <a:blip r:embed="rId12"/>
            <a:srcRect l="12029" t="9307" r="12418" b="12612"/>
            <a:stretch/>
          </p:blipFill>
          <p:spPr>
            <a:xfrm>
              <a:off x="3301920" y="415332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2696040" y="4764240"/>
            <a:ext cx="467280" cy="468360"/>
            <a:chOff x="2696040" y="4764240"/>
            <a:chExt cx="467280" cy="468360"/>
          </a:xfrm>
        </p:grpSpPr>
        <p:sp>
          <p:nvSpPr>
            <p:cNvPr id="142" name=""/>
            <p:cNvSpPr/>
            <p:nvPr/>
          </p:nvSpPr>
          <p:spPr>
            <a:xfrm>
              <a:off x="2732040" y="480384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696040" y="4764240"/>
              <a:ext cx="467280" cy="468360"/>
              <a:chOff x="2696040" y="4764240"/>
              <a:chExt cx="467280" cy="46836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764440" y="48304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 rot="19311000">
                <a:off x="2764800" y="482976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732400" y="485604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15"/>
            <a:srcRect l="12029" t="9307" r="12418" b="12612"/>
            <a:stretch/>
          </p:blipFill>
          <p:spPr>
            <a:xfrm>
              <a:off x="2757600" y="481680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>
            <a:off x="380880" y="2305080"/>
            <a:ext cx="2667240" cy="2608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640560"/>
            <a:ext cx="9144000" cy="228600"/>
          </a:xfrm>
          <a:prstGeom prst="rect">
            <a:avLst/>
          </a:prstGeom>
          <a:solidFill>
            <a:srgbClr val="ce5f0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"/>
          <p:cNvSpPr/>
          <p:nvPr/>
        </p:nvSpPr>
        <p:spPr>
          <a:xfrm>
            <a:off x="990720" y="5313240"/>
            <a:ext cx="3635280" cy="70164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990720" y="4376880"/>
            <a:ext cx="3635280" cy="701640"/>
          </a:xfrm>
          <a:prstGeom prst="rect">
            <a:avLst/>
          </a:prstGeom>
          <a:gradFill rotWithShape="0">
            <a:gsLst>
              <a:gs pos="0">
                <a:srgbClr val="9720a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990720" y="3400560"/>
            <a:ext cx="3635280" cy="701640"/>
          </a:xfrm>
          <a:prstGeom prst="rect">
            <a:avLst/>
          </a:prstGeom>
          <a:gradFill rotWithShape="0">
            <a:gsLst>
              <a:gs pos="0">
                <a:srgbClr val="93a71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2465280"/>
            <a:ext cx="3635280" cy="70164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19320" y="256392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219320" y="350532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19320" y="450360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19320" y="542916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835520" y="3505320"/>
            <a:ext cx="1354320" cy="1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35520" y="3770280"/>
            <a:ext cx="1973160" cy="160200"/>
          </a:xfrm>
          <a:prstGeom prst="rect">
            <a:avLst/>
          </a:prstGeom>
          <a:gradFill rotWithShape="0">
            <a:gsLst>
              <a:gs pos="0">
                <a:srgbClr val="93a719"/>
              </a:gs>
              <a:gs pos="100000">
                <a:srgbClr val="434c0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7630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35520" y="4503600"/>
            <a:ext cx="290520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35520" y="4768920"/>
            <a:ext cx="2612880" cy="169920"/>
          </a:xfrm>
          <a:prstGeom prst="rect">
            <a:avLst/>
          </a:prstGeom>
          <a:gradFill rotWithShape="0">
            <a:gsLst>
              <a:gs pos="0">
                <a:srgbClr val="9720a0"/>
              </a:gs>
              <a:gs pos="100000">
                <a:srgbClr val="450e4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a13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62520" y="2643120"/>
            <a:ext cx="224640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62520" y="2900520"/>
            <a:ext cx="2828880" cy="14904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100000">
                <a:srgbClr val="5e2b0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b38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164360" y="256860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43760" y="25588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97680" y="34164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629480" y="44323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93120" y="28144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681960" y="36910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348680" y="46879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35520" y="5413320"/>
            <a:ext cx="1354320" cy="149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835520" y="5678640"/>
            <a:ext cx="1973160" cy="15876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100000">
                <a:srgbClr val="0c1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029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97680" y="53244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681960" y="55990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199040" y="2433600"/>
            <a:ext cx="769680" cy="765000"/>
            <a:chOff x="4199040" y="2433600"/>
            <a:chExt cx="769680" cy="765000"/>
          </a:xfrm>
        </p:grpSpPr>
        <p:sp>
          <p:nvSpPr>
            <p:cNvPr id="719" name=""/>
            <p:cNvSpPr/>
            <p:nvPr/>
          </p:nvSpPr>
          <p:spPr>
            <a:xfrm>
              <a:off x="4199040" y="2436480"/>
              <a:ext cx="769680" cy="762120"/>
            </a:xfrm>
            <a:prstGeom prst="ellipse">
              <a:avLst/>
            </a:prstGeom>
            <a:solidFill>
              <a:srgbClr val="ce5f0c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4218120" y="24336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"/>
          <p:cNvGrpSpPr/>
          <p:nvPr/>
        </p:nvGrpSpPr>
        <p:grpSpPr>
          <a:xfrm>
            <a:off x="4199040" y="3359160"/>
            <a:ext cx="769680" cy="766440"/>
            <a:chOff x="4199040" y="3359160"/>
            <a:chExt cx="769680" cy="766440"/>
          </a:xfrm>
        </p:grpSpPr>
        <p:sp>
          <p:nvSpPr>
            <p:cNvPr id="722" name=""/>
            <p:cNvSpPr/>
            <p:nvPr/>
          </p:nvSpPr>
          <p:spPr>
            <a:xfrm>
              <a:off x="4199040" y="3362040"/>
              <a:ext cx="769680" cy="763560"/>
            </a:xfrm>
            <a:prstGeom prst="ellipse">
              <a:avLst/>
            </a:prstGeom>
            <a:solidFill>
              <a:srgbClr val="93a719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3" name="" descr=""/>
            <p:cNvPicPr/>
            <p:nvPr/>
          </p:nvPicPr>
          <p:blipFill>
            <a:blip r:embed="rId2"/>
            <a:stretch/>
          </p:blipFill>
          <p:spPr>
            <a:xfrm>
              <a:off x="4218120" y="335916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4199040" y="4357800"/>
            <a:ext cx="769680" cy="764640"/>
            <a:chOff x="4199040" y="4357800"/>
            <a:chExt cx="769680" cy="764640"/>
          </a:xfrm>
        </p:grpSpPr>
        <p:sp>
          <p:nvSpPr>
            <p:cNvPr id="725" name=""/>
            <p:cNvSpPr/>
            <p:nvPr/>
          </p:nvSpPr>
          <p:spPr>
            <a:xfrm>
              <a:off x="4199040" y="4360680"/>
              <a:ext cx="769680" cy="761760"/>
            </a:xfrm>
            <a:prstGeom prst="ellipse">
              <a:avLst/>
            </a:prstGeom>
            <a:solidFill>
              <a:srgbClr val="9720a0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6" name="" descr=""/>
            <p:cNvPicPr/>
            <p:nvPr/>
          </p:nvPicPr>
          <p:blipFill>
            <a:blip r:embed="rId3"/>
            <a:stretch/>
          </p:blipFill>
          <p:spPr>
            <a:xfrm>
              <a:off x="4218120" y="43578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"/>
          <p:cNvGrpSpPr/>
          <p:nvPr/>
        </p:nvGrpSpPr>
        <p:grpSpPr>
          <a:xfrm>
            <a:off x="4251240" y="5254560"/>
            <a:ext cx="768600" cy="765000"/>
            <a:chOff x="4251240" y="5254560"/>
            <a:chExt cx="768600" cy="765000"/>
          </a:xfrm>
        </p:grpSpPr>
        <p:sp>
          <p:nvSpPr>
            <p:cNvPr id="728" name=""/>
            <p:cNvSpPr/>
            <p:nvPr/>
          </p:nvSpPr>
          <p:spPr>
            <a:xfrm>
              <a:off x="4251240" y="5257440"/>
              <a:ext cx="768600" cy="762120"/>
            </a:xfrm>
            <a:prstGeom prst="ellipse">
              <a:avLst/>
            </a:prstGeom>
            <a:solidFill>
              <a:srgbClr val="1c4598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4"/>
            <a:stretch/>
          </p:blipFill>
          <p:spPr>
            <a:xfrm>
              <a:off x="4270320" y="5254560"/>
              <a:ext cx="71820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"/>
          <p:cNvGrpSpPr/>
          <p:nvPr/>
        </p:nvGrpSpPr>
        <p:grpSpPr>
          <a:xfrm>
            <a:off x="4371840" y="2647800"/>
            <a:ext cx="421920" cy="317520"/>
            <a:chOff x="4371840" y="2647800"/>
            <a:chExt cx="421920" cy="317520"/>
          </a:xfrm>
        </p:grpSpPr>
        <p:sp>
          <p:nvSpPr>
            <p:cNvPr id="731" name=""/>
            <p:cNvSpPr/>
            <p:nvPr/>
          </p:nvSpPr>
          <p:spPr>
            <a:xfrm>
              <a:off x="4371840" y="26478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83520" y="264780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417920" y="5438880"/>
            <a:ext cx="411120" cy="4204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375080" y="3519360"/>
            <a:ext cx="391680" cy="438120"/>
            <a:chOff x="4375080" y="3519360"/>
            <a:chExt cx="391680" cy="438120"/>
          </a:xfrm>
        </p:grpSpPr>
        <p:sp>
          <p:nvSpPr>
            <p:cNvPr id="735" name=""/>
            <p:cNvSpPr/>
            <p:nvPr/>
          </p:nvSpPr>
          <p:spPr>
            <a:xfrm>
              <a:off x="4375080" y="3557880"/>
              <a:ext cx="145440" cy="3992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69040" y="35193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1360" y="363564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16120" y="355788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4340160" y="4491000"/>
            <a:ext cx="498600" cy="498600"/>
            <a:chOff x="4340160" y="4491000"/>
            <a:chExt cx="498600" cy="498600"/>
          </a:xfrm>
        </p:grpSpPr>
        <p:sp>
          <p:nvSpPr>
            <p:cNvPr id="740" name=""/>
            <p:cNvSpPr/>
            <p:nvPr/>
          </p:nvSpPr>
          <p:spPr>
            <a:xfrm>
              <a:off x="4340160" y="4491000"/>
              <a:ext cx="498600" cy="4986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66520" y="4648320"/>
              <a:ext cx="246960" cy="2307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959120" y="144792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9720a0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3"/>
          <p:cNvGrpSpPr/>
          <p:nvPr/>
        </p:nvGrpSpPr>
        <p:grpSpPr>
          <a:xfrm>
            <a:off x="2971800" y="1839960"/>
            <a:ext cx="2101320" cy="1937880"/>
            <a:chOff x="2971800" y="1839960"/>
            <a:chExt cx="2101320" cy="1937880"/>
          </a:xfrm>
        </p:grpSpPr>
        <p:sp>
          <p:nvSpPr>
            <p:cNvPr id="745" name="Freeform 64"/>
            <p:cNvSpPr/>
            <p:nvPr/>
          </p:nvSpPr>
          <p:spPr>
            <a:xfrm>
              <a:off x="3201840" y="3247200"/>
              <a:ext cx="866520" cy="425880"/>
            </a:xfrm>
            <a:prstGeom prst="pie">
              <a:avLst/>
            </a:prstGeom>
            <a:gradFill rotWithShape="0">
              <a:gsLst>
                <a:gs pos="0">
                  <a:srgbClr val="93a719">
                    <a:alpha val="0"/>
                  </a:srgbClr>
                </a:gs>
                <a:gs pos="100000">
                  <a:srgbClr val="c7d1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2971800" y="2135520"/>
              <a:ext cx="579240" cy="1537560"/>
            </a:xfrm>
            <a:prstGeom prst="pie">
              <a:avLst/>
            </a:prstGeom>
            <a:gradFill rotWithShape="0">
              <a:gsLst>
                <a:gs pos="0">
                  <a:srgbClr val="93a719"/>
                </a:gs>
                <a:gs pos="100000">
                  <a:srgbClr val="c7d1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3755160" y="3273120"/>
              <a:ext cx="1072800" cy="504720"/>
            </a:xfrm>
            <a:prstGeom prst="pie">
              <a:avLst/>
            </a:prstGeom>
            <a:gradFill rotWithShape="0">
              <a:gsLst>
                <a:gs pos="0">
                  <a:srgbClr val="93a719">
                    <a:alpha val="0"/>
                  </a:srgbClr>
                </a:gs>
                <a:gs pos="100000">
                  <a:srgbClr val="c7d1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4467960" y="3333240"/>
              <a:ext cx="605160" cy="275760"/>
            </a:xfrm>
            <a:prstGeom prst="pie">
              <a:avLst/>
            </a:prstGeom>
            <a:gradFill rotWithShape="0">
              <a:gsLst>
                <a:gs pos="0">
                  <a:srgbClr val="93a719">
                    <a:alpha val="0"/>
                  </a:srgbClr>
                </a:gs>
                <a:gs pos="100000">
                  <a:srgbClr val="c7d1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4254480" y="2062440"/>
              <a:ext cx="580680" cy="1537560"/>
            </a:xfrm>
            <a:prstGeom prst="pie">
              <a:avLst/>
            </a:prstGeom>
            <a:gradFill rotWithShape="0">
              <a:gsLst>
                <a:gs pos="0">
                  <a:srgbClr val="93a719"/>
                </a:gs>
                <a:gs pos="100000">
                  <a:srgbClr val="c7d1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3463920" y="1839960"/>
              <a:ext cx="729360" cy="1936440"/>
            </a:xfrm>
            <a:prstGeom prst="pie">
              <a:avLst/>
            </a:prstGeom>
            <a:gradFill rotWithShape="0">
              <a:gsLst>
                <a:gs pos="0">
                  <a:srgbClr val="93a719"/>
                </a:gs>
                <a:gs pos="100000">
                  <a:srgbClr val="c7d1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2" name="Line 38"/>
          <p:cNvSpPr/>
          <p:nvPr/>
        </p:nvSpPr>
        <p:spPr>
          <a:xfrm>
            <a:off x="1724040" y="189216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39"/>
          <p:cNvSpPr/>
          <p:nvPr/>
        </p:nvSpPr>
        <p:spPr>
          <a:xfrm>
            <a:off x="1724040" y="5205240"/>
            <a:ext cx="33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1697040" y="52941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41"/>
          <p:cNvSpPr/>
          <p:nvPr/>
        </p:nvSpPr>
        <p:spPr>
          <a:xfrm>
            <a:off x="4492800" y="52941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Line 42"/>
          <p:cNvSpPr/>
          <p:nvPr/>
        </p:nvSpPr>
        <p:spPr>
          <a:xfrm>
            <a:off x="2265480" y="5423040"/>
            <a:ext cx="224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3"/>
          <p:cNvSpPr/>
          <p:nvPr/>
        </p:nvSpPr>
        <p:spPr>
          <a:xfrm>
            <a:off x="1600200" y="5683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44"/>
          <p:cNvSpPr/>
          <p:nvPr/>
        </p:nvSpPr>
        <p:spPr>
          <a:xfrm>
            <a:off x="696960" y="468144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45"/>
          <p:cNvSpPr/>
          <p:nvPr/>
        </p:nvSpPr>
        <p:spPr>
          <a:xfrm flipV="1">
            <a:off x="1185840" y="2558880"/>
            <a:ext cx="0" cy="210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46"/>
          <p:cNvSpPr/>
          <p:nvPr/>
        </p:nvSpPr>
        <p:spPr>
          <a:xfrm>
            <a:off x="660240" y="191124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47"/>
          <p:cNvSpPr/>
          <p:nvPr/>
        </p:nvSpPr>
        <p:spPr>
          <a:xfrm>
            <a:off x="762120" y="1339920"/>
            <a:ext cx="150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54"/>
          <p:cNvSpPr/>
          <p:nvPr/>
        </p:nvSpPr>
        <p:spPr>
          <a:xfrm>
            <a:off x="5943600" y="250524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55"/>
          <p:cNvSpPr/>
          <p:nvPr/>
        </p:nvSpPr>
        <p:spPr>
          <a:xfrm>
            <a:off x="5943600" y="35323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AutoShape 56"/>
          <p:cNvSpPr/>
          <p:nvPr/>
        </p:nvSpPr>
        <p:spPr>
          <a:xfrm>
            <a:off x="4983120" y="1720800"/>
            <a:ext cx="3475080" cy="457200"/>
          </a:xfrm>
          <a:prstGeom prst="roundRect">
            <a:avLst>
              <a:gd name="adj" fmla="val 50000"/>
            </a:avLst>
          </a:prstGeom>
          <a:solidFill>
            <a:srgbClr val="ce5f0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1"/>
          <p:cNvSpPr/>
          <p:nvPr/>
        </p:nvSpPr>
        <p:spPr>
          <a:xfrm>
            <a:off x="5943600" y="462924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Freeform 62"/>
          <p:cNvSpPr/>
          <p:nvPr/>
        </p:nvSpPr>
        <p:spPr>
          <a:xfrm>
            <a:off x="2052720" y="3592440"/>
            <a:ext cx="1861920" cy="1278000"/>
          </a:xfrm>
          <a:prstGeom prst="pie">
            <a:avLst/>
          </a:prstGeom>
          <a:gradFill rotWithShape="0">
            <a:gsLst>
              <a:gs pos="0">
                <a:srgbClr val="fefefe">
                  <a:alpha val="70196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7" name="Group 70"/>
          <p:cNvGrpSpPr/>
          <p:nvPr/>
        </p:nvGrpSpPr>
        <p:grpSpPr>
          <a:xfrm>
            <a:off x="2209680" y="3549600"/>
            <a:ext cx="837720" cy="1526400"/>
            <a:chOff x="2209680" y="3549600"/>
            <a:chExt cx="837720" cy="1526400"/>
          </a:xfrm>
        </p:grpSpPr>
        <p:sp>
          <p:nvSpPr>
            <p:cNvPr id="768" name="Freeform 71"/>
            <p:cNvSpPr/>
            <p:nvPr/>
          </p:nvSpPr>
          <p:spPr>
            <a:xfrm>
              <a:off x="2422080" y="4803120"/>
              <a:ext cx="625320" cy="27288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72"/>
            <p:cNvSpPr/>
            <p:nvPr/>
          </p:nvSpPr>
          <p:spPr>
            <a:xfrm>
              <a:off x="2209680" y="3549600"/>
              <a:ext cx="600120" cy="1523160"/>
            </a:xfrm>
            <a:prstGeom prst="pie">
              <a:avLst/>
            </a:prstGeom>
            <a:gradFill rotWithShape="0">
              <a:gsLst>
                <a:gs pos="0">
                  <a:srgbClr val="9720a0"/>
                </a:gs>
                <a:gs pos="100000">
                  <a:srgbClr val="d9b0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0" name="Group 73"/>
          <p:cNvGrpSpPr/>
          <p:nvPr/>
        </p:nvGrpSpPr>
        <p:grpSpPr>
          <a:xfrm>
            <a:off x="5200560" y="4605480"/>
            <a:ext cx="701280" cy="701280"/>
            <a:chOff x="5200560" y="4605480"/>
            <a:chExt cx="701280" cy="701280"/>
          </a:xfrm>
        </p:grpSpPr>
        <p:sp>
          <p:nvSpPr>
            <p:cNvPr id="771" name="Freeform 74"/>
            <p:cNvSpPr/>
            <p:nvPr/>
          </p:nvSpPr>
          <p:spPr>
            <a:xfrm>
              <a:off x="5200560" y="4605480"/>
              <a:ext cx="701280" cy="701280"/>
            </a:xfrm>
            <a:prstGeom prst="pie">
              <a:avLst/>
            </a:prstGeom>
            <a:solidFill>
              <a:srgbClr val="93a719"/>
            </a:solidFill>
            <a:ln w="0">
              <a:noFill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75"/>
            <p:cNvSpPr/>
            <p:nvPr/>
          </p:nvSpPr>
          <p:spPr>
            <a:xfrm>
              <a:off x="5378400" y="4826880"/>
              <a:ext cx="347400" cy="324720"/>
            </a:xfrm>
            <a:prstGeom prst="pie">
              <a:avLst/>
            </a:prstGeom>
            <a:solidFill>
              <a:srgbClr val="93a719"/>
            </a:solidFill>
            <a:ln w="0">
              <a:noFill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3" name="Group 76"/>
          <p:cNvGrpSpPr/>
          <p:nvPr/>
        </p:nvGrpSpPr>
        <p:grpSpPr>
          <a:xfrm>
            <a:off x="5181480" y="3541680"/>
            <a:ext cx="701280" cy="698040"/>
            <a:chOff x="5181480" y="3541680"/>
            <a:chExt cx="701280" cy="698040"/>
          </a:xfrm>
        </p:grpSpPr>
        <p:sp>
          <p:nvSpPr>
            <p:cNvPr id="774" name="Freeform 77"/>
            <p:cNvSpPr/>
            <p:nvPr/>
          </p:nvSpPr>
          <p:spPr>
            <a:xfrm>
              <a:off x="5181480" y="3541680"/>
              <a:ext cx="701280" cy="698040"/>
            </a:xfrm>
            <a:prstGeom prst="pi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78"/>
            <p:cNvSpPr/>
            <p:nvPr/>
          </p:nvSpPr>
          <p:spPr>
            <a:xfrm>
              <a:off x="5488560" y="3679560"/>
              <a:ext cx="240840" cy="390960"/>
            </a:xfrm>
            <a:prstGeom prst="pie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79"/>
            <p:cNvSpPr/>
            <p:nvPr/>
          </p:nvSpPr>
          <p:spPr>
            <a:xfrm>
              <a:off x="5286960" y="3789000"/>
              <a:ext cx="174240" cy="192960"/>
            </a:xfrm>
            <a:prstGeom prst="pie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Group 80"/>
          <p:cNvGrpSpPr/>
          <p:nvPr/>
        </p:nvGrpSpPr>
        <p:grpSpPr>
          <a:xfrm>
            <a:off x="5210280" y="2487600"/>
            <a:ext cx="698040" cy="697680"/>
            <a:chOff x="5210280" y="2487600"/>
            <a:chExt cx="698040" cy="697680"/>
          </a:xfrm>
        </p:grpSpPr>
        <p:sp>
          <p:nvSpPr>
            <p:cNvPr id="778" name="Freeform 81"/>
            <p:cNvSpPr/>
            <p:nvPr/>
          </p:nvSpPr>
          <p:spPr>
            <a:xfrm>
              <a:off x="5210280" y="2487600"/>
              <a:ext cx="698040" cy="34884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82"/>
            <p:cNvSpPr/>
            <p:nvPr/>
          </p:nvSpPr>
          <p:spPr>
            <a:xfrm>
              <a:off x="5296320" y="2603160"/>
              <a:ext cx="262800" cy="46656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83"/>
            <p:cNvSpPr/>
            <p:nvPr/>
          </p:nvSpPr>
          <p:spPr>
            <a:xfrm>
              <a:off x="5210280" y="2836440"/>
              <a:ext cx="698040" cy="34884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2" name=""/>
          <p:cNvSpPr/>
          <p:nvPr/>
        </p:nvSpPr>
        <p:spPr>
          <a:xfrm>
            <a:off x="912960" y="2971800"/>
            <a:ext cx="737388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cece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1549440"/>
            <a:ext cx="7823160" cy="692280"/>
          </a:xfrm>
          <a:prstGeom prst="roundRect">
            <a:avLst>
              <a:gd name="adj" fmla="val 50000"/>
            </a:avLst>
          </a:prstGeom>
          <a:solidFill>
            <a:srgbClr val="93a719"/>
          </a:solidFill>
          <a:ln w="28440">
            <a:solidFill>
              <a:srgbClr val="fefefe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31840" y="2460600"/>
            <a:ext cx="2208240" cy="1582920"/>
          </a:xfrm>
          <a:prstGeom prst="rect">
            <a:avLst/>
          </a:prstGeom>
          <a:solidFill>
            <a:srgbClr val="972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770440" y="2460600"/>
            <a:ext cx="2206800" cy="1582920"/>
          </a:xfrm>
          <a:prstGeom prst="rect">
            <a:avLst/>
          </a:prstGeom>
          <a:solidFill>
            <a:srgbClr val="bb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51320" y="2460600"/>
            <a:ext cx="2208240" cy="1582920"/>
          </a:xfrm>
          <a:prstGeom prst="rect">
            <a:avLst/>
          </a:pr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63600" y="2571840"/>
            <a:ext cx="1947960" cy="1368360"/>
          </a:xfrm>
          <a:prstGeom prst="bevel">
            <a:avLst>
              <a:gd name="adj" fmla="val 1648"/>
            </a:avLst>
          </a:prstGeom>
          <a:solidFill>
            <a:srgbClr val="972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573360" y="2563920"/>
            <a:ext cx="1967040" cy="1384200"/>
          </a:xfrm>
          <a:prstGeom prst="bevel">
            <a:avLst>
              <a:gd name="adj" fmla="val 1648"/>
            </a:avLst>
          </a:pr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02200" y="2571840"/>
            <a:ext cx="1947960" cy="1368360"/>
          </a:xfrm>
          <a:prstGeom prst="bevel">
            <a:avLst>
              <a:gd name="adj" fmla="val 1648"/>
            </a:avLst>
          </a:prstGeom>
          <a:solidFill>
            <a:srgbClr val="bb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3568680" y="4518000"/>
            <a:ext cx="2020680" cy="2058480"/>
            <a:chOff x="3568680" y="4518000"/>
            <a:chExt cx="2020680" cy="2058480"/>
          </a:xfrm>
        </p:grpSpPr>
        <p:pic>
          <p:nvPicPr>
            <p:cNvPr id="791" name="" descr=""/>
            <p:cNvPicPr/>
            <p:nvPr/>
          </p:nvPicPr>
          <p:blipFill>
            <a:blip r:embed="rId1"/>
            <a:stretch/>
          </p:blipFill>
          <p:spPr>
            <a:xfrm>
              <a:off x="3568680" y="4518000"/>
              <a:ext cx="2020680" cy="19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568680" y="4518000"/>
              <a:ext cx="2007360" cy="195876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77120" y="4557240"/>
              <a:ext cx="1576800" cy="6796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3712320" y="5870880"/>
              <a:ext cx="1771200" cy="705600"/>
              <a:chOff x="3712320" y="5870880"/>
              <a:chExt cx="1771200" cy="7056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4021560" y="5870880"/>
                <a:ext cx="1461960" cy="662040"/>
                <a:chOff x="4021560" y="5870880"/>
                <a:chExt cx="1461960" cy="662040"/>
              </a:xfrm>
            </p:grpSpPr>
            <p:sp>
              <p:nvSpPr>
                <p:cNvPr id="796" name=""/>
                <p:cNvSpPr/>
                <p:nvPr/>
              </p:nvSpPr>
              <p:spPr>
                <a:xfrm flipH="1" flipV="1" rot="3964800">
                  <a:off x="4818960" y="5669640"/>
                  <a:ext cx="253440" cy="106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 rot="4780200">
                  <a:off x="4655160" y="5734440"/>
                  <a:ext cx="253440" cy="106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flipV="1" rot="5076000">
                  <a:off x="4554360" y="5748480"/>
                  <a:ext cx="253440" cy="106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flipV="1" rot="5608200">
                  <a:off x="4432320" y="5761440"/>
                  <a:ext cx="253440" cy="106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712320" y="5881320"/>
                <a:ext cx="1460880" cy="695160"/>
                <a:chOff x="3712320" y="5881320"/>
                <a:chExt cx="1460880" cy="695160"/>
              </a:xfrm>
            </p:grpSpPr>
            <p:sp>
              <p:nvSpPr>
                <p:cNvPr id="801" name=""/>
                <p:cNvSpPr/>
                <p:nvPr/>
              </p:nvSpPr>
              <p:spPr>
                <a:xfrm flipH="1" flipV="1" rot="5317800">
                  <a:off x="4510440" y="5760720"/>
                  <a:ext cx="254520" cy="106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flipV="1" rot="6133800">
                  <a:off x="4334040" y="5758200"/>
                  <a:ext cx="254520" cy="106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flipV="1" rot="6429000">
                  <a:off x="4235040" y="5730840"/>
                  <a:ext cx="254520" cy="106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flipV="1" rot="6961200">
                  <a:off x="4118760" y="5696640"/>
                  <a:ext cx="254520" cy="106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5" name=""/>
          <p:cNvSpPr/>
          <p:nvPr/>
        </p:nvSpPr>
        <p:spPr>
          <a:xfrm>
            <a:off x="1058760" y="158436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Please write down about details of  introducing your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(Vision, duties, and customer service of compan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50800" y="2679840"/>
            <a:ext cx="15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Add your vision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760920" y="2679840"/>
            <a:ext cx="15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Add your vision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99120" y="2679840"/>
            <a:ext cx="15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Add your vision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738600" y="5153040"/>
            <a:ext cx="16700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Compa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1" name="AutoShape 2"/>
          <p:cNvSpPr/>
          <p:nvPr/>
        </p:nvSpPr>
        <p:spPr>
          <a:xfrm>
            <a:off x="631800" y="2892600"/>
            <a:ext cx="2770200" cy="336240"/>
          </a:xfrm>
          <a:prstGeom prst="roundRect">
            <a:avLst>
              <a:gd name="adj" fmla="val 50000"/>
            </a:avLst>
          </a:prstGeom>
          <a:solidFill>
            <a:srgbClr val="93a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3529080" y="2363760"/>
            <a:ext cx="2095560" cy="2681280"/>
            <a:chOff x="3529080" y="2363760"/>
            <a:chExt cx="2095560" cy="2681280"/>
          </a:xfrm>
        </p:grpSpPr>
        <p:sp>
          <p:nvSpPr>
            <p:cNvPr id="813" name="Freeform 5"/>
            <p:cNvSpPr/>
            <p:nvPr/>
          </p:nvSpPr>
          <p:spPr>
            <a:xfrm>
              <a:off x="3529080" y="2778120"/>
              <a:ext cx="1038240" cy="2266920"/>
            </a:xfrm>
            <a:prstGeom prst="pie">
              <a:avLst/>
            </a:pr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4559400" y="2786040"/>
              <a:ext cx="1065240" cy="2257560"/>
            </a:xfrm>
            <a:prstGeom prst="pie">
              <a:avLst/>
            </a:pr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530520" y="2363760"/>
              <a:ext cx="2070360" cy="598320"/>
            </a:xfrm>
            <a:prstGeom prst="pie">
              <a:avLst/>
            </a:pr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3711600" y="2608200"/>
              <a:ext cx="839880" cy="1798560"/>
            </a:xfrm>
            <a:prstGeom prst="pie">
              <a:avLst/>
            </a:pr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4545000" y="2610000"/>
              <a:ext cx="838440" cy="1782720"/>
            </a:xfrm>
            <a:prstGeom prst="pie">
              <a:avLst/>
            </a:pr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706920" y="4005360"/>
              <a:ext cx="1684440" cy="744480"/>
            </a:xfrm>
            <a:prstGeom prst="pie">
              <a:avLst/>
            </a:pr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Line 11"/>
          <p:cNvSpPr/>
          <p:nvPr/>
        </p:nvSpPr>
        <p:spPr>
          <a:xfrm flipV="1">
            <a:off x="2124000" y="4543560"/>
            <a:ext cx="1422360" cy="13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Line 12"/>
          <p:cNvSpPr/>
          <p:nvPr/>
        </p:nvSpPr>
        <p:spPr>
          <a:xfrm flipH="1" flipV="1">
            <a:off x="5625720" y="4546080"/>
            <a:ext cx="1422360" cy="138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Line 13"/>
          <p:cNvSpPr/>
          <p:nvPr/>
        </p:nvSpPr>
        <p:spPr>
          <a:xfrm flipV="1">
            <a:off x="5599080" y="1395360"/>
            <a:ext cx="1422360" cy="13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14"/>
          <p:cNvSpPr/>
          <p:nvPr/>
        </p:nvSpPr>
        <p:spPr>
          <a:xfrm flipH="1" flipV="1">
            <a:off x="2112480" y="1389240"/>
            <a:ext cx="1422360" cy="13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3" name="Picture 15" descr="light_shadow"/>
          <p:cNvPicPr/>
          <p:nvPr/>
        </p:nvPicPr>
        <p:blipFill>
          <a:blip r:embed="rId1"/>
          <a:stretch/>
        </p:blipFill>
        <p:spPr>
          <a:xfrm>
            <a:off x="3932280" y="4264200"/>
            <a:ext cx="1216080" cy="347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6" descr="circuler_1"/>
          <p:cNvPicPr/>
          <p:nvPr/>
        </p:nvPicPr>
        <p:blipFill>
          <a:blip r:embed="rId2"/>
          <a:stretch/>
        </p:blipFill>
        <p:spPr>
          <a:xfrm>
            <a:off x="3790800" y="3005280"/>
            <a:ext cx="14796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825" name="Oval 17"/>
          <p:cNvGrpSpPr/>
          <p:nvPr/>
        </p:nvGrpSpPr>
        <p:grpSpPr>
          <a:xfrm>
            <a:off x="3782880" y="2997360"/>
            <a:ext cx="1481040" cy="1498320"/>
            <a:chOff x="3782880" y="2997360"/>
            <a:chExt cx="1481040" cy="1498320"/>
          </a:xfrm>
        </p:grpSpPr>
        <p:pic>
          <p:nvPicPr>
            <p:cNvPr id="826" name="Oval 17" descr=""/>
            <p:cNvPicPr/>
            <p:nvPr/>
          </p:nvPicPr>
          <p:blipFill>
            <a:blip r:embed="rId3"/>
            <a:stretch/>
          </p:blipFill>
          <p:spPr>
            <a:xfrm>
              <a:off x="3782880" y="2997360"/>
              <a:ext cx="148104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4005000" y="3222360"/>
              <a:ext cx="1040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8" name="Freeform 18"/>
          <p:cNvSpPr/>
          <p:nvPr/>
        </p:nvSpPr>
        <p:spPr>
          <a:xfrm>
            <a:off x="3943440" y="3035160"/>
            <a:ext cx="115416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71b9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698400" y="2914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20"/>
          <p:cNvSpPr/>
          <p:nvPr/>
        </p:nvSpPr>
        <p:spPr>
          <a:xfrm>
            <a:off x="5856120" y="2830680"/>
            <a:ext cx="2770200" cy="336240"/>
          </a:xfrm>
          <a:prstGeom prst="roundRect">
            <a:avLst>
              <a:gd name="adj" fmla="val 50000"/>
            </a:avLst>
          </a:pr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21"/>
          <p:cNvSpPr/>
          <p:nvPr/>
        </p:nvSpPr>
        <p:spPr>
          <a:xfrm>
            <a:off x="5923080" y="28526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22"/>
          <p:cNvSpPr/>
          <p:nvPr/>
        </p:nvSpPr>
        <p:spPr>
          <a:xfrm>
            <a:off x="2776680" y="1433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23"/>
          <p:cNvSpPr/>
          <p:nvPr/>
        </p:nvSpPr>
        <p:spPr>
          <a:xfrm>
            <a:off x="380880" y="338760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24"/>
          <p:cNvSpPr/>
          <p:nvPr/>
        </p:nvSpPr>
        <p:spPr>
          <a:xfrm>
            <a:off x="5659560" y="332568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25"/>
          <p:cNvSpPr/>
          <p:nvPr/>
        </p:nvSpPr>
        <p:spPr>
          <a:xfrm>
            <a:off x="2805120" y="521352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29"/>
          <p:cNvSpPr/>
          <p:nvPr/>
        </p:nvSpPr>
        <p:spPr>
          <a:xfrm>
            <a:off x="4195800" y="3591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8" name=""/>
          <p:cNvSpPr/>
          <p:nvPr/>
        </p:nvSpPr>
        <p:spPr>
          <a:xfrm>
            <a:off x="5873760" y="2149560"/>
            <a:ext cx="2247840" cy="3349440"/>
          </a:xfrm>
          <a:custGeom>
            <a:avLst/>
            <a:gdLst>
              <a:gd name="textAreaLeft" fmla="*/ 14760 w 2247840"/>
              <a:gd name="textAreaRight" fmla="*/ 2233080 w 2247840"/>
              <a:gd name="textAreaTop" fmla="*/ 14760 h 3349440"/>
              <a:gd name="textAreaBottom" fmla="*/ 3334680 h 3349440"/>
            </a:gdLst>
            <a:ahLst/>
            <a:rect l="textAreaLeft" t="textAreaTop" r="textAreaRight" b="textAreaBottom"/>
            <a:pathLst>
              <a:path w="21600" h="32184">
                <a:moveTo>
                  <a:pt x="488" y="0"/>
                </a:moveTo>
                <a:arcTo wR="488" hR="488" stAng="16200000" swAng="-5400000"/>
                <a:lnTo>
                  <a:pt x="0" y="31696"/>
                </a:lnTo>
                <a:arcTo wR="488" hR="488" stAng="10800000" swAng="-5400000"/>
                <a:lnTo>
                  <a:pt x="21112" y="32184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c6c6c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066680" y="2149560"/>
            <a:ext cx="2241720" cy="3349440"/>
          </a:xfrm>
          <a:custGeom>
            <a:avLst/>
            <a:gdLst>
              <a:gd name="textAreaLeft" fmla="*/ 14760 w 2241720"/>
              <a:gd name="textAreaRight" fmla="*/ 2226960 w 2241720"/>
              <a:gd name="textAreaTop" fmla="*/ 14760 h 3349440"/>
              <a:gd name="textAreaBottom" fmla="*/ 3334680 h 3349440"/>
            </a:gdLst>
            <a:ahLst/>
            <a:rect l="textAreaLeft" t="textAreaTop" r="textAreaRight" b="textAreaBottom"/>
            <a:pathLst>
              <a:path w="21600" h="32272">
                <a:moveTo>
                  <a:pt x="488" y="0"/>
                </a:moveTo>
                <a:arcTo wR="488" hR="488" stAng="16200000" swAng="-5400000"/>
                <a:lnTo>
                  <a:pt x="0" y="31784"/>
                </a:lnTo>
                <a:arcTo wR="488" hR="488" stAng="10800000" swAng="-5400000"/>
                <a:lnTo>
                  <a:pt x="21112" y="32272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c6c6c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7440" y="1235160"/>
            <a:ext cx="6172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09520" y="2200320"/>
            <a:ext cx="2157480" cy="382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e2b05"/>
              </a:gs>
              <a:gs pos="100000">
                <a:srgbClr val="ce5f0c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135080" y="21844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13360" y="2200320"/>
            <a:ext cx="2171880" cy="382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4156a"/>
              </a:gs>
              <a:gs pos="100000">
                <a:srgbClr val="9720a0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148440" y="21844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23920" y="2743200"/>
            <a:ext cx="215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979960" y="2743200"/>
            <a:ext cx="215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463920" y="2149560"/>
            <a:ext cx="2241720" cy="3349440"/>
          </a:xfrm>
          <a:custGeom>
            <a:avLst/>
            <a:gdLst>
              <a:gd name="textAreaLeft" fmla="*/ 14760 w 2241720"/>
              <a:gd name="textAreaRight" fmla="*/ 2226960 w 2241720"/>
              <a:gd name="textAreaTop" fmla="*/ 14760 h 3349440"/>
              <a:gd name="textAreaBottom" fmla="*/ 3334680 h 3349440"/>
            </a:gdLst>
            <a:ahLst/>
            <a:rect l="textAreaLeft" t="textAreaTop" r="textAreaRight" b="textAreaBottom"/>
            <a:pathLst>
              <a:path w="21600" h="32272">
                <a:moveTo>
                  <a:pt x="488" y="0"/>
                </a:moveTo>
                <a:arcTo wR="488" hR="488" stAng="16200000" swAng="-5400000"/>
                <a:lnTo>
                  <a:pt x="0" y="31784"/>
                </a:lnTo>
                <a:arcTo wR="488" hR="488" stAng="10800000" swAng="-5400000"/>
                <a:lnTo>
                  <a:pt x="21112" y="32272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c6c6c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508200" y="2200320"/>
            <a:ext cx="2157480" cy="382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4c0b"/>
              </a:gs>
              <a:gs pos="100000">
                <a:srgbClr val="93a719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732120" y="218448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522600" y="2743200"/>
            <a:ext cx="215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366920" y="4057560"/>
            <a:ext cx="1798200" cy="1916280"/>
            <a:chOff x="1366920" y="4057560"/>
            <a:chExt cx="1798200" cy="1916280"/>
          </a:xfrm>
        </p:grpSpPr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1490760" y="5580000"/>
              <a:ext cx="144792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3" name=""/>
            <p:cNvGrpSpPr/>
            <p:nvPr/>
          </p:nvGrpSpPr>
          <p:grpSpPr>
            <a:xfrm>
              <a:off x="1366920" y="4057560"/>
              <a:ext cx="1798200" cy="1862640"/>
              <a:chOff x="1366920" y="4057560"/>
              <a:chExt cx="1798200" cy="1862640"/>
            </a:xfrm>
          </p:grpSpPr>
          <p:pic>
            <p:nvPicPr>
              <p:cNvPr id="8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81320" y="4125960"/>
                <a:ext cx="1717920" cy="170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>
                <a:off x="1381320" y="4125960"/>
                <a:ext cx="1729800" cy="1711800"/>
              </a:xfrm>
              <a:prstGeom prst="ellipse">
                <a:avLst/>
              </a:prstGeom>
              <a:solidFill>
                <a:srgbClr val="ce5f0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56" name="" descr=""/>
              <p:cNvPicPr/>
              <p:nvPr/>
            </p:nvPicPr>
            <p:blipFill>
              <a:blip r:embed="rId3"/>
              <a:srcRect l="0" t="14289" r="0" b="0"/>
              <a:stretch/>
            </p:blipFill>
            <p:spPr>
              <a:xfrm>
                <a:off x="1366920" y="4057560"/>
                <a:ext cx="1266120" cy="106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7" name=""/>
              <p:cNvGrpSpPr/>
              <p:nvPr/>
            </p:nvGrpSpPr>
            <p:grpSpPr>
              <a:xfrm>
                <a:off x="1949760" y="4813560"/>
                <a:ext cx="1215360" cy="1106640"/>
                <a:chOff x="1949760" y="4813560"/>
                <a:chExt cx="1215360" cy="11066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2229840" y="4813560"/>
                  <a:ext cx="935280" cy="1096560"/>
                  <a:chOff x="2229840" y="4813560"/>
                  <a:chExt cx="935280" cy="10965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flipH="1" flipV="1" rot="1528800">
                    <a:off x="2749320" y="4817520"/>
                    <a:ext cx="22464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 flipV="1" rot="2344200">
                    <a:off x="2679120" y="4951080"/>
                    <a:ext cx="22428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 flipV="1" rot="2640000">
                    <a:off x="2620440" y="5015520"/>
                    <a:ext cx="22464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flipV="1" rot="3172200">
                    <a:off x="2547720" y="5090760"/>
                    <a:ext cx="22464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1949760" y="5113080"/>
                  <a:ext cx="1174320" cy="807120"/>
                  <a:chOff x="1949760" y="5113080"/>
                  <a:chExt cx="1174320" cy="80712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H="1" flipV="1" rot="2881800">
                    <a:off x="2597400" y="5046120"/>
                    <a:ext cx="22572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flipV="1" rot="3697200">
                    <a:off x="2480400" y="514296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 flipV="1" rot="3993000">
                    <a:off x="2401560" y="518076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 flipV="1" rot="4525200">
                    <a:off x="2305080" y="522180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68" name=""/>
            <p:cNvSpPr/>
            <p:nvPr/>
          </p:nvSpPr>
          <p:spPr>
            <a:xfrm>
              <a:off x="1528920" y="4724280"/>
              <a:ext cx="136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732120" y="4057560"/>
            <a:ext cx="1798200" cy="1916280"/>
            <a:chOff x="3732120" y="4057560"/>
            <a:chExt cx="1798200" cy="1916280"/>
          </a:xfrm>
        </p:grpSpPr>
        <p:pic>
          <p:nvPicPr>
            <p:cNvPr id="870" name="" descr=""/>
            <p:cNvPicPr/>
            <p:nvPr/>
          </p:nvPicPr>
          <p:blipFill>
            <a:blip r:embed="rId4"/>
            <a:stretch/>
          </p:blipFill>
          <p:spPr>
            <a:xfrm>
              <a:off x="3887640" y="5580000"/>
              <a:ext cx="144936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1" name=""/>
            <p:cNvGrpSpPr/>
            <p:nvPr/>
          </p:nvGrpSpPr>
          <p:grpSpPr>
            <a:xfrm>
              <a:off x="3732120" y="4057560"/>
              <a:ext cx="1798200" cy="1862640"/>
              <a:chOff x="3732120" y="4057560"/>
              <a:chExt cx="1798200" cy="1862640"/>
            </a:xfrm>
          </p:grpSpPr>
          <p:pic>
            <p:nvPicPr>
              <p:cNvPr id="87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46520" y="4125960"/>
                <a:ext cx="1717920" cy="170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3" name=""/>
              <p:cNvSpPr/>
              <p:nvPr/>
            </p:nvSpPr>
            <p:spPr>
              <a:xfrm>
                <a:off x="3746520" y="4125960"/>
                <a:ext cx="1729800" cy="1711800"/>
              </a:xfrm>
              <a:prstGeom prst="ellipse">
                <a:avLst/>
              </a:prstGeom>
              <a:solidFill>
                <a:srgbClr val="93a7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74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732120" y="4057560"/>
                <a:ext cx="1266120" cy="106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5" name=""/>
              <p:cNvGrpSpPr/>
              <p:nvPr/>
            </p:nvGrpSpPr>
            <p:grpSpPr>
              <a:xfrm>
                <a:off x="4314960" y="4813560"/>
                <a:ext cx="1215360" cy="1106640"/>
                <a:chOff x="4314960" y="4813560"/>
                <a:chExt cx="1215360" cy="1106640"/>
              </a:xfrm>
            </p:grpSpPr>
            <p:grpSp>
              <p:nvGrpSpPr>
                <p:cNvPr id="876" name=""/>
                <p:cNvGrpSpPr/>
                <p:nvPr/>
              </p:nvGrpSpPr>
              <p:grpSpPr>
                <a:xfrm>
                  <a:off x="4595040" y="4813560"/>
                  <a:ext cx="935280" cy="1096560"/>
                  <a:chOff x="4595040" y="4813560"/>
                  <a:chExt cx="935280" cy="109656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 flipH="1" flipV="1" rot="1528800">
                    <a:off x="5114520" y="4817520"/>
                    <a:ext cx="22464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H="1" flipV="1" rot="2344200">
                    <a:off x="5044320" y="4951080"/>
                    <a:ext cx="22428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 flipV="1" rot="2640000">
                    <a:off x="4985640" y="5015520"/>
                    <a:ext cx="22464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 rot="3172200">
                    <a:off x="4912920" y="5090760"/>
                    <a:ext cx="22464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"/>
                <p:cNvGrpSpPr/>
                <p:nvPr/>
              </p:nvGrpSpPr>
              <p:grpSpPr>
                <a:xfrm>
                  <a:off x="4314960" y="5113080"/>
                  <a:ext cx="1174320" cy="807120"/>
                  <a:chOff x="4314960" y="5113080"/>
                  <a:chExt cx="1174320" cy="8071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 flipH="1" flipV="1" rot="2881800">
                    <a:off x="4962600" y="5046120"/>
                    <a:ext cx="22572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flipV="1" rot="3697200">
                    <a:off x="4845600" y="514296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 flipV="1" rot="3993000">
                    <a:off x="4766760" y="518076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flipV="1" rot="4525200">
                    <a:off x="4670280" y="522180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86" name=""/>
            <p:cNvSpPr/>
            <p:nvPr/>
          </p:nvSpPr>
          <p:spPr>
            <a:xfrm>
              <a:off x="3941640" y="4709880"/>
              <a:ext cx="136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207120" y="4057560"/>
            <a:ext cx="1798200" cy="1914480"/>
            <a:chOff x="6207120" y="4057560"/>
            <a:chExt cx="1798200" cy="1914480"/>
          </a:xfrm>
        </p:grpSpPr>
        <p:pic>
          <p:nvPicPr>
            <p:cNvPr id="888" name="" descr=""/>
            <p:cNvPicPr/>
            <p:nvPr/>
          </p:nvPicPr>
          <p:blipFill>
            <a:blip r:embed="rId7"/>
            <a:stretch/>
          </p:blipFill>
          <p:spPr>
            <a:xfrm>
              <a:off x="6377040" y="5589360"/>
              <a:ext cx="1341360" cy="38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9" name=""/>
            <p:cNvGrpSpPr/>
            <p:nvPr/>
          </p:nvGrpSpPr>
          <p:grpSpPr>
            <a:xfrm>
              <a:off x="6207120" y="4057560"/>
              <a:ext cx="1798200" cy="1862640"/>
              <a:chOff x="6207120" y="4057560"/>
              <a:chExt cx="1798200" cy="1862640"/>
            </a:xfrm>
          </p:grpSpPr>
          <p:pic>
            <p:nvPicPr>
              <p:cNvPr id="89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1520" y="4125960"/>
                <a:ext cx="1717920" cy="170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"/>
              <p:cNvSpPr/>
              <p:nvPr/>
            </p:nvSpPr>
            <p:spPr>
              <a:xfrm>
                <a:off x="6221520" y="4125960"/>
                <a:ext cx="1729800" cy="1711800"/>
              </a:xfrm>
              <a:prstGeom prst="ellipse">
                <a:avLst/>
              </a:prstGeom>
              <a:solidFill>
                <a:srgbClr val="9720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92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207120" y="4057560"/>
                <a:ext cx="1266120" cy="106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3" name=""/>
              <p:cNvGrpSpPr/>
              <p:nvPr/>
            </p:nvGrpSpPr>
            <p:grpSpPr>
              <a:xfrm>
                <a:off x="6789960" y="4813560"/>
                <a:ext cx="1215360" cy="1106640"/>
                <a:chOff x="6789960" y="4813560"/>
                <a:chExt cx="1215360" cy="110664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7070040" y="4813560"/>
                  <a:ext cx="935280" cy="1096560"/>
                  <a:chOff x="7070040" y="4813560"/>
                  <a:chExt cx="935280" cy="109656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 flipH="1" flipV="1" rot="1528800">
                    <a:off x="7589520" y="4817520"/>
                    <a:ext cx="22464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H="1" flipV="1" rot="2344200">
                    <a:off x="7519320" y="4951080"/>
                    <a:ext cx="22428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 flipV="1" rot="2640000">
                    <a:off x="7460640" y="5015520"/>
                    <a:ext cx="22464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 flipV="1" rot="3172200">
                    <a:off x="7387920" y="5090760"/>
                    <a:ext cx="22464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6789960" y="5113080"/>
                  <a:ext cx="1174320" cy="807120"/>
                  <a:chOff x="6789960" y="5113080"/>
                  <a:chExt cx="1174320" cy="80712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flipH="1" flipV="1" rot="2881800">
                    <a:off x="7437600" y="5046120"/>
                    <a:ext cx="22572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 flipV="1" rot="3697200">
                    <a:off x="7320600" y="514296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 flipV="1" rot="3993000">
                    <a:off x="7241760" y="518076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flipV="1" rot="4525200">
                    <a:off x="7145280" y="5221800"/>
                    <a:ext cx="225720" cy="90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04" name=""/>
            <p:cNvSpPr/>
            <p:nvPr/>
          </p:nvSpPr>
          <p:spPr>
            <a:xfrm>
              <a:off x="6384960" y="4709880"/>
              <a:ext cx="136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2362320" y="2517840"/>
            <a:ext cx="3961440" cy="3729960"/>
            <a:chOff x="2362320" y="2517840"/>
            <a:chExt cx="3961440" cy="3729960"/>
          </a:xfrm>
        </p:grpSpPr>
        <p:sp>
          <p:nvSpPr>
            <p:cNvPr id="907" name=""/>
            <p:cNvSpPr/>
            <p:nvPr/>
          </p:nvSpPr>
          <p:spPr>
            <a:xfrm>
              <a:off x="2362320" y="253044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e5f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36560" y="251784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5f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99680" y="441720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e5f0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2803680" y="2819520"/>
            <a:ext cx="3202920" cy="3015360"/>
            <a:chOff x="2803680" y="2819520"/>
            <a:chExt cx="3202920" cy="3015360"/>
          </a:xfrm>
        </p:grpSpPr>
        <p:sp>
          <p:nvSpPr>
            <p:cNvPr id="911" name=""/>
            <p:cNvSpPr/>
            <p:nvPr/>
          </p:nvSpPr>
          <p:spPr>
            <a:xfrm>
              <a:off x="2803680" y="2829600"/>
              <a:ext cx="194436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b9c6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99920" y="281952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b2c05e"/>
                </a:gs>
                <a:gs pos="100000">
                  <a:srgbClr val="93a7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80480" y="4354920"/>
              <a:ext cx="2520720" cy="1479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6e7d12"/>
                </a:gs>
                <a:gs pos="100000">
                  <a:srgbClr val="93a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1812960" y="1461960"/>
            <a:ext cx="609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722040" y="3962520"/>
            <a:ext cx="2008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5595120" y="2759040"/>
            <a:ext cx="398520" cy="406440"/>
            <a:chOff x="5595120" y="2759040"/>
            <a:chExt cx="398520" cy="406440"/>
          </a:xfrm>
        </p:grpSpPr>
        <p:pic>
          <p:nvPicPr>
            <p:cNvPr id="917" name="" descr=""/>
            <p:cNvPicPr/>
            <p:nvPr/>
          </p:nvPicPr>
          <p:blipFill>
            <a:blip r:embed="rId1"/>
            <a:stretch/>
          </p:blipFill>
          <p:spPr>
            <a:xfrm rot="4977000">
              <a:off x="5654160" y="28227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4977000">
              <a:off x="5654880" y="28220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5644800" y="2851920"/>
              <a:ext cx="108000" cy="241560"/>
              <a:chOff x="5644800" y="2851920"/>
              <a:chExt cx="108000" cy="241560"/>
            </a:xfrm>
          </p:grpSpPr>
          <p:grpSp>
            <p:nvGrpSpPr>
              <p:cNvPr id="920" name=""/>
              <p:cNvGrpSpPr/>
              <p:nvPr/>
            </p:nvGrpSpPr>
            <p:grpSpPr>
              <a:xfrm>
                <a:off x="5647320" y="2896560"/>
                <a:ext cx="105480" cy="196920"/>
                <a:chOff x="5647320" y="2896560"/>
                <a:chExt cx="105480" cy="196920"/>
              </a:xfrm>
            </p:grpSpPr>
            <p:sp>
              <p:nvSpPr>
                <p:cNvPr id="921" name=""/>
                <p:cNvSpPr/>
                <p:nvPr/>
              </p:nvSpPr>
              <p:spPr>
                <a:xfrm flipH="1" flipV="1" rot="8941800">
                  <a:off x="5681520" y="29480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flipV="1" rot="9757200">
                  <a:off x="5670720" y="2927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flipV="1" rot="10053000">
                  <a:off x="5667840" y="29131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flipV="1" rot="10585200">
                  <a:off x="5664240" y="28969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5644800" y="2851920"/>
                <a:ext cx="82080" cy="203040"/>
                <a:chOff x="5644800" y="2851920"/>
                <a:chExt cx="82080" cy="203040"/>
              </a:xfrm>
            </p:grpSpPr>
            <p:sp>
              <p:nvSpPr>
                <p:cNvPr id="926" name=""/>
                <p:cNvSpPr/>
                <p:nvPr/>
              </p:nvSpPr>
              <p:spPr>
                <a:xfrm flipH="1" flipV="1" rot="10294800">
                  <a:off x="5665320" y="29073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 flipV="1" rot="11110200">
                  <a:off x="5663160" y="2883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flipV="1" rot="11406000">
                  <a:off x="5663880" y="28695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flipV="1" rot="11938200">
                  <a:off x="5667480" y="28537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"/>
            <p:cNvSpPr/>
            <p:nvPr/>
          </p:nvSpPr>
          <p:spPr>
            <a:xfrm flipH="1" rot="1129200">
              <a:off x="5638320" y="28004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1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5730120" y="28371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2" name=""/>
          <p:cNvGrpSpPr/>
          <p:nvPr/>
        </p:nvGrpSpPr>
        <p:grpSpPr>
          <a:xfrm>
            <a:off x="2626560" y="3262320"/>
            <a:ext cx="398520" cy="406440"/>
            <a:chOff x="2626560" y="3262320"/>
            <a:chExt cx="398520" cy="406440"/>
          </a:xfrm>
        </p:grpSpPr>
        <p:pic>
          <p:nvPicPr>
            <p:cNvPr id="933" name="" descr=""/>
            <p:cNvPicPr/>
            <p:nvPr/>
          </p:nvPicPr>
          <p:blipFill>
            <a:blip r:embed="rId3"/>
            <a:stretch/>
          </p:blipFill>
          <p:spPr>
            <a:xfrm rot="4977000">
              <a:off x="2685600" y="33260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 rot="4977000">
              <a:off x="2686320" y="332532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2676240" y="3355200"/>
              <a:ext cx="108000" cy="241560"/>
              <a:chOff x="2676240" y="3355200"/>
              <a:chExt cx="108000" cy="24156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2678760" y="3399840"/>
                <a:ext cx="105480" cy="196920"/>
                <a:chOff x="2678760" y="3399840"/>
                <a:chExt cx="105480" cy="196920"/>
              </a:xfrm>
            </p:grpSpPr>
            <p:sp>
              <p:nvSpPr>
                <p:cNvPr id="937" name=""/>
                <p:cNvSpPr/>
                <p:nvPr/>
              </p:nvSpPr>
              <p:spPr>
                <a:xfrm flipH="1" flipV="1" rot="8941800">
                  <a:off x="2712960" y="345132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flipV="1" rot="9757200">
                  <a:off x="2702160" y="3430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flipV="1" rot="10053000">
                  <a:off x="2699280" y="34164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 rot="10585200">
                  <a:off x="2695680" y="34002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2676240" y="3355200"/>
                <a:ext cx="82080" cy="203040"/>
                <a:chOff x="2676240" y="3355200"/>
                <a:chExt cx="82080" cy="203040"/>
              </a:xfrm>
            </p:grpSpPr>
            <p:sp>
              <p:nvSpPr>
                <p:cNvPr id="942" name=""/>
                <p:cNvSpPr/>
                <p:nvPr/>
              </p:nvSpPr>
              <p:spPr>
                <a:xfrm flipH="1" flipV="1" rot="10294800">
                  <a:off x="2696760" y="34106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flipV="1" rot="11110200">
                  <a:off x="2694600" y="3387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flipV="1" rot="11406000">
                  <a:off x="2695320" y="33728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flipV="1" rot="11938200">
                  <a:off x="2698920" y="33570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6" name=""/>
            <p:cNvSpPr/>
            <p:nvPr/>
          </p:nvSpPr>
          <p:spPr>
            <a:xfrm flipH="1" rot="1129200">
              <a:off x="2669760" y="330372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7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3600">
              <a:off x="2761560" y="33404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8" name=""/>
          <p:cNvGrpSpPr/>
          <p:nvPr/>
        </p:nvGrpSpPr>
        <p:grpSpPr>
          <a:xfrm>
            <a:off x="4599720" y="5708520"/>
            <a:ext cx="398520" cy="406800"/>
            <a:chOff x="4599720" y="5708520"/>
            <a:chExt cx="398520" cy="406800"/>
          </a:xfrm>
        </p:grpSpPr>
        <p:pic>
          <p:nvPicPr>
            <p:cNvPr id="949" name="" descr=""/>
            <p:cNvPicPr/>
            <p:nvPr/>
          </p:nvPicPr>
          <p:blipFill>
            <a:blip r:embed="rId5"/>
            <a:stretch/>
          </p:blipFill>
          <p:spPr>
            <a:xfrm rot="4977600">
              <a:off x="4658400" y="57726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rot="4977000">
              <a:off x="4659120" y="57718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49400" y="5801760"/>
              <a:ext cx="108720" cy="241920"/>
              <a:chOff x="4649400" y="5801760"/>
              <a:chExt cx="108720" cy="24192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4652280" y="5846400"/>
                <a:ext cx="105840" cy="197280"/>
                <a:chOff x="4652280" y="5846400"/>
                <a:chExt cx="105840" cy="197280"/>
              </a:xfrm>
            </p:grpSpPr>
            <p:sp>
              <p:nvSpPr>
                <p:cNvPr id="953" name=""/>
                <p:cNvSpPr/>
                <p:nvPr/>
              </p:nvSpPr>
              <p:spPr>
                <a:xfrm flipH="1" flipV="1" rot="8941800">
                  <a:off x="4687200" y="58975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flipV="1" rot="9757200">
                  <a:off x="4675680" y="5877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 rot="10053000">
                  <a:off x="4672440" y="58629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flipV="1" rot="10585200">
                  <a:off x="4668840" y="58467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649400" y="5801760"/>
                <a:ext cx="82080" cy="203040"/>
                <a:chOff x="4649400" y="5801760"/>
                <a:chExt cx="82080" cy="203040"/>
              </a:xfrm>
            </p:grpSpPr>
            <p:sp>
              <p:nvSpPr>
                <p:cNvPr id="958" name=""/>
                <p:cNvSpPr/>
                <p:nvPr/>
              </p:nvSpPr>
              <p:spPr>
                <a:xfrm flipH="1" flipV="1" rot="10294800">
                  <a:off x="4669920" y="58572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flipV="1" rot="11110200">
                  <a:off x="4667760" y="5833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flipV="1" rot="11406000">
                  <a:off x="4668480" y="5819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flipV="1" rot="11938200">
                  <a:off x="4672080" y="58035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"/>
            <p:cNvSpPr/>
            <p:nvPr/>
          </p:nvSpPr>
          <p:spPr>
            <a:xfrm flipH="1" rot="1129200">
              <a:off x="4643280" y="57499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3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4800">
              <a:off x="4734720" y="57873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4" name=""/>
          <p:cNvSpPr/>
          <p:nvPr/>
        </p:nvSpPr>
        <p:spPr>
          <a:xfrm>
            <a:off x="3474000" y="342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901040" y="342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410720" y="4930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948360" y="2452680"/>
            <a:ext cx="1509840" cy="366840"/>
          </a:xfrm>
          <a:noFill/>
          <a:ln w="9360">
            <a:solidFill>
              <a:srgbClr val="ce5f0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010200" y="5597640"/>
            <a:ext cx="1509840" cy="366480"/>
          </a:xfrm>
          <a:noFill/>
          <a:ln w="9360">
            <a:solidFill>
              <a:srgbClr val="ce5f0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41360" y="3083040"/>
            <a:ext cx="1509840" cy="366480"/>
          </a:xfrm>
          <a:noFill/>
          <a:ln w="9360">
            <a:solidFill>
              <a:srgbClr val="ce5f0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4495680" y="1833480"/>
            <a:ext cx="4114800" cy="3505320"/>
            <a:chOff x="4495680" y="1833480"/>
            <a:chExt cx="4114800" cy="3505320"/>
          </a:xfrm>
        </p:grpSpPr>
        <p:sp>
          <p:nvSpPr>
            <p:cNvPr id="972" name=""/>
            <p:cNvSpPr/>
            <p:nvPr/>
          </p:nvSpPr>
          <p:spPr>
            <a:xfrm>
              <a:off x="4495680" y="1833480"/>
              <a:ext cx="4114800" cy="2819520"/>
            </a:xfrm>
            <a:prstGeom prst="roundRect">
              <a:avLst>
                <a:gd name="adj" fmla="val 8389"/>
              </a:avLst>
            </a:prstGeom>
            <a:gradFill rotWithShape="0">
              <a:gsLst>
                <a:gs pos="0">
                  <a:srgbClr val="006874"/>
                </a:gs>
                <a:gs pos="50000">
                  <a:srgbClr val="019eaf"/>
                </a:gs>
                <a:gs pos="100000">
                  <a:srgbClr val="006874"/>
                </a:gs>
              </a:gsLst>
              <a:lin ang="5400000"/>
            </a:gradFill>
            <a:ln w="38160">
              <a:solidFill>
                <a:srgbClr val="e7ff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495680" y="4728960"/>
              <a:ext cx="4114800" cy="60984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007d8b"/>
                </a:gs>
                <a:gs pos="100000">
                  <a:srgbClr val="019e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4" name="Rectangle 4"/>
          <p:cNvSpPr/>
          <p:nvPr/>
        </p:nvSpPr>
        <p:spPr>
          <a:xfrm>
            <a:off x="4572000" y="2290680"/>
            <a:ext cx="3962520" cy="21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f4721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AutoShape 6"/>
          <p:cNvSpPr/>
          <p:nvPr/>
        </p:nvSpPr>
        <p:spPr>
          <a:xfrm flipV="1" rot="16200000">
            <a:off x="2737440" y="3690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2104">
                  <a:alpha val="70196"/>
                </a:srgbClr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AutoShape 7"/>
          <p:cNvSpPr/>
          <p:nvPr/>
        </p:nvSpPr>
        <p:spPr>
          <a:xfrm flipV="1" rot="16200000">
            <a:off x="3250080" y="22194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a719"/>
              </a:gs>
              <a:gs pos="100000">
                <a:srgbClr val="434c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AutoShape 8"/>
          <p:cNvSpPr/>
          <p:nvPr/>
        </p:nvSpPr>
        <p:spPr>
          <a:xfrm flipV="1" rot="16200000">
            <a:off x="2088000" y="393876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2104">
                  <a:alpha val="70196"/>
                </a:srgbClr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AutoShape 9"/>
          <p:cNvSpPr/>
          <p:nvPr/>
        </p:nvSpPr>
        <p:spPr>
          <a:xfrm flipV="1" rot="16200000">
            <a:off x="2353680" y="271440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a719"/>
              </a:gs>
              <a:gs pos="100000">
                <a:srgbClr val="434c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AutoShape 10"/>
          <p:cNvSpPr/>
          <p:nvPr/>
        </p:nvSpPr>
        <p:spPr>
          <a:xfrm flipV="1" rot="16200000">
            <a:off x="1410480" y="419976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2104">
                  <a:alpha val="70196"/>
                </a:srgbClr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AutoShape 11"/>
          <p:cNvSpPr/>
          <p:nvPr/>
        </p:nvSpPr>
        <p:spPr>
          <a:xfrm flipV="1" rot="16200000">
            <a:off x="1438560" y="3210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a719"/>
              </a:gs>
              <a:gs pos="100000">
                <a:srgbClr val="434c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AutoShape 12"/>
          <p:cNvSpPr/>
          <p:nvPr/>
        </p:nvSpPr>
        <p:spPr>
          <a:xfrm flipV="1" rot="16200000">
            <a:off x="710640" y="44132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2104">
                  <a:alpha val="70196"/>
                </a:srgbClr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AutoShape 13"/>
          <p:cNvSpPr/>
          <p:nvPr/>
        </p:nvSpPr>
        <p:spPr>
          <a:xfrm flipV="1" rot="16200000">
            <a:off x="525960" y="36367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a719"/>
              </a:gs>
              <a:gs pos="100000">
                <a:srgbClr val="333a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Freeform 14"/>
          <p:cNvSpPr/>
          <p:nvPr/>
        </p:nvSpPr>
        <p:spPr>
          <a:xfrm flipH="1">
            <a:off x="896040" y="2603520"/>
            <a:ext cx="3022920" cy="2432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15"/>
          <p:cNvSpPr/>
          <p:nvPr/>
        </p:nvSpPr>
        <p:spPr>
          <a:xfrm>
            <a:off x="801360" y="3157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16"/>
          <p:cNvSpPr/>
          <p:nvPr/>
        </p:nvSpPr>
        <p:spPr>
          <a:xfrm>
            <a:off x="1723680" y="2665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17"/>
          <p:cNvSpPr/>
          <p:nvPr/>
        </p:nvSpPr>
        <p:spPr>
          <a:xfrm>
            <a:off x="2646000" y="2165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8"/>
          <p:cNvSpPr/>
          <p:nvPr/>
        </p:nvSpPr>
        <p:spPr>
          <a:xfrm>
            <a:off x="3550680" y="1681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19"/>
          <p:cNvSpPr/>
          <p:nvPr/>
        </p:nvSpPr>
        <p:spPr>
          <a:xfrm>
            <a:off x="762120" y="5338800"/>
            <a:ext cx="3616200" cy="452520"/>
          </a:xfrm>
          <a:prstGeom prst="roundRect">
            <a:avLst>
              <a:gd name="adj" fmla="val 50000"/>
            </a:avLst>
          </a:prstGeom>
          <a:solidFill>
            <a:srgbClr val="1c45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20"/>
          <p:cNvSpPr/>
          <p:nvPr/>
        </p:nvSpPr>
        <p:spPr>
          <a:xfrm>
            <a:off x="1374840" y="5354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21"/>
          <p:cNvSpPr/>
          <p:nvPr/>
        </p:nvSpPr>
        <p:spPr>
          <a:xfrm>
            <a:off x="685800" y="36687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1600200" y="31798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23"/>
          <p:cNvSpPr/>
          <p:nvPr/>
        </p:nvSpPr>
        <p:spPr>
          <a:xfrm>
            <a:off x="2513160" y="2712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24"/>
          <p:cNvSpPr/>
          <p:nvPr/>
        </p:nvSpPr>
        <p:spPr>
          <a:xfrm>
            <a:off x="3392640" y="2208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152280" y="1565280"/>
            <a:ext cx="8749800" cy="4377960"/>
            <a:chOff x="152280" y="1565280"/>
            <a:chExt cx="8749800" cy="4377960"/>
          </a:xfrm>
        </p:grpSpPr>
        <p:grpSp>
          <p:nvGrpSpPr>
            <p:cNvPr id="996" name=""/>
            <p:cNvGrpSpPr/>
            <p:nvPr/>
          </p:nvGrpSpPr>
          <p:grpSpPr>
            <a:xfrm>
              <a:off x="7148520" y="2811600"/>
              <a:ext cx="1753560" cy="1789920"/>
              <a:chOff x="7148520" y="2811600"/>
              <a:chExt cx="1753560" cy="1789920"/>
            </a:xfrm>
          </p:grpSpPr>
          <p:pic>
            <p:nvPicPr>
              <p:cNvPr id="9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8520" y="2811600"/>
                <a:ext cx="1753560" cy="170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48520" y="2811600"/>
                <a:ext cx="1742040" cy="170460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329240" y="2845800"/>
                <a:ext cx="1368360" cy="59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7272360" y="3988440"/>
                <a:ext cx="1537560" cy="613080"/>
                <a:chOff x="7272360" y="3988440"/>
                <a:chExt cx="1537560" cy="613080"/>
              </a:xfrm>
            </p:grpSpPr>
            <p:grpSp>
              <p:nvGrpSpPr>
                <p:cNvPr id="1001" name=""/>
                <p:cNvGrpSpPr/>
                <p:nvPr/>
              </p:nvGrpSpPr>
              <p:grpSpPr>
                <a:xfrm>
                  <a:off x="7540200" y="3988440"/>
                  <a:ext cx="1269720" cy="576720"/>
                  <a:chOff x="7540200" y="3988440"/>
                  <a:chExt cx="1269720" cy="57672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 flipH="1" flipV="1" rot="3964800">
                    <a:off x="8232840" y="3814920"/>
                    <a:ext cx="22068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flipV="1" rot="4780200">
                    <a:off x="8089920" y="3871800"/>
                    <a:ext cx="22068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H="1" flipV="1" rot="5076000">
                    <a:off x="8002440" y="3883320"/>
                    <a:ext cx="22068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flipV="1" rot="5608200">
                    <a:off x="7896960" y="3894120"/>
                    <a:ext cx="22068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7272360" y="3997800"/>
                  <a:ext cx="1268640" cy="603720"/>
                  <a:chOff x="7272360" y="3997800"/>
                  <a:chExt cx="1268640" cy="60372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flipV="1" rot="5317800">
                    <a:off x="7965360" y="3894840"/>
                    <a:ext cx="221760" cy="9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flipV="1" rot="6133800">
                    <a:off x="7812000" y="3892320"/>
                    <a:ext cx="22176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flipV="1" rot="6429000">
                    <a:off x="7726320" y="3868920"/>
                    <a:ext cx="22176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 flipV="1" rot="6961200">
                    <a:off x="7624440" y="3837600"/>
                    <a:ext cx="22176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11" name=""/>
            <p:cNvGrpSpPr/>
            <p:nvPr/>
          </p:nvGrpSpPr>
          <p:grpSpPr>
            <a:xfrm>
              <a:off x="5705280" y="1659600"/>
              <a:ext cx="1420920" cy="4042800"/>
              <a:chOff x="5705280" y="1659600"/>
              <a:chExt cx="1420920" cy="4042800"/>
            </a:xfrm>
          </p:grpSpPr>
          <p:sp>
            <p:nvSpPr>
              <p:cNvPr id="1012" name=""/>
              <p:cNvSpPr/>
              <p:nvPr/>
            </p:nvSpPr>
            <p:spPr>
              <a:xfrm rot="16200000">
                <a:off x="5436720" y="4166280"/>
                <a:ext cx="1820520" cy="1251720"/>
              </a:xfrm>
              <a:custGeom>
                <a:avLst/>
                <a:gdLst/>
                <a:ahLst/>
                <a:rect l="l" t="t" r="r" b="b"/>
                <a:pathLst>
                  <a:path w="735" h="532">
                    <a:moveTo>
                      <a:pt x="0" y="0"/>
                    </a:moveTo>
                    <a:cubicBezTo>
                      <a:pt x="0" y="0"/>
                      <a:pt x="85" y="216"/>
                      <a:pt x="382" y="202"/>
                    </a:cubicBezTo>
                    <a:cubicBezTo>
                      <a:pt x="479" y="202"/>
                      <a:pt x="577" y="202"/>
                      <a:pt x="577" y="202"/>
                    </a:cubicBezTo>
                    <a:cubicBezTo>
                      <a:pt x="577" y="202"/>
                      <a:pt x="639" y="201"/>
                      <a:pt x="637" y="249"/>
                    </a:cubicBezTo>
                    <a:cubicBezTo>
                      <a:pt x="638" y="325"/>
                      <a:pt x="639" y="402"/>
                      <a:pt x="639" y="402"/>
                    </a:cubicBezTo>
                    <a:lnTo>
                      <a:pt x="598" y="400"/>
                    </a:lnTo>
                    <a:lnTo>
                      <a:pt x="669" y="532"/>
                    </a:lnTo>
                    <a:lnTo>
                      <a:pt x="735" y="402"/>
                    </a:lnTo>
                    <a:lnTo>
                      <a:pt x="696" y="402"/>
                    </a:lnTo>
                    <a:cubicBezTo>
                      <a:pt x="696" y="402"/>
                      <a:pt x="695" y="314"/>
                      <a:pt x="694" y="226"/>
                    </a:cubicBezTo>
                    <a:cubicBezTo>
                      <a:pt x="687" y="160"/>
                      <a:pt x="616" y="150"/>
                      <a:pt x="616" y="150"/>
                    </a:cubicBezTo>
                    <a:cubicBezTo>
                      <a:pt x="556" y="137"/>
                      <a:pt x="473" y="153"/>
                      <a:pt x="335" y="149"/>
                    </a:cubicBezTo>
                    <a:cubicBezTo>
                      <a:pt x="110" y="126"/>
                      <a:pt x="69" y="0"/>
                      <a:pt x="6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6200000">
                <a:off x="6239880" y="2977200"/>
                <a:ext cx="351360" cy="1420920"/>
              </a:xfrm>
              <a:custGeom>
                <a:avLst/>
                <a:gdLst/>
                <a:ahLst/>
                <a:rect l="l" t="t" r="r" b="b"/>
                <a:pathLst>
                  <a:path w="142" h="604">
                    <a:moveTo>
                      <a:pt x="37" y="1"/>
                    </a:moveTo>
                    <a:lnTo>
                      <a:pt x="45" y="472"/>
                    </a:lnTo>
                    <a:lnTo>
                      <a:pt x="0" y="474"/>
                    </a:lnTo>
                    <a:lnTo>
                      <a:pt x="72" y="604"/>
                    </a:lnTo>
                    <a:lnTo>
                      <a:pt x="142" y="474"/>
                    </a:lnTo>
                    <a:lnTo>
                      <a:pt x="100" y="474"/>
                    </a:lnTo>
                    <a:lnTo>
                      <a:pt x="99" y="0"/>
                    </a:lnTo>
                    <a:lnTo>
                      <a:pt x="37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rot="16200000">
                <a:off x="5436360" y="1944000"/>
                <a:ext cx="1820520" cy="1251720"/>
              </a:xfrm>
              <a:custGeom>
                <a:avLst/>
                <a:gdLst/>
                <a:ahLst/>
                <a:rect l="l" t="t" r="r" b="b"/>
                <a:pathLst>
                  <a:path w="735" h="532">
                    <a:moveTo>
                      <a:pt x="0" y="0"/>
                    </a:moveTo>
                    <a:cubicBezTo>
                      <a:pt x="0" y="0"/>
                      <a:pt x="85" y="216"/>
                      <a:pt x="382" y="202"/>
                    </a:cubicBezTo>
                    <a:cubicBezTo>
                      <a:pt x="479" y="202"/>
                      <a:pt x="577" y="202"/>
                      <a:pt x="577" y="202"/>
                    </a:cubicBezTo>
                    <a:cubicBezTo>
                      <a:pt x="577" y="202"/>
                      <a:pt x="639" y="201"/>
                      <a:pt x="637" y="249"/>
                    </a:cubicBezTo>
                    <a:cubicBezTo>
                      <a:pt x="638" y="325"/>
                      <a:pt x="639" y="402"/>
                      <a:pt x="639" y="402"/>
                    </a:cubicBezTo>
                    <a:lnTo>
                      <a:pt x="598" y="400"/>
                    </a:lnTo>
                    <a:lnTo>
                      <a:pt x="669" y="532"/>
                    </a:lnTo>
                    <a:lnTo>
                      <a:pt x="735" y="402"/>
                    </a:lnTo>
                    <a:lnTo>
                      <a:pt x="696" y="402"/>
                    </a:lnTo>
                    <a:cubicBezTo>
                      <a:pt x="696" y="402"/>
                      <a:pt x="695" y="314"/>
                      <a:pt x="694" y="226"/>
                    </a:cubicBezTo>
                    <a:cubicBezTo>
                      <a:pt x="687" y="160"/>
                      <a:pt x="616" y="150"/>
                      <a:pt x="616" y="150"/>
                    </a:cubicBezTo>
                    <a:cubicBezTo>
                      <a:pt x="556" y="137"/>
                      <a:pt x="473" y="153"/>
                      <a:pt x="335" y="149"/>
                    </a:cubicBezTo>
                    <a:cubicBezTo>
                      <a:pt x="110" y="126"/>
                      <a:pt x="69" y="0"/>
                      <a:pt x="6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2680560" y="3524040"/>
              <a:ext cx="451800" cy="430920"/>
              <a:chOff x="2680560" y="3524040"/>
              <a:chExt cx="451800" cy="430920"/>
            </a:xfrm>
          </p:grpSpPr>
          <p:sp>
            <p:nvSpPr>
              <p:cNvPr id="1016" name=""/>
              <p:cNvSpPr/>
              <p:nvPr/>
            </p:nvSpPr>
            <p:spPr>
              <a:xfrm>
                <a:off x="2704320" y="3538440"/>
                <a:ext cx="394920" cy="398520"/>
              </a:xfrm>
              <a:prstGeom prst="ellipse">
                <a:avLst/>
              </a:prstGeom>
              <a:gradFill rotWithShape="0">
                <a:gsLst>
                  <a:gs pos="0">
                    <a:srgbClr val="122d64"/>
                  </a:gs>
                  <a:gs pos="50000">
                    <a:srgbClr val="1c4598"/>
                  </a:gs>
                  <a:gs pos="100000">
                    <a:srgbClr val="122d64"/>
                  </a:gs>
                </a:gsLst>
                <a:lin ang="135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7" name=""/>
              <p:cNvGrpSpPr/>
              <p:nvPr/>
            </p:nvGrpSpPr>
            <p:grpSpPr>
              <a:xfrm>
                <a:off x="2680560" y="3737880"/>
                <a:ext cx="334800" cy="217080"/>
                <a:chOff x="2680560" y="3737880"/>
                <a:chExt cx="334800" cy="21708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2680560" y="3737880"/>
                  <a:ext cx="334800" cy="217080"/>
                  <a:chOff x="2680560" y="3737880"/>
                  <a:chExt cx="334800" cy="217080"/>
                </a:xfrm>
              </p:grpSpPr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2716560" y="3803400"/>
                    <a:ext cx="298800" cy="148680"/>
                    <a:chOff x="2716560" y="3803400"/>
                    <a:chExt cx="298800" cy="14868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flipH="1" flipV="1" rot="5374200">
                      <a:off x="2878200" y="378288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flipV="1" rot="6189600">
                      <a:off x="2841840" y="378288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flipH="1" flipV="1" rot="6485400">
                      <a:off x="2820960" y="377604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H="1" flipV="1" rot="7017600">
                      <a:off x="2797560" y="376848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2680560" y="3737880"/>
                    <a:ext cx="271800" cy="217080"/>
                    <a:chOff x="2680560" y="3737880"/>
                    <a:chExt cx="271800" cy="21708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flipH="1" flipV="1" rot="6727200">
                      <a:off x="2812320" y="377424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flipH="1" flipV="1" rot="7542600">
                      <a:off x="2779560" y="375948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flipH="1" flipV="1" rot="7838400">
                      <a:off x="2763000" y="374580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 flipH="1" flipV="1" rot="8370600">
                      <a:off x="2744280" y="372996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2707560" y="3759840"/>
                  <a:ext cx="273960" cy="177840"/>
                  <a:chOff x="2707560" y="3759840"/>
                  <a:chExt cx="273960" cy="177840"/>
                </a:xfrm>
              </p:grpSpPr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2736720" y="3813120"/>
                    <a:ext cx="244800" cy="122040"/>
                    <a:chOff x="2736720" y="3813120"/>
                    <a:chExt cx="244800" cy="12204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H="1" flipV="1" rot="5374200">
                      <a:off x="2868840" y="379728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flipH="1" flipV="1" rot="6189600">
                      <a:off x="2838960" y="3795840"/>
                      <a:ext cx="4608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H="1" flipV="1" rot="6485400">
                      <a:off x="2822760" y="3790800"/>
                      <a:ext cx="4608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 flipH="1" flipV="1" rot="7017600">
                      <a:off x="2803320" y="3784320"/>
                      <a:ext cx="4608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2707560" y="3759840"/>
                    <a:ext cx="222480" cy="177840"/>
                    <a:chOff x="2707560" y="3759840"/>
                    <a:chExt cx="222480" cy="17784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 flipH="1" flipV="1" rot="6727200">
                      <a:off x="2815200" y="379008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 flipV="1" rot="7542600">
                      <a:off x="2788560" y="377712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 flipH="1" flipV="1" rot="7838400">
                      <a:off x="2775240" y="3766680"/>
                      <a:ext cx="4608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flipH="1" flipV="1" rot="8370600">
                      <a:off x="2759400" y="375264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40" name=""/>
              <p:cNvGrpSpPr/>
              <p:nvPr/>
            </p:nvGrpSpPr>
            <p:grpSpPr>
              <a:xfrm>
                <a:off x="2823840" y="3524040"/>
                <a:ext cx="308520" cy="252360"/>
                <a:chOff x="2823840" y="3524040"/>
                <a:chExt cx="308520" cy="252360"/>
              </a:xfrm>
            </p:grpSpPr>
            <p:grpSp>
              <p:nvGrpSpPr>
                <p:cNvPr id="1041" name=""/>
                <p:cNvGrpSpPr/>
                <p:nvPr/>
              </p:nvGrpSpPr>
              <p:grpSpPr>
                <a:xfrm>
                  <a:off x="2823840" y="3524040"/>
                  <a:ext cx="308520" cy="252360"/>
                  <a:chOff x="2823840" y="3524040"/>
                  <a:chExt cx="308520" cy="252360"/>
                </a:xfrm>
              </p:grpSpPr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2823840" y="3524040"/>
                    <a:ext cx="289800" cy="183960"/>
                    <a:chOff x="2823840" y="3524040"/>
                    <a:chExt cx="289800" cy="18396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 flipH="1" flipV="1" rot="16891800">
                      <a:off x="2907720" y="347760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H="1" flipV="1" rot="17707200">
                      <a:off x="2942640" y="348624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flipH="1" flipV="1" rot="18003000">
                      <a:off x="2961360" y="349632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 flipH="1" flipV="1" rot="18535200">
                      <a:off x="2982960" y="350856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2891880" y="3525120"/>
                    <a:ext cx="240480" cy="251280"/>
                    <a:chOff x="2891880" y="3525120"/>
                    <a:chExt cx="240480" cy="25128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H="1" flipV="1" rot="18244800">
                      <a:off x="2969640" y="349920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flipH="1" flipV="1" rot="19060800">
                      <a:off x="2998440" y="352152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flipH="1" flipV="1" rot="19356000">
                      <a:off x="3012120" y="353808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 flipH="1" flipV="1" rot="19888200">
                      <a:off x="3026880" y="355824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2856600" y="3544560"/>
                  <a:ext cx="252360" cy="205920"/>
                  <a:chOff x="2856600" y="3544560"/>
                  <a:chExt cx="252360" cy="205920"/>
                </a:xfrm>
              </p:grpSpPr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2856600" y="3544560"/>
                    <a:ext cx="237240" cy="150840"/>
                    <a:chOff x="2856600" y="3544560"/>
                    <a:chExt cx="237240" cy="150840"/>
                  </a:xfrm>
                </p:grpSpPr>
                <p:sp>
                  <p:nvSpPr>
                    <p:cNvPr id="1054" name=""/>
                    <p:cNvSpPr/>
                    <p:nvPr/>
                  </p:nvSpPr>
                  <p:spPr>
                    <a:xfrm flipH="1" flipV="1" rot="16891800">
                      <a:off x="2925000" y="350568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 flipH="1" flipV="1" rot="17707200">
                      <a:off x="2953800" y="3513240"/>
                      <a:ext cx="4608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flipH="1" flipV="1" rot="18003000">
                      <a:off x="2968560" y="3521160"/>
                      <a:ext cx="4608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 flipH="1" flipV="1" rot="18535200">
                      <a:off x="2986200" y="3531960"/>
                      <a:ext cx="46080" cy="1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2912760" y="3544560"/>
                    <a:ext cx="196200" cy="205920"/>
                    <a:chOff x="2912760" y="3544560"/>
                    <a:chExt cx="196200" cy="20592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 flipH="1" flipV="1" rot="18244800">
                      <a:off x="2975760" y="352440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H="1" flipV="1" rot="19060800">
                      <a:off x="2999520" y="354168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flipH="1" flipV="1" rot="19356000">
                      <a:off x="3010320" y="3556080"/>
                      <a:ext cx="4608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flipH="1" flipV="1" rot="19888200">
                      <a:off x="3022560" y="357192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cxnSp>
          <p:nvCxnSpPr>
            <p:cNvPr id="1063" name=""/>
            <p:cNvCxnSpPr>
              <a:stCxn id="1016" idx="0"/>
            </p:cNvCxnSpPr>
            <p:nvPr/>
          </p:nvCxnSpPr>
          <p:spPr>
            <a:xfrm flipH="1" flipV="1" rot="5400000">
              <a:off x="2532240" y="2484720"/>
              <a:ext cx="1402560" cy="67068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stCxn id="1016" idx="4"/>
            </p:cNvCxnSpPr>
            <p:nvPr/>
          </p:nvCxnSpPr>
          <p:spPr>
            <a:xfrm flipH="1" rot="16200000">
              <a:off x="2535120" y="4310640"/>
              <a:ext cx="1395720" cy="67068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65" name=""/>
            <p:cNvSpPr/>
            <p:nvPr/>
          </p:nvSpPr>
          <p:spPr>
            <a:xfrm>
              <a:off x="3133440" y="3746520"/>
              <a:ext cx="45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3581280" y="1565280"/>
              <a:ext cx="2239560" cy="1126800"/>
              <a:chOff x="3581280" y="1565280"/>
              <a:chExt cx="2239560" cy="1126800"/>
            </a:xfrm>
          </p:grpSpPr>
          <p:sp>
            <p:nvSpPr>
              <p:cNvPr id="1067" name=""/>
              <p:cNvSpPr/>
              <p:nvPr/>
            </p:nvSpPr>
            <p:spPr>
              <a:xfrm>
                <a:off x="3581280" y="156528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3a719"/>
                  </a:gs>
                  <a:gs pos="100000">
                    <a:srgbClr val="667411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1600" y="159840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9" name=""/>
            <p:cNvGrpSpPr/>
            <p:nvPr/>
          </p:nvGrpSpPr>
          <p:grpSpPr>
            <a:xfrm>
              <a:off x="3584520" y="3189240"/>
              <a:ext cx="2239560" cy="1126800"/>
              <a:chOff x="3584520" y="3189240"/>
              <a:chExt cx="2239560" cy="1126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84520" y="318924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e5f0c"/>
                  </a:gs>
                  <a:gs pos="100000">
                    <a:srgbClr val="8f4208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21240" y="322596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2" name=""/>
            <p:cNvGrpSpPr/>
            <p:nvPr/>
          </p:nvGrpSpPr>
          <p:grpSpPr>
            <a:xfrm>
              <a:off x="3587760" y="4816440"/>
              <a:ext cx="2239560" cy="1126800"/>
              <a:chOff x="3587760" y="4816440"/>
              <a:chExt cx="2239560" cy="1126800"/>
            </a:xfrm>
          </p:grpSpPr>
          <p:sp>
            <p:nvSpPr>
              <p:cNvPr id="1073" name=""/>
              <p:cNvSpPr/>
              <p:nvPr/>
            </p:nvSpPr>
            <p:spPr>
              <a:xfrm>
                <a:off x="3587760" y="481644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720a0"/>
                  </a:gs>
                  <a:gs pos="100000">
                    <a:srgbClr val="68166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1240" y="484632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5" name=""/>
            <p:cNvSpPr/>
            <p:nvPr/>
          </p:nvSpPr>
          <p:spPr>
            <a:xfrm>
              <a:off x="3641760" y="1782720"/>
              <a:ext cx="21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scription of the content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41760" y="3382920"/>
              <a:ext cx="21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scription of the content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41760" y="5033880"/>
              <a:ext cx="21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scription of the content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2280" y="2962440"/>
              <a:ext cx="2548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emeGallery 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5520" y="3263760"/>
              <a:ext cx="16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80808"/>
                  </a:solidFill>
                  <a:latin typeface="Arial Black"/>
                  <a:ea typeface="宋体"/>
                </a:rPr>
                <a:t>Title in her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081" name="Group 3"/>
          <p:cNvGrpSpPr/>
          <p:nvPr/>
        </p:nvGrpSpPr>
        <p:grpSpPr>
          <a:xfrm>
            <a:off x="2141640" y="3078000"/>
            <a:ext cx="4905360" cy="2425680"/>
            <a:chOff x="2141640" y="3078000"/>
            <a:chExt cx="4905360" cy="2425680"/>
          </a:xfrm>
        </p:grpSpPr>
        <p:sp>
          <p:nvSpPr>
            <p:cNvPr id="1082" name="AutoShape 4"/>
            <p:cNvSpPr/>
            <p:nvPr/>
          </p:nvSpPr>
          <p:spPr>
            <a:xfrm>
              <a:off x="2141640" y="3228120"/>
              <a:ext cx="4905360" cy="22755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AutoShape 5"/>
            <p:cNvSpPr/>
            <p:nvPr/>
          </p:nvSpPr>
          <p:spPr>
            <a:xfrm>
              <a:off x="2141640" y="3085560"/>
              <a:ext cx="4905360" cy="2275920"/>
            </a:xfrm>
            <a:prstGeom prst="pie">
              <a:avLst/>
            </a:prstGeom>
            <a:gradFill rotWithShape="0">
              <a:gsLst>
                <a:gs pos="0">
                  <a:srgbClr val="d8dfae"/>
                </a:gs>
                <a:gs pos="100000">
                  <a:srgbClr val="93a7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Line 6"/>
            <p:cNvSpPr/>
            <p:nvPr/>
          </p:nvSpPr>
          <p:spPr>
            <a:xfrm flipV="1">
              <a:off x="4574160" y="3078000"/>
              <a:ext cx="0" cy="46512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Line 7"/>
            <p:cNvSpPr/>
            <p:nvPr/>
          </p:nvSpPr>
          <p:spPr>
            <a:xfrm>
              <a:off x="3175560" y="3728520"/>
              <a:ext cx="0" cy="14868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Line 8"/>
            <p:cNvSpPr/>
            <p:nvPr/>
          </p:nvSpPr>
          <p:spPr>
            <a:xfrm>
              <a:off x="5972400" y="3709080"/>
              <a:ext cx="0" cy="15912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Line 9"/>
            <p:cNvSpPr/>
            <p:nvPr/>
          </p:nvSpPr>
          <p:spPr>
            <a:xfrm flipV="1">
              <a:off x="5972400" y="3495240"/>
              <a:ext cx="497520" cy="21384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 flipH="1" flipV="1">
              <a:off x="2683080" y="3503880"/>
              <a:ext cx="489600" cy="22140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H="1">
              <a:off x="3256920" y="4907880"/>
              <a:ext cx="376920" cy="27036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12"/>
            <p:cNvSpPr/>
            <p:nvPr/>
          </p:nvSpPr>
          <p:spPr>
            <a:xfrm>
              <a:off x="5714640" y="4854600"/>
              <a:ext cx="472680" cy="23436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 flipH="1">
              <a:off x="3249000" y="5174640"/>
              <a:ext cx="9000" cy="14220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4"/>
            <p:cNvSpPr/>
            <p:nvPr/>
          </p:nvSpPr>
          <p:spPr>
            <a:xfrm flipH="1">
              <a:off x="6180840" y="5086440"/>
              <a:ext cx="9000" cy="14220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Line 15"/>
          <p:cNvSpPr/>
          <p:nvPr/>
        </p:nvSpPr>
        <p:spPr>
          <a:xfrm>
            <a:off x="3700440" y="2905200"/>
            <a:ext cx="0" cy="43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16"/>
          <p:cNvSpPr/>
          <p:nvPr/>
        </p:nvSpPr>
        <p:spPr>
          <a:xfrm>
            <a:off x="5519880" y="2860560"/>
            <a:ext cx="0" cy="48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Line 17"/>
          <p:cNvSpPr/>
          <p:nvPr/>
        </p:nvSpPr>
        <p:spPr>
          <a:xfrm flipV="1">
            <a:off x="4680000" y="5203800"/>
            <a:ext cx="0" cy="53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Line 18"/>
          <p:cNvSpPr/>
          <p:nvPr/>
        </p:nvSpPr>
        <p:spPr>
          <a:xfrm flipH="1">
            <a:off x="6651720" y="4427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9"/>
          <p:cNvSpPr/>
          <p:nvPr/>
        </p:nvSpPr>
        <p:spPr>
          <a:xfrm>
            <a:off x="1914480" y="4167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20"/>
          <p:cNvSpPr/>
          <p:nvPr/>
        </p:nvSpPr>
        <p:spPr>
          <a:xfrm>
            <a:off x="285120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1"/>
          <p:cNvSpPr/>
          <p:nvPr/>
        </p:nvSpPr>
        <p:spPr>
          <a:xfrm>
            <a:off x="469260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2"/>
          <p:cNvSpPr/>
          <p:nvPr/>
        </p:nvSpPr>
        <p:spPr>
          <a:xfrm>
            <a:off x="7229520" y="40035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3"/>
          <p:cNvSpPr/>
          <p:nvPr/>
        </p:nvSpPr>
        <p:spPr>
          <a:xfrm>
            <a:off x="3832200" y="5759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4"/>
          <p:cNvSpPr/>
          <p:nvPr/>
        </p:nvSpPr>
        <p:spPr>
          <a:xfrm>
            <a:off x="334800" y="400680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5"/>
          <p:cNvSpPr/>
          <p:nvPr/>
        </p:nvSpPr>
        <p:spPr>
          <a:xfrm>
            <a:off x="3535200" y="3657600"/>
            <a:ext cx="21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8"/>
          <p:cNvSpPr/>
          <p:nvPr/>
        </p:nvSpPr>
        <p:spPr>
          <a:xfrm>
            <a:off x="1600200" y="1479600"/>
            <a:ext cx="59436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6" name=""/>
          <p:cNvSpPr/>
          <p:nvPr/>
        </p:nvSpPr>
        <p:spPr>
          <a:xfrm rot="18243000">
            <a:off x="5513760" y="2316600"/>
            <a:ext cx="152100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e7ffe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 flipV="1" rot="12822000">
            <a:off x="2282400" y="3231000"/>
            <a:ext cx="1589040" cy="155592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e7ffe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660680" y="2962440"/>
            <a:ext cx="939600" cy="993600"/>
            <a:chOff x="1660680" y="2962440"/>
            <a:chExt cx="939600" cy="993600"/>
          </a:xfrm>
        </p:grpSpPr>
        <p:pic>
          <p:nvPicPr>
            <p:cNvPr id="1109" name="" descr=""/>
            <p:cNvPicPr/>
            <p:nvPr/>
          </p:nvPicPr>
          <p:blipFill>
            <a:blip r:embed="rId1"/>
            <a:stretch/>
          </p:blipFill>
          <p:spPr>
            <a:xfrm>
              <a:off x="1749960" y="37414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2"/>
            <a:stretch/>
          </p:blipFill>
          <p:spPr>
            <a:xfrm>
              <a:off x="1660680" y="296244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1660680" y="2962440"/>
              <a:ext cx="933120" cy="91872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56800" y="298080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 rot="19693200">
            <a:off x="3560760" y="2052720"/>
            <a:ext cx="152100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e7ffe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781360" y="2835360"/>
            <a:ext cx="1216080" cy="1285560"/>
            <a:chOff x="2781360" y="2835360"/>
            <a:chExt cx="1216080" cy="1285560"/>
          </a:xfrm>
        </p:grpSpPr>
        <p:pic>
          <p:nvPicPr>
            <p:cNvPr id="1115" name="" descr=""/>
            <p:cNvPicPr/>
            <p:nvPr/>
          </p:nvPicPr>
          <p:blipFill>
            <a:blip r:embed="rId3"/>
            <a:stretch/>
          </p:blipFill>
          <p:spPr>
            <a:xfrm>
              <a:off x="2896560" y="3843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4"/>
            <a:stretch/>
          </p:blipFill>
          <p:spPr>
            <a:xfrm>
              <a:off x="2781360" y="2835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2781360" y="2835360"/>
              <a:ext cx="1207800" cy="1189080"/>
            </a:xfrm>
            <a:prstGeom prst="ellipse">
              <a:avLst/>
            </a:prstGeom>
            <a:solidFill>
              <a:srgbClr val="1c459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05920" y="285948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c459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5132520" y="5219640"/>
            <a:ext cx="3419280" cy="1228680"/>
          </a:xfrm>
          <a:prstGeom prst="roundRect">
            <a:avLst>
              <a:gd name="adj" fmla="val 50000"/>
            </a:avLst>
          </a:prstGeom>
          <a:solidFill>
            <a:srgbClr val="dddddd">
              <a:alpha val="7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5362560" y="5459400"/>
            <a:ext cx="2914560" cy="835200"/>
            <a:chOff x="5362560" y="5459400"/>
            <a:chExt cx="2914560" cy="835200"/>
          </a:xfrm>
        </p:grpSpPr>
        <p:sp>
          <p:nvSpPr>
            <p:cNvPr id="1121" name=""/>
            <p:cNvSpPr/>
            <p:nvPr/>
          </p:nvSpPr>
          <p:spPr>
            <a:xfrm>
              <a:off x="5362560" y="5459400"/>
              <a:ext cx="835200" cy="835200"/>
            </a:xfrm>
            <a:prstGeom prst="ellipse">
              <a:avLst/>
            </a:prstGeom>
            <a:noFill/>
            <a:ln w="2844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418080" y="5459400"/>
              <a:ext cx="835200" cy="835200"/>
            </a:xfrm>
            <a:prstGeom prst="ellipse">
              <a:avLst/>
            </a:prstGeom>
            <a:noFill/>
            <a:ln w="2844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42280" y="5459400"/>
              <a:ext cx="834840" cy="835200"/>
            </a:xfrm>
            <a:prstGeom prst="ellipse">
              <a:avLst/>
            </a:prstGeom>
            <a:noFill/>
            <a:ln w="2844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200640" y="5884920"/>
              <a:ext cx="204840" cy="0"/>
            </a:xfrm>
            <a:prstGeom prst="line">
              <a:avLst/>
            </a:prstGeom>
            <a:ln w="1908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54720" y="5884920"/>
              <a:ext cx="181080" cy="0"/>
            </a:xfrm>
            <a:prstGeom prst="line">
              <a:avLst/>
            </a:prstGeom>
            <a:ln w="1908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6136200" y="5003640"/>
            <a:ext cx="1434240" cy="353880"/>
            <a:chOff x="6136200" y="5003640"/>
            <a:chExt cx="1434240" cy="353880"/>
          </a:xfrm>
        </p:grpSpPr>
        <p:sp>
          <p:nvSpPr>
            <p:cNvPr id="1127" name=""/>
            <p:cNvSpPr/>
            <p:nvPr/>
          </p:nvSpPr>
          <p:spPr>
            <a:xfrm>
              <a:off x="6140520" y="5003640"/>
              <a:ext cx="1416240" cy="353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6136200" y="5054040"/>
              <a:ext cx="78120" cy="277920"/>
              <a:chOff x="6136200" y="5054040"/>
              <a:chExt cx="78120" cy="277920"/>
            </a:xfrm>
          </p:grpSpPr>
          <p:sp>
            <p:nvSpPr>
              <p:cNvPr id="1129" name=""/>
              <p:cNvSpPr/>
              <p:nvPr/>
            </p:nvSpPr>
            <p:spPr>
              <a:xfrm flipV="1" rot="21333000">
                <a:off x="6145920" y="50554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 rot="21333000">
                <a:off x="6148080" y="50752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 rot="21333000">
                <a:off x="6146640" y="51066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7484400" y="5050080"/>
              <a:ext cx="86040" cy="293400"/>
              <a:chOff x="7484400" y="5050080"/>
              <a:chExt cx="86040" cy="293400"/>
            </a:xfrm>
          </p:grpSpPr>
          <p:sp>
            <p:nvSpPr>
              <p:cNvPr id="1133" name=""/>
              <p:cNvSpPr/>
              <p:nvPr/>
            </p:nvSpPr>
            <p:spPr>
              <a:xfrm flipH="1" flipV="1" rot="267000">
                <a:off x="7495200" y="5051520"/>
                <a:ext cx="63360" cy="28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 rot="267000">
                <a:off x="7515000" y="5073480"/>
                <a:ext cx="38880" cy="244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 flipV="1" rot="267000">
                <a:off x="7530840" y="510552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36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32360" y="44722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"/>
          <p:cNvGrpSpPr/>
          <p:nvPr/>
        </p:nvGrpSpPr>
        <p:grpSpPr>
          <a:xfrm>
            <a:off x="3422520" y="1600200"/>
            <a:ext cx="939960" cy="993600"/>
            <a:chOff x="3422520" y="1600200"/>
            <a:chExt cx="939960" cy="993600"/>
          </a:xfrm>
        </p:grpSpPr>
        <p:pic>
          <p:nvPicPr>
            <p:cNvPr id="1138" name="" descr=""/>
            <p:cNvPicPr/>
            <p:nvPr/>
          </p:nvPicPr>
          <p:blipFill>
            <a:blip r:embed="rId6"/>
            <a:stretch/>
          </p:blipFill>
          <p:spPr>
            <a:xfrm>
              <a:off x="3511800" y="23792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7"/>
            <a:stretch/>
          </p:blipFill>
          <p:spPr>
            <a:xfrm>
              <a:off x="3422520" y="16002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3422520" y="1600200"/>
              <a:ext cx="933480" cy="918720"/>
            </a:xfrm>
            <a:prstGeom prst="ellipse">
              <a:avLst/>
            </a:prstGeom>
            <a:solidFill>
              <a:srgbClr val="ce5f0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18640" y="161856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e5f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745160" y="1832040"/>
            <a:ext cx="1216080" cy="1285560"/>
            <a:chOff x="4745160" y="1832040"/>
            <a:chExt cx="1216080" cy="1285560"/>
          </a:xfrm>
        </p:grpSpPr>
        <p:pic>
          <p:nvPicPr>
            <p:cNvPr id="1143" name="" descr=""/>
            <p:cNvPicPr/>
            <p:nvPr/>
          </p:nvPicPr>
          <p:blipFill>
            <a:blip r:embed="rId8"/>
            <a:stretch/>
          </p:blipFill>
          <p:spPr>
            <a:xfrm>
              <a:off x="4860360" y="284004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9"/>
            <a:stretch/>
          </p:blipFill>
          <p:spPr>
            <a:xfrm>
              <a:off x="4745160" y="183204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4745160" y="1832040"/>
              <a:ext cx="1207800" cy="1189080"/>
            </a:xfrm>
            <a:prstGeom prst="ellipse">
              <a:avLst/>
            </a:prstGeom>
            <a:solidFill>
              <a:srgbClr val="93a71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69720" y="185616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3a71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313000" y="3989520"/>
            <a:ext cx="939960" cy="993600"/>
            <a:chOff x="2313000" y="3989520"/>
            <a:chExt cx="939960" cy="993600"/>
          </a:xfrm>
        </p:grpSpPr>
        <p:pic>
          <p:nvPicPr>
            <p:cNvPr id="1148" name="" descr=""/>
            <p:cNvPicPr/>
            <p:nvPr/>
          </p:nvPicPr>
          <p:blipFill>
            <a:blip r:embed="rId10"/>
            <a:stretch/>
          </p:blipFill>
          <p:spPr>
            <a:xfrm>
              <a:off x="2402280" y="47685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11"/>
            <a:stretch/>
          </p:blipFill>
          <p:spPr>
            <a:xfrm>
              <a:off x="2313000" y="398952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"/>
            <p:cNvSpPr/>
            <p:nvPr/>
          </p:nvSpPr>
          <p:spPr>
            <a:xfrm>
              <a:off x="2313000" y="3989520"/>
              <a:ext cx="933480" cy="91872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09120" y="400788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3622680" y="3968640"/>
            <a:ext cx="939960" cy="993960"/>
            <a:chOff x="3622680" y="3968640"/>
            <a:chExt cx="939960" cy="993960"/>
          </a:xfrm>
        </p:grpSpPr>
        <p:pic>
          <p:nvPicPr>
            <p:cNvPr id="1153" name="" descr=""/>
            <p:cNvPicPr/>
            <p:nvPr/>
          </p:nvPicPr>
          <p:blipFill>
            <a:blip r:embed="rId12"/>
            <a:stretch/>
          </p:blipFill>
          <p:spPr>
            <a:xfrm>
              <a:off x="3711960" y="4748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" descr=""/>
            <p:cNvPicPr/>
            <p:nvPr/>
          </p:nvPicPr>
          <p:blipFill>
            <a:blip r:embed="rId13"/>
            <a:stretch/>
          </p:blipFill>
          <p:spPr>
            <a:xfrm>
              <a:off x="3622680" y="39686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3622680" y="3968640"/>
              <a:ext cx="933480" cy="91908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18800" y="39870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292720" y="3146400"/>
            <a:ext cx="939960" cy="993960"/>
            <a:chOff x="5292720" y="3146400"/>
            <a:chExt cx="939960" cy="993960"/>
          </a:xfrm>
        </p:grpSpPr>
        <p:pic>
          <p:nvPicPr>
            <p:cNvPr id="1158" name="" descr=""/>
            <p:cNvPicPr/>
            <p:nvPr/>
          </p:nvPicPr>
          <p:blipFill>
            <a:blip r:embed="rId14"/>
            <a:stretch/>
          </p:blipFill>
          <p:spPr>
            <a:xfrm>
              <a:off x="5382000" y="39258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15"/>
            <a:stretch/>
          </p:blipFill>
          <p:spPr>
            <a:xfrm>
              <a:off x="5292720" y="314640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5292720" y="3146400"/>
              <a:ext cx="933480" cy="91908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88840" y="316476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6103800" y="1874880"/>
            <a:ext cx="939960" cy="993600"/>
            <a:chOff x="6103800" y="1874880"/>
            <a:chExt cx="939960" cy="993600"/>
          </a:xfrm>
        </p:grpSpPr>
        <p:pic>
          <p:nvPicPr>
            <p:cNvPr id="1163" name="" descr=""/>
            <p:cNvPicPr/>
            <p:nvPr/>
          </p:nvPicPr>
          <p:blipFill>
            <a:blip r:embed="rId16"/>
            <a:stretch/>
          </p:blipFill>
          <p:spPr>
            <a:xfrm>
              <a:off x="6193080" y="2653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17"/>
            <a:stretch/>
          </p:blipFill>
          <p:spPr>
            <a:xfrm>
              <a:off x="6103800" y="1874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6103800" y="1874880"/>
              <a:ext cx="933480" cy="91872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99920" y="189324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887560" y="3127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65760" y="2138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083280" y="2084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273640" y="3340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657440" y="31813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308320" y="4221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622680" y="4194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67240" y="56275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456240" y="56275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466040" y="5637240"/>
            <a:ext cx="82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51600" y="501804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522240" y="18702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52280" y="3722760"/>
            <a:ext cx="19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85880" y="4756320"/>
            <a:ext cx="19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294000" y="5049720"/>
            <a:ext cx="19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226200" y="3421080"/>
            <a:ext cx="19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039080" y="2093760"/>
            <a:ext cx="19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Hot Tip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4547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w Cen MT"/>
              </a:rPr>
              <a:t>使用规范说明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720a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A60-E24C-461B-BB1A-F7312CD931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company slogan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w Cen MT"/>
                <a:ea typeface="宋体"/>
              </a:rPr>
              <a:t>Thank You!</a:t>
            </a:r>
            <a:endParaRPr b="1" lang="en-US" sz="6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23880" y="2092320"/>
            <a:ext cx="6248520" cy="990360"/>
            <a:chOff x="1523880" y="2092320"/>
            <a:chExt cx="6248520" cy="990360"/>
          </a:xfrm>
        </p:grpSpPr>
        <p:sp>
          <p:nvSpPr>
            <p:cNvPr id="155" name=""/>
            <p:cNvSpPr/>
            <p:nvPr/>
          </p:nvSpPr>
          <p:spPr>
            <a:xfrm>
              <a:off x="1523880" y="209232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3a719"/>
                </a:gs>
                <a:gs pos="50000">
                  <a:srgbClr val="869916"/>
                </a:gs>
                <a:gs pos="100000">
                  <a:srgbClr val="93a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539000" y="2122920"/>
              <a:ext cx="6225480" cy="915480"/>
              <a:chOff x="1539000" y="2122920"/>
              <a:chExt cx="6225480" cy="915480"/>
            </a:xfrm>
          </p:grpSpPr>
          <p:sp>
            <p:nvSpPr>
              <p:cNvPr id="157" name=""/>
              <p:cNvSpPr/>
              <p:nvPr/>
            </p:nvSpPr>
            <p:spPr>
              <a:xfrm>
                <a:off x="1539000" y="280152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a719">
                      <a:alpha val="0"/>
                    </a:srgbClr>
                  </a:gs>
                  <a:gs pos="100000">
                    <a:srgbClr val="d1d9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39000" y="212292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e0b1"/>
                  </a:gs>
                  <a:gs pos="100000">
                    <a:srgbClr val="93a7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1295280" y="1863720"/>
            <a:ext cx="611280" cy="608040"/>
            <a:chOff x="1295280" y="1863720"/>
            <a:chExt cx="611280" cy="608040"/>
          </a:xfrm>
        </p:grpSpPr>
        <p:sp>
          <p:nvSpPr>
            <p:cNvPr id="160" name=""/>
            <p:cNvSpPr/>
            <p:nvPr/>
          </p:nvSpPr>
          <p:spPr>
            <a:xfrm>
              <a:off x="1295280" y="186372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307880" y="1873080"/>
              <a:ext cx="585720" cy="585720"/>
              <a:chOff x="1307880" y="1873080"/>
              <a:chExt cx="585720" cy="585720"/>
            </a:xfrm>
          </p:grpSpPr>
          <p:sp>
            <p:nvSpPr>
              <p:cNvPr id="162" name=""/>
              <p:cNvSpPr/>
              <p:nvPr/>
            </p:nvSpPr>
            <p:spPr>
              <a:xfrm>
                <a:off x="1307880" y="187308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15800" y="187632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2280" y="188100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52160" y="189684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1403280" y="1933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3880" y="3336840"/>
            <a:ext cx="6248520" cy="990360"/>
            <a:chOff x="1523880" y="3336840"/>
            <a:chExt cx="6248520" cy="990360"/>
          </a:xfrm>
        </p:grpSpPr>
        <p:sp>
          <p:nvSpPr>
            <p:cNvPr id="168" name=""/>
            <p:cNvSpPr/>
            <p:nvPr/>
          </p:nvSpPr>
          <p:spPr>
            <a:xfrm>
              <a:off x="1523880" y="333684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720a0"/>
                </a:gs>
                <a:gs pos="50000">
                  <a:srgbClr val="851c8d"/>
                </a:gs>
                <a:gs pos="100000">
                  <a:srgbClr val="972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539000" y="3367440"/>
              <a:ext cx="6225480" cy="915480"/>
              <a:chOff x="1539000" y="3367440"/>
              <a:chExt cx="6225480" cy="915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539000" y="404604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20a0">
                      <a:alpha val="0"/>
                    </a:srgbClr>
                  </a:gs>
                  <a:gs pos="100000">
                    <a:srgbClr val="d3a2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39000" y="336744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b3de"/>
                  </a:gs>
                  <a:gs pos="100000">
                    <a:srgbClr val="9720a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1295280" y="3108240"/>
            <a:ext cx="611280" cy="608040"/>
            <a:chOff x="1295280" y="3108240"/>
            <a:chExt cx="611280" cy="608040"/>
          </a:xfrm>
        </p:grpSpPr>
        <p:sp>
          <p:nvSpPr>
            <p:cNvPr id="173" name=""/>
            <p:cNvSpPr/>
            <p:nvPr/>
          </p:nvSpPr>
          <p:spPr>
            <a:xfrm>
              <a:off x="1295280" y="31082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307880" y="3117600"/>
              <a:ext cx="585720" cy="585720"/>
              <a:chOff x="1307880" y="3117600"/>
              <a:chExt cx="585720" cy="585720"/>
            </a:xfrm>
          </p:grpSpPr>
          <p:sp>
            <p:nvSpPr>
              <p:cNvPr id="175" name=""/>
              <p:cNvSpPr/>
              <p:nvPr/>
            </p:nvSpPr>
            <p:spPr>
              <a:xfrm>
                <a:off x="1307880" y="311760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15800" y="312084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22280" y="31255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52160" y="31413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1403280" y="3178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23880" y="4648320"/>
            <a:ext cx="6248520" cy="990000"/>
            <a:chOff x="1523880" y="4648320"/>
            <a:chExt cx="6248520" cy="990000"/>
          </a:xfrm>
        </p:grpSpPr>
        <p:sp>
          <p:nvSpPr>
            <p:cNvPr id="181" name=""/>
            <p:cNvSpPr/>
            <p:nvPr/>
          </p:nvSpPr>
          <p:spPr>
            <a:xfrm>
              <a:off x="1523880" y="4648320"/>
              <a:ext cx="6248520" cy="990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e5f0c"/>
                </a:gs>
                <a:gs pos="50000">
                  <a:srgbClr val="bd570b"/>
                </a:gs>
                <a:gs pos="100000">
                  <a:srgbClr val="ce5f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539000" y="4678920"/>
              <a:ext cx="6225480" cy="915480"/>
              <a:chOff x="1539000" y="4678920"/>
              <a:chExt cx="6225480" cy="915480"/>
            </a:xfrm>
          </p:grpSpPr>
          <p:sp>
            <p:nvSpPr>
              <p:cNvPr id="183" name=""/>
              <p:cNvSpPr/>
              <p:nvPr/>
            </p:nvSpPr>
            <p:spPr>
              <a:xfrm>
                <a:off x="1539000" y="535752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e5f0c">
                      <a:alpha val="0"/>
                    </a:srgbClr>
                  </a:gs>
                  <a:gs pos="100000">
                    <a:srgbClr val="e9bc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39000" y="467892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c8ad"/>
                  </a:gs>
                  <a:gs pos="100000">
                    <a:srgbClr val="ce5f0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1295280" y="4419720"/>
            <a:ext cx="611280" cy="608040"/>
            <a:chOff x="1295280" y="4419720"/>
            <a:chExt cx="611280" cy="608040"/>
          </a:xfrm>
        </p:grpSpPr>
        <p:sp>
          <p:nvSpPr>
            <p:cNvPr id="186" name=""/>
            <p:cNvSpPr/>
            <p:nvPr/>
          </p:nvSpPr>
          <p:spPr>
            <a:xfrm>
              <a:off x="1295280" y="441972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307880" y="4429080"/>
              <a:ext cx="585720" cy="585720"/>
              <a:chOff x="1307880" y="4429080"/>
              <a:chExt cx="585720" cy="585720"/>
            </a:xfrm>
          </p:grpSpPr>
          <p:sp>
            <p:nvSpPr>
              <p:cNvPr id="188" name=""/>
              <p:cNvSpPr/>
              <p:nvPr/>
            </p:nvSpPr>
            <p:spPr>
              <a:xfrm>
                <a:off x="1307880" y="442908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15800" y="443232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22280" y="443700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52160" y="445284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1403280" y="4489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65240" y="227016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65240" y="355284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65240" y="484668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1557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9720a0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/>
          <p:nvPr/>
        </p:nvSpPr>
        <p:spPr>
          <a:xfrm>
            <a:off x="1208160" y="4997520"/>
            <a:ext cx="6460920" cy="1022400"/>
          </a:xfrm>
          <a:prstGeom prst="roundRect">
            <a:avLst>
              <a:gd name="adj" fmla="val 50000"/>
            </a:avLst>
          </a:prstGeom>
          <a:solidFill>
            <a:srgbClr val="fefefe">
              <a:alpha val="92000"/>
            </a:srgbClr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8440" y="1981080"/>
            <a:ext cx="7813440" cy="50328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50000">
                <a:srgbClr val="a14a09"/>
              </a:gs>
              <a:gs pos="100000">
                <a:srgbClr val="ce5f0c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886200"/>
            <a:ext cx="4572000" cy="990720"/>
          </a:xfrm>
          <a:prstGeom prst="downArrow">
            <a:avLst>
              <a:gd name="adj1" fmla="val 49861"/>
              <a:gd name="adj2" fmla="val 5384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8440" y="2682720"/>
            <a:ext cx="7813440" cy="503280"/>
          </a:xfrm>
          <a:prstGeom prst="rect">
            <a:avLst/>
          </a:prstGeom>
          <a:gradFill rotWithShape="0">
            <a:gsLst>
              <a:gs pos="0">
                <a:srgbClr val="9720a0"/>
              </a:gs>
              <a:gs pos="50000">
                <a:srgbClr val="76197d"/>
              </a:gs>
              <a:gs pos="100000">
                <a:srgbClr val="9720a0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8440" y="3409920"/>
            <a:ext cx="7813440" cy="50328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50000">
                <a:srgbClr val="132f67"/>
              </a:gs>
              <a:gs pos="100000">
                <a:srgbClr val="1c4598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57680" y="204300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12960" y="5087880"/>
            <a:ext cx="52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alibri"/>
                <a:ea typeface="宋体"/>
              </a:rPr>
              <a:t>Describe a vision of company or strategic cont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57680" y="275904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7680" y="347508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640560"/>
            <a:ext cx="9144000" cy="228600"/>
          </a:xfrm>
          <a:prstGeom prst="rect">
            <a:avLst/>
          </a:prstGeom>
          <a:solidFill>
            <a:srgbClr val="ce5f0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"/>
          <p:cNvSpPr/>
          <p:nvPr/>
        </p:nvSpPr>
        <p:spPr>
          <a:xfrm>
            <a:off x="3433680" y="28447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19ea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53200" y="2779560"/>
            <a:ext cx="366480" cy="156240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019ea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53160" y="28447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19ea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71880" y="1646280"/>
            <a:ext cx="1361160" cy="1321560"/>
            <a:chOff x="3071880" y="1646280"/>
            <a:chExt cx="1361160" cy="1321560"/>
          </a:xfrm>
        </p:grpSpPr>
        <p:sp>
          <p:nvSpPr>
            <p:cNvPr id="213" name=""/>
            <p:cNvSpPr/>
            <p:nvPr/>
          </p:nvSpPr>
          <p:spPr>
            <a:xfrm>
              <a:off x="3071880" y="1646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e5f0c"/>
                </a:gs>
                <a:gs pos="100000">
                  <a:srgbClr val="8f420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57560" y="1731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b088"/>
                </a:gs>
                <a:gs pos="50000">
                  <a:srgbClr val="ce5f0c">
                    <a:alpha val="0"/>
                  </a:srgbClr>
                </a:gs>
                <a:gs pos="100000">
                  <a:srgbClr val="e6b0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297960" y="2027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851360" y="1646280"/>
            <a:ext cx="1361520" cy="1321560"/>
            <a:chOff x="4851360" y="1646280"/>
            <a:chExt cx="1361520" cy="1321560"/>
          </a:xfrm>
        </p:grpSpPr>
        <p:sp>
          <p:nvSpPr>
            <p:cNvPr id="217" name=""/>
            <p:cNvSpPr/>
            <p:nvPr/>
          </p:nvSpPr>
          <p:spPr>
            <a:xfrm>
              <a:off x="4851360" y="1646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a719"/>
                </a:gs>
                <a:gs pos="100000">
                  <a:srgbClr val="6674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37040" y="1731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38e"/>
                </a:gs>
                <a:gs pos="50000">
                  <a:srgbClr val="93a719">
                    <a:alpha val="0"/>
                  </a:srgbClr>
                </a:gs>
                <a:gs pos="100000">
                  <a:srgbClr val="c9d3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638760" y="1655640"/>
            <a:ext cx="1361520" cy="1321920"/>
            <a:chOff x="6638760" y="1655640"/>
            <a:chExt cx="1361520" cy="1321920"/>
          </a:xfrm>
        </p:grpSpPr>
        <p:sp>
          <p:nvSpPr>
            <p:cNvPr id="220" name=""/>
            <p:cNvSpPr/>
            <p:nvPr/>
          </p:nvSpPr>
          <p:spPr>
            <a:xfrm>
              <a:off x="6638760" y="16556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20a0"/>
                </a:gs>
                <a:gs pos="100000">
                  <a:srgbClr val="68166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24440" y="17413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91cf"/>
                </a:gs>
                <a:gs pos="50000">
                  <a:srgbClr val="9720a0">
                    <a:alpha val="0"/>
                  </a:srgbClr>
                </a:gs>
                <a:gs pos="100000">
                  <a:srgbClr val="cb91c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033160" y="2027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0800" y="20368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4398840"/>
            <a:ext cx="5257800" cy="124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c4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458136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4152960"/>
            <a:ext cx="2819520" cy="1930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640560"/>
            <a:ext cx="906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[Image Info]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www.wizdata.co.k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- Note to customers : This image has been licensed to be used within this PowerPoint template only.  You may not extract the image for any other use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9" name=""/>
          <p:cNvSpPr/>
          <p:nvPr/>
        </p:nvSpPr>
        <p:spPr>
          <a:xfrm>
            <a:off x="841320" y="1905120"/>
            <a:ext cx="365940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solidFill>
            <a:srgbClr val="93a719">
              <a:alpha val="1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1320" y="2023920"/>
            <a:ext cx="3652920" cy="422280"/>
          </a:xfrm>
          <a:prstGeom prst="rect">
            <a:avLst/>
          </a:prstGeom>
          <a:gradFill rotWithShape="0">
            <a:gsLst>
              <a:gs pos="0">
                <a:srgbClr val="93a719">
                  <a:alpha val="80000"/>
                </a:srgbClr>
              </a:gs>
              <a:gs pos="50000">
                <a:srgbClr val="829416"/>
              </a:gs>
              <a:gs pos="100000">
                <a:srgbClr val="93a719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1908000"/>
            <a:ext cx="3659400" cy="187992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solidFill>
            <a:srgbClr val="1c4598">
              <a:alpha val="1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635360" y="2027160"/>
            <a:ext cx="3664080" cy="422280"/>
          </a:xfrm>
          <a:prstGeom prst="rect">
            <a:avLst/>
          </a:prstGeom>
          <a:gradFill rotWithShape="0">
            <a:gsLst>
              <a:gs pos="0">
                <a:srgbClr val="1c4598">
                  <a:alpha val="80000"/>
                </a:srgbClr>
              </a:gs>
              <a:gs pos="50000">
                <a:srgbClr val="183d86"/>
              </a:gs>
              <a:gs pos="100000">
                <a:srgbClr val="1c4598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3914640"/>
            <a:ext cx="365940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solidFill>
            <a:srgbClr val="ce5f0c">
              <a:alpha val="1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0400" y="3905280"/>
            <a:ext cx="3659040" cy="1881000"/>
          </a:xfrm>
          <a:custGeom>
            <a:avLst/>
            <a:gdLst/>
            <a:ahLst/>
            <a:rect l="l" t="t" r="r" b="b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solidFill>
            <a:srgbClr val="9720a0">
              <a:alpha val="1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2280" y="4044960"/>
            <a:ext cx="318600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9720a0">
                  <a:alpha val="80000"/>
                </a:srgbClr>
              </a:gs>
              <a:gs pos="50000">
                <a:srgbClr val="851c8d"/>
              </a:gs>
              <a:gs pos="100000">
                <a:srgbClr val="9720a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37360" y="4021200"/>
            <a:ext cx="316548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ce5f0c">
                  <a:alpha val="80000"/>
                </a:srgbClr>
              </a:gs>
              <a:gs pos="50000">
                <a:srgbClr val="b6540a"/>
              </a:gs>
              <a:gs pos="100000">
                <a:srgbClr val="ce5f0c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87480" y="202716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87480" y="404964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92840" y="2038320"/>
            <a:ext cx="225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92840" y="4073400"/>
            <a:ext cx="225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69840" y="2651040"/>
            <a:ext cx="29545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92640" y="2651040"/>
            <a:ext cx="29894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1160" y="483084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8520" y="483084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574080" y="2837160"/>
            <a:ext cx="1995840" cy="2001240"/>
            <a:chOff x="3574080" y="2837160"/>
            <a:chExt cx="1995840" cy="2001240"/>
          </a:xfrm>
        </p:grpSpPr>
        <p:sp>
          <p:nvSpPr>
            <p:cNvPr id="246" name=""/>
            <p:cNvSpPr/>
            <p:nvPr/>
          </p:nvSpPr>
          <p:spPr>
            <a:xfrm>
              <a:off x="3727440" y="3005280"/>
              <a:ext cx="1682640" cy="16826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574080" y="2837160"/>
              <a:ext cx="1995840" cy="2001240"/>
              <a:chOff x="3574080" y="2837160"/>
              <a:chExt cx="1995840" cy="2001240"/>
            </a:xfrm>
          </p:grpSpPr>
          <p:pic>
            <p:nvPicPr>
              <p:cNvPr id="248" name="" descr="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3867120" y="3121560"/>
                <a:ext cx="1398240" cy="143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19311000">
                <a:off x="3868200" y="3117960"/>
                <a:ext cx="1407600" cy="1439280"/>
              </a:xfrm>
              <a:prstGeom prst="ellipse">
                <a:avLst/>
              </a:prstGeom>
              <a:solidFill>
                <a:srgbClr val="ff6600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3729960" y="3229920"/>
                <a:ext cx="112176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1" name="" descr=""/>
            <p:cNvPicPr/>
            <p:nvPr/>
          </p:nvPicPr>
          <p:blipFill>
            <a:blip r:embed="rId3"/>
            <a:srcRect l="12029" t="9307" r="12418" b="12612"/>
            <a:stretch/>
          </p:blipFill>
          <p:spPr>
            <a:xfrm>
              <a:off x="3851280" y="3073680"/>
              <a:ext cx="1452600" cy="14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3970440" y="3546360"/>
            <a:ext cx="1218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14130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9720a0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47920" y="1633680"/>
            <a:ext cx="6400080" cy="3361320"/>
            <a:chOff x="1447920" y="1633680"/>
            <a:chExt cx="6400080" cy="3361320"/>
          </a:xfrm>
        </p:grpSpPr>
        <p:grpSp>
          <p:nvGrpSpPr>
            <p:cNvPr id="256" name=""/>
            <p:cNvGrpSpPr/>
            <p:nvPr/>
          </p:nvGrpSpPr>
          <p:grpSpPr>
            <a:xfrm>
              <a:off x="1447920" y="1692360"/>
              <a:ext cx="4260600" cy="3302640"/>
              <a:chOff x="1447920" y="1692360"/>
              <a:chExt cx="4260600" cy="330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2116800" y="1722600"/>
                <a:ext cx="244440" cy="10044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70520" y="17751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09000" y="220752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24760" y="2283120"/>
                <a:ext cx="109080" cy="108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31880" y="408996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64080" y="3674880"/>
                <a:ext cx="502920" cy="33372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78120" y="36781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41000" y="4902480"/>
                <a:ext cx="70560" cy="9252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54840" y="476028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22680" y="468072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10160" y="461520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44360" y="385380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82800" y="335700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56920" y="3451680"/>
                <a:ext cx="174960" cy="29016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08960" y="3360240"/>
                <a:ext cx="11376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86000" y="353448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56920" y="3753000"/>
                <a:ext cx="10260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21080" y="360144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27200" y="2948400"/>
                <a:ext cx="34920" cy="11340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240" y="3137040"/>
                <a:ext cx="95400" cy="18792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67520" y="3374640"/>
                <a:ext cx="99720" cy="12564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87400" y="35982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61120" y="372924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04320" y="3713400"/>
                <a:ext cx="70560" cy="5868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13400" y="382464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33520" y="375768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07120" y="385200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30440" y="388224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98040" y="383616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50240" y="3853800"/>
                <a:ext cx="53640" cy="38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73560" y="3325320"/>
                <a:ext cx="42840" cy="8784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53480" y="331056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88760" y="3283560"/>
                <a:ext cx="15120" cy="399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04240" y="3302640"/>
                <a:ext cx="3384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81240" y="34131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64320" y="337644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58200" y="334764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0240" y="329472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43080" y="332388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61040" y="4314960"/>
                <a:ext cx="7056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25720" y="423684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73360" y="419688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59680" y="4161960"/>
                <a:ext cx="3240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19560" y="385380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71760" y="39222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14600" y="402120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68960" y="400536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53480" y="394776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12080" y="3909600"/>
                <a:ext cx="4140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60960" y="388404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24320" y="39672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36720" y="17942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69200" y="1958760"/>
                <a:ext cx="6264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92120" y="17114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39640" y="17319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24600" y="1736640"/>
                <a:ext cx="79560" cy="5112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75400" y="1780200"/>
                <a:ext cx="137880" cy="4896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16520" y="17784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4480" y="1824840"/>
                <a:ext cx="57960" cy="255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81200" y="2180520"/>
                <a:ext cx="119880" cy="18036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78040" y="23673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21160" y="24951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47520" y="1693800"/>
                <a:ext cx="81360" cy="4788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578320" y="17082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16840" y="1706760"/>
                <a:ext cx="58320" cy="4284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713680" y="169236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684520" y="1720800"/>
                <a:ext cx="23040" cy="208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82720" y="17463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89160" y="405468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52160" y="40438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45960" y="379944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39920" y="3682800"/>
                <a:ext cx="183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02840" y="368136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84480" y="37166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45960" y="3770640"/>
                <a:ext cx="13320" cy="241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75120" y="374976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19880" y="21790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47920" y="1780200"/>
                <a:ext cx="3248640" cy="261288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965840" y="1633680"/>
              <a:ext cx="2882160" cy="3230280"/>
              <a:chOff x="4965840" y="1633680"/>
              <a:chExt cx="2882160" cy="3230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090040" y="1783800"/>
                <a:ext cx="1997640" cy="308016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7040" y="207720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11600" y="227196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3880" y="2361600"/>
                <a:ext cx="15516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96520" y="2972880"/>
                <a:ext cx="24876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02080" y="3074760"/>
                <a:ext cx="155520" cy="6336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66960" y="311472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56240" y="311940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66800" y="17755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93160" y="1710360"/>
                <a:ext cx="23040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16080" y="18216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13200" y="16909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80720" y="1802520"/>
                <a:ext cx="102600" cy="6516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8360" y="1815480"/>
                <a:ext cx="84600" cy="3816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42280" y="17578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99080" y="17071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79080" y="1711800"/>
                <a:ext cx="179640" cy="12276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65840" y="210132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59240" y="291384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63920" y="29538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85400" y="316296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80880" y="23932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23920" y="20674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25440" y="1783800"/>
                <a:ext cx="6120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25520" y="1954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49640" y="16336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6600" y="19256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33000" y="2031120"/>
                <a:ext cx="20160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91400" y="1772640"/>
                <a:ext cx="61200" cy="378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822080" y="21236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101600" y="2031840"/>
            <a:ext cx="1710000" cy="175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054840" y="2487600"/>
            <a:ext cx="1666800" cy="1609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3691080" y="3024360"/>
            <a:ext cx="1657080" cy="1606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369" name=""/>
          <p:cNvSpPr/>
          <p:nvPr/>
        </p:nvSpPr>
        <p:spPr>
          <a:xfrm>
            <a:off x="1330200" y="5083200"/>
            <a:ext cx="70106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1635120" y="518148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5520" y="5083200"/>
            <a:ext cx="0" cy="914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55736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93a71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48120" y="2548080"/>
            <a:ext cx="2590560" cy="37116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9720a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202392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ce5f0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4120" y="5211720"/>
            <a:ext cx="181080" cy="181080"/>
          </a:xfrm>
          <a:prstGeom prst="ellipse">
            <a:avLst/>
          </a:prstGeom>
          <a:solidFill>
            <a:srgbClr val="93a71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79400" y="51544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64120" y="5537160"/>
            <a:ext cx="181080" cy="181080"/>
          </a:xfrm>
          <a:prstGeom prst="ellipse">
            <a:avLst/>
          </a:prstGeom>
          <a:solidFill>
            <a:srgbClr val="9720a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9400" y="54975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64120" y="5859360"/>
            <a:ext cx="181080" cy="181080"/>
          </a:xfrm>
          <a:prstGeom prst="ellipse">
            <a:avLst/>
          </a:prstGeom>
          <a:solidFill>
            <a:srgbClr val="ce5f0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79400" y="58024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2455920"/>
            <a:ext cx="4586400" cy="4173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68480" y="3094200"/>
            <a:ext cx="3389400" cy="3084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52600" y="3575160"/>
            <a:ext cx="2503440" cy="22780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74800" y="3960720"/>
            <a:ext cx="1806480" cy="16416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95920" y="4054320"/>
            <a:ext cx="3149640" cy="60984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11800" y="3137040"/>
            <a:ext cx="34005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86200" y="2303640"/>
            <a:ext cx="33879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83120" y="1486080"/>
            <a:ext cx="337032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92840" y="5340240"/>
            <a:ext cx="2413080" cy="6415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a5b5d5"/>
              </a:gs>
              <a:gs pos="100000">
                <a:srgbClr val="1c45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5334120"/>
            <a:ext cx="2438280" cy="641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5a6d8"/>
              </a:gs>
              <a:gs pos="100000">
                <a:srgbClr val="972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3080" y="5327640"/>
            <a:ext cx="2387520" cy="64152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3dba4"/>
              </a:gs>
              <a:gs pos="100000">
                <a:srgbClr val="93a7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5327640"/>
            <a:ext cx="2286000" cy="64152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eabf9f"/>
              </a:gs>
              <a:gs pos="100000">
                <a:srgbClr val="ce5f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93680" y="54896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22480" y="54849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55960" y="54896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85040" y="5500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3:23:06Z</dcterms:created>
  <dc:creator>幻灯片之家：www.eeppt.com</dc:creator>
  <dc:description/>
  <cp:keywords>幻灯片之家：www.eeppt.com</cp:keywords>
  <dc:language>en-US</dc:language>
  <cp:lastModifiedBy/>
  <dcterms:modified xsi:type="dcterms:W3CDTF">2015-09-18T13:18:2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