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049-CC70-4BBB-88E3-6A9AE66F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EC1-CBF3-4453-A96A-B0CAC34F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E62-EDA8-42FD-A8E4-0D8ABC9F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3F9-78EC-4379-9B31-97E3A5DB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1EA-7185-4AA7-809F-45201B75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760F-50E6-42C1-A190-472F699F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3DE-E65E-4028-A9E9-A15A2D11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BE1-093E-40EE-BE8D-F20CAFFC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8A1A-4CFA-4431-B932-9AB6752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CF5-B001-452A-A26E-FDC1EE7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9433-754C-4022-85F0-DEB595B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B96-5387-4126-B7FE-A0E7957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D4D-7A6C-4BF5-B1B0-C44F90E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565-636C-4E44-99F7-BC4C57A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45B-1BD8-4DA7-BD1A-93BEEB4D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DACC-A64F-4A63-90C5-4E9D5198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C4FA-A6BA-47B0-8942-1B9A9DCD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D8D-5D7B-4D11-A15E-BC5A1FE6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F37-623A-437A-9E47-BB8C9FC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44E-CF91-4FFB-B890-7D38556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E2D-B445-4C94-8A72-5E297935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6AF-1690-4A30-A961-06A8B4C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6F6-FDF1-4624-BCB2-CE7ED9C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513-0347-40A4-A8F5-39189B2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9199-EF4A-4176-ABF4-AB1BDDDD52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B0A-7674-4C08-875C-79CECD3271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  <a:ea typeface="宋体"/>
              </a:rPr>
              <a:t>KID STUFF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157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7472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小学动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imes New Roman"/>
                <a:ea typeface="宋体"/>
              </a:rPr>
              <a:t>TRANSITIONAL PAGE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3E7-684D-41CB-8F7D-387017EF7F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576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5:54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