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4E3-359B-45DE-9C20-B742344B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F97-E394-4427-8FB0-1155E938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776-0B45-479D-A780-09B8C61D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640-DAFA-4AC2-B250-D5AB2766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046-87AE-403F-9A39-64541C8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5C4-0835-4D8F-A3E8-8D137B3C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9E2-9660-4752-8073-BFA53957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67C-195D-4884-9869-53370F2F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843-1CE4-4787-8A7A-7F0E12F3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146-A64C-4D45-B6D6-D400C0F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10B-D036-469B-91A9-0BB22B83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0DC-FF99-47AE-B08E-5813A94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158-DF02-406D-82AA-42686690C8FF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006800" y="1674720"/>
            <a:ext cx="4287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Calibri"/>
                <a:ea typeface="宋体"/>
              </a:rPr>
              <a:t>单击添加署名或公司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1640" y="404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国外住宅小区景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CA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CA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CA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0C1-F7A6-47C8-A86F-4AA87ED50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572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62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4:55:4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2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