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3090-E266-4BA4-BE09-165F342F0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85840" y="30945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7C29-33C7-42DB-A62E-B5B5897EE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4572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4933-ED6F-446A-B68D-433E504AD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50908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3196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8584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50908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3196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BC1D-1459-4542-B958-902606E6D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B8A56-E2BB-43C0-8CA8-8DC7E708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17FB-896E-4922-A9B3-64ACD6E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FAE5D-9AC7-48C9-A2CD-4B490BCA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96AD8-7A1E-49E3-99EB-4059BE22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A776A-5451-4974-9EFD-F41CF515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9520" y="2133360"/>
            <a:ext cx="487692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275B2-BD7D-4B83-BD26-AF54027F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CD995-2681-4F71-A6E7-ECC4250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BE78-FB3E-48BF-8687-40CCF1C49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4572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2B465-4112-413B-9D65-AC1CCD10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74E7B-C8B8-4DCA-9EE6-73601FC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85840" y="30945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683E4-7CA8-4D1F-B44A-7F8759BD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4572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38584-2046-4C2E-BA44-FDEB57FC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0908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131960" y="28951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8584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550908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131960" y="30945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B5B20-76DE-48FF-9298-7EE968AA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8FA0-D2D9-464B-98DB-9035450EB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3621-6A63-4DF7-9EBC-75FC5EA5B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0D30-4D8D-42E7-8CAE-0077D7A40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9520" y="2133360"/>
            <a:ext cx="487692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85A4-8123-43F7-AAED-B589B04B5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BDE3-0DA3-4BF9-A7D3-25C95BA6E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45720" y="30945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B7C0-C7C1-4AEE-B33D-24CF7893C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584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45720" y="28951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5840" y="30945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6969-38CD-459E-A695-6A635F0F4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75520" y="523800"/>
            <a:ext cx="2639880" cy="3603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28600" y="457200"/>
            <a:ext cx="8686800" cy="6153120"/>
          </a:xfrm>
          <a:prstGeom prst="rect">
            <a:avLst/>
          </a:prstGeom>
          <a:noFill/>
          <a:ln w="38160">
            <a:solidFill>
              <a:srgbClr val="6a9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15000" y="6305400"/>
            <a:ext cx="30099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133200"/>
            <a:ext cx="5562720" cy="10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798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16d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798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4d798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90960" y="63241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228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CE76-BB46-47BB-A1AC-67932B9454FD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5535720" y="190440"/>
            <a:ext cx="662040" cy="81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458200" cy="632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28440">
            <a:solidFill>
              <a:srgbClr val="6a9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152280" y="6552720"/>
            <a:ext cx="2438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3720" y="655272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476760" y="655272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1F50-538C-47AA-A513-7BE61DA175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2819520"/>
            <a:ext cx="5105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24080" y="2514600"/>
            <a:ext cx="61596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9520" y="2133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werPoin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18730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16dbd"/>
                </a:solidFill>
                <a:latin typeface="Arial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3366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3366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089080" y="6094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个性简洁企业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8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16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d7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d798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d798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9414d"/>
                </a:gs>
                <a:gs pos="50000">
                  <a:srgbClr val="4d798f"/>
                </a:gs>
                <a:gs pos="100000">
                  <a:srgbClr val="2941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d798f">
                    <a:alpha val="0"/>
                  </a:srgbClr>
                </a:gs>
                <a:gs pos="100000">
                  <a:srgbClr val="304c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3b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3b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94f65"/>
                </a:gs>
                <a:gs pos="50000">
                  <a:srgbClr val="6a93bc"/>
                </a:gs>
                <a:gs pos="100000">
                  <a:srgbClr val="394f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a93bc">
                    <a:alpha val="0"/>
                  </a:srgbClr>
                </a:gs>
                <a:gs pos="100000">
                  <a:srgbClr val="435d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4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16db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53257"/>
                </a:gs>
                <a:gs pos="100000">
                  <a:srgbClr val="516dbd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b3a65"/>
                </a:gs>
                <a:gs pos="50000">
                  <a:srgbClr val="516dbd"/>
                </a:gs>
                <a:gs pos="100000">
                  <a:srgbClr val="2b3a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16dbd">
                    <a:alpha val="0"/>
                  </a:srgbClr>
                </a:gs>
                <a:gs pos="100000">
                  <a:srgbClr val="3344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4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9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298" name="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3bc"/>
                    </a:gs>
                    <a:gs pos="100000">
                      <a:srgbClr val="19232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3b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6dbd"/>
                    </a:gs>
                    <a:gs pos="100000">
                      <a:srgbClr val="131a2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16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4b6e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273d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d79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7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51a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9b7de"/>
                </a:gs>
                <a:gs pos="100000">
                  <a:srgbClr val="516d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a93b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a93b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94f65"/>
                </a:gs>
                <a:gs pos="50000">
                  <a:srgbClr val="6a93bc"/>
                </a:gs>
                <a:gs pos="100000">
                  <a:srgbClr val="394f6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a93bc">
                    <a:alpha val="0"/>
                  </a:srgbClr>
                </a:gs>
                <a:gs pos="100000">
                  <a:srgbClr val="435d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60280" y="1828800"/>
            <a:ext cx="8626320" cy="4188960"/>
            <a:chOff x="260280" y="1828800"/>
            <a:chExt cx="8626320" cy="4188960"/>
          </a:xfrm>
        </p:grpSpPr>
        <p:grpSp>
          <p:nvGrpSpPr>
            <p:cNvPr id="405" name=""/>
            <p:cNvGrpSpPr/>
            <p:nvPr/>
          </p:nvGrpSpPr>
          <p:grpSpPr>
            <a:xfrm>
              <a:off x="260280" y="3279600"/>
              <a:ext cx="8626320" cy="167040"/>
              <a:chOff x="260280" y="3279600"/>
              <a:chExt cx="8626320" cy="167040"/>
            </a:xfrm>
          </p:grpSpPr>
          <p:sp>
            <p:nvSpPr>
              <p:cNvPr id="406" name=""/>
              <p:cNvSpPr/>
              <p:nvPr/>
            </p:nvSpPr>
            <p:spPr>
              <a:xfrm>
                <a:off x="260280" y="3279600"/>
                <a:ext cx="8626320" cy="65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0280" y="3343680"/>
                <a:ext cx="8626320" cy="10296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61760" y="2685960"/>
              <a:ext cx="1932840" cy="3265200"/>
              <a:chOff x="761760" y="2685960"/>
              <a:chExt cx="1932840" cy="32652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168200" y="3526560"/>
                <a:ext cx="1526400" cy="2424600"/>
                <a:chOff x="1168200" y="3526560"/>
                <a:chExt cx="1526400" cy="242460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1168200" y="3684240"/>
                  <a:ext cx="1420200" cy="2266920"/>
                  <a:chOff x="1168200" y="3684240"/>
                  <a:chExt cx="1420200" cy="22669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876600">
                    <a:off x="740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876600">
                    <a:off x="2107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 rot="3876600">
                    <a:off x="2310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761760" y="2685960"/>
                <a:ext cx="1270800" cy="1309320"/>
                <a:chOff x="761760" y="2685960"/>
                <a:chExt cx="1270800" cy="13093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45640" y="277092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45640" y="277380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915840" y="2844360"/>
                  <a:ext cx="962640" cy="992880"/>
                  <a:chOff x="915840" y="2844360"/>
                  <a:chExt cx="962640" cy="992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915840" y="2844360"/>
                    <a:ext cx="96264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928080" y="2849760"/>
                    <a:ext cx="93960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938160" y="2859120"/>
                    <a:ext cx="89352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990360" y="2884680"/>
                    <a:ext cx="79416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925800">
                <a:off x="1590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1a0b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1a0b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1a0b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1a0b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cxnSp>
            <p:nvCxnSpPr>
              <p:cNvPr id="496" name=""/>
              <p:cNvCxnSpPr>
                <a:stCxn id="492" idx="3"/>
                <a:endCxn id="49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497" name=""/>
              <p:cNvCxnSpPr>
                <a:stCxn id="493" idx="3"/>
                <a:endCxn id="49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49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16dbd"/>
                  </a:gs>
                  <a:gs pos="100000">
                    <a:srgbClr val="384b8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aeda"/>
                  </a:gs>
                  <a:gs pos="50000">
                    <a:srgbClr val="516dbd">
                      <a:alpha val="0"/>
                    </a:srgbClr>
                  </a:gs>
                  <a:gs pos="100000">
                    <a:srgbClr val="9faed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d9dad"/>
                  </a:gs>
                  <a:gs pos="100000">
                    <a:srgbClr val="4d798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798f">
                      <a:alpha val="0"/>
                    </a:srgbClr>
                  </a:gs>
                  <a:gs pos="100000">
                    <a:srgbClr val="b2c5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b9d3"/>
                  </a:gs>
                  <a:gs pos="100000">
                    <a:srgbClr val="6a93b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93bc">
                      <a:alpha val="0"/>
                    </a:srgbClr>
                  </a:gs>
                  <a:gs pos="100000">
                    <a:srgbClr val="b5c9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233741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516db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233741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516db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38080" y="2257560"/>
          <a:ext cx="7467480" cy="30258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16db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48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80000"/>
                      </a:srgbClr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a93b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4724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04080" y="580320"/>
            <a:ext cx="7379640" cy="5581800"/>
            <a:chOff x="604080" y="580320"/>
            <a:chExt cx="7379640" cy="5581800"/>
          </a:xfrm>
        </p:grpSpPr>
        <p:sp>
          <p:nvSpPr>
            <p:cNvPr id="558" name=""/>
            <p:cNvSpPr/>
            <p:nvPr/>
          </p:nvSpPr>
          <p:spPr>
            <a:xfrm>
              <a:off x="2141640" y="4367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efefef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1452240" y="225540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471320" y="2092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388880" y="207756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bb6d1"/>
                </a:gs>
                <a:gs pos="100000">
                  <a:srgbClr val="6a93b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rot="20602200">
              <a:off x="1437840" y="207720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2889c"/>
                </a:gs>
                <a:gs pos="100000">
                  <a:srgbClr val="4d798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01600">
              <a:off x="1321200" y="2098440"/>
              <a:ext cx="577368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2a5360"/>
                </a:gs>
                <a:gs pos="100000">
                  <a:srgbClr val="51a0b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rot="20602200">
              <a:off x="1405800" y="207036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949ebc"/>
                </a:gs>
                <a:gs pos="100000">
                  <a:srgbClr val="6d7ba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01600">
              <a:off x="2933640" y="2806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24560" y="3485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29680" y="2266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58480" y="2571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04080" y="580320"/>
              <a:ext cx="7379640" cy="5581800"/>
              <a:chOff x="604080" y="580320"/>
              <a:chExt cx="7379640" cy="5581800"/>
            </a:xfrm>
          </p:grpSpPr>
          <p:sp>
            <p:nvSpPr>
              <p:cNvPr id="570" name=""/>
              <p:cNvSpPr/>
              <p:nvPr/>
            </p:nvSpPr>
            <p:spPr>
              <a:xfrm>
                <a:off x="5448240" y="352440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a93bc"/>
                  </a:gs>
                  <a:gs pos="100000">
                    <a:srgbClr val="40597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539200">
                <a:off x="1022400" y="148428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04356"/>
                  </a:gs>
                  <a:gs pos="100000">
                    <a:srgbClr val="6a93bc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82800" y="400068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4356"/>
                  </a:gs>
                  <a:gs pos="100000">
                    <a:srgbClr val="6a93b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353200" y="37911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3143880" y="4476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27640" y="406692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3036960" y="305748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219320" y="1981080"/>
            <a:ext cx="6781320" cy="4266720"/>
            <a:chOff x="1219320" y="1981080"/>
            <a:chExt cx="6781320" cy="4266720"/>
          </a:xfrm>
        </p:grpSpPr>
        <p:sp>
          <p:nvSpPr>
            <p:cNvPr id="579" name=""/>
            <p:cNvSpPr/>
            <p:nvPr/>
          </p:nvSpPr>
          <p:spPr>
            <a:xfrm>
              <a:off x="2127960" y="266940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18440" y="198108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798f"/>
                </a:gs>
                <a:gs pos="50000">
                  <a:srgbClr val="8ba8b6"/>
                </a:gs>
                <a:gs pos="100000">
                  <a:srgbClr val="4d798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61920" y="3219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219320" y="4361400"/>
              <a:ext cx="1363320" cy="1796400"/>
              <a:chOff x="1219320" y="4361400"/>
              <a:chExt cx="1363320" cy="179640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1219320" y="4361400"/>
                <a:ext cx="1363320" cy="1368000"/>
                <a:chOff x="1219320" y="4361400"/>
                <a:chExt cx="1363320" cy="1368000"/>
              </a:xfrm>
            </p:grpSpPr>
            <p:grpSp>
              <p:nvGrpSpPr>
                <p:cNvPr id="584" name=""/>
                <p:cNvGrpSpPr/>
                <p:nvPr/>
              </p:nvGrpSpPr>
              <p:grpSpPr>
                <a:xfrm>
                  <a:off x="1219320" y="4361400"/>
                  <a:ext cx="1363320" cy="1368000"/>
                  <a:chOff x="1219320" y="4361400"/>
                  <a:chExt cx="1363320" cy="136800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1219320" y="43614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7ae26"/>
                      </a:gs>
                      <a:gs pos="100000">
                        <a:srgbClr val="4b6e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375200" y="438408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ae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" name=""/>
                <p:cNvSpPr/>
                <p:nvPr/>
              </p:nvSpPr>
              <p:spPr>
                <a:xfrm>
                  <a:off x="1316160" y="50569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1359000" y="580680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602400" y="4321440"/>
              <a:ext cx="1398240" cy="1866240"/>
              <a:chOff x="6602400" y="4321440"/>
              <a:chExt cx="1398240" cy="186624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6602400" y="4321440"/>
                <a:ext cx="1398240" cy="1383120"/>
                <a:chOff x="6602400" y="4321440"/>
                <a:chExt cx="1398240" cy="1383120"/>
              </a:xfrm>
            </p:grpSpPr>
            <p:grpSp>
              <p:nvGrpSpPr>
                <p:cNvPr id="591" name=""/>
                <p:cNvGrpSpPr/>
                <p:nvPr/>
              </p:nvGrpSpPr>
              <p:grpSpPr>
                <a:xfrm>
                  <a:off x="6602400" y="4321440"/>
                  <a:ext cx="1398240" cy="1383120"/>
                  <a:chOff x="6602400" y="4321440"/>
                  <a:chExt cx="1398240" cy="13831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6602400" y="43214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a93bc"/>
                      </a:gs>
                      <a:gs pos="100000">
                        <a:srgbClr val="19232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762240" y="434412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a93b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4" name=""/>
                <p:cNvSpPr/>
                <p:nvPr/>
              </p:nvSpPr>
              <p:spPr>
                <a:xfrm>
                  <a:off x="6684120" y="4965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6641640" y="57481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967120" y="4361400"/>
              <a:ext cx="1397880" cy="1886400"/>
              <a:chOff x="2967120" y="4361400"/>
              <a:chExt cx="1397880" cy="18864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2967120" y="4361400"/>
                <a:ext cx="1397880" cy="1373400"/>
                <a:chOff x="2967120" y="4361400"/>
                <a:chExt cx="1397880" cy="13734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967120" y="43614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273d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126960" y="43840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d79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3036960" y="50205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67120" y="58064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4854600" y="4321440"/>
              <a:ext cx="1397880" cy="1886400"/>
              <a:chOff x="4854600" y="4321440"/>
              <a:chExt cx="1397880" cy="188640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4854600" y="4321440"/>
                <a:ext cx="1397880" cy="1373400"/>
                <a:chOff x="4854600" y="4321440"/>
                <a:chExt cx="1397880" cy="137340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854600" y="4321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6dbd"/>
                    </a:gs>
                    <a:gs pos="100000">
                      <a:srgbClr val="2937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014440" y="43441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16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4924440" y="498060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54600" y="576648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228240"/>
            <a:ext cx="482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1ecd0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16dbd"/>
                </a:gs>
                <a:gs pos="50000">
                  <a:srgbClr val="d9dff0"/>
                </a:gs>
                <a:gs pos="100000">
                  <a:srgbClr val="516db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16d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1a0b9"/>
                </a:gs>
                <a:gs pos="50000">
                  <a:srgbClr val="d9e9ef"/>
                </a:gs>
                <a:gs pos="100000">
                  <a:srgbClr val="51a0b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1a0b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a93bc"/>
                </a:gs>
                <a:gs pos="50000">
                  <a:srgbClr val="dee7ef"/>
                </a:gs>
                <a:gs pos="100000">
                  <a:srgbClr val="6a93b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a93b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798f"/>
              </a:solidFill>
              <a:latin typeface="Verdan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F549-FC99-4CD7-BF82-EBDF545FF9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6200" y="21337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16dbd"/>
                    </a:gs>
                    <a:gs pos="100000">
                      <a:srgbClr val="51a0b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16dbd"/>
                  </a:gs>
                  <a:gs pos="100000">
                    <a:srgbClr val="51a0b9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8520" y="1980720"/>
            <a:ext cx="770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798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798f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4d798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798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16d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516dbd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516dbd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516dbd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516dbd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51a0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55627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1a0b9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1a0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1a0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51a0b9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7ca74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3a45"/>
                    </a:gs>
                    <a:gs pos="100000">
                      <a:srgbClr val="4d798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798f"/>
                    </a:gs>
                    <a:gs pos="100000">
                      <a:srgbClr val="afc2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516dbd"/>
                  </a:gs>
                  <a:gs pos="100000">
                    <a:srgbClr val="25325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1cbe7"/>
                  </a:gs>
                  <a:gs pos="100000">
                    <a:srgbClr val="516dbd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16dbd">
                      <a:alpha val="48235"/>
                    </a:srgbClr>
                  </a:gs>
                  <a:gs pos="100000">
                    <a:srgbClr val="3f56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516dbd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d3da"/>
              </a:gs>
              <a:gs pos="100000">
                <a:srgbClr val="4d79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d798f"/>
                </a:gs>
                <a:gs pos="100000">
                  <a:srgbClr val="1a29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16dbd"/>
                </a:gs>
                <a:gs pos="100000">
                  <a:srgbClr val="1922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2432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53257"/>
                </a:gs>
                <a:gs pos="50000">
                  <a:srgbClr val="516dbd"/>
                </a:gs>
                <a:gs pos="100000">
                  <a:srgbClr val="2532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3741"/>
                </a:gs>
                <a:gs pos="50000">
                  <a:srgbClr val="4d798f"/>
                </a:gs>
                <a:gs pos="100000">
                  <a:srgbClr val="2337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1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ad8e2"/>
                  </a:gs>
                  <a:gs pos="100000">
                    <a:srgbClr val="51a0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ad8e2"/>
                  </a:gs>
                  <a:gs pos="100000">
                    <a:srgbClr val="51a0b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ad8e2"/>
                  </a:gs>
                  <a:gs pos="100000">
                    <a:srgbClr val="51a0b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d798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29414d"/>
                  </a:gs>
                  <a:gs pos="50000">
                    <a:srgbClr val="4d798f"/>
                  </a:gs>
                  <a:gs pos="100000">
                    <a:srgbClr val="2941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356"/>
                </a:gs>
                <a:gs pos="50000">
                  <a:srgbClr val="6a93bc"/>
                </a:gs>
                <a:gs pos="100000">
                  <a:srgbClr val="3043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3257"/>
                </a:gs>
                <a:gs pos="50000">
                  <a:srgbClr val="516dbd"/>
                </a:gs>
                <a:gs pos="100000">
                  <a:srgbClr val="2532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3257"/>
                </a:gs>
                <a:gs pos="50000">
                  <a:srgbClr val="516dbd"/>
                </a:gs>
                <a:gs pos="100000">
                  <a:srgbClr val="2532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3257"/>
                </a:gs>
                <a:gs pos="50000">
                  <a:srgbClr val="516dbd"/>
                </a:gs>
                <a:gs pos="100000">
                  <a:srgbClr val="2532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0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5011"/>
                  </a:gs>
                  <a:gs pos="50000">
                    <a:srgbClr val="77ae26"/>
                  </a:gs>
                  <a:gs pos="100000">
                    <a:srgbClr val="36501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3741"/>
                  </a:gs>
                  <a:gs pos="50000">
                    <a:srgbClr val="4d798f"/>
                  </a:gs>
                  <a:gs pos="100000">
                    <a:srgbClr val="2337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4d7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4356"/>
                  </a:gs>
                  <a:gs pos="50000">
                    <a:srgbClr val="6a93bc"/>
                  </a:gs>
                  <a:gs pos="100000">
                    <a:srgbClr val="30435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53257"/>
                  </a:gs>
                  <a:gs pos="50000">
                    <a:srgbClr val="516dbd"/>
                  </a:gs>
                  <a:gs pos="100000">
                    <a:srgbClr val="25325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516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557d1b"/>
                  </a:gs>
                  <a:gs pos="50000">
                    <a:srgbClr val="77ae26"/>
                  </a:gs>
                  <a:gs pos="100000">
                    <a:srgbClr val="557d1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375767"/>
                  </a:gs>
                  <a:gs pos="50000">
                    <a:srgbClr val="4d798f"/>
                  </a:gs>
                  <a:gs pos="100000">
                    <a:srgbClr val="3757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a9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c6a87"/>
                  </a:gs>
                  <a:gs pos="50000">
                    <a:srgbClr val="6a93bc"/>
                  </a:gs>
                  <a:gs pos="100000">
                    <a:srgbClr val="4c6a8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a4e88"/>
                  </a:gs>
                  <a:gs pos="50000">
                    <a:srgbClr val="516dbd"/>
                  </a:gs>
                  <a:gs pos="100000">
                    <a:srgbClr val="3a4e8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876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5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d798f"/>
                </a:gs>
                <a:gs pos="100000">
                  <a:srgbClr val="5c849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7a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5011"/>
                </a:gs>
                <a:gs pos="50000">
                  <a:srgbClr val="77ae26"/>
                </a:gs>
                <a:gs pos="100000">
                  <a:srgbClr val="3650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d79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3741"/>
                </a:gs>
                <a:gs pos="50000">
                  <a:srgbClr val="4d798f"/>
                </a:gs>
                <a:gs pos="100000">
                  <a:srgbClr val="2337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a93bc"/>
                </a:gs>
                <a:gs pos="100000">
                  <a:srgbClr val="a8bfd7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a93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83848"/>
                  </a:gs>
                  <a:gs pos="50000">
                    <a:srgbClr val="6a93bc"/>
                  </a:gs>
                  <a:gs pos="100000">
                    <a:srgbClr val="2838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05:30:4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10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