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234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234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234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234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234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234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234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헤드라인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234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234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234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234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234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234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234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234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234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234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헤드라인M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234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234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234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234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헤드라인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헤드라인M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uli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Gulim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Gulim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헤드라인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Gulim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Gulim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Gulim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9" name=""/>
          <p:cNvSpPr/>
          <p:nvPr/>
        </p:nvSpPr>
        <p:spPr>
          <a:xfrm>
            <a:off x="2683080" y="909720"/>
            <a:ext cx="436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Gulim"/>
              </a:rPr>
              <a:t>个性简历</a:t>
            </a:r>
            <a:r>
              <a:rPr b="0" lang="zh-CN" sz="4000" spc="-1" strike="noStrike">
                <a:solidFill>
                  <a:srgbClr val="000000"/>
                </a:solidFill>
                <a:latin typeface="Gulim"/>
                <a:ea typeface="宋体"/>
              </a:rPr>
              <a:t>绿色</a:t>
            </a:r>
            <a:r>
              <a:rPr b="0" lang="ko-KR" sz="4000" spc="-1" strike="noStrike">
                <a:solidFill>
                  <a:srgbClr val="000000"/>
                </a:solidFill>
                <a:latin typeface="Gulim"/>
              </a:rPr>
              <a:t>PPT</a:t>
            </a:r>
            <a:r>
              <a:rPr b="0" lang="ko-KR" sz="4000" spc="-1" strike="noStrike">
                <a:solidFill>
                  <a:srgbClr val="000000"/>
                </a:solidFill>
                <a:latin typeface="Gulim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234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HY헤드라인M"/>
              </a:rPr>
              <a:t>使用规范说明</a:t>
            </a:r>
            <a:endParaRPr b="0" lang="en-US" sz="32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站点介绍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www.eeppt.com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为您提供免费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下载，有好看的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背景图片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素材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图表，动态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大全，幻灯片模板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owe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rPoint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模板等各类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助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您轻松制作出精美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模板收集于网络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栏目推荐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Gulim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665280"/>
            <a:ext cx="7925040" cy="32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Gulim"/>
              </a:rPr>
              <a:t> </a:t>
            </a:r>
            <a:r>
              <a:rPr b="0" lang="ko-KR" sz="1600" spc="-1" strike="noStrike" u="sng">
                <a:solidFill>
                  <a:srgbClr val="009999"/>
                </a:solidFill>
                <a:uFillTx/>
                <a:latin typeface="Gulim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Gulim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Gulim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12:51:46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5:09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