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723438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9FA3-EC48-4095-918C-586BE0183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8750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3745080"/>
            <a:ext cx="8750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1817-A838-4F1F-BBEF-FAB9CC60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37450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9080" y="37450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5411-E5DF-4FE2-8D75-8D655D41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3760" y="15112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2600" y="15112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37450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3760" y="37450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2600" y="37450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BE16-B9EF-4D28-9D58-5B7A885E3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511280"/>
            <a:ext cx="875052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B0C6-6B9E-43DF-A109-91528988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87505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3644-6FE2-4DFD-BA56-CA694243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3AAB-D225-4FCF-B9FD-4D040F0D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0E1C-F570-40AC-9165-7F54991B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58480"/>
            <a:ext cx="875052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E324-D172-42C1-A4FD-F1553E50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37450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9FF0-79B2-44A2-84BA-5FD12981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9080" y="37450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E677-7E3D-4C3E-8FC6-8C14F3AA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3745080"/>
            <a:ext cx="8750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A3FB-B799-41B5-ACDA-613AC1BA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1280"/>
            <a:ext cx="87505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0760"/>
            <a:ext cx="22687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0640" y="5900760"/>
            <a:ext cx="3079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7440" y="5900760"/>
            <a:ext cx="22687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AADD-42AE-4580-9CE3-6C18C366E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11280" y="-19440"/>
            <a:ext cx="482616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Arial"/>
                <a:ea typeface="时尚中黑简体"/>
              </a:rPr>
              <a:t>个人简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1042920" y="542880"/>
            <a:ext cx="4338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12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6048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14120" y="93672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工作个人简历文档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8600" y="179280"/>
            <a:ext cx="8726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4480" y="1199880"/>
            <a:ext cx="94932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746840" y="314280"/>
            <a:ext cx="1478160" cy="330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40FB-B9A2-4A63-9DAA-9348B060C8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时尚中黑简体"/>
              </a:rPr>
              <a:t>个人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7640" y="1511280"/>
            <a:ext cx="819144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时尚中黑简体"/>
              </a:rPr>
              <a:t>性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时尚中黑简体"/>
              </a:rPr>
              <a:t>爱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时尚中黑简体"/>
              </a:rPr>
              <a:t>学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07:03:46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9:23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