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10A0-728F-47CD-8243-929D7762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6E43-7965-415A-8277-A53A373A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1E28-78D2-429A-9576-1EE8C7EB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A77-D59C-4A50-94BA-8F6C09C0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6542-852F-4711-B4AE-AFF6D784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CBCF-E314-4323-ACEE-A5BA21E3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415E-05FC-4F3F-B162-C4C0EE5C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CD40-0287-480D-A6FB-CA64AFD0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7B68-69E5-4B5C-989B-35DB6FD3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450C-CEDA-466A-9968-AD57DE60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0E37-5CA6-45BD-9E5C-16CB4067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1E28-D896-4D0D-B921-5356023C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CAF7-7E03-4C90-963D-E50369605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644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</a:t>
            </a: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年     月</a:t>
            </a:r>
            <a:br>
              <a:rPr sz="4000"/>
            </a:br>
            <a:r>
              <a:rPr b="0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月度工作计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02960" y="83664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工作计划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58920" y="1916280"/>
            <a:ext cx="6481800" cy="3817800"/>
          </a:xfrm>
          <a:prstGeom prst="donut">
            <a:avLst>
              <a:gd name="adj" fmla="val 1884"/>
            </a:avLst>
          </a:prstGeom>
          <a:gradFill rotWithShape="0">
            <a:gsLst>
              <a:gs pos="0">
                <a:srgbClr val="339966">
                  <a:alpha val="50196"/>
                </a:srgbClr>
              </a:gs>
              <a:gs pos="100000">
                <a:srgbClr val="339966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19280" y="2349360"/>
            <a:ext cx="5769000" cy="2965680"/>
          </a:xfrm>
          <a:prstGeom prst="ellipse">
            <a:avLst/>
          </a:prstGeom>
          <a:gradFill rotWithShape="0">
            <a:gsLst>
              <a:gs pos="0">
                <a:srgbClr val="339966">
                  <a:alpha val="26274"/>
                </a:srgbClr>
              </a:gs>
              <a:gs pos="100000">
                <a:srgbClr val="339966">
                  <a:alpha val="8235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27040" y="2924280"/>
            <a:ext cx="2746440" cy="1847880"/>
            <a:chOff x="527040" y="2924280"/>
            <a:chExt cx="2746440" cy="1847880"/>
          </a:xfrm>
        </p:grpSpPr>
        <p:sp>
          <p:nvSpPr>
            <p:cNvPr id="87" name=""/>
            <p:cNvSpPr/>
            <p:nvPr/>
          </p:nvSpPr>
          <p:spPr>
            <a:xfrm>
              <a:off x="625680" y="2943360"/>
              <a:ext cx="2647800" cy="1828800"/>
            </a:xfrm>
            <a:prstGeom prst="rightArrowCallout">
              <a:avLst>
                <a:gd name="adj1" fmla="val 22567"/>
                <a:gd name="adj2" fmla="val 25000"/>
                <a:gd name="adj3" fmla="val 20772"/>
                <a:gd name="adj4" fmla="val 77796"/>
              </a:avLst>
            </a:prstGeom>
            <a:gradFill rotWithShape="0">
              <a:gsLst>
                <a:gs pos="0">
                  <a:srgbClr val="bbe0e3">
                    <a:alpha val="64313"/>
                  </a:srgbClr>
                </a:gs>
                <a:gs pos="100000">
                  <a:srgbClr val="566768">
                    <a:alpha val="35294"/>
                  </a:srgbClr>
                </a:gs>
              </a:gsLst>
              <a:lin ang="13500000"/>
            </a:grad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5680" y="2943360"/>
              <a:ext cx="2057400" cy="38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7040" y="3362400"/>
              <a:ext cx="133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1280" y="2924280"/>
              <a:ext cx="208908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419640" y="1268280"/>
            <a:ext cx="2232000" cy="1752480"/>
            <a:chOff x="3419640" y="1268280"/>
            <a:chExt cx="2232000" cy="1752480"/>
          </a:xfrm>
        </p:grpSpPr>
        <p:sp>
          <p:nvSpPr>
            <p:cNvPr id="92" name=""/>
            <p:cNvSpPr/>
            <p:nvPr/>
          </p:nvSpPr>
          <p:spPr>
            <a:xfrm>
              <a:off x="3419640" y="1268280"/>
              <a:ext cx="2160720" cy="1752480"/>
            </a:xfrm>
            <a:prstGeom prst="downArrowCallout">
              <a:avLst>
                <a:gd name="adj1" fmla="val 33875"/>
                <a:gd name="adj2" fmla="val 31583"/>
                <a:gd name="adj3" fmla="val 19384"/>
                <a:gd name="adj4" fmla="val 72102"/>
              </a:avLst>
            </a:prstGeom>
            <a:gradFill rotWithShape="0">
              <a:gsLst>
                <a:gs pos="0">
                  <a:srgbClr val="33cc33">
                    <a:alpha val="65098"/>
                  </a:srgbClr>
                </a:gs>
                <a:gs pos="100000">
                  <a:srgbClr val="175e17">
                    <a:alpha val="35294"/>
                  </a:srgbClr>
                </a:gs>
              </a:gsLst>
              <a:lin ang="13500000"/>
            </a:grad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19640" y="1282680"/>
              <a:ext cx="2160720" cy="409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45200" y="1679400"/>
              <a:ext cx="220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19640" y="1268280"/>
              <a:ext cx="216072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580000" y="2924280"/>
            <a:ext cx="2881440" cy="1847880"/>
            <a:chOff x="5580000" y="2924280"/>
            <a:chExt cx="2881440" cy="1847880"/>
          </a:xfrm>
        </p:grpSpPr>
        <p:sp>
          <p:nvSpPr>
            <p:cNvPr id="97" name=""/>
            <p:cNvSpPr/>
            <p:nvPr/>
          </p:nvSpPr>
          <p:spPr>
            <a:xfrm>
              <a:off x="5580000" y="2943360"/>
              <a:ext cx="2878200" cy="1828800"/>
            </a:xfrm>
            <a:prstGeom prst="leftArrowCallout">
              <a:avLst>
                <a:gd name="adj1" fmla="val 21317"/>
                <a:gd name="adj2" fmla="val 25000"/>
                <a:gd name="adj3" fmla="val 31105"/>
                <a:gd name="adj4" fmla="val 74748"/>
              </a:avLst>
            </a:prstGeom>
            <a:gradFill rotWithShape="0">
              <a:gsLst>
                <a:gs pos="0">
                  <a:srgbClr val="3399ff">
                    <a:alpha val="68235"/>
                  </a:srgbClr>
                </a:gs>
                <a:gs pos="100000">
                  <a:srgbClr val="174675">
                    <a:alpha val="27058"/>
                  </a:srgbClr>
                </a:gs>
              </a:gsLst>
              <a:lin ang="13500000"/>
            </a:grad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00720" y="2924280"/>
              <a:ext cx="2157480" cy="4287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73440" y="3635640"/>
              <a:ext cx="128772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85680" indent="-85680"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00720" y="2924280"/>
              <a:ext cx="216072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349440" y="4829040"/>
            <a:ext cx="2230560" cy="1695600"/>
            <a:chOff x="3349440" y="4829040"/>
            <a:chExt cx="2230560" cy="1695600"/>
          </a:xfrm>
        </p:grpSpPr>
        <p:sp>
          <p:nvSpPr>
            <p:cNvPr id="102" name=""/>
            <p:cNvSpPr/>
            <p:nvPr/>
          </p:nvSpPr>
          <p:spPr>
            <a:xfrm>
              <a:off x="3432240" y="6143400"/>
              <a:ext cx="2133360" cy="381240"/>
            </a:xfrm>
            <a:prstGeom prst="rect">
              <a:avLst/>
            </a:prstGeom>
            <a:gradFill rotWithShape="0">
              <a:gsLst>
                <a:gs pos="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936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32240" y="4829040"/>
              <a:ext cx="2133360" cy="1295280"/>
            </a:xfrm>
            <a:prstGeom prst="upArrowCallout">
              <a:avLst>
                <a:gd name="adj1" fmla="val 51596"/>
                <a:gd name="adj2" fmla="val 41176"/>
                <a:gd name="adj3" fmla="val 13856"/>
                <a:gd name="adj4" fmla="val 46184"/>
              </a:avLst>
            </a:prstGeom>
            <a:gradFill rotWithShape="0">
              <a:gsLst>
                <a:gs pos="0">
                  <a:srgbClr val="dddddd">
                    <a:alpha val="71372"/>
                  </a:srgbClr>
                </a:gs>
                <a:gs pos="100000">
                  <a:srgbClr val="656565">
                    <a:alpha val="32156"/>
                  </a:srgbClr>
                </a:gs>
              </a:gsLst>
              <a:lin ang="5400000"/>
            </a:grad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49440" y="5154480"/>
              <a:ext cx="128772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85680" indent="-85680"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19280" y="6165720"/>
              <a:ext cx="2160720" cy="1443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1372"/>
                  </a:srgbClr>
                </a:gs>
                <a:gs pos="100000">
                  <a:srgbClr val="757575">
                    <a:alpha val="3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708360" y="3068640"/>
            <a:ext cx="1655640" cy="16556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780000" y="3141720"/>
            <a:ext cx="1476360" cy="1485720"/>
            <a:chOff x="3780000" y="3141720"/>
            <a:chExt cx="1476360" cy="1485720"/>
          </a:xfrm>
        </p:grpSpPr>
        <p:pic>
          <p:nvPicPr>
            <p:cNvPr id="108" name="" descr=""/>
            <p:cNvPicPr/>
            <p:nvPr/>
          </p:nvPicPr>
          <p:blipFill>
            <a:blip r:embed="rId4"/>
            <a:stretch/>
          </p:blipFill>
          <p:spPr>
            <a:xfrm>
              <a:off x="3780000" y="3141720"/>
              <a:ext cx="14763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212720" y="3357360"/>
              <a:ext cx="607320" cy="94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工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主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370600" y="1700280"/>
            <a:ext cx="2863080" cy="1434600"/>
          </a:xfrm>
          <a:prstGeom prst="rect">
            <a:avLst/>
          </a:prstGeom>
          <a:noFill/>
          <a:ln w="0">
            <a:noFill/>
          </a:ln>
          <a:effectLst>
            <a:outerShdw dist="85328" dir="3806096" blurRad="0" rotWithShape="0">
              <a:srgbClr val="0e3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3dad42"/>
                </a:solidFill>
                <a:latin typeface="Arial"/>
                <a:ea typeface="华文行楷"/>
              </a:rPr>
              <a:t>工作主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15280" y="260280"/>
            <a:ext cx="1441440" cy="5689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5689800"/>
              <a:gd name="textAreaBottom" fmla="*/ 5619600 h 5689800"/>
            </a:gdLst>
            <a:ahLst/>
            <a:rect l="textAreaLeft" t="textAreaTop" r="textAreaRight" b="textAreaBottom"/>
            <a:pathLst>
              <a:path w="21600" h="85246">
                <a:moveTo>
                  <a:pt x="3600" y="0"/>
                </a:moveTo>
                <a:arcTo wR="3600" hR="3600" stAng="16200000" swAng="-5400000"/>
                <a:lnTo>
                  <a:pt x="0" y="81646"/>
                </a:lnTo>
                <a:arcTo wR="3600" hR="3600" stAng="10800000" swAng="-5400000"/>
                <a:lnTo>
                  <a:pt x="18000" y="852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247e2d"/>
              </a:gs>
              <a:gs pos="50000">
                <a:srgbClr val="a5e5ab"/>
              </a:gs>
              <a:gs pos="100000">
                <a:srgbClr val="247e2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43640" y="260280"/>
            <a:ext cx="1584360" cy="4314960"/>
            <a:chOff x="6443640" y="260280"/>
            <a:chExt cx="1584360" cy="431496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6443640" y="1628640"/>
              <a:ext cx="1579680" cy="15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6443640" y="2997000"/>
              <a:ext cx="1577880" cy="157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6443640" y="260280"/>
              <a:ext cx="1584360" cy="158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466560" y="260280"/>
            <a:ext cx="5904000" cy="2016000"/>
            <a:chOff x="466560" y="260280"/>
            <a:chExt cx="5904000" cy="2016000"/>
          </a:xfrm>
        </p:grpSpPr>
        <p:sp>
          <p:nvSpPr>
            <p:cNvPr id="117" name=""/>
            <p:cNvSpPr/>
            <p:nvPr/>
          </p:nvSpPr>
          <p:spPr>
            <a:xfrm>
              <a:off x="498240" y="279360"/>
              <a:ext cx="5872320" cy="1996920"/>
            </a:xfrm>
            <a:prstGeom prst="rightArrowCallout">
              <a:avLst>
                <a:gd name="adj1" fmla="val 31947"/>
                <a:gd name="adj2" fmla="val 25000"/>
                <a:gd name="adj3" fmla="val 24084"/>
                <a:gd name="adj4" fmla="val 88185"/>
              </a:avLst>
            </a:prstGeom>
            <a:gradFill rotWithShape="0">
              <a:gsLst>
                <a:gs pos="0">
                  <a:srgbClr val="ff66cc">
                    <a:alpha val="64313"/>
                  </a:srgbClr>
                </a:gs>
                <a:gs pos="100000">
                  <a:srgbClr val="752f5e">
                    <a:alpha val="35294"/>
                  </a:srgbClr>
                </a:gs>
              </a:gsLst>
              <a:lin ang="13500000"/>
            </a:grad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8240" y="279360"/>
              <a:ext cx="5153040" cy="380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6560" y="711000"/>
              <a:ext cx="511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6560" y="260280"/>
              <a:ext cx="518472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68360" y="1413000"/>
            <a:ext cx="5904000" cy="2232000"/>
            <a:chOff x="468360" y="1413000"/>
            <a:chExt cx="5904000" cy="2232000"/>
          </a:xfrm>
        </p:grpSpPr>
        <p:sp>
          <p:nvSpPr>
            <p:cNvPr id="122" name=""/>
            <p:cNvSpPr/>
            <p:nvPr/>
          </p:nvSpPr>
          <p:spPr>
            <a:xfrm>
              <a:off x="500040" y="1432080"/>
              <a:ext cx="5872320" cy="2212920"/>
            </a:xfrm>
            <a:prstGeom prst="rightArrowCallout">
              <a:avLst>
                <a:gd name="adj1" fmla="val 31947"/>
                <a:gd name="adj2" fmla="val 25000"/>
                <a:gd name="adj3" fmla="val 21733"/>
                <a:gd name="adj4" fmla="val 88185"/>
              </a:avLst>
            </a:prstGeom>
            <a:gradFill rotWithShape="0">
              <a:gsLst>
                <a:gs pos="0">
                  <a:srgbClr val="70d67a">
                    <a:alpha val="64313"/>
                  </a:srgbClr>
                </a:gs>
                <a:gs pos="100000">
                  <a:srgbClr val="336238">
                    <a:alpha val="35294"/>
                  </a:srgbClr>
                </a:gs>
              </a:gsLst>
              <a:lin ang="13500000"/>
            </a:grad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0040" y="1432080"/>
              <a:ext cx="5153040" cy="380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8360" y="1863720"/>
              <a:ext cx="511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8360" y="1413000"/>
              <a:ext cx="518472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66560" y="2851200"/>
            <a:ext cx="5904000" cy="2016000"/>
            <a:chOff x="466560" y="2851200"/>
            <a:chExt cx="5904000" cy="2016000"/>
          </a:xfrm>
        </p:grpSpPr>
        <p:sp>
          <p:nvSpPr>
            <p:cNvPr id="127" name=""/>
            <p:cNvSpPr/>
            <p:nvPr/>
          </p:nvSpPr>
          <p:spPr>
            <a:xfrm>
              <a:off x="498240" y="2870280"/>
              <a:ext cx="5872320" cy="1996920"/>
            </a:xfrm>
            <a:prstGeom prst="rightArrowCallout">
              <a:avLst>
                <a:gd name="adj1" fmla="val 31947"/>
                <a:gd name="adj2" fmla="val 25000"/>
                <a:gd name="adj3" fmla="val 24084"/>
                <a:gd name="adj4" fmla="val 88185"/>
              </a:avLst>
            </a:prstGeom>
            <a:gradFill rotWithShape="0">
              <a:gsLst>
                <a:gs pos="0">
                  <a:srgbClr val="3399ff">
                    <a:alpha val="64313"/>
                  </a:srgbClr>
                </a:gs>
                <a:gs pos="100000">
                  <a:srgbClr val="174675">
                    <a:alpha val="35294"/>
                  </a:srgbClr>
                </a:gs>
              </a:gsLst>
              <a:lin ang="13500000"/>
            </a:grad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8240" y="2870280"/>
              <a:ext cx="5153040" cy="3808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6560" y="3301920"/>
              <a:ext cx="511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6560" y="2851200"/>
              <a:ext cx="518472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6443640" y="4365720"/>
            <a:ext cx="1508040" cy="150804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468360" y="4076640"/>
            <a:ext cx="5904000" cy="2016000"/>
            <a:chOff x="468360" y="4076640"/>
            <a:chExt cx="5904000" cy="2016000"/>
          </a:xfrm>
        </p:grpSpPr>
        <p:sp>
          <p:nvSpPr>
            <p:cNvPr id="133" name=""/>
            <p:cNvSpPr/>
            <p:nvPr/>
          </p:nvSpPr>
          <p:spPr>
            <a:xfrm>
              <a:off x="500040" y="4095720"/>
              <a:ext cx="5872320" cy="1996920"/>
            </a:xfrm>
            <a:prstGeom prst="rightArrowCallout">
              <a:avLst>
                <a:gd name="adj1" fmla="val 31947"/>
                <a:gd name="adj2" fmla="val 25000"/>
                <a:gd name="adj3" fmla="val 24084"/>
                <a:gd name="adj4" fmla="val 88185"/>
              </a:avLst>
            </a:prstGeom>
            <a:gradFill rotWithShape="0">
              <a:gsLst>
                <a:gs pos="0">
                  <a:srgbClr val="ff6600">
                    <a:alpha val="64313"/>
                  </a:srgbClr>
                </a:gs>
                <a:gs pos="100000">
                  <a:srgbClr val="752f00">
                    <a:alpha val="35294"/>
                  </a:srgbClr>
                </a:gs>
              </a:gsLst>
              <a:lin ang="13500000"/>
            </a:grad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0040" y="4095720"/>
              <a:ext cx="5153040" cy="3808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8360" y="4527360"/>
              <a:ext cx="511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8360" y="4076640"/>
              <a:ext cx="518472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11280" y="63104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4788000" y="3141720"/>
            <a:ext cx="2157120" cy="2231640"/>
            <a:chOff x="4788000" y="3141720"/>
            <a:chExt cx="2157120" cy="2231640"/>
          </a:xfrm>
        </p:grpSpPr>
        <p:grpSp>
          <p:nvGrpSpPr>
            <p:cNvPr id="142" name=""/>
            <p:cNvGrpSpPr/>
            <p:nvPr/>
          </p:nvGrpSpPr>
          <p:grpSpPr>
            <a:xfrm>
              <a:off x="4788000" y="3141720"/>
              <a:ext cx="2157120" cy="2231640"/>
              <a:chOff x="4788000" y="3141720"/>
              <a:chExt cx="2157120" cy="2231640"/>
            </a:xfrm>
          </p:grpSpPr>
          <p:sp>
            <p:nvSpPr>
              <p:cNvPr id="143" name=""/>
              <p:cNvSpPr/>
              <p:nvPr/>
            </p:nvSpPr>
            <p:spPr>
              <a:xfrm>
                <a:off x="4788000" y="3141720"/>
                <a:ext cx="2157120" cy="2231640"/>
              </a:xfrm>
              <a:prstGeom prst="ellipse">
                <a:avLst/>
              </a:prstGeom>
              <a:gradFill rotWithShape="0">
                <a:gsLst>
                  <a:gs pos="0">
                    <a:srgbClr val="d60093">
                      <a:alpha val="71372"/>
                    </a:srgbClr>
                  </a:gs>
                  <a:gs pos="50000">
                    <a:srgbClr val="ff66cc">
                      <a:alpha val="35294"/>
                    </a:srgbClr>
                  </a:gs>
                  <a:gs pos="100000">
                    <a:srgbClr val="d60093">
                      <a:alpha val="71372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961160" y="3398760"/>
                <a:ext cx="1770840" cy="1770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5" name=""/>
            <p:cNvSpPr/>
            <p:nvPr/>
          </p:nvSpPr>
          <p:spPr>
            <a:xfrm>
              <a:off x="5184720" y="3830760"/>
              <a:ext cx="16192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292720" y="549360"/>
            <a:ext cx="1943280" cy="1873080"/>
            <a:chOff x="5292720" y="549360"/>
            <a:chExt cx="1943280" cy="1873080"/>
          </a:xfrm>
        </p:grpSpPr>
        <p:grpSp>
          <p:nvGrpSpPr>
            <p:cNvPr id="147" name=""/>
            <p:cNvGrpSpPr/>
            <p:nvPr/>
          </p:nvGrpSpPr>
          <p:grpSpPr>
            <a:xfrm>
              <a:off x="5292720" y="549360"/>
              <a:ext cx="1798560" cy="1873080"/>
              <a:chOff x="5292720" y="549360"/>
              <a:chExt cx="1798560" cy="1873080"/>
            </a:xfrm>
          </p:grpSpPr>
          <p:sp>
            <p:nvSpPr>
              <p:cNvPr id="148" name=""/>
              <p:cNvSpPr/>
              <p:nvPr/>
            </p:nvSpPr>
            <p:spPr>
              <a:xfrm>
                <a:off x="5292720" y="549360"/>
                <a:ext cx="1798560" cy="1873080"/>
              </a:xfrm>
              <a:prstGeom prst="ellipse">
                <a:avLst/>
              </a:prstGeom>
              <a:gradFill rotWithShape="0">
                <a:gsLst>
                  <a:gs pos="0">
                    <a:srgbClr val="0066ff">
                      <a:alpha val="71372"/>
                    </a:srgbClr>
                  </a:gs>
                  <a:gs pos="50000">
                    <a:srgbClr val="3399ff">
                      <a:alpha val="35294"/>
                    </a:srgbClr>
                  </a:gs>
                  <a:gs pos="100000">
                    <a:srgbClr val="0066ff">
                      <a:alpha val="71372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72000" y="719280"/>
                <a:ext cx="1476360" cy="1485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0" name=""/>
            <p:cNvSpPr/>
            <p:nvPr/>
          </p:nvSpPr>
          <p:spPr>
            <a:xfrm>
              <a:off x="5651640" y="908280"/>
              <a:ext cx="158436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0" y="260280"/>
            <a:ext cx="4570560" cy="2146320"/>
            <a:chOff x="0" y="260280"/>
            <a:chExt cx="4570560" cy="2146320"/>
          </a:xfrm>
        </p:grpSpPr>
        <p:grpSp>
          <p:nvGrpSpPr>
            <p:cNvPr id="152" name=""/>
            <p:cNvGrpSpPr/>
            <p:nvPr/>
          </p:nvGrpSpPr>
          <p:grpSpPr>
            <a:xfrm>
              <a:off x="0" y="691920"/>
              <a:ext cx="3732120" cy="1714680"/>
              <a:chOff x="0" y="691920"/>
              <a:chExt cx="3732120" cy="1714680"/>
            </a:xfrm>
          </p:grpSpPr>
          <p:sp>
            <p:nvSpPr>
              <p:cNvPr id="153" name=""/>
              <p:cNvSpPr/>
              <p:nvPr/>
            </p:nvSpPr>
            <p:spPr>
              <a:xfrm>
                <a:off x="216000" y="981000"/>
                <a:ext cx="3384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132516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1280" y="175860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9080" y="2131920"/>
                <a:ext cx="183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152360" y="213192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3080" y="1325160"/>
                <a:ext cx="57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360360" y="966600"/>
                <a:ext cx="287280" cy="358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144360" y="1758240"/>
                <a:ext cx="64764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792000" y="966600"/>
                <a:ext cx="0" cy="79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360360" y="2145600"/>
                <a:ext cx="64764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008000" y="980640"/>
                <a:ext cx="0" cy="1150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1152360" y="2131560"/>
                <a:ext cx="501840" cy="14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1655640" y="980640"/>
                <a:ext cx="0" cy="1150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252960" y="1052280"/>
                <a:ext cx="479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</a:rPr>
                  <a:t>月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4760" y="69192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26400" y="69192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8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92360" y="691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0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440360" y="691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5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28720" y="184428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1800360" y="1844280"/>
                <a:ext cx="573120" cy="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2376360" y="981000"/>
                <a:ext cx="0" cy="863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161080" y="691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0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376360" y="164124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2448000" y="1628280"/>
                <a:ext cx="573120" cy="14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3024360" y="980640"/>
                <a:ext cx="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08720" y="691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0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755640" y="260280"/>
              <a:ext cx="3814920" cy="2017440"/>
              <a:chOff x="755640" y="260280"/>
              <a:chExt cx="3814920" cy="2017440"/>
            </a:xfrm>
          </p:grpSpPr>
          <p:sp>
            <p:nvSpPr>
              <p:cNvPr id="180" name=""/>
              <p:cNvSpPr/>
              <p:nvPr/>
            </p:nvSpPr>
            <p:spPr>
              <a:xfrm>
                <a:off x="755640" y="260280"/>
                <a:ext cx="1944360" cy="201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70" y="351"/>
                    </a:moveTo>
                    <a:arcTo wR="10800" hR="10800" stAng="-6278522" swAng="2068152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70" y="351"/>
                    </a:moveTo>
                    <a:arcTo wR="10800" hR="10800" stAng="-6278522" swAng="20681520"/>
                  </a:path>
                </a:pathLst>
              </a:custGeom>
              <a:noFill/>
              <a:ln w="9360">
                <a:solidFill>
                  <a:srgbClr val="ffff00"/>
                </a:solidFill>
                <a:prstDash val="dash"/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1631520" y="348480"/>
                <a:ext cx="1561320" cy="1802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462" y="19545"/>
                    </a:moveTo>
                    <a:arcTo wR="10800" hR="10800" stAng="7556030" swAng="55283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462" y="19545"/>
                    </a:moveTo>
                    <a:arcTo wR="10800" hR="10800" stAng="7556030" swAng="5528352"/>
                  </a:path>
                </a:pathLst>
              </a:custGeom>
              <a:noFill/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flipV="1">
                <a:off x="3204720" y="1125360"/>
                <a:ext cx="647640" cy="43344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3851280" y="1557360"/>
                <a:ext cx="719280" cy="144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017240" y="1197000"/>
                <a:ext cx="45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66"/>
                    </a:solidFill>
                    <a:latin typeface="Arial"/>
                  </a:rPr>
                  <a:t>时间轴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900000" y="3681000"/>
            <a:ext cx="4032000" cy="2456280"/>
            <a:chOff x="900000" y="3681000"/>
            <a:chExt cx="4032000" cy="2456280"/>
          </a:xfrm>
        </p:grpSpPr>
        <p:grpSp>
          <p:nvGrpSpPr>
            <p:cNvPr id="186" name=""/>
            <p:cNvGrpSpPr/>
            <p:nvPr/>
          </p:nvGrpSpPr>
          <p:grpSpPr>
            <a:xfrm>
              <a:off x="900000" y="4076640"/>
              <a:ext cx="2652480" cy="2060640"/>
              <a:chOff x="900000" y="4076640"/>
              <a:chExt cx="2652480" cy="2060640"/>
            </a:xfrm>
          </p:grpSpPr>
          <p:sp>
            <p:nvSpPr>
              <p:cNvPr id="187" name=""/>
              <p:cNvSpPr/>
              <p:nvPr/>
            </p:nvSpPr>
            <p:spPr>
              <a:xfrm>
                <a:off x="900000" y="4351320"/>
                <a:ext cx="2521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900000" y="470988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971280" y="514332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404720" y="550224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476360" y="5862600"/>
                <a:ext cx="183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973080" y="4709880"/>
                <a:ext cx="57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flipV="1">
                <a:off x="1260360" y="4351320"/>
                <a:ext cx="287280" cy="358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044360" y="5142960"/>
                <a:ext cx="64764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692000" y="4351320"/>
                <a:ext cx="0" cy="79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1476360" y="5502240"/>
                <a:ext cx="64764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2124000" y="4350960"/>
                <a:ext cx="0" cy="1150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1547640" y="5862240"/>
                <a:ext cx="933480" cy="3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2484360" y="4351320"/>
                <a:ext cx="0" cy="1511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073320" y="4422600"/>
                <a:ext cx="479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</a:rPr>
                  <a:t>月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972360" y="407664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405800" y="407664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6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837800" y="407664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8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268720" y="407664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0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331640" y="3681000"/>
              <a:ext cx="3600360" cy="2417400"/>
              <a:chOff x="1331640" y="3681000"/>
              <a:chExt cx="3600360" cy="2417400"/>
            </a:xfrm>
          </p:grpSpPr>
          <p:sp>
            <p:nvSpPr>
              <p:cNvPr id="206" name=""/>
              <p:cNvSpPr/>
              <p:nvPr/>
            </p:nvSpPr>
            <p:spPr>
              <a:xfrm>
                <a:off x="1331640" y="4081680"/>
                <a:ext cx="1944360" cy="201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70" y="351"/>
                    </a:moveTo>
                    <a:arcTo wR="10800" hR="10800" stAng="-6278522" swAng="2068152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70" y="351"/>
                    </a:moveTo>
                    <a:arcTo wR="10800" hR="10800" stAng="-6278522" swAng="20681520"/>
                  </a:path>
                </a:pathLst>
              </a:custGeom>
              <a:noFill/>
              <a:ln w="9360">
                <a:solidFill>
                  <a:srgbClr val="ff99ff"/>
                </a:solidFill>
                <a:prstDash val="dash"/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1135200">
                <a:off x="2319840" y="3885480"/>
                <a:ext cx="1562400" cy="1802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7" y="12246"/>
                    </a:moveTo>
                    <a:arcTo wR="10800" hR="10800" stAng="10338490" swAng="66263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7" y="12246"/>
                    </a:moveTo>
                    <a:arcTo wR="10800" hR="10800" stAng="10338490" swAng="6626348"/>
                  </a:path>
                </a:pathLst>
              </a:custGeom>
              <a:noFill/>
              <a:ln w="9360">
                <a:solidFill>
                  <a:srgbClr val="ff99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3852360" y="4945320"/>
                <a:ext cx="647640" cy="1440"/>
              </a:xfrm>
              <a:prstGeom prst="line">
                <a:avLst/>
              </a:prstGeom>
              <a:ln w="9360">
                <a:solidFill>
                  <a:srgbClr val="ff99ff"/>
                </a:solidFill>
                <a:prstDash val="dash"/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4500360" y="4657320"/>
                <a:ext cx="431640" cy="287640"/>
              </a:xfrm>
              <a:prstGeom prst="line">
                <a:avLst/>
              </a:prstGeom>
              <a:ln w="9360">
                <a:solidFill>
                  <a:srgbClr val="ff99ff"/>
                </a:solidFill>
                <a:prstDash val="dash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89960" y="4657680"/>
                <a:ext cx="45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99ff"/>
                    </a:solidFill>
                    <a:latin typeface="Arial"/>
                  </a:rPr>
                  <a:t>时间轴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3708360" y="1413000"/>
            <a:ext cx="1942920" cy="2302920"/>
            <a:chOff x="3708360" y="1413000"/>
            <a:chExt cx="1942920" cy="2302920"/>
          </a:xfrm>
        </p:grpSpPr>
        <p:grpSp>
          <p:nvGrpSpPr>
            <p:cNvPr id="212" name=""/>
            <p:cNvGrpSpPr/>
            <p:nvPr/>
          </p:nvGrpSpPr>
          <p:grpSpPr>
            <a:xfrm>
              <a:off x="3708360" y="1413000"/>
              <a:ext cx="1942920" cy="2302920"/>
              <a:chOff x="3708360" y="1413000"/>
              <a:chExt cx="1942920" cy="2302920"/>
            </a:xfrm>
          </p:grpSpPr>
          <p:sp>
            <p:nvSpPr>
              <p:cNvPr id="213" name=""/>
              <p:cNvSpPr/>
              <p:nvPr/>
            </p:nvSpPr>
            <p:spPr>
              <a:xfrm>
                <a:off x="3708360" y="1413000"/>
                <a:ext cx="1942920" cy="2302920"/>
              </a:xfrm>
              <a:prstGeom prst="ellipse">
                <a:avLst/>
              </a:prstGeom>
              <a:gradFill rotWithShape="0">
                <a:gsLst>
                  <a:gs pos="0">
                    <a:srgbClr val="ffcc00">
                      <a:alpha val="67058"/>
                    </a:srgbClr>
                  </a:gs>
                  <a:gs pos="50000">
                    <a:srgbClr val="ffff66">
                      <a:alpha val="32156"/>
                    </a:srgbClr>
                  </a:gs>
                  <a:gs pos="100000">
                    <a:srgbClr val="ffcc00">
                      <a:alpha val="67058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28600" y="1668960"/>
                <a:ext cx="1645560" cy="174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5" name=""/>
            <p:cNvSpPr/>
            <p:nvPr/>
          </p:nvSpPr>
          <p:spPr>
            <a:xfrm>
              <a:off x="4067280" y="2022120"/>
              <a:ext cx="14414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877080" y="0"/>
            <a:ext cx="1944720" cy="1368360"/>
            <a:chOff x="6877080" y="0"/>
            <a:chExt cx="1944720" cy="1368360"/>
          </a:xfrm>
        </p:grpSpPr>
        <p:grpSp>
          <p:nvGrpSpPr>
            <p:cNvPr id="217" name=""/>
            <p:cNvGrpSpPr/>
            <p:nvPr/>
          </p:nvGrpSpPr>
          <p:grpSpPr>
            <a:xfrm>
              <a:off x="6877080" y="0"/>
              <a:ext cx="1297080" cy="1368360"/>
              <a:chOff x="6877080" y="0"/>
              <a:chExt cx="1297080" cy="1368360"/>
            </a:xfrm>
          </p:grpSpPr>
          <p:sp>
            <p:nvSpPr>
              <p:cNvPr id="218" name=""/>
              <p:cNvSpPr/>
              <p:nvPr/>
            </p:nvSpPr>
            <p:spPr>
              <a:xfrm>
                <a:off x="6877080" y="0"/>
                <a:ext cx="1297080" cy="1368360"/>
              </a:xfrm>
              <a:prstGeom prst="ellipse">
                <a:avLst/>
              </a:prstGeom>
              <a:gradFill rotWithShape="0">
                <a:gsLst>
                  <a:gs pos="0">
                    <a:srgbClr val="3dad42">
                      <a:alpha val="71372"/>
                    </a:srgbClr>
                  </a:gs>
                  <a:gs pos="50000">
                    <a:srgbClr val="66ff99">
                      <a:alpha val="35294"/>
                    </a:srgbClr>
                  </a:gs>
                  <a:gs pos="100000">
                    <a:srgbClr val="3dad42">
                      <a:alpha val="71372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980040" y="158760"/>
                <a:ext cx="1064520" cy="1085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0" name=""/>
            <p:cNvSpPr/>
            <p:nvPr/>
          </p:nvSpPr>
          <p:spPr>
            <a:xfrm>
              <a:off x="7093080" y="333360"/>
              <a:ext cx="17287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6184440" y="2349360"/>
            <a:ext cx="2982960" cy="4543560"/>
            <a:chOff x="6184440" y="2349360"/>
            <a:chExt cx="2982960" cy="4543560"/>
          </a:xfrm>
        </p:grpSpPr>
        <p:sp>
          <p:nvSpPr>
            <p:cNvPr id="222" name=""/>
            <p:cNvSpPr/>
            <p:nvPr/>
          </p:nvSpPr>
          <p:spPr>
            <a:xfrm>
              <a:off x="7308720" y="4006800"/>
              <a:ext cx="214560" cy="861840"/>
            </a:xfrm>
            <a:prstGeom prst="line">
              <a:avLst/>
            </a:prstGeom>
            <a:ln w="9360">
              <a:solidFill>
                <a:srgbClr val="3366ff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 rot="13875600">
              <a:off x="7091640" y="4787280"/>
              <a:ext cx="1545840" cy="155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587" y="4521"/>
                  </a:moveTo>
                  <a:arcTo wR="10800" hR="10800" stAng="-2133076" swAng="43264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9587" y="4521"/>
                  </a:moveTo>
                  <a:arcTo wR="10800" hR="10800" stAng="-2133076" swAng="4326405"/>
                </a:path>
              </a:pathLst>
            </a:custGeom>
            <a:noFill/>
            <a:ln w="93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6300720" y="2349360"/>
              <a:ext cx="2866680" cy="4543560"/>
              <a:chOff x="6300720" y="2349360"/>
              <a:chExt cx="2866680" cy="454356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6300720" y="5013360"/>
                <a:ext cx="2866680" cy="1879560"/>
                <a:chOff x="6300720" y="5013360"/>
                <a:chExt cx="2866680" cy="1879560"/>
              </a:xfrm>
            </p:grpSpPr>
            <p:sp>
              <p:nvSpPr>
                <p:cNvPr id="226" name=""/>
                <p:cNvSpPr/>
                <p:nvPr/>
              </p:nvSpPr>
              <p:spPr>
                <a:xfrm flipV="1">
                  <a:off x="6443640" y="5300280"/>
                  <a:ext cx="252108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516720" y="5660640"/>
                  <a:ext cx="7189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V="1">
                  <a:off x="7235640" y="5301720"/>
                  <a:ext cx="0" cy="358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300720" y="5601960"/>
                  <a:ext cx="18432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021080" y="5013360"/>
                  <a:ext cx="308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6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8688240" y="5385960"/>
                  <a:ext cx="479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r>
                    <a:rPr b="0" lang="zh-CN" sz="1200" spc="-1" strike="noStrike">
                      <a:solidFill>
                        <a:srgbClr val="ffffff"/>
                      </a:solidFill>
                      <a:latin typeface="Arial"/>
                    </a:rPr>
                    <a:t>月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356600" y="5013360"/>
                  <a:ext cx="394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0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877080" y="5876640"/>
                  <a:ext cx="7189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V="1">
                  <a:off x="7596000" y="5300280"/>
                  <a:ext cx="0" cy="576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516720" y="5876640"/>
                  <a:ext cx="18396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741080" y="5013360"/>
                  <a:ext cx="394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3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237440" y="6165360"/>
                  <a:ext cx="7189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7956360" y="5300280"/>
                  <a:ext cx="0" cy="864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659640" y="6092640"/>
                  <a:ext cx="183960" cy="27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8101440" y="5025600"/>
                  <a:ext cx="394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3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>
                  <a:off x="8316720" y="5300280"/>
                  <a:ext cx="0" cy="1080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237440" y="6381360"/>
                  <a:ext cx="18396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453080" y="6381360"/>
                  <a:ext cx="863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8460000" y="5025600"/>
                  <a:ext cx="394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5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8244000" y="6597360"/>
                  <a:ext cx="431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V="1">
                  <a:off x="8675640" y="5299920"/>
                  <a:ext cx="0" cy="1309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8260920" y="6616440"/>
                  <a:ext cx="427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ex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>
                <a:off x="6300720" y="2349360"/>
                <a:ext cx="1008000" cy="1655640"/>
              </a:xfrm>
              <a:prstGeom prst="line">
                <a:avLst/>
              </a:prstGeom>
              <a:ln w="9360">
                <a:solidFill>
                  <a:srgbClr val="3366ff"/>
                </a:solidFill>
                <a:prstDash val="dash"/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6184440" y="242064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66ff"/>
                  </a:solidFill>
                  <a:latin typeface="Arial"/>
                </a:rPr>
                <a:t>时间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815520" y="633240"/>
            <a:ext cx="2261880" cy="3276360"/>
            <a:chOff x="6815520" y="633240"/>
            <a:chExt cx="2261880" cy="3276360"/>
          </a:xfrm>
        </p:grpSpPr>
        <p:grpSp>
          <p:nvGrpSpPr>
            <p:cNvPr id="251" name=""/>
            <p:cNvGrpSpPr/>
            <p:nvPr/>
          </p:nvGrpSpPr>
          <p:grpSpPr>
            <a:xfrm>
              <a:off x="6865920" y="1915920"/>
              <a:ext cx="2154960" cy="1643040"/>
              <a:chOff x="6865920" y="1915920"/>
              <a:chExt cx="2154960" cy="1643040"/>
            </a:xfrm>
          </p:grpSpPr>
          <p:sp>
            <p:nvSpPr>
              <p:cNvPr id="252" name=""/>
              <p:cNvSpPr/>
              <p:nvPr/>
            </p:nvSpPr>
            <p:spPr>
              <a:xfrm>
                <a:off x="7029360" y="2205000"/>
                <a:ext cx="180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102440" y="2563560"/>
                <a:ext cx="71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7821720" y="2205000"/>
                <a:ext cx="0" cy="358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865920" y="2577960"/>
                <a:ext cx="1162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606080" y="1915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0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627040" y="2205000"/>
                <a:ext cx="393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9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</a:rPr>
                  <a:t>月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8037360" y="2204640"/>
                <a:ext cx="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7389360" y="285264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20000" y="2852640"/>
                <a:ext cx="183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858440" y="1915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3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253720" y="1915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8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8459640" y="2205000"/>
                <a:ext cx="9720" cy="1008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7956360" y="3213000"/>
                <a:ext cx="503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893000" y="328428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 flipV="1" rot="17629800">
              <a:off x="6965640" y="1884600"/>
              <a:ext cx="1961640" cy="160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356" y="3084"/>
                  </a:moveTo>
                  <a:arcTo wR="10800" hR="10800" stAng="-2736049" swAng="49293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8356" y="3084"/>
                  </a:moveTo>
                  <a:arcTo wR="10800" hR="10800" stAng="-2736049" swAng="4929378"/>
                </a:path>
              </a:pathLst>
            </a:custGeom>
            <a:noFill/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28000" y="981000"/>
              <a:ext cx="647640" cy="0"/>
            </a:xfrm>
            <a:prstGeom prst="line">
              <a:avLst/>
            </a:prstGeom>
            <a:ln w="9360">
              <a:solidFill>
                <a:srgbClr val="009900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8388360" y="981000"/>
              <a:ext cx="287280" cy="792000"/>
            </a:xfrm>
            <a:prstGeom prst="line">
              <a:avLst/>
            </a:prstGeom>
            <a:ln w="9360">
              <a:solidFill>
                <a:srgbClr val="009900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65600" y="63324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9900"/>
                  </a:solidFill>
                  <a:latin typeface="Arial"/>
                </a:rPr>
                <a:t>时间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3:10:02Z</dcterms:created>
  <dc:creator>幻灯片之家:www.eeppt.com</dc:creator>
  <dc:description>幻灯片之家:www.eeppt.com</dc:description>
  <cp:keywords>幻灯片之家:www.eeppt.com</cp:keywords>
  <dc:language>en-US</dc:language>
  <cp:lastModifiedBy/>
  <dcterms:modified xsi:type="dcterms:W3CDTF">2015-09-18T13:19:28Z</dcterms:modified>
  <cp:revision>6</cp:revision>
  <dc:subject>幻灯片之家:www.eeppt.com</dc:subject>
  <dc:title>幻灯片之家: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