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874-0B4E-415C-B7B5-CF9471B2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C80-374D-418D-9D09-C56FB84E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A36-1282-4477-B400-66740608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4BB-95D7-43FC-9412-559B57D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F9BD-A218-4EA4-944F-FF5AFD47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7CC-6F2E-4534-AA54-E1A2D00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194-5215-4071-8D1C-63FC7739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5525-2870-4B72-8793-3BC6B7FC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F527-8094-4760-B123-9054618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7E9-5CA8-4002-9082-00BDDA3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AA2-5E1A-4ADB-9FB9-0E78049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C67-9EAC-4374-A57A-1E2DD6D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A83-9110-456E-BAEF-34C34D3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6C3-EAB7-4022-AC07-1ECFB1AB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AD7F-11F1-484C-9A73-AE95093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FB96-93CB-4AE3-9092-2CE4703C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9172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54240" y="586728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2920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629172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554240" y="6145920"/>
            <a:ext cx="120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A0BE-577C-4232-97D7-47FD334F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C1E-8902-4D05-8B75-8DC014C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E8B-0417-468B-9FB3-57ADCC0C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694-E208-4705-A960-EC8B851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448596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5E5-B02C-472A-AC23-FAB90FE5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4E0-D619-4589-9188-8879937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42600" y="614592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EAF-2A7A-45D2-AE6D-03E736A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42600" y="5867280"/>
            <a:ext cx="1821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0" y="6145920"/>
            <a:ext cx="3733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1CF-FB7F-4B2B-B7AB-6D59E40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5200" y="343080"/>
            <a:ext cx="8848800" cy="6514920"/>
          </a:xfrm>
          <a:custGeom>
            <a:avLst/>
            <a:gdLst/>
            <a:ahLst/>
            <a:rect l="l" t="t" r="r" b="b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6e6e6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8680" y="0"/>
            <a:ext cx="8821800" cy="3142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da7f7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393840"/>
            <a:ext cx="242640" cy="6468840"/>
          </a:xfrm>
          <a:custGeom>
            <a:avLst/>
            <a:gdLst/>
            <a:ahLst/>
            <a:rect l="l" t="t" r="r" b="b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85a3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0"/>
            <a:ext cx="247680" cy="326880"/>
          </a:xfrm>
          <a:custGeom>
            <a:avLst/>
            <a:gdLst/>
            <a:ahLst/>
            <a:rect l="l" t="t" r="r" b="b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ac8c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343640" y="133200"/>
            <a:ext cx="1692000" cy="1160280"/>
            <a:chOff x="7343640" y="133200"/>
            <a:chExt cx="1692000" cy="1160280"/>
          </a:xfrm>
        </p:grpSpPr>
        <p:sp>
          <p:nvSpPr>
            <p:cNvPr id="5" name=""/>
            <p:cNvSpPr/>
            <p:nvPr/>
          </p:nvSpPr>
          <p:spPr>
            <a:xfrm>
              <a:off x="7343640" y="133200"/>
              <a:ext cx="817560" cy="539280"/>
            </a:xfrm>
            <a:custGeom>
              <a:avLst/>
              <a:gdLst/>
              <a:ahLst/>
              <a:rect l="l" t="t" r="r" b="b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17720" y="133200"/>
              <a:ext cx="817920" cy="541080"/>
            </a:xfrm>
            <a:custGeom>
              <a:avLst/>
              <a:gdLst/>
              <a:ahLst/>
              <a:rect l="l" t="t" r="r" b="b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43640" y="752040"/>
              <a:ext cx="817560" cy="539280"/>
            </a:xfrm>
            <a:custGeom>
              <a:avLst/>
              <a:gdLst/>
              <a:ahLst/>
              <a:rect l="l" t="t" r="r" b="b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17720" y="752040"/>
              <a:ext cx="817920" cy="541440"/>
            </a:xfrm>
            <a:custGeom>
              <a:avLst/>
              <a:gdLst/>
              <a:ahLst/>
              <a:rect l="l" t="t" r="r" b="b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 rot="21003000">
            <a:off x="8754840" y="36000"/>
            <a:ext cx="18252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13B-ED91-4567-B27F-BA6DDC616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1680" y="37800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4280" y="37296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1593600">
            <a:off x="746280" y="4217760"/>
            <a:ext cx="604800" cy="199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CA18-620A-4BBF-A6CF-01177252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6191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c1767"/>
                </a:solidFill>
                <a:latin typeface="Arial"/>
              </a:rPr>
              <a:t>ThemeGallery</a:t>
            </a:r>
            <a:br>
              <a:rPr sz="2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47680" y="5829120"/>
            <a:ext cx="4015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64008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8000" y="19051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89360" y="21528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82920" y="26319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59200" y="365760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58800" y="18511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2080" y="445932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18400" y="437976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925800" y="1627200"/>
            <a:ext cx="1631880" cy="1612800"/>
            <a:chOff x="3925800" y="1627200"/>
            <a:chExt cx="1631880" cy="1612800"/>
          </a:xfrm>
        </p:grpSpPr>
        <p:grpSp>
          <p:nvGrpSpPr>
            <p:cNvPr id="492" name=""/>
            <p:cNvGrpSpPr/>
            <p:nvPr/>
          </p:nvGrpSpPr>
          <p:grpSpPr>
            <a:xfrm>
              <a:off x="3925800" y="1627200"/>
              <a:ext cx="1631880" cy="1612800"/>
              <a:chOff x="3925800" y="1627200"/>
              <a:chExt cx="1631880" cy="1612800"/>
            </a:xfrm>
          </p:grpSpPr>
          <p:sp>
            <p:nvSpPr>
              <p:cNvPr id="493" name=""/>
              <p:cNvSpPr/>
              <p:nvPr/>
            </p:nvSpPr>
            <p:spPr>
              <a:xfrm>
                <a:off x="3925800" y="162720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62160" y="1663560"/>
                <a:ext cx="1560960" cy="15422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997800" y="1697760"/>
              <a:ext cx="1508040" cy="1491840"/>
              <a:chOff x="3997800" y="1697760"/>
              <a:chExt cx="1508040" cy="1491840"/>
            </a:xfrm>
          </p:grpSpPr>
          <p:sp>
            <p:nvSpPr>
              <p:cNvPr id="496" name=""/>
              <p:cNvSpPr/>
              <p:nvPr/>
            </p:nvSpPr>
            <p:spPr>
              <a:xfrm>
                <a:off x="3997800" y="1697760"/>
                <a:ext cx="1508040" cy="1491840"/>
              </a:xfrm>
              <a:prstGeom prst="ellipse">
                <a:avLst/>
              </a:prstGeom>
              <a:solidFill>
                <a:srgbClr val="d87aa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1640" y="173160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2516040" y="4030560"/>
            <a:ext cx="1632240" cy="1613160"/>
            <a:chOff x="2516040" y="4030560"/>
            <a:chExt cx="1632240" cy="1613160"/>
          </a:xfrm>
        </p:grpSpPr>
        <p:grpSp>
          <p:nvGrpSpPr>
            <p:cNvPr id="499" name=""/>
            <p:cNvGrpSpPr/>
            <p:nvPr/>
          </p:nvGrpSpPr>
          <p:grpSpPr>
            <a:xfrm>
              <a:off x="2516040" y="4030560"/>
              <a:ext cx="1632240" cy="1613160"/>
              <a:chOff x="2516040" y="4030560"/>
              <a:chExt cx="1632240" cy="1613160"/>
            </a:xfrm>
          </p:grpSpPr>
          <p:sp>
            <p:nvSpPr>
              <p:cNvPr id="500" name=""/>
              <p:cNvSpPr/>
              <p:nvPr/>
            </p:nvSpPr>
            <p:spPr>
              <a:xfrm>
                <a:off x="2516040" y="4030560"/>
                <a:ext cx="1632240" cy="161316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52400" y="4066920"/>
                <a:ext cx="1561320" cy="15426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588040" y="4101120"/>
              <a:ext cx="1508400" cy="1492200"/>
              <a:chOff x="2588040" y="4101120"/>
              <a:chExt cx="1508400" cy="1492200"/>
            </a:xfrm>
          </p:grpSpPr>
          <p:sp>
            <p:nvSpPr>
              <p:cNvPr id="503" name=""/>
              <p:cNvSpPr/>
              <p:nvPr/>
            </p:nvSpPr>
            <p:spPr>
              <a:xfrm>
                <a:off x="2588040" y="4101120"/>
                <a:ext cx="1508400" cy="149220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21880" y="4134960"/>
                <a:ext cx="1442880" cy="1427040"/>
              </a:xfrm>
              <a:prstGeom prst="ellipse">
                <a:avLst/>
              </a:prstGeom>
              <a:solidFill>
                <a:srgbClr val="ac8cd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5246640" y="4030560"/>
            <a:ext cx="1631880" cy="1613160"/>
            <a:chOff x="5246640" y="4030560"/>
            <a:chExt cx="1631880" cy="1613160"/>
          </a:xfrm>
        </p:grpSpPr>
        <p:grpSp>
          <p:nvGrpSpPr>
            <p:cNvPr id="506" name=""/>
            <p:cNvGrpSpPr/>
            <p:nvPr/>
          </p:nvGrpSpPr>
          <p:grpSpPr>
            <a:xfrm>
              <a:off x="5246640" y="4030560"/>
              <a:ext cx="1631880" cy="1613160"/>
              <a:chOff x="5246640" y="4030560"/>
              <a:chExt cx="1631880" cy="1613160"/>
            </a:xfrm>
          </p:grpSpPr>
          <p:sp>
            <p:nvSpPr>
              <p:cNvPr id="507" name=""/>
              <p:cNvSpPr/>
              <p:nvPr/>
            </p:nvSpPr>
            <p:spPr>
              <a:xfrm>
                <a:off x="5246640" y="4030560"/>
                <a:ext cx="1631880" cy="1613160"/>
              </a:xfrm>
              <a:prstGeom prst="ellipse">
                <a:avLst/>
              </a:prstGeom>
              <a:solidFill>
                <a:srgbClr val="da7f7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83000" y="4066920"/>
                <a:ext cx="1560960" cy="15426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318640" y="4101120"/>
              <a:ext cx="1508040" cy="1492200"/>
              <a:chOff x="5318640" y="4101120"/>
              <a:chExt cx="1508040" cy="1492200"/>
            </a:xfrm>
          </p:grpSpPr>
          <p:sp>
            <p:nvSpPr>
              <p:cNvPr id="510" name=""/>
              <p:cNvSpPr/>
              <p:nvPr/>
            </p:nvSpPr>
            <p:spPr>
              <a:xfrm>
                <a:off x="5318640" y="4101120"/>
                <a:ext cx="150804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52480" y="4134960"/>
                <a:ext cx="1442520" cy="14270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4000680" y="1677960"/>
            <a:ext cx="1466280" cy="1447560"/>
            <a:chOff x="4000680" y="1677960"/>
            <a:chExt cx="1466280" cy="1447560"/>
          </a:xfrm>
        </p:grpSpPr>
        <p:sp>
          <p:nvSpPr>
            <p:cNvPr id="513" name=""/>
            <p:cNvSpPr/>
            <p:nvPr/>
          </p:nvSpPr>
          <p:spPr>
            <a:xfrm>
              <a:off x="4039560" y="174024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d87aa5"/>
                </a:gs>
                <a:gs pos="100000">
                  <a:srgbClr val="442634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4000680" y="167796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4029120" y="211140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587680" y="4092480"/>
            <a:ext cx="1466280" cy="1447560"/>
            <a:chOff x="2587680" y="4092480"/>
            <a:chExt cx="1466280" cy="1447560"/>
          </a:xfrm>
        </p:grpSpPr>
        <p:sp>
          <p:nvSpPr>
            <p:cNvPr id="517" name=""/>
            <p:cNvSpPr/>
            <p:nvPr/>
          </p:nvSpPr>
          <p:spPr>
            <a:xfrm>
              <a:off x="26265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ac8cd0"/>
                </a:gs>
                <a:gs pos="100000">
                  <a:srgbClr val="362c41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25876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2603520" y="4510080"/>
            <a:ext cx="145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48160" y="4092480"/>
            <a:ext cx="1466640" cy="1447560"/>
            <a:chOff x="5348160" y="4092480"/>
            <a:chExt cx="1466640" cy="1447560"/>
          </a:xfrm>
        </p:grpSpPr>
        <p:sp>
          <p:nvSpPr>
            <p:cNvPr id="521" name=""/>
            <p:cNvSpPr/>
            <p:nvPr/>
          </p:nvSpPr>
          <p:spPr>
            <a:xfrm>
              <a:off x="5387040" y="41547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5348160" y="409248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"/>
          <p:cNvGrpSpPr/>
          <p:nvPr/>
        </p:nvGrpSpPr>
        <p:grpSpPr>
          <a:xfrm>
            <a:off x="5330880" y="4092480"/>
            <a:ext cx="1466280" cy="1447560"/>
            <a:chOff x="5330880" y="4092480"/>
            <a:chExt cx="1466280" cy="1447560"/>
          </a:xfrm>
        </p:grpSpPr>
        <p:sp>
          <p:nvSpPr>
            <p:cNvPr id="524" name=""/>
            <p:cNvSpPr/>
            <p:nvPr/>
          </p:nvSpPr>
          <p:spPr>
            <a:xfrm>
              <a:off x="5369760" y="41547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da7f70"/>
                </a:gs>
                <a:gs pos="100000">
                  <a:srgbClr val="442823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5330880" y="40924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"/>
          <p:cNvSpPr/>
          <p:nvPr/>
        </p:nvSpPr>
        <p:spPr>
          <a:xfrm>
            <a:off x="5332320" y="4521240"/>
            <a:ext cx="1451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-648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28600" y="431640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232020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56000" y="431640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4682520" y="3311280"/>
            <a:ext cx="420696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16520" y="431640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202440" y="2400480"/>
            <a:ext cx="1108080" cy="1107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477800" y="240048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803760" y="237492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608120" y="267984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86680" y="26798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33720" y="26798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4216320" y="3787920"/>
            <a:ext cx="412920" cy="363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47880" y="3787920"/>
            <a:ext cx="412560" cy="3632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6564240" y="3787920"/>
            <a:ext cx="412920" cy="3632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06668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219320" y="5029200"/>
            <a:ext cx="2295000" cy="1365120"/>
            <a:chOff x="1219320" y="5029200"/>
            <a:chExt cx="2295000" cy="1365120"/>
          </a:xfrm>
        </p:grpSpPr>
        <p:sp>
          <p:nvSpPr>
            <p:cNvPr id="546" name=""/>
            <p:cNvSpPr/>
            <p:nvPr/>
          </p:nvSpPr>
          <p:spPr>
            <a:xfrm>
              <a:off x="1219320" y="606348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3280" y="5029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3384c"/>
                </a:gs>
                <a:gs pos="50000">
                  <a:srgbClr val="d87aa5">
                    <a:alpha val="50196"/>
                  </a:srgbClr>
                </a:gs>
                <a:gs pos="100000">
                  <a:srgbClr val="6338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219320" y="3733920"/>
            <a:ext cx="2295000" cy="1365120"/>
            <a:chOff x="1219320" y="3733920"/>
            <a:chExt cx="2295000" cy="1365120"/>
          </a:xfrm>
        </p:grpSpPr>
        <p:sp>
          <p:nvSpPr>
            <p:cNvPr id="549" name=""/>
            <p:cNvSpPr/>
            <p:nvPr/>
          </p:nvSpPr>
          <p:spPr>
            <a:xfrm>
              <a:off x="1219320" y="476820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23280" y="373392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4b62"/>
                </a:gs>
                <a:gs pos="50000">
                  <a:srgbClr val="85a3d5">
                    <a:alpha val="50196"/>
                  </a:srgbClr>
                </a:gs>
                <a:gs pos="100000">
                  <a:srgbClr val="3d4b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219320" y="2444760"/>
            <a:ext cx="2295000" cy="1365120"/>
            <a:chOff x="1219320" y="2444760"/>
            <a:chExt cx="2295000" cy="1365120"/>
          </a:xfrm>
        </p:grpSpPr>
        <p:sp>
          <p:nvSpPr>
            <p:cNvPr id="552" name=""/>
            <p:cNvSpPr/>
            <p:nvPr/>
          </p:nvSpPr>
          <p:spPr>
            <a:xfrm>
              <a:off x="1219320" y="347904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3280" y="24447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405f"/>
                </a:gs>
                <a:gs pos="50000">
                  <a:srgbClr val="ac8cd0">
                    <a:alpha val="50196"/>
                  </a:srgbClr>
                </a:gs>
                <a:gs pos="100000">
                  <a:srgbClr val="4f40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506760" y="267336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ac8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01760" y="303840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86360" y="281952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01760" y="433224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01760" y="566244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03520" y="39560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5a3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94280" y="408312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03520" y="525456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84560" y="540072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6760" y="2978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14680" y="418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55306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1590840"/>
            <a:ext cx="807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811160" y="1317600"/>
            <a:ext cx="5569200" cy="531180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da7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d87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6092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c8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6092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5a3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73480" y="295416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29320" y="295416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3480" y="437364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29320" y="437364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32280" y="18907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5960" y="56498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372096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049480" y="372096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7800" y="212076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212076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1480" y="516888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07000" y="516888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30400" y="4819680"/>
            <a:ext cx="7095960" cy="1504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4f4f4"/>
              </a:gs>
            </a:gsLst>
            <a:lin ang="13500000"/>
          </a:gradFill>
          <a:ln w="9360">
            <a:solidFill>
              <a:srgbClr val="969696"/>
            </a:solidFill>
            <a:miter/>
          </a:ln>
          <a:effectLst>
            <a:outerShdw dist="99192" dir="2381944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52520" y="5043600"/>
            <a:ext cx="5573880" cy="1017360"/>
          </a:xfrm>
          <a:prstGeom prst="rect">
            <a:avLst/>
          </a:prstGeom>
          <a:gradFill rotWithShape="0">
            <a:gsLst>
              <a:gs pos="0">
                <a:srgbClr val="9c5877"/>
              </a:gs>
              <a:gs pos="50000">
                <a:srgbClr val="d87aa5"/>
              </a:gs>
              <a:gs pos="100000">
                <a:srgbClr val="9c58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5080" y="5226120"/>
            <a:ext cx="5481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19320" y="531324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348000" y="2413080"/>
            <a:ext cx="1609920" cy="1606320"/>
            <a:chOff x="3348000" y="2413080"/>
            <a:chExt cx="1609920" cy="1606320"/>
          </a:xfrm>
        </p:grpSpPr>
        <p:sp>
          <p:nvSpPr>
            <p:cNvPr id="591" name=""/>
            <p:cNvSpPr/>
            <p:nvPr/>
          </p:nvSpPr>
          <p:spPr>
            <a:xfrm>
              <a:off x="3348000" y="2413080"/>
              <a:ext cx="1609920" cy="1606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886e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48000" y="2413080"/>
              <a:ext cx="1609920" cy="1606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34400" y="2499480"/>
              <a:ext cx="1400040" cy="1396440"/>
            </a:xfrm>
            <a:prstGeom prst="ellipse">
              <a:avLst/>
            </a:prstGeom>
            <a:gradFill rotWithShape="0">
              <a:gsLst>
                <a:gs pos="0">
                  <a:srgbClr val="5a4878"/>
                </a:gs>
                <a:gs pos="50000">
                  <a:srgbClr val="a886e0"/>
                </a:gs>
                <a:gs pos="100000">
                  <a:srgbClr val="5a4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34400" y="2501280"/>
              <a:ext cx="1400040" cy="139644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a54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8920" y="2583000"/>
              <a:ext cx="1261800" cy="1258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534840" y="2592000"/>
              <a:ext cx="1220400" cy="1218960"/>
              <a:chOff x="3534840" y="2592000"/>
              <a:chExt cx="1220400" cy="1218960"/>
            </a:xfrm>
          </p:grpSpPr>
          <p:sp>
            <p:nvSpPr>
              <p:cNvPr id="597" name=""/>
              <p:cNvSpPr/>
              <p:nvPr/>
            </p:nvSpPr>
            <p:spPr>
              <a:xfrm>
                <a:off x="3534840" y="2592000"/>
                <a:ext cx="1220400" cy="1218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550320" y="2598840"/>
                <a:ext cx="1190880" cy="118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562920" y="2610360"/>
                <a:ext cx="1132560" cy="1110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29160" y="2641680"/>
                <a:ext cx="1006920" cy="90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038560" y="1495440"/>
            <a:ext cx="1603440" cy="1603440"/>
            <a:chOff x="5038560" y="1495440"/>
            <a:chExt cx="1603440" cy="1603440"/>
          </a:xfrm>
        </p:grpSpPr>
        <p:sp>
          <p:nvSpPr>
            <p:cNvPr id="602" name=""/>
            <p:cNvSpPr/>
            <p:nvPr/>
          </p:nvSpPr>
          <p:spPr>
            <a:xfrm>
              <a:off x="5038560" y="149544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38560" y="149544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46200" y="1581840"/>
              <a:ext cx="1390680" cy="139248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48000" y="1584720"/>
              <a:ext cx="1390320" cy="1392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3160" y="165924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237640" y="1674360"/>
              <a:ext cx="1214280" cy="1215720"/>
              <a:chOff x="5237640" y="1674360"/>
              <a:chExt cx="1214280" cy="1215720"/>
            </a:xfrm>
          </p:grpSpPr>
          <p:sp>
            <p:nvSpPr>
              <p:cNvPr id="608" name=""/>
              <p:cNvSpPr/>
              <p:nvPr/>
            </p:nvSpPr>
            <p:spPr>
              <a:xfrm>
                <a:off x="5237640" y="167436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53120" y="168084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65720" y="169272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31600" y="172368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6753240" y="2317680"/>
            <a:ext cx="1598760" cy="1630440"/>
            <a:chOff x="6753240" y="2317680"/>
            <a:chExt cx="1598760" cy="1630440"/>
          </a:xfrm>
        </p:grpSpPr>
        <p:sp>
          <p:nvSpPr>
            <p:cNvPr id="613" name=""/>
            <p:cNvSpPr/>
            <p:nvPr/>
          </p:nvSpPr>
          <p:spPr>
            <a:xfrm>
              <a:off x="6753240" y="23176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3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3240" y="2317680"/>
              <a:ext cx="1598760" cy="1630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1880" y="2416320"/>
              <a:ext cx="1388880" cy="1417320"/>
            </a:xfrm>
            <a:prstGeom prst="ellipse">
              <a:avLst/>
            </a:prstGeom>
            <a:gradFill rotWithShape="0">
              <a:gsLst>
                <a:gs pos="0">
                  <a:srgbClr val="89521b"/>
                </a:gs>
                <a:gs pos="50000">
                  <a:srgbClr val="ff9933"/>
                </a:gs>
                <a:gs pos="100000">
                  <a:srgbClr val="8952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0" y="2396520"/>
              <a:ext cx="1388880" cy="14176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160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18840" y="249408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6939720" y="2511720"/>
              <a:ext cx="1211400" cy="1235520"/>
              <a:chOff x="6939720" y="2511720"/>
              <a:chExt cx="1211400" cy="1235520"/>
            </a:xfrm>
          </p:grpSpPr>
          <p:sp>
            <p:nvSpPr>
              <p:cNvPr id="619" name=""/>
              <p:cNvSpPr/>
              <p:nvPr/>
            </p:nvSpPr>
            <p:spPr>
              <a:xfrm>
                <a:off x="6939720" y="2511720"/>
                <a:ext cx="1211400" cy="1235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55200" y="2518560"/>
                <a:ext cx="1182240" cy="1204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67800" y="2530440"/>
                <a:ext cx="1124280" cy="1125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33320" y="2561760"/>
                <a:ext cx="999360" cy="91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1633680" y="1500120"/>
            <a:ext cx="1637640" cy="1620720"/>
            <a:chOff x="1633680" y="1500120"/>
            <a:chExt cx="1637640" cy="1620720"/>
          </a:xfrm>
        </p:grpSpPr>
        <p:sp>
          <p:nvSpPr>
            <p:cNvPr id="624" name=""/>
            <p:cNvSpPr/>
            <p:nvPr/>
          </p:nvSpPr>
          <p:spPr>
            <a:xfrm>
              <a:off x="1633680" y="1500120"/>
              <a:ext cx="1637640" cy="162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33680" y="1500120"/>
              <a:ext cx="1637640" cy="162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1605240"/>
              <a:ext cx="1424880" cy="14101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41680" y="1605240"/>
              <a:ext cx="1423080" cy="14101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18000" y="1676880"/>
              <a:ext cx="1280520" cy="1267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8520" y="1697400"/>
              <a:ext cx="1240920" cy="12279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54000" y="1704960"/>
              <a:ext cx="1210320" cy="11955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66960" y="1716120"/>
              <a:ext cx="1151640" cy="11188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3920" y="1748160"/>
              <a:ext cx="1024200" cy="908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2416320" y="3220920"/>
            <a:ext cx="0" cy="15717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32440" y="4116240"/>
            <a:ext cx="0" cy="666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26240" y="3192480"/>
            <a:ext cx="0" cy="1590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08880" y="4040280"/>
            <a:ext cx="0" cy="742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68320" y="20145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57440" y="29163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76800" y="198108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58000" y="284472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57880" y="1752480"/>
            <a:ext cx="3341520" cy="427320"/>
          </a:xfrm>
          <a:prstGeom prst="bevel">
            <a:avLst>
              <a:gd name="adj" fmla="val 12639"/>
            </a:avLst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57440" y="2930400"/>
            <a:ext cx="3341880" cy="427320"/>
          </a:xfrm>
          <a:prstGeom prst="bevel">
            <a:avLst>
              <a:gd name="adj" fmla="val 12639"/>
            </a:avLst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21000" y="4100400"/>
            <a:ext cx="3341520" cy="427320"/>
          </a:xfrm>
          <a:prstGeom prst="bevel">
            <a:avLst>
              <a:gd name="adj" fmla="val 10407"/>
            </a:avLst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98680" y="5291280"/>
            <a:ext cx="3341520" cy="426960"/>
          </a:xfrm>
          <a:prstGeom prst="bevel">
            <a:avLst>
              <a:gd name="adj" fmla="val 12639"/>
            </a:avLst>
          </a:prstGeom>
          <a:solidFill>
            <a:srgbClr val="85a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rot="18321000">
            <a:off x="3349440" y="215280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rot="18321000">
            <a:off x="2312640" y="331632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rot="18321000">
            <a:off x="1377720" y="452592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d05656"/>
              </a:gs>
              <a:gs pos="100000">
                <a:srgbClr val="e6a8a8">
                  <a:alpha val="32156"/>
                </a:srgbClr>
              </a:gs>
            </a:gsLst>
            <a:lin ang="75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565440" y="2990880"/>
            <a:ext cx="2043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64080" y="181944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29000" y="415296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76440" y="535320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5788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5744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98760" y="45910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38280" y="5791320"/>
            <a:ext cx="40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3884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3876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79720" y="4591080"/>
            <a:ext cx="16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57736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 rot="16200000">
            <a:off x="1571400" y="553320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 rot="16200000">
            <a:off x="774720" y="5353200"/>
            <a:ext cx="9079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524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895320" y="2027160"/>
            <a:ext cx="6857640" cy="1533240"/>
            <a:chOff x="895320" y="2027160"/>
            <a:chExt cx="6857640" cy="1533240"/>
          </a:xfrm>
        </p:grpSpPr>
        <p:sp>
          <p:nvSpPr>
            <p:cNvPr id="667" name=""/>
            <p:cNvSpPr/>
            <p:nvPr/>
          </p:nvSpPr>
          <p:spPr>
            <a:xfrm>
              <a:off x="911160" y="202716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95320" y="207972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289160" y="2157480"/>
            <a:ext cx="1238040" cy="1264680"/>
            <a:chOff x="1289160" y="2157480"/>
            <a:chExt cx="1238040" cy="1264680"/>
          </a:xfrm>
        </p:grpSpPr>
        <p:sp>
          <p:nvSpPr>
            <p:cNvPr id="670" name=""/>
            <p:cNvSpPr/>
            <p:nvPr/>
          </p:nvSpPr>
          <p:spPr>
            <a:xfrm>
              <a:off x="1289160" y="2199960"/>
              <a:ext cx="1238040" cy="1222200"/>
            </a:xfrm>
            <a:prstGeom prst="ellipse">
              <a:avLst/>
            </a:prstGeom>
            <a:solidFill>
              <a:srgbClr val="d87aa5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1393920" y="215748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1557720" y="2646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89280" y="256068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714840" y="2133720"/>
            <a:ext cx="1238040" cy="1264680"/>
            <a:chOff x="3714840" y="2133720"/>
            <a:chExt cx="1238040" cy="1264680"/>
          </a:xfrm>
        </p:grpSpPr>
        <p:sp>
          <p:nvSpPr>
            <p:cNvPr id="675" name=""/>
            <p:cNvSpPr/>
            <p:nvPr/>
          </p:nvSpPr>
          <p:spPr>
            <a:xfrm>
              <a:off x="3714840" y="2176200"/>
              <a:ext cx="1238040" cy="1222200"/>
            </a:xfrm>
            <a:prstGeom prst="ellipse">
              <a:avLst/>
            </a:prstGeom>
            <a:solidFill>
              <a:srgbClr val="ac8cd0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3819600" y="21337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7" name=""/>
          <p:cNvSpPr/>
          <p:nvPr/>
        </p:nvSpPr>
        <p:spPr>
          <a:xfrm>
            <a:off x="3981600" y="262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086440" y="25765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165720" y="2133720"/>
            <a:ext cx="1236960" cy="1264680"/>
            <a:chOff x="6165720" y="2133720"/>
            <a:chExt cx="1236960" cy="1264680"/>
          </a:xfrm>
        </p:grpSpPr>
        <p:sp>
          <p:nvSpPr>
            <p:cNvPr id="680" name=""/>
            <p:cNvSpPr/>
            <p:nvPr/>
          </p:nvSpPr>
          <p:spPr>
            <a:xfrm>
              <a:off x="6165720" y="2176200"/>
              <a:ext cx="1236960" cy="1222200"/>
            </a:xfrm>
            <a:prstGeom prst="ellipse">
              <a:avLst/>
            </a:prstGeom>
            <a:solidFill>
              <a:srgbClr val="da7f70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1" name="" descr=""/>
            <p:cNvPicPr/>
            <p:nvPr/>
          </p:nvPicPr>
          <p:blipFill>
            <a:blip r:embed="rId3"/>
            <a:stretch/>
          </p:blipFill>
          <p:spPr>
            <a:xfrm>
              <a:off x="6270480" y="2133720"/>
              <a:ext cx="102060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"/>
          <p:cNvSpPr/>
          <p:nvPr/>
        </p:nvSpPr>
        <p:spPr>
          <a:xfrm>
            <a:off x="6431040" y="262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38640" y="57736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 rot="16200000">
            <a:off x="4160880" y="5353200"/>
            <a:ext cx="9079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 rot="16200000">
            <a:off x="3281760" y="51044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950080" y="5773680"/>
            <a:ext cx="18842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 rot="16200000">
            <a:off x="6290640" y="48812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a7f70"/>
              </a:gs>
              <a:gs pos="100000">
                <a:srgbClr val="a45f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 rot="16200000">
            <a:off x="5499000" y="4699800"/>
            <a:ext cx="221436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87aa5"/>
              </a:gs>
              <a:gs pos="100000">
                <a:srgbClr val="a25b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4624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80000" y="6064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441440" y="477036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081160" y="52275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260960" y="45831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43440" y="50911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0" y="37036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445520" y="4148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95320" y="1295280"/>
            <a:ext cx="7296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702" name=""/>
            <p:cNvSpPr/>
            <p:nvPr/>
          </p:nvSpPr>
          <p:spPr>
            <a:xfrm>
              <a:off x="2349360" y="375840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1767"/>
                </a:solidFill>
                <a:latin typeface="Arial"/>
                <a:ea typeface="Arial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c1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1767"/>
                </a:solidFill>
                <a:latin typeface="Arial"/>
                <a:ea typeface="Arial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8320" y="5099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12840" y="5099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95960" y="5081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82160" y="5091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718" name=""/>
            <p:cNvSpPr/>
            <p:nvPr/>
          </p:nvSpPr>
          <p:spPr>
            <a:xfrm>
              <a:off x="3201840" y="333468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722" name=""/>
            <p:cNvSpPr/>
            <p:nvPr/>
          </p:nvSpPr>
          <p:spPr>
            <a:xfrm>
              <a:off x="1511280" y="395136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d87aa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726" name=""/>
            <p:cNvSpPr/>
            <p:nvPr/>
          </p:nvSpPr>
          <p:spPr>
            <a:xfrm>
              <a:off x="6902280" y="3273480"/>
              <a:ext cx="851040" cy="1401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730" name=""/>
            <p:cNvSpPr/>
            <p:nvPr/>
          </p:nvSpPr>
          <p:spPr>
            <a:xfrm>
              <a:off x="5962680" y="349704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733" name=""/>
            <p:cNvSpPr/>
            <p:nvPr/>
          </p:nvSpPr>
          <p:spPr>
            <a:xfrm>
              <a:off x="5126040" y="380556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ac8cd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17334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2209680" y="2441520"/>
            <a:ext cx="3961800" cy="3729960"/>
            <a:chOff x="2209680" y="2441520"/>
            <a:chExt cx="3961800" cy="3729960"/>
          </a:xfrm>
        </p:grpSpPr>
        <p:sp>
          <p:nvSpPr>
            <p:cNvPr id="740" name=""/>
            <p:cNvSpPr/>
            <p:nvPr/>
          </p:nvSpPr>
          <p:spPr>
            <a:xfrm>
              <a:off x="2209680" y="245412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84280" y="244152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47040" y="434088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666880" y="2822400"/>
            <a:ext cx="3202920" cy="3016080"/>
            <a:chOff x="2666880" y="2822400"/>
            <a:chExt cx="3202920" cy="3016080"/>
          </a:xfrm>
        </p:grpSpPr>
        <p:sp>
          <p:nvSpPr>
            <p:cNvPr id="745" name=""/>
            <p:cNvSpPr/>
            <p:nvPr/>
          </p:nvSpPr>
          <p:spPr>
            <a:xfrm>
              <a:off x="2666880" y="283248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ac8cd0"/>
                </a:gs>
                <a:gs pos="100000">
                  <a:srgbClr val="c9b5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63120" y="282240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c4aedd"/>
                </a:gs>
                <a:gs pos="100000">
                  <a:srgbClr val="ac8c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3680" y="435816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81699c"/>
                </a:gs>
                <a:gs pos="100000">
                  <a:srgbClr val="ac8c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3734640" y="39765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42840" y="2682720"/>
            <a:ext cx="398520" cy="406800"/>
            <a:chOff x="5442840" y="2682720"/>
            <a:chExt cx="398520" cy="406800"/>
          </a:xfrm>
        </p:grpSpPr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 rot="4977600">
              <a:off x="5501520" y="27468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 rot="4977000">
              <a:off x="5502240" y="27460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92520" y="2775960"/>
              <a:ext cx="108720" cy="241920"/>
              <a:chOff x="5492520" y="2775960"/>
              <a:chExt cx="108720" cy="24192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5495400" y="2820600"/>
                <a:ext cx="105840" cy="197280"/>
                <a:chOff x="5495400" y="2820600"/>
                <a:chExt cx="105840" cy="197280"/>
              </a:xfrm>
            </p:grpSpPr>
            <p:sp>
              <p:nvSpPr>
                <p:cNvPr id="754" name=""/>
                <p:cNvSpPr/>
                <p:nvPr/>
              </p:nvSpPr>
              <p:spPr>
                <a:xfrm flipH="1" flipV="1" rot="8941800">
                  <a:off x="55303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 flipV="1" rot="9757200">
                  <a:off x="551880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 rot="10053000">
                  <a:off x="5515560" y="28371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 rot="10585200">
                  <a:off x="551196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492520" y="2775960"/>
                <a:ext cx="82080" cy="203040"/>
                <a:chOff x="5492520" y="2775960"/>
                <a:chExt cx="82080" cy="203040"/>
              </a:xfrm>
            </p:grpSpPr>
            <p:sp>
              <p:nvSpPr>
                <p:cNvPr id="759" name=""/>
                <p:cNvSpPr/>
                <p:nvPr/>
              </p:nvSpPr>
              <p:spPr>
                <a:xfrm flipH="1" flipV="1" rot="10294800">
                  <a:off x="5513040" y="28314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 rot="11110200">
                  <a:off x="5510880" y="28080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 rot="11406000">
                  <a:off x="5511600" y="2793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 rot="11938200">
                  <a:off x="5515200" y="27777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 flipH="1" rot="1129200">
              <a:off x="5486400" y="27241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4800">
              <a:off x="5577840" y="27615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2474280" y="3186000"/>
            <a:ext cx="398520" cy="406800"/>
            <a:chOff x="2474280" y="3186000"/>
            <a:chExt cx="398520" cy="406800"/>
          </a:xfrm>
        </p:grpSpPr>
        <p:pic>
          <p:nvPicPr>
            <p:cNvPr id="766" name="" descr=""/>
            <p:cNvPicPr/>
            <p:nvPr/>
          </p:nvPicPr>
          <p:blipFill>
            <a:blip r:embed="rId3"/>
            <a:stretch/>
          </p:blipFill>
          <p:spPr>
            <a:xfrm rot="4977600">
              <a:off x="2532960" y="32500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 rot="4977000">
              <a:off x="2533680" y="32493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2523960" y="3279240"/>
              <a:ext cx="108720" cy="241920"/>
              <a:chOff x="2523960" y="3279240"/>
              <a:chExt cx="108720" cy="24192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2526840" y="3323880"/>
                <a:ext cx="105840" cy="197280"/>
                <a:chOff x="2526840" y="3323880"/>
                <a:chExt cx="105840" cy="19728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flipV="1" rot="8941800">
                  <a:off x="25617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 rot="9757200">
                  <a:off x="255024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 rot="10053000">
                  <a:off x="2547000" y="33404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 rot="10585200">
                  <a:off x="254340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523960" y="3279240"/>
                <a:ext cx="82080" cy="203040"/>
                <a:chOff x="2523960" y="3279240"/>
                <a:chExt cx="82080" cy="203040"/>
              </a:xfrm>
            </p:grpSpPr>
            <p:sp>
              <p:nvSpPr>
                <p:cNvPr id="775" name=""/>
                <p:cNvSpPr/>
                <p:nvPr/>
              </p:nvSpPr>
              <p:spPr>
                <a:xfrm flipH="1" flipV="1" rot="10294800">
                  <a:off x="2544480" y="33346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 rot="11110200">
                  <a:off x="2542320" y="331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flipV="1" rot="11406000">
                  <a:off x="2543040" y="3296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flipV="1" rot="11938200">
                  <a:off x="2546640" y="3281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9" name=""/>
            <p:cNvSpPr/>
            <p:nvPr/>
          </p:nvSpPr>
          <p:spPr>
            <a:xfrm flipH="1" rot="1129200">
              <a:off x="2517840" y="322740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4800">
              <a:off x="2609280" y="32648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"/>
          <p:cNvGrpSpPr/>
          <p:nvPr/>
        </p:nvGrpSpPr>
        <p:grpSpPr>
          <a:xfrm>
            <a:off x="4447440" y="5632200"/>
            <a:ext cx="398520" cy="406800"/>
            <a:chOff x="4447440" y="5632200"/>
            <a:chExt cx="398520" cy="406800"/>
          </a:xfrm>
        </p:grpSpPr>
        <p:pic>
          <p:nvPicPr>
            <p:cNvPr id="782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506120" y="569628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 rot="4977000">
              <a:off x="4506840" y="569556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497120" y="5725440"/>
              <a:ext cx="108720" cy="241920"/>
              <a:chOff x="4497120" y="5725440"/>
              <a:chExt cx="108720" cy="24192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4500000" y="5770080"/>
                <a:ext cx="105840" cy="197280"/>
                <a:chOff x="4500000" y="5770080"/>
                <a:chExt cx="105840" cy="197280"/>
              </a:xfrm>
            </p:grpSpPr>
            <p:sp>
              <p:nvSpPr>
                <p:cNvPr id="786" name=""/>
                <p:cNvSpPr/>
                <p:nvPr/>
              </p:nvSpPr>
              <p:spPr>
                <a:xfrm flipH="1" flipV="1" rot="8941800">
                  <a:off x="453492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flipV="1" rot="9757200">
                  <a:off x="452340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 rot="10053000">
                  <a:off x="4520160" y="5786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flipV="1" rot="10585200">
                  <a:off x="451656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497120" y="5725440"/>
                <a:ext cx="82080" cy="203040"/>
                <a:chOff x="4497120" y="5725440"/>
                <a:chExt cx="82080" cy="203040"/>
              </a:xfrm>
            </p:grpSpPr>
            <p:sp>
              <p:nvSpPr>
                <p:cNvPr id="791" name=""/>
                <p:cNvSpPr/>
                <p:nvPr/>
              </p:nvSpPr>
              <p:spPr>
                <a:xfrm flipH="1" flipV="1" rot="10294800">
                  <a:off x="4517640" y="57808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flipV="1" rot="11110200">
                  <a:off x="4515480" y="57574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 rot="11406000">
                  <a:off x="4516200" y="57430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flipV="1" rot="11938200">
                  <a:off x="451980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"/>
            <p:cNvSpPr/>
            <p:nvPr/>
          </p:nvSpPr>
          <p:spPr>
            <a:xfrm flipH="1" rot="1129200">
              <a:off x="4491000" y="567360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582440" y="571104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"/>
          <p:cNvSpPr/>
          <p:nvPr/>
        </p:nvSpPr>
        <p:spPr>
          <a:xfrm>
            <a:off x="332172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74876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5808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96080" y="237636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57920" y="552132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9080" y="3006720"/>
            <a:ext cx="15094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1447920"/>
            <a:ext cx="7162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65200" y="2787480"/>
            <a:ext cx="7740720" cy="619200"/>
          </a:xfrm>
          <a:prstGeom prst="rect">
            <a:avLst/>
          </a:prstGeom>
          <a:solidFill>
            <a:srgbClr val="d8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554040" y="2787480"/>
            <a:ext cx="2053440" cy="618840"/>
            <a:chOff x="554040" y="2787480"/>
            <a:chExt cx="2053440" cy="618840"/>
          </a:xfrm>
        </p:grpSpPr>
        <p:sp>
          <p:nvSpPr>
            <p:cNvPr id="807" name=""/>
            <p:cNvSpPr/>
            <p:nvPr/>
          </p:nvSpPr>
          <p:spPr>
            <a:xfrm>
              <a:off x="554040" y="2787480"/>
              <a:ext cx="1915920" cy="618840"/>
            </a:xfrm>
            <a:prstGeom prst="rect">
              <a:avLst/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5400000">
              <a:off x="2367720" y="30024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da7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468520" y="2919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6360" y="2894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4028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29192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888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407280" y="29192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51040" y="3537000"/>
            <a:ext cx="1114200" cy="1114200"/>
          </a:xfrm>
          <a:prstGeom prst="diamond">
            <a:avLst/>
          </a:prstGeom>
          <a:solidFill>
            <a:srgbClr val="da7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32120" y="353700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22920" y="3537000"/>
            <a:ext cx="111420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65840" y="3537000"/>
            <a:ext cx="1114560" cy="1114200"/>
          </a:xfrm>
          <a:prstGeom prst="diamond">
            <a:avLst/>
          </a:prstGeom>
          <a:solidFill>
            <a:srgbClr val="ac8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3"/>
            <a:endCxn id="816" idx="1"/>
          </p:cNvCxnSpPr>
          <p:nvPr/>
        </p:nvCxnSpPr>
        <p:spPr>
          <a:xfrm>
            <a:off x="1965240" y="409392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0" name=""/>
          <p:cNvCxnSpPr>
            <a:stCxn id="816" idx="3"/>
            <a:endCxn id="817" idx="1"/>
          </p:cNvCxnSpPr>
          <p:nvPr/>
        </p:nvCxnSpPr>
        <p:spPr>
          <a:xfrm>
            <a:off x="3946680" y="40939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21" name=""/>
          <p:cNvCxnSpPr>
            <a:stCxn id="817" idx="3"/>
            <a:endCxn id="818" idx="1"/>
          </p:cNvCxnSpPr>
          <p:nvPr/>
        </p:nvCxnSpPr>
        <p:spPr>
          <a:xfrm>
            <a:off x="5937120" y="40939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22" name=""/>
          <p:cNvSpPr/>
          <p:nvPr/>
        </p:nvSpPr>
        <p:spPr>
          <a:xfrm>
            <a:off x="95400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43360" y="3862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0552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688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40160" y="47419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55436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50232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3520" y="180972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85a3d5"/>
              </a:gs>
              <a:gs pos="100000">
                <a:srgbClr val="3d4b62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d87aa5"/>
              </a:gs>
              <a:gs pos="100000">
                <a:srgbClr val="63384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ac8cd0"/>
              </a:gs>
              <a:gs pos="100000">
                <a:srgbClr val="4f405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da7f70"/>
              </a:gs>
              <a:gs pos="100000">
                <a:srgbClr val="643a3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5c1767"/>
              </a:gs>
              <a:gs pos="100000">
                <a:srgbClr val="2a0a2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a7f7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B83-813C-4DA1-9B67-89E3BF11A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883040" y="5695920"/>
            <a:ext cx="3880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0661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000" spc="-1" strike="noStrike">
                <a:solidFill>
                  <a:srgbClr val="5c1767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View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Master]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Slide Master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200" spc="-1" strike="noStrike">
                <a:solidFill>
                  <a:srgbClr val="5c1767"/>
                </a:solidFill>
                <a:latin typeface="Arial"/>
              </a:rPr>
              <a:t>[Notes Master]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514980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136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544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15120" y="3271680"/>
            <a:ext cx="2355840" cy="523800"/>
            <a:chOff x="6315120" y="3271680"/>
            <a:chExt cx="2355840" cy="523800"/>
          </a:xfrm>
        </p:grpSpPr>
        <p:sp>
          <p:nvSpPr>
            <p:cNvPr id="134" name=""/>
            <p:cNvSpPr/>
            <p:nvPr/>
          </p:nvSpPr>
          <p:spPr>
            <a:xfrm>
              <a:off x="631512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c8cd0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1480" y="330336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8cd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4352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22600" y="3271680"/>
            <a:ext cx="2355840" cy="523800"/>
            <a:chOff x="3522600" y="3271680"/>
            <a:chExt cx="2355840" cy="523800"/>
          </a:xfrm>
        </p:grpSpPr>
        <p:sp>
          <p:nvSpPr>
            <p:cNvPr id="138" name=""/>
            <p:cNvSpPr/>
            <p:nvPr/>
          </p:nvSpPr>
          <p:spPr>
            <a:xfrm>
              <a:off x="352260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a3d5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58960" y="330336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5a3d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4488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440" y="352260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7720" y="327168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3303720"/>
            <a:ext cx="227340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da7f7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9640" y="33228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1560" y="282240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800" y="406548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83000" y="409896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4760" y="4098960"/>
            <a:ext cx="2506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177624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5c1767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90920" y="23652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0492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0552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7184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95480" y="1527120"/>
            <a:ext cx="1169280" cy="1175400"/>
            <a:chOff x="2895480" y="1527120"/>
            <a:chExt cx="1169280" cy="1175400"/>
          </a:xfrm>
        </p:grpSpPr>
        <p:sp>
          <p:nvSpPr>
            <p:cNvPr id="161" name=""/>
            <p:cNvSpPr/>
            <p:nvPr/>
          </p:nvSpPr>
          <p:spPr>
            <a:xfrm>
              <a:off x="2895480" y="15271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30400" y="1563480"/>
              <a:ext cx="1118520" cy="1139040"/>
              <a:chOff x="2930400" y="1563480"/>
              <a:chExt cx="1118520" cy="113904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5634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2930400" y="1563480"/>
                <a:ext cx="1079640" cy="1085760"/>
              </a:xfrm>
              <a:prstGeom prst="ellipse">
                <a:avLst/>
              </a:prstGeom>
              <a:solidFill>
                <a:srgbClr val="da7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5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4084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" name=""/>
              <p:cNvGrpSpPr/>
              <p:nvPr/>
            </p:nvGrpSpPr>
            <p:grpSpPr>
              <a:xfrm>
                <a:off x="3280680" y="2000880"/>
                <a:ext cx="768240" cy="701640"/>
                <a:chOff x="3280680" y="2000880"/>
                <a:chExt cx="768240" cy="70164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3457440" y="2000880"/>
                  <a:ext cx="591480" cy="694440"/>
                  <a:chOff x="3457440" y="2000880"/>
                  <a:chExt cx="591480" cy="6944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flipV="1" rot="1528800">
                    <a:off x="3787560" y="2002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flipV="1" rot="2344200">
                    <a:off x="3741840" y="2087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 rot="2640000">
                    <a:off x="3704760" y="2129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 rot="3172200">
                    <a:off x="3659040" y="217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3280680" y="2192760"/>
                  <a:ext cx="743760" cy="509760"/>
                  <a:chOff x="3280680" y="2192760"/>
                  <a:chExt cx="743760" cy="5097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flipV="1" rot="2881800">
                    <a:off x="3692160" y="2148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flipV="1" rot="3697200">
                    <a:off x="3617280" y="2209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flipV="1" rot="3993000">
                    <a:off x="3567600" y="2234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flipV="1" rot="4525200">
                    <a:off x="3507480" y="2260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3387240" y="2030760"/>
              <a:ext cx="677520" cy="617760"/>
              <a:chOff x="3387240" y="2030760"/>
              <a:chExt cx="677520" cy="6177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3543120" y="2030760"/>
                <a:ext cx="521640" cy="611640"/>
                <a:chOff x="3543120" y="2030760"/>
                <a:chExt cx="521640" cy="61164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flipV="1" rot="1528800">
                  <a:off x="3833640" y="20325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 rot="2344200">
                  <a:off x="3793680" y="21063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2640000">
                  <a:off x="3760920" y="214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 rot="3172200">
                  <a:off x="3720600" y="21852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387240" y="2198160"/>
                <a:ext cx="655200" cy="450360"/>
                <a:chOff x="3387240" y="2198160"/>
                <a:chExt cx="655200" cy="45036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flipV="1" rot="2881800">
                  <a:off x="3748680" y="216036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3697200">
                  <a:off x="3683160" y="22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3993000">
                  <a:off x="3639600" y="2235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 rot="4525200">
                  <a:off x="3585600" y="225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3180240" y="194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906560" y="2924280"/>
            <a:ext cx="1169280" cy="1175400"/>
            <a:chOff x="1906560" y="2924280"/>
            <a:chExt cx="1169280" cy="1175400"/>
          </a:xfrm>
        </p:grpSpPr>
        <p:sp>
          <p:nvSpPr>
            <p:cNvPr id="190" name=""/>
            <p:cNvSpPr/>
            <p:nvPr/>
          </p:nvSpPr>
          <p:spPr>
            <a:xfrm>
              <a:off x="1906560" y="29242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41480" y="2960640"/>
              <a:ext cx="1118520" cy="1139040"/>
              <a:chOff x="1941480" y="2960640"/>
              <a:chExt cx="1118520" cy="11390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9606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1941480" y="2960640"/>
                <a:ext cx="1079640" cy="1085760"/>
              </a:xfrm>
              <a:prstGeom prst="ellipse">
                <a:avLst/>
              </a:prstGeom>
              <a:solidFill>
                <a:srgbClr val="ac8c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9519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5" name=""/>
              <p:cNvGrpSpPr/>
              <p:nvPr/>
            </p:nvGrpSpPr>
            <p:grpSpPr>
              <a:xfrm>
                <a:off x="2291760" y="3398040"/>
                <a:ext cx="768240" cy="701640"/>
                <a:chOff x="2291760" y="3398040"/>
                <a:chExt cx="768240" cy="701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2468520" y="3398040"/>
                  <a:ext cx="591480" cy="694440"/>
                  <a:chOff x="2468520" y="3398040"/>
                  <a:chExt cx="591480" cy="6944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 rot="1528800">
                    <a:off x="2798640" y="339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2344200">
                    <a:off x="2752920" y="3484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2640000">
                    <a:off x="2715840" y="352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3172200">
                    <a:off x="2670120" y="357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2291760" y="3589920"/>
                  <a:ext cx="743760" cy="509760"/>
                  <a:chOff x="2291760" y="3589920"/>
                  <a:chExt cx="743760" cy="5097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flipV="1" rot="2881800">
                    <a:off x="2703240" y="354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3697200">
                    <a:off x="2628360" y="360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3993000">
                    <a:off x="2578680" y="363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flipV="1" rot="4525200">
                    <a:off x="2518560" y="365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"/>
            <p:cNvGrpSpPr/>
            <p:nvPr/>
          </p:nvGrpSpPr>
          <p:grpSpPr>
            <a:xfrm>
              <a:off x="2398320" y="3427920"/>
              <a:ext cx="677520" cy="617760"/>
              <a:chOff x="2398320" y="3427920"/>
              <a:chExt cx="677520" cy="617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554200" y="3427920"/>
                <a:ext cx="521640" cy="611640"/>
                <a:chOff x="2554200" y="3427920"/>
                <a:chExt cx="521640" cy="611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1528800">
                  <a:off x="2844720" y="3429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2344200">
                  <a:off x="2804760" y="35035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2640000">
                  <a:off x="2772000" y="35402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3172200">
                  <a:off x="2731680" y="3582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398320" y="3595320"/>
                <a:ext cx="655200" cy="450360"/>
                <a:chOff x="2398320" y="3595320"/>
                <a:chExt cx="655200" cy="45036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flipV="1" rot="2881800">
                  <a:off x="2759760" y="35575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3697200">
                  <a:off x="2694240" y="361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3993000">
                  <a:off x="2650680" y="363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 rot="4525200">
                  <a:off x="2596680" y="365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219132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19320" y="5272200"/>
            <a:ext cx="1169280" cy="1175400"/>
            <a:chOff x="3019320" y="5272200"/>
            <a:chExt cx="1169280" cy="1175400"/>
          </a:xfrm>
        </p:grpSpPr>
        <p:sp>
          <p:nvSpPr>
            <p:cNvPr id="219" name=""/>
            <p:cNvSpPr/>
            <p:nvPr/>
          </p:nvSpPr>
          <p:spPr>
            <a:xfrm>
              <a:off x="3019320" y="5272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054240" y="5308560"/>
              <a:ext cx="1118520" cy="1139040"/>
              <a:chOff x="3054240" y="5308560"/>
              <a:chExt cx="1118520" cy="1139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308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3054240" y="5308560"/>
                <a:ext cx="1079640" cy="1085760"/>
              </a:xfrm>
              <a:prstGeom prst="ellipse">
                <a:avLst/>
              </a:prstGeom>
              <a:solidFill>
                <a:srgbClr val="d87a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0646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4" name=""/>
              <p:cNvGrpSpPr/>
              <p:nvPr/>
            </p:nvGrpSpPr>
            <p:grpSpPr>
              <a:xfrm>
                <a:off x="3404520" y="5745960"/>
                <a:ext cx="768240" cy="701640"/>
                <a:chOff x="3404520" y="5745960"/>
                <a:chExt cx="768240" cy="70164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3581280" y="5745960"/>
                  <a:ext cx="591480" cy="694440"/>
                  <a:chOff x="3581280" y="5745960"/>
                  <a:chExt cx="591480" cy="6944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flipV="1" rot="1528800">
                    <a:off x="3911400" y="5747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2344200">
                    <a:off x="3865680" y="5832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flipV="1" rot="2640000">
                    <a:off x="3828600" y="5874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flipV="1" rot="3172200">
                    <a:off x="3782880" y="5921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3404520" y="5937840"/>
                  <a:ext cx="743760" cy="509760"/>
                  <a:chOff x="3404520" y="5937840"/>
                  <a:chExt cx="743760" cy="509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flipV="1" rot="2881800">
                    <a:off x="3816000" y="5893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3697200">
                    <a:off x="3741120" y="5954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flipV="1" rot="3993000">
                    <a:off x="3691440" y="5979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flipV="1" rot="4525200">
                    <a:off x="3631320" y="6005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3511080" y="5775840"/>
              <a:ext cx="677520" cy="617760"/>
              <a:chOff x="3511080" y="5775840"/>
              <a:chExt cx="677520" cy="61776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666960" y="5775840"/>
                <a:ext cx="521640" cy="611640"/>
                <a:chOff x="3666960" y="5775840"/>
                <a:chExt cx="521640" cy="61164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1528800">
                  <a:off x="3957480" y="5777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2344200">
                  <a:off x="3917520" y="58514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2640000">
                  <a:off x="3884760" y="5888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3172200">
                  <a:off x="3844440" y="5930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511080" y="5943240"/>
                <a:ext cx="655200" cy="450360"/>
                <a:chOff x="3511080" y="5943240"/>
                <a:chExt cx="655200" cy="45036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2881800">
                  <a:off x="3872520" y="590544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3697200">
                  <a:off x="3807000" y="5959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3993000">
                  <a:off x="3763440" y="5981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4525200">
                  <a:off x="3709440" y="600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330408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64280" y="3813120"/>
            <a:ext cx="1168560" cy="1175400"/>
            <a:chOff x="5264280" y="3813120"/>
            <a:chExt cx="1168560" cy="1175400"/>
          </a:xfrm>
        </p:grpSpPr>
        <p:sp>
          <p:nvSpPr>
            <p:cNvPr id="248" name=""/>
            <p:cNvSpPr/>
            <p:nvPr/>
          </p:nvSpPr>
          <p:spPr>
            <a:xfrm>
              <a:off x="526428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298840" y="3849480"/>
              <a:ext cx="1118520" cy="1139040"/>
              <a:chOff x="5298840" y="3849480"/>
              <a:chExt cx="1118520" cy="1139040"/>
            </a:xfrm>
          </p:grpSpPr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98840" y="384948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98840" y="384948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309280" y="389448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"/>
              <p:cNvGrpSpPr/>
              <p:nvPr/>
            </p:nvGrpSpPr>
            <p:grpSpPr>
              <a:xfrm>
                <a:off x="5649120" y="4286880"/>
                <a:ext cx="768240" cy="701640"/>
                <a:chOff x="5649120" y="4286880"/>
                <a:chExt cx="768240" cy="7016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5825880" y="4286880"/>
                  <a:ext cx="591480" cy="694440"/>
                  <a:chOff x="5825880" y="4286880"/>
                  <a:chExt cx="591480" cy="694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flipV="1" rot="1528800">
                    <a:off x="6156000" y="4288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2344200">
                    <a:off x="6110280" y="4373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flipV="1" rot="2640000">
                    <a:off x="6073200" y="4415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 rot="3172200">
                    <a:off x="6027480" y="4462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5649120" y="4478760"/>
                  <a:ext cx="743760" cy="509760"/>
                  <a:chOff x="5649120" y="4478760"/>
                  <a:chExt cx="743760" cy="5097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flipV="1" rot="2881800">
                    <a:off x="6060600" y="4434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3697200">
                    <a:off x="5985720" y="4495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 rot="3993000">
                    <a:off x="5936040" y="4520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 rot="4525200">
                    <a:off x="5875920" y="45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" name=""/>
            <p:cNvGrpSpPr/>
            <p:nvPr/>
          </p:nvGrpSpPr>
          <p:grpSpPr>
            <a:xfrm>
              <a:off x="5756040" y="4316760"/>
              <a:ext cx="676800" cy="617400"/>
              <a:chOff x="5756040" y="4316760"/>
              <a:chExt cx="676800" cy="6174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5911920" y="4316760"/>
                <a:ext cx="520920" cy="611280"/>
                <a:chOff x="5911920" y="4316760"/>
                <a:chExt cx="520920" cy="61128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flipV="1" rot="1528800">
                  <a:off x="6201720" y="4318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2344200">
                  <a:off x="6162480" y="4393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2640000">
                  <a:off x="6129720" y="4429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3172200">
                  <a:off x="6089040" y="4471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756040" y="4485240"/>
                <a:ext cx="654480" cy="448920"/>
                <a:chOff x="5756040" y="4485240"/>
                <a:chExt cx="654480" cy="44892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flipV="1" rot="2881800">
                  <a:off x="6117120" y="44474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3697200">
                  <a:off x="6052680" y="45003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3993000">
                  <a:off x="6008760" y="45216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4525200">
                  <a:off x="5954760" y="45453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554868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257800" y="1650960"/>
            <a:ext cx="1169280" cy="1175400"/>
            <a:chOff x="5257800" y="1650960"/>
            <a:chExt cx="1169280" cy="1175400"/>
          </a:xfrm>
        </p:grpSpPr>
        <p:sp>
          <p:nvSpPr>
            <p:cNvPr id="277" name=""/>
            <p:cNvSpPr/>
            <p:nvPr/>
          </p:nvSpPr>
          <p:spPr>
            <a:xfrm>
              <a:off x="5257800" y="16509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292720" y="1687320"/>
              <a:ext cx="1118520" cy="1139040"/>
              <a:chOff x="5292720" y="1687320"/>
              <a:chExt cx="1118520" cy="1139040"/>
            </a:xfrm>
          </p:grpSpPr>
          <p:pic>
            <p:nvPicPr>
              <p:cNvPr id="2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6873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292720" y="1687320"/>
                <a:ext cx="1079640" cy="1085760"/>
              </a:xfrm>
              <a:prstGeom prst="ellipse">
                <a:avLst/>
              </a:prstGeom>
              <a:solidFill>
                <a:srgbClr val="85a3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3031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2" name=""/>
              <p:cNvGrpSpPr/>
              <p:nvPr/>
            </p:nvGrpSpPr>
            <p:grpSpPr>
              <a:xfrm>
                <a:off x="5643000" y="2124720"/>
                <a:ext cx="768240" cy="701640"/>
                <a:chOff x="5643000" y="2124720"/>
                <a:chExt cx="768240" cy="70164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5819760" y="2124720"/>
                  <a:ext cx="591480" cy="694440"/>
                  <a:chOff x="5819760" y="2124720"/>
                  <a:chExt cx="591480" cy="6944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flipV="1" rot="1528800">
                    <a:off x="6149880" y="2126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2344200">
                    <a:off x="6104160" y="2211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 rot="2640000">
                    <a:off x="6067080" y="2252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 rot="3172200">
                    <a:off x="6021360" y="23004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643000" y="2316600"/>
                  <a:ext cx="743760" cy="509760"/>
                  <a:chOff x="5643000" y="2316600"/>
                  <a:chExt cx="743760" cy="509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flipV="1" rot="2881800">
                    <a:off x="6054480" y="2272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3697200">
                    <a:off x="5979600" y="23331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3993000">
                    <a:off x="5929920" y="2358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 rot="4525200">
                    <a:off x="5869800" y="2384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5749560" y="2154600"/>
              <a:ext cx="677520" cy="617760"/>
              <a:chOff x="5749560" y="2154600"/>
              <a:chExt cx="677520" cy="6177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905440" y="2154600"/>
                <a:ext cx="521640" cy="611640"/>
                <a:chOff x="5905440" y="2154600"/>
                <a:chExt cx="521640" cy="6116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1528800">
                  <a:off x="6195960" y="21564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2344200">
                  <a:off x="6156000" y="22302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2640000">
                  <a:off x="6123240" y="2266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3172200">
                  <a:off x="6082920" y="23090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749560" y="2322000"/>
                <a:ext cx="655200" cy="450360"/>
                <a:chOff x="5749560" y="2322000"/>
                <a:chExt cx="655200" cy="45036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2881800">
                  <a:off x="6111000" y="22842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3697200">
                  <a:off x="6045480" y="2338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3993000">
                  <a:off x="6001920" y="2359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4525200">
                  <a:off x="5947920" y="238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54256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81640" y="3346560"/>
            <a:ext cx="829080" cy="845280"/>
            <a:chOff x="4481640" y="3346560"/>
            <a:chExt cx="829080" cy="845280"/>
          </a:xfrm>
        </p:grpSpPr>
        <p:pic>
          <p:nvPicPr>
            <p:cNvPr id="306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605480" y="347904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4977000">
              <a:off x="4606560" y="347724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584600" y="3539520"/>
              <a:ext cx="226440" cy="501120"/>
              <a:chOff x="4584600" y="3539520"/>
              <a:chExt cx="226440" cy="5011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4591080" y="3632400"/>
                <a:ext cx="219960" cy="408240"/>
                <a:chOff x="4591080" y="3632400"/>
                <a:chExt cx="219960" cy="408240"/>
              </a:xfrm>
            </p:grpSpPr>
            <p:sp>
              <p:nvSpPr>
                <p:cNvPr id="310" name=""/>
                <p:cNvSpPr/>
                <p:nvPr/>
              </p:nvSpPr>
              <p:spPr>
                <a:xfrm flipH="1" flipV="1" rot="8941800">
                  <a:off x="466308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9757200">
                  <a:off x="4638600" y="36964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10053000">
                  <a:off x="4632120" y="366804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10585200">
                  <a:off x="4624200" y="3633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584600" y="3539520"/>
                <a:ext cx="169560" cy="423000"/>
                <a:chOff x="4584600" y="3539520"/>
                <a:chExt cx="169560" cy="42300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flipV="1" rot="10294800">
                  <a:off x="4626360" y="3655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11110200">
                  <a:off x="4621320" y="3605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11406000">
                  <a:off x="4626720" y="35773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11938200">
                  <a:off x="4631400" y="354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 flipH="1" rot="1129200">
              <a:off x="4572360" y="343260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761720" y="350964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7253280" y="1922400"/>
            <a:ext cx="1509840" cy="366840"/>
          </a:xfrm>
          <a:noFill/>
          <a:ln w="9360">
            <a:solidFill>
              <a:srgbClr val="85a3d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3878280"/>
            <a:ext cx="150984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1523880"/>
            <a:ext cx="1593720" cy="435240"/>
          </a:xfrm>
          <a:noFill/>
          <a:ln w="9360">
            <a:solidFill>
              <a:srgbClr val="da7f7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1040" y="4030560"/>
            <a:ext cx="1594080" cy="435240"/>
          </a:xfrm>
          <a:noFill/>
          <a:ln w="9360">
            <a:solidFill>
              <a:srgbClr val="ac8cd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5337000"/>
            <a:ext cx="1509840" cy="392400"/>
          </a:xfrm>
          <a:noFill/>
          <a:ln w="9360">
            <a:solidFill>
              <a:srgbClr val="d87aa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76640" y="541332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3076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d87aa5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767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da7f7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c8cd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c8cd0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31880" y="520524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151000" y="2616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25320" y="2690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5320" y="3247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5320" y="377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532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481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320" y="536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52800" y="2730600"/>
            <a:ext cx="968400" cy="274680"/>
          </a:xfrm>
          <a:prstGeom prst="rect">
            <a:avLst/>
          </a:prstGeom>
          <a:gradFill rotWithShape="0">
            <a:gsLst>
              <a:gs pos="0">
                <a:srgbClr val="ccb9e1"/>
              </a:gs>
              <a:gs pos="100000">
                <a:srgbClr val="ac8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52800" y="3290760"/>
            <a:ext cx="849240" cy="274680"/>
          </a:xfrm>
          <a:prstGeom prst="rect">
            <a:avLst/>
          </a:prstGeom>
          <a:gradFill rotWithShape="0">
            <a:gsLst>
              <a:gs pos="0">
                <a:srgbClr val="b5c7e4"/>
              </a:gs>
              <a:gs pos="100000">
                <a:srgbClr val="85a3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52800" y="3833640"/>
            <a:ext cx="419040" cy="274680"/>
          </a:xfrm>
          <a:prstGeom prst="rect">
            <a:avLst/>
          </a:prstGeom>
          <a:gradFill rotWithShape="0">
            <a:gsLst>
              <a:gs pos="0">
                <a:srgbClr val="e6aec8"/>
              </a:gs>
              <a:gs pos="100000">
                <a:srgbClr val="d87a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52800" y="4336920"/>
            <a:ext cx="1315800" cy="274680"/>
          </a:xfrm>
          <a:prstGeom prst="rect">
            <a:avLst/>
          </a:prstGeom>
          <a:gradFill rotWithShape="0">
            <a:gsLst>
              <a:gs pos="0">
                <a:srgbClr val="e7b1a8"/>
              </a:gs>
              <a:gs pos="100000">
                <a:srgbClr val="da7f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52800" y="489096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52800" y="5424480"/>
            <a:ext cx="4725720" cy="274680"/>
          </a:xfrm>
          <a:prstGeom prst="rect">
            <a:avLst/>
          </a:prstGeom>
          <a:gradFill rotWithShape="0">
            <a:gsLst>
              <a:gs pos="0">
                <a:srgbClr val="9c73a3"/>
              </a:gs>
              <a:gs pos="100000">
                <a:srgbClr val="5c17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0920" y="5867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65560" y="272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92440" y="381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98920" y="433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37400" y="487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78600" y="5413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1581120"/>
            <a:ext cx="7467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51240" y="33764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70400" y="33116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69640" y="33764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89080" y="2178000"/>
            <a:ext cx="1361520" cy="1321560"/>
            <a:chOff x="2089080" y="2178000"/>
            <a:chExt cx="1361520" cy="1321560"/>
          </a:xfrm>
        </p:grpSpPr>
        <p:sp>
          <p:nvSpPr>
            <p:cNvPr id="374" name=""/>
            <p:cNvSpPr/>
            <p:nvPr/>
          </p:nvSpPr>
          <p:spPr>
            <a:xfrm>
              <a:off x="208908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96547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74760" y="2263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bdd2"/>
                </a:gs>
                <a:gs pos="50000">
                  <a:srgbClr val="d87aa5">
                    <a:alpha val="0"/>
                  </a:srgbClr>
                </a:gs>
                <a:gs pos="100000">
                  <a:srgbClr val="ebbd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3151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868560" y="2178000"/>
            <a:ext cx="1361520" cy="1321560"/>
            <a:chOff x="3868560" y="2178000"/>
            <a:chExt cx="1361520" cy="1321560"/>
          </a:xfrm>
        </p:grpSpPr>
        <p:sp>
          <p:nvSpPr>
            <p:cNvPr id="378" name=""/>
            <p:cNvSpPr/>
            <p:nvPr/>
          </p:nvSpPr>
          <p:spPr>
            <a:xfrm>
              <a:off x="386856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8cd0"/>
                </a:gs>
                <a:gs pos="100000">
                  <a:srgbClr val="77619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54240" y="2263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5c6e7"/>
                </a:gs>
                <a:gs pos="50000">
                  <a:srgbClr val="ac8cd0">
                    <a:alpha val="0"/>
                  </a:srgbClr>
                </a:gs>
                <a:gs pos="100000">
                  <a:srgbClr val="d5c6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656320" y="2187720"/>
            <a:ext cx="1361160" cy="1321560"/>
            <a:chOff x="5656320" y="2187720"/>
            <a:chExt cx="1361160" cy="1321560"/>
          </a:xfrm>
        </p:grpSpPr>
        <p:sp>
          <p:nvSpPr>
            <p:cNvPr id="381" name=""/>
            <p:cNvSpPr/>
            <p:nvPr/>
          </p:nvSpPr>
          <p:spPr>
            <a:xfrm>
              <a:off x="5656320" y="2187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a7f70"/>
                </a:gs>
                <a:gs pos="100000">
                  <a:srgbClr val="97584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2000" y="2273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c0b8"/>
                </a:gs>
                <a:gs pos="50000">
                  <a:srgbClr val="da7f70">
                    <a:alpha val="0"/>
                  </a:srgbClr>
                </a:gs>
                <a:gs pos="100000">
                  <a:srgbClr val="ecc0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40503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8000" y="25686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362240"/>
            <a:ext cx="74678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38080" y="4692600"/>
            <a:ext cx="7021440" cy="1936800"/>
            <a:chOff x="838080" y="4692600"/>
            <a:chExt cx="7021440" cy="1936800"/>
          </a:xfrm>
        </p:grpSpPr>
        <p:sp>
          <p:nvSpPr>
            <p:cNvPr id="387" name=""/>
            <p:cNvSpPr/>
            <p:nvPr/>
          </p:nvSpPr>
          <p:spPr>
            <a:xfrm>
              <a:off x="2311200" y="500688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3d5"/>
                </a:gs>
                <a:gs pos="50000">
                  <a:srgbClr val="cad7ec"/>
                </a:gs>
                <a:gs pos="100000">
                  <a:srgbClr val="85a3d5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30320" y="514836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838080" y="46926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145880" y="534204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054080" y="2281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971800" y="4092480"/>
            <a:ext cx="1553760" cy="1633680"/>
            <a:chOff x="2971800" y="4092480"/>
            <a:chExt cx="1553760" cy="1633680"/>
          </a:xfrm>
        </p:grpSpPr>
        <p:grpSp>
          <p:nvGrpSpPr>
            <p:cNvPr id="394" name=""/>
            <p:cNvGrpSpPr/>
            <p:nvPr/>
          </p:nvGrpSpPr>
          <p:grpSpPr>
            <a:xfrm>
              <a:off x="2971800" y="5021280"/>
              <a:ext cx="1553760" cy="704880"/>
              <a:chOff x="2971800" y="5021280"/>
              <a:chExt cx="1553760" cy="704880"/>
            </a:xfrm>
          </p:grpSpPr>
          <p:sp>
            <p:nvSpPr>
              <p:cNvPr id="395" name=""/>
              <p:cNvSpPr/>
              <p:nvPr/>
            </p:nvSpPr>
            <p:spPr>
              <a:xfrm>
                <a:off x="297180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288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dba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2971800" y="4827600"/>
              <a:ext cx="1550520" cy="153720"/>
              <a:chOff x="2971800" y="4827600"/>
              <a:chExt cx="1550520" cy="153720"/>
            </a:xfrm>
          </p:grpSpPr>
          <p:sp>
            <p:nvSpPr>
              <p:cNvPr id="398" name=""/>
              <p:cNvSpPr/>
              <p:nvPr/>
            </p:nvSpPr>
            <p:spPr>
              <a:xfrm>
                <a:off x="2971800" y="48276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ac8cd0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972880" y="48276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971800" y="4641840"/>
              <a:ext cx="1550520" cy="152280"/>
              <a:chOff x="2971800" y="4641840"/>
              <a:chExt cx="1550520" cy="152280"/>
            </a:xfrm>
          </p:grpSpPr>
          <p:sp>
            <p:nvSpPr>
              <p:cNvPr id="401" name=""/>
              <p:cNvSpPr/>
              <p:nvPr/>
            </p:nvSpPr>
            <p:spPr>
              <a:xfrm>
                <a:off x="2971800" y="46418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72880" y="46418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971800" y="4456080"/>
              <a:ext cx="1550520" cy="152280"/>
              <a:chOff x="2971800" y="4456080"/>
              <a:chExt cx="1550520" cy="152280"/>
            </a:xfrm>
          </p:grpSpPr>
          <p:sp>
            <p:nvSpPr>
              <p:cNvPr id="404" name=""/>
              <p:cNvSpPr/>
              <p:nvPr/>
            </p:nvSpPr>
            <p:spPr>
              <a:xfrm>
                <a:off x="2971800" y="44560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72880" y="44560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971800" y="4278240"/>
              <a:ext cx="1550520" cy="152280"/>
              <a:chOff x="2971800" y="4278240"/>
              <a:chExt cx="1550520" cy="152280"/>
            </a:xfrm>
          </p:grpSpPr>
          <p:sp>
            <p:nvSpPr>
              <p:cNvPr id="407" name=""/>
              <p:cNvSpPr/>
              <p:nvPr/>
            </p:nvSpPr>
            <p:spPr>
              <a:xfrm>
                <a:off x="2971800" y="42782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72880" y="42782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971800" y="4092480"/>
              <a:ext cx="1550520" cy="152280"/>
              <a:chOff x="2971800" y="4092480"/>
              <a:chExt cx="1550520" cy="152280"/>
            </a:xfrm>
          </p:grpSpPr>
          <p:sp>
            <p:nvSpPr>
              <p:cNvPr id="410" name=""/>
              <p:cNvSpPr/>
              <p:nvPr/>
            </p:nvSpPr>
            <p:spPr>
              <a:xfrm>
                <a:off x="2971800" y="40924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377b1"/>
                  </a:gs>
                  <a:gs pos="100000">
                    <a:srgbClr val="ac8cd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2880" y="40924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c8cd0"/>
                  </a:gs>
                  <a:gs pos="100000">
                    <a:srgbClr val="c4ae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458316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583160" y="4454640"/>
            <a:ext cx="1553760" cy="1271520"/>
            <a:chOff x="4583160" y="4454640"/>
            <a:chExt cx="1553760" cy="1271520"/>
          </a:xfrm>
        </p:grpSpPr>
        <p:grpSp>
          <p:nvGrpSpPr>
            <p:cNvPr id="414" name=""/>
            <p:cNvGrpSpPr/>
            <p:nvPr/>
          </p:nvGrpSpPr>
          <p:grpSpPr>
            <a:xfrm>
              <a:off x="4583160" y="5021280"/>
              <a:ext cx="1553760" cy="704880"/>
              <a:chOff x="4583160" y="5021280"/>
              <a:chExt cx="1553760" cy="704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5831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718bb6"/>
                  </a:gs>
                  <a:gs pos="100000">
                    <a:srgbClr val="85a3d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8424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b6c7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583160" y="4827600"/>
              <a:ext cx="1549080" cy="154080"/>
              <a:chOff x="4583160" y="4827600"/>
              <a:chExt cx="1549080" cy="154080"/>
            </a:xfrm>
          </p:grpSpPr>
          <p:sp>
            <p:nvSpPr>
              <p:cNvPr id="418" name=""/>
              <p:cNvSpPr/>
              <p:nvPr/>
            </p:nvSpPr>
            <p:spPr>
              <a:xfrm>
                <a:off x="45831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842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583160" y="4640400"/>
              <a:ext cx="1549080" cy="154080"/>
              <a:chOff x="4583160" y="4640400"/>
              <a:chExt cx="1549080" cy="154080"/>
            </a:xfrm>
          </p:grpSpPr>
          <p:sp>
            <p:nvSpPr>
              <p:cNvPr id="421" name=""/>
              <p:cNvSpPr/>
              <p:nvPr/>
            </p:nvSpPr>
            <p:spPr>
              <a:xfrm>
                <a:off x="4583160" y="464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84240" y="464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583160" y="4454640"/>
              <a:ext cx="1549080" cy="154080"/>
              <a:chOff x="4583160" y="4454640"/>
              <a:chExt cx="1549080" cy="154080"/>
            </a:xfrm>
          </p:grpSpPr>
          <p:sp>
            <p:nvSpPr>
              <p:cNvPr id="424" name=""/>
              <p:cNvSpPr/>
              <p:nvPr/>
            </p:nvSpPr>
            <p:spPr>
              <a:xfrm>
                <a:off x="4583160" y="44546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85a3d5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84240" y="44546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a3d5"/>
                  </a:gs>
                  <a:gs pos="100000">
                    <a:srgbClr val="a9be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6197760" y="26416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197760" y="4632480"/>
            <a:ext cx="1553760" cy="1093680"/>
            <a:chOff x="6197760" y="4632480"/>
            <a:chExt cx="1553760" cy="1093680"/>
          </a:xfrm>
        </p:grpSpPr>
        <p:grpSp>
          <p:nvGrpSpPr>
            <p:cNvPr id="428" name=""/>
            <p:cNvGrpSpPr/>
            <p:nvPr/>
          </p:nvGrpSpPr>
          <p:grpSpPr>
            <a:xfrm>
              <a:off x="6197760" y="5021280"/>
              <a:ext cx="1553760" cy="704880"/>
              <a:chOff x="6197760" y="5021280"/>
              <a:chExt cx="1553760" cy="704880"/>
            </a:xfrm>
          </p:grpSpPr>
          <p:sp>
            <p:nvSpPr>
              <p:cNvPr id="429" name=""/>
              <p:cNvSpPr/>
              <p:nvPr/>
            </p:nvSpPr>
            <p:spPr>
              <a:xfrm>
                <a:off x="61977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98840" y="5022360"/>
                <a:ext cx="1552680" cy="2818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7ae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197760" y="4827600"/>
              <a:ext cx="1549080" cy="154080"/>
              <a:chOff x="6197760" y="4827600"/>
              <a:chExt cx="1549080" cy="154080"/>
            </a:xfrm>
          </p:grpSpPr>
          <p:sp>
            <p:nvSpPr>
              <p:cNvPr id="432" name=""/>
              <p:cNvSpPr/>
              <p:nvPr/>
            </p:nvSpPr>
            <p:spPr>
              <a:xfrm>
                <a:off x="61977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988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4a5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197760" y="4632480"/>
              <a:ext cx="1549080" cy="154080"/>
              <a:chOff x="6197760" y="4632480"/>
              <a:chExt cx="1549080" cy="154080"/>
            </a:xfrm>
          </p:grpSpPr>
          <p:sp>
            <p:nvSpPr>
              <p:cNvPr id="435" name=""/>
              <p:cNvSpPr/>
              <p:nvPr/>
            </p:nvSpPr>
            <p:spPr>
              <a:xfrm>
                <a:off x="6197760" y="4632480"/>
                <a:ext cx="154764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ba6c5f"/>
                  </a:gs>
                  <a:gs pos="100000">
                    <a:srgbClr val="da7f7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98840" y="463248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7f70"/>
                  </a:gs>
                  <a:gs pos="100000">
                    <a:srgbClr val="e4a5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14382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572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39800" y="26431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2716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33880" y="264492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49920" y="264492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72080" y="2644920"/>
            <a:ext cx="981360" cy="1787400"/>
          </a:xfrm>
          <a:prstGeom prst="downArrow">
            <a:avLst>
              <a:gd name="adj1" fmla="val 77269"/>
              <a:gd name="adj2" fmla="val 362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1624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1968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2670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362240" y="5021280"/>
            <a:ext cx="1553760" cy="704880"/>
            <a:chOff x="1362240" y="5021280"/>
            <a:chExt cx="1553760" cy="704880"/>
          </a:xfrm>
        </p:grpSpPr>
        <p:sp>
          <p:nvSpPr>
            <p:cNvPr id="449" name=""/>
            <p:cNvSpPr/>
            <p:nvPr/>
          </p:nvSpPr>
          <p:spPr>
            <a:xfrm>
              <a:off x="1362240" y="5021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63320" y="5022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2884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3080" y="534816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316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65800" y="534816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952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9736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19520" y="503388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1828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365120" y="4827600"/>
            <a:ext cx="1550880" cy="154080"/>
            <a:chOff x="1365120" y="4827600"/>
            <a:chExt cx="1550880" cy="154080"/>
          </a:xfrm>
        </p:grpSpPr>
        <p:sp>
          <p:nvSpPr>
            <p:cNvPr id="460" name=""/>
            <p:cNvSpPr/>
            <p:nvPr/>
          </p:nvSpPr>
          <p:spPr>
            <a:xfrm>
              <a:off x="1365120" y="48276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66200" y="48276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365120" y="4641840"/>
            <a:ext cx="1550880" cy="152280"/>
            <a:chOff x="1365120" y="4641840"/>
            <a:chExt cx="1550880" cy="152280"/>
          </a:xfrm>
        </p:grpSpPr>
        <p:sp>
          <p:nvSpPr>
            <p:cNvPr id="463" name=""/>
            <p:cNvSpPr/>
            <p:nvPr/>
          </p:nvSpPr>
          <p:spPr>
            <a:xfrm>
              <a:off x="1365120" y="4641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6200" y="4641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365120" y="4454640"/>
            <a:ext cx="1550880" cy="153720"/>
            <a:chOff x="1365120" y="4454640"/>
            <a:chExt cx="1550880" cy="153720"/>
          </a:xfrm>
        </p:grpSpPr>
        <p:sp>
          <p:nvSpPr>
            <p:cNvPr id="466" name=""/>
            <p:cNvSpPr/>
            <p:nvPr/>
          </p:nvSpPr>
          <p:spPr>
            <a:xfrm>
              <a:off x="1365120" y="44546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66200" y="44546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365120" y="4267080"/>
            <a:ext cx="1550880" cy="154080"/>
            <a:chOff x="1365120" y="4267080"/>
            <a:chExt cx="1550880" cy="154080"/>
          </a:xfrm>
        </p:grpSpPr>
        <p:sp>
          <p:nvSpPr>
            <p:cNvPr id="469" name=""/>
            <p:cNvSpPr/>
            <p:nvPr/>
          </p:nvSpPr>
          <p:spPr>
            <a:xfrm>
              <a:off x="1365120" y="42670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66200" y="42670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365120" y="4084560"/>
            <a:ext cx="1550880" cy="154080"/>
            <a:chOff x="1365120" y="4084560"/>
            <a:chExt cx="1550880" cy="154080"/>
          </a:xfrm>
        </p:grpSpPr>
        <p:sp>
          <p:nvSpPr>
            <p:cNvPr id="472" name=""/>
            <p:cNvSpPr/>
            <p:nvPr/>
          </p:nvSpPr>
          <p:spPr>
            <a:xfrm>
              <a:off x="1365120" y="40845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66200" y="40845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365120" y="3897360"/>
            <a:ext cx="1550880" cy="154080"/>
            <a:chOff x="1365120" y="3897360"/>
            <a:chExt cx="1550880" cy="154080"/>
          </a:xfrm>
        </p:grpSpPr>
        <p:sp>
          <p:nvSpPr>
            <p:cNvPr id="475" name=""/>
            <p:cNvSpPr/>
            <p:nvPr/>
          </p:nvSpPr>
          <p:spPr>
            <a:xfrm>
              <a:off x="1365120" y="389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66200" y="389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65120" y="3710160"/>
            <a:ext cx="1550880" cy="153720"/>
            <a:chOff x="1365120" y="3710160"/>
            <a:chExt cx="1550880" cy="153720"/>
          </a:xfrm>
        </p:grpSpPr>
        <p:sp>
          <p:nvSpPr>
            <p:cNvPr id="478" name=""/>
            <p:cNvSpPr/>
            <p:nvPr/>
          </p:nvSpPr>
          <p:spPr>
            <a:xfrm>
              <a:off x="1365120" y="37101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66200" y="37101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65120" y="3524400"/>
            <a:ext cx="1550880" cy="153720"/>
            <a:chOff x="1365120" y="3524400"/>
            <a:chExt cx="1550880" cy="153720"/>
          </a:xfrm>
        </p:grpSpPr>
        <p:sp>
          <p:nvSpPr>
            <p:cNvPr id="481" name=""/>
            <p:cNvSpPr/>
            <p:nvPr/>
          </p:nvSpPr>
          <p:spPr>
            <a:xfrm>
              <a:off x="1365120" y="35244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8688d"/>
                </a:gs>
                <a:gs pos="100000">
                  <a:srgbClr val="d87aa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6200" y="35244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87aa5"/>
                </a:gs>
                <a:gs pos="100000">
                  <a:srgbClr val="e3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7f7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0:51:18Z</dcterms:created>
  <dc:creator>幻灯片之家：www.eeppt.com; www.themegallery.com</dc:creator>
  <dc:description>幻灯片之家：www.eeppt.com</dc:description>
  <cp:keywords>幻灯片之家：www.eeppt.com</cp:keywords>
  <dc:language>en-US</dc:language>
  <cp:lastModifiedBy>Data_server</cp:lastModifiedBy>
  <dcterms:modified xsi:type="dcterms:W3CDTF">2015-09-18T13:19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