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D8EC-88D9-4485-8FFA-FF607C469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97FCC-8929-4A55-9483-91CA7E8BA6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2F08-08D7-434A-B4DE-6FDBE7F63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B794-CDA4-4C25-A990-5FB1BB81E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006E-813D-4BA5-9671-7BFA857D9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F744F8-4E20-4A39-A3C5-4D67A15D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882D9-5C93-424F-A5CF-FB94294C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01BEA-9909-4B83-95D0-594CA7D7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20B65-806F-467A-8B86-018B72B3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8EEB1-FAE6-4F84-96C6-F4DD0200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ADC3-5F3E-4CE4-9179-DA879A7827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68CA7-3CFA-48F2-B670-BCC8E4C0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AEB5F-C7D7-413B-8843-A5DDB70F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F4433-0519-489A-906B-24ECF6D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675BF-B878-40AC-9B96-F3051592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BE7DF-1CE4-4A9C-A2AB-4BECDC13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9EBA5-8535-4EBA-ABFA-A7538268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1120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64304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76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1120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94920"/>
            <a:ext cx="264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DAEF8-1B76-4BEC-BE81-7C57A719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77EC-499D-4654-A909-97432F77EC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487F6-4CAA-4A89-885C-A49B5A566C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714240"/>
            <a:ext cx="59576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881B-1F22-4001-8F0D-78E91A51F7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6C65-10BA-4E6B-B1BA-219D7ABCF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399492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2D66-93AC-42FD-AF61-F92220507D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643040"/>
            <a:ext cx="40158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3994920"/>
            <a:ext cx="8229600" cy="214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AA8B6-430E-4E97-84B9-702307226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38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0176-56D9-49C4-9D46-1C0CE5507200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图片收藏1\新建文件夹\clhwtx_05_zcool.com.c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7862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38000"/>
              </a:srgbClr>
            </a:outerShdw>
          </a:effectLst>
        </p:spPr>
      </p:pic>
      <p:sp>
        <p:nvSpPr>
          <p:cNvPr id="42" name="Line 32"/>
          <p:cNvSpPr/>
          <p:nvPr/>
        </p:nvSpPr>
        <p:spPr>
          <a:xfrm>
            <a:off x="3571920" y="5786280"/>
            <a:ext cx="510552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D:\图片收藏1\新建文件夹\clhwtx_05_zcool.com.cn.jpg"/>
          <p:cNvPicPr/>
          <p:nvPr/>
        </p:nvPicPr>
        <p:blipFill>
          <a:blip r:embed="rId2"/>
          <a:srcRect l="0" t="0" r="0" b="94426"/>
          <a:stretch/>
        </p:blipFill>
        <p:spPr>
          <a:xfrm>
            <a:off x="0" y="0"/>
            <a:ext cx="9144000" cy="28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D:\图片收藏1\新建文件夹\clhwtx_05_zcool.com.cn.jpg"/>
          <p:cNvPicPr/>
          <p:nvPr/>
        </p:nvPicPr>
        <p:blipFill>
          <a:blip r:embed="rId3"/>
          <a:srcRect l="0" t="0" r="0" b="64064"/>
          <a:stretch/>
        </p:blipFill>
        <p:spPr>
          <a:xfrm>
            <a:off x="4024440" y="3571920"/>
            <a:ext cx="5119560" cy="32860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a8430">
                <a:alpha val="38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ac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651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15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2"/>
          </p:nvPr>
        </p:nvSpPr>
        <p:spPr>
          <a:xfrm>
            <a:off x="5638320" y="63813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www.themegalle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5790960" y="627660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宋体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380520" y="62290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E6EA-D9CC-420B-8842-1D42E319EEE9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71480" y="5105520"/>
            <a:ext cx="607212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月工作总结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25" name="椭圆 3"/>
          <p:cNvGrpSpPr/>
          <p:nvPr/>
        </p:nvGrpSpPr>
        <p:grpSpPr>
          <a:xfrm>
            <a:off x="3803760" y="5315040"/>
            <a:ext cx="396720" cy="304560"/>
            <a:chOff x="3803760" y="5315040"/>
            <a:chExt cx="396720" cy="304560"/>
          </a:xfrm>
        </p:grpSpPr>
        <p:pic>
          <p:nvPicPr>
            <p:cNvPr id="126" name="椭圆 3" descr=""/>
            <p:cNvPicPr/>
            <p:nvPr/>
          </p:nvPicPr>
          <p:blipFill>
            <a:blip r:embed="rId1"/>
            <a:stretch/>
          </p:blipFill>
          <p:spPr>
            <a:xfrm>
              <a:off x="3803760" y="5315040"/>
              <a:ext cx="3967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961080" y="53510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" name="椭圆 4"/>
          <p:cNvGrpSpPr/>
          <p:nvPr/>
        </p:nvGrpSpPr>
        <p:grpSpPr>
          <a:xfrm>
            <a:off x="4346640" y="5315040"/>
            <a:ext cx="401400" cy="304560"/>
            <a:chOff x="4346640" y="5315040"/>
            <a:chExt cx="401400" cy="304560"/>
          </a:xfrm>
        </p:grpSpPr>
        <p:pic>
          <p:nvPicPr>
            <p:cNvPr id="129" name="椭圆 4" descr=""/>
            <p:cNvPicPr/>
            <p:nvPr/>
          </p:nvPicPr>
          <p:blipFill>
            <a:blip r:embed="rId2"/>
            <a:stretch/>
          </p:blipFill>
          <p:spPr>
            <a:xfrm>
              <a:off x="4346640" y="5315040"/>
              <a:ext cx="401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508280" y="5351040"/>
              <a:ext cx="1519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" name="椭圆 5"/>
          <p:cNvGrpSpPr/>
          <p:nvPr/>
        </p:nvGrpSpPr>
        <p:grpSpPr>
          <a:xfrm>
            <a:off x="4896000" y="5315040"/>
            <a:ext cx="401400" cy="304560"/>
            <a:chOff x="4896000" y="5315040"/>
            <a:chExt cx="401400" cy="304560"/>
          </a:xfrm>
        </p:grpSpPr>
        <p:pic>
          <p:nvPicPr>
            <p:cNvPr id="132" name="椭圆 5" descr=""/>
            <p:cNvPicPr/>
            <p:nvPr/>
          </p:nvPicPr>
          <p:blipFill>
            <a:blip r:embed="rId3"/>
            <a:stretch/>
          </p:blipFill>
          <p:spPr>
            <a:xfrm>
              <a:off x="4896000" y="5315040"/>
              <a:ext cx="40140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055840" y="535104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920680" y="15573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工作总结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  <a:ea typeface="宋体"/>
              </a:rPr>
              <a:t>完整版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06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307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8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9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0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1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49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2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ffffff"/>
                </a:gs>
                <a:gs pos="100000">
                  <a:srgbClr val="449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3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4987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4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255241"/>
                </a:gs>
                <a:gs pos="100000">
                  <a:srgbClr val="449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5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49878">
                    <a:alpha val="0"/>
                  </a:srgbClr>
                </a:gs>
                <a:gs pos="100000">
                  <a:srgbClr val="2b61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6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7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ffffff"/>
                </a:gs>
                <a:gs pos="100000">
                  <a:srgbClr val="90a8b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8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0a8b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19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50000">
                  <a:srgbClr val="4e5b5f"/>
                </a:gs>
                <a:gs pos="100000">
                  <a:srgbClr val="90a8b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0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0a8b0">
                    <a:alpha val="0"/>
                  </a:srgbClr>
                </a:gs>
                <a:gs pos="100000">
                  <a:srgbClr val="5b6b7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1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22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23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4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5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26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27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38acb"/>
                </a:gs>
                <a:gs pos="50000">
                  <a:srgbClr val="ffffff"/>
                </a:gs>
                <a:gs pos="100000">
                  <a:srgbClr val="438a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8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1f405e"/>
                </a:gs>
                <a:gs pos="100000">
                  <a:srgbClr val="438acb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29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38acb"/>
                </a:gs>
                <a:gs pos="50000">
                  <a:srgbClr val="244b6e"/>
                </a:gs>
                <a:gs pos="100000">
                  <a:srgbClr val="438ac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0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438acb">
                    <a:alpha val="0"/>
                  </a:srgbClr>
                </a:gs>
                <a:gs pos="100000">
                  <a:srgbClr val="2b588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31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32" name="Group 28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33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4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5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6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38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39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0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41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42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3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4" name="Text Box 40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Marketing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46" name="Group 31"/>
          <p:cNvGrpSpPr/>
          <p:nvPr/>
        </p:nvGrpSpPr>
        <p:grpSpPr>
          <a:xfrm>
            <a:off x="1714680" y="1785960"/>
            <a:ext cx="5181120" cy="4495680"/>
            <a:chOff x="1714680" y="1785960"/>
            <a:chExt cx="5181120" cy="4495680"/>
          </a:xfrm>
        </p:grpSpPr>
        <p:sp>
          <p:nvSpPr>
            <p:cNvPr id="347" name="Rectangle 32"/>
            <p:cNvSpPr/>
            <p:nvPr/>
          </p:nvSpPr>
          <p:spPr>
            <a:xfrm rot="13770000">
              <a:off x="4767840" y="3959640"/>
              <a:ext cx="85644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8" name="Rectangle 33"/>
            <p:cNvSpPr/>
            <p:nvPr/>
          </p:nvSpPr>
          <p:spPr>
            <a:xfrm rot="20856000">
              <a:off x="2900880" y="3562560"/>
              <a:ext cx="941400" cy="154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49" name="Rectangle 34"/>
            <p:cNvSpPr/>
            <p:nvPr/>
          </p:nvSpPr>
          <p:spPr>
            <a:xfrm rot="18394200">
              <a:off x="4880160" y="2579400"/>
              <a:ext cx="531000" cy="1220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350" name="Group 35"/>
            <p:cNvGrpSpPr/>
            <p:nvPr/>
          </p:nvGrpSpPr>
          <p:grpSpPr>
            <a:xfrm>
              <a:off x="3774600" y="2614320"/>
              <a:ext cx="1497960" cy="1420200"/>
              <a:chOff x="3774600" y="2614320"/>
              <a:chExt cx="1497960" cy="1420200"/>
            </a:xfrm>
          </p:grpSpPr>
          <p:grpSp>
            <p:nvGrpSpPr>
              <p:cNvPr id="351" name="Group 36"/>
              <p:cNvGrpSpPr/>
              <p:nvPr/>
            </p:nvGrpSpPr>
            <p:grpSpPr>
              <a:xfrm>
                <a:off x="3774600" y="2614320"/>
                <a:ext cx="1497960" cy="1420200"/>
                <a:chOff x="3774600" y="2614320"/>
                <a:chExt cx="1497960" cy="1420200"/>
              </a:xfrm>
            </p:grpSpPr>
            <p:sp>
              <p:nvSpPr>
                <p:cNvPr id="352" name="Oval 37"/>
                <p:cNvSpPr/>
                <p:nvPr/>
              </p:nvSpPr>
              <p:spPr>
                <a:xfrm>
                  <a:off x="3774600" y="2614320"/>
                  <a:ext cx="149796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0a8b0"/>
                    </a:gs>
                    <a:gs pos="100000">
                      <a:srgbClr val="23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8"/>
                <p:cNvSpPr/>
                <p:nvPr/>
              </p:nvSpPr>
              <p:spPr>
                <a:xfrm>
                  <a:off x="3945600" y="2637720"/>
                  <a:ext cx="1155600" cy="5360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0a8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" name="Text Box 39"/>
              <p:cNvSpPr/>
              <p:nvPr/>
            </p:nvSpPr>
            <p:spPr>
              <a:xfrm>
                <a:off x="3809880" y="32317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40"/>
            <p:cNvGrpSpPr/>
            <p:nvPr/>
          </p:nvGrpSpPr>
          <p:grpSpPr>
            <a:xfrm>
              <a:off x="5059440" y="1785960"/>
              <a:ext cx="909360" cy="769320"/>
              <a:chOff x="5059440" y="1785960"/>
              <a:chExt cx="909360" cy="769320"/>
            </a:xfrm>
          </p:grpSpPr>
          <p:grpSp>
            <p:nvGrpSpPr>
              <p:cNvPr id="356" name="Group 41"/>
              <p:cNvGrpSpPr/>
              <p:nvPr/>
            </p:nvGrpSpPr>
            <p:grpSpPr>
              <a:xfrm>
                <a:off x="5086080" y="1785960"/>
                <a:ext cx="814680" cy="769320"/>
                <a:chOff x="5086080" y="1785960"/>
                <a:chExt cx="814680" cy="769320"/>
              </a:xfrm>
            </p:grpSpPr>
            <p:sp>
              <p:nvSpPr>
                <p:cNvPr id="357" name="Oval 42"/>
                <p:cNvSpPr/>
                <p:nvPr/>
              </p:nvSpPr>
              <p:spPr>
                <a:xfrm>
                  <a:off x="5086080" y="1785960"/>
                  <a:ext cx="81468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1022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3"/>
                <p:cNvSpPr/>
                <p:nvPr/>
              </p:nvSpPr>
              <p:spPr>
                <a:xfrm>
                  <a:off x="5178600" y="1798560"/>
                  <a:ext cx="628920" cy="290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38a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" name="Text Box 44"/>
              <p:cNvSpPr/>
              <p:nvPr/>
            </p:nvSpPr>
            <p:spPr>
              <a:xfrm>
                <a:off x="5059440" y="208296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45"/>
            <p:cNvGrpSpPr/>
            <p:nvPr/>
          </p:nvGrpSpPr>
          <p:grpSpPr>
            <a:xfrm>
              <a:off x="1714680" y="2910240"/>
              <a:ext cx="1622880" cy="1597680"/>
              <a:chOff x="1714680" y="2910240"/>
              <a:chExt cx="1622880" cy="1597680"/>
            </a:xfrm>
          </p:grpSpPr>
          <p:grpSp>
            <p:nvGrpSpPr>
              <p:cNvPr id="361" name="Group 46"/>
              <p:cNvGrpSpPr/>
              <p:nvPr/>
            </p:nvGrpSpPr>
            <p:grpSpPr>
              <a:xfrm>
                <a:off x="1714680" y="2910240"/>
                <a:ext cx="1622880" cy="1597680"/>
                <a:chOff x="1714680" y="2910240"/>
                <a:chExt cx="1622880" cy="1597680"/>
              </a:xfrm>
            </p:grpSpPr>
            <p:sp>
              <p:nvSpPr>
                <p:cNvPr id="362" name="Oval 47"/>
                <p:cNvSpPr/>
                <p:nvPr/>
              </p:nvSpPr>
              <p:spPr>
                <a:xfrm>
                  <a:off x="1714680" y="2910240"/>
                  <a:ext cx="162288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7ae26"/>
                    </a:gs>
                    <a:gs pos="100000">
                      <a:srgbClr val="4c6f1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48"/>
                <p:cNvSpPr/>
                <p:nvPr/>
              </p:nvSpPr>
              <p:spPr>
                <a:xfrm>
                  <a:off x="1900440" y="2938320"/>
                  <a:ext cx="1253160" cy="602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77ae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" name="Text Box 49"/>
              <p:cNvSpPr/>
              <p:nvPr/>
            </p:nvSpPr>
            <p:spPr>
              <a:xfrm>
                <a:off x="1748160" y="36201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50"/>
            <p:cNvGrpSpPr/>
            <p:nvPr/>
          </p:nvGrpSpPr>
          <p:grpSpPr>
            <a:xfrm>
              <a:off x="5023080" y="4093920"/>
              <a:ext cx="1872720" cy="1775520"/>
              <a:chOff x="5023080" y="4093920"/>
              <a:chExt cx="1872720" cy="1775520"/>
            </a:xfrm>
          </p:grpSpPr>
          <p:grpSp>
            <p:nvGrpSpPr>
              <p:cNvPr id="366" name="Group 51"/>
              <p:cNvGrpSpPr/>
              <p:nvPr/>
            </p:nvGrpSpPr>
            <p:grpSpPr>
              <a:xfrm>
                <a:off x="5023080" y="4093920"/>
                <a:ext cx="1872720" cy="1775520"/>
                <a:chOff x="5023080" y="4093920"/>
                <a:chExt cx="1872720" cy="1775520"/>
              </a:xfrm>
            </p:grpSpPr>
            <p:sp>
              <p:nvSpPr>
                <p:cNvPr id="367" name="Oval 52"/>
                <p:cNvSpPr/>
                <p:nvPr/>
              </p:nvSpPr>
              <p:spPr>
                <a:xfrm>
                  <a:off x="5023080" y="409392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234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3"/>
                <p:cNvSpPr/>
                <p:nvPr/>
              </p:nvSpPr>
              <p:spPr>
                <a:xfrm>
                  <a:off x="5236920" y="4123080"/>
                  <a:ext cx="1444680" cy="669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49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9" name="Text Box 54"/>
              <p:cNvSpPr/>
              <p:nvPr/>
            </p:nvSpPr>
            <p:spPr>
              <a:xfrm>
                <a:off x="5236560" y="48632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70" name="Oval 55"/>
            <p:cNvSpPr/>
            <p:nvPr/>
          </p:nvSpPr>
          <p:spPr>
            <a:xfrm>
              <a:off x="1901880" y="456732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1" name="Oval 56"/>
            <p:cNvSpPr/>
            <p:nvPr/>
          </p:nvSpPr>
          <p:spPr>
            <a:xfrm>
              <a:off x="3899520" y="403740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2" name="Oval 57"/>
            <p:cNvSpPr/>
            <p:nvPr/>
          </p:nvSpPr>
          <p:spPr>
            <a:xfrm>
              <a:off x="5335560" y="586980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3" name="Oval 58"/>
            <p:cNvSpPr/>
            <p:nvPr/>
          </p:nvSpPr>
          <p:spPr>
            <a:xfrm>
              <a:off x="5210280" y="261432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375" name="Group 33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76" name="AutoShape 3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7" name="AutoShape 4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8" name="AutoShape 5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9" name="AutoShape 6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0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1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38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2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3" name="Text Box 10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4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5" name="Text Box 12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6" name="Text Box 13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7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8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89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0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1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2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3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4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dd895"/>
                </a:gs>
                <a:gs pos="100000">
                  <a:srgbClr val="77ae2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5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ffffff"/>
                </a:gs>
                <a:gs pos="100000">
                  <a:srgbClr val="44987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6" name="Oval 23"/>
            <p:cNvSpPr/>
            <p:nvPr/>
          </p:nvSpPr>
          <p:spPr>
            <a:xfrm>
              <a:off x="3547800" y="2882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449878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7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50000">
                  <a:srgbClr val="255241"/>
                </a:gs>
                <a:gs pos="100000">
                  <a:srgbClr val="4498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8" name="Oval 25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49878">
                    <a:alpha val="0"/>
                  </a:srgbClr>
                </a:gs>
                <a:gs pos="100000">
                  <a:srgbClr val="2b614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99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00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01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2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3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04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05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407" name="Group 92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08" name="AutoShape 93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09" name="AutoShape 94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0" name="AutoShape 95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1" name="AutoShape 96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2" name="AutoShape 97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13" name="AutoShape 98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14" name="Group 99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15" name="Oval 100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6" name="Oval 101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7" name="Oval 102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8" name="Oval 103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19" name="Oval 104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20" name="Text Box 105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1" name="Text Box 106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Group 107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23" name="AutoShape 108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4" name="AutoShape 109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5" name="AutoShape 110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6" name="AutoShape 111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7" name="Oval 112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8" name="Oval 113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29" name="Oval 114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0" name="Oval 115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1" name="Oval 116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2" name="Text Box 117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3" name="Text Box 118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4" name="AutoShape 119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5" name="AutoShape 120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6" name="Group 121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37" name="AutoShape 122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8" name="AutoShape 123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9" name="AutoShape 124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0" name="AutoShape 125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41" name="Group 126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42" name="Oval 127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3" name="Oval 128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4" name="Oval 129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5" name="Oval 130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6" name="Oval 131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47" name="Text Box 132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8" name="Text Box 133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49" name="AutoShape 134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0" name="AutoShape 135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900000" y="1557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453" name="Group 97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454" name="Group 3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55" name="Rectangle 4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6" name="Rectangle 5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93"/>
            <p:cNvGrpSpPr/>
            <p:nvPr/>
          </p:nvGrpSpPr>
          <p:grpSpPr>
            <a:xfrm>
              <a:off x="761760" y="2685960"/>
              <a:ext cx="1931760" cy="3264840"/>
              <a:chOff x="761760" y="2685960"/>
              <a:chExt cx="1931760" cy="3264840"/>
            </a:xfrm>
          </p:grpSpPr>
          <p:grpSp>
            <p:nvGrpSpPr>
              <p:cNvPr id="458" name="Group 59"/>
              <p:cNvGrpSpPr/>
              <p:nvPr/>
            </p:nvGrpSpPr>
            <p:grpSpPr>
              <a:xfrm>
                <a:off x="1167480" y="3526560"/>
                <a:ext cx="1526040" cy="2424240"/>
                <a:chOff x="1167480" y="3526560"/>
                <a:chExt cx="1526040" cy="2424240"/>
              </a:xfrm>
            </p:grpSpPr>
            <p:grpSp>
              <p:nvGrpSpPr>
                <p:cNvPr id="459" name="Group 60"/>
                <p:cNvGrpSpPr/>
                <p:nvPr/>
              </p:nvGrpSpPr>
              <p:grpSpPr>
                <a:xfrm>
                  <a:off x="1167480" y="3684240"/>
                  <a:ext cx="1420200" cy="2266560"/>
                  <a:chOff x="1167480" y="3684240"/>
                  <a:chExt cx="1420200" cy="2266560"/>
                </a:xfrm>
              </p:grpSpPr>
              <p:sp>
                <p:nvSpPr>
                  <p:cNvPr id="460" name="Freeform 61"/>
                  <p:cNvSpPr/>
                  <p:nvPr/>
                </p:nvSpPr>
                <p:spPr>
                  <a:xfrm rot="3876600">
                    <a:off x="739800" y="4571280"/>
                    <a:ext cx="227520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2"/>
                  <p:cNvSpPr/>
                  <p:nvPr/>
                </p:nvSpPr>
                <p:spPr>
                  <a:xfrm rot="3876600">
                    <a:off x="2107080" y="545004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2" name="Group 63"/>
                <p:cNvGrpSpPr/>
                <p:nvPr/>
              </p:nvGrpSpPr>
              <p:grpSpPr>
                <a:xfrm>
                  <a:off x="1603800" y="3526560"/>
                  <a:ext cx="1089720" cy="1739160"/>
                  <a:chOff x="1603800" y="3526560"/>
                  <a:chExt cx="1089720" cy="1739160"/>
                </a:xfrm>
              </p:grpSpPr>
              <p:sp>
                <p:nvSpPr>
                  <p:cNvPr id="463" name="Freeform 64"/>
                  <p:cNvSpPr/>
                  <p:nvPr/>
                </p:nvSpPr>
                <p:spPr>
                  <a:xfrm flipV="1" rot="3876600">
                    <a:off x="1275480" y="4206960"/>
                    <a:ext cx="174600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65"/>
                  <p:cNvSpPr/>
                  <p:nvPr/>
                </p:nvSpPr>
                <p:spPr>
                  <a:xfrm flipV="1" rot="3876600">
                    <a:off x="2308680" y="488916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5" name="Group 66"/>
              <p:cNvGrpSpPr/>
              <p:nvPr/>
            </p:nvGrpSpPr>
            <p:grpSpPr>
              <a:xfrm>
                <a:off x="761760" y="2685960"/>
                <a:ext cx="1270440" cy="1309320"/>
                <a:chOff x="761760" y="2685960"/>
                <a:chExt cx="1270440" cy="1309320"/>
              </a:xfrm>
            </p:grpSpPr>
            <p:sp>
              <p:nvSpPr>
                <p:cNvPr id="466" name="Oval 67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7" name="Oval 68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8" name="Oval 69"/>
                <p:cNvSpPr/>
                <p:nvPr/>
              </p:nvSpPr>
              <p:spPr>
                <a:xfrm>
                  <a:off x="8456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69" name="Oval 70"/>
                <p:cNvSpPr/>
                <p:nvPr/>
              </p:nvSpPr>
              <p:spPr>
                <a:xfrm>
                  <a:off x="8456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70" name="Oval 71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471" name="Group 72"/>
                <p:cNvGrpSpPr/>
                <p:nvPr/>
              </p:nvGrpSpPr>
              <p:grpSpPr>
                <a:xfrm>
                  <a:off x="915480" y="2844360"/>
                  <a:ext cx="962280" cy="992880"/>
                  <a:chOff x="915480" y="2844360"/>
                  <a:chExt cx="962280" cy="992880"/>
                </a:xfrm>
              </p:grpSpPr>
              <p:sp>
                <p:nvSpPr>
                  <p:cNvPr id="472" name="Oval 73"/>
                  <p:cNvSpPr/>
                  <p:nvPr/>
                </p:nvSpPr>
                <p:spPr>
                  <a:xfrm>
                    <a:off x="9154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74"/>
                  <p:cNvSpPr/>
                  <p:nvPr/>
                </p:nvSpPr>
                <p:spPr>
                  <a:xfrm>
                    <a:off x="9277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Oval 75"/>
                  <p:cNvSpPr/>
                  <p:nvPr/>
                </p:nvSpPr>
                <p:spPr>
                  <a:xfrm>
                    <a:off x="9374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Oval 76"/>
                  <p:cNvSpPr/>
                  <p:nvPr/>
                </p:nvSpPr>
                <p:spPr>
                  <a:xfrm>
                    <a:off x="9900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Text Box 77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77" name="Text Box 78"/>
              <p:cNvSpPr/>
              <p:nvPr/>
            </p:nvSpPr>
            <p:spPr>
              <a:xfrm rot="3925800">
                <a:off x="1590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94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479" name="Group 41"/>
              <p:cNvGrpSpPr/>
              <p:nvPr/>
            </p:nvGrpSpPr>
            <p:grpSpPr>
              <a:xfrm>
                <a:off x="2914200" y="3526560"/>
                <a:ext cx="1526040" cy="2424240"/>
                <a:chOff x="2914200" y="3526560"/>
                <a:chExt cx="1526040" cy="2424240"/>
              </a:xfrm>
            </p:grpSpPr>
            <p:grpSp>
              <p:nvGrpSpPr>
                <p:cNvPr id="480" name="Group 42"/>
                <p:cNvGrpSpPr/>
                <p:nvPr/>
              </p:nvGrpSpPr>
              <p:grpSpPr>
                <a:xfrm>
                  <a:off x="2914200" y="3684240"/>
                  <a:ext cx="1420200" cy="2266560"/>
                  <a:chOff x="2914200" y="3684240"/>
                  <a:chExt cx="1420200" cy="2266560"/>
                </a:xfrm>
              </p:grpSpPr>
              <p:sp>
                <p:nvSpPr>
                  <p:cNvPr id="481" name="Freeform 43"/>
                  <p:cNvSpPr/>
                  <p:nvPr/>
                </p:nvSpPr>
                <p:spPr>
                  <a:xfrm rot="3876600">
                    <a:off x="2486520" y="4571280"/>
                    <a:ext cx="227520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Freeform 44"/>
                  <p:cNvSpPr/>
                  <p:nvPr/>
                </p:nvSpPr>
                <p:spPr>
                  <a:xfrm rot="3876600">
                    <a:off x="3853440" y="545004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45"/>
                <p:cNvGrpSpPr/>
                <p:nvPr/>
              </p:nvGrpSpPr>
              <p:grpSpPr>
                <a:xfrm>
                  <a:off x="3350160" y="3526560"/>
                  <a:ext cx="1090080" cy="1739160"/>
                  <a:chOff x="3350160" y="3526560"/>
                  <a:chExt cx="1090080" cy="1739160"/>
                </a:xfrm>
              </p:grpSpPr>
              <p:sp>
                <p:nvSpPr>
                  <p:cNvPr id="484" name="Freeform 46"/>
                  <p:cNvSpPr/>
                  <p:nvPr/>
                </p:nvSpPr>
                <p:spPr>
                  <a:xfrm flipV="1" rot="3876600">
                    <a:off x="3021840" y="4206960"/>
                    <a:ext cx="1746000" cy="3776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Freeform 47"/>
                  <p:cNvSpPr/>
                  <p:nvPr/>
                </p:nvSpPr>
                <p:spPr>
                  <a:xfrm flipV="1" rot="3876600">
                    <a:off x="4055760" y="4888080"/>
                    <a:ext cx="27432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48"/>
              <p:cNvGrpSpPr/>
              <p:nvPr/>
            </p:nvGrpSpPr>
            <p:grpSpPr>
              <a:xfrm>
                <a:off x="2509560" y="2685960"/>
                <a:ext cx="1270440" cy="1309320"/>
                <a:chOff x="2509560" y="2685960"/>
                <a:chExt cx="1270440" cy="1309320"/>
              </a:xfrm>
            </p:grpSpPr>
            <p:sp>
              <p:nvSpPr>
                <p:cNvPr id="487" name="Oval 49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8" name="Oval 50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89" name="Oval 51"/>
                <p:cNvSpPr/>
                <p:nvPr/>
              </p:nvSpPr>
              <p:spPr>
                <a:xfrm>
                  <a:off x="25934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0" name="Oval 52"/>
                <p:cNvSpPr/>
                <p:nvPr/>
              </p:nvSpPr>
              <p:spPr>
                <a:xfrm>
                  <a:off x="25934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491" name="Oval 53"/>
                <p:cNvSpPr/>
                <p:nvPr/>
              </p:nvSpPr>
              <p:spPr>
                <a:xfrm>
                  <a:off x="26481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492" name="Group 54"/>
                <p:cNvGrpSpPr/>
                <p:nvPr/>
              </p:nvGrpSpPr>
              <p:grpSpPr>
                <a:xfrm>
                  <a:off x="2663280" y="2844360"/>
                  <a:ext cx="962280" cy="992880"/>
                  <a:chOff x="2663280" y="2844360"/>
                  <a:chExt cx="962280" cy="992880"/>
                </a:xfrm>
              </p:grpSpPr>
              <p:sp>
                <p:nvSpPr>
                  <p:cNvPr id="493" name="Oval 55"/>
                  <p:cNvSpPr/>
                  <p:nvPr/>
                </p:nvSpPr>
                <p:spPr>
                  <a:xfrm>
                    <a:off x="26632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56"/>
                  <p:cNvSpPr/>
                  <p:nvPr/>
                </p:nvSpPr>
                <p:spPr>
                  <a:xfrm>
                    <a:off x="26755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Oval 57"/>
                  <p:cNvSpPr/>
                  <p:nvPr/>
                </p:nvSpPr>
                <p:spPr>
                  <a:xfrm>
                    <a:off x="26852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Oval 58"/>
                  <p:cNvSpPr/>
                  <p:nvPr/>
                </p:nvSpPr>
                <p:spPr>
                  <a:xfrm>
                    <a:off x="27378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7" name="Text Box 79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8" name="Text Box 80"/>
              <p:cNvSpPr/>
              <p:nvPr/>
            </p:nvSpPr>
            <p:spPr>
              <a:xfrm rot="3925800">
                <a:off x="333216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95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500" name="Group 6"/>
              <p:cNvGrpSpPr/>
              <p:nvPr/>
            </p:nvGrpSpPr>
            <p:grpSpPr>
              <a:xfrm>
                <a:off x="4718880" y="3526560"/>
                <a:ext cx="1526040" cy="2424240"/>
                <a:chOff x="4718880" y="3526560"/>
                <a:chExt cx="1526040" cy="2424240"/>
              </a:xfrm>
            </p:grpSpPr>
            <p:grpSp>
              <p:nvGrpSpPr>
                <p:cNvPr id="501" name="Group 7"/>
                <p:cNvGrpSpPr/>
                <p:nvPr/>
              </p:nvGrpSpPr>
              <p:grpSpPr>
                <a:xfrm>
                  <a:off x="4718880" y="3684240"/>
                  <a:ext cx="1420200" cy="2266560"/>
                  <a:chOff x="4718880" y="3684240"/>
                  <a:chExt cx="1420200" cy="2266560"/>
                </a:xfrm>
              </p:grpSpPr>
              <p:sp>
                <p:nvSpPr>
                  <p:cNvPr id="502" name="Freeform 8"/>
                  <p:cNvSpPr/>
                  <p:nvPr/>
                </p:nvSpPr>
                <p:spPr>
                  <a:xfrm rot="3876600">
                    <a:off x="4291200" y="4571280"/>
                    <a:ext cx="2275200" cy="49212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Freeform 9"/>
                  <p:cNvSpPr/>
                  <p:nvPr/>
                </p:nvSpPr>
                <p:spPr>
                  <a:xfrm rot="3876600">
                    <a:off x="5658480" y="545004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" name="Group 10"/>
                <p:cNvGrpSpPr/>
                <p:nvPr/>
              </p:nvGrpSpPr>
              <p:grpSpPr>
                <a:xfrm>
                  <a:off x="5155200" y="3526560"/>
                  <a:ext cx="1089720" cy="1739160"/>
                  <a:chOff x="5155200" y="3526560"/>
                  <a:chExt cx="1089720" cy="1739160"/>
                </a:xfrm>
              </p:grpSpPr>
              <p:sp>
                <p:nvSpPr>
                  <p:cNvPr id="505" name="Freeform 11"/>
                  <p:cNvSpPr/>
                  <p:nvPr/>
                </p:nvSpPr>
                <p:spPr>
                  <a:xfrm flipV="1" rot="3876600">
                    <a:off x="4826880" y="4206960"/>
                    <a:ext cx="1746000" cy="37728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Freeform 12"/>
                  <p:cNvSpPr/>
                  <p:nvPr/>
                </p:nvSpPr>
                <p:spPr>
                  <a:xfrm flipV="1" rot="3876600">
                    <a:off x="5860080" y="488916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Group 13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08" name="Oval 14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09" name="Oval 15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0" name="Oval 16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1" name="Oval 17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12" name="Oval 18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grpSp>
              <p:nvGrpSpPr>
                <p:cNvPr id="513" name="Group 19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14" name="Oval 20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Oval 21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Oval 22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Oval 23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8" name="Text Box 81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19" name="Text Box 82"/>
              <p:cNvSpPr/>
              <p:nvPr/>
            </p:nvSpPr>
            <p:spPr>
              <a:xfrm rot="3925800">
                <a:off x="5145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96"/>
            <p:cNvGrpSpPr/>
            <p:nvPr/>
          </p:nvGrpSpPr>
          <p:grpSpPr>
            <a:xfrm>
              <a:off x="6089400" y="2541600"/>
              <a:ext cx="2122560" cy="3476160"/>
              <a:chOff x="6089400" y="2541600"/>
              <a:chExt cx="2122560" cy="3476160"/>
            </a:xfrm>
          </p:grpSpPr>
          <p:grpSp>
            <p:nvGrpSpPr>
              <p:cNvPr id="521" name="Group 24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22" name="Group 25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23" name="Freeform 26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27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Group 28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26" name="Freeform 29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30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Oval 31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29" name="Oval 32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0" name="Oval 33"/>
              <p:cNvSpPr/>
              <p:nvPr/>
            </p:nvSpPr>
            <p:spPr>
              <a:xfrm>
                <a:off x="619092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1" name="Oval 34"/>
              <p:cNvSpPr/>
              <p:nvPr/>
            </p:nvSpPr>
            <p:spPr>
              <a:xfrm>
                <a:off x="619272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2" name="Oval 35"/>
              <p:cNvSpPr/>
              <p:nvPr/>
            </p:nvSpPr>
            <p:spPr>
              <a:xfrm>
                <a:off x="6256080" y="2712960"/>
                <a:ext cx="119448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33" name="Group 36"/>
              <p:cNvGrpSpPr/>
              <p:nvPr/>
            </p:nvGrpSpPr>
            <p:grpSpPr>
              <a:xfrm>
                <a:off x="6275160" y="2732040"/>
                <a:ext cx="1157760" cy="1190160"/>
                <a:chOff x="6275160" y="2732040"/>
                <a:chExt cx="1157760" cy="1190160"/>
              </a:xfrm>
            </p:grpSpPr>
            <p:sp>
              <p:nvSpPr>
                <p:cNvPr id="534" name="Oval 37"/>
                <p:cNvSpPr/>
                <p:nvPr/>
              </p:nvSpPr>
              <p:spPr>
                <a:xfrm>
                  <a:off x="6275160" y="2732040"/>
                  <a:ext cx="115776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5" name="Oval 38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6" name="Oval 39"/>
                <p:cNvSpPr/>
                <p:nvPr/>
              </p:nvSpPr>
              <p:spPr>
                <a:xfrm>
                  <a:off x="6301800" y="2750040"/>
                  <a:ext cx="107460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37" name="Oval 40"/>
                <p:cNvSpPr/>
                <p:nvPr/>
              </p:nvSpPr>
              <p:spPr>
                <a:xfrm>
                  <a:off x="6364800" y="2780280"/>
                  <a:ext cx="95508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Text Box 83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9" name="Text Box 84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85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41" name="Text Box 86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2" name="Text Box 87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3" name="Text Box 88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4" name="Text Box 89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d4d4d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cxnSp>
            <p:nvCxnSpPr>
              <p:cNvPr id="545" name="AutoShape 90"/>
              <p:cNvCxnSpPr>
                <a:stCxn id="541" idx="3"/>
                <a:endCxn id="542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546" name="AutoShape 91"/>
              <p:cNvCxnSpPr>
                <a:stCxn id="542" idx="3"/>
                <a:endCxn id="543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  <p:cxnSp>
            <p:nvCxnSpPr>
              <p:cNvPr id="547" name="AutoShape 92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51a0b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549" name="Group 24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50" name="Group 3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51" name="AutoShape 4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52" name="Group 5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553" name="AutoShape 6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2f608e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7"/>
                <p:cNvSpPr/>
                <p:nvPr/>
              </p:nvSpPr>
              <p:spPr>
                <a:xfrm>
                  <a:off x="1869840" y="1702440"/>
                  <a:ext cx="549000" cy="51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38acb">
                        <a:alpha val="0"/>
                      </a:srgbClr>
                    </a:gs>
                    <a:gs pos="50000">
                      <a:srgbClr val="99bfe3"/>
                    </a:gs>
                    <a:gs pos="100000">
                      <a:srgbClr val="438acb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8"/>
                <p:cNvSpPr/>
                <p:nvPr/>
              </p:nvSpPr>
              <p:spPr>
                <a:xfrm>
                  <a:off x="191628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9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0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558" name="AutoShape 11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59" name="Group 12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560" name="AutoShape 13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77b49d"/>
                    </a:gs>
                    <a:gs pos="100000">
                      <a:srgbClr val="449878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4"/>
                <p:cNvSpPr/>
                <p:nvPr/>
              </p:nvSpPr>
              <p:spPr>
                <a:xfrm>
                  <a:off x="1869840" y="3173400"/>
                  <a:ext cx="549000" cy="51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49878">
                        <a:alpha val="0"/>
                      </a:srgbClr>
                    </a:gs>
                    <a:gs pos="100000">
                      <a:srgbClr val="b0d3c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2" name="Text Box 15"/>
                <p:cNvSpPr/>
                <p:nvPr/>
              </p:nvSpPr>
              <p:spPr>
                <a:xfrm>
                  <a:off x="1916280" y="33886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Text Box 16"/>
              <p:cNvSpPr/>
              <p:nvPr/>
            </p:nvSpPr>
            <p:spPr>
              <a:xfrm>
                <a:off x="3052080" y="3161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4d4d4d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64" name="Group 17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65" name="AutoShape 18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66" name="Group 19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567" name="AutoShape 20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8c8cd"/>
                    </a:gs>
                    <a:gs pos="100000">
                      <a:srgbClr val="90a8b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21"/>
                <p:cNvSpPr/>
                <p:nvPr/>
              </p:nvSpPr>
              <p:spPr>
                <a:xfrm>
                  <a:off x="1869840" y="4645440"/>
                  <a:ext cx="549000" cy="511560"/>
                </a:xfrm>
                <a:prstGeom prst="pie">
                  <a:avLst/>
                </a:prstGeom>
                <a:gradFill rotWithShape="0">
                  <a:gsLst>
                    <a:gs pos="0">
                      <a:srgbClr val="90a8b0">
                        <a:alpha val="0"/>
                      </a:srgbClr>
                    </a:gs>
                    <a:gs pos="100000">
                      <a:srgbClr val="c9d5d9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69" name="Text Box 22"/>
                <p:cNvSpPr/>
                <p:nvPr/>
              </p:nvSpPr>
              <p:spPr>
                <a:xfrm>
                  <a:off x="191628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Text Box 23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76" name="Group 7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77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f463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78" name="Group 9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79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0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1" name="Oval 12"/>
              <p:cNvSpPr/>
              <p:nvPr/>
            </p:nvSpPr>
            <p:spPr>
              <a:xfrm>
                <a:off x="302292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2" name="Oval 13"/>
              <p:cNvSpPr/>
              <p:nvPr/>
            </p:nvSpPr>
            <p:spPr>
              <a:xfrm>
                <a:off x="3096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83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38a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84" name="Group 15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85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6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7" name="Oval 18"/>
              <p:cNvSpPr/>
              <p:nvPr/>
            </p:nvSpPr>
            <p:spPr>
              <a:xfrm>
                <a:off x="4687560" y="22460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8" name="Oval 19"/>
              <p:cNvSpPr/>
              <p:nvPr/>
            </p:nvSpPr>
            <p:spPr>
              <a:xfrm>
                <a:off x="476064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89" name="Rectangle 20"/>
            <p:cNvSpPr/>
            <p:nvPr/>
          </p:nvSpPr>
          <p:spPr>
            <a:xfrm rot="3418800">
              <a:off x="4592520" y="2010240"/>
              <a:ext cx="873000" cy="966600"/>
            </a:xfrm>
            <a:prstGeom prst="rect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f4638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90" name="Group 21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91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2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3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4" name="Oval 25"/>
              <p:cNvSpPr/>
              <p:nvPr/>
            </p:nvSpPr>
            <p:spPr>
              <a:xfrm>
                <a:off x="668304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95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438ac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96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7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8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9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0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2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31560"/>
            <a:ext cx="464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Table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838080" y="2414520"/>
          <a:ext cx="7315200" cy="284796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28600"/>
                <a:gridCol w="1127160"/>
                <a:gridCol w="1133640"/>
                <a:gridCol w="1125360"/>
              </a:tblGrid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d4d4d"/>
                      </a:solidFill>
                    </a:lnR>
                    <a:lnT>
                      <a:noFill/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51a0b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438ac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3-D Pie Chart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607" name="Group 23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608" name="Oval 4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09" name="Oval 5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0" name="Oval 6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1" name="Arc 7"/>
            <p:cNvSpPr/>
            <p:nvPr/>
          </p:nvSpPr>
          <p:spPr>
            <a:xfrm rot="20601600">
              <a:off x="4349520" y="2133720"/>
              <a:ext cx="2849400" cy="1967040"/>
            </a:xfrm>
            <a:prstGeom prst="pie">
              <a:avLst/>
            </a:prstGeom>
            <a:gradFill rotWithShape="0">
              <a:gsLst>
                <a:gs pos="0">
                  <a:srgbClr val="82baa5"/>
                </a:gs>
                <a:gs pos="100000">
                  <a:srgbClr val="449878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2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prstGeom prst="pie">
              <a:avLst/>
            </a:prstGeom>
            <a:gradFill rotWithShape="0">
              <a:gsLst>
                <a:gs pos="0">
                  <a:srgbClr val="815b2d"/>
                </a:gs>
                <a:gs pos="100000">
                  <a:srgbClr val="d4964a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3" name="Arc 9"/>
            <p:cNvSpPr/>
            <p:nvPr/>
          </p:nvSpPr>
          <p:spPr>
            <a:xfrm rot="20601600">
              <a:off x="2824200" y="2224080"/>
              <a:ext cx="3184560" cy="1416240"/>
            </a:xfrm>
            <a:prstGeom prst="pie">
              <a:avLst/>
            </a:prstGeom>
            <a:gradFill rotWithShape="0">
              <a:gsLst>
                <a:gs pos="0">
                  <a:srgbClr val="2b5461"/>
                </a:gs>
                <a:gs pos="100000">
                  <a:srgbClr val="51a0b9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4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prstGeom prst="pie">
              <a:avLst/>
            </a:prstGeom>
            <a:gradFill rotWithShape="0">
              <a:gsLst>
                <a:gs pos="0">
                  <a:srgbClr val="415f15"/>
                </a:gs>
                <a:gs pos="100000">
                  <a:srgbClr val="77ae26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5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6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7" name="Text Box 13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18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19" name="Group 15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620" name="Freeform 16"/>
              <p:cNvSpPr/>
              <p:nvPr/>
            </p:nvSpPr>
            <p:spPr>
              <a:xfrm>
                <a:off x="5668920" y="3677040"/>
                <a:ext cx="1773000" cy="1776240"/>
              </a:xfrm>
              <a:prstGeom prst="pie">
                <a:avLst/>
              </a:prstGeom>
              <a:gradFill rotWithShape="0">
                <a:gsLst>
                  <a:gs pos="0">
                    <a:srgbClr val="90a8b0"/>
                  </a:gs>
                  <a:gs pos="100000">
                    <a:srgbClr val="58666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1" name="Arc 17"/>
              <p:cNvSpPr/>
              <p:nvPr/>
            </p:nvSpPr>
            <p:spPr>
              <a:xfrm rot="20539200">
                <a:off x="4732200" y="3065760"/>
                <a:ext cx="2728800" cy="1859040"/>
              </a:xfrm>
              <a:prstGeom prst="pie">
                <a:avLst/>
              </a:pr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2" name="Freeform 18"/>
              <p:cNvSpPr/>
              <p:nvPr/>
            </p:nvSpPr>
            <p:spPr>
              <a:xfrm>
                <a:off x="4803480" y="4153320"/>
                <a:ext cx="924120" cy="1311120"/>
              </a:xfrm>
              <a:prstGeom prst="pie">
                <a:avLst/>
              </a:prstGeom>
              <a:gradFill rotWithShape="0">
                <a:gsLst>
                  <a:gs pos="0">
                    <a:srgbClr val="434e51"/>
                  </a:gs>
                  <a:gs pos="100000">
                    <a:srgbClr val="90a8b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23" name="Text Box 19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24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4648320" y="4219560"/>
              <a:ext cx="838080" cy="1108080"/>
            </a:xfrm>
            <a:prstGeom prst="pie">
              <a:avLst/>
            </a:pr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26" name="Oval 22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Block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628" name="Group 32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29" name="AutoShape 3"/>
            <p:cNvSpPr/>
            <p:nvPr/>
          </p:nvSpPr>
          <p:spPr>
            <a:xfrm>
              <a:off x="2129400" y="2441880"/>
              <a:ext cx="5072760" cy="24764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0" name="AutoShape 4"/>
            <p:cNvSpPr/>
            <p:nvPr/>
          </p:nvSpPr>
          <p:spPr>
            <a:xfrm>
              <a:off x="1918440" y="1752480"/>
              <a:ext cx="53146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7bda8"/>
                </a:gs>
                <a:gs pos="50000">
                  <a:srgbClr val="449878"/>
                </a:gs>
                <a:gs pos="100000">
                  <a:srgbClr val="87bda8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631" name="Text Box 5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d4d4d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632" name="Group 6"/>
            <p:cNvGrpSpPr/>
            <p:nvPr/>
          </p:nvGrpSpPr>
          <p:grpSpPr>
            <a:xfrm>
              <a:off x="1219320" y="4132800"/>
              <a:ext cx="1363320" cy="1796400"/>
              <a:chOff x="1219320" y="4132800"/>
              <a:chExt cx="1363320" cy="1796400"/>
            </a:xfrm>
          </p:grpSpPr>
          <p:grpSp>
            <p:nvGrpSpPr>
              <p:cNvPr id="633" name="Group 7"/>
              <p:cNvGrpSpPr/>
              <p:nvPr/>
            </p:nvGrpSpPr>
            <p:grpSpPr>
              <a:xfrm>
                <a:off x="1219320" y="4132800"/>
                <a:ext cx="1363320" cy="1368000"/>
                <a:chOff x="1219320" y="4132800"/>
                <a:chExt cx="1363320" cy="1368000"/>
              </a:xfrm>
            </p:grpSpPr>
            <p:grpSp>
              <p:nvGrpSpPr>
                <p:cNvPr id="634" name="Group 8"/>
                <p:cNvGrpSpPr/>
                <p:nvPr/>
              </p:nvGrpSpPr>
              <p:grpSpPr>
                <a:xfrm>
                  <a:off x="1219320" y="4132800"/>
                  <a:ext cx="1363320" cy="1368000"/>
                  <a:chOff x="1219320" y="4132800"/>
                  <a:chExt cx="1363320" cy="1368000"/>
                </a:xfrm>
              </p:grpSpPr>
              <p:sp>
                <p:nvSpPr>
                  <p:cNvPr id="635" name="Oval 9"/>
                  <p:cNvSpPr/>
                  <p:nvPr/>
                </p:nvSpPr>
                <p:spPr>
                  <a:xfrm>
                    <a:off x="1219320" y="41328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77ae26"/>
                      </a:gs>
                      <a:gs pos="100000">
                        <a:srgbClr val="4c6f1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Freeform 10"/>
                  <p:cNvSpPr/>
                  <p:nvPr/>
                </p:nvSpPr>
                <p:spPr>
                  <a:xfrm>
                    <a:off x="1375200" y="4159440"/>
                    <a:ext cx="1051560" cy="514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77ae2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7" name="Text Box 11"/>
                <p:cNvSpPr/>
                <p:nvPr/>
              </p:nvSpPr>
              <p:spPr>
                <a:xfrm>
                  <a:off x="1317240" y="4827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" name="Oval 12"/>
              <p:cNvSpPr/>
              <p:nvPr/>
            </p:nvSpPr>
            <p:spPr>
              <a:xfrm>
                <a:off x="1359000" y="5578200"/>
                <a:ext cx="110808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39" name="Group 13"/>
            <p:cNvGrpSpPr/>
            <p:nvPr/>
          </p:nvGrpSpPr>
          <p:grpSpPr>
            <a:xfrm>
              <a:off x="6602400" y="4092840"/>
              <a:ext cx="1398240" cy="1866240"/>
              <a:chOff x="6602400" y="4092840"/>
              <a:chExt cx="1398240" cy="1866240"/>
            </a:xfrm>
          </p:grpSpPr>
          <p:grpSp>
            <p:nvGrpSpPr>
              <p:cNvPr id="640" name="Group 14"/>
              <p:cNvGrpSpPr/>
              <p:nvPr/>
            </p:nvGrpSpPr>
            <p:grpSpPr>
              <a:xfrm>
                <a:off x="6602400" y="4092840"/>
                <a:ext cx="1398240" cy="1383120"/>
                <a:chOff x="6602400" y="4092840"/>
                <a:chExt cx="1398240" cy="1383120"/>
              </a:xfrm>
            </p:grpSpPr>
            <p:grpSp>
              <p:nvGrpSpPr>
                <p:cNvPr id="641" name="Group 15"/>
                <p:cNvGrpSpPr/>
                <p:nvPr/>
              </p:nvGrpSpPr>
              <p:grpSpPr>
                <a:xfrm>
                  <a:off x="6602400" y="4092840"/>
                  <a:ext cx="1398240" cy="1383120"/>
                  <a:chOff x="6602400" y="4092840"/>
                  <a:chExt cx="1398240" cy="1383120"/>
                </a:xfrm>
              </p:grpSpPr>
              <p:sp>
                <p:nvSpPr>
                  <p:cNvPr id="642" name="Oval 16"/>
                  <p:cNvSpPr/>
                  <p:nvPr/>
                </p:nvSpPr>
                <p:spPr>
                  <a:xfrm>
                    <a:off x="6602400" y="40928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0a8b0"/>
                      </a:gs>
                      <a:gs pos="100000">
                        <a:srgbClr val="2329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Freeform 17"/>
                  <p:cNvSpPr/>
                  <p:nvPr/>
                </p:nvSpPr>
                <p:spPr>
                  <a:xfrm>
                    <a:off x="6762240" y="4115520"/>
                    <a:ext cx="1078560" cy="52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0a8b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4" name="Text Box 18"/>
                <p:cNvSpPr/>
                <p:nvPr/>
              </p:nvSpPr>
              <p:spPr>
                <a:xfrm>
                  <a:off x="6682320" y="473760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Oval 19"/>
              <p:cNvSpPr/>
              <p:nvPr/>
            </p:nvSpPr>
            <p:spPr>
              <a:xfrm>
                <a:off x="6641640" y="55195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46" name="Group 20"/>
            <p:cNvGrpSpPr/>
            <p:nvPr/>
          </p:nvGrpSpPr>
          <p:grpSpPr>
            <a:xfrm>
              <a:off x="2967120" y="4132800"/>
              <a:ext cx="1397880" cy="1886400"/>
              <a:chOff x="2967120" y="4132800"/>
              <a:chExt cx="1397880" cy="1886400"/>
            </a:xfrm>
          </p:grpSpPr>
          <p:grpSp>
            <p:nvGrpSpPr>
              <p:cNvPr id="647" name="Group 21"/>
              <p:cNvGrpSpPr/>
              <p:nvPr/>
            </p:nvGrpSpPr>
            <p:grpSpPr>
              <a:xfrm>
                <a:off x="2967120" y="4132800"/>
                <a:ext cx="1397880" cy="1373400"/>
                <a:chOff x="2967120" y="4132800"/>
                <a:chExt cx="1397880" cy="1373400"/>
              </a:xfrm>
            </p:grpSpPr>
            <p:sp>
              <p:nvSpPr>
                <p:cNvPr id="648" name="Oval 22"/>
                <p:cNvSpPr/>
                <p:nvPr/>
              </p:nvSpPr>
              <p:spPr>
                <a:xfrm>
                  <a:off x="2967120" y="41328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234e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3"/>
                <p:cNvSpPr/>
                <p:nvPr/>
              </p:nvSpPr>
              <p:spPr>
                <a:xfrm>
                  <a:off x="3127680" y="4156920"/>
                  <a:ext cx="1077480" cy="519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4987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Text Box 24"/>
              <p:cNvSpPr/>
              <p:nvPr/>
            </p:nvSpPr>
            <p:spPr>
              <a:xfrm>
                <a:off x="3036960" y="47919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1" name="Oval 25"/>
              <p:cNvSpPr/>
              <p:nvPr/>
            </p:nvSpPr>
            <p:spPr>
              <a:xfrm>
                <a:off x="2967120" y="5577840"/>
                <a:ext cx="133668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652" name="Group 26"/>
            <p:cNvGrpSpPr/>
            <p:nvPr/>
          </p:nvGrpSpPr>
          <p:grpSpPr>
            <a:xfrm>
              <a:off x="4854600" y="4092840"/>
              <a:ext cx="1397880" cy="1886400"/>
              <a:chOff x="4854600" y="4092840"/>
              <a:chExt cx="1397880" cy="1886400"/>
            </a:xfrm>
          </p:grpSpPr>
          <p:grpSp>
            <p:nvGrpSpPr>
              <p:cNvPr id="653" name="Group 27"/>
              <p:cNvGrpSpPr/>
              <p:nvPr/>
            </p:nvGrpSpPr>
            <p:grpSpPr>
              <a:xfrm>
                <a:off x="4854600" y="4092840"/>
                <a:ext cx="1397880" cy="1370520"/>
                <a:chOff x="4854600" y="4092840"/>
                <a:chExt cx="1397880" cy="1370520"/>
              </a:xfrm>
            </p:grpSpPr>
            <p:sp>
              <p:nvSpPr>
                <p:cNvPr id="654" name="Oval 28"/>
                <p:cNvSpPr/>
                <p:nvPr/>
              </p:nvSpPr>
              <p:spPr>
                <a:xfrm>
                  <a:off x="4854600" y="4092840"/>
                  <a:ext cx="1397880" cy="1370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38acb"/>
                    </a:gs>
                    <a:gs pos="100000">
                      <a:srgbClr val="224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29"/>
                <p:cNvSpPr/>
                <p:nvPr/>
              </p:nvSpPr>
              <p:spPr>
                <a:xfrm>
                  <a:off x="5014440" y="4114440"/>
                  <a:ext cx="1077480" cy="51624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38ac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Text Box 30"/>
              <p:cNvSpPr/>
              <p:nvPr/>
            </p:nvSpPr>
            <p:spPr>
              <a:xfrm>
                <a:off x="4924440" y="475344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657" name="Oval 31"/>
              <p:cNvSpPr/>
              <p:nvPr/>
            </p:nvSpPr>
            <p:spPr>
              <a:xfrm>
                <a:off x="4854600" y="5538960"/>
                <a:ext cx="1336680" cy="4402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6560" y="331560"/>
            <a:ext cx="30830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Contents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2133720" y="2081160"/>
            <a:ext cx="4724280" cy="685800"/>
            <a:chOff x="2133720" y="2081160"/>
            <a:chExt cx="4724280" cy="685800"/>
          </a:xfrm>
        </p:grpSpPr>
        <p:sp>
          <p:nvSpPr>
            <p:cNvPr id="138" name="AutoShape 5"/>
            <p:cNvSpPr/>
            <p:nvPr/>
          </p:nvSpPr>
          <p:spPr>
            <a:xfrm>
              <a:off x="2514600" y="220032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39" name="AutoShape 6"/>
            <p:cNvSpPr/>
            <p:nvPr/>
          </p:nvSpPr>
          <p:spPr>
            <a:xfrm>
              <a:off x="2133720" y="208116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0" name="Text Box 7"/>
            <p:cNvSpPr/>
            <p:nvPr/>
          </p:nvSpPr>
          <p:spPr>
            <a:xfrm>
              <a:off x="2743200" y="22557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1" name="Text Box 8"/>
            <p:cNvSpPr/>
            <p:nvPr/>
          </p:nvSpPr>
          <p:spPr>
            <a:xfrm>
              <a:off x="2289600" y="2179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" name="Group 9"/>
          <p:cNvGrpSpPr/>
          <p:nvPr/>
        </p:nvGrpSpPr>
        <p:grpSpPr>
          <a:xfrm>
            <a:off x="2133720" y="2919240"/>
            <a:ext cx="4724280" cy="685800"/>
            <a:chOff x="2133720" y="2919240"/>
            <a:chExt cx="4724280" cy="685800"/>
          </a:xfrm>
        </p:grpSpPr>
        <p:sp>
          <p:nvSpPr>
            <p:cNvPr id="143" name="AutoShape 10"/>
            <p:cNvSpPr/>
            <p:nvPr/>
          </p:nvSpPr>
          <p:spPr>
            <a:xfrm>
              <a:off x="2514600" y="30384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d7e6f4"/>
                </a:gs>
                <a:gs pos="100000">
                  <a:srgbClr val="438ac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4" name="AutoShape 11"/>
            <p:cNvSpPr/>
            <p:nvPr/>
          </p:nvSpPr>
          <p:spPr>
            <a:xfrm>
              <a:off x="2133720" y="2919240"/>
              <a:ext cx="685800" cy="685800"/>
            </a:xfrm>
            <a:prstGeom prst="diamond">
              <a:avLst/>
            </a:prstGeom>
            <a:solidFill>
              <a:srgbClr val="438ac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2743200" y="309384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2289600" y="3017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" name="Group 14"/>
          <p:cNvGrpSpPr/>
          <p:nvPr/>
        </p:nvGrpSpPr>
        <p:grpSpPr>
          <a:xfrm>
            <a:off x="2133720" y="3757680"/>
            <a:ext cx="4724280" cy="685800"/>
            <a:chOff x="2133720" y="3757680"/>
            <a:chExt cx="4724280" cy="685800"/>
          </a:xfrm>
        </p:grpSpPr>
        <p:sp>
          <p:nvSpPr>
            <p:cNvPr id="148" name="AutoShape 15"/>
            <p:cNvSpPr/>
            <p:nvPr/>
          </p:nvSpPr>
          <p:spPr>
            <a:xfrm>
              <a:off x="2514600" y="3876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d7e9e2"/>
                </a:gs>
                <a:gs pos="100000">
                  <a:srgbClr val="449878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49" name="AutoShape 16"/>
            <p:cNvSpPr/>
            <p:nvPr/>
          </p:nvSpPr>
          <p:spPr>
            <a:xfrm>
              <a:off x="2133720" y="3757680"/>
              <a:ext cx="685800" cy="685800"/>
            </a:xfrm>
            <a:prstGeom prst="diamond">
              <a:avLst/>
            </a:prstGeom>
            <a:solidFill>
              <a:srgbClr val="449878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2743200" y="3932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2289600" y="3855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2" name="Group 19"/>
          <p:cNvGrpSpPr/>
          <p:nvPr/>
        </p:nvGrpSpPr>
        <p:grpSpPr>
          <a:xfrm>
            <a:off x="2133720" y="4672080"/>
            <a:ext cx="4724280" cy="685800"/>
            <a:chOff x="2133720" y="4672080"/>
            <a:chExt cx="4724280" cy="685800"/>
          </a:xfrm>
        </p:grpSpPr>
        <p:sp>
          <p:nvSpPr>
            <p:cNvPr id="153" name="AutoShape 20"/>
            <p:cNvSpPr/>
            <p:nvPr/>
          </p:nvSpPr>
          <p:spPr>
            <a:xfrm>
              <a:off x="2514600" y="47912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4" name="AutoShape 21"/>
            <p:cNvSpPr/>
            <p:nvPr/>
          </p:nvSpPr>
          <p:spPr>
            <a:xfrm>
              <a:off x="2133720" y="467208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2743200" y="48466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56" name="Text Box 23"/>
            <p:cNvSpPr/>
            <p:nvPr/>
          </p:nvSpPr>
          <p:spPr>
            <a:xfrm>
              <a:off x="2289600" y="4770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7" name="矩形 45"/>
          <p:cNvSpPr/>
          <p:nvPr/>
        </p:nvSpPr>
        <p:spPr>
          <a:xfrm>
            <a:off x="0" y="928800"/>
            <a:ext cx="4929120" cy="71280"/>
          </a:xfrm>
          <a:prstGeom prst="rect">
            <a:avLst/>
          </a:prstGeom>
          <a:gradFill rotWithShape="0">
            <a:gsLst>
              <a:gs pos="0">
                <a:srgbClr val="b6dbe6"/>
              </a:gs>
              <a:gs pos="100000">
                <a:srgbClr val="697f8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44987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6515f"/>
              </a:solidFill>
              <a:latin typeface="Verdana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FCEF5-1899-4E8D-B77D-D025C26280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矩形 1" descr=""/>
          <p:cNvPicPr/>
          <p:nvPr/>
        </p:nvPicPr>
        <p:blipFill>
          <a:blip r:embed="rId1"/>
          <a:stretch/>
        </p:blipFill>
        <p:spPr>
          <a:xfrm>
            <a:off x="4559400" y="2419200"/>
            <a:ext cx="3994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28760" y="16430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5b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6515f"/>
              </a:solidFill>
              <a:latin typeface="Verdana"/>
            </a:endParaRPr>
          </a:p>
        </p:txBody>
      </p:sp>
      <p:grpSp>
        <p:nvGrpSpPr>
          <p:cNvPr id="160" name="椭圆 3"/>
          <p:cNvGrpSpPr/>
          <p:nvPr/>
        </p:nvGrpSpPr>
        <p:grpSpPr>
          <a:xfrm>
            <a:off x="8442360" y="5138640"/>
            <a:ext cx="403200" cy="304920"/>
            <a:chOff x="8442360" y="5138640"/>
            <a:chExt cx="403200" cy="304920"/>
          </a:xfrm>
        </p:grpSpPr>
        <p:pic>
          <p:nvPicPr>
            <p:cNvPr id="161" name="椭圆 3" descr=""/>
            <p:cNvPicPr/>
            <p:nvPr/>
          </p:nvPicPr>
          <p:blipFill>
            <a:blip r:embed="rId1"/>
            <a:stretch/>
          </p:blipFill>
          <p:spPr>
            <a:xfrm>
              <a:off x="8442360" y="5138640"/>
              <a:ext cx="4032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604360" y="517500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" name="椭圆 4"/>
          <p:cNvGrpSpPr/>
          <p:nvPr/>
        </p:nvGrpSpPr>
        <p:grpSpPr>
          <a:xfrm>
            <a:off x="8442360" y="5565600"/>
            <a:ext cx="403200" cy="304920"/>
            <a:chOff x="8442360" y="5565600"/>
            <a:chExt cx="403200" cy="304920"/>
          </a:xfrm>
        </p:grpSpPr>
        <p:pic>
          <p:nvPicPr>
            <p:cNvPr id="164" name="椭圆 4" descr=""/>
            <p:cNvPicPr/>
            <p:nvPr/>
          </p:nvPicPr>
          <p:blipFill>
            <a:blip r:embed="rId2"/>
            <a:stretch/>
          </p:blipFill>
          <p:spPr>
            <a:xfrm>
              <a:off x="8442360" y="5565600"/>
              <a:ext cx="4032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604360" y="560376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" name="椭圆 5"/>
          <p:cNvGrpSpPr/>
          <p:nvPr/>
        </p:nvGrpSpPr>
        <p:grpSpPr>
          <a:xfrm>
            <a:off x="8437680" y="5992920"/>
            <a:ext cx="407880" cy="311040"/>
            <a:chOff x="8437680" y="5992920"/>
            <a:chExt cx="407880" cy="311040"/>
          </a:xfrm>
        </p:grpSpPr>
        <p:pic>
          <p:nvPicPr>
            <p:cNvPr id="167" name="椭圆 5" descr=""/>
            <p:cNvPicPr/>
            <p:nvPr/>
          </p:nvPicPr>
          <p:blipFill>
            <a:blip r:embed="rId3"/>
            <a:stretch/>
          </p:blipFill>
          <p:spPr>
            <a:xfrm>
              <a:off x="8437680" y="5992920"/>
              <a:ext cx="407880" cy="3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8604360" y="6032520"/>
              <a:ext cx="15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828720" y="22766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71" name="Group 19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72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73" name="Text Box 5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4" name="Freeform 6"/>
          <p:cNvSpPr/>
          <p:nvPr/>
        </p:nvSpPr>
        <p:spPr>
          <a:xfrm>
            <a:off x="322272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a9cc75"/>
              </a:gs>
              <a:gs pos="100000">
                <a:srgbClr val="77a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76" name="Group 21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77" name="Group 9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78" name="Group 10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79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14a3a"/>
                    </a:gs>
                    <a:gs pos="100000">
                      <a:srgbClr val="449878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49878"/>
                    </a:gs>
                    <a:gs pos="100000">
                      <a:srgbClr val="acd1c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438acb"/>
                  </a:gs>
                  <a:gs pos="100000">
                    <a:srgbClr val="1f405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2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bdd6ed"/>
                  </a:gs>
                  <a:gs pos="100000">
                    <a:srgbClr val="438acb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3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438acb">
                      <a:alpha val="48235"/>
                    </a:srgbClr>
                  </a:gs>
                  <a:gs pos="100000">
                    <a:srgbClr val="356da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184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438acb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185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" name="Group 20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7" name="AutoShape 3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9" name="Freeform 8"/>
          <p:cNvSpPr/>
          <p:nvPr/>
        </p:nvSpPr>
        <p:spPr>
          <a:xfrm flipH="1">
            <a:off x="4874400" y="3075120"/>
            <a:ext cx="903240" cy="1241280"/>
          </a:xfrm>
          <a:prstGeom prst="pie">
            <a:avLst/>
          </a:prstGeom>
          <a:gradFill rotWithShape="0">
            <a:gsLst>
              <a:gs pos="0">
                <a:srgbClr val="c4ded4"/>
              </a:gs>
              <a:gs pos="100000">
                <a:srgbClr val="44987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Cycle 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92" name="Freeform 4"/>
            <p:cNvSpPr/>
            <p:nvPr/>
          </p:nvSpPr>
          <p:spPr>
            <a:xfrm rot="20241600">
              <a:off x="1392120" y="2801880"/>
              <a:ext cx="6094440" cy="242424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17342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38acb"/>
                </a:gs>
                <a:gs pos="100000">
                  <a:srgbClr val="152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77ae26"/>
                </a:gs>
                <a:gs pos="100000">
                  <a:srgbClr val="2a3e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19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cxnSp>
          <p:nvCxnSpPr>
            <p:cNvPr id="205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4d4d4d"/>
              </a:solidFill>
              <a:miter/>
            </a:ln>
          </p:spPr>
        </p:cxnSp>
        <p:sp>
          <p:nvSpPr>
            <p:cNvPr id="206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09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0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2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0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1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2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4" name="AutoShape 19"/>
            <p:cNvSpPr/>
            <p:nvPr/>
          </p:nvSpPr>
          <p:spPr>
            <a:xfrm>
              <a:off x="3125520" y="5288760"/>
              <a:ext cx="2816280" cy="5742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1f4638"/>
                </a:gs>
                <a:gs pos="100000">
                  <a:srgbClr val="44987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5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26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008520" y="2209680"/>
              <a:ext cx="2900880" cy="2706120"/>
              <a:chOff x="3008520" y="2209680"/>
              <a:chExt cx="2900880" cy="2706120"/>
            </a:xfrm>
          </p:grpSpPr>
          <p:sp>
            <p:nvSpPr>
              <p:cNvPr id="230" name="AutoShape 5"/>
              <p:cNvSpPr/>
              <p:nvPr/>
            </p:nvSpPr>
            <p:spPr>
              <a:xfrm flipH="1" rot="16200000">
                <a:off x="2926080" y="3259080"/>
                <a:ext cx="4604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1" name="AutoShape 6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2" name="AutoShape 7"/>
              <p:cNvSpPr/>
              <p:nvPr/>
            </p:nvSpPr>
            <p:spPr>
              <a:xfrm flipH="1" rot="10800000">
                <a:off x="4236840" y="4609800"/>
                <a:ext cx="4435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bdae4"/>
                  </a:gs>
                  <a:gs pos="100000">
                    <a:srgbClr val="51a0b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3" name="Oval 8"/>
              <p:cNvSpPr/>
              <p:nvPr/>
            </p:nvSpPr>
            <p:spPr>
              <a:xfrm>
                <a:off x="3305520" y="2209680"/>
                <a:ext cx="23245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4" name="Oval 9"/>
              <p:cNvSpPr/>
              <p:nvPr/>
            </p:nvSpPr>
            <p:spPr>
              <a:xfrm>
                <a:off x="3438000" y="2344680"/>
                <a:ext cx="205812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60400" y="2471040"/>
                <a:ext cx="1815120" cy="1878480"/>
              </a:xfrm>
              <a:prstGeom prst="ellipse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ffffff"/>
                  </a:gs>
                  <a:gs pos="100000">
                    <a:srgbClr val="449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3558960" y="2471040"/>
                <a:ext cx="18162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7" name="Oval 12"/>
              <p:cNvSpPr/>
              <p:nvPr/>
            </p:nvSpPr>
            <p:spPr>
              <a:xfrm>
                <a:off x="3678480" y="2595960"/>
                <a:ext cx="1577520" cy="1631520"/>
              </a:xfrm>
              <a:prstGeom prst="ellipse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255241"/>
                  </a:gs>
                  <a:gs pos="100000">
                    <a:srgbClr val="44987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38" name="Oval 13"/>
              <p:cNvSpPr/>
              <p:nvPr/>
            </p:nvSpPr>
            <p:spPr>
              <a:xfrm>
                <a:off x="3678480" y="2594520"/>
                <a:ext cx="157752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239" name="AutoShape 14"/>
            <p:cNvSpPr/>
            <p:nvPr/>
          </p:nvSpPr>
          <p:spPr>
            <a:xfrm>
              <a:off x="1143000" y="3707640"/>
              <a:ext cx="1658880" cy="565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0" name="AutoShape 15"/>
            <p:cNvSpPr/>
            <p:nvPr/>
          </p:nvSpPr>
          <p:spPr>
            <a:xfrm>
              <a:off x="1143000" y="3208320"/>
              <a:ext cx="165888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1" name="AutoShape 16"/>
            <p:cNvSpPr/>
            <p:nvPr/>
          </p:nvSpPr>
          <p:spPr>
            <a:xfrm>
              <a:off x="1143000" y="2709000"/>
              <a:ext cx="1658880" cy="565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434e51"/>
                </a:gs>
                <a:gs pos="100000">
                  <a:srgbClr val="90a8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2" name="AutoShape 17"/>
            <p:cNvSpPr/>
            <p:nvPr/>
          </p:nvSpPr>
          <p:spPr>
            <a:xfrm>
              <a:off x="6120360" y="3707640"/>
              <a:ext cx="1728360" cy="565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3" name="AutoShape 18"/>
            <p:cNvSpPr/>
            <p:nvPr/>
          </p:nvSpPr>
          <p:spPr>
            <a:xfrm>
              <a:off x="6120360" y="3208320"/>
              <a:ext cx="1728360" cy="573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4" name="AutoShape 19"/>
            <p:cNvSpPr/>
            <p:nvPr/>
          </p:nvSpPr>
          <p:spPr>
            <a:xfrm>
              <a:off x="6120360" y="2709000"/>
              <a:ext cx="1728360" cy="5659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8acb"/>
                </a:gs>
                <a:gs pos="50000">
                  <a:srgbClr val="1f405e"/>
                </a:gs>
                <a:gs pos="100000">
                  <a:srgbClr val="438a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6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7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8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0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1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2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54" name="Group 30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55" name="Line 3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6" name="Line 4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7" name="Line 5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8" name="Line 6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59" name="Line 7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0" name="Line 8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1" name="Line 9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2" name="Line 10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3" name="Line 11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4" name="Text Box 12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68" name="Group 16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69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prstGeom prst="pie">
                <a:avLst/>
              </a:prstGeom>
              <a:gradFill rotWithShape="0">
                <a:gsLst>
                  <a:gs pos="0">
                    <a:srgbClr val="77ae26"/>
                  </a:gs>
                  <a:gs pos="50000">
                    <a:srgbClr val="375112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prstGeom prst="pie">
                <a:avLst/>
              </a:prstGeom>
              <a:solidFill>
                <a:srgbClr val="77ae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prstGeom prst="pie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1f4638"/>
                  </a:gs>
                  <a:gs pos="100000">
                    <a:srgbClr val="449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prstGeom prst="pie">
                <a:avLst/>
              </a:prstGeom>
              <a:solidFill>
                <a:srgbClr val="449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prstGeom prst="pie">
                <a:avLst/>
              </a:prstGeom>
              <a:gradFill rotWithShape="0">
                <a:gsLst>
                  <a:gs pos="0">
                    <a:srgbClr val="90a8b0"/>
                  </a:gs>
                  <a:gs pos="50000">
                    <a:srgbClr val="434e51"/>
                  </a:gs>
                  <a:gs pos="100000">
                    <a:srgbClr val="90a8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4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prstGeom prst="pie">
                <a:avLst/>
              </a:prstGeom>
              <a:gradFill rotWithShape="0">
                <a:gsLst>
                  <a:gs pos="0">
                    <a:srgbClr val="438acb"/>
                  </a:gs>
                  <a:gs pos="50000">
                    <a:srgbClr val="1f405e"/>
                  </a:gs>
                  <a:gs pos="100000">
                    <a:srgbClr val="438ac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prstGeom prst="pie">
                <a:avLst/>
              </a:prstGeom>
              <a:solidFill>
                <a:srgbClr val="438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prstGeom prst="pie">
                <a:avLst/>
              </a:pr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7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77ae26"/>
                  </a:gs>
                  <a:gs pos="50000">
                    <a:srgbClr val="567e1c"/>
                  </a:gs>
                  <a:gs pos="100000">
                    <a:srgbClr val="77ae2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49878"/>
                  </a:gs>
                  <a:gs pos="50000">
                    <a:srgbClr val="316e57"/>
                  </a:gs>
                  <a:gs pos="100000">
                    <a:srgbClr val="44987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prstGeom prst="pie">
                <a:avLst/>
              </a:prstGeom>
              <a:solidFill>
                <a:srgbClr val="90a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0a8b0"/>
                  </a:gs>
                  <a:gs pos="50000">
                    <a:srgbClr val="687a80"/>
                  </a:gs>
                  <a:gs pos="100000">
                    <a:srgbClr val="90a8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81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438acb"/>
                  </a:gs>
                  <a:gs pos="50000">
                    <a:srgbClr val="316493"/>
                  </a:gs>
                  <a:gs pos="100000">
                    <a:srgbClr val="438ac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28400" y="714240"/>
            <a:ext cx="59576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宋体"/>
              </a:rPr>
              <a:t>Diagram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283" name="Group 25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84" name="Freeform 3"/>
            <p:cNvSpPr/>
            <p:nvPr/>
          </p:nvSpPr>
          <p:spPr>
            <a:xfrm>
              <a:off x="4910040" y="1371600"/>
              <a:ext cx="1436760" cy="1119240"/>
            </a:xfrm>
            <a:prstGeom prst="pie">
              <a:avLst/>
            </a:prstGeom>
            <a:gradFill rotWithShape="0">
              <a:gsLst>
                <a:gs pos="0">
                  <a:srgbClr val="449878"/>
                </a:gs>
                <a:gs pos="100000">
                  <a:srgbClr val="55a184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" name="AutoShape 4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7ae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6" name="AutoShape 5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75112"/>
                </a:gs>
                <a:gs pos="50000">
                  <a:srgbClr val="77ae26"/>
                </a:gs>
                <a:gs pos="100000">
                  <a:srgbClr val="3751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9" name="AutoShape 8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449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0" name="AutoShape 9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4638"/>
                </a:gs>
                <a:gs pos="50000">
                  <a:srgbClr val="449878"/>
                </a:gs>
                <a:gs pos="100000">
                  <a:srgbClr val="1f463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1" name="AutoShape 10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2" name="AutoShape 11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2382840" y="1857240"/>
              <a:ext cx="1436400" cy="1119240"/>
            </a:xfrm>
            <a:prstGeom prst="pie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bfcdd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4" name="Text Box 13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5" name="Text Box 14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296" name="Group 15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297" name="AutoShape 16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0a8b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8" name="AutoShape 17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84144"/>
                  </a:gs>
                  <a:gs pos="50000">
                    <a:srgbClr val="90a8b0"/>
                  </a:gs>
                  <a:gs pos="100000">
                    <a:srgbClr val="3841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99" name="AutoShape 18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0" name="AutoShape 19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1" name="Text Box 20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912600" y="3374280"/>
                <a:ext cx="2089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303" name="Text Box 22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04" name="Text Box 23"/>
            <p:cNvSpPr/>
            <p:nvPr/>
          </p:nvSpPr>
          <p:spPr>
            <a:xfrm>
              <a:off x="583704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4:50Z</dcterms:created>
  <dc:creator>幻灯片之家：www.eeppt.com; 符号</dc:creator>
  <dc:description>幻灯片之家：www.eeppt.com</dc:description>
  <cp:keywords>幻灯片之家：www.eeppt.com</cp:keywords>
  <dc:language>en-US</dc:language>
  <cp:lastModifiedBy>news</cp:lastModifiedBy>
  <dcterms:modified xsi:type="dcterms:W3CDTF">2015-09-18T13:19:24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