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DB1-2AB5-4AF9-B542-C9F2B91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D10-BEA3-4896-B4F3-8E3E4F7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A43-A803-458A-B761-DE09B809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940-4F87-4BB4-8565-97E29CEA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A04-9AC9-4F96-812C-1F018EA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576-A16A-45EA-A4DA-9FA3F21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E9F-6DDC-4C4C-B931-EEF636FE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5EB-154B-4C33-B997-E72698E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EB9-9C53-4DD6-8BE6-1B3F57E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C70-3DCE-4947-95C9-F7F0624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926-DC46-4EB7-848A-5B4F68E8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B0B-70DA-4AA7-BA55-31C84DA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6D74-E8DD-4FE2-84A7-2B4A9DA118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D15-ABB8-45CD-946A-F29CF767EB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鱼不愚\桌面\1111.png"/>
          <p:cNvPicPr/>
          <p:nvPr/>
        </p:nvPicPr>
        <p:blipFill>
          <a:blip r:embed="rId2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4219560" y="530064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欢度五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五角星 9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五角星 10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五角星 11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2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3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角星 14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角星 15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角星 16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角星 17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角星 18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五角星 19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五角星 20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五角星 21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角星 22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五角星 23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角星 24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五角星 25"/>
          <p:cNvSpPr/>
          <p:nvPr/>
        </p:nvSpPr>
        <p:spPr>
          <a:xfrm>
            <a:off x="4178160" y="3286080"/>
            <a:ext cx="57168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角星 30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31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32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33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34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35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角星 36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37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38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角星 39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角星 40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角星 41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角星 42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角星 43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角星 44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45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46"/>
          <p:cNvSpPr/>
          <p:nvPr/>
        </p:nvSpPr>
        <p:spPr>
          <a:xfrm>
            <a:off x="4330800" y="3438360"/>
            <a:ext cx="571320" cy="57168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1" y="218293"/>
                </a:moveTo>
                <a:lnTo>
                  <a:pt x="218295" y="218295"/>
                </a:lnTo>
                <a:lnTo>
                  <a:pt x="285750" y="0"/>
                </a:lnTo>
                <a:lnTo>
                  <a:pt x="353205" y="218295"/>
                </a:lnTo>
                <a:lnTo>
                  <a:pt x="571499" y="218293"/>
                </a:lnTo>
                <a:lnTo>
                  <a:pt x="394895" y="353205"/>
                </a:lnTo>
                <a:lnTo>
                  <a:pt x="462353" y="571499"/>
                </a:lnTo>
                <a:lnTo>
                  <a:pt x="285750" y="436584"/>
                </a:lnTo>
                <a:lnTo>
                  <a:pt x="109147" y="571499"/>
                </a:lnTo>
                <a:lnTo>
                  <a:pt x="176605" y="353205"/>
                </a:lnTo>
                <a:lnTo>
                  <a:pt x="1" y="218293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鱼不愚\桌面\2007926194337696.png"/>
          <p:cNvPicPr/>
          <p:nvPr/>
        </p:nvPicPr>
        <p:blipFill>
          <a:blip r:embed="rId3"/>
          <a:srcRect l="8340" t="10964" r="6995" b="8638"/>
          <a:stretch/>
        </p:blipFill>
        <p:spPr>
          <a:xfrm>
            <a:off x="2071800" y="571680"/>
            <a:ext cx="5214960" cy="4714560"/>
          </a:xfrm>
          <a:prstGeom prst="rect">
            <a:avLst/>
          </a:prstGeom>
          <a:ln w="0">
            <a:noFill/>
          </a:ln>
        </p:spPr>
      </p:pic>
      <p:sp>
        <p:nvSpPr>
          <p:cNvPr id="79" name="矩形 5"/>
          <p:cNvSpPr/>
          <p:nvPr/>
        </p:nvSpPr>
        <p:spPr>
          <a:xfrm>
            <a:off x="4052520" y="287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efe"/>
                </a:solidFill>
                <a:latin typeface="方正粗宋简体"/>
                <a:ea typeface="方正粗宋简体"/>
              </a:rPr>
              <a:t>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背景音乐.mp3" descr=""/>
          <p:cNvPicPr/>
          <p:nvPr/>
        </p:nvPicPr>
        <p:blipFill>
          <a:blip r:embed="rId4"/>
          <a:stretch/>
        </p:blipFill>
        <p:spPr>
          <a:xfrm>
            <a:off x="-58896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7080" y="26028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度五一劳动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片头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30.0)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18506 -0.79791 E">
                                      <p:cBhvr>
                                        <p:cTn id="131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0047 L -0.0434 -0.74537 E">
                                      <p:cBhvr>
                                        <p:cTn id="135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55112E-017 L 0.09705 -0.73542 E">
                                      <p:cBhvr>
                                        <p:cTn id="13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1" dur="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55112E-017 L 0.00399 -0.7669 E">
                                      <p:cBhvr>
                                        <p:cTn id="143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5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24011 -0.7243 E">
                                      <p:cBhvr>
                                        <p:cTn id="14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9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44497 -0.62986 E">
                                      <p:cBhvr>
                                        <p:cTn id="15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65747 -0.38753 E">
                                      <p:cBhvr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51927 0.23958 E">
                                      <p:cBhvr>
                                        <p:cTn id="159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49445 -0.65301 E">
                                      <p:cBhvr>
                                        <p:cTn id="16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5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57396 0.01898 E">
                                      <p:cBhvr>
                                        <p:cTn id="167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9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68125 -0.51963 E">
                                      <p:cBhvr>
                                        <p:cTn id="17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31892 0.59861 E">
                                      <p:cBhvr>
                                        <p:cTn id="17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7" dur="1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9531 0.56806 E">
                                      <p:cBhvr>
                                        <p:cTn id="17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58959 0.43172 E">
                                      <p:cBhvr>
                                        <p:cTn id="183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4988E-007 L 0.34254 0.82771 E">
                                      <p:cBhvr>
                                        <p:cTn id="187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0.48819 0.54607 E">
                                      <p:cBhvr>
                                        <p:cTn id="19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022E-016 L 0.18108 0.65208 E">
                                      <p:cBhvr>
                                        <p:cTn id="19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3489 -0.04306 E">
                                      <p:cBhvr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6632 -0.29514 E">
                                      <p:cBhvr>
                                        <p:cTn id="203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5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34167 0.63935 E">
                                      <p:cBhvr>
                                        <p:cTn id="20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38281 -0.7254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20955 0.60787 E">
                                      <p:cBhvr>
                                        <p:cTn id="21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53854 -0.62061 E">
                                      <p:cBhvr>
                                        <p:cTn id="219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1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0.61719 -0.23141 E">
                                      <p:cBhvr>
                                        <p:cTn id="22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5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0.6566 0.15612 E">
                                      <p:cBhvr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9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18594 0.81594 E">
                                      <p:cBhvr>
                                        <p:cTn id="23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65851 -0.44111 E">
                                      <p:cBhvr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3489 -0.60996 E">
                                      <p:cBhvr>
                                        <p:cTn id="239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4826 0.57871 E">
                                      <p:cBhvr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78455 -0.22101 E">
                                      <p:cBhvr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49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8568E-006 L -0.71354 0.45589 E">
                                      <p:cBhvr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3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261E-007 L 0.63785 -0.09607 E">
                                      <p:cBhvr>
                                        <p:cTn id="25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06476 0.62986 E">
                                      <p:cBhvr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62691 0.18796 E">
                                      <p:cBhvr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86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1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节日简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90400" y="2062080"/>
            <a:ext cx="47865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劳动节又称“五一国际劳动节”、“国际示威游行日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International Labor Day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y Day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世界上大多数国家的劳动节。定在每年的五月一日。它是全世界“劳动者”共同拥有的节日。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3924360" y="3699000"/>
            <a:ext cx="5624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0" spc="-1" strike="noStrike">
                <a:solidFill>
                  <a:srgbClr val="ffc000"/>
                </a:solidFill>
                <a:latin typeface="汉仪大黑简"/>
                <a:ea typeface="汉仪大黑简"/>
              </a:rPr>
              <a:t>5.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94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809640" y="1943280"/>
            <a:ext cx="7554960" cy="1538280"/>
            <a:chOff x="809640" y="1943280"/>
            <a:chExt cx="7554960" cy="1538280"/>
          </a:xfrm>
        </p:grpSpPr>
        <p:pic>
          <p:nvPicPr>
            <p:cNvPr id="97" name="Picture 2" descr="芝加哥工人罢工"/>
            <p:cNvPicPr/>
            <p:nvPr/>
          </p:nvPicPr>
          <p:blipFill>
            <a:blip r:embed="rId3"/>
            <a:stretch/>
          </p:blipFill>
          <p:spPr>
            <a:xfrm>
              <a:off x="809640" y="1943280"/>
              <a:ext cx="2222280" cy="15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" descr="http://images.sanhaostreet.com/News/2007/5/20070504082239210.jpg"/>
            <p:cNvPicPr/>
            <p:nvPr/>
          </p:nvPicPr>
          <p:blipFill>
            <a:blip r:embed="rId4"/>
            <a:stretch/>
          </p:blipFill>
          <p:spPr>
            <a:xfrm>
              <a:off x="3461040" y="1943280"/>
              <a:ext cx="2221200" cy="15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http://a2.att.hudong.com/86/28/01300000330188123020282200874_140.jpg"/>
            <p:cNvPicPr/>
            <p:nvPr/>
          </p:nvPicPr>
          <p:blipFill>
            <a:blip r:embed="rId5"/>
            <a:stretch/>
          </p:blipFill>
          <p:spPr>
            <a:xfrm>
              <a:off x="6143400" y="1943280"/>
              <a:ext cx="2221200" cy="15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矩形 2"/>
          <p:cNvSpPr/>
          <p:nvPr/>
        </p:nvSpPr>
        <p:spPr>
          <a:xfrm>
            <a:off x="571680" y="3824280"/>
            <a:ext cx="8001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一国际劳动节源于美国芝加哥城工人大罢工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芝加哥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68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工人为争取实行八小时工作制而举行大罢工，经过艰苦的流血斗争，终于获得了胜利。为纪念这次伟大的工人运动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第二国际宣布将每年的五月一日定为国际劳动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节日来源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鱼不愚\桌面\1111.png"/>
          <p:cNvPicPr/>
          <p:nvPr/>
        </p:nvPicPr>
        <p:blipFill>
          <a:blip r:embed="rId1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圆角矩形 7"/>
          <p:cNvSpPr/>
          <p:nvPr/>
        </p:nvSpPr>
        <p:spPr>
          <a:xfrm>
            <a:off x="0" y="463680"/>
            <a:ext cx="9144000" cy="5930640"/>
          </a:xfrm>
          <a:prstGeom prst="roundRect">
            <a:avLst>
              <a:gd name="adj" fmla="val 0"/>
            </a:avLst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66680" y="5500800"/>
            <a:ext cx="1461960" cy="1322280"/>
            <a:chOff x="166680" y="5500800"/>
            <a:chExt cx="1461960" cy="1322280"/>
          </a:xfrm>
        </p:grpSpPr>
        <p:pic>
          <p:nvPicPr>
            <p:cNvPr id="105" name="Picture 2" descr="C:\Documents and Settings\鱼不愚\桌面\2007926194337696.png"/>
            <p:cNvPicPr/>
            <p:nvPr/>
          </p:nvPicPr>
          <p:blipFill>
            <a:blip r:embed="rId2"/>
            <a:srcRect l="8348" t="10975" r="7002" b="8638"/>
            <a:stretch/>
          </p:blipFill>
          <p:spPr>
            <a:xfrm>
              <a:off x="166680" y="5500800"/>
              <a:ext cx="1461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9"/>
            <p:cNvSpPr/>
            <p:nvPr/>
          </p:nvSpPr>
          <p:spPr>
            <a:xfrm>
              <a:off x="630360" y="6097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10"/>
          <p:cNvSpPr/>
          <p:nvPr/>
        </p:nvSpPr>
        <p:spPr>
          <a:xfrm>
            <a:off x="811800" y="105264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中国节日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方正舒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v.cga.com.cn/Upload/News/200653141850692.jpg"/>
          <p:cNvPicPr/>
          <p:nvPr/>
        </p:nvPicPr>
        <p:blipFill>
          <a:blip r:embed="rId3"/>
          <a:stretch/>
        </p:blipFill>
        <p:spPr>
          <a:xfrm>
            <a:off x="804960" y="1986120"/>
            <a:ext cx="30477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666720" y="1870200"/>
            <a:ext cx="8143920" cy="3283560"/>
            <a:chOff x="666720" y="1870200"/>
            <a:chExt cx="8143920" cy="3283560"/>
          </a:xfrm>
        </p:grpSpPr>
        <p:sp>
          <p:nvSpPr>
            <p:cNvPr id="110" name="矩形 2"/>
            <p:cNvSpPr/>
            <p:nvPr/>
          </p:nvSpPr>
          <p:spPr>
            <a:xfrm>
              <a:off x="3967200" y="1870200"/>
              <a:ext cx="47149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人民庆祝劳动节的活动可追溯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18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。是年，一些革命的知识分子在上海、苏州、杭州、汉口等地向群众散发介绍“五一”的传单。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20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，北京、上海、广州、九江、唐山等各工业城市的工人群众浩浩荡荡地走向街市、举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8"/>
            <p:cNvSpPr/>
            <p:nvPr/>
          </p:nvSpPr>
          <p:spPr>
            <a:xfrm>
              <a:off x="666720" y="4267080"/>
              <a:ext cx="814392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了声势浩大的游行、集会，这就是中国历史上的第一个五一劳动节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解放后，中央人民政府政务院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49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将五月一日定为法定的劳动节，是日全国放假一天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11280" y="62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194-074F-4DDE-9FBE-C14FF3A0FE60}" type="slidenum">
              <a:t>5</a:t>
            </a:fld>
          </a:p>
        </p:txBody>
      </p:sp>
    </p:spTree>
  </p:cSld>
  <p:transition advTm="2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鱼不愚\桌面\劳动啊.png"/>
          <p:cNvPicPr/>
          <p:nvPr/>
        </p:nvPicPr>
        <p:blipFill>
          <a:blip r:embed="rId1"/>
          <a:srcRect l="0" t="0" r="2427" b="0"/>
          <a:stretch/>
        </p:blipFill>
        <p:spPr>
          <a:xfrm>
            <a:off x="1863720" y="828720"/>
            <a:ext cx="7280280" cy="602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鱼不愚\桌面\劳动2副本.png"/>
          <p:cNvPicPr/>
          <p:nvPr/>
        </p:nvPicPr>
        <p:blipFill>
          <a:blip r:embed="rId2"/>
          <a:srcRect l="0" t="0" r="48290" b="0"/>
          <a:stretch/>
        </p:blipFill>
        <p:spPr>
          <a:xfrm>
            <a:off x="3714840" y="11095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鱼不愚\桌面\劳动2副本.png"/>
          <p:cNvPicPr/>
          <p:nvPr/>
        </p:nvPicPr>
        <p:blipFill>
          <a:blip r:embed="rId3"/>
          <a:srcRect l="51726" t="0" r="-23478" b="0"/>
          <a:stretch/>
        </p:blipFill>
        <p:spPr>
          <a:xfrm>
            <a:off x="7086600" y="2571840"/>
            <a:ext cx="1585800" cy="977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鱼不愚\桌面\1111.png"/>
          <p:cNvPicPr/>
          <p:nvPr/>
        </p:nvPicPr>
        <p:blipFill>
          <a:blip r:embed="rId4"/>
          <a:srcRect l="13994" t="24914" r="15829" b="21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7"/>
          <p:cNvSpPr/>
          <p:nvPr/>
        </p:nvSpPr>
        <p:spPr>
          <a:xfrm>
            <a:off x="3376800" y="53578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方正吕建德字体"/>
                <a:ea typeface="方正吕建德字体"/>
              </a:rPr>
              <a:t>祝大家劳动节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2071800" y="571680"/>
            <a:ext cx="5214960" cy="4714560"/>
            <a:chOff x="2071800" y="571680"/>
            <a:chExt cx="5214960" cy="4714560"/>
          </a:xfrm>
        </p:grpSpPr>
        <p:pic>
          <p:nvPicPr>
            <p:cNvPr id="122" name="Picture 2" descr="C:\Documents and Settings\鱼不愚\桌面\2007926194337696.png"/>
            <p:cNvPicPr/>
            <p:nvPr/>
          </p:nvPicPr>
          <p:blipFill>
            <a:blip r:embed="rId5"/>
            <a:srcRect l="8340" t="10964" r="6995" b="8638"/>
            <a:stretch/>
          </p:blipFill>
          <p:spPr>
            <a:xfrm>
              <a:off x="2071800" y="571680"/>
              <a:ext cx="5214960" cy="47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矩形 10"/>
            <p:cNvSpPr/>
            <p:nvPr/>
          </p:nvSpPr>
          <p:spPr>
            <a:xfrm>
              <a:off x="4052520" y="28738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efe"/>
                  </a:solidFill>
                  <a:latin typeface="方正粗宋简体"/>
                  <a:ea typeface="方正粗宋简体"/>
                </a:rPr>
                <a:t>5.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54:22Z</dcterms:created>
  <dc:creator>pc</dc:creator>
  <dc:description>www.eeppt.com;</dc:description>
  <cp:keywords>www.eeppt.com</cp:keywords>
  <dc:language>en-US</dc:language>
  <cp:lastModifiedBy>YANGS2015</cp:lastModifiedBy>
  <dcterms:modified xsi:type="dcterms:W3CDTF">2015-09-18T13:20:59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