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9E01A-A728-4A1A-ACA2-EE4A4788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43D55-7F56-4A94-AE3C-55AA919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40CF0-2AC0-424B-9F6F-5BDF6F78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10272-4E83-410D-8843-87DE28A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19815-8044-4A2C-B157-636281D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5BA58-C08A-456D-87B5-A5751B22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EAEE-09AD-4114-8C9E-2A5B0E30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C0D67-1B77-4F48-A9E0-D169F377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41BD7-34B9-4E84-8E33-A3757AAB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C0ED7-D2E1-40EB-AAC2-DDD60994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20133-E44A-48A5-B44F-D22C9F8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DB3E5-2F35-46F6-8E92-4FE7CC44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7F349-2909-4A7F-9659-E6726D22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0EAEC-FF20-4030-9F18-219DC60F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E5CAF-B64F-497C-83CB-710E7069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9672B-B0A6-42CB-B9E4-58B41C07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2C06C-9D23-47B9-AA99-89399C6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617DB-919D-417D-9573-015623D9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B6056-6E79-423D-8C58-528F6D2A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4561-48B4-45F3-985C-64F5B6F8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34C3B-C809-4122-B278-B73DC712F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7DC7D-936B-41A3-8E8F-327AEE0B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E0A5D-7CED-431D-AC13-9D005D50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D7E7E-8AB6-4D96-9F2A-83B85E07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F67DF-B897-4C42-B853-9211F647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228B1-C02B-4B15-AAA3-B7688E22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9B979-40E1-48BC-82BD-E832B661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DA24A-EF5B-4740-BF3A-61B08EF1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29F36-43D2-4AD4-A91D-0FA1CBA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B827D-2755-4105-9F66-8F324B69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4CF-CE8E-4A83-9E0E-E8AA1A83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5F73F-B6CE-42BB-B415-AAFC58B4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77714-7F08-4319-80CC-8563791A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0B165-3A81-4D3C-A712-3895806B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57011-5442-4853-B99D-8CA482CF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B8298-0994-4964-92D2-96798A6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25104-A5D1-426F-A87F-F25968BE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B3D8E-3557-4883-9103-78239FC6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71A8-BA67-4056-A0B4-76C1B302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0A265-657A-4030-9028-A8CFCA9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56A43-D5F2-4CA8-AE18-C6D7D855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08F-3DE4-4B7A-9F9F-8D4B9D9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78076-3CAC-4AD0-98DB-4CBF2654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94FC1-E202-4085-A58E-1259F09D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430B6-2C24-4A15-9585-87EAF06A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B9013-4FF5-4293-BB49-161C9D6E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C09B2-B13A-4064-B5C5-6C20FFCE9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BFFE-DAD5-4432-A722-EF91E19B1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3496B-0E5F-455A-974D-44379D5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438A9-0D73-417C-8111-EAA1A442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0924D-2412-402D-80D2-43DBDFC0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1944F-5881-45D6-998A-FD7ED8BA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6B6-355B-4549-ADD9-03C2D28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A3EEE-68C5-418B-8BFB-1ED0C957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C0EB3-5D35-42FE-95C4-38E66ABA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3438A-7370-4127-91CF-F7482F50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D5402-E778-4A85-AD3A-91189DE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562DB-180D-4DA2-85E5-770CC02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836C2-3B14-4248-8CEF-ACF2701C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0245E-AC0C-4025-903A-0EE41625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9A5-A221-407F-972C-4591BF8F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C5E0-AE88-4224-A5FF-C3F31B1C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9179-22EE-4392-BA11-E00446EC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330-2E45-4B50-8858-270DDE8C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91A-5E2C-4CA3-B82A-5D63DEF1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31B8-280A-4AFB-BF0D-8B971BC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4A2A-B15B-4BD0-943B-A0F9F1E2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B14F-D1C1-4476-8B90-802EF5EA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091C-F46C-495B-81F1-1D08E2FA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58B6-1187-4E47-A6FA-59EC03C5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C01-BCAD-4D0C-A1F2-980B6A54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E6B8-0645-4656-8D35-4D7374C2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9060-0360-4475-84A1-4E3E604D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24A-0861-4592-AE07-417AD9CD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A5CE-AA90-485E-860D-D4162482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2139-3DF5-49DB-BE48-E897F736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DA46-6A48-4E86-8542-21BEBB21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1306-FB9A-4631-A46D-BCEC3F0E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82F3-CE6C-4F46-B8C5-6847D05F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2988-71B2-4826-AD6A-D9746F80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3E7A-724D-4DDF-8EA6-2C92A640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DEBA-84B3-4C98-82DF-9550318D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7B79-089E-4315-87FE-08D9E7F6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EBC4F-D84C-41C8-982B-C7E92CC9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D731-66FB-44E1-B257-73296AC6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033CC-45FC-4A19-BE28-34B1F199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E91A9-2304-4777-9887-F7548F97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28AA5-79FD-452D-A90F-85CB340D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FE86-103E-4EFB-8F66-961D2093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9DBEC-B7D1-4644-90D8-6269A33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75F29-C05B-4BC5-92A2-7FDD11DC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AC9C-1C73-4189-96E9-CBD495C8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C59B-BD69-46AC-8F03-288C29EF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CCC9-0055-49DA-8614-F528C8DA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9784D-D1BA-440B-9C1B-44B233D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9EB0-2551-43E6-ADDA-AC796DE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A330-D6CA-41C9-8EA0-58AD5654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E0A9-A8AD-402E-B6BE-39E4778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59C69-A131-42FF-A5E7-0F3D19D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B0A07-D0EB-45E4-A062-9030C7DD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248F2-0C50-4345-800D-24A83CF9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C05E-A2AB-4591-8C6E-5E8A61D4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F665-D46E-4E5B-AD34-86780CB6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3C6B-5C39-4F34-8DAD-93D2B4A9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AABDB-8599-40A2-87F9-BCDCC8C8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2BC3A-696F-46A2-BB18-91E81C65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EC7FA-8088-4520-B560-BBB676C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85D3D-A814-4BBB-9E62-A93B0B1F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2FFFD-E0D3-4438-B9F4-0FA6D767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A2D6C-049E-4E30-BF41-0956D9DB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F5830-B52A-417B-857C-5CFFFF1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02D47-E284-4ECB-9378-5DA7E246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8A693-36EE-4FAE-AB5B-3C428BF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48E2B-4BB6-416E-B94F-4F219E46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59F26-6447-413D-B353-D994453E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2B5CB-2DCA-4A38-AF38-34AD8618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3BFB2-2856-48A5-A58C-05F947C2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0B7E1-D20A-486C-A41A-A50B5E68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DA434-D6E9-4C5D-BCF7-DE7979DB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5C62-0578-45AD-85B9-05D262BA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F284-19B9-4CE3-8829-7C5BC6B9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C56BA-A350-4E58-BB72-2E349D40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ACC02-89E0-4809-A660-F5BC4714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3DC9-F583-406A-A5EB-BB07586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E6F2C-DA32-4EB7-A5F4-E6A14612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CE96B-8B18-44DF-8173-AE71FDD6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B9FA-93BD-46AE-B72B-182975AB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0DF86-BF91-45D5-BF65-1367DE24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2A87B-9DB3-454F-BF1C-7F0BEC66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5A2FE-A6F9-403A-8595-E676B6AE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13E72-2FDD-4C83-B8FE-58A41D5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B8C0B-B550-440D-88A9-57C485E4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1633B-AF50-4764-97F0-A09699F5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91ED7-C204-4C43-A3E3-3A8AC263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84481-613A-47E6-8C4D-F572FF8D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D5EF-5ED1-4CB1-B1E9-8578F7D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BF18F-A23F-4174-9134-51791A02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0B379-4116-4677-A515-8E964F2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95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31401-6015-4976-B754-C806FEE0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12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95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12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9B8A-DC0F-4772-BF4B-1BD6EAFB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77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60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95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77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60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5C78-1854-4388-8E3C-9A7413B1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D0B1F-AADB-4090-977D-E9BFC9AB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C2536-0B55-4340-93E6-18A6BD39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B6B8E-608E-4AAD-A96C-5B0DC3E9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3.gif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5" descr="9"/>
          <p:cNvPicPr/>
          <p:nvPr/>
        </p:nvPicPr>
        <p:blipFill>
          <a:blip r:embed="rId3"/>
          <a:stretch/>
        </p:blipFill>
        <p:spPr>
          <a:xfrm>
            <a:off x="819144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9"/>
          <p:cNvPicPr/>
          <p:nvPr/>
        </p:nvPicPr>
        <p:blipFill>
          <a:blip r:embed="rId4"/>
          <a:stretch/>
        </p:blipFill>
        <p:spPr>
          <a:xfrm>
            <a:off x="7667640" y="18900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7" descr="9"/>
          <p:cNvPicPr/>
          <p:nvPr/>
        </p:nvPicPr>
        <p:blipFill>
          <a:blip r:embed="rId5"/>
          <a:stretch/>
        </p:blipFill>
        <p:spPr>
          <a:xfrm>
            <a:off x="8191440" y="6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9"/>
          <p:cNvPicPr/>
          <p:nvPr/>
        </p:nvPicPr>
        <p:blipFill>
          <a:blip r:embed="rId6"/>
          <a:stretch/>
        </p:blipFill>
        <p:spPr>
          <a:xfrm>
            <a:off x="7308720" y="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9" descr="9"/>
          <p:cNvPicPr/>
          <p:nvPr/>
        </p:nvPicPr>
        <p:blipFill>
          <a:blip r:embed="rId7"/>
          <a:stretch/>
        </p:blipFill>
        <p:spPr>
          <a:xfrm>
            <a:off x="7740720" y="83664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9"/>
          <p:cNvPicPr/>
          <p:nvPr/>
        </p:nvPicPr>
        <p:blipFill>
          <a:blip r:embed="rId8"/>
          <a:stretch/>
        </p:blipFill>
        <p:spPr>
          <a:xfrm>
            <a:off x="7380360" y="62064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22" descr="9"/>
          <p:cNvPicPr/>
          <p:nvPr/>
        </p:nvPicPr>
        <p:blipFill>
          <a:blip r:embed="rId9"/>
          <a:stretch/>
        </p:blipFill>
        <p:spPr>
          <a:xfrm>
            <a:off x="8155080" y="112536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3" descr="9"/>
          <p:cNvPicPr/>
          <p:nvPr/>
        </p:nvPicPr>
        <p:blipFill>
          <a:blip r:embed="rId10"/>
          <a:stretch/>
        </p:blipFill>
        <p:spPr>
          <a:xfrm>
            <a:off x="7020000" y="47628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4" descr="9"/>
          <p:cNvPicPr/>
          <p:nvPr/>
        </p:nvPicPr>
        <p:blipFill>
          <a:blip r:embed="rId11"/>
          <a:stretch/>
        </p:blipFill>
        <p:spPr>
          <a:xfrm>
            <a:off x="6732720" y="0"/>
            <a:ext cx="988920" cy="1143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5" descr="20070901151911358"/>
          <p:cNvPicPr/>
          <p:nvPr/>
        </p:nvPicPr>
        <p:blipFill>
          <a:blip r:embed="rId12"/>
          <a:stretch/>
        </p:blipFill>
        <p:spPr>
          <a:xfrm>
            <a:off x="7812000" y="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C5D6-9D54-42F5-B2AE-28B51EF3C56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1F18-3360-4D69-967D-89205CD41B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955C-C49C-43F7-9EB4-D95ED787459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CC5A-BAC8-4AC1-8717-5E331D95A1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1208-FFBF-4E04-B6ED-E35375CB62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3AC8-6504-4DEE-B97C-9EB9EF26FE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B80-786E-4BF4-912F-784791526D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037B-482E-488D-A25F-30F5678070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AEB7-7344-4FD6-A7D8-8CBE3137B72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39CB-6289-4CBA-B83A-43B5B20099B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B854-084A-4E82-AF14-E678046D572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6212-8D64-4F1C-829A-A1A9712457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F918-0B20-4917-9D07-C6BB8B36760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8858-AAFD-4D75-95B8-59A16CE1CE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5346-8A83-4963-937B-00E4BED3D06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767-C473-40D7-BFC3-E0704F613C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D59D-F90F-45F1-A4B1-1DAB016EAF8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B701-6DC5-4AA4-93DD-2B49EBD0F3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746-431E-435A-8E81-6122C1F7B0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8C51-15B3-4CF9-8BB2-DDA73ECA07D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A964-558D-4B8B-9FFB-9710F07A0FF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E02-0B0C-4117-B89A-8F606B7E6E7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753F-C871-418B-A3B7-C707C96F5C1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8D07-D5DE-4E62-99C0-46075C44F46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EDA2F-8D70-4A55-B902-91BE874E34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315880" y="11970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韩国风格情人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9:15:1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10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