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FE3-7AF7-4E48-A26A-EEB89350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AB0-A7E3-4A35-A2D0-A12478CC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00A-EE20-4398-A037-1BBFDAFA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5C0-C187-4E6B-9ADC-0C181821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4336-9634-424B-8E03-414DF9DB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B8B6-55CA-4AC2-97FE-FB3CABB2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F7E5-DF5F-4584-93D8-1B8F074E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F39A-3CF7-4551-8457-22DD5B99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393A-BB87-4C86-9D7D-D97223AE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2226-1610-4398-BEC3-1745DA1F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7385-5F48-4BD3-BB24-9F0D58E0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674-C4D7-4A7B-8843-52FD64D6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6D6A-6188-42AE-B431-A2174354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E057-32D0-400D-9D85-F8C854B1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8D32-1D9E-4282-8295-667A16D7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266D-D43E-43E9-B7F1-5888A2A8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8A06-4E20-4484-86EB-3D2F7003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F32E-DD58-4C9B-AF4E-E93BB90D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D180F-A8D8-4E7A-B555-A80C9137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D37B-FFA6-407F-8A48-F7F64B79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B4D27-E950-450B-972A-A4309B43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FE9C-0348-4DFD-A08E-3BB728D9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C27-1A40-4664-B6CA-1A8ED219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025E1-2566-4255-B841-CC4BFCCD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79F1-482F-478F-948C-17244684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9DB8-DB05-4633-B1E1-99A51544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7AA34-1850-4819-B72F-F9B636F7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2A34-18C8-4FBC-BB60-046C2131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43A2-4495-4B54-8500-EB8F6528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2431-1309-4D3D-8EA4-EC194A93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A20EE-CA8E-495D-8837-283758B7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32537-D19C-484B-BE28-6BBE5385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715A-5A6D-494D-B644-4E3DD2A1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72F2-93AD-482A-A333-76A6A959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3689E-97A7-43DE-908A-D068A1C0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D043-1435-4C91-80C1-49CC86AE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6592D-1A84-467A-ABF3-683412DF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0B01-B2F3-4B89-8665-AEBC8C06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88FCF-B8AC-4D25-B5AE-B38EC21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4A60F-3629-4C2F-B037-9C654E24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7587-1B28-4964-9829-25A15601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EE63-3696-4E4C-85BE-51B122F6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0F91-798E-4897-BE46-494E3747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AAA-4722-409B-BEBA-0B8D8B03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25F-D67F-410B-9079-F4EC9F84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4E1-FEEB-48B7-87DA-AC9FD15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B7B-5A2D-47B5-A5FF-C5B997C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4A2-B0B1-4B2F-8800-15A3C79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E01C-0F20-4C1B-8847-88EE4FF74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D21D-9FEA-490F-B1A2-C49395BB7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ADEF-C59A-4278-B990-3FF9A3A64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5A55-D1EB-405F-8EE5-DBEEE7D9B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"/>
          <p:cNvSpPr/>
          <p:nvPr/>
        </p:nvSpPr>
        <p:spPr>
          <a:xfrm>
            <a:off x="2767680" y="69228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Gulim"/>
              </a:rPr>
              <a:t>韩国卡通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3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2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3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4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6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89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0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1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3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6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7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8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9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0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3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4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5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7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0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1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2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4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7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8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9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0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1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2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5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8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29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0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2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3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6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6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Gulim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CBD-315A-49F5-9FE6-C95544DDB5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3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0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