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292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3984-73AC-4C8B-8868-158A2417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65680"/>
            <a:ext cx="82296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C9C5-0208-4373-A69B-1B9AD0A2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65680"/>
            <a:ext cx="40158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65680"/>
            <a:ext cx="40158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DB3B-A009-41D7-8212-8089C08A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65680"/>
            <a:ext cx="26496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65680"/>
            <a:ext cx="26496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65680"/>
            <a:ext cx="26496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3F8D-B8CE-47FA-A31B-7B728A45C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33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2809-63A7-48E0-A3BE-0E8B03E1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C6DC-7B3C-405D-87D0-5C621985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EC1E-30C7-4295-B405-95F19161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2184-AD16-4ADF-843A-B6A3648E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6D34-174E-4472-9E6E-99873780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65680"/>
            <a:ext cx="40158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9621-5282-45EE-B1FE-E2ACD85E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65680"/>
            <a:ext cx="40158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E23C-B466-43BD-8110-B19BC2CF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65680"/>
            <a:ext cx="82296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61EF-49DC-47F5-A9E1-84EAE074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720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720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720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5101-857E-479A-A317-8E3C2B778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1080" y="465444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3333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39520" y="2565360"/>
            <a:ext cx="556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辉煌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90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年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模板在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41120"/>
            <a:ext cx="8207280" cy="4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949320"/>
            <a:ext cx="89280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249120"/>
            <a:ext cx="1388880" cy="262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6966-9904-4FA5-814F-0A2CF787E2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2"/>
          <p:cNvSpPr/>
          <p:nvPr/>
        </p:nvSpPr>
        <p:spPr>
          <a:xfrm>
            <a:off x="1648080" y="2997360"/>
            <a:ext cx="222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Arial"/>
              </a:rPr>
              <a:t>节日</a:t>
            </a: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ff0000"/>
                </a:solidFill>
                <a:latin typeface="Arial"/>
              </a:rPr>
              <a:t>模板：</a:t>
            </a: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www.1ppt.com/jieri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8720" y="2421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06:22:59Z</dcterms:created>
  <dc:creator>pc</dc:creator>
  <dc:description>www.eeppt.com;</dc:description>
  <cp:keywords>www.eeppt.com</cp:keywords>
  <dc:language>en-US</dc:language>
  <cp:lastModifiedBy>jccook</cp:lastModifiedBy>
  <dcterms:modified xsi:type="dcterms:W3CDTF">2015-09-18T13:25:37Z</dcterms:modified>
  <cp:revision>6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