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51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</p:sldMasterIdLst>
  <p:sldIdLst>
    <p:sldId id="256" r:id="rId53"/>
    <p:sldId id="257" r:id="rId54"/>
    <p:sldId id="258" r:id="rId55"/>
    <p:sldId id="25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" Target="slides/slide1.xml"/><Relationship Id="rId54" Type="http://schemas.openxmlformats.org/officeDocument/2006/relationships/slide" Target="slides/slide2.xml"/><Relationship Id="rId55" Type="http://schemas.openxmlformats.org/officeDocument/2006/relationships/slide" Target="slides/slide3.xml"/><Relationship Id="rId56" Type="http://schemas.openxmlformats.org/officeDocument/2006/relationships/slide" Target="slides/slide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251B5-D79B-4D1C-A2FB-D9A88BAA5B8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77C9-FE1A-41EC-9A76-CD48807EDA2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F635-998E-4111-B573-A5190DFC06F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2373-A598-4ED0-AB84-4727A7775ED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F312-A790-40F1-B4DD-6CD3BFD1229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E108-F6C4-4C80-B9AD-2560FD741D3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6338-7AA8-4DFB-8351-F8FFBD27F1A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F6B5-AD70-4490-B6DA-D08418ACED4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24C5-4EC6-4B0C-8EC8-960518C174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7FAC-FF1A-4DD0-A41E-E69852330DF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4304-9E48-404B-BB5E-7177E86FB02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588C-1C99-48E4-9447-C14972F4A0D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87507-E5E7-451B-9ADE-61F80B30A6E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78C25-92D2-422B-B502-25D7F34A907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4120F-7276-4831-90EB-08D4DF69091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95E0A-E4CA-4279-B1AC-A6C7BE72EDD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D3643-72EE-49E2-9F69-8D9E3042BB4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49112-E967-4E9A-A248-351E90B17C5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564CB-D886-4271-AAE2-40BF20AAEB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95A81-DBF5-4A3C-82C1-0BF9DA336F7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591C9-00F9-4610-8774-5ADB12D6D42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7259B-5139-4923-AA3B-3E20B63433E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7435E-D447-40BB-9D66-5E31B7CFC0B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FF76-5843-4DC7-B4D2-79B07EF0A89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9D2-AD89-4CD4-AA0F-8822E420770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AC08-10EE-4E8D-B353-3D375DC1326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DD06-7EED-4D2B-A68E-E59F90F9AB0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485-D99B-4B26-AE95-DA846AE98B4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5026-DE5D-4404-B57C-867DB59BF6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EB3E-97C1-401F-9A26-3F936667A60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062-950F-4059-8559-DA28B7191EA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C3F-DBBB-408A-AC3D-89AC8864308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FFA6-F606-49C6-BF32-12CA8132C76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1E4A-092A-42DF-BA88-6DD3CB0C573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63C0-D6DD-4841-8587-68163B6204B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6860-1EB4-4E7E-8E11-35A5A675B87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11C74-1779-4B66-8CED-D86A0EE74C6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B63E3-C3B5-475A-8892-11B50DD5CA0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444A7-84D1-4C4B-A2C9-4C1784ED99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1D954-A7D0-40FF-A30D-3B4E41DB6B1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2C4A5-E9A1-47C5-9C02-3305F089B31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8FA09-A894-45A4-B988-2F0A4FD9908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047E4-446A-483F-9678-9C09C0068EF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2FED2-8B16-42BE-B0A8-EBAEB390939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02B28-428F-4953-A2CC-25E0CA898B0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C8A70-2849-48B9-82A4-A5C447944C1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1D715-3906-4177-8604-059CDAA1516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EAD5C-1B44-4A7B-96DC-E6C58AF05CB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0F057-8148-4A9A-836A-02E1E3BF54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DA8D0-0EAB-445C-B32E-EE7864F29E3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1484D-B3F3-43CE-9C7C-DBA89246873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0D679-98CD-4D84-9679-3BFEAA1FADA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4EBE5-CAFE-4B64-AF2D-076F4863C5D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5C76A-DFE1-4FE8-86CA-9C3DCFC9B69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7334B-BB1D-483F-843D-CD571AF0757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73818-D101-4AA4-9177-8FDE5D85A30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C699C-E10F-435A-B8A8-61E738523BE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4C147-B310-441A-BAF8-A0B2FFD5156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9FDB1-0A2E-4AEF-9E92-DCF38FD674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1162C-0BBA-479C-9D8C-800213667DF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7B53-E217-4364-93BC-FAC51F0E2AF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8C0D-3E71-4759-9CAF-8DDCA8EA9A1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EAD0-76EE-4A55-8B0E-AA79F2FC57C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603C-823D-4716-BA79-CDF2CDB5B7B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A23F-FDAE-4678-B284-A75F94088E3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6C1F-45C9-4E38-A218-1832EE23B51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A8F5-2B26-4D89-874F-7D2F9E14F74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56C3-AF4F-4BA9-A210-A4D3A9137ED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8BB3-B6E1-461A-B124-3D8E5375E9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CB80-8E55-4C34-A4DE-5EAFA016563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50DB-00AB-4EAC-B191-B053D290161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790E-9489-4127-9248-2BB553A3233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14D0FB-E53E-4F62-BD0D-5C8041C7114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72F20B-4CD0-47C3-BB71-145433A322D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C3990B-B115-4233-B8F7-5D9BEE32C36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24ACE9-C959-41A4-875E-E992F55BCE7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5E9A04-A7CE-4971-99EA-4CCB350E54C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4A05E9-E3E5-44EB-B8F5-481B57CA969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845FB1-E1DB-4305-84AF-C63141EB5E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74D21E-5950-4176-AAA8-A633EBEEDEA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EF882B-31BE-42C2-A84A-831CB82E1AD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CB24F8-CEC9-4FAE-90D7-FE28B9587D2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B9DED0-8E3A-494D-9D42-607B884D42B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34A591-9FF8-48E7-8C23-23B880D1459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EA1EC2-BF41-4E33-B673-00E4C065041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5139E-0A6D-4B39-B656-3EAF6599966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C2FA1-BCA0-4C08-8074-D81F5838012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0E507-B965-42D7-8A54-81293002A80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732B1-49F1-4A54-850D-376164A16B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350DE-CC05-4ECA-A6F1-F6DC2923B6A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DCAE2-7A1D-4FF7-A007-FA0C873CC00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BAF1E-3A88-4F36-8837-7C97E22D0EE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5E4333-E7DC-420B-AC97-87527461BC9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C447F-7827-49CE-9B40-0CC961B8C22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27E90F-29DB-4238-ADCA-A7E3B7D3341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D1A6E-49C1-46F7-94EA-3F22E70DA9B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9E489-69D6-4F6C-95C1-4EE3C247C89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D4362-A92F-4C8A-9997-16A7B7CC25E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2057A-6C3B-48C4-B40C-A4B00E3764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AFC04-FBDD-4A50-A462-EEDC1568CEE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14D4F-D76D-454A-A465-85045FFC376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534E2-BC28-465B-9083-E5F860CA5FD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AC9F1-6C17-49DC-9DC6-83C3CAD2FA0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E346F-D428-4A4A-A5AA-77166B1D5D1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48B82-A2DF-432E-A72A-01B0A944737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ACD0C-ACAA-4C92-ADA1-77FBE3F7AB5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FEB79-E8E0-4AC9-A274-E9666DA7BD4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A8E92-F291-4FF6-820D-AAD457A4894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034A85-AA83-40E1-91BB-A73B2A3623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99A507-4673-4FF6-A97A-5ACA2E81514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87730A-8D96-4BA1-BD88-B4D3FF61C7A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093BF5-58C1-441B-8431-22B3266A705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FB66DC-65AB-4DCB-82FC-7304B979DD5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C3E2B5-AC59-4171-9EFA-A8195D2EB6E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0D936-D308-43E5-B620-5C612356B35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39AA10-D358-4C86-9E97-8B6E8396D19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81BD73-16FB-4371-9003-7D622E809EE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B71152-B73A-4C55-90C6-A389BE2608E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17C42E-49E0-4CD3-BAD1-EFBF640AA0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8E2523-E3CA-48F6-9EF1-C5B90784511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BFE923-C224-46AF-9989-5EA1327CEB5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5C1685-600B-4D74-8009-05BFCBC9590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99F65A-1C53-4AE5-8F93-3299C59BB00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1A2472-B27D-441F-92A1-A5CCCE36902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A25D3-8FF5-4A09-89B2-DF419B362F7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7190D7-DA7A-4DAF-96E8-740BBA87E5A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E7657C-229E-4578-AE9A-8C0047606A7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8AA863-2520-4715-9FE7-F1B5BC29BA8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53A1A0-9EDE-4F90-A719-CBA5DF246A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29BD40-62D0-4921-B2D4-EF4F6F46198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42336A-2D25-40BC-A6AB-CC61F906614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D7216D-38F0-4A51-BC71-698CDBC3F1FA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D984F-15CB-4431-8A3C-4C17AD7BDDE1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E7AD8-ED4A-4C61-80EE-1DE6D627EBC4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C2C33-0BF6-4975-A8F5-43F44B80EBBB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5FB00-7CCF-49A9-B338-49285A659943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D745A-3BC4-4988-97E1-AEAC789C3104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FEB15-AFB9-4DDA-B816-FCD708BDCDA7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88752-C9AC-44FF-BA71-347E1BA1A0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E0B4C-9758-41DA-AE22-04A50CA53EF7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A1E1E-1DDE-4D20-AECD-393A2C2EC7C1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8D1D7-287D-4495-B3F3-EF29A1E2FC06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70E46-E865-4CAA-9505-B8051B0158C8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EF4EC-9A0D-41B1-B1A4-EF4B28D48B3D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A52B6A-95E9-4D1A-A7F2-3EEDDDB9E47B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7F56E7-5616-4FBC-ACD1-B283FB2DC79B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16F83C-4256-45BD-B007-B9B0335DC48A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79F03B-626D-443A-B9B3-FBEFFFB75E6D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1F6BBC-A983-4244-9874-ACE0C4FB53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1E18A0-8E5B-46D2-94B8-CF0DEA6A0126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7E0F98-1984-4512-802D-D4846E1802E9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B708F5-48CA-449F-9433-E031007CBD57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A865B6-0D20-4049-AC59-12035502E0A0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441A8C-61E4-4C30-BB4A-E386E13307B4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158771-3E93-4358-B0F6-D423CF451A9B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E5EFBF-8A40-4E4C-9F01-F964355CC81C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322293-EE6C-4711-92B2-BFE21E96B5BC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37B624-F3BB-4065-B18C-426BE08D77A5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332C0A-04A0-4498-8B21-4AE362D421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16992-3D63-4188-B37B-A485D67A5F10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B95AB0-5664-4527-889F-62BC95169D30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8276C-2CA9-41EF-BB0C-9600DE4F26AB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47C839-7712-4D38-A631-17B2295FF698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98C147-D917-4115-B5EB-47EFFC791935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917259-E3D7-48DD-AC1F-02D335C1BC7D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A4CFEC-4F1C-41A1-ADB0-3893B85CFC2C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C5765F-2912-4001-8E81-0439B4B82A6A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F47382-0567-48E1-960A-AF513073EAB0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2FE4C-3832-425B-9AB4-62C3495143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F1C04-C67A-4DE9-9038-B3BC7F4B5D51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5B306-C2F8-452A-90DE-A0D3E763AE20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5844A-44EA-48DE-8DE7-9F0192484E7C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DF67A-C483-4EBB-A109-D3AEE1F913F8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C8ABE-62DF-458C-95DF-BEA45D0955AA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381CF-3887-4E51-B96B-68F893F61453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0BD1A-7C8A-43E5-8B63-9AB7E9FD9A53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63ECB-E1F6-41F5-B45E-47427F18D09B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99BF3-716F-41DF-84FF-8E09C0530968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C8243-89B4-4EF7-AFF3-7A43BDA040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3FF46-578B-4A77-9696-B15F5125FBBD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2155EC-8DA8-4B24-BD30-6CCE5E0D0F2B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07F0B0-B7C0-4018-BF73-BEC853BB94A4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2A1BCA-12AF-430C-B838-C640AF964A8F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4B63E3-F84F-424D-BF45-7D639E9B7399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EC3971-86E5-4A55-AC64-815F5E759D6C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BB8E06-4BA3-4750-8813-2B41BB3F0A25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6AE9BF-66DF-419B-A1F9-B77405459AB9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E61595-7C82-4C55-88E4-D82869FFE160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15E60B-F162-49EB-B0B0-C1C98029A1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10CC82-548E-4AFF-A718-1F790D525F8D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1E66C0-926C-4D1B-B8C7-F631641A7329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EB59AA-0BB0-4CD8-A2F2-BEE3CACA15DC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C10F71-93E7-4A14-ACB0-ED0C90DD9646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E061A2-0F6D-453C-A82D-37CBC3C67097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34F827-9EAF-433D-B2CD-C8A5EB0A5A35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2EF5F4-C97B-40C4-8BEA-1C5D9287A083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C182D5-A3DD-4ADE-9A92-52F4BF9CE960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195DC6-E9D6-44B0-8742-E568161BF3DA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5BF122-428D-413E-8FD3-0CC778963C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F6D285-28AB-4850-9A56-3D01DF315265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9152F4-BB11-418A-88C9-4480133EAF88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86CFE3-6E98-4AAF-8CF3-F3A4E33DB81D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69B5FA-9F18-408F-9E66-A40BE4C3FEC0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DEB1E2-88A4-4144-80CF-92B58667DA7A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DA85E-83AA-4701-8300-D0533E165F78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9CC3B-EBF0-4361-B69B-E45F76666594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D9F8B-6791-4FE3-94D3-543D8E75C984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37BAF-F76A-48FA-A46D-E6DCECD53BA7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4103F-08D9-4941-B8E6-FD48B70C98F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744E9-A138-4E72-A9CE-779A266C7BE9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2AE1A-7C72-4B38-9105-CDCA1C614C66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46BFF-71F1-416C-AB0E-901C5874445F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E7154-58E8-40D6-9D64-5D0857944474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A506B-2055-434D-BA85-0FDD81CB0599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AFFB5-EDEE-4220-9CB6-AE09891F1527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E181E-D2D0-40BB-8152-9D8C6CF8863E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A9CA64-065A-4ED6-9B8C-F464CE739866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E1F1B9-C402-4906-91F4-8BCC78D80BCA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EA42AD-E86B-4362-85E2-3F8DFF9D3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4D09E1-2417-400C-A6B9-3E89A25D8B72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E95DF4-F80F-418A-B2DC-4B5D1324023A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63C7A3-E4A8-4925-851B-F36FF8AC9DE1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45BE57-0F38-4C0E-8D93-07798E83235C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5E748A-D01B-48A2-A1FE-ADDF75916598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8BFBFB-7335-4F92-8F80-821DFE37F602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B056A0-3C11-4AF6-B94B-B3991CC50228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042169-AF5C-4B33-817B-5AD77DA948D2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8C7F88-C0D9-4AD3-88B0-61A835E0C414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864B1A-6409-4332-A70C-6E459A59AA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9416F4-25C6-49EC-8DD0-A9833F09847B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EBB0BF-2511-4BE0-AD7A-937B6A192759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EF2937-5DC5-4BC9-824B-6D192BE35EFD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7C67BE-9AAF-4A86-A11F-3C8332F66ADF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A990C1-0683-4E4C-8D2B-611794308226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52AD42-A93A-488E-9F5E-592F66ADBF8F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4BDFA8-3A49-4572-B747-08AD17B04282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C4C559-C02C-4D89-ADE4-2DAFBF87D10C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F20103-E889-4456-9166-387399C8D05D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1E0242-CEA4-42B3-8C95-4C23911A4AC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49466F-C98F-473C-805B-305083C1DC8C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F6A02-03B9-4275-BEBF-235C64D73AFE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9CABA-C59D-43A1-B9C0-1DC4B44CA070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A5798-BD55-4B6D-914D-19D6751B6F8A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8CCA3-9918-455C-8D42-B4A65350FDBF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95430-B374-40E3-8BF4-D42A11BD7632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897AE-7BAE-40A8-B5D6-8844CDA17E4D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EEDAB-410F-4B47-8074-18A183458C17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D2B22-1AD5-47A3-A289-ECAFA051FF4F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96A0A-E14A-4CF1-B547-6BB3863C2D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F4F04-918A-4A7F-A1F2-47430048124B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A4487-27F0-44AA-A159-116A97996D2D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F81A7-4200-4795-80F9-9D38E267EF94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CF8C96-AB4E-46D1-8DE3-0D02240EA885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725A00-3169-47CB-AC86-6FB3F7B4E3FD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690099-AC3A-485D-9A79-DC46C7CBA6D2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8289EE-F204-4B48-B108-26970020B478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E297D0-601E-4CEB-9DEB-8ED0994B90D3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255745-A94D-4B5B-85D1-6412501A7313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95F586-D549-478B-A92A-4A439237D0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875CB6-5049-46EF-90EB-8F2A45DB36E2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18C971-CE47-4E27-956D-20C9698E0539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8C3160-2959-4ABD-ADBE-68D961BAC346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DCB3D3-08AF-42B5-A688-CD1E55226528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B3C6A8-2AB4-48BD-BF29-4430D282978A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E0FD2D-966A-449B-9225-BEE77DB5735B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502FEB-90DE-4BC7-856A-20581C6516F6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7C7BB8-F80B-43F0-9F23-4EB5D7D63E1A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0CCD97-935A-481D-94D9-44C557793364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6E3CC9-0B8F-4759-9BFB-D5B7668AD9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1056C2-9B16-4B85-8DA6-253AF3519210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0EF5EF-EBE3-48FC-BF7C-E1AB904CE849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608AC2-C92A-4606-A053-C562FCD17145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BCD764-6E46-4956-A848-AA95A2133093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636581-E44C-44F3-8575-284CE0D59DD6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DAEFA0-B74F-49B1-ACA8-CAC5BB0999A7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608A31-AC67-4E03-857F-5901520903B4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0F5DF-C4F0-433F-B78F-6CCD4BD1683E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A2FED-0BDC-464A-A2C2-F0B2476DDED9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5AC2F-5E03-45E6-8F5F-E93A708F23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72DAD-A0B8-4657-BC2A-C2A787C1BB97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B3763-B944-476B-92C4-668C000A3D97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52D8B-22AE-47D1-BCF4-B8638C006268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3040B-F026-49F8-AEFD-6FF7B7D123F5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AB813-DC1B-422A-9991-8DE06F403741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F27C3-FE3D-401E-9DD7-107C9D56EA2F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2E503-8371-449F-9366-ED803C2740D7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7CAD2-17C6-4F57-BB87-A61F60068376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EE290-51CA-4D54-BE48-CB59E630A183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C03EF-D6DC-4487-825A-2E8C355965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54840-748C-4E1D-AD15-228C618D7F21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CAF25-23A8-49CE-AEBB-33CDF23B5CFE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066904-0D08-44AA-869C-778E0EBAA00B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AA69A-3771-4584-B003-871453568B12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DA8906-3E0E-4012-B633-AD484AC76639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9557D0-D974-4A21-B6C3-D50BE3E34C6A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D8660-0573-4F51-8A46-CBA32E7DCDA0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A93AD-FC93-44FD-8680-7337A4542B9E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D35541-663E-4DBB-B6B7-DF36E87E1660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21974-39B4-42CB-B9A0-95E7DB06A0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5DB78-3BF6-4CAD-A79B-1E8070EF2218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B1D50A-F4F0-4565-8B51-2F421C79B7BC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22054A-46EA-45BB-B033-A9BE0EB27EFC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32EA80-2E39-45D9-9B5B-D8A41DA7694E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918E6E-B2A2-4F19-A9A6-0814EF43F8E1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8A5D35-B741-4AE9-BD1B-1A1AA4648931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FF99A7-370E-43EF-9DEA-268E8181CE2B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EC1DEC-C2D9-4FA6-9832-48BFFFF5DF8A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A89DA1-4FA6-4F06-B39D-B9CBC1F0D66C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8D543A-FFED-47A7-9E1C-E137553E76D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848CC2-ED56-4FB9-8D71-24454D207F5E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A049E3-6335-45D0-B00E-5DEA2F300751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28D136-7147-4B35-83F6-1087890F921B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1B7E9-E9BD-4E3C-A598-EFECFE94F325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4AD4F-CFE0-4DA9-ABB5-943ADC7B8B8B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4BFC7-ABFC-4B37-8D05-72698978F10B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ED2C4-B325-473A-A5F0-E8D02008C1C3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97FF9-4BBA-4DEB-92F1-7F5C5B8BCBF4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09FDE-3870-40B4-BAB7-05726EA09D10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C7DA3-830A-4E35-9BBB-C429B7214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85478-4068-4520-A053-6172F0B16792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605D7-B1FC-4383-82B6-BA8CBE3D1392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22913-166F-4DFC-A75F-692254BCFD47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D4F31-39F8-41DC-907D-F51F311CF641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B87FA-81A8-4327-8914-B68B931BAD48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D89B20-3199-4202-8D24-456A0F30FDEA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2F89C-8D46-456F-BC41-7A46E9FDA685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78925-45B2-4805-93FC-DCE2488CF628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B969B-EA85-4055-B0CF-0D1263063992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E58E2-A82E-4B10-88F6-CECA970D2F0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4E8AE5-E351-4DCA-B7C0-1A2B131EF604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1A351C-43C8-461A-8D80-B642E613FE21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E39C08-6628-4EBA-AC79-C1D2E45B7FFB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5DEF83-726C-4142-89FC-64F5687E4346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3B21DD-8C64-44E2-8202-3F9436786B2B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A4EAE3-8C4C-445A-A465-24B11859BF66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6D3A2B-B30E-4EE7-B166-A816E7743707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022051-B9FB-4458-88C6-C17CA345887C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937942-0003-4BC7-8EC5-B869BD618471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61C1D1-927B-454F-8BE4-8C7DEBC1533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CAABD6-0B9A-4B64-A2C7-2D7CE89D851E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8ABC54-2F9E-484D-9236-488502EB62A5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0E8E67-8E44-47E5-AA08-D804AC2204E1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B8D021-1B53-47B6-AE8D-C861590DC2F5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27C127-624A-4F6B-86E9-D2B9FBABCEB1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17CCA1-4688-46BF-9288-63B5A1A12734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2B9FE7-CB12-4586-AA0E-E12D3B1AB719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C5626C-B162-4724-96E8-AA431A5E9B28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DFCE43-77B0-4E04-9B09-EEA7FDC36277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5ECE1-7A93-4014-9414-0379B1EE80F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D2B9D-E4FC-4C00-AB00-0E5EBFC2F3E5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CBFAD-C8D9-4E67-BCE6-8798DF801ECF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42516-F17F-4E6A-9E56-83124B4DF8DB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471FA-82C3-4EAB-86C6-F18BEEBCAA4B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D28F7-FCC0-494C-BED8-724E59FFDFA1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1065C-4B46-4BE8-AB77-FF3CCE6FAB68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37320-7F8B-41E0-8372-DCCC77074AD8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DBBE1-EB26-4FD5-9F87-04E1307E04EA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A82DE-371C-450B-8A2A-B6E9F8F68F1B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51B2C-1242-45D3-B91E-CE891913475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BD8F4-05BB-4D12-85C6-FAC386E72DA9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5E55BF-0497-4FBD-B582-23D43829102F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F0F24F-7EBE-4319-A7F6-B869896F4D2D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660579-58E5-46D4-9986-95939E5FE9FF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565E45-3A2D-48B8-95D5-D76E8122AB31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E6F64E-FCD7-461F-98D4-AB5A80C37129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C815D4-8706-4BB2-97CD-55A8A2D2E0B4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B2853A-EA9D-400D-B3BA-174F0A82E83B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AAE066-BC33-4097-B625-EF3F69184CAB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8FF6CE-9831-4275-BBB1-9F638BC0E2A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FBBAD5-3380-4BC7-BC84-3C5E4AB93A69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66AD41-2F62-4E5B-918C-76074DF9A2F9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446C68-A85B-49C2-B835-F28F98340954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B9E569-FC1C-4AD5-8BC2-26A8915325CA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4630B1-08D1-4C8A-B034-82FE61E08368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1677F8-5BDA-49CA-9CFA-6600E1A93A15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4C0803-C176-41FB-B531-1E2E82144B8F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3E40C9-DFB2-4387-A53C-7E9D728D9178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635878-D820-4405-BD30-C087BD0552CA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764CD4-E806-4DEF-B134-03AA54C787B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1CDC20-B7D7-42EA-8F4C-9C9CFE7BBA54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5CF2E5-23C2-4A5C-9665-E9627F87BBF9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B4C32A-C025-4BCE-94EB-946269207F55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0E3A55-A97F-4779-9EF7-7391F6322291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A1EC88-940D-4F8A-8C2E-0136C7533D08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D2E51-8B2C-4116-8330-AFB19668B3AA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FDF48-60F5-4213-9B97-A72B843E81BC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7E5D5-509F-472B-8ADC-0417DFE5835A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38C0A-1846-48EB-B196-60F132CC6BBD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992AA-3F85-4A55-A656-AB5D5FF7667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FF055-FD34-49DF-993C-281940145089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08E1E-D364-4B26-AAA3-572251EB309E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E5E6A-830A-420C-A479-79FFE6831C8B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F34D9-8702-43AD-ABE2-FA5A41C3EC38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C33F0-0395-41A9-BEA1-9EA8E303A0AD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01727-695C-4E9B-8C48-1566B754C973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AB632-A0E8-4D40-B0D1-24F3E3B1E238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327E64-0AB5-4CA7-A967-C1A0DBDAB353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A12553-6D9E-4EA6-BFFC-7931EA8CBCD6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EDB3C2-9F46-4116-8F69-DD31392FD00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4A6D28-401A-4660-BFE5-D01B6AC41C65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0C496A-BDBE-42AC-87AC-BE46FE1F17DB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3F3AE8-9E4D-4861-826A-A7FF279F5D88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590523-9E1D-4034-B49E-3E40DA0FEAEF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851431-A334-4836-BE1D-4EF42A8B3CDC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B653E5-A2C2-4C21-80FC-EC9AEA6600C1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22C3B3-6542-4970-BB1F-A3F7320271D9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E6E6FA-0ADA-4E4B-8E38-919F8B151A43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02B4C2-3D4E-4CF8-9931-BD549BEF8BF7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E01726-BD56-41D1-A84C-3841BE53750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C0EA4D-10E9-40CD-93A8-EA1659E5D929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C080EC-48D2-4AB8-9FBE-86B9333BA3C8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7A5498-9263-4954-87B0-96B2DA8CB5B5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21A458-3033-4AA0-8F2A-45B70344DAA4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D20BB7-BC34-467C-8360-EA813F018CAD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9A20AB-7104-48A3-B143-0C1677B755B3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A89318-103D-4801-87C6-C9A9812F24D0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549E63-CDB9-460F-BDE5-DA78DB810A7B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C98E8F-F074-413B-AB24-64C104D1C506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AF46D7-15CF-43F4-9F7F-F58624B5E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923738-A3D8-4F18-B83E-7E71336228D8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41F18-2449-4A18-8256-16B9B436B3AC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91D76-8E0F-499A-8283-204759240F8F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AAA85-393D-4BB9-8B8A-8D50C2C976BB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3EC98-F2EC-41F7-B881-0DCE53E18A8A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252F2-16A5-4F53-BA1A-C1D7156A4FE0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E07BE-261D-4685-98E2-A807BB557F91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648C7-EDA7-462C-ADF2-D847409F8345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B2FF4-7593-438F-B923-C687AA27DAB8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DF5B6-EC68-4446-B414-943B552EEDC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6CBBA-349D-4888-B3AD-0FB17033E97B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5073F-D585-4F24-9924-BEE6100979D1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3B8AE-A073-4E13-9027-CBEE4CCC008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581400" indent="-372960">
              <a:spcBef>
                <a:spcPts val="1687"/>
              </a:spcBef>
              <a:buClr>
                <a:srgbClr val="000000"/>
              </a:buClr>
              <a:buSzPct val="171000"/>
              <a:buFont typeface="Gill Sans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70840" indent="-372240">
              <a:spcBef>
                <a:spcPts val="1687"/>
              </a:spcBef>
              <a:buClr>
                <a:srgbClr val="000000"/>
              </a:buClr>
              <a:buSzPct val="171000"/>
              <a:buFont typeface="Gill Sans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163160" indent="-373320">
              <a:spcBef>
                <a:spcPts val="1687"/>
              </a:spcBef>
              <a:buClr>
                <a:srgbClr val="000000"/>
              </a:buClr>
              <a:buSzPct val="171000"/>
              <a:buFont typeface="Gill Sans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452600" indent="-371880">
              <a:spcBef>
                <a:spcPts val="1687"/>
              </a:spcBef>
              <a:buClr>
                <a:srgbClr val="000000"/>
              </a:buClr>
              <a:buSzPct val="171000"/>
              <a:buFont typeface="Gill Sans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743480" indent="-373320">
              <a:spcBef>
                <a:spcPts val="1687"/>
              </a:spcBef>
              <a:buClr>
                <a:srgbClr val="000000"/>
              </a:buClr>
              <a:buSzPct val="171000"/>
              <a:buFont typeface="Gill Sans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743480" indent="-373320">
              <a:spcBef>
                <a:spcPts val="75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743480" indent="-373320">
              <a:spcBef>
                <a:spcPts val="75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80808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c0c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80808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80808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80808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50560" y="6330960"/>
            <a:ext cx="8643960" cy="4190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otham Light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Gotham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Num" idx="1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D8D0-0951-4806-B099-3E42017C0090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sldNum" idx="2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B617-D200-4D37-BD15-7CF2ACBB8AD1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sldNum" idx="3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A5F5-BE49-44E3-B919-D9499C3F6BC6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4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B099-154C-4E7F-B9D3-FE3ECF9A837E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2"/>
          <p:cNvSpPr/>
          <p:nvPr/>
        </p:nvSpPr>
        <p:spPr>
          <a:xfrm>
            <a:off x="207360" y="6572520"/>
            <a:ext cx="854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Gotham Book"/>
              </a:rPr>
              <a:t>HTC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80808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sldNum" idx="5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13CD-0EFF-437C-BF05-9C6A6552464C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sldNum" idx="6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3362-0A81-4033-A620-11568667B8F7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sldNum" idx="7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6676-4D8C-44AC-A4F0-70B2030CB4CD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sldNum" idx="8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19B6-614E-4639-B93D-8D8A803BD9A9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sldNum" idx="9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BD1F-887D-4EDD-AF40-62290132227D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sldNum" idx="10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29B2-C244-43D5-A3B7-C346A6A65CCB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sldNum" idx="11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1E0E-8CEE-41B3-B5AE-FCB23AC9EBD7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sldNum" idx="12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F4FA-027B-4252-BF22-2EE73594CA87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sldNum" idx="13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7FAE-5617-4DCB-9C2F-2E9B97653CDB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sldNum" idx="14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12D6-440B-4E72-AD9B-A57B0CE9B561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207360" y="6572520"/>
            <a:ext cx="854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Gotham Book"/>
              </a:rPr>
              <a:t>HTC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 type="sldNum" idx="15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2E41-DBC5-4D46-B325-6BF9F4B3E68C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 type="sldNum" idx="16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C723-D100-4397-8C64-FBD66BF3EA82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 type="sldNum" idx="17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28C9-D035-46FF-8888-9CD17B8CEBDE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sldNum" idx="18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DFEF-4D4D-43FF-9D94-C7AFFE0FCC07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19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68D0-0944-4FA0-B518-ADE7DA031C11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sldNum" idx="20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04DE-4E87-4B5D-9D9A-A67987C9690F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sldNum" idx="21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E3E9-0668-455D-82E2-56F5295463BA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sldNum" idx="22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C172-D8D0-4E22-9CD6-6488BFF84E21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 type="sldNum" idx="23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2857-2814-4FCE-86C2-2F67FC1B38A9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 type="sldNum" idx="24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811B-8A0E-4734-BBA7-E47B29D5D6CA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207360" y="6572520"/>
            <a:ext cx="854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Gotham Book"/>
              </a:rPr>
              <a:t>HTC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80808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 type="sldNum" idx="25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F29F-4620-4C9C-952B-99102A097787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 type="sldNum" idx="26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51E1-B4C7-43EF-831F-6F8B68CFAF3E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sldNum" idx="27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BB45-A7E6-417D-9D09-F5582C8AB725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 type="sldNum" idx="28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A7A0-350C-43EF-AE73-E9D37D060516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 type="sldNum" idx="29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7131-CABE-4B33-B5FE-E933112B89C7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 type="sldNum" idx="30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02F0-B972-415C-8A26-FA68497433E9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 type="sldNum" idx="31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CE9D-F0D2-4B54-956B-C01B6C34710E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 type="sldNum" idx="32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6989-B822-4683-B978-FDDBD60FCC00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 type="sldNum" idx="33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5883-768D-47A5-8D5F-EFCD8C77BEDA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 type="sldNum" idx="34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D430-6645-48A4-A0B8-95A87D22066C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a4a4"/>
            </a:gs>
            <a:gs pos="100000">
              <a:srgbClr val="4a4a4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6330960"/>
            <a:ext cx="8643960" cy="4190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otham Light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Gotham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 type="sldNum" idx="35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8E23-485F-4F0C-B784-0D4C2A044E57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 type="sldNum" idx="36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414141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7143-02E9-4CC1-AD9A-53530CDD9C10}" type="slidenum">
              <a:rPr b="1" lang="zh-CN" sz="1300" spc="-1" strike="noStrike">
                <a:solidFill>
                  <a:srgbClr val="414141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6330960"/>
            <a:ext cx="8643960" cy="4190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otham Light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Gotham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80808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560" y="6330960"/>
            <a:ext cx="8643960" cy="4190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otham Light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Gotham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"/>
          <p:cNvSpPr/>
          <p:nvPr/>
        </p:nvSpPr>
        <p:spPr>
          <a:xfrm>
            <a:off x="-106200" y="0"/>
            <a:ext cx="9286560" cy="6858000"/>
          </a:xfrm>
          <a:prstGeom prst="rect">
            <a:avLst/>
          </a:prstGeom>
          <a:solidFill>
            <a:srgbClr val="0c0c0c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9.png"/><Relationship Id="rId6" Type="http://schemas.openxmlformats.org/officeDocument/2006/relationships/image" Target="../media/image16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6" name="Picture 7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" descr=""/>
          <p:cNvPicPr/>
          <p:nvPr/>
        </p:nvPicPr>
        <p:blipFill>
          <a:blip r:embed="rId2"/>
          <a:stretch/>
        </p:blipFill>
        <p:spPr>
          <a:xfrm>
            <a:off x="4680" y="-17640"/>
            <a:ext cx="9139320" cy="5150160"/>
          </a:xfrm>
          <a:prstGeom prst="rect">
            <a:avLst/>
          </a:prstGeom>
          <a:ln w="0">
            <a:noFill/>
          </a:ln>
        </p:spPr>
      </p:pic>
      <p:pic>
        <p:nvPicPr>
          <p:cNvPr id="1978" name="Picture 3" descr=""/>
          <p:cNvPicPr/>
          <p:nvPr/>
        </p:nvPicPr>
        <p:blipFill>
          <a:blip r:embed="rId3"/>
          <a:srcRect l="6770" t="0" r="2801" b="0"/>
          <a:stretch/>
        </p:blipFill>
        <p:spPr>
          <a:xfrm>
            <a:off x="0" y="2924280"/>
            <a:ext cx="9144000" cy="3238560"/>
          </a:xfrm>
          <a:prstGeom prst="rect">
            <a:avLst/>
          </a:prstGeom>
          <a:ln w="0">
            <a:noFill/>
          </a:ln>
        </p:spPr>
      </p:pic>
      <p:pic>
        <p:nvPicPr>
          <p:cNvPr id="1979" name="Picture 2" descr=""/>
          <p:cNvPicPr/>
          <p:nvPr/>
        </p:nvPicPr>
        <p:blipFill>
          <a:blip r:embed="rId4"/>
          <a:stretch/>
        </p:blipFill>
        <p:spPr>
          <a:xfrm>
            <a:off x="5359320" y="189000"/>
            <a:ext cx="482760" cy="655560"/>
          </a:xfrm>
          <a:prstGeom prst="rect">
            <a:avLst/>
          </a:prstGeom>
          <a:ln w="0">
            <a:noFill/>
          </a:ln>
        </p:spPr>
      </p:pic>
      <p:pic>
        <p:nvPicPr>
          <p:cNvPr id="1980" name="Picture 3" descr=""/>
          <p:cNvPicPr/>
          <p:nvPr/>
        </p:nvPicPr>
        <p:blipFill>
          <a:blip r:embed="rId5"/>
          <a:stretch/>
        </p:blipFill>
        <p:spPr>
          <a:xfrm>
            <a:off x="3998880" y="844560"/>
            <a:ext cx="1000080" cy="1400040"/>
          </a:xfrm>
          <a:prstGeom prst="rect">
            <a:avLst/>
          </a:prstGeom>
          <a:ln w="0">
            <a:noFill/>
          </a:ln>
        </p:spPr>
      </p:pic>
      <p:sp>
        <p:nvSpPr>
          <p:cNvPr id="1981" name="矩形 220"/>
          <p:cNvSpPr/>
          <p:nvPr/>
        </p:nvSpPr>
        <p:spPr>
          <a:xfrm>
            <a:off x="2916360" y="7174080"/>
            <a:ext cx="3887640" cy="537840"/>
          </a:xfrm>
          <a:prstGeom prst="rect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新浪微博</a:t>
            </a:r>
            <a:r>
              <a:rPr b="0" lang="en-US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@</a:t>
            </a:r>
            <a:r>
              <a:rPr b="1" i="1" lang="zh-CN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红策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2" name="Picture 4" descr=""/>
          <p:cNvPicPr/>
          <p:nvPr/>
        </p:nvPicPr>
        <p:blipFill>
          <a:blip r:embed="rId6"/>
          <a:stretch/>
        </p:blipFill>
        <p:spPr>
          <a:xfrm>
            <a:off x="2046240" y="2374920"/>
            <a:ext cx="4121280" cy="1096920"/>
          </a:xfrm>
          <a:prstGeom prst="rect">
            <a:avLst/>
          </a:prstGeom>
          <a:ln w="0">
            <a:noFill/>
          </a:ln>
        </p:spPr>
      </p:pic>
      <p:pic>
        <p:nvPicPr>
          <p:cNvPr id="1983" name="Picture 5" descr=""/>
          <p:cNvPicPr/>
          <p:nvPr/>
        </p:nvPicPr>
        <p:blipFill>
          <a:blip r:embed="rId7"/>
          <a:stretch/>
        </p:blipFill>
        <p:spPr>
          <a:xfrm>
            <a:off x="446040" y="1827360"/>
            <a:ext cx="4125960" cy="1096920"/>
          </a:xfrm>
          <a:prstGeom prst="rect">
            <a:avLst/>
          </a:prstGeom>
          <a:ln w="0">
            <a:noFill/>
          </a:ln>
        </p:spPr>
      </p:pic>
      <p:sp>
        <p:nvSpPr>
          <p:cNvPr id="198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2289240" y="952560"/>
            <a:ext cx="671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航海比赛运动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77778E-006 -2.77457E-006 L 0.71389 0.00532 E">
                                      <p:cBhvr>
                                        <p:cTn id="12" dur="4300" fill="hold"/>
                                        <p:tgtEl>
                                          <p:spTgt spid="19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" dur="4300" fill="hold"/>
                                        <p:tgtEl>
                                          <p:spTgt spid="198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11111E-006 -4.45087E-006 L 0.1783 0.00578 E">
                                      <p:cBhvr>
                                        <p:cTn id="16" dur="4300" fill="hold"/>
                                        <p:tgtEl>
                                          <p:spTgt spid="19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" dur="4300" fill="hold"/>
                                        <p:tgtEl>
                                          <p:spTgt spid="19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200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5" dur="4300" fill="hold"/>
                                        <p:tgtEl>
                                          <p:spTgt spid="19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" presetSubtype="8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200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6" name="Picture 7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987" name="Picture 7" descr=""/>
          <p:cNvPicPr/>
          <p:nvPr/>
        </p:nvPicPr>
        <p:blipFill>
          <a:blip r:embed="rId2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988" name="빛2-1" descr=""/>
          <p:cNvPicPr/>
          <p:nvPr/>
        </p:nvPicPr>
        <p:blipFill>
          <a:blip r:embed="rId3"/>
          <a:stretch/>
        </p:blipFill>
        <p:spPr>
          <a:xfrm rot="20684400">
            <a:off x="6454440" y="-407880"/>
            <a:ext cx="2416320" cy="29415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235" descr=""/>
          <p:cNvPicPr/>
          <p:nvPr/>
        </p:nvPicPr>
        <p:blipFill>
          <a:blip r:embed="rId4"/>
          <a:stretch/>
        </p:blipFill>
        <p:spPr>
          <a:xfrm>
            <a:off x="7518240" y="870120"/>
            <a:ext cx="654120" cy="408780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3" descr=""/>
          <p:cNvPicPr/>
          <p:nvPr/>
        </p:nvPicPr>
        <p:blipFill>
          <a:blip r:embed="rId5"/>
          <a:srcRect l="6770" t="0" r="2801" b="0"/>
          <a:stretch/>
        </p:blipFill>
        <p:spPr>
          <a:xfrm>
            <a:off x="0" y="2924280"/>
            <a:ext cx="9144000" cy="32385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63" descr=""/>
          <p:cNvPicPr/>
          <p:nvPr/>
        </p:nvPicPr>
        <p:blipFill>
          <a:blip r:embed="rId6"/>
          <a:stretch/>
        </p:blipFill>
        <p:spPr>
          <a:xfrm>
            <a:off x="6496200" y="988920"/>
            <a:ext cx="380880" cy="135000"/>
          </a:xfrm>
          <a:prstGeom prst="rect">
            <a:avLst/>
          </a:prstGeom>
          <a:ln w="0">
            <a:noFill/>
          </a:ln>
        </p:spPr>
      </p:pic>
      <p:sp>
        <p:nvSpPr>
          <p:cNvPr id="1992" name="矩形 181"/>
          <p:cNvSpPr/>
          <p:nvPr/>
        </p:nvSpPr>
        <p:spPr>
          <a:xfrm>
            <a:off x="2916360" y="7174080"/>
            <a:ext cx="3887640" cy="537840"/>
          </a:xfrm>
          <a:prstGeom prst="rect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新浪微博</a:t>
            </a:r>
            <a:r>
              <a:rPr b="0" lang="en-US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@</a:t>
            </a:r>
            <a:r>
              <a:rPr b="1" i="1" lang="zh-CN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红策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8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7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49 -0.03284 C -0.0191 -0.03284 -0.04653 0.09641 -0.04653 0.25248 C -0.04653 0.4067 -0.0191 0.53364 0.01649 0.53364 E">
                                      <p:cBhvr>
                                        <p:cTn id="51" dur="2000" fill="hold"/>
                                        <p:tgtEl>
                                          <p:spTgt spid="1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6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59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0.43021 0.29873 C -0.43837 0.26381 -0.36233 0.20092 -0.26094 0.15468 C -0.15712 0.10636 -0.06684 0.0941 -0.05816 0.12786 C -0.04861 0.16254 0.03958 0.15121 0.14444 0.10289 C 0.246 0.05641 0.32309 -0.00763 0.31319 -0.04185 E">
                                      <p:cBhvr>
                                        <p:cTn id="61" dur="3200" fill="hold"/>
                                        <p:tgtEl>
                                          <p:spTgt spid="19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900" spc="-1" strike="noStrike">
                <a:solidFill>
                  <a:srgbClr val="000000"/>
                </a:solidFill>
                <a:latin typeface="Gill Sans"/>
              </a:rPr>
              <a:t>使用规范说明</a:t>
            </a: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7" name="Picture 7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grpSp>
        <p:nvGrpSpPr>
          <p:cNvPr id="1998" name="Group 3"/>
          <p:cNvGrpSpPr/>
          <p:nvPr/>
        </p:nvGrpSpPr>
        <p:grpSpPr>
          <a:xfrm>
            <a:off x="3419640" y="1998720"/>
            <a:ext cx="2232000" cy="2664000"/>
            <a:chOff x="3419640" y="1998720"/>
            <a:chExt cx="2232000" cy="2664000"/>
          </a:xfrm>
        </p:grpSpPr>
        <p:grpSp>
          <p:nvGrpSpPr>
            <p:cNvPr id="1999" name="Group 4"/>
            <p:cNvGrpSpPr/>
            <p:nvPr/>
          </p:nvGrpSpPr>
          <p:grpSpPr>
            <a:xfrm>
              <a:off x="3665160" y="1998720"/>
              <a:ext cx="1410480" cy="1735200"/>
              <a:chOff x="3665160" y="1998720"/>
              <a:chExt cx="1410480" cy="1735200"/>
            </a:xfrm>
          </p:grpSpPr>
          <p:grpSp>
            <p:nvGrpSpPr>
              <p:cNvPr id="2000" name="Group 5"/>
              <p:cNvGrpSpPr/>
              <p:nvPr/>
            </p:nvGrpSpPr>
            <p:grpSpPr>
              <a:xfrm>
                <a:off x="3665160" y="1998720"/>
                <a:ext cx="1410480" cy="1735200"/>
                <a:chOff x="3665160" y="1998720"/>
                <a:chExt cx="1410480" cy="1735200"/>
              </a:xfrm>
            </p:grpSpPr>
            <p:sp>
              <p:nvSpPr>
                <p:cNvPr id="2001" name="AutoShape 131"/>
                <p:cNvSpPr/>
                <p:nvPr/>
              </p:nvSpPr>
              <p:spPr>
                <a:xfrm>
                  <a:off x="3665160" y="1998720"/>
                  <a:ext cx="1410480" cy="173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Rectangle 140"/>
                <p:cNvSpPr/>
                <p:nvPr/>
              </p:nvSpPr>
              <p:spPr>
                <a:xfrm>
                  <a:off x="4995720" y="3666600"/>
                  <a:ext cx="65160" cy="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3" name="Rectangle 141"/>
                <p:cNvSpPr/>
                <p:nvPr/>
              </p:nvSpPr>
              <p:spPr>
                <a:xfrm>
                  <a:off x="5000400" y="3658680"/>
                  <a:ext cx="55440" cy="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Rectangle 142"/>
                <p:cNvSpPr/>
                <p:nvPr/>
              </p:nvSpPr>
              <p:spPr>
                <a:xfrm>
                  <a:off x="4989240" y="3675600"/>
                  <a:ext cx="78480" cy="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Rectangle 143"/>
                <p:cNvSpPr/>
                <p:nvPr/>
              </p:nvSpPr>
              <p:spPr>
                <a:xfrm>
                  <a:off x="5009400" y="3654720"/>
                  <a:ext cx="9000" cy="23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Rectangle 144"/>
                <p:cNvSpPr/>
                <p:nvPr/>
              </p:nvSpPr>
              <p:spPr>
                <a:xfrm>
                  <a:off x="5023440" y="3699360"/>
                  <a:ext cx="8640" cy="24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Rectangle 145"/>
                <p:cNvSpPr/>
                <p:nvPr/>
              </p:nvSpPr>
              <p:spPr>
                <a:xfrm>
                  <a:off x="5040000" y="3654720"/>
                  <a:ext cx="7920" cy="23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Rectangle 150"/>
                <p:cNvSpPr/>
                <p:nvPr/>
              </p:nvSpPr>
              <p:spPr>
                <a:xfrm>
                  <a:off x="4655880" y="3659760"/>
                  <a:ext cx="1008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9" name="Rectangle 153"/>
                <p:cNvSpPr/>
                <p:nvPr/>
              </p:nvSpPr>
              <p:spPr>
                <a:xfrm>
                  <a:off x="4621680" y="3659760"/>
                  <a:ext cx="936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Rectangle 158"/>
                <p:cNvSpPr/>
                <p:nvPr/>
              </p:nvSpPr>
              <p:spPr>
                <a:xfrm>
                  <a:off x="4015080" y="35348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Rectangle 159"/>
                <p:cNvSpPr/>
                <p:nvPr/>
              </p:nvSpPr>
              <p:spPr>
                <a:xfrm>
                  <a:off x="4051800" y="35348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Rectangle 160"/>
                <p:cNvSpPr/>
                <p:nvPr/>
              </p:nvSpPr>
              <p:spPr>
                <a:xfrm>
                  <a:off x="4018320" y="3576240"/>
                  <a:ext cx="4248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Rectangle 161"/>
                <p:cNvSpPr/>
                <p:nvPr/>
              </p:nvSpPr>
              <p:spPr>
                <a:xfrm>
                  <a:off x="4071600" y="3534840"/>
                  <a:ext cx="9000" cy="6408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Rectangle 162"/>
                <p:cNvSpPr/>
                <p:nvPr/>
              </p:nvSpPr>
              <p:spPr>
                <a:xfrm>
                  <a:off x="4071600" y="3534840"/>
                  <a:ext cx="4464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5" name="Rectangle 163"/>
                <p:cNvSpPr/>
                <p:nvPr/>
              </p:nvSpPr>
              <p:spPr>
                <a:xfrm>
                  <a:off x="4085640" y="3576240"/>
                  <a:ext cx="3060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Rectangle 164"/>
                <p:cNvSpPr/>
                <p:nvPr/>
              </p:nvSpPr>
              <p:spPr>
                <a:xfrm>
                  <a:off x="4107240" y="3534840"/>
                  <a:ext cx="900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Rectangle 166"/>
                <p:cNvSpPr/>
                <p:nvPr/>
              </p:nvSpPr>
              <p:spPr>
                <a:xfrm>
                  <a:off x="4804200" y="3534840"/>
                  <a:ext cx="864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8" name="Rectangle 167"/>
                <p:cNvSpPr/>
                <p:nvPr/>
              </p:nvSpPr>
              <p:spPr>
                <a:xfrm>
                  <a:off x="4804200" y="3576240"/>
                  <a:ext cx="4212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Rectangle 168"/>
                <p:cNvSpPr/>
                <p:nvPr/>
              </p:nvSpPr>
              <p:spPr>
                <a:xfrm>
                  <a:off x="4804200" y="3534840"/>
                  <a:ext cx="4212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Rectangle 169"/>
                <p:cNvSpPr/>
                <p:nvPr/>
              </p:nvSpPr>
              <p:spPr>
                <a:xfrm>
                  <a:off x="4838400" y="3534840"/>
                  <a:ext cx="10080" cy="302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1" name="Rectangle 170"/>
                <p:cNvSpPr/>
                <p:nvPr/>
              </p:nvSpPr>
              <p:spPr>
                <a:xfrm>
                  <a:off x="4817880" y="3555360"/>
                  <a:ext cx="2844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Rectangle 171"/>
                <p:cNvSpPr/>
                <p:nvPr/>
              </p:nvSpPr>
              <p:spPr>
                <a:xfrm>
                  <a:off x="4858560" y="3534840"/>
                  <a:ext cx="4572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Rectangle 172"/>
                <p:cNvSpPr/>
                <p:nvPr/>
              </p:nvSpPr>
              <p:spPr>
                <a:xfrm>
                  <a:off x="4858560" y="3576240"/>
                  <a:ext cx="3168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Rectangle 173"/>
                <p:cNvSpPr/>
                <p:nvPr/>
              </p:nvSpPr>
              <p:spPr>
                <a:xfrm>
                  <a:off x="4858560" y="35348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Rectangle 175"/>
                <p:cNvSpPr/>
                <p:nvPr/>
              </p:nvSpPr>
              <p:spPr>
                <a:xfrm>
                  <a:off x="4894200" y="3534840"/>
                  <a:ext cx="10080" cy="6120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6" name="Rectangle 176"/>
                <p:cNvSpPr/>
                <p:nvPr/>
              </p:nvSpPr>
              <p:spPr>
                <a:xfrm>
                  <a:off x="4948920" y="3534840"/>
                  <a:ext cx="864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7" name="Rectangle 177"/>
                <p:cNvSpPr/>
                <p:nvPr/>
              </p:nvSpPr>
              <p:spPr>
                <a:xfrm>
                  <a:off x="4915440" y="3534840"/>
                  <a:ext cx="4212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8" name="Rectangle 178"/>
                <p:cNvSpPr/>
                <p:nvPr/>
              </p:nvSpPr>
              <p:spPr>
                <a:xfrm>
                  <a:off x="4915440" y="3576240"/>
                  <a:ext cx="4212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9" name="Rectangle 179"/>
                <p:cNvSpPr/>
                <p:nvPr/>
              </p:nvSpPr>
              <p:spPr>
                <a:xfrm>
                  <a:off x="4912920" y="3555360"/>
                  <a:ext cx="10080" cy="2952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0" name="Rectangle 180"/>
                <p:cNvSpPr/>
                <p:nvPr/>
              </p:nvSpPr>
              <p:spPr>
                <a:xfrm>
                  <a:off x="4915440" y="3555360"/>
                  <a:ext cx="2772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Rectangle 181"/>
                <p:cNvSpPr/>
                <p:nvPr/>
              </p:nvSpPr>
              <p:spPr>
                <a:xfrm>
                  <a:off x="4962960" y="3534840"/>
                  <a:ext cx="3168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Rectangle 182"/>
                <p:cNvSpPr/>
                <p:nvPr/>
              </p:nvSpPr>
              <p:spPr>
                <a:xfrm>
                  <a:off x="4969440" y="3515040"/>
                  <a:ext cx="9000" cy="698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Rectangle 183"/>
                <p:cNvSpPr/>
                <p:nvPr/>
              </p:nvSpPr>
              <p:spPr>
                <a:xfrm>
                  <a:off x="4997160" y="3534840"/>
                  <a:ext cx="3168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Rectangle 184"/>
                <p:cNvSpPr/>
                <p:nvPr/>
              </p:nvSpPr>
              <p:spPr>
                <a:xfrm>
                  <a:off x="5004360" y="3515040"/>
                  <a:ext cx="8640" cy="698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5" name="Rectangle 185"/>
                <p:cNvSpPr/>
                <p:nvPr/>
              </p:nvSpPr>
              <p:spPr>
                <a:xfrm>
                  <a:off x="5064840" y="35348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6" name="Rectangle 186"/>
                <p:cNvSpPr/>
                <p:nvPr/>
              </p:nvSpPr>
              <p:spPr>
                <a:xfrm>
                  <a:off x="5035320" y="3534840"/>
                  <a:ext cx="3960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Rectangle 187"/>
                <p:cNvSpPr/>
                <p:nvPr/>
              </p:nvSpPr>
              <p:spPr>
                <a:xfrm>
                  <a:off x="5032080" y="3576240"/>
                  <a:ext cx="4248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Rectangle 188"/>
                <p:cNvSpPr/>
                <p:nvPr/>
              </p:nvSpPr>
              <p:spPr>
                <a:xfrm>
                  <a:off x="5030280" y="3555360"/>
                  <a:ext cx="9360" cy="2952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Rectangle 189"/>
                <p:cNvSpPr/>
                <p:nvPr/>
              </p:nvSpPr>
              <p:spPr>
                <a:xfrm>
                  <a:off x="5032080" y="3555360"/>
                  <a:ext cx="2772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Rectangle 190"/>
                <p:cNvSpPr/>
                <p:nvPr/>
              </p:nvSpPr>
              <p:spPr>
                <a:xfrm>
                  <a:off x="4737600" y="3515040"/>
                  <a:ext cx="4824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Rectangle 191"/>
                <p:cNvSpPr/>
                <p:nvPr/>
              </p:nvSpPr>
              <p:spPr>
                <a:xfrm>
                  <a:off x="4752720" y="3555360"/>
                  <a:ext cx="3348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Rectangle 192"/>
                <p:cNvSpPr/>
                <p:nvPr/>
              </p:nvSpPr>
              <p:spPr>
                <a:xfrm>
                  <a:off x="4778280" y="35150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Rectangle 193"/>
                <p:cNvSpPr/>
                <p:nvPr/>
              </p:nvSpPr>
              <p:spPr>
                <a:xfrm>
                  <a:off x="4737600" y="3515040"/>
                  <a:ext cx="9360" cy="698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4" name="Rectangle 195"/>
                <p:cNvSpPr/>
                <p:nvPr/>
              </p:nvSpPr>
              <p:spPr>
                <a:xfrm>
                  <a:off x="4761360" y="3559320"/>
                  <a:ext cx="9360" cy="158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Rectangle 196"/>
                <p:cNvSpPr/>
                <p:nvPr/>
              </p:nvSpPr>
              <p:spPr>
                <a:xfrm>
                  <a:off x="4206600" y="35348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Rectangle 197"/>
                <p:cNvSpPr/>
                <p:nvPr/>
              </p:nvSpPr>
              <p:spPr>
                <a:xfrm>
                  <a:off x="4169880" y="3534840"/>
                  <a:ext cx="4644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7" name="Rectangle 198"/>
                <p:cNvSpPr/>
                <p:nvPr/>
              </p:nvSpPr>
              <p:spPr>
                <a:xfrm>
                  <a:off x="4221720" y="3534840"/>
                  <a:ext cx="3060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8" name="Rectangle 199"/>
                <p:cNvSpPr/>
                <p:nvPr/>
              </p:nvSpPr>
              <p:spPr>
                <a:xfrm>
                  <a:off x="4169880" y="35348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Rectangle 200"/>
                <p:cNvSpPr/>
                <p:nvPr/>
              </p:nvSpPr>
              <p:spPr>
                <a:xfrm>
                  <a:off x="4227840" y="3515040"/>
                  <a:ext cx="9360" cy="698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0" name="Rectangle 201"/>
                <p:cNvSpPr/>
                <p:nvPr/>
              </p:nvSpPr>
              <p:spPr>
                <a:xfrm>
                  <a:off x="4258080" y="35348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1" name="Rectangle 202"/>
                <p:cNvSpPr/>
                <p:nvPr/>
              </p:nvSpPr>
              <p:spPr>
                <a:xfrm>
                  <a:off x="4258080" y="3576240"/>
                  <a:ext cx="4248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Rectangle 203"/>
                <p:cNvSpPr/>
                <p:nvPr/>
              </p:nvSpPr>
              <p:spPr>
                <a:xfrm>
                  <a:off x="4258080" y="3534840"/>
                  <a:ext cx="4248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Rectangle 204"/>
                <p:cNvSpPr/>
                <p:nvPr/>
              </p:nvSpPr>
              <p:spPr>
                <a:xfrm>
                  <a:off x="4293000" y="3534840"/>
                  <a:ext cx="10080" cy="302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4" name="Rectangle 205"/>
                <p:cNvSpPr/>
                <p:nvPr/>
              </p:nvSpPr>
              <p:spPr>
                <a:xfrm>
                  <a:off x="4273200" y="3555360"/>
                  <a:ext cx="2772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Rectangle 207"/>
                <p:cNvSpPr/>
                <p:nvPr/>
              </p:nvSpPr>
              <p:spPr>
                <a:xfrm>
                  <a:off x="4312080" y="3544560"/>
                  <a:ext cx="8640" cy="4032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Rectangle 208"/>
                <p:cNvSpPr/>
                <p:nvPr/>
              </p:nvSpPr>
              <p:spPr>
                <a:xfrm>
                  <a:off x="4377240" y="3534840"/>
                  <a:ext cx="900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Rectangle 209"/>
                <p:cNvSpPr/>
                <p:nvPr/>
              </p:nvSpPr>
              <p:spPr>
                <a:xfrm>
                  <a:off x="4340520" y="3534840"/>
                  <a:ext cx="4572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8" name="Rectangle 210"/>
                <p:cNvSpPr/>
                <p:nvPr/>
              </p:nvSpPr>
              <p:spPr>
                <a:xfrm>
                  <a:off x="4340520" y="35348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Rectangle 211"/>
                <p:cNvSpPr/>
                <p:nvPr/>
              </p:nvSpPr>
              <p:spPr>
                <a:xfrm>
                  <a:off x="4433760" y="35348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Rectangle 212"/>
                <p:cNvSpPr/>
                <p:nvPr/>
              </p:nvSpPr>
              <p:spPr>
                <a:xfrm>
                  <a:off x="4401000" y="3534840"/>
                  <a:ext cx="4248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1" name="Rectangle 213"/>
                <p:cNvSpPr/>
                <p:nvPr/>
              </p:nvSpPr>
              <p:spPr>
                <a:xfrm>
                  <a:off x="4401000" y="3576240"/>
                  <a:ext cx="4248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Rectangle 214"/>
                <p:cNvSpPr/>
                <p:nvPr/>
              </p:nvSpPr>
              <p:spPr>
                <a:xfrm>
                  <a:off x="4399200" y="3555360"/>
                  <a:ext cx="9360" cy="2952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Rectangle 215"/>
                <p:cNvSpPr/>
                <p:nvPr/>
              </p:nvSpPr>
              <p:spPr>
                <a:xfrm>
                  <a:off x="4401000" y="3555360"/>
                  <a:ext cx="2772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Rectangle 216"/>
                <p:cNvSpPr/>
                <p:nvPr/>
              </p:nvSpPr>
              <p:spPr>
                <a:xfrm>
                  <a:off x="4451760" y="3534840"/>
                  <a:ext cx="3060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Rectangle 217"/>
                <p:cNvSpPr/>
                <p:nvPr/>
              </p:nvSpPr>
              <p:spPr>
                <a:xfrm>
                  <a:off x="4457520" y="3515040"/>
                  <a:ext cx="10080" cy="698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Rectangle 218"/>
                <p:cNvSpPr/>
                <p:nvPr/>
              </p:nvSpPr>
              <p:spPr>
                <a:xfrm>
                  <a:off x="4678920" y="3515040"/>
                  <a:ext cx="10080" cy="698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Rectangle 219"/>
                <p:cNvSpPr/>
                <p:nvPr/>
              </p:nvSpPr>
              <p:spPr>
                <a:xfrm>
                  <a:off x="4488480" y="3532680"/>
                  <a:ext cx="10080" cy="5220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Rectangle 220"/>
                <p:cNvSpPr/>
                <p:nvPr/>
              </p:nvSpPr>
              <p:spPr>
                <a:xfrm>
                  <a:off x="4543200" y="3534840"/>
                  <a:ext cx="864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Rectangle 221"/>
                <p:cNvSpPr/>
                <p:nvPr/>
              </p:nvSpPr>
              <p:spPr>
                <a:xfrm>
                  <a:off x="4506480" y="3534840"/>
                  <a:ext cx="4536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Rectangle 222"/>
                <p:cNvSpPr/>
                <p:nvPr/>
              </p:nvSpPr>
              <p:spPr>
                <a:xfrm>
                  <a:off x="4506480" y="3534840"/>
                  <a:ext cx="936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Rectangle 223"/>
                <p:cNvSpPr/>
                <p:nvPr/>
              </p:nvSpPr>
              <p:spPr>
                <a:xfrm>
                  <a:off x="4506480" y="3576240"/>
                  <a:ext cx="4536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Rectangle 224"/>
                <p:cNvSpPr/>
                <p:nvPr/>
              </p:nvSpPr>
              <p:spPr>
                <a:xfrm>
                  <a:off x="4601880" y="3534840"/>
                  <a:ext cx="936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3" name="Rectangle 225"/>
                <p:cNvSpPr/>
                <p:nvPr/>
              </p:nvSpPr>
              <p:spPr>
                <a:xfrm>
                  <a:off x="4564800" y="3534840"/>
                  <a:ext cx="4644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4" name="Rectangle 226"/>
                <p:cNvSpPr/>
                <p:nvPr/>
              </p:nvSpPr>
              <p:spPr>
                <a:xfrm>
                  <a:off x="4564800" y="35348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Rectangle 227"/>
                <p:cNvSpPr/>
                <p:nvPr/>
              </p:nvSpPr>
              <p:spPr>
                <a:xfrm>
                  <a:off x="4659840" y="35348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Rectangle 228"/>
                <p:cNvSpPr/>
                <p:nvPr/>
              </p:nvSpPr>
              <p:spPr>
                <a:xfrm>
                  <a:off x="4627440" y="3534840"/>
                  <a:ext cx="4248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7" name="Rectangle 229"/>
                <p:cNvSpPr/>
                <p:nvPr/>
              </p:nvSpPr>
              <p:spPr>
                <a:xfrm>
                  <a:off x="4627440" y="3576240"/>
                  <a:ext cx="4248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Rectangle 230"/>
                <p:cNvSpPr/>
                <p:nvPr/>
              </p:nvSpPr>
              <p:spPr>
                <a:xfrm>
                  <a:off x="4625640" y="3555360"/>
                  <a:ext cx="8640" cy="2952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Rectangle 231"/>
                <p:cNvSpPr/>
                <p:nvPr/>
              </p:nvSpPr>
              <p:spPr>
                <a:xfrm>
                  <a:off x="4627440" y="3555360"/>
                  <a:ext cx="2772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0" name="Rectangle 233"/>
                <p:cNvSpPr/>
                <p:nvPr/>
              </p:nvSpPr>
              <p:spPr>
                <a:xfrm>
                  <a:off x="4488480" y="3515040"/>
                  <a:ext cx="10080" cy="104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Rectangle 234"/>
                <p:cNvSpPr/>
                <p:nvPr/>
              </p:nvSpPr>
              <p:spPr>
                <a:xfrm>
                  <a:off x="4678920" y="3576240"/>
                  <a:ext cx="2592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82" name="Picture 235" descr=""/>
              <p:cNvPicPr/>
              <p:nvPr/>
            </p:nvPicPr>
            <p:blipFill>
              <a:blip r:embed="rId2"/>
              <a:stretch/>
            </p:blipFill>
            <p:spPr>
              <a:xfrm>
                <a:off x="4643280" y="2098440"/>
                <a:ext cx="181800" cy="1135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83" name="Group 109"/>
            <p:cNvGrpSpPr/>
            <p:nvPr/>
          </p:nvGrpSpPr>
          <p:grpSpPr>
            <a:xfrm>
              <a:off x="3419640" y="3778920"/>
              <a:ext cx="2232000" cy="883800"/>
              <a:chOff x="3419640" y="3778920"/>
              <a:chExt cx="2232000" cy="883800"/>
            </a:xfrm>
          </p:grpSpPr>
          <p:sp>
            <p:nvSpPr>
              <p:cNvPr id="2084" name="矩形 210"/>
              <p:cNvSpPr/>
              <p:nvPr/>
            </p:nvSpPr>
            <p:spPr>
              <a:xfrm>
                <a:off x="3419640" y="4014360"/>
                <a:ext cx="2232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12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0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月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6-29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日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· 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深圳大亚湾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圆角矩形 212"/>
              <p:cNvSpPr/>
              <p:nvPr/>
            </p:nvSpPr>
            <p:spPr>
              <a:xfrm>
                <a:off x="3923640" y="4223520"/>
                <a:ext cx="1394640" cy="222840"/>
              </a:xfrm>
              <a:prstGeom prst="roundRect">
                <a:avLst>
                  <a:gd name="adj" fmla="val 16667"/>
                </a:avLst>
              </a:prstGeom>
              <a:solidFill>
                <a:srgbClr val="a2a2e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矩形 214"/>
              <p:cNvSpPr/>
              <p:nvPr/>
            </p:nvSpPr>
            <p:spPr>
              <a:xfrm>
                <a:off x="3899160" y="4200480"/>
                <a:ext cx="110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矩形 215"/>
              <p:cNvSpPr/>
              <p:nvPr/>
            </p:nvSpPr>
            <p:spPr>
              <a:xfrm>
                <a:off x="4235760" y="4416480"/>
                <a:ext cx="744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汉仪细圆简"/>
                    <a:ea typeface="汉仪细圆简"/>
                  </a:rPr>
                  <a:t>@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汉仪细圆简"/>
                    <a:ea typeface="汉仪细圆简"/>
                  </a:rPr>
                  <a:t>中国杯帆船赛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8" name="Picture 62" descr=""/>
              <p:cNvPicPr/>
              <p:nvPr/>
            </p:nvPicPr>
            <p:blipFill>
              <a:blip r:embed="rId3"/>
              <a:stretch/>
            </p:blipFill>
            <p:spPr>
              <a:xfrm>
                <a:off x="3910680" y="4446360"/>
                <a:ext cx="227520" cy="18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9" name="矩形 217"/>
              <p:cNvSpPr/>
              <p:nvPr/>
            </p:nvSpPr>
            <p:spPr>
              <a:xfrm>
                <a:off x="3766680" y="3778920"/>
                <a:ext cx="1609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000"/>
                    </a:solidFill>
                    <a:latin typeface="汉仪细圆简"/>
                    <a:ea typeface="汉仪细圆简"/>
                  </a:rPr>
                  <a:t>2012</a:t>
                </a:r>
                <a:r>
                  <a:rPr b="1" lang="zh-CN" sz="1400" spc="-1" strike="noStrike">
                    <a:solidFill>
                      <a:srgbClr val="ffc000"/>
                    </a:solidFill>
                    <a:latin typeface="汉仪细圆简"/>
                    <a:ea typeface="汉仪细圆简"/>
                  </a:rPr>
                  <a:t>第六届中国杯帆船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0" name="矩形 114"/>
          <p:cNvSpPr/>
          <p:nvPr/>
        </p:nvSpPr>
        <p:spPr>
          <a:xfrm>
            <a:off x="2916360" y="7174080"/>
            <a:ext cx="3887640" cy="537840"/>
          </a:xfrm>
          <a:prstGeom prst="rect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新浪微博</a:t>
            </a:r>
            <a:r>
              <a:rPr b="0" lang="en-US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@</a:t>
            </a:r>
            <a:r>
              <a:rPr b="1" i="1" lang="zh-CN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红策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1" name="Group 118"/>
          <p:cNvGrpSpPr/>
          <p:nvPr/>
        </p:nvGrpSpPr>
        <p:grpSpPr>
          <a:xfrm>
            <a:off x="4932360" y="3294000"/>
            <a:ext cx="565200" cy="711360"/>
            <a:chOff x="4932360" y="3294000"/>
            <a:chExt cx="565200" cy="711360"/>
          </a:xfrm>
        </p:grpSpPr>
        <p:sp>
          <p:nvSpPr>
            <p:cNvPr id="2092" name="椭圆 118"/>
            <p:cNvSpPr/>
            <p:nvPr/>
          </p:nvSpPr>
          <p:spPr>
            <a:xfrm>
              <a:off x="4932360" y="3376800"/>
              <a:ext cx="565200" cy="56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椭圆 119"/>
            <p:cNvSpPr/>
            <p:nvPr/>
          </p:nvSpPr>
          <p:spPr>
            <a:xfrm>
              <a:off x="5186520" y="362268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4" name="Group 121"/>
            <p:cNvGrpSpPr/>
            <p:nvPr/>
          </p:nvGrpSpPr>
          <p:grpSpPr>
            <a:xfrm>
              <a:off x="5205240" y="3294000"/>
              <a:ext cx="24480" cy="711360"/>
              <a:chOff x="5205240" y="3294000"/>
              <a:chExt cx="24480" cy="711360"/>
            </a:xfrm>
          </p:grpSpPr>
          <p:sp>
            <p:nvSpPr>
              <p:cNvPr id="2095" name="等腰三角形 130"/>
              <p:cNvSpPr/>
              <p:nvPr/>
            </p:nvSpPr>
            <p:spPr>
              <a:xfrm flipH="1" rot="10800000">
                <a:off x="5205240" y="364608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等腰三角形 131"/>
              <p:cNvSpPr/>
              <p:nvPr/>
            </p:nvSpPr>
            <p:spPr>
              <a:xfrm flipH="1">
                <a:off x="5205240" y="329400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7" name="Group 124"/>
            <p:cNvGrpSpPr/>
            <p:nvPr/>
          </p:nvGrpSpPr>
          <p:grpSpPr>
            <a:xfrm>
              <a:off x="4958280" y="3640680"/>
              <a:ext cx="527040" cy="25200"/>
              <a:chOff x="4958280" y="3640680"/>
              <a:chExt cx="527040" cy="25200"/>
            </a:xfrm>
          </p:grpSpPr>
          <p:sp>
            <p:nvSpPr>
              <p:cNvPr id="2098" name="等腰三角形 128"/>
              <p:cNvSpPr/>
              <p:nvPr/>
            </p:nvSpPr>
            <p:spPr>
              <a:xfrm flipH="1" rot="5400000">
                <a:off x="5341320" y="352116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等腰三角形 129"/>
              <p:cNvSpPr/>
              <p:nvPr/>
            </p:nvSpPr>
            <p:spPr>
              <a:xfrm rot="16200000">
                <a:off x="5077800" y="352188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0" name="Group 127"/>
            <p:cNvGrpSpPr/>
            <p:nvPr/>
          </p:nvGrpSpPr>
          <p:grpSpPr>
            <a:xfrm>
              <a:off x="5123520" y="3521880"/>
              <a:ext cx="190800" cy="290160"/>
              <a:chOff x="5123520" y="3521880"/>
              <a:chExt cx="190800" cy="290160"/>
            </a:xfrm>
          </p:grpSpPr>
          <p:sp>
            <p:nvSpPr>
              <p:cNvPr id="2101" name="等腰三角形 126"/>
              <p:cNvSpPr/>
              <p:nvPr/>
            </p:nvSpPr>
            <p:spPr>
              <a:xfrm flipH="1" rot="12716400">
                <a:off x="5165640" y="365112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等腰三角形 127"/>
              <p:cNvSpPr/>
              <p:nvPr/>
            </p:nvSpPr>
            <p:spPr>
              <a:xfrm rot="1955400">
                <a:off x="5253120" y="351324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3" name="Group 130"/>
            <p:cNvGrpSpPr/>
            <p:nvPr/>
          </p:nvGrpSpPr>
          <p:grpSpPr>
            <a:xfrm>
              <a:off x="5060520" y="3551400"/>
              <a:ext cx="277200" cy="189000"/>
              <a:chOff x="5060520" y="3551400"/>
              <a:chExt cx="277200" cy="189000"/>
            </a:xfrm>
          </p:grpSpPr>
          <p:sp>
            <p:nvSpPr>
              <p:cNvPr id="2104" name="等腰三角形 124"/>
              <p:cNvSpPr/>
              <p:nvPr/>
            </p:nvSpPr>
            <p:spPr>
              <a:xfrm flipH="1" rot="7386600">
                <a:off x="5258880" y="361116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等腰三角形 125"/>
              <p:cNvSpPr/>
              <p:nvPr/>
            </p:nvSpPr>
            <p:spPr>
              <a:xfrm flipH="1" rot="18164400">
                <a:off x="5123160" y="352116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6" name="Group 133"/>
          <p:cNvGrpSpPr/>
          <p:nvPr/>
        </p:nvGrpSpPr>
        <p:grpSpPr>
          <a:xfrm>
            <a:off x="4579920" y="1503360"/>
            <a:ext cx="566640" cy="711360"/>
            <a:chOff x="4579920" y="1503360"/>
            <a:chExt cx="566640" cy="711360"/>
          </a:xfrm>
        </p:grpSpPr>
        <p:sp>
          <p:nvSpPr>
            <p:cNvPr id="2107" name="椭圆 133"/>
            <p:cNvSpPr/>
            <p:nvPr/>
          </p:nvSpPr>
          <p:spPr>
            <a:xfrm>
              <a:off x="4579920" y="1586160"/>
              <a:ext cx="566640" cy="56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椭圆 134"/>
            <p:cNvSpPr/>
            <p:nvPr/>
          </p:nvSpPr>
          <p:spPr>
            <a:xfrm>
              <a:off x="4834800" y="183204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9" name="Group 136"/>
            <p:cNvGrpSpPr/>
            <p:nvPr/>
          </p:nvGrpSpPr>
          <p:grpSpPr>
            <a:xfrm>
              <a:off x="4853520" y="1503360"/>
              <a:ext cx="24480" cy="711360"/>
              <a:chOff x="4853520" y="1503360"/>
              <a:chExt cx="24480" cy="711360"/>
            </a:xfrm>
          </p:grpSpPr>
          <p:sp>
            <p:nvSpPr>
              <p:cNvPr id="2110" name="等腰三角形 145"/>
              <p:cNvSpPr/>
              <p:nvPr/>
            </p:nvSpPr>
            <p:spPr>
              <a:xfrm flipH="1" rot="10800000">
                <a:off x="4853520" y="185544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等腰三角形 146"/>
              <p:cNvSpPr/>
              <p:nvPr/>
            </p:nvSpPr>
            <p:spPr>
              <a:xfrm flipH="1">
                <a:off x="4853520" y="150336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2" name="Group 139"/>
            <p:cNvGrpSpPr/>
            <p:nvPr/>
          </p:nvGrpSpPr>
          <p:grpSpPr>
            <a:xfrm>
              <a:off x="4606200" y="1850040"/>
              <a:ext cx="528480" cy="25200"/>
              <a:chOff x="4606200" y="1850040"/>
              <a:chExt cx="528480" cy="25200"/>
            </a:xfrm>
          </p:grpSpPr>
          <p:sp>
            <p:nvSpPr>
              <p:cNvPr id="2113" name="等腰三角形 143"/>
              <p:cNvSpPr/>
              <p:nvPr/>
            </p:nvSpPr>
            <p:spPr>
              <a:xfrm flipH="1" rot="5400000">
                <a:off x="4990320" y="173016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等腰三角形 144"/>
              <p:cNvSpPr/>
              <p:nvPr/>
            </p:nvSpPr>
            <p:spPr>
              <a:xfrm rot="16200000">
                <a:off x="4726080" y="173088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5" name="Group 142"/>
            <p:cNvGrpSpPr/>
            <p:nvPr/>
          </p:nvGrpSpPr>
          <p:grpSpPr>
            <a:xfrm>
              <a:off x="4771800" y="1731240"/>
              <a:ext cx="191160" cy="290160"/>
              <a:chOff x="4771800" y="1731240"/>
              <a:chExt cx="191160" cy="290160"/>
            </a:xfrm>
          </p:grpSpPr>
          <p:sp>
            <p:nvSpPr>
              <p:cNvPr id="2116" name="等腰三角形 141"/>
              <p:cNvSpPr/>
              <p:nvPr/>
            </p:nvSpPr>
            <p:spPr>
              <a:xfrm flipH="1" rot="12716400">
                <a:off x="4813920" y="186048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等腰三角形 142"/>
              <p:cNvSpPr/>
              <p:nvPr/>
            </p:nvSpPr>
            <p:spPr>
              <a:xfrm rot="1955400">
                <a:off x="4901760" y="172260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145"/>
            <p:cNvGrpSpPr/>
            <p:nvPr/>
          </p:nvGrpSpPr>
          <p:grpSpPr>
            <a:xfrm>
              <a:off x="4707720" y="1760760"/>
              <a:ext cx="278280" cy="189000"/>
              <a:chOff x="4707720" y="1760760"/>
              <a:chExt cx="278280" cy="189000"/>
            </a:xfrm>
          </p:grpSpPr>
          <p:sp>
            <p:nvSpPr>
              <p:cNvPr id="2119" name="等腰三角形 139"/>
              <p:cNvSpPr/>
              <p:nvPr/>
            </p:nvSpPr>
            <p:spPr>
              <a:xfrm flipH="1" rot="7386600">
                <a:off x="4907160" y="182052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等腰三角形 140"/>
              <p:cNvSpPr/>
              <p:nvPr/>
            </p:nvSpPr>
            <p:spPr>
              <a:xfrm flipH="1" rot="18164400">
                <a:off x="4770000" y="173052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1" name="Group 148"/>
          <p:cNvGrpSpPr/>
          <p:nvPr/>
        </p:nvGrpSpPr>
        <p:grpSpPr>
          <a:xfrm>
            <a:off x="3502080" y="4014720"/>
            <a:ext cx="565200" cy="709200"/>
            <a:chOff x="3502080" y="4014720"/>
            <a:chExt cx="565200" cy="709200"/>
          </a:xfrm>
        </p:grpSpPr>
        <p:sp>
          <p:nvSpPr>
            <p:cNvPr id="2122" name="椭圆 148"/>
            <p:cNvSpPr/>
            <p:nvPr/>
          </p:nvSpPr>
          <p:spPr>
            <a:xfrm>
              <a:off x="3502080" y="4097520"/>
              <a:ext cx="565200" cy="564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椭圆 149"/>
            <p:cNvSpPr/>
            <p:nvPr/>
          </p:nvSpPr>
          <p:spPr>
            <a:xfrm>
              <a:off x="3756240" y="434232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4" name="Group 151"/>
            <p:cNvGrpSpPr/>
            <p:nvPr/>
          </p:nvGrpSpPr>
          <p:grpSpPr>
            <a:xfrm>
              <a:off x="3774960" y="4014720"/>
              <a:ext cx="24480" cy="709200"/>
              <a:chOff x="3774960" y="4014720"/>
              <a:chExt cx="24480" cy="709200"/>
            </a:xfrm>
          </p:grpSpPr>
          <p:sp>
            <p:nvSpPr>
              <p:cNvPr id="2125" name="等腰三角形 160"/>
              <p:cNvSpPr/>
              <p:nvPr/>
            </p:nvSpPr>
            <p:spPr>
              <a:xfrm flipH="1" rot="10800000">
                <a:off x="3774960" y="4365720"/>
                <a:ext cx="2448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等腰三角形 161"/>
              <p:cNvSpPr/>
              <p:nvPr/>
            </p:nvSpPr>
            <p:spPr>
              <a:xfrm flipH="1">
                <a:off x="3774960" y="4014720"/>
                <a:ext cx="2448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7" name="Group 154"/>
            <p:cNvGrpSpPr/>
            <p:nvPr/>
          </p:nvGrpSpPr>
          <p:grpSpPr>
            <a:xfrm>
              <a:off x="3528000" y="4360320"/>
              <a:ext cx="527040" cy="25200"/>
              <a:chOff x="3528000" y="4360320"/>
              <a:chExt cx="527040" cy="25200"/>
            </a:xfrm>
          </p:grpSpPr>
          <p:sp>
            <p:nvSpPr>
              <p:cNvPr id="2128" name="等腰三角形 158"/>
              <p:cNvSpPr/>
              <p:nvPr/>
            </p:nvSpPr>
            <p:spPr>
              <a:xfrm flipH="1" rot="5400000">
                <a:off x="3911040" y="424080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等腰三角形 159"/>
              <p:cNvSpPr/>
              <p:nvPr/>
            </p:nvSpPr>
            <p:spPr>
              <a:xfrm rot="16200000">
                <a:off x="3647520" y="424152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Group 157"/>
            <p:cNvGrpSpPr/>
            <p:nvPr/>
          </p:nvGrpSpPr>
          <p:grpSpPr>
            <a:xfrm>
              <a:off x="3693240" y="4242240"/>
              <a:ext cx="190440" cy="289080"/>
              <a:chOff x="3693240" y="4242240"/>
              <a:chExt cx="190440" cy="289080"/>
            </a:xfrm>
          </p:grpSpPr>
          <p:sp>
            <p:nvSpPr>
              <p:cNvPr id="2131" name="等腰三角形 156"/>
              <p:cNvSpPr/>
              <p:nvPr/>
            </p:nvSpPr>
            <p:spPr>
              <a:xfrm flipH="1" rot="12716400">
                <a:off x="3735000" y="437148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等腰三角形 157"/>
              <p:cNvSpPr/>
              <p:nvPr/>
            </p:nvSpPr>
            <p:spPr>
              <a:xfrm rot="1955400">
                <a:off x="3822480" y="423360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3" name="Group 160"/>
            <p:cNvGrpSpPr/>
            <p:nvPr/>
          </p:nvGrpSpPr>
          <p:grpSpPr>
            <a:xfrm>
              <a:off x="3630240" y="4271400"/>
              <a:ext cx="277200" cy="188640"/>
              <a:chOff x="3630240" y="4271400"/>
              <a:chExt cx="277200" cy="188640"/>
            </a:xfrm>
          </p:grpSpPr>
          <p:sp>
            <p:nvSpPr>
              <p:cNvPr id="2134" name="等腰三角形 154"/>
              <p:cNvSpPr/>
              <p:nvPr/>
            </p:nvSpPr>
            <p:spPr>
              <a:xfrm flipH="1" rot="7386600">
                <a:off x="3828600" y="433080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等腰三角形 155"/>
              <p:cNvSpPr/>
              <p:nvPr/>
            </p:nvSpPr>
            <p:spPr>
              <a:xfrm flipH="1" rot="18164400">
                <a:off x="3692880" y="424116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advTm="8000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75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75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75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">
                                      <p:cBhvr>
                                        <p:cTn id="78" dur="2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75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">
                                      <p:cBhvr>
                                        <p:cTn id="90" dur="125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" dur="75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0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">
                                      <p:cBhvr>
                                        <p:cTn id="102" dur="275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" dur="75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3:25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25Z</dcterms:modified>
  <cp:revision>44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