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922-FDB2-4A80-8F84-66D8C716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6A9-1952-4752-BBCA-7B87A5A4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90D-1136-4FBA-A9D3-6EB03855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680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968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3356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680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968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4F3-63D5-4E9F-B304-7BF6A222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0285-0E4A-4875-81B8-D3F7041F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ECAF-3DAA-4186-A08C-CE1EA37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729E-4176-475A-AF37-992B4899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41C8-AA17-4499-ACA5-2ADEF8FD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B107-216B-4594-8A02-4C702572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33560" y="3048120"/>
            <a:ext cx="4800600" cy="42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FF7E-37A4-4C27-BB35-665D7139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7054-A505-4027-9FAC-460E7826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C70-F2A2-4322-A174-0B1F7ACA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7D70-FDE1-446D-ACDB-DCD9C2A5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C3B5-E201-4474-86C9-89F4DEFA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BFDB-2E22-4A07-9155-3600DE8C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BB4E-D87D-4BF5-9090-9962F7E1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680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968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3356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5680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968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3A59-FB3F-4C91-AC54-E8C6F74B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3F94-886B-464B-8892-E3872BBF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3A04-FCB7-49CB-9366-0C46BF89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5057-4ADC-46E3-A218-3EEA5058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FDFC-072B-43E2-80DC-2DD141F6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431D-20AA-4F52-9D4E-1831B55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BE6-C7F2-48E3-8D89-79C7FBE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33560" y="3048120"/>
            <a:ext cx="4800600" cy="42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1EA8-2E9A-4F27-B968-7A2B3245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F722-4233-4586-81AA-795B24B4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1BED-4E3C-46D2-A98B-10328CB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86D8-06AF-41F1-83AE-7F04EE6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7F23-860B-426E-A2DC-C5527C71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A2C8-7BE3-44BF-AB74-5B5B5705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5680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968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73356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35680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968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31A0-8068-4738-8EE4-6AA35528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DAF-5BA0-44F4-856C-8BFBD14F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529-73B1-4C81-BFE2-0F9DC70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33560" y="3048120"/>
            <a:ext cx="4800600" cy="42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172-2E6D-4B11-8DF9-083AE3DD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831-CC04-4CBA-B5FD-1D88CCE4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998-6B75-449D-8EC2-7A2061DA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D21-0DE8-44AA-BE33-44967ADA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0465-452F-4877-AD43-A2F4214BC5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85D1-9022-4805-B37E-B4A28D2AE6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31BB-AD76-40D4-8435-9E673FD36B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2C42-9295-490E-8C90-F9039EAF45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3644640"/>
            <a:ext cx="7201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00"/>
                </a:solidFill>
                <a:latin typeface="Arial Black"/>
                <a:ea typeface="宋体"/>
              </a:rPr>
              <a:t> 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229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54000" y="2708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画画学习卡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5:54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3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