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26E-0B66-4F60-BACA-B6AC4F8E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F71-8906-4B64-A358-E37C2FA1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7D2-0851-4844-9D04-62F15A34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3A7-C063-4535-9C20-C3291B23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2A7-3229-495A-9B48-2655A771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84B-57AA-4ACF-9F43-E0E4B7E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70E-20D1-4188-BA1D-9180E71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BFB-1EBC-4DF7-A88A-306C503A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437-E408-4443-BDAD-1349CD3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F7B-CADD-420C-B60C-1CC328E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F46-94C1-4FAA-8F51-91CDCCB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E75-4794-4191-BE63-2D07EFF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9A6-F762-495D-A757-EE888F8BE7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audio" Target="file:///tmp/home/.config/libreoffice/4/user/gallery/&#26410;&#21629;&#21517;_&#28151;&#32553;.wav" TargetMode="External"/><Relationship Id="rId14" Type="http://schemas.microsoft.com/office/2007/relationships/media" Target="file:///tmp/home/.config/libreoffice/4/user/gallery/&#26410;&#21629;&#21517;_&#28151;&#32553;.wav" TargetMode="External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20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11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hyperlink" Target="http://www.eeppt.com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Administrator\桌面\2011831中秋\中秋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istrator\桌面\2011831中秋\花.png"/>
          <p:cNvPicPr/>
          <p:nvPr/>
        </p:nvPicPr>
        <p:blipFill>
          <a:blip r:embed="rId2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istrator\桌面\2011831中秋\1.png"/>
          <p:cNvPicPr/>
          <p:nvPr/>
        </p:nvPicPr>
        <p:blipFill>
          <a:blip r:embed="rId3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sp>
        <p:nvSpPr>
          <p:cNvPr id="46" name="矩形 6"/>
          <p:cNvSpPr/>
          <p:nvPr/>
        </p:nvSpPr>
        <p:spPr>
          <a:xfrm>
            <a:off x="0" y="1370160"/>
            <a:ext cx="9144000" cy="19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Administrator\桌面\2011831中秋\2.png"/>
          <p:cNvPicPr/>
          <p:nvPr/>
        </p:nvPicPr>
        <p:blipFill>
          <a:blip r:embed="rId4"/>
          <a:stretch/>
        </p:blipFill>
        <p:spPr>
          <a:xfrm>
            <a:off x="0" y="206676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istrator\桌面\2011831中秋\2.png"/>
          <p:cNvPicPr/>
          <p:nvPr/>
        </p:nvPicPr>
        <p:blipFill>
          <a:blip r:embed="rId5"/>
          <a:stretch/>
        </p:blipFill>
        <p:spPr>
          <a:xfrm>
            <a:off x="0" y="207180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Administrator\桌面\2011831中秋\9.png"/>
          <p:cNvPicPr/>
          <p:nvPr/>
        </p:nvPicPr>
        <p:blipFill>
          <a:blip r:embed="rId6"/>
          <a:stretch/>
        </p:blipFill>
        <p:spPr>
          <a:xfrm>
            <a:off x="0" y="-3240"/>
            <a:ext cx="4754520" cy="48499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321480" y="1779480"/>
            <a:ext cx="664200" cy="968400"/>
            <a:chOff x="321480" y="1779480"/>
            <a:chExt cx="664200" cy="968400"/>
          </a:xfrm>
        </p:grpSpPr>
        <p:pic>
          <p:nvPicPr>
            <p:cNvPr id="51" name="Picture 12" descr="C:\Documents and Settings\Administrator\桌面\印章2.png"/>
            <p:cNvPicPr/>
            <p:nvPr/>
          </p:nvPicPr>
          <p:blipFill>
            <a:blip r:embed="rId7"/>
            <a:stretch/>
          </p:blipFill>
          <p:spPr>
            <a:xfrm>
              <a:off x="680760" y="2536560"/>
              <a:ext cx="21240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12"/>
            <p:cNvSpPr/>
            <p:nvPr/>
          </p:nvSpPr>
          <p:spPr>
            <a:xfrm>
              <a:off x="321480" y="1779480"/>
              <a:ext cx="484920" cy="8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bfbfbf"/>
                  </a:solidFill>
                  <a:latin typeface="方正北魏楷书简体"/>
                  <a:ea typeface="方正北魏楷书简体"/>
                </a:rPr>
                <a:t>但愿人长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3"/>
            <p:cNvSpPr/>
            <p:nvPr/>
          </p:nvSpPr>
          <p:spPr>
            <a:xfrm>
              <a:off x="653040" y="1779480"/>
              <a:ext cx="3326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bfbfbf"/>
                  </a:solidFill>
                  <a:latin typeface="方正北魏楷书简体"/>
                  <a:ea typeface="方正北魏楷书简体"/>
                </a:rPr>
                <a:t>千里共婵娟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5073480" y="1203480"/>
            <a:ext cx="3962520" cy="1974600"/>
            <a:chOff x="5073480" y="1203480"/>
            <a:chExt cx="3962520" cy="1974600"/>
          </a:xfrm>
        </p:grpSpPr>
        <p:pic>
          <p:nvPicPr>
            <p:cNvPr id="55" name="Picture 7" descr="C:\Documents and Settings\Administrator\桌面\2011831中秋\3.png"/>
            <p:cNvPicPr/>
            <p:nvPr/>
          </p:nvPicPr>
          <p:blipFill>
            <a:blip r:embed="rId8"/>
            <a:stretch/>
          </p:blipFill>
          <p:spPr>
            <a:xfrm>
              <a:off x="5073480" y="1203480"/>
              <a:ext cx="39625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29"/>
            <p:cNvSpPr/>
            <p:nvPr/>
          </p:nvSpPr>
          <p:spPr>
            <a:xfrm>
              <a:off x="6765480" y="2931840"/>
              <a:ext cx="21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10" descr="C:\Documents and Settings\Administrator\桌面\2011831中秋\10.png"/>
          <p:cNvPicPr/>
          <p:nvPr/>
        </p:nvPicPr>
        <p:blipFill>
          <a:blip r:embed="rId9"/>
          <a:stretch/>
        </p:blipFill>
        <p:spPr>
          <a:xfrm>
            <a:off x="-1603440" y="-1486080"/>
            <a:ext cx="4483080" cy="408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Documents and Settings\Administrator\桌面\2011831中秋\12.png"/>
          <p:cNvPicPr/>
          <p:nvPr/>
        </p:nvPicPr>
        <p:blipFill>
          <a:blip r:embed="rId10"/>
          <a:stretch/>
        </p:blipFill>
        <p:spPr>
          <a:xfrm>
            <a:off x="1368360" y="3265560"/>
            <a:ext cx="3402000" cy="168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:\Documents and Settings\Administrator\桌面\2011831中秋\11.png"/>
          <p:cNvPicPr/>
          <p:nvPr/>
        </p:nvPicPr>
        <p:blipFill>
          <a:blip r:embed="rId11"/>
          <a:stretch/>
        </p:blipFill>
        <p:spPr>
          <a:xfrm>
            <a:off x="395280" y="-47520"/>
            <a:ext cx="3060720" cy="426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istrator\桌面\2011831中秋\5.png"/>
          <p:cNvPicPr/>
          <p:nvPr/>
        </p:nvPicPr>
        <p:blipFill>
          <a:blip r:embed="rId12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559720" y="-107964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4720" y="47322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755080" y="6285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花好月圆共此时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4.07407E-006 L 0 0.18395 E">
                                      <p:cBhvr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1.85185E-006 L 0 -0.18735 E">
                                      <p:cBhvr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istrator\桌面\2011831中秋\中秋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Administrator\桌面\2011831中秋\花.png"/>
          <p:cNvPicPr/>
          <p:nvPr/>
        </p:nvPicPr>
        <p:blipFill>
          <a:blip r:embed="rId2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Administrator\桌面\2011831中秋\1.png"/>
          <p:cNvPicPr/>
          <p:nvPr/>
        </p:nvPicPr>
        <p:blipFill>
          <a:blip r:embed="rId3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"/>
          <p:cNvGrpSpPr/>
          <p:nvPr/>
        </p:nvGrpSpPr>
        <p:grpSpPr>
          <a:xfrm>
            <a:off x="0" y="1103400"/>
            <a:ext cx="9144000" cy="2388960"/>
            <a:chOff x="0" y="1103400"/>
            <a:chExt cx="9144000" cy="2388960"/>
          </a:xfrm>
        </p:grpSpPr>
        <p:sp>
          <p:nvSpPr>
            <p:cNvPr id="68" name="矩形 7"/>
            <p:cNvSpPr/>
            <p:nvPr/>
          </p:nvSpPr>
          <p:spPr>
            <a:xfrm>
              <a:off x="0" y="1369800"/>
              <a:ext cx="9144000" cy="19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组合 15390" descr=""/>
            <p:cNvPicPr/>
            <p:nvPr/>
          </p:nvPicPr>
          <p:blipFill>
            <a:blip r:embed="rId4"/>
            <a:stretch/>
          </p:blipFill>
          <p:spPr>
            <a:xfrm>
              <a:off x="8534520" y="2877480"/>
              <a:ext cx="5760" cy="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C:\Documents and Settings\Administrator\桌面\2011831中秋\2.png"/>
            <p:cNvPicPr/>
            <p:nvPr/>
          </p:nvPicPr>
          <p:blipFill>
            <a:blip r:embed="rId5"/>
            <a:stretch/>
          </p:blipFill>
          <p:spPr>
            <a:xfrm>
              <a:off x="0" y="1103400"/>
              <a:ext cx="91440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C:\Documents and Settings\Administrator\桌面\2011831中秋\2.png"/>
            <p:cNvPicPr/>
            <p:nvPr/>
          </p:nvPicPr>
          <p:blipFill>
            <a:blip r:embed="rId6"/>
            <a:stretch/>
          </p:blipFill>
          <p:spPr>
            <a:xfrm>
              <a:off x="0" y="3016080"/>
              <a:ext cx="914400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0"/>
          <p:cNvGrpSpPr/>
          <p:nvPr/>
        </p:nvGrpSpPr>
        <p:grpSpPr>
          <a:xfrm>
            <a:off x="5073480" y="1203480"/>
            <a:ext cx="3962520" cy="1974600"/>
            <a:chOff x="5073480" y="1203480"/>
            <a:chExt cx="3962520" cy="1974600"/>
          </a:xfrm>
        </p:grpSpPr>
        <p:pic>
          <p:nvPicPr>
            <p:cNvPr id="73" name="Picture 7" descr="C:\Documents and Settings\Administrator\桌面\2011831中秋\3.png"/>
            <p:cNvPicPr/>
            <p:nvPr/>
          </p:nvPicPr>
          <p:blipFill>
            <a:blip r:embed="rId7"/>
            <a:stretch/>
          </p:blipFill>
          <p:spPr>
            <a:xfrm>
              <a:off x="5073480" y="1203480"/>
              <a:ext cx="39625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2"/>
            <p:cNvSpPr/>
            <p:nvPr/>
          </p:nvSpPr>
          <p:spPr>
            <a:xfrm>
              <a:off x="7506360" y="242316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3"/>
            <p:cNvSpPr/>
            <p:nvPr/>
          </p:nvSpPr>
          <p:spPr>
            <a:xfrm>
              <a:off x="8001000" y="2411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Happ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矩形 4"/>
            <p:cNvSpPr/>
            <p:nvPr/>
          </p:nvSpPr>
          <p:spPr>
            <a:xfrm>
              <a:off x="5764680" y="265140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Mid-Autumn festiv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组合 15390" descr=""/>
            <p:cNvPicPr/>
            <p:nvPr/>
          </p:nvPicPr>
          <p:blipFill>
            <a:blip r:embed="rId8"/>
            <a:stretch/>
          </p:blipFill>
          <p:spPr>
            <a:xfrm>
              <a:off x="8235720" y="2761560"/>
              <a:ext cx="5486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29"/>
            <p:cNvSpPr/>
            <p:nvPr/>
          </p:nvSpPr>
          <p:spPr>
            <a:xfrm>
              <a:off x="6765480" y="2931840"/>
              <a:ext cx="21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上海锐普广告有限公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7"/>
          <p:cNvGrpSpPr/>
          <p:nvPr/>
        </p:nvGrpSpPr>
        <p:grpSpPr>
          <a:xfrm>
            <a:off x="0" y="268200"/>
            <a:ext cx="9613800" cy="5183280"/>
            <a:chOff x="0" y="268200"/>
            <a:chExt cx="9613800" cy="5183280"/>
          </a:xfrm>
        </p:grpSpPr>
        <p:pic>
          <p:nvPicPr>
            <p:cNvPr id="80" name="Picture 2" descr="C:\Documents and Settings\Administrator\桌面\2011831中秋\7.png"/>
            <p:cNvPicPr/>
            <p:nvPr/>
          </p:nvPicPr>
          <p:blipFill>
            <a:blip r:embed="rId9"/>
            <a:stretch/>
          </p:blipFill>
          <p:spPr>
            <a:xfrm>
              <a:off x="4798800" y="2782080"/>
              <a:ext cx="4376880" cy="266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19"/>
            <p:cNvGrpSpPr/>
            <p:nvPr/>
          </p:nvGrpSpPr>
          <p:grpSpPr>
            <a:xfrm>
              <a:off x="0" y="268200"/>
              <a:ext cx="9613800" cy="4341960"/>
              <a:chOff x="0" y="268200"/>
              <a:chExt cx="9613800" cy="4341960"/>
            </a:xfrm>
          </p:grpSpPr>
          <p:sp>
            <p:nvSpPr>
              <p:cNvPr id="82" name="矩形 54"/>
              <p:cNvSpPr/>
              <p:nvPr/>
            </p:nvSpPr>
            <p:spPr>
              <a:xfrm>
                <a:off x="0" y="672840"/>
                <a:ext cx="9144720" cy="3937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3" name="Group 21"/>
              <p:cNvGrpSpPr/>
              <p:nvPr/>
            </p:nvGrpSpPr>
            <p:grpSpPr>
              <a:xfrm>
                <a:off x="8175240" y="268200"/>
                <a:ext cx="1438560" cy="1438560"/>
                <a:chOff x="8175240" y="268200"/>
                <a:chExt cx="1438560" cy="1438560"/>
              </a:xfrm>
            </p:grpSpPr>
            <p:pic>
              <p:nvPicPr>
                <p:cNvPr id="84" name="椭圆 5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75240" y="268200"/>
                  <a:ext cx="143856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23"/>
                <p:cNvSpPr/>
                <p:nvPr/>
              </p:nvSpPr>
              <p:spPr>
                <a:xfrm>
                  <a:off x="8383320" y="478800"/>
                  <a:ext cx="10184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86" name="Picture 4" descr="C:\Documents and Settings\Administrator\桌面\图片2副本.png"/>
              <p:cNvPicPr/>
              <p:nvPr/>
            </p:nvPicPr>
            <p:blipFill>
              <a:blip r:embed="rId11"/>
              <a:stretch/>
            </p:blipFill>
            <p:spPr>
              <a:xfrm>
                <a:off x="7381440" y="1087200"/>
                <a:ext cx="1794240" cy="251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Group 25"/>
              <p:cNvGrpSpPr/>
              <p:nvPr/>
            </p:nvGrpSpPr>
            <p:grpSpPr>
              <a:xfrm>
                <a:off x="6219360" y="3179880"/>
                <a:ext cx="2924640" cy="1272960"/>
                <a:chOff x="6219360" y="3179880"/>
                <a:chExt cx="2924640" cy="1272960"/>
              </a:xfrm>
            </p:grpSpPr>
            <p:pic>
              <p:nvPicPr>
                <p:cNvPr id="88" name="Picture 7" descr="C:\Documents and Settings\Administrator\桌面\2011831中秋\3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19360" y="3179880"/>
                  <a:ext cx="2924640" cy="1272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" descr="C:\Documents and Settings\Administrator\桌面\未标题-1-02.p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773920" y="4176360"/>
                  <a:ext cx="153360" cy="225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90" name="Picture 6" descr="C:\Documents and Settings\Administrator\桌面\2011831中秋\2.png"/>
            <p:cNvPicPr/>
            <p:nvPr/>
          </p:nvPicPr>
          <p:blipFill>
            <a:blip r:embed="rId14"/>
            <a:stretch/>
          </p:blipFill>
          <p:spPr>
            <a:xfrm>
              <a:off x="0" y="439920"/>
              <a:ext cx="914436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C:\Documents and Settings\Administrator\桌面\2011831中秋\2.png"/>
            <p:cNvPicPr/>
            <p:nvPr/>
          </p:nvPicPr>
          <p:blipFill>
            <a:blip r:embed="rId15"/>
            <a:stretch/>
          </p:blipFill>
          <p:spPr>
            <a:xfrm>
              <a:off x="0" y="4371840"/>
              <a:ext cx="914436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矩形​​ 7"/>
          <p:cNvSpPr/>
          <p:nvPr/>
        </p:nvSpPr>
        <p:spPr>
          <a:xfrm>
            <a:off x="1425600" y="2297160"/>
            <a:ext cx="64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每年农历八月十五日，是传统的中秋佳节。这时是一年秋季的中期，所以被称为中秋。八月十五的月亮比其他几个月的满月更圆，更明亮，此夜，人们仰望天空如玉如盘的朗朗明月，自然会期盼家人团聚。远在他乡的游子，也借此寄托自己对故乡和亲人的思念之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-1603440" y="-1486080"/>
            <a:ext cx="6373800" cy="6434280"/>
            <a:chOff x="-1603440" y="-1486080"/>
            <a:chExt cx="6373800" cy="6434280"/>
          </a:xfrm>
        </p:grpSpPr>
        <p:pic>
          <p:nvPicPr>
            <p:cNvPr id="94" name="Picture 8" descr="C:\Documents and Settings\Administrator\桌面\2011831中秋\9.png"/>
            <p:cNvPicPr/>
            <p:nvPr/>
          </p:nvPicPr>
          <p:blipFill>
            <a:blip r:embed="rId16"/>
            <a:stretch/>
          </p:blipFill>
          <p:spPr>
            <a:xfrm>
              <a:off x="1800" y="-3960"/>
              <a:ext cx="4752000" cy="485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6"/>
            <p:cNvGrpSpPr/>
            <p:nvPr/>
          </p:nvGrpSpPr>
          <p:grpSpPr>
            <a:xfrm>
              <a:off x="322920" y="1780920"/>
              <a:ext cx="663480" cy="968040"/>
              <a:chOff x="322920" y="1780920"/>
              <a:chExt cx="663480" cy="968040"/>
            </a:xfrm>
          </p:grpSpPr>
          <p:pic>
            <p:nvPicPr>
              <p:cNvPr id="96" name="Picture 12" descr="C:\Documents and Settings\Administrator\桌面\印章2.png"/>
              <p:cNvPicPr/>
              <p:nvPr/>
            </p:nvPicPr>
            <p:blipFill>
              <a:blip r:embed="rId17"/>
              <a:stretch/>
            </p:blipFill>
            <p:spPr>
              <a:xfrm>
                <a:off x="681480" y="2537640"/>
                <a:ext cx="211680" cy="2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Box 71"/>
              <p:cNvSpPr/>
              <p:nvPr/>
            </p:nvSpPr>
            <p:spPr>
              <a:xfrm>
                <a:off x="322920" y="1780920"/>
                <a:ext cx="484920" cy="80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bfbfbf"/>
                    </a:solidFill>
                    <a:latin typeface="方正北魏楷书简体"/>
                    <a:ea typeface="方正北魏楷书简体"/>
                  </a:rPr>
                  <a:t>但愿人长久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72"/>
              <p:cNvSpPr/>
              <p:nvPr/>
            </p:nvSpPr>
            <p:spPr>
              <a:xfrm>
                <a:off x="653760" y="1780920"/>
                <a:ext cx="332640" cy="9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bfbfbf"/>
                    </a:solidFill>
                    <a:latin typeface="方正北魏楷书简体"/>
                    <a:ea typeface="方正北魏楷书简体"/>
                  </a:rPr>
                  <a:t>千里共婵娟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9" name="Picture 10" descr="C:\Documents and Settings\Administrator\桌面\2011831中秋\10.png"/>
            <p:cNvPicPr/>
            <p:nvPr/>
          </p:nvPicPr>
          <p:blipFill>
            <a:blip r:embed="rId18"/>
            <a:stretch/>
          </p:blipFill>
          <p:spPr>
            <a:xfrm>
              <a:off x="-1603440" y="-1486080"/>
              <a:ext cx="44838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C:\Documents and Settings\Administrator\桌面\2011831中秋\12.png"/>
            <p:cNvPicPr/>
            <p:nvPr/>
          </p:nvPicPr>
          <p:blipFill>
            <a:blip r:embed="rId19"/>
            <a:stretch/>
          </p:blipFill>
          <p:spPr>
            <a:xfrm>
              <a:off x="1370160" y="3266280"/>
              <a:ext cx="3400200" cy="16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1" descr="C:\Documents and Settings\Administrator\桌面\2011831中秋\11.png"/>
            <p:cNvPicPr/>
            <p:nvPr/>
          </p:nvPicPr>
          <p:blipFill>
            <a:blip r:embed="rId20"/>
            <a:stretch/>
          </p:blipFill>
          <p:spPr>
            <a:xfrm>
              <a:off x="397080" y="-47520"/>
              <a:ext cx="3058920" cy="426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5" descr="C:\Documents and Settings\Administrator\桌面\2011831中秋\5.png"/>
          <p:cNvPicPr/>
          <p:nvPr/>
        </p:nvPicPr>
        <p:blipFill>
          <a:blip r:embed="rId21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61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6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6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6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9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-1.11111E-006 L -0.35018 -0.63395 E">
                                      <p:cBhvr>
                                        <p:cTn id="72" dur="6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6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2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7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7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A24-9FEC-44DE-985D-28FDD7E3AA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3053880" y="240192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Documents and Settings\Administrator\桌面\2011831中秋\中秋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Administrator\桌面\2011831中秋\花.png"/>
          <p:cNvPicPr/>
          <p:nvPr/>
        </p:nvPicPr>
        <p:blipFill>
          <a:blip r:embed="rId3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Administrator\桌面\2011831中秋\1.png"/>
          <p:cNvPicPr/>
          <p:nvPr/>
        </p:nvPicPr>
        <p:blipFill>
          <a:blip r:embed="rId4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0" y="1103400"/>
            <a:ext cx="9144000" cy="2388960"/>
            <a:chOff x="0" y="1103400"/>
            <a:chExt cx="9144000" cy="2388960"/>
          </a:xfrm>
        </p:grpSpPr>
        <p:sp>
          <p:nvSpPr>
            <p:cNvPr id="111" name="矩形 7"/>
            <p:cNvSpPr/>
            <p:nvPr/>
          </p:nvSpPr>
          <p:spPr>
            <a:xfrm>
              <a:off x="0" y="1369800"/>
              <a:ext cx="9144000" cy="19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Group 7"/>
            <p:cNvGrpSpPr/>
            <p:nvPr/>
          </p:nvGrpSpPr>
          <p:grpSpPr>
            <a:xfrm>
              <a:off x="5074200" y="1203120"/>
              <a:ext cx="3962520" cy="1974960"/>
              <a:chOff x="5074200" y="1203120"/>
              <a:chExt cx="3962520" cy="1974960"/>
            </a:xfrm>
          </p:grpSpPr>
          <p:pic>
            <p:nvPicPr>
              <p:cNvPr id="113" name="Picture 7" descr="C:\Documents and Settings\Administrator\桌面\2011831中秋\3.png"/>
              <p:cNvPicPr/>
              <p:nvPr/>
            </p:nvPicPr>
            <p:blipFill>
              <a:blip r:embed="rId5"/>
              <a:stretch/>
            </p:blipFill>
            <p:spPr>
              <a:xfrm>
                <a:off x="5074200" y="1203120"/>
                <a:ext cx="3962520" cy="172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Box 2"/>
              <p:cNvSpPr/>
              <p:nvPr/>
            </p:nvSpPr>
            <p:spPr>
              <a:xfrm>
                <a:off x="7376040" y="2441880"/>
                <a:ext cx="88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doni MT Black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矩形 3"/>
              <p:cNvSpPr/>
              <p:nvPr/>
            </p:nvSpPr>
            <p:spPr>
              <a:xfrm>
                <a:off x="7983360" y="2411280"/>
                <a:ext cx="87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odoni MT Black"/>
                  </a:rPr>
                  <a:t>Happ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矩形 4"/>
              <p:cNvSpPr/>
              <p:nvPr/>
            </p:nvSpPr>
            <p:spPr>
              <a:xfrm>
                <a:off x="6065640" y="2665080"/>
                <a:ext cx="210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doni MT Black"/>
                  </a:rPr>
                  <a:t>Mid-Autumn festival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7" name="组合 15390" descr=""/>
              <p:cNvPicPr/>
              <p:nvPr/>
            </p:nvPicPr>
            <p:blipFill>
              <a:blip r:embed="rId6"/>
              <a:stretch/>
            </p:blipFill>
            <p:spPr>
              <a:xfrm>
                <a:off x="8236080" y="2761560"/>
                <a:ext cx="54864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Box 29"/>
              <p:cNvSpPr/>
              <p:nvPr/>
            </p:nvSpPr>
            <p:spPr>
              <a:xfrm>
                <a:off x="6766200" y="2931840"/>
                <a:ext cx="210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方正综艺简体"/>
                    <a:ea typeface="方正综艺简体"/>
                  </a:rPr>
                  <a:t>上海锐普广告有限公司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9" name="Picture 6" descr="C:\Documents and Settings\Administrator\桌面\2011831中秋\2.png"/>
            <p:cNvPicPr/>
            <p:nvPr/>
          </p:nvPicPr>
          <p:blipFill>
            <a:blip r:embed="rId7"/>
            <a:stretch/>
          </p:blipFill>
          <p:spPr>
            <a:xfrm>
              <a:off x="0" y="1103400"/>
              <a:ext cx="91440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6" descr="C:\Documents and Settings\Administrator\桌面\2011831中秋\2.png"/>
            <p:cNvPicPr/>
            <p:nvPr/>
          </p:nvPicPr>
          <p:blipFill>
            <a:blip r:embed="rId8"/>
            <a:stretch/>
          </p:blipFill>
          <p:spPr>
            <a:xfrm>
              <a:off x="0" y="3016080"/>
              <a:ext cx="914400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6"/>
          <p:cNvGrpSpPr/>
          <p:nvPr/>
        </p:nvGrpSpPr>
        <p:grpSpPr>
          <a:xfrm>
            <a:off x="0" y="268200"/>
            <a:ext cx="9612360" cy="5183280"/>
            <a:chOff x="0" y="268200"/>
            <a:chExt cx="9612360" cy="5183280"/>
          </a:xfrm>
        </p:grpSpPr>
        <p:pic>
          <p:nvPicPr>
            <p:cNvPr id="122" name="Picture 2" descr="C:\Documents and Settings\Administrator\桌面\2011831中秋\7.png"/>
            <p:cNvPicPr/>
            <p:nvPr/>
          </p:nvPicPr>
          <p:blipFill>
            <a:blip r:embed="rId9"/>
            <a:stretch/>
          </p:blipFill>
          <p:spPr>
            <a:xfrm>
              <a:off x="4798440" y="2782080"/>
              <a:ext cx="4376520" cy="266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18"/>
            <p:cNvGrpSpPr/>
            <p:nvPr/>
          </p:nvGrpSpPr>
          <p:grpSpPr>
            <a:xfrm>
              <a:off x="0" y="268200"/>
              <a:ext cx="9612360" cy="4341600"/>
              <a:chOff x="0" y="268200"/>
              <a:chExt cx="9612360" cy="4341600"/>
            </a:xfrm>
          </p:grpSpPr>
          <p:sp>
            <p:nvSpPr>
              <p:cNvPr id="124" name="矩形 49"/>
              <p:cNvSpPr/>
              <p:nvPr/>
            </p:nvSpPr>
            <p:spPr>
              <a:xfrm>
                <a:off x="0" y="672840"/>
                <a:ext cx="9143280" cy="393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" name="Group 20"/>
              <p:cNvGrpSpPr/>
              <p:nvPr/>
            </p:nvGrpSpPr>
            <p:grpSpPr>
              <a:xfrm>
                <a:off x="8174160" y="268200"/>
                <a:ext cx="1438200" cy="1438560"/>
                <a:chOff x="8174160" y="268200"/>
                <a:chExt cx="1438200" cy="1438560"/>
              </a:xfrm>
            </p:grpSpPr>
            <p:pic>
              <p:nvPicPr>
                <p:cNvPr id="126" name="椭圆 5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74160" y="268200"/>
                  <a:ext cx="143820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Text Box 22"/>
                <p:cNvSpPr/>
                <p:nvPr/>
              </p:nvSpPr>
              <p:spPr>
                <a:xfrm>
                  <a:off x="8382240" y="478800"/>
                  <a:ext cx="101808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28" name="Picture 4" descr="C:\Documents and Settings\Administrator\桌面\图片2副本.png"/>
              <p:cNvPicPr/>
              <p:nvPr/>
            </p:nvPicPr>
            <p:blipFill>
              <a:blip r:embed="rId11"/>
              <a:stretch/>
            </p:blipFill>
            <p:spPr>
              <a:xfrm>
                <a:off x="7380360" y="1087200"/>
                <a:ext cx="1793880" cy="2513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" name="Picture 6" descr="C:\Documents and Settings\Administrator\桌面\2011831中秋\2.png"/>
            <p:cNvPicPr/>
            <p:nvPr/>
          </p:nvPicPr>
          <p:blipFill>
            <a:blip r:embed="rId12"/>
            <a:stretch/>
          </p:blipFill>
          <p:spPr>
            <a:xfrm>
              <a:off x="0" y="439920"/>
              <a:ext cx="914400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C:\Documents and Settings\Administrator\桌面\2011831中秋\2.png"/>
            <p:cNvPicPr/>
            <p:nvPr/>
          </p:nvPicPr>
          <p:blipFill>
            <a:blip r:embed="rId13"/>
            <a:stretch/>
          </p:blipFill>
          <p:spPr>
            <a:xfrm>
              <a:off x="0" y="4371840"/>
              <a:ext cx="9144000" cy="47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5" descr="C:\Documents and Settings\Administrator\桌面\2011831中秋\5.png"/>
          <p:cNvPicPr/>
          <p:nvPr/>
        </p:nvPicPr>
        <p:blipFill>
          <a:blip r:embed="rId14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15"/>
          <a:stretch/>
        </p:blipFill>
        <p:spPr>
          <a:xfrm>
            <a:off x="617400" y="336600"/>
            <a:ext cx="3597480" cy="50101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3" descr="C:\Documents and Settings\Administrator\桌面\中秋材料\卷轴字-6.png"/>
          <p:cNvPicPr/>
          <p:nvPr/>
        </p:nvPicPr>
        <p:blipFill>
          <a:blip r:embed="rId16"/>
          <a:stretch/>
        </p:blipFill>
        <p:spPr>
          <a:xfrm>
            <a:off x="1747800" y="800280"/>
            <a:ext cx="1498680" cy="25383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9"/>
          <p:cNvGrpSpPr/>
          <p:nvPr/>
        </p:nvGrpSpPr>
        <p:grpSpPr>
          <a:xfrm>
            <a:off x="4106160" y="1203480"/>
            <a:ext cx="1473840" cy="3382920"/>
            <a:chOff x="4106160" y="1203480"/>
            <a:chExt cx="1473840" cy="3382920"/>
          </a:xfrm>
        </p:grpSpPr>
        <p:sp>
          <p:nvSpPr>
            <p:cNvPr id="135" name="TextBox 84"/>
            <p:cNvSpPr/>
            <p:nvPr/>
          </p:nvSpPr>
          <p:spPr>
            <a:xfrm>
              <a:off x="4912920" y="1203480"/>
              <a:ext cx="66708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60000"/>
                  </a:solidFill>
                  <a:latin typeface="汉仪粗篆繁"/>
                  <a:ea typeface="汉仪粗篆繁"/>
                </a:rPr>
                <a:t>月圆家圆人圆事圆圆圆团团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85"/>
            <p:cNvSpPr/>
            <p:nvPr/>
          </p:nvSpPr>
          <p:spPr>
            <a:xfrm>
              <a:off x="4570560" y="1203480"/>
              <a:ext cx="66708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60000"/>
                  </a:solidFill>
                  <a:latin typeface="汉仪粗篆繁"/>
                  <a:ea typeface="汉仪粗篆繁"/>
                </a:rPr>
                <a:t>国和家和人和事和和和满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86"/>
            <p:cNvSpPr/>
            <p:nvPr/>
          </p:nvSpPr>
          <p:spPr>
            <a:xfrm>
              <a:off x="4222440" y="1203480"/>
              <a:ext cx="667080" cy="22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60000"/>
                  </a:solidFill>
                  <a:latin typeface="汉仪粗篆繁"/>
                  <a:ea typeface="汉仪粗篆繁"/>
                </a:rPr>
                <a:t>祝全家幸福和气美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87"/>
            <p:cNvSpPr/>
            <p:nvPr/>
          </p:nvSpPr>
          <p:spPr>
            <a:xfrm>
              <a:off x="4106160" y="1233720"/>
              <a:ext cx="4237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60000"/>
                  </a:solidFill>
                  <a:latin typeface="汉仪粗篆繁"/>
                  <a:ea typeface="汉仪粗篆繁"/>
                </a:rPr>
                <a:t>合家欢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Picture 7" descr="C:\Documents and Settings\Administrator\桌面\2011831中秋\3.png"/>
          <p:cNvPicPr/>
          <p:nvPr/>
        </p:nvPicPr>
        <p:blipFill>
          <a:blip r:embed="rId17"/>
          <a:stretch/>
        </p:blipFill>
        <p:spPr>
          <a:xfrm>
            <a:off x="6219720" y="3179880"/>
            <a:ext cx="2924280" cy="127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Administrator\桌面\未标题-1-02.png"/>
          <p:cNvPicPr/>
          <p:nvPr/>
        </p:nvPicPr>
        <p:blipFill>
          <a:blip r:embed="rId18"/>
          <a:stretch/>
        </p:blipFill>
        <p:spPr>
          <a:xfrm>
            <a:off x="8774280" y="4176720"/>
            <a:ext cx="152280" cy="225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3797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6:53:37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4:32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