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181B-4E22-48F6-8E79-746F91C09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7EF1-155E-466E-BB33-7BE2A24E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007E-621B-44B1-906A-438598F12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33B8-D25C-42C7-B53C-D9905A8DE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7427-DE6C-4961-B8E6-60E7FE7F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BC90-AB10-4C27-8845-7FAB0AB4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A9C4-A238-41F6-95AC-304719F0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E153-1EE7-44B4-990A-6C134C7F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E5F7-0173-4A46-BE86-6AF1B692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87BF-9B1B-415C-BF96-B23AE729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92AA-58F6-454E-9617-4DA04B7C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1C7F-0819-449E-90F5-DC92084A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74E1-02B8-4117-BE80-5B91138C912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图片6.jpg"/>
          <p:cNvPicPr/>
          <p:nvPr/>
        </p:nvPicPr>
        <p:blipFill>
          <a:blip r:embed="rId1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2646000" y="162864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欢乐小鸟卡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FA91-22B1-493D-8CEB-C7561AA471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857160"/>
          </a:xfrm>
          <a:prstGeom prst="rect">
            <a:avLst/>
          </a:prstGeom>
          <a:ln w="0">
            <a:noFill/>
          </a:ln>
        </p:spPr>
      </p:pic>
      <p:pic>
        <p:nvPicPr>
          <p:cNvPr id="48" name="图片 2" descr="22.jpg"/>
          <p:cNvPicPr/>
          <p:nvPr/>
        </p:nvPicPr>
        <p:blipFill>
          <a:blip r:embed="rId2"/>
          <a:stretch/>
        </p:blipFill>
        <p:spPr>
          <a:xfrm>
            <a:off x="0" y="6000840"/>
            <a:ext cx="9144000" cy="857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08:15:1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0:58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