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313-ABBD-4928-AD5D-890A3F8D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94A-7C42-406A-B1B2-7E578221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B41-A953-4289-AF52-F4CE5757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6C1-D4D3-42FC-A9AE-5BBF567C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4C4-145F-403A-ADF1-507885FC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E89-4C1C-4DF3-B477-6E5D22C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1DF-FCA0-4E01-814A-9FA17E4D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C87-07F2-472E-A6D8-A9EED561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016-0DA4-4655-88E4-5EF6858E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BB4-5B61-40FF-B31E-BAC809BC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E4D-62EC-4293-8AFC-476EB1B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235-3B69-4BB6-9FB6-82D773D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1248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384A6-2F74-4FB9-A2D6-610D43AF2D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314B2-0336-4BB5-81F9-B6C1A61644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内容占位符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1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 1"/>
          <p:cNvGrpSpPr/>
          <p:nvPr/>
        </p:nvGrpSpPr>
        <p:grpSpPr>
          <a:xfrm>
            <a:off x="0" y="162000"/>
            <a:ext cx="5210280" cy="3536640"/>
            <a:chOff x="0" y="162000"/>
            <a:chExt cx="5210280" cy="3536640"/>
          </a:xfrm>
        </p:grpSpPr>
        <p:sp>
          <p:nvSpPr>
            <p:cNvPr id="44" name="文本框 7"/>
            <p:cNvSpPr/>
            <p:nvPr/>
          </p:nvSpPr>
          <p:spPr>
            <a:xfrm>
              <a:off x="3382200" y="3238920"/>
              <a:ext cx="18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6efc9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2400" spc="-1" strike="noStrike">
                  <a:solidFill>
                    <a:srgbClr val="f6efc9"/>
                  </a:solidFill>
                  <a:latin typeface="华文楷体"/>
                  <a:ea typeface="华文楷体"/>
                </a:rPr>
                <a:t>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8"/>
            <p:cNvSpPr/>
            <p:nvPr/>
          </p:nvSpPr>
          <p:spPr>
            <a:xfrm>
              <a:off x="0" y="162000"/>
              <a:ext cx="48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名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0760" y="512460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ff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ff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34640" y="7779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欢乐中国年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5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2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F53-F7D1-43AE-8C3C-A7B2E7E3C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内容占位符 4" descr="2.jpg"/>
          <p:cNvPicPr/>
          <p:nvPr/>
        </p:nvPicPr>
        <p:blipFill>
          <a:blip r:embed="rId1"/>
          <a:stretch/>
        </p:blipFill>
        <p:spPr>
          <a:xfrm rot="10800000">
            <a:off x="-360" y="-360"/>
            <a:ext cx="917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1:46:00Z</dcterms:created>
  <dc:creator>pc</dc:creator>
  <dc:description>www.eeppt.com;</dc:description>
  <cp:keywords>www.eeppt.com</cp:keywords>
  <dc:language>en-US</dc:language>
  <cp:lastModifiedBy>haobaopc04</cp:lastModifiedBy>
  <dcterms:modified xsi:type="dcterms:W3CDTF">2015-09-18T13:20:58Z</dcterms:modified>
  <cp:revision>1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