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4AE-C7E3-4E1F-A5D4-27068E55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5913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F2A-C51D-4B5D-9841-7A22123D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591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591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8BC-1B1F-4B6F-A26B-22183558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6680" y="6858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6880" y="6858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591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6680" y="3591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6880" y="3591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3BE-D6FC-464C-A3AD-4F3A9338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F22C-88D8-472C-9F75-8BD33AE6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D42B-C3F1-4722-B3BE-821BA902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25E5-BCAE-4FD2-A02F-AD05554D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21CA-6EC3-4998-AC94-D1E268DC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D117-44B8-4F92-9A78-C0CC99B3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C4B2-4463-417C-86DB-FD6E7729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591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1C62-682A-48C4-97DB-67EA76AD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259-8AD0-4E99-ADE0-0EA14928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0880" y="3591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2745-CACC-4DE6-A13E-1DE0BA2C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5913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9A14-3E1F-4ECB-84A5-81C011F8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5913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B727-331A-472B-99DA-8E3C1CAB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591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0880" y="3591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3DB3-5DA2-4189-B1AC-AC0C06BA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6680" y="6858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6880" y="68580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591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6680" y="3591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6880" y="3591360"/>
            <a:ext cx="272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B095-976B-4841-8391-205F537A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255-05D6-4C03-B616-E0E24211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BED3-7455-4CE9-A3C7-137E5C2B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F56-319C-48A8-BFB2-DBB1B856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782-7594-489E-B92A-4C2AA802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591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B73-E31F-4786-9A26-593F43B7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59136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B20-F086-4BAC-8420-BC3549CF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9792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685800"/>
            <a:ext cx="4127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591360"/>
            <a:ext cx="8458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5648-34B9-42B6-9883-8751A6BD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74B5-D864-469D-97B8-5137E82641C3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3E38-5DAE-4ECA-B8E2-CD981A5C514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Loches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19560" y="83808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红色动感企业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4DD-D0FA-4B80-A46D-1172CDE83E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2300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82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230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6:04:4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46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