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525780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5257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3160" y="1573920"/>
            <a:ext cx="5257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525780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565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27400" y="1295280"/>
            <a:ext cx="2565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160" y="1573920"/>
            <a:ext cx="2565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227400" y="1573920"/>
            <a:ext cx="2565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525780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169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310840" y="1295280"/>
            <a:ext cx="169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088520" y="1295280"/>
            <a:ext cx="169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3160" y="1573920"/>
            <a:ext cx="169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310840" y="1573920"/>
            <a:ext cx="169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088520" y="1573920"/>
            <a:ext cx="169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525780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525780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525780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565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27400" y="1295280"/>
            <a:ext cx="2565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525780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3160" y="456840"/>
            <a:ext cx="52578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525780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565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27400" y="1295280"/>
            <a:ext cx="2565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3160" y="1573920"/>
            <a:ext cx="2565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525780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525780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565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27400" y="1295280"/>
            <a:ext cx="2565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227400" y="1573920"/>
            <a:ext cx="2565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525780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565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27400" y="1295280"/>
            <a:ext cx="2565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1573920"/>
            <a:ext cx="5257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525780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5257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3160" y="1573920"/>
            <a:ext cx="5257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525780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565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227400" y="1295280"/>
            <a:ext cx="2565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160" y="1573920"/>
            <a:ext cx="2565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3227400" y="1573920"/>
            <a:ext cx="2565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525780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169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310840" y="1295280"/>
            <a:ext cx="169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088520" y="1295280"/>
            <a:ext cx="169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3160" y="1573920"/>
            <a:ext cx="169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310840" y="1573920"/>
            <a:ext cx="169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4088520" y="1573920"/>
            <a:ext cx="169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525780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525780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565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227400" y="1295280"/>
            <a:ext cx="2565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525780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3160" y="456840"/>
            <a:ext cx="52578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525780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565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227400" y="1295280"/>
            <a:ext cx="2565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3160" y="1573920"/>
            <a:ext cx="2565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525780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565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227400" y="1295280"/>
            <a:ext cx="2565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227400" y="1573920"/>
            <a:ext cx="2565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525780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565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227400" y="1295280"/>
            <a:ext cx="2565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160" y="1573920"/>
            <a:ext cx="5257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06080"/>
            <a:ext cx="7696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3712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525780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560" y="456840"/>
            <a:ext cx="84265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红色激情篮球体育运动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"/>
          <p:cNvGrpSpPr/>
          <p:nvPr/>
        </p:nvGrpSpPr>
        <p:grpSpPr>
          <a:xfrm>
            <a:off x="5828400" y="3574440"/>
            <a:ext cx="1180440" cy="684000"/>
            <a:chOff x="5828400" y="3574440"/>
            <a:chExt cx="1180440" cy="684000"/>
          </a:xfrm>
        </p:grpSpPr>
        <p:grpSp>
          <p:nvGrpSpPr>
            <p:cNvPr id="469" name=""/>
            <p:cNvGrpSpPr/>
            <p:nvPr/>
          </p:nvGrpSpPr>
          <p:grpSpPr>
            <a:xfrm>
              <a:off x="5828400" y="3574440"/>
              <a:ext cx="884520" cy="684000"/>
              <a:chOff x="5828400" y="3574440"/>
              <a:chExt cx="884520" cy="684000"/>
            </a:xfrm>
          </p:grpSpPr>
          <p:sp>
            <p:nvSpPr>
              <p:cNvPr id="470" name=""/>
              <p:cNvSpPr/>
              <p:nvPr/>
            </p:nvSpPr>
            <p:spPr>
              <a:xfrm rot="16158000">
                <a:off x="5933880" y="3478320"/>
                <a:ext cx="673200" cy="876240"/>
              </a:xfrm>
              <a:prstGeom prst="upArrow">
                <a:avLst>
                  <a:gd name="adj1" fmla="val 56778"/>
                  <a:gd name="adj2" fmla="val 49419"/>
                </a:avLst>
              </a:prstGeom>
              <a:noFill/>
              <a:ln w="442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471" name=""/>
              <p:cNvGrpSpPr/>
              <p:nvPr/>
            </p:nvGrpSpPr>
            <p:grpSpPr>
              <a:xfrm>
                <a:off x="5999400" y="3777120"/>
                <a:ext cx="575280" cy="280800"/>
                <a:chOff x="5999400" y="3777120"/>
                <a:chExt cx="575280" cy="280800"/>
              </a:xfrm>
            </p:grpSpPr>
            <p:sp>
              <p:nvSpPr>
                <p:cNvPr id="472" name=""/>
                <p:cNvSpPr/>
                <p:nvPr/>
              </p:nvSpPr>
              <p:spPr>
                <a:xfrm rot="16158000">
                  <a:off x="6100200" y="3882600"/>
                  <a:ext cx="270000" cy="66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e76915"/>
                    </a:gs>
                    <a:gs pos="100000">
                      <a:srgbClr val="fbf0e8"/>
                    </a:gs>
                  </a:gsLst>
                  <a:lin ang="1354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rot="16158000">
                  <a:off x="6201720" y="3881160"/>
                  <a:ext cx="269640" cy="66960"/>
                </a:xfrm>
                <a:prstGeom prst="rect">
                  <a:avLst/>
                </a:prstGeom>
                <a:solidFill>
                  <a:srgbClr val="e769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rot="16158000">
                  <a:off x="6303240" y="3879360"/>
                  <a:ext cx="269640" cy="66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e76915"/>
                    </a:gs>
                    <a:gs pos="100000">
                      <a:srgbClr val="e06614"/>
                    </a:gs>
                  </a:gsLst>
                  <a:lin ang="1354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rot="16158000">
                  <a:off x="6404400" y="3878640"/>
                  <a:ext cx="269640" cy="66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e76915"/>
                    </a:gs>
                    <a:gs pos="100000">
                      <a:srgbClr val="331704"/>
                    </a:gs>
                  </a:gsLst>
                  <a:lin ang="1354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rot="16158000">
                  <a:off x="5933520" y="3854520"/>
                  <a:ext cx="269640" cy="135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e769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rot="16158000">
                  <a:off x="5959440" y="3867840"/>
                  <a:ext cx="226440" cy="11340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e76915"/>
                    </a:gs>
                    <a:gs pos="100000">
                      <a:srgbClr val="f8dcc9"/>
                    </a:gs>
                  </a:gsLst>
                  <a:lin ang="1894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rot="16158000">
                  <a:off x="6008400" y="3889080"/>
                  <a:ext cx="127080" cy="63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e769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9" name=""/>
            <p:cNvGrpSpPr/>
            <p:nvPr/>
          </p:nvGrpSpPr>
          <p:grpSpPr>
            <a:xfrm>
              <a:off x="6365880" y="3592440"/>
              <a:ext cx="642960" cy="642960"/>
              <a:chOff x="6365880" y="3592440"/>
              <a:chExt cx="642960" cy="642960"/>
            </a:xfrm>
          </p:grpSpPr>
          <p:sp>
            <p:nvSpPr>
              <p:cNvPr id="480" name=""/>
              <p:cNvSpPr/>
              <p:nvPr/>
            </p:nvSpPr>
            <p:spPr>
              <a:xfrm>
                <a:off x="6365880" y="3592440"/>
                <a:ext cx="642960" cy="642960"/>
              </a:xfrm>
              <a:prstGeom prst="ellipse">
                <a:avLst/>
              </a:prstGeom>
              <a:solidFill>
                <a:srgbClr val="e76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379920" y="3603960"/>
                <a:ext cx="612000" cy="612000"/>
              </a:xfrm>
              <a:prstGeom prst="donut">
                <a:avLst>
                  <a:gd name="adj" fmla="val 18810"/>
                </a:avLst>
              </a:prstGeom>
              <a:gradFill rotWithShape="0">
                <a:gsLst>
                  <a:gs pos="0">
                    <a:srgbClr val="f6cfb5"/>
                  </a:gs>
                  <a:gs pos="100000">
                    <a:srgbClr val="e7691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365880" y="3758040"/>
                <a:ext cx="642960" cy="276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483" name=""/>
          <p:cNvGrpSpPr/>
          <p:nvPr/>
        </p:nvGrpSpPr>
        <p:grpSpPr>
          <a:xfrm>
            <a:off x="5320440" y="4538880"/>
            <a:ext cx="1183320" cy="1149120"/>
            <a:chOff x="5320440" y="4538880"/>
            <a:chExt cx="1183320" cy="1149120"/>
          </a:xfrm>
        </p:grpSpPr>
        <p:grpSp>
          <p:nvGrpSpPr>
            <p:cNvPr id="484" name=""/>
            <p:cNvGrpSpPr/>
            <p:nvPr/>
          </p:nvGrpSpPr>
          <p:grpSpPr>
            <a:xfrm>
              <a:off x="5320440" y="4538880"/>
              <a:ext cx="1102680" cy="1087200"/>
              <a:chOff x="5320440" y="4538880"/>
              <a:chExt cx="1102680" cy="1087200"/>
            </a:xfrm>
          </p:grpSpPr>
          <p:sp>
            <p:nvSpPr>
              <p:cNvPr id="485" name=""/>
              <p:cNvSpPr/>
              <p:nvPr/>
            </p:nvSpPr>
            <p:spPr>
              <a:xfrm rot="18712800">
                <a:off x="5534280" y="4644000"/>
                <a:ext cx="674640" cy="876240"/>
              </a:xfrm>
              <a:prstGeom prst="upArrow">
                <a:avLst>
                  <a:gd name="adj1" fmla="val 56778"/>
                  <a:gd name="adj2" fmla="val 49313"/>
                </a:avLst>
              </a:prstGeom>
              <a:noFill/>
              <a:ln w="442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rot="18712800">
                <a:off x="5709240" y="5024520"/>
                <a:ext cx="270000" cy="66600"/>
              </a:xfrm>
              <a:prstGeom prst="rect">
                <a:avLst/>
              </a:prstGeom>
              <a:gradFill rotWithShape="0">
                <a:gsLst>
                  <a:gs pos="0">
                    <a:srgbClr val="ca2008"/>
                  </a:gs>
                  <a:gs pos="100000">
                    <a:srgbClr val="f9e9e7"/>
                  </a:gs>
                </a:gsLst>
                <a:lin ang="1098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18712800">
                <a:off x="5784480" y="5092560"/>
                <a:ext cx="270000" cy="66600"/>
              </a:xfrm>
              <a:prstGeom prst="rect">
                <a:avLst/>
              </a:prstGeom>
              <a:solidFill>
                <a:srgbClr val="ca2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18712800">
                <a:off x="5860080" y="5159160"/>
                <a:ext cx="270000" cy="66960"/>
              </a:xfrm>
              <a:prstGeom prst="rect">
                <a:avLst/>
              </a:prstGeom>
              <a:gradFill rotWithShape="0">
                <a:gsLst>
                  <a:gs pos="0">
                    <a:srgbClr val="ca2008"/>
                  </a:gs>
                  <a:gs pos="100000">
                    <a:srgbClr val="c41f07"/>
                  </a:gs>
                </a:gsLst>
                <a:lin ang="1098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18712800">
                <a:off x="5934600" y="5226840"/>
                <a:ext cx="270000" cy="66600"/>
              </a:xfrm>
              <a:prstGeom prst="rect">
                <a:avLst/>
              </a:prstGeom>
              <a:gradFill rotWithShape="0">
                <a:gsLst>
                  <a:gs pos="0">
                    <a:srgbClr val="ca2008"/>
                  </a:gs>
                  <a:gs pos="100000">
                    <a:srgbClr val="2c0701"/>
                  </a:gs>
                </a:gsLst>
                <a:lin ang="1098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18712800">
                <a:off x="5580720" y="4880520"/>
                <a:ext cx="270000" cy="134640"/>
              </a:xfrm>
              <a:prstGeom prst="triangle">
                <a:avLst>
                  <a:gd name="adj" fmla="val 50000"/>
                </a:avLst>
              </a:prstGeom>
              <a:solidFill>
                <a:srgbClr val="ca2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18712800">
                <a:off x="5608800" y="4895640"/>
                <a:ext cx="226440" cy="1130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ca2008"/>
                  </a:gs>
                  <a:gs pos="100000">
                    <a:srgbClr val="f2ccc7"/>
                  </a:gs>
                </a:gsLst>
                <a:lin ang="1638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18712800">
                <a:off x="5657760" y="4920120"/>
                <a:ext cx="127440" cy="63000"/>
              </a:xfrm>
              <a:prstGeom prst="triangle">
                <a:avLst>
                  <a:gd name="adj" fmla="val 50000"/>
                </a:avLst>
              </a:prstGeom>
              <a:solidFill>
                <a:srgbClr val="ca2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5862600" y="5045040"/>
              <a:ext cx="641160" cy="642960"/>
              <a:chOff x="5862600" y="5045040"/>
              <a:chExt cx="641160" cy="642960"/>
            </a:xfrm>
          </p:grpSpPr>
          <p:sp>
            <p:nvSpPr>
              <p:cNvPr id="494" name=""/>
              <p:cNvSpPr/>
              <p:nvPr/>
            </p:nvSpPr>
            <p:spPr>
              <a:xfrm>
                <a:off x="5862600" y="5045040"/>
                <a:ext cx="641160" cy="642960"/>
              </a:xfrm>
              <a:prstGeom prst="ellipse">
                <a:avLst/>
              </a:prstGeom>
              <a:solidFill>
                <a:srgbClr val="ca2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876640" y="5056560"/>
                <a:ext cx="610560" cy="612000"/>
              </a:xfrm>
              <a:prstGeom prst="donut">
                <a:avLst>
                  <a:gd name="adj" fmla="val 18810"/>
                </a:avLst>
              </a:prstGeom>
              <a:gradFill rotWithShape="0">
                <a:gsLst>
                  <a:gs pos="0">
                    <a:srgbClr val="edb9b1"/>
                  </a:gs>
                  <a:gs pos="100000">
                    <a:srgbClr val="ca200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862600" y="5210640"/>
                <a:ext cx="641160" cy="276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497" name=""/>
          <p:cNvGrpSpPr/>
          <p:nvPr/>
        </p:nvGrpSpPr>
        <p:grpSpPr>
          <a:xfrm>
            <a:off x="2693880" y="2735280"/>
            <a:ext cx="3213000" cy="2355840"/>
            <a:chOff x="2693880" y="2735280"/>
            <a:chExt cx="3213000" cy="2355840"/>
          </a:xfrm>
        </p:grpSpPr>
        <p:sp>
          <p:nvSpPr>
            <p:cNvPr id="498" name=""/>
            <p:cNvSpPr/>
            <p:nvPr/>
          </p:nvSpPr>
          <p:spPr>
            <a:xfrm>
              <a:off x="4749840" y="3079800"/>
              <a:ext cx="814320" cy="812880"/>
            </a:xfrm>
            <a:custGeom>
              <a:avLst/>
              <a:gdLst>
                <a:gd name="textAreaLeft" fmla="*/ 234000 w 814320"/>
                <a:gd name="textAreaRight" fmla="*/ 580320 w 814320"/>
                <a:gd name="textAreaTop" fmla="*/ 234000 h 812880"/>
                <a:gd name="textAreaBottom" fmla="*/ 578880 h 812880"/>
              </a:gdLst>
              <a:ahLst/>
              <a:rect l="textAreaLeft" t="textAreaTop" r="textAreaRight" b="textAreaBottom"/>
              <a:pathLst>
                <a:path w="21638" h="21600">
                  <a:moveTo>
                    <a:pt x="8795" y="0"/>
                  </a:moveTo>
                  <a:arcTo wR="8795" hR="8795" stAng="0" swAng="5400000"/>
                  <a:lnTo>
                    <a:pt x="0" y="12805"/>
                  </a:lnTo>
                  <a:arcTo wR="8795" hR="8795" stAng="16200000" swAng="5400000"/>
                  <a:lnTo>
                    <a:pt x="12843" y="21600"/>
                  </a:lnTo>
                  <a:arcTo wR="8795" hR="8795" stAng="10800000" swAng="5400000"/>
                  <a:lnTo>
                    <a:pt x="21638" y="8795"/>
                  </a:lnTo>
                  <a:arcTo wR="8795" hR="8795" stAng="5400000" swAng="5400000"/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5263920" y="2736720"/>
              <a:ext cx="642960" cy="642960"/>
              <a:chOff x="5263920" y="2736720"/>
              <a:chExt cx="642960" cy="642960"/>
            </a:xfrm>
          </p:grpSpPr>
          <p:sp>
            <p:nvSpPr>
              <p:cNvPr id="500" name=""/>
              <p:cNvSpPr/>
              <p:nvPr/>
            </p:nvSpPr>
            <p:spPr>
              <a:xfrm>
                <a:off x="5263920" y="2736720"/>
                <a:ext cx="642960" cy="642960"/>
              </a:xfrm>
              <a:prstGeom prst="ellipse">
                <a:avLst/>
              </a:prstGeom>
              <a:solidFill>
                <a:srgbClr val="ca2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277960" y="2748240"/>
                <a:ext cx="612000" cy="612000"/>
              </a:xfrm>
              <a:prstGeom prst="donut">
                <a:avLst>
                  <a:gd name="adj" fmla="val 18810"/>
                </a:avLst>
              </a:prstGeom>
              <a:gradFill rotWithShape="0">
                <a:gsLst>
                  <a:gs pos="0">
                    <a:srgbClr val="edb9b1"/>
                  </a:gs>
                  <a:gs pos="100000">
                    <a:srgbClr val="ca200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263920" y="2902320"/>
                <a:ext cx="642960" cy="276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4406760" y="2735280"/>
              <a:ext cx="642960" cy="642960"/>
              <a:chOff x="4406760" y="2735280"/>
              <a:chExt cx="642960" cy="642960"/>
            </a:xfrm>
          </p:grpSpPr>
          <p:sp>
            <p:nvSpPr>
              <p:cNvPr id="504" name=""/>
              <p:cNvSpPr/>
              <p:nvPr/>
            </p:nvSpPr>
            <p:spPr>
              <a:xfrm>
                <a:off x="4406760" y="2735280"/>
                <a:ext cx="642960" cy="642960"/>
              </a:xfrm>
              <a:prstGeom prst="ellipse">
                <a:avLst/>
              </a:prstGeom>
              <a:solidFill>
                <a:srgbClr val="e64f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420800" y="2746440"/>
                <a:ext cx="612360" cy="612360"/>
              </a:xfrm>
              <a:prstGeom prst="donut">
                <a:avLst>
                  <a:gd name="adj" fmla="val 18810"/>
                </a:avLst>
              </a:prstGeom>
              <a:gradFill rotWithShape="0">
                <a:gsLst>
                  <a:gs pos="0">
                    <a:srgbClr val="f6c7b5"/>
                  </a:gs>
                  <a:gs pos="100000">
                    <a:srgbClr val="e64f1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406760" y="2900880"/>
                <a:ext cx="642960" cy="27540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4406760" y="3592440"/>
              <a:ext cx="642960" cy="642960"/>
              <a:chOff x="4406760" y="3592440"/>
              <a:chExt cx="642960" cy="642960"/>
            </a:xfrm>
          </p:grpSpPr>
          <p:sp>
            <p:nvSpPr>
              <p:cNvPr id="508" name=""/>
              <p:cNvSpPr/>
              <p:nvPr/>
            </p:nvSpPr>
            <p:spPr>
              <a:xfrm>
                <a:off x="4406760" y="3592440"/>
                <a:ext cx="642960" cy="642960"/>
              </a:xfrm>
              <a:prstGeom prst="ellipse">
                <a:avLst/>
              </a:prstGeom>
              <a:solidFill>
                <a:srgbClr val="dd37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20800" y="3603600"/>
                <a:ext cx="612360" cy="612360"/>
              </a:xfrm>
              <a:prstGeom prst="donut">
                <a:avLst>
                  <a:gd name="adj" fmla="val 18810"/>
                </a:avLst>
              </a:prstGeom>
              <a:gradFill rotWithShape="0">
                <a:gsLst>
                  <a:gs pos="0">
                    <a:srgbClr val="f3c0b3"/>
                  </a:gs>
                  <a:gs pos="100000">
                    <a:srgbClr val="dd370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406760" y="3758040"/>
                <a:ext cx="642960" cy="27540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511" name=""/>
            <p:cNvSpPr/>
            <p:nvPr/>
          </p:nvSpPr>
          <p:spPr>
            <a:xfrm>
              <a:off x="3892320" y="3079800"/>
              <a:ext cx="814680" cy="812880"/>
            </a:xfrm>
            <a:custGeom>
              <a:avLst/>
              <a:gdLst>
                <a:gd name="textAreaLeft" fmla="*/ 234000 w 814680"/>
                <a:gd name="textAreaRight" fmla="*/ 580680 w 814680"/>
                <a:gd name="textAreaTop" fmla="*/ 234000 h 812880"/>
                <a:gd name="textAreaBottom" fmla="*/ 578880 h 812880"/>
              </a:gdLst>
              <a:ahLst/>
              <a:rect l="textAreaLeft" t="textAreaTop" r="textAreaRight" b="textAreaBottom"/>
              <a:pathLst>
                <a:path w="21648" h="21600">
                  <a:moveTo>
                    <a:pt x="8795" y="0"/>
                  </a:moveTo>
                  <a:arcTo wR="8795" hR="8795" stAng="0" swAng="5400000"/>
                  <a:lnTo>
                    <a:pt x="0" y="12805"/>
                  </a:lnTo>
                  <a:arcTo wR="8795" hR="8795" stAng="16200000" swAng="5400000"/>
                  <a:lnTo>
                    <a:pt x="12853" y="21600"/>
                  </a:lnTo>
                  <a:arcTo wR="8795" hR="8795" stAng="10800000" swAng="5400000"/>
                  <a:lnTo>
                    <a:pt x="21648" y="8795"/>
                  </a:lnTo>
                  <a:arcTo wR="8795" hR="8795" stAng="5400000" swAng="5400000"/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036960" y="3079800"/>
              <a:ext cx="814320" cy="812880"/>
            </a:xfrm>
            <a:custGeom>
              <a:avLst/>
              <a:gdLst>
                <a:gd name="textAreaLeft" fmla="*/ 234000 w 814320"/>
                <a:gd name="textAreaRight" fmla="*/ 580320 w 814320"/>
                <a:gd name="textAreaTop" fmla="*/ 234000 h 812880"/>
                <a:gd name="textAreaBottom" fmla="*/ 578880 h 812880"/>
              </a:gdLst>
              <a:ahLst/>
              <a:rect l="textAreaLeft" t="textAreaTop" r="textAreaRight" b="textAreaBottom"/>
              <a:pathLst>
                <a:path w="21638" h="21600">
                  <a:moveTo>
                    <a:pt x="8795" y="0"/>
                  </a:moveTo>
                  <a:arcTo wR="8795" hR="8795" stAng="0" swAng="5400000"/>
                  <a:lnTo>
                    <a:pt x="0" y="12805"/>
                  </a:lnTo>
                  <a:arcTo wR="8795" hR="8795" stAng="16200000" swAng="5400000"/>
                  <a:lnTo>
                    <a:pt x="12843" y="21600"/>
                  </a:lnTo>
                  <a:arcTo wR="8795" hR="8795" stAng="10800000" swAng="5400000"/>
                  <a:lnTo>
                    <a:pt x="21638" y="8795"/>
                  </a:lnTo>
                  <a:arcTo wR="8795" hR="8795" stAng="5400000" swAng="5400000"/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3551040" y="2736720"/>
              <a:ext cx="642960" cy="642960"/>
              <a:chOff x="3551040" y="2736720"/>
              <a:chExt cx="642960" cy="642960"/>
            </a:xfrm>
          </p:grpSpPr>
          <p:sp>
            <p:nvSpPr>
              <p:cNvPr id="514" name=""/>
              <p:cNvSpPr/>
              <p:nvPr/>
            </p:nvSpPr>
            <p:spPr>
              <a:xfrm>
                <a:off x="3551040" y="2736720"/>
                <a:ext cx="642960" cy="642960"/>
              </a:xfrm>
              <a:prstGeom prst="ellipse">
                <a:avLst/>
              </a:prstGeom>
              <a:solidFill>
                <a:srgbClr val="e76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565080" y="2748240"/>
                <a:ext cx="612000" cy="612000"/>
              </a:xfrm>
              <a:prstGeom prst="donut">
                <a:avLst>
                  <a:gd name="adj" fmla="val 18810"/>
                </a:avLst>
              </a:prstGeom>
              <a:gradFill rotWithShape="0">
                <a:gsLst>
                  <a:gs pos="0">
                    <a:srgbClr val="f6cfb5"/>
                  </a:gs>
                  <a:gs pos="100000">
                    <a:srgbClr val="e7691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551040" y="2902320"/>
                <a:ext cx="642960" cy="276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2693880" y="3592440"/>
              <a:ext cx="642960" cy="642960"/>
              <a:chOff x="2693880" y="3592440"/>
              <a:chExt cx="642960" cy="642960"/>
            </a:xfrm>
          </p:grpSpPr>
          <p:sp>
            <p:nvSpPr>
              <p:cNvPr id="518" name=""/>
              <p:cNvSpPr/>
              <p:nvPr/>
            </p:nvSpPr>
            <p:spPr>
              <a:xfrm>
                <a:off x="2693880" y="3592440"/>
                <a:ext cx="642960" cy="642960"/>
              </a:xfrm>
              <a:prstGeom prst="ellipse">
                <a:avLst/>
              </a:prstGeom>
              <a:solidFill>
                <a:srgbClr val="ca2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707920" y="3603960"/>
                <a:ext cx="612000" cy="612000"/>
              </a:xfrm>
              <a:prstGeom prst="donut">
                <a:avLst>
                  <a:gd name="adj" fmla="val 18810"/>
                </a:avLst>
              </a:prstGeom>
              <a:gradFill rotWithShape="0">
                <a:gsLst>
                  <a:gs pos="0">
                    <a:srgbClr val="edb9b1"/>
                  </a:gs>
                  <a:gs pos="100000">
                    <a:srgbClr val="ca200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693880" y="3758040"/>
                <a:ext cx="642960" cy="276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3551040" y="3592440"/>
              <a:ext cx="642960" cy="642960"/>
              <a:chOff x="3551040" y="3592440"/>
              <a:chExt cx="642960" cy="642960"/>
            </a:xfrm>
          </p:grpSpPr>
          <p:sp>
            <p:nvSpPr>
              <p:cNvPr id="522" name=""/>
              <p:cNvSpPr/>
              <p:nvPr/>
            </p:nvSpPr>
            <p:spPr>
              <a:xfrm>
                <a:off x="3551040" y="3592440"/>
                <a:ext cx="642960" cy="642960"/>
              </a:xfrm>
              <a:prstGeom prst="ellipse">
                <a:avLst/>
              </a:prstGeom>
              <a:solidFill>
                <a:srgbClr val="e64f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565080" y="3603600"/>
                <a:ext cx="612360" cy="612360"/>
              </a:xfrm>
              <a:prstGeom prst="donut">
                <a:avLst>
                  <a:gd name="adj" fmla="val 18810"/>
                </a:avLst>
              </a:prstGeom>
              <a:gradFill rotWithShape="0">
                <a:gsLst>
                  <a:gs pos="0">
                    <a:srgbClr val="f6c7b5"/>
                  </a:gs>
                  <a:gs pos="100000">
                    <a:srgbClr val="e64f1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551040" y="3758040"/>
                <a:ext cx="642960" cy="27540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695320" y="4449960"/>
              <a:ext cx="642960" cy="641160"/>
              <a:chOff x="2695320" y="4449960"/>
              <a:chExt cx="642960" cy="641160"/>
            </a:xfrm>
          </p:grpSpPr>
          <p:sp>
            <p:nvSpPr>
              <p:cNvPr id="526" name=""/>
              <p:cNvSpPr/>
              <p:nvPr/>
            </p:nvSpPr>
            <p:spPr>
              <a:xfrm>
                <a:off x="2695320" y="4449960"/>
                <a:ext cx="642960" cy="641160"/>
              </a:xfrm>
              <a:prstGeom prst="ellipse">
                <a:avLst/>
              </a:prstGeom>
              <a:solidFill>
                <a:srgbClr val="e76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709360" y="4461480"/>
                <a:ext cx="612000" cy="610560"/>
              </a:xfrm>
              <a:prstGeom prst="donut">
                <a:avLst>
                  <a:gd name="adj" fmla="val 18810"/>
                </a:avLst>
              </a:prstGeom>
              <a:gradFill rotWithShape="0">
                <a:gsLst>
                  <a:gs pos="0">
                    <a:srgbClr val="f6cfb5"/>
                  </a:gs>
                  <a:gs pos="100000">
                    <a:srgbClr val="e7691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695320" y="4615200"/>
                <a:ext cx="642960" cy="27540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529" name=""/>
            <p:cNvSpPr/>
            <p:nvPr/>
          </p:nvSpPr>
          <p:spPr>
            <a:xfrm>
              <a:off x="4751280" y="3935520"/>
              <a:ext cx="812880" cy="812880"/>
            </a:xfrm>
            <a:custGeom>
              <a:avLst/>
              <a:gdLst>
                <a:gd name="textAreaLeft" fmla="*/ 234000 w 812880"/>
                <a:gd name="textAreaRight" fmla="*/ 578880 w 812880"/>
                <a:gd name="textAreaTop" fmla="*/ 234000 h 812880"/>
                <a:gd name="textAreaBottom" fmla="*/ 578880 h 81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95" y="0"/>
                  </a:moveTo>
                  <a:arcTo wR="8795" hR="8795" stAng="0" swAng="5400000"/>
                  <a:lnTo>
                    <a:pt x="0" y="12805"/>
                  </a:lnTo>
                  <a:arcTo wR="8795" hR="8795" stAng="16200000" swAng="5400000"/>
                  <a:lnTo>
                    <a:pt x="12805" y="21600"/>
                  </a:lnTo>
                  <a:arcTo wR="8795" hR="8795" stAng="10800000" swAng="5400000"/>
                  <a:lnTo>
                    <a:pt x="21600" y="8795"/>
                  </a:lnTo>
                  <a:arcTo wR="8795" hR="8795" stAng="5400000" swAng="5400000"/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3551040" y="4449960"/>
              <a:ext cx="642960" cy="641160"/>
              <a:chOff x="3551040" y="4449960"/>
              <a:chExt cx="642960" cy="641160"/>
            </a:xfrm>
          </p:grpSpPr>
          <p:sp>
            <p:nvSpPr>
              <p:cNvPr id="531" name=""/>
              <p:cNvSpPr/>
              <p:nvPr/>
            </p:nvSpPr>
            <p:spPr>
              <a:xfrm>
                <a:off x="3551040" y="4449960"/>
                <a:ext cx="642960" cy="641160"/>
              </a:xfrm>
              <a:prstGeom prst="ellipse">
                <a:avLst/>
              </a:prstGeom>
              <a:solidFill>
                <a:srgbClr val="dd37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565080" y="4461120"/>
                <a:ext cx="612360" cy="610560"/>
              </a:xfrm>
              <a:prstGeom prst="donut">
                <a:avLst>
                  <a:gd name="adj" fmla="val 18810"/>
                </a:avLst>
              </a:prstGeom>
              <a:gradFill rotWithShape="0">
                <a:gsLst>
                  <a:gs pos="0">
                    <a:srgbClr val="f3c0b3"/>
                  </a:gs>
                  <a:gs pos="100000">
                    <a:srgbClr val="dd370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551040" y="4615200"/>
                <a:ext cx="642960" cy="2746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3894120" y="3935520"/>
              <a:ext cx="812880" cy="812880"/>
            </a:xfrm>
            <a:custGeom>
              <a:avLst/>
              <a:gdLst>
                <a:gd name="textAreaLeft" fmla="*/ 234000 w 812880"/>
                <a:gd name="textAreaRight" fmla="*/ 578880 w 812880"/>
                <a:gd name="textAreaTop" fmla="*/ 234000 h 812880"/>
                <a:gd name="textAreaBottom" fmla="*/ 578880 h 81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95" y="0"/>
                  </a:moveTo>
                  <a:arcTo wR="8795" hR="8795" stAng="0" swAng="5400000"/>
                  <a:lnTo>
                    <a:pt x="0" y="12805"/>
                  </a:lnTo>
                  <a:arcTo wR="8795" hR="8795" stAng="16200000" swAng="5400000"/>
                  <a:lnTo>
                    <a:pt x="12805" y="21600"/>
                  </a:lnTo>
                  <a:arcTo wR="8795" hR="8795" stAng="10800000" swAng="5400000"/>
                  <a:lnTo>
                    <a:pt x="21600" y="8795"/>
                  </a:lnTo>
                  <a:arcTo wR="8795" hR="8795" stAng="5400000" swAng="5400000"/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038400" y="3935520"/>
              <a:ext cx="812880" cy="812880"/>
            </a:xfrm>
            <a:custGeom>
              <a:avLst/>
              <a:gdLst>
                <a:gd name="textAreaLeft" fmla="*/ 234000 w 812880"/>
                <a:gd name="textAreaRight" fmla="*/ 578880 w 812880"/>
                <a:gd name="textAreaTop" fmla="*/ 234000 h 812880"/>
                <a:gd name="textAreaBottom" fmla="*/ 578880 h 81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95" y="0"/>
                  </a:moveTo>
                  <a:arcTo wR="8795" hR="8795" stAng="0" swAng="5400000"/>
                  <a:lnTo>
                    <a:pt x="0" y="12805"/>
                  </a:lnTo>
                  <a:arcTo wR="8795" hR="8795" stAng="16200000" swAng="5400000"/>
                  <a:lnTo>
                    <a:pt x="12805" y="21600"/>
                  </a:lnTo>
                  <a:arcTo wR="8795" hR="8795" stAng="10800000" swAng="5400000"/>
                  <a:lnTo>
                    <a:pt x="21600" y="8795"/>
                  </a:lnTo>
                  <a:arcTo wR="8795" hR="8795" stAng="5400000" swAng="5400000"/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536" name=""/>
            <p:cNvGrpSpPr/>
            <p:nvPr/>
          </p:nvGrpSpPr>
          <p:grpSpPr>
            <a:xfrm>
              <a:off x="4406760" y="4449960"/>
              <a:ext cx="642960" cy="641160"/>
              <a:chOff x="4406760" y="4449960"/>
              <a:chExt cx="642960" cy="641160"/>
            </a:xfrm>
          </p:grpSpPr>
          <p:sp>
            <p:nvSpPr>
              <p:cNvPr id="537" name=""/>
              <p:cNvSpPr/>
              <p:nvPr/>
            </p:nvSpPr>
            <p:spPr>
              <a:xfrm>
                <a:off x="4406760" y="4449960"/>
                <a:ext cx="642960" cy="641160"/>
              </a:xfrm>
              <a:prstGeom prst="ellipse">
                <a:avLst/>
              </a:prstGeom>
              <a:solidFill>
                <a:srgbClr val="e64f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420800" y="4461120"/>
                <a:ext cx="612360" cy="610560"/>
              </a:xfrm>
              <a:prstGeom prst="donut">
                <a:avLst>
                  <a:gd name="adj" fmla="val 18810"/>
                </a:avLst>
              </a:prstGeom>
              <a:gradFill rotWithShape="0">
                <a:gsLst>
                  <a:gs pos="0">
                    <a:srgbClr val="f6c7b5"/>
                  </a:gs>
                  <a:gs pos="100000">
                    <a:srgbClr val="e64f1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406760" y="4615200"/>
                <a:ext cx="642960" cy="2746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540" name=""/>
          <p:cNvGrpSpPr/>
          <p:nvPr/>
        </p:nvGrpSpPr>
        <p:grpSpPr>
          <a:xfrm>
            <a:off x="1895400" y="2195640"/>
            <a:ext cx="1312200" cy="1114920"/>
            <a:chOff x="1895400" y="2195640"/>
            <a:chExt cx="1312200" cy="1114920"/>
          </a:xfrm>
        </p:grpSpPr>
        <p:grpSp>
          <p:nvGrpSpPr>
            <p:cNvPr id="541" name=""/>
            <p:cNvGrpSpPr/>
            <p:nvPr/>
          </p:nvGrpSpPr>
          <p:grpSpPr>
            <a:xfrm>
              <a:off x="2104560" y="2267640"/>
              <a:ext cx="1103040" cy="1042920"/>
              <a:chOff x="2104560" y="2267640"/>
              <a:chExt cx="1103040" cy="1042920"/>
            </a:xfrm>
          </p:grpSpPr>
          <p:sp>
            <p:nvSpPr>
              <p:cNvPr id="542" name=""/>
              <p:cNvSpPr/>
              <p:nvPr/>
            </p:nvSpPr>
            <p:spPr>
              <a:xfrm rot="7383000">
                <a:off x="2319120" y="2350080"/>
                <a:ext cx="673200" cy="878040"/>
              </a:xfrm>
              <a:prstGeom prst="upArrow">
                <a:avLst>
                  <a:gd name="adj1" fmla="val 56778"/>
                  <a:gd name="adj2" fmla="val 49520"/>
                </a:avLst>
              </a:prstGeom>
              <a:noFill/>
              <a:ln w="442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7383000">
                <a:off x="2549520" y="2778480"/>
                <a:ext cx="269640" cy="66960"/>
              </a:xfrm>
              <a:prstGeom prst="rect">
                <a:avLst/>
              </a:prstGeom>
              <a:gradFill rotWithShape="0">
                <a:gsLst>
                  <a:gs pos="0">
                    <a:srgbClr val="dd370e"/>
                  </a:gs>
                  <a:gs pos="100000">
                    <a:srgbClr val="faece8"/>
                  </a:gs>
                </a:gsLst>
                <a:lin ang="135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7383000">
                <a:off x="2465280" y="2722680"/>
                <a:ext cx="269280" cy="66960"/>
              </a:xfrm>
              <a:prstGeom prst="rect">
                <a:avLst/>
              </a:prstGeom>
              <a:solidFill>
                <a:srgbClr val="dd37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7383000">
                <a:off x="2379960" y="2668320"/>
                <a:ext cx="269280" cy="66960"/>
              </a:xfrm>
              <a:prstGeom prst="rect">
                <a:avLst/>
              </a:prstGeom>
              <a:gradFill rotWithShape="0">
                <a:gsLst>
                  <a:gs pos="0">
                    <a:srgbClr val="dd370e"/>
                  </a:gs>
                  <a:gs pos="100000">
                    <a:srgbClr val="d6350d"/>
                  </a:gs>
                </a:gsLst>
                <a:lin ang="135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7383000">
                <a:off x="2295360" y="2612520"/>
                <a:ext cx="269280" cy="66960"/>
              </a:xfrm>
              <a:prstGeom prst="rect">
                <a:avLst/>
              </a:prstGeom>
              <a:gradFill rotWithShape="0">
                <a:gsLst>
                  <a:gs pos="0">
                    <a:srgbClr val="dd370e"/>
                  </a:gs>
                  <a:gs pos="100000">
                    <a:srgbClr val="310c03"/>
                  </a:gs>
                </a:gsLst>
                <a:lin ang="135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7383000">
                <a:off x="2693520" y="2833200"/>
                <a:ext cx="269640" cy="135000"/>
              </a:xfrm>
              <a:prstGeom prst="triangle">
                <a:avLst>
                  <a:gd name="adj" fmla="val 50000"/>
                </a:avLst>
              </a:prstGeom>
              <a:solidFill>
                <a:srgbClr val="dd37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7383000">
                <a:off x="2710800" y="2837880"/>
                <a:ext cx="226080" cy="1130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d370e"/>
                  </a:gs>
                  <a:gs pos="100000">
                    <a:srgbClr val="f6d1c8"/>
                  </a:gs>
                </a:gsLst>
                <a:lin ang="189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7383000">
                <a:off x="2758680" y="2866320"/>
                <a:ext cx="127080" cy="63000"/>
              </a:xfrm>
              <a:prstGeom prst="triangle">
                <a:avLst>
                  <a:gd name="adj" fmla="val 50000"/>
                </a:avLst>
              </a:prstGeom>
              <a:solidFill>
                <a:srgbClr val="dd37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1895400" y="2195640"/>
              <a:ext cx="642960" cy="642960"/>
              <a:chOff x="1895400" y="2195640"/>
              <a:chExt cx="642960" cy="642960"/>
            </a:xfrm>
          </p:grpSpPr>
          <p:sp>
            <p:nvSpPr>
              <p:cNvPr id="551" name=""/>
              <p:cNvSpPr/>
              <p:nvPr/>
            </p:nvSpPr>
            <p:spPr>
              <a:xfrm>
                <a:off x="1895400" y="2195640"/>
                <a:ext cx="642960" cy="642960"/>
              </a:xfrm>
              <a:prstGeom prst="ellipse">
                <a:avLst/>
              </a:prstGeom>
              <a:solidFill>
                <a:srgbClr val="dd37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909440" y="2206800"/>
                <a:ext cx="612360" cy="612360"/>
              </a:xfrm>
              <a:prstGeom prst="donut">
                <a:avLst>
                  <a:gd name="adj" fmla="val 18810"/>
                </a:avLst>
              </a:prstGeom>
              <a:gradFill rotWithShape="0">
                <a:gsLst>
                  <a:gs pos="0">
                    <a:srgbClr val="f3c0b3"/>
                  </a:gs>
                  <a:gs pos="100000">
                    <a:srgbClr val="dd370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895400" y="2361240"/>
                <a:ext cx="642960" cy="27540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"/>
          <p:cNvSpPr/>
          <p:nvPr/>
        </p:nvSpPr>
        <p:spPr>
          <a:xfrm>
            <a:off x="6576840" y="5261040"/>
            <a:ext cx="1308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4d4d4d"/>
                </a:solidFill>
                <a:latin typeface="Arial"/>
                <a:ea typeface="Gulim"/>
              </a:rPr>
              <a:t>Your Tex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080120" y="3892680"/>
            <a:ext cx="1308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4d4d4d"/>
                </a:solidFill>
                <a:latin typeface="Arial"/>
                <a:ea typeface="Gulim"/>
              </a:rPr>
              <a:t>Your Tex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87520" y="2452680"/>
            <a:ext cx="130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4d4d4d"/>
                </a:solidFill>
                <a:latin typeface="Arial"/>
                <a:ea typeface="Gulim"/>
              </a:rPr>
              <a:t>Your Tex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rot="16200000">
            <a:off x="4158720" y="123840"/>
            <a:ext cx="60696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  <a:ea typeface="Gulim"/>
              </a:rPr>
              <a:t>Add title tex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39640" y="836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76915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9" name=""/>
          <p:cNvGraphicFramePr/>
          <p:nvPr/>
        </p:nvGraphicFramePr>
        <p:xfrm>
          <a:off x="1514520" y="1486080"/>
          <a:ext cx="4967280" cy="414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486080"/>
                    <a:ext cx="4967280" cy="41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"/>
          <p:cNvGrpSpPr/>
          <p:nvPr/>
        </p:nvGrpSpPr>
        <p:grpSpPr>
          <a:xfrm>
            <a:off x="466560" y="2247840"/>
            <a:ext cx="3241800" cy="2305080"/>
            <a:chOff x="466560" y="2247840"/>
            <a:chExt cx="3241800" cy="2305080"/>
          </a:xfrm>
        </p:grpSpPr>
        <p:sp>
          <p:nvSpPr>
            <p:cNvPr id="562" name=""/>
            <p:cNvSpPr/>
            <p:nvPr/>
          </p:nvSpPr>
          <p:spPr>
            <a:xfrm rot="16200000">
              <a:off x="1957320" y="1046160"/>
              <a:ext cx="546120" cy="29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d4d4d"/>
                  </a:solidFill>
                  <a:latin typeface="Arial"/>
                  <a:ea typeface="Gulim"/>
                </a:rPr>
                <a:t>Add text title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16200000">
              <a:off x="1957320" y="1622160"/>
              <a:ext cx="546120" cy="29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d4d4d"/>
                  </a:solidFill>
                  <a:latin typeface="Arial"/>
                  <a:ea typeface="Gulim"/>
                </a:rPr>
                <a:t>Add text title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16200000">
              <a:off x="1957320" y="2225520"/>
              <a:ext cx="546120" cy="29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d4d4d"/>
                  </a:solidFill>
                  <a:latin typeface="Arial"/>
                  <a:ea typeface="Gulim"/>
                </a:rPr>
                <a:t>Add text title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6200000">
              <a:off x="1960200" y="2774520"/>
              <a:ext cx="546120" cy="29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d4d4d"/>
                  </a:solidFill>
                  <a:latin typeface="Arial"/>
                  <a:ea typeface="Gulim"/>
                </a:rPr>
                <a:t>Add text title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469800" y="4336920"/>
              <a:ext cx="2449440" cy="216000"/>
              <a:chOff x="469800" y="4336920"/>
              <a:chExt cx="2449440" cy="216000"/>
            </a:xfrm>
          </p:grpSpPr>
          <p:sp>
            <p:nvSpPr>
              <p:cNvPr id="567" name=""/>
              <p:cNvSpPr/>
              <p:nvPr/>
            </p:nvSpPr>
            <p:spPr>
              <a:xfrm>
                <a:off x="614160" y="4411440"/>
                <a:ext cx="2305080" cy="69840"/>
              </a:xfrm>
              <a:prstGeom prst="rect">
                <a:avLst/>
              </a:prstGeom>
              <a:solidFill>
                <a:srgbClr val="ca2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69800" y="4336920"/>
                <a:ext cx="216000" cy="2160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ca20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466560" y="3760560"/>
              <a:ext cx="2449440" cy="216000"/>
              <a:chOff x="466560" y="3760560"/>
              <a:chExt cx="2449440" cy="216000"/>
            </a:xfrm>
          </p:grpSpPr>
          <p:sp>
            <p:nvSpPr>
              <p:cNvPr id="570" name=""/>
              <p:cNvSpPr/>
              <p:nvPr/>
            </p:nvSpPr>
            <p:spPr>
              <a:xfrm>
                <a:off x="610920" y="3835080"/>
                <a:ext cx="2305080" cy="69840"/>
              </a:xfrm>
              <a:prstGeom prst="rect">
                <a:avLst/>
              </a:prstGeom>
              <a:solidFill>
                <a:srgbClr val="dd37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66560" y="3760560"/>
                <a:ext cx="216000" cy="2160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dd370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466560" y="3184560"/>
              <a:ext cx="2449440" cy="215640"/>
              <a:chOff x="466560" y="3184560"/>
              <a:chExt cx="2449440" cy="215640"/>
            </a:xfrm>
          </p:grpSpPr>
          <p:sp>
            <p:nvSpPr>
              <p:cNvPr id="573" name=""/>
              <p:cNvSpPr/>
              <p:nvPr/>
            </p:nvSpPr>
            <p:spPr>
              <a:xfrm>
                <a:off x="610920" y="3258720"/>
                <a:ext cx="2305080" cy="69480"/>
              </a:xfrm>
              <a:prstGeom prst="rect">
                <a:avLst/>
              </a:prstGeom>
              <a:solidFill>
                <a:srgbClr val="e76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66560" y="3184560"/>
                <a:ext cx="216000" cy="215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e769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466560" y="2608200"/>
              <a:ext cx="2449440" cy="216000"/>
              <a:chOff x="466560" y="2608200"/>
              <a:chExt cx="2449440" cy="216000"/>
            </a:xfrm>
          </p:grpSpPr>
          <p:sp>
            <p:nvSpPr>
              <p:cNvPr id="576" name=""/>
              <p:cNvSpPr/>
              <p:nvPr/>
            </p:nvSpPr>
            <p:spPr>
              <a:xfrm>
                <a:off x="610920" y="2679480"/>
                <a:ext cx="2305080" cy="73080"/>
              </a:xfrm>
              <a:prstGeom prst="rect">
                <a:avLst/>
              </a:prstGeom>
              <a:solidFill>
                <a:srgbClr val="e64f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66560" y="2608200"/>
                <a:ext cx="216000" cy="2160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e64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578" name=""/>
          <p:cNvGrpSpPr/>
          <p:nvPr/>
        </p:nvGrpSpPr>
        <p:grpSpPr>
          <a:xfrm>
            <a:off x="3924360" y="1600200"/>
            <a:ext cx="4537080" cy="3600360"/>
            <a:chOff x="3924360" y="1600200"/>
            <a:chExt cx="4537080" cy="3600360"/>
          </a:xfrm>
        </p:grpSpPr>
        <p:sp>
          <p:nvSpPr>
            <p:cNvPr id="579" name=""/>
            <p:cNvSpPr/>
            <p:nvPr/>
          </p:nvSpPr>
          <p:spPr>
            <a:xfrm>
              <a:off x="3924360" y="2679840"/>
              <a:ext cx="4537080" cy="25207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924360" y="2655720"/>
              <a:ext cx="4537080" cy="24717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6f6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932360" y="1600200"/>
              <a:ext cx="1295640" cy="1584360"/>
            </a:xfrm>
            <a:prstGeom prst="can">
              <a:avLst>
                <a:gd name="adj" fmla="val 46694"/>
              </a:avLst>
            </a:prstGeom>
            <a:solidFill>
              <a:srgbClr val="dd37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300720" y="1600200"/>
              <a:ext cx="1295640" cy="1584360"/>
            </a:xfrm>
            <a:prstGeom prst="can">
              <a:avLst>
                <a:gd name="adj" fmla="val 46694"/>
              </a:avLst>
            </a:prstGeom>
            <a:solidFill>
              <a:srgbClr val="e64f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581800" y="2392200"/>
              <a:ext cx="1295280" cy="1584360"/>
            </a:xfrm>
            <a:prstGeom prst="can">
              <a:avLst>
                <a:gd name="adj" fmla="val 46694"/>
              </a:avLst>
            </a:prstGeom>
            <a:solidFill>
              <a:srgbClr val="e76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211640" y="2392200"/>
              <a:ext cx="1295280" cy="1584360"/>
            </a:xfrm>
            <a:prstGeom prst="can">
              <a:avLst>
                <a:gd name="adj" fmla="val 46694"/>
              </a:avLst>
            </a:prstGeom>
            <a:solidFill>
              <a:srgbClr val="ca2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948720" y="2392200"/>
              <a:ext cx="1295280" cy="1584360"/>
            </a:xfrm>
            <a:prstGeom prst="can">
              <a:avLst>
                <a:gd name="adj" fmla="val 46694"/>
              </a:avLst>
            </a:prstGeom>
            <a:solidFill>
              <a:srgbClr val="dd37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932360" y="3184560"/>
              <a:ext cx="1295640" cy="1584360"/>
            </a:xfrm>
            <a:prstGeom prst="can">
              <a:avLst>
                <a:gd name="adj" fmla="val 46694"/>
              </a:avLst>
            </a:prstGeom>
            <a:solidFill>
              <a:srgbClr val="dd37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300720" y="3184560"/>
              <a:ext cx="1295640" cy="1584360"/>
            </a:xfrm>
            <a:prstGeom prst="can">
              <a:avLst>
                <a:gd name="adj" fmla="val 46694"/>
              </a:avLst>
            </a:prstGeom>
            <a:solidFill>
              <a:srgbClr val="e64f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241880" y="2416320"/>
              <a:ext cx="1235160" cy="691920"/>
            </a:xfrm>
            <a:prstGeom prst="ellipse">
              <a:avLst/>
            </a:prstGeom>
            <a:gradFill rotWithShape="0">
              <a:gsLst>
                <a:gs pos="0">
                  <a:srgbClr val="edb9b1"/>
                </a:gs>
                <a:gs pos="100000">
                  <a:srgbClr val="ca2008">
                    <a:alpha val="23137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211640" y="2549520"/>
              <a:ext cx="1297080" cy="405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Concep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962600" y="3209760"/>
              <a:ext cx="1235160" cy="692280"/>
            </a:xfrm>
            <a:prstGeom prst="ellipse">
              <a:avLst/>
            </a:prstGeom>
            <a:gradFill rotWithShape="0">
              <a:gsLst>
                <a:gs pos="0">
                  <a:srgbClr val="f3c0b3"/>
                </a:gs>
                <a:gs pos="100000">
                  <a:srgbClr val="dd370e">
                    <a:alpha val="23137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610240" y="2409840"/>
              <a:ext cx="1235160" cy="692280"/>
            </a:xfrm>
            <a:prstGeom prst="ellipse">
              <a:avLst/>
            </a:prstGeom>
            <a:gradFill rotWithShape="0">
              <a:gsLst>
                <a:gs pos="0">
                  <a:srgbClr val="f6cfb5"/>
                </a:gs>
                <a:gs pos="100000">
                  <a:srgbClr val="e76915">
                    <a:alpha val="23137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327720" y="3205080"/>
              <a:ext cx="1235160" cy="692280"/>
            </a:xfrm>
            <a:prstGeom prst="ellipse">
              <a:avLst/>
            </a:prstGeom>
            <a:gradFill rotWithShape="0">
              <a:gsLst>
                <a:gs pos="0">
                  <a:srgbClr val="f6c7b5"/>
                </a:gs>
                <a:gs pos="100000">
                  <a:srgbClr val="e64f13">
                    <a:alpha val="23137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932360" y="3328920"/>
              <a:ext cx="1297080" cy="405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Concep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78560" y="2536920"/>
              <a:ext cx="1297080" cy="405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Concep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299280" y="3341520"/>
              <a:ext cx="1297080" cy="405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Concep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957920" y="1619280"/>
              <a:ext cx="1234800" cy="692280"/>
            </a:xfrm>
            <a:prstGeom prst="ellipse">
              <a:avLst/>
            </a:prstGeom>
            <a:gradFill rotWithShape="0">
              <a:gsLst>
                <a:gs pos="0">
                  <a:srgbClr val="f3c0b3"/>
                </a:gs>
                <a:gs pos="100000">
                  <a:srgbClr val="dd370e">
                    <a:alpha val="23137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972480" y="2414520"/>
              <a:ext cx="1234800" cy="692280"/>
            </a:xfrm>
            <a:prstGeom prst="ellipse">
              <a:avLst/>
            </a:prstGeom>
            <a:gradFill rotWithShape="0">
              <a:gsLst>
                <a:gs pos="0">
                  <a:srgbClr val="f3c0b3"/>
                </a:gs>
                <a:gs pos="100000">
                  <a:srgbClr val="dd370e">
                    <a:alpha val="23137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330960" y="1622520"/>
              <a:ext cx="1235160" cy="691920"/>
            </a:xfrm>
            <a:prstGeom prst="ellipse">
              <a:avLst/>
            </a:prstGeom>
            <a:gradFill rotWithShape="0">
              <a:gsLst>
                <a:gs pos="0">
                  <a:srgbClr val="f6c7b5"/>
                </a:gs>
                <a:gs pos="100000">
                  <a:srgbClr val="e64f13">
                    <a:alpha val="23137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"/>
          <p:cNvGrpSpPr/>
          <p:nvPr/>
        </p:nvGrpSpPr>
        <p:grpSpPr>
          <a:xfrm>
            <a:off x="5102280" y="2664000"/>
            <a:ext cx="2880720" cy="2428200"/>
            <a:chOff x="5102280" y="2664000"/>
            <a:chExt cx="2880720" cy="2428200"/>
          </a:xfrm>
        </p:grpSpPr>
        <p:sp>
          <p:nvSpPr>
            <p:cNvPr id="600" name=""/>
            <p:cNvSpPr/>
            <p:nvPr/>
          </p:nvSpPr>
          <p:spPr>
            <a:xfrm>
              <a:off x="5102280" y="4102920"/>
              <a:ext cx="1080360" cy="98928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f2ac90"/>
                </a:gs>
                <a:gs pos="100000">
                  <a:srgbClr val="e64f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002280" y="4102920"/>
              <a:ext cx="1080360" cy="98928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eea18d"/>
                </a:gs>
                <a:gs pos="100000">
                  <a:srgbClr val="dd37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902640" y="4102920"/>
              <a:ext cx="1080360" cy="98928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e5968b"/>
                </a:gs>
                <a:gs pos="100000">
                  <a:srgbClr val="ca20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54080" y="3383640"/>
              <a:ext cx="1080720" cy="98892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f2b891"/>
                </a:gs>
                <a:gs pos="100000">
                  <a:srgbClr val="e769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452280" y="3383640"/>
              <a:ext cx="1080360" cy="98892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eea18d"/>
                </a:gs>
                <a:gs pos="100000">
                  <a:srgbClr val="dd37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002280" y="2664000"/>
              <a:ext cx="1080360" cy="98892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e5968b"/>
                </a:gs>
                <a:gs pos="100000">
                  <a:srgbClr val="ca20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1285920" y="4175280"/>
            <a:ext cx="865080" cy="728280"/>
            <a:chOff x="1285920" y="4175280"/>
            <a:chExt cx="865080" cy="728280"/>
          </a:xfrm>
        </p:grpSpPr>
        <p:sp>
          <p:nvSpPr>
            <p:cNvPr id="607" name=""/>
            <p:cNvSpPr/>
            <p:nvPr/>
          </p:nvSpPr>
          <p:spPr>
            <a:xfrm>
              <a:off x="1285920" y="4606920"/>
              <a:ext cx="324360" cy="29664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f2ac90"/>
                </a:gs>
                <a:gs pos="100000">
                  <a:srgbClr val="e64f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556280" y="4606920"/>
              <a:ext cx="324360" cy="29664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eea18d"/>
                </a:gs>
                <a:gs pos="100000">
                  <a:srgbClr val="dd37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826640" y="4606920"/>
              <a:ext cx="324360" cy="29664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e5968b"/>
                </a:gs>
                <a:gs pos="100000">
                  <a:srgbClr val="ca20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421640" y="4391280"/>
              <a:ext cx="324360" cy="29664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f2b891"/>
                </a:gs>
                <a:gs pos="100000">
                  <a:srgbClr val="e769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691280" y="4391280"/>
              <a:ext cx="324360" cy="29664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eea18d"/>
                </a:gs>
                <a:gs pos="100000">
                  <a:srgbClr val="dd37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556280" y="4175280"/>
              <a:ext cx="324360" cy="29664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e5968b"/>
                </a:gs>
                <a:gs pos="100000">
                  <a:srgbClr val="ca20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2813040" y="3409560"/>
            <a:ext cx="1682280" cy="1421280"/>
            <a:chOff x="2813040" y="3409560"/>
            <a:chExt cx="1682280" cy="1421280"/>
          </a:xfrm>
        </p:grpSpPr>
        <p:sp>
          <p:nvSpPr>
            <p:cNvPr id="614" name=""/>
            <p:cNvSpPr/>
            <p:nvPr/>
          </p:nvSpPr>
          <p:spPr>
            <a:xfrm rot="4662600">
              <a:off x="3087360" y="3382560"/>
              <a:ext cx="1133280" cy="1474920"/>
            </a:xfrm>
            <a:prstGeom prst="upArrow">
              <a:avLst>
                <a:gd name="adj1" fmla="val 56778"/>
                <a:gd name="adj2" fmla="val 49413"/>
              </a:avLst>
            </a:prstGeom>
            <a:noFill/>
            <a:ln w="442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rot="4662600">
              <a:off x="3474000" y="4052520"/>
              <a:ext cx="453600" cy="1126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cfcfc"/>
                </a:gs>
              </a:gsLst>
              <a:lin ang="18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4662600">
              <a:off x="3306960" y="4088520"/>
              <a:ext cx="453960" cy="11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0f0f0"/>
                </a:gs>
              </a:gsLst>
              <a:lin ang="18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4662600">
              <a:off x="3141360" y="4125240"/>
              <a:ext cx="453600" cy="1126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e3e3e3"/>
                </a:gs>
              </a:gsLst>
              <a:lin ang="18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4662600">
              <a:off x="2976480" y="4161240"/>
              <a:ext cx="453600" cy="1126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343434"/>
                </a:gs>
              </a:gsLst>
              <a:lin ang="18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4662600">
              <a:off x="3749400" y="3927960"/>
              <a:ext cx="453960" cy="227160"/>
            </a:xfrm>
            <a:prstGeom prst="triangle">
              <a:avLst>
                <a:gd name="adj" fmla="val 50000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4662600">
              <a:off x="3787920" y="3946320"/>
              <a:ext cx="380880" cy="190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f9f9f9"/>
                </a:gs>
              </a:gsLst>
              <a:lin ang="558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4662600">
              <a:off x="3858120" y="3992040"/>
              <a:ext cx="214200" cy="106560"/>
            </a:xfrm>
            <a:prstGeom prst="triangle">
              <a:avLst>
                <a:gd name="adj" fmla="val 50000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622" name=""/>
          <p:cNvSpPr/>
          <p:nvPr/>
        </p:nvSpPr>
        <p:spPr>
          <a:xfrm rot="16200000">
            <a:off x="4042800" y="123840"/>
            <a:ext cx="60696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  <a:ea typeface="Gulim"/>
              </a:rPr>
              <a:t>Add title tex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883120" y="5183280"/>
            <a:ext cx="1308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4d4d4d"/>
                </a:solidFill>
                <a:latin typeface="Arial"/>
                <a:ea typeface="Gulim"/>
              </a:rPr>
              <a:t>Your Tex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143000" y="4967280"/>
            <a:ext cx="1308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4d4d4d"/>
                </a:solidFill>
                <a:latin typeface="Arial"/>
                <a:ea typeface="Gulim"/>
              </a:rPr>
              <a:t>Your Tex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2281320" y="4132440"/>
            <a:ext cx="1081080" cy="988920"/>
          </a:xfrm>
          <a:prstGeom prst="cube">
            <a:avLst>
              <a:gd name="adj" fmla="val 30662"/>
            </a:avLst>
          </a:prstGeom>
          <a:gradFill rotWithShape="0">
            <a:gsLst>
              <a:gs pos="0">
                <a:srgbClr val="f2ac90"/>
              </a:gs>
              <a:gs pos="100000">
                <a:srgbClr val="e64f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711520" y="3429000"/>
            <a:ext cx="1081080" cy="990720"/>
          </a:xfrm>
          <a:prstGeom prst="cube">
            <a:avLst>
              <a:gd name="adj" fmla="val 30662"/>
            </a:avLst>
          </a:prstGeom>
          <a:gradFill rotWithShape="0">
            <a:gsLst>
              <a:gs pos="0">
                <a:srgbClr val="f2b891"/>
              </a:gs>
              <a:gs pos="100000">
                <a:srgbClr val="e7691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144960" y="2692440"/>
            <a:ext cx="1079280" cy="990720"/>
          </a:xfrm>
          <a:prstGeom prst="cube">
            <a:avLst>
              <a:gd name="adj" fmla="val 30662"/>
            </a:avLst>
          </a:prstGeom>
          <a:gradFill rotWithShape="0">
            <a:gsLst>
              <a:gs pos="0">
                <a:srgbClr val="eea18d"/>
              </a:gs>
              <a:gs pos="100000">
                <a:srgbClr val="dd370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576600" y="1990800"/>
            <a:ext cx="1081080" cy="988920"/>
          </a:xfrm>
          <a:prstGeom prst="cube">
            <a:avLst>
              <a:gd name="adj" fmla="val 30662"/>
            </a:avLst>
          </a:prstGeom>
          <a:gradFill rotWithShape="0">
            <a:gsLst>
              <a:gs pos="0">
                <a:srgbClr val="e5968b"/>
              </a:gs>
              <a:gs pos="100000">
                <a:srgbClr val="ca20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rot="12657600">
            <a:off x="1618920" y="1522440"/>
            <a:ext cx="72900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  <a:ea typeface="Gulim"/>
              </a:rPr>
              <a:t>Add title text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rot="18130200">
            <a:off x="624240" y="2959920"/>
            <a:ext cx="3456000" cy="432000"/>
          </a:xfrm>
          <a:prstGeom prst="rightArrow">
            <a:avLst>
              <a:gd name="adj1" fmla="val 50000"/>
              <a:gd name="adj2" fmla="val 110259"/>
            </a:avLst>
          </a:prstGeom>
          <a:gradFill rotWithShape="0">
            <a:gsLst>
              <a:gs pos="0">
                <a:srgbClr val="eaeaea"/>
              </a:gs>
              <a:gs pos="100000">
                <a:srgbClr val="fefefe"/>
              </a:gs>
            </a:gsLst>
            <a:lin ang="142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5365800" y="2384280"/>
            <a:ext cx="3238560" cy="576360"/>
            <a:chOff x="5365800" y="2384280"/>
            <a:chExt cx="3238560" cy="576360"/>
          </a:xfrm>
        </p:grpSpPr>
        <p:sp>
          <p:nvSpPr>
            <p:cNvPr id="632" name=""/>
            <p:cNvSpPr/>
            <p:nvPr/>
          </p:nvSpPr>
          <p:spPr>
            <a:xfrm rot="16200000">
              <a:off x="6856560" y="1182600"/>
              <a:ext cx="546120" cy="29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d4d4d"/>
                  </a:solidFill>
                  <a:latin typeface="Arial"/>
                  <a:ea typeface="Gulim"/>
                </a:rPr>
                <a:t>Add text 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5365800" y="2744640"/>
              <a:ext cx="2449440" cy="216000"/>
              <a:chOff x="5365800" y="2744640"/>
              <a:chExt cx="2449440" cy="216000"/>
            </a:xfrm>
          </p:grpSpPr>
          <p:sp>
            <p:nvSpPr>
              <p:cNvPr id="634" name=""/>
              <p:cNvSpPr/>
              <p:nvPr/>
            </p:nvSpPr>
            <p:spPr>
              <a:xfrm>
                <a:off x="5510160" y="2819160"/>
                <a:ext cx="2305080" cy="69840"/>
              </a:xfrm>
              <a:prstGeom prst="rect">
                <a:avLst/>
              </a:prstGeom>
              <a:solidFill>
                <a:srgbClr val="ca2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365800" y="2744640"/>
                <a:ext cx="216000" cy="2160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ca20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636" name=""/>
          <p:cNvGrpSpPr/>
          <p:nvPr/>
        </p:nvGrpSpPr>
        <p:grpSpPr>
          <a:xfrm>
            <a:off x="5003640" y="3105000"/>
            <a:ext cx="3238560" cy="549360"/>
            <a:chOff x="5003640" y="3105000"/>
            <a:chExt cx="3238560" cy="549360"/>
          </a:xfrm>
        </p:grpSpPr>
        <p:sp>
          <p:nvSpPr>
            <p:cNvPr id="637" name=""/>
            <p:cNvSpPr/>
            <p:nvPr/>
          </p:nvSpPr>
          <p:spPr>
            <a:xfrm rot="16200000">
              <a:off x="6494400" y="1903320"/>
              <a:ext cx="546120" cy="29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d4d4d"/>
                  </a:solidFill>
                  <a:latin typeface="Arial"/>
                  <a:ea typeface="Gulim"/>
                </a:rPr>
                <a:t>Add text 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638" name=""/>
            <p:cNvGrpSpPr/>
            <p:nvPr/>
          </p:nvGrpSpPr>
          <p:grpSpPr>
            <a:xfrm>
              <a:off x="5003640" y="3438360"/>
              <a:ext cx="2449440" cy="216000"/>
              <a:chOff x="5003640" y="3438360"/>
              <a:chExt cx="2449440" cy="216000"/>
            </a:xfrm>
          </p:grpSpPr>
          <p:sp>
            <p:nvSpPr>
              <p:cNvPr id="639" name=""/>
              <p:cNvSpPr/>
              <p:nvPr/>
            </p:nvSpPr>
            <p:spPr>
              <a:xfrm>
                <a:off x="5148000" y="3512880"/>
                <a:ext cx="2305080" cy="69840"/>
              </a:xfrm>
              <a:prstGeom prst="rect">
                <a:avLst/>
              </a:prstGeom>
              <a:solidFill>
                <a:srgbClr val="dd37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003640" y="3438360"/>
                <a:ext cx="216000" cy="2160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dd370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641" name=""/>
          <p:cNvGrpSpPr/>
          <p:nvPr/>
        </p:nvGrpSpPr>
        <p:grpSpPr>
          <a:xfrm>
            <a:off x="4430880" y="3824280"/>
            <a:ext cx="3237840" cy="576360"/>
            <a:chOff x="4430880" y="3824280"/>
            <a:chExt cx="3237840" cy="576360"/>
          </a:xfrm>
        </p:grpSpPr>
        <p:sp>
          <p:nvSpPr>
            <p:cNvPr id="642" name=""/>
            <p:cNvSpPr/>
            <p:nvPr/>
          </p:nvSpPr>
          <p:spPr>
            <a:xfrm rot="16200000">
              <a:off x="5920920" y="2622600"/>
              <a:ext cx="546120" cy="29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d4d4d"/>
                  </a:solidFill>
                  <a:latin typeface="Arial"/>
                  <a:ea typeface="Gulim"/>
                </a:rPr>
                <a:t>Add text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643" name=""/>
            <p:cNvGrpSpPr/>
            <p:nvPr/>
          </p:nvGrpSpPr>
          <p:grpSpPr>
            <a:xfrm>
              <a:off x="4430880" y="4184640"/>
              <a:ext cx="2448720" cy="216000"/>
              <a:chOff x="4430880" y="4184640"/>
              <a:chExt cx="2448720" cy="216000"/>
            </a:xfrm>
          </p:grpSpPr>
          <p:sp>
            <p:nvSpPr>
              <p:cNvPr id="644" name=""/>
              <p:cNvSpPr/>
              <p:nvPr/>
            </p:nvSpPr>
            <p:spPr>
              <a:xfrm>
                <a:off x="4574880" y="4259160"/>
                <a:ext cx="2304720" cy="69840"/>
              </a:xfrm>
              <a:prstGeom prst="rect">
                <a:avLst/>
              </a:prstGeom>
              <a:solidFill>
                <a:srgbClr val="e76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430880" y="4184640"/>
                <a:ext cx="215640" cy="2160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e769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646" name=""/>
          <p:cNvGrpSpPr/>
          <p:nvPr/>
        </p:nvGrpSpPr>
        <p:grpSpPr>
          <a:xfrm>
            <a:off x="3924360" y="4545000"/>
            <a:ext cx="3238560" cy="576360"/>
            <a:chOff x="3924360" y="4545000"/>
            <a:chExt cx="3238560" cy="576360"/>
          </a:xfrm>
        </p:grpSpPr>
        <p:sp>
          <p:nvSpPr>
            <p:cNvPr id="647" name=""/>
            <p:cNvSpPr/>
            <p:nvPr/>
          </p:nvSpPr>
          <p:spPr>
            <a:xfrm rot="16200000">
              <a:off x="5415120" y="3343320"/>
              <a:ext cx="546120" cy="29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d4d4d"/>
                  </a:solidFill>
                  <a:latin typeface="Arial"/>
                  <a:ea typeface="Gulim"/>
                </a:rPr>
                <a:t>Add text 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3924360" y="4905360"/>
              <a:ext cx="2449440" cy="216000"/>
              <a:chOff x="3924360" y="4905360"/>
              <a:chExt cx="2449440" cy="216000"/>
            </a:xfrm>
          </p:grpSpPr>
          <p:sp>
            <p:nvSpPr>
              <p:cNvPr id="649" name=""/>
              <p:cNvSpPr/>
              <p:nvPr/>
            </p:nvSpPr>
            <p:spPr>
              <a:xfrm>
                <a:off x="4068720" y="4976640"/>
                <a:ext cx="2305080" cy="73080"/>
              </a:xfrm>
              <a:prstGeom prst="rect">
                <a:avLst/>
              </a:prstGeom>
              <a:solidFill>
                <a:srgbClr val="e64f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924360" y="4905360"/>
                <a:ext cx="216000" cy="2160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e64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 rot="1948800">
            <a:off x="4233600" y="3510000"/>
            <a:ext cx="2592360" cy="1081080"/>
          </a:xfrm>
          <a:custGeom>
            <a:avLst/>
            <a:gdLst>
              <a:gd name="textAreaLeft" fmla="*/ 405000 w 2592360"/>
              <a:gd name="textAreaRight" fmla="*/ 2295360 w 2592360"/>
              <a:gd name="textAreaTop" fmla="*/ 229680 h 1081080"/>
              <a:gd name="textAreaBottom" fmla="*/ 851400 h 1081080"/>
            </a:gdLst>
            <a:ahLst/>
            <a:rect l="textAreaLeft" t="textAreaTop" r="textAreaRight" b="textAreaBottom"/>
            <a:pathLst>
              <a:path w="21600" h="21600">
                <a:moveTo>
                  <a:pt x="3375" y="4589"/>
                </a:moveTo>
                <a:lnTo>
                  <a:pt x="17296" y="4589"/>
                </a:lnTo>
                <a:lnTo>
                  <a:pt x="17296" y="0"/>
                </a:lnTo>
                <a:lnTo>
                  <a:pt x="21600" y="10800"/>
                </a:lnTo>
                <a:lnTo>
                  <a:pt x="17296" y="21600"/>
                </a:lnTo>
                <a:lnTo>
                  <a:pt x="17296" y="17011"/>
                </a:lnTo>
                <a:lnTo>
                  <a:pt x="3375" y="17011"/>
                </a:lnTo>
                <a:close/>
              </a:path>
              <a:path w="21600" h="21600">
                <a:moveTo>
                  <a:pt x="0" y="4589"/>
                </a:moveTo>
                <a:lnTo>
                  <a:pt x="675" y="4589"/>
                </a:lnTo>
                <a:lnTo>
                  <a:pt x="675" y="17011"/>
                </a:lnTo>
                <a:lnTo>
                  <a:pt x="0" y="17011"/>
                </a:lnTo>
                <a:close/>
              </a:path>
              <a:path w="21600" h="21600">
                <a:moveTo>
                  <a:pt x="1350" y="4589"/>
                </a:moveTo>
                <a:lnTo>
                  <a:pt x="2700" y="4589"/>
                </a:lnTo>
                <a:lnTo>
                  <a:pt x="2700" y="17011"/>
                </a:lnTo>
                <a:lnTo>
                  <a:pt x="1350" y="17011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fefefe"/>
              </a:gs>
            </a:gsLst>
            <a:lin ang="88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rot="19553400">
            <a:off x="4233960" y="2430000"/>
            <a:ext cx="2592360" cy="1081080"/>
          </a:xfrm>
          <a:custGeom>
            <a:avLst/>
            <a:gdLst>
              <a:gd name="textAreaLeft" fmla="*/ 405000 w 2592360"/>
              <a:gd name="textAreaRight" fmla="*/ 2295360 w 2592360"/>
              <a:gd name="textAreaTop" fmla="*/ 229680 h 1081080"/>
              <a:gd name="textAreaBottom" fmla="*/ 851400 h 1081080"/>
            </a:gdLst>
            <a:ahLst/>
            <a:rect l="textAreaLeft" t="textAreaTop" r="textAreaRight" b="textAreaBottom"/>
            <a:pathLst>
              <a:path w="21600" h="21600">
                <a:moveTo>
                  <a:pt x="3375" y="4589"/>
                </a:moveTo>
                <a:lnTo>
                  <a:pt x="17296" y="4589"/>
                </a:lnTo>
                <a:lnTo>
                  <a:pt x="17296" y="0"/>
                </a:lnTo>
                <a:lnTo>
                  <a:pt x="21600" y="10800"/>
                </a:lnTo>
                <a:lnTo>
                  <a:pt x="17296" y="21600"/>
                </a:lnTo>
                <a:lnTo>
                  <a:pt x="17296" y="17011"/>
                </a:lnTo>
                <a:lnTo>
                  <a:pt x="3375" y="17011"/>
                </a:lnTo>
                <a:close/>
              </a:path>
              <a:path w="21600" h="21600">
                <a:moveTo>
                  <a:pt x="0" y="4589"/>
                </a:moveTo>
                <a:lnTo>
                  <a:pt x="675" y="4589"/>
                </a:lnTo>
                <a:lnTo>
                  <a:pt x="675" y="17011"/>
                </a:lnTo>
                <a:lnTo>
                  <a:pt x="0" y="17011"/>
                </a:lnTo>
                <a:close/>
              </a:path>
              <a:path w="21600" h="21600">
                <a:moveTo>
                  <a:pt x="1350" y="4589"/>
                </a:moveTo>
                <a:lnTo>
                  <a:pt x="2700" y="4589"/>
                </a:lnTo>
                <a:lnTo>
                  <a:pt x="2700" y="17011"/>
                </a:lnTo>
                <a:lnTo>
                  <a:pt x="1350" y="17011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fefefe"/>
              </a:gs>
            </a:gsLst>
            <a:lin ang="128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01600" y="2143080"/>
            <a:ext cx="2952720" cy="2879640"/>
          </a:xfrm>
          <a:custGeom>
            <a:avLst/>
            <a:gdLst>
              <a:gd name="textAreaLeft" fmla="*/ 461160 w 2952720"/>
              <a:gd name="textAreaRight" fmla="*/ 2374200 w 2952720"/>
              <a:gd name="textAreaTop" fmla="*/ 523800 h 2879640"/>
              <a:gd name="textAreaBottom" fmla="*/ 2355840 h 2879640"/>
            </a:gdLst>
            <a:ahLst/>
            <a:rect l="textAreaLeft" t="textAreaTop" r="textAreaRight" b="textAreaBottom"/>
            <a:pathLst>
              <a:path w="21600" h="21600">
                <a:moveTo>
                  <a:pt x="3375" y="3929"/>
                </a:moveTo>
                <a:lnTo>
                  <a:pt x="14946" y="3929"/>
                </a:lnTo>
                <a:lnTo>
                  <a:pt x="14946" y="0"/>
                </a:lnTo>
                <a:lnTo>
                  <a:pt x="21600" y="10800"/>
                </a:lnTo>
                <a:lnTo>
                  <a:pt x="14946" y="21600"/>
                </a:lnTo>
                <a:lnTo>
                  <a:pt x="14946" y="17671"/>
                </a:lnTo>
                <a:lnTo>
                  <a:pt x="3375" y="17671"/>
                </a:lnTo>
                <a:close/>
              </a:path>
              <a:path w="21600" h="21600">
                <a:moveTo>
                  <a:pt x="0" y="3929"/>
                </a:moveTo>
                <a:lnTo>
                  <a:pt x="675" y="3929"/>
                </a:lnTo>
                <a:lnTo>
                  <a:pt x="675" y="17671"/>
                </a:lnTo>
                <a:lnTo>
                  <a:pt x="0" y="17671"/>
                </a:lnTo>
                <a:close/>
              </a:path>
              <a:path w="21600" h="21600">
                <a:moveTo>
                  <a:pt x="1350" y="3929"/>
                </a:moveTo>
                <a:lnTo>
                  <a:pt x="2700" y="3929"/>
                </a:lnTo>
                <a:lnTo>
                  <a:pt x="2700" y="17671"/>
                </a:lnTo>
                <a:lnTo>
                  <a:pt x="1350" y="17671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272880" y="2287440"/>
            <a:ext cx="2087640" cy="576360"/>
            <a:chOff x="272880" y="2287440"/>
            <a:chExt cx="2087640" cy="576360"/>
          </a:xfrm>
        </p:grpSpPr>
        <p:sp>
          <p:nvSpPr>
            <p:cNvPr id="655" name=""/>
            <p:cNvSpPr/>
            <p:nvPr/>
          </p:nvSpPr>
          <p:spPr>
            <a:xfrm>
              <a:off x="272880" y="2287440"/>
              <a:ext cx="2087640" cy="576360"/>
            </a:xfrm>
            <a:prstGeom prst="roundRect">
              <a:avLst>
                <a:gd name="adj" fmla="val 32782"/>
              </a:avLst>
            </a:prstGeom>
            <a:solidFill>
              <a:srgbClr val="ca2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10800000">
              <a:off x="303120" y="2309760"/>
              <a:ext cx="2031840" cy="311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a2008">
                    <a:alpha val="37254"/>
                  </a:srgbClr>
                </a:gs>
                <a:gs pos="100000">
                  <a:srgbClr val="e79f95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716760" y="2287440"/>
            <a:ext cx="1128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74680" y="2936880"/>
            <a:ext cx="2087640" cy="574560"/>
            <a:chOff x="274680" y="2936880"/>
            <a:chExt cx="2087640" cy="574560"/>
          </a:xfrm>
        </p:grpSpPr>
        <p:sp>
          <p:nvSpPr>
            <p:cNvPr id="659" name=""/>
            <p:cNvSpPr/>
            <p:nvPr/>
          </p:nvSpPr>
          <p:spPr>
            <a:xfrm>
              <a:off x="274680" y="2936880"/>
              <a:ext cx="2087640" cy="574560"/>
            </a:xfrm>
            <a:prstGeom prst="roundRect">
              <a:avLst>
                <a:gd name="adj" fmla="val 34532"/>
              </a:avLst>
            </a:prstGeom>
            <a:solidFill>
              <a:srgbClr val="e76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10800000">
              <a:off x="302760" y="2960640"/>
              <a:ext cx="2032200" cy="311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76915">
                    <a:alpha val="37254"/>
                  </a:srgbClr>
                </a:gs>
                <a:gs pos="100000">
                  <a:srgbClr val="f3be9b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272880" y="3583080"/>
            <a:ext cx="2087640" cy="576000"/>
            <a:chOff x="272880" y="3583080"/>
            <a:chExt cx="2087640" cy="576000"/>
          </a:xfrm>
        </p:grpSpPr>
        <p:sp>
          <p:nvSpPr>
            <p:cNvPr id="662" name=""/>
            <p:cNvSpPr/>
            <p:nvPr/>
          </p:nvSpPr>
          <p:spPr>
            <a:xfrm>
              <a:off x="272880" y="3583080"/>
              <a:ext cx="2087640" cy="576000"/>
            </a:xfrm>
            <a:prstGeom prst="roundRect">
              <a:avLst>
                <a:gd name="adj" fmla="val 32231"/>
              </a:avLst>
            </a:prstGeom>
            <a:solidFill>
              <a:srgbClr val="e64f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10800000">
              <a:off x="299880" y="3601440"/>
              <a:ext cx="2031840" cy="310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64f13">
                    <a:alpha val="37254"/>
                  </a:srgbClr>
                </a:gs>
                <a:gs pos="100000">
                  <a:srgbClr val="f4bca5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272880" y="4232160"/>
            <a:ext cx="2087640" cy="574560"/>
            <a:chOff x="272880" y="4232160"/>
            <a:chExt cx="2087640" cy="574560"/>
          </a:xfrm>
        </p:grpSpPr>
        <p:sp>
          <p:nvSpPr>
            <p:cNvPr id="665" name=""/>
            <p:cNvSpPr/>
            <p:nvPr/>
          </p:nvSpPr>
          <p:spPr>
            <a:xfrm>
              <a:off x="272880" y="4232160"/>
              <a:ext cx="2087640" cy="574560"/>
            </a:xfrm>
            <a:prstGeom prst="roundRect">
              <a:avLst>
                <a:gd name="adj" fmla="val 30662"/>
              </a:avLst>
            </a:prstGeom>
            <a:solidFill>
              <a:srgbClr val="dd37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10800000">
              <a:off x="296280" y="4255920"/>
              <a:ext cx="2032200" cy="311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370e">
                    <a:alpha val="37254"/>
                  </a:srgbClr>
                </a:gs>
                <a:gs pos="100000">
                  <a:srgbClr val="f1b3a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667" name=""/>
          <p:cNvSpPr/>
          <p:nvPr/>
        </p:nvSpPr>
        <p:spPr>
          <a:xfrm>
            <a:off x="718200" y="2914560"/>
            <a:ext cx="1128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18200" y="3583080"/>
            <a:ext cx="1128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18200" y="4232160"/>
            <a:ext cx="1128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125480" y="3728880"/>
            <a:ext cx="1128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125480" y="4397400"/>
            <a:ext cx="1128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125480" y="5046840"/>
            <a:ext cx="1128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125480" y="1711440"/>
            <a:ext cx="1128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4111200" y="504720"/>
            <a:ext cx="60696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  <a:ea typeface="Gulim"/>
              </a:rPr>
              <a:t>Add title tex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3154320" y="2430360"/>
            <a:ext cx="2303280" cy="2303280"/>
            <a:chOff x="3154320" y="2430360"/>
            <a:chExt cx="2303280" cy="2303280"/>
          </a:xfrm>
        </p:grpSpPr>
        <p:grpSp>
          <p:nvGrpSpPr>
            <p:cNvPr id="676" name=""/>
            <p:cNvGrpSpPr/>
            <p:nvPr/>
          </p:nvGrpSpPr>
          <p:grpSpPr>
            <a:xfrm>
              <a:off x="3154320" y="2430360"/>
              <a:ext cx="2303280" cy="2303280"/>
              <a:chOff x="3154320" y="2430360"/>
              <a:chExt cx="2303280" cy="2303280"/>
            </a:xfrm>
          </p:grpSpPr>
          <p:grpSp>
            <p:nvGrpSpPr>
              <p:cNvPr id="677" name=""/>
              <p:cNvGrpSpPr/>
              <p:nvPr/>
            </p:nvGrpSpPr>
            <p:grpSpPr>
              <a:xfrm>
                <a:off x="3154320" y="2430360"/>
                <a:ext cx="2303280" cy="2303280"/>
                <a:chOff x="3154320" y="2430360"/>
                <a:chExt cx="2303280" cy="2303280"/>
              </a:xfrm>
            </p:grpSpPr>
            <p:sp>
              <p:nvSpPr>
                <p:cNvPr id="678" name=""/>
                <p:cNvSpPr/>
                <p:nvPr/>
              </p:nvSpPr>
              <p:spPr>
                <a:xfrm>
                  <a:off x="3154320" y="2430360"/>
                  <a:ext cx="2303280" cy="2303280"/>
                </a:xfrm>
                <a:prstGeom prst="ellipse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3187800" y="2433240"/>
                  <a:ext cx="2244960" cy="224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0" name=""/>
              <p:cNvSpPr/>
              <p:nvPr/>
            </p:nvSpPr>
            <p:spPr>
              <a:xfrm flipH="1">
                <a:off x="3336840" y="2640960"/>
                <a:ext cx="1935360" cy="1834560"/>
              </a:xfrm>
              <a:prstGeom prst="ellipse">
                <a:avLst/>
              </a:prstGeom>
              <a:solidFill>
                <a:srgbClr val="ca2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>
                <a:off x="3519720" y="2696760"/>
                <a:ext cx="1566000" cy="1210680"/>
              </a:xfrm>
              <a:prstGeom prst="ellipse">
                <a:avLst/>
              </a:prstGeom>
              <a:gradFill rotWithShape="0">
                <a:gsLst>
                  <a:gs pos="0">
                    <a:srgbClr val="e69b90"/>
                  </a:gs>
                  <a:gs pos="100000">
                    <a:srgbClr val="ca2008">
                      <a:alpha val="3725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>
              <a:off x="3524040" y="3243240"/>
              <a:ext cx="1565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Concept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6826320" y="1805040"/>
            <a:ext cx="2087640" cy="576360"/>
            <a:chOff x="6826320" y="1805040"/>
            <a:chExt cx="2087640" cy="576360"/>
          </a:xfrm>
        </p:grpSpPr>
        <p:sp>
          <p:nvSpPr>
            <p:cNvPr id="684" name=""/>
            <p:cNvSpPr/>
            <p:nvPr/>
          </p:nvSpPr>
          <p:spPr>
            <a:xfrm>
              <a:off x="6826320" y="1805040"/>
              <a:ext cx="2087640" cy="576360"/>
            </a:xfrm>
            <a:prstGeom prst="roundRect">
              <a:avLst>
                <a:gd name="adj" fmla="val 32782"/>
              </a:avLst>
            </a:prstGeom>
            <a:solidFill>
              <a:srgbClr val="ca2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10800000">
              <a:off x="6856560" y="1827360"/>
              <a:ext cx="2031840" cy="311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a2008">
                    <a:alpha val="37254"/>
                  </a:srgbClr>
                </a:gs>
                <a:gs pos="100000">
                  <a:srgbClr val="e79f95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6827760" y="3751200"/>
            <a:ext cx="2087640" cy="574560"/>
            <a:chOff x="6827760" y="3751200"/>
            <a:chExt cx="2087640" cy="574560"/>
          </a:xfrm>
        </p:grpSpPr>
        <p:sp>
          <p:nvSpPr>
            <p:cNvPr id="687" name=""/>
            <p:cNvSpPr/>
            <p:nvPr/>
          </p:nvSpPr>
          <p:spPr>
            <a:xfrm>
              <a:off x="6827760" y="3751200"/>
              <a:ext cx="2087640" cy="574560"/>
            </a:xfrm>
            <a:prstGeom prst="roundRect">
              <a:avLst>
                <a:gd name="adj" fmla="val 34532"/>
              </a:avLst>
            </a:prstGeom>
            <a:solidFill>
              <a:srgbClr val="e76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10800000">
              <a:off x="6855840" y="3774960"/>
              <a:ext cx="2032200" cy="311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76915">
                    <a:alpha val="37254"/>
                  </a:srgbClr>
                </a:gs>
                <a:gs pos="100000">
                  <a:srgbClr val="f3be9b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6826320" y="4397400"/>
            <a:ext cx="2087640" cy="576360"/>
            <a:chOff x="6826320" y="4397400"/>
            <a:chExt cx="2087640" cy="576360"/>
          </a:xfrm>
        </p:grpSpPr>
        <p:sp>
          <p:nvSpPr>
            <p:cNvPr id="690" name=""/>
            <p:cNvSpPr/>
            <p:nvPr/>
          </p:nvSpPr>
          <p:spPr>
            <a:xfrm>
              <a:off x="6826320" y="4397400"/>
              <a:ext cx="2087640" cy="576360"/>
            </a:xfrm>
            <a:prstGeom prst="roundRect">
              <a:avLst>
                <a:gd name="adj" fmla="val 32231"/>
              </a:avLst>
            </a:prstGeom>
            <a:solidFill>
              <a:srgbClr val="e64f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10800000">
              <a:off x="6853320" y="4416480"/>
              <a:ext cx="2031840" cy="311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64f13">
                    <a:alpha val="37254"/>
                  </a:srgbClr>
                </a:gs>
                <a:gs pos="100000">
                  <a:srgbClr val="f4bca5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6826320" y="5046840"/>
            <a:ext cx="2087640" cy="574560"/>
            <a:chOff x="6826320" y="5046840"/>
            <a:chExt cx="2087640" cy="574560"/>
          </a:xfrm>
        </p:grpSpPr>
        <p:sp>
          <p:nvSpPr>
            <p:cNvPr id="693" name=""/>
            <p:cNvSpPr/>
            <p:nvPr/>
          </p:nvSpPr>
          <p:spPr>
            <a:xfrm>
              <a:off x="6826320" y="5046840"/>
              <a:ext cx="2087640" cy="574560"/>
            </a:xfrm>
            <a:prstGeom prst="roundRect">
              <a:avLst>
                <a:gd name="adj" fmla="val 30662"/>
              </a:avLst>
            </a:prstGeom>
            <a:solidFill>
              <a:srgbClr val="dd37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10800000">
              <a:off x="6849720" y="5070600"/>
              <a:ext cx="2032200" cy="311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370e">
                    <a:alpha val="37254"/>
                  </a:srgbClr>
                </a:gs>
                <a:gs pos="100000">
                  <a:srgbClr val="f1b3a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7271640" y="1833480"/>
            <a:ext cx="1128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7273080" y="3778200"/>
            <a:ext cx="1128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273080" y="4446720"/>
            <a:ext cx="1128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7273080" y="5095800"/>
            <a:ext cx="1128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2833560" y="2198520"/>
            <a:ext cx="576360" cy="505080"/>
          </a:xfrm>
          <a:custGeom>
            <a:avLst/>
            <a:gdLst>
              <a:gd name="textAreaLeft" fmla="*/ 0 w 576360"/>
              <a:gd name="textAreaRight" fmla="*/ 576720 w 576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a5a5a5"/>
              </a:gs>
              <a:gs pos="100000">
                <a:srgbClr val="eaeae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rot="10800000">
            <a:off x="5354280" y="3206880"/>
            <a:ext cx="576360" cy="504720"/>
          </a:xfrm>
          <a:custGeom>
            <a:avLst/>
            <a:gdLst>
              <a:gd name="textAreaLeft" fmla="*/ 0 w 576360"/>
              <a:gd name="textAreaRight" fmla="*/ 576720 w 57636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a5a5a5"/>
              </a:gs>
              <a:gs pos="100000">
                <a:srgbClr val="eaeae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5354640" y="2198520"/>
            <a:ext cx="719280" cy="504720"/>
            <a:chOff x="5354640" y="2198520"/>
            <a:chExt cx="719280" cy="504720"/>
          </a:xfrm>
        </p:grpSpPr>
        <p:sp>
          <p:nvSpPr>
            <p:cNvPr id="702" name=""/>
            <p:cNvSpPr/>
            <p:nvPr/>
          </p:nvSpPr>
          <p:spPr>
            <a:xfrm>
              <a:off x="5784840" y="2198520"/>
              <a:ext cx="289080" cy="504720"/>
            </a:xfrm>
            <a:custGeom>
              <a:avLst/>
              <a:gdLst>
                <a:gd name="textAreaLeft" fmla="*/ 0 w 289080"/>
                <a:gd name="textAreaRight" fmla="*/ 289080 w 28908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1275" y="0"/>
                  </a:lnTo>
                  <a:lnTo>
                    <a:pt x="21600" y="10800"/>
                  </a:lnTo>
                  <a:lnTo>
                    <a:pt x="11275" y="21600"/>
                  </a:lnTo>
                  <a:lnTo>
                    <a:pt x="0" y="21600"/>
                  </a:lnTo>
                  <a:lnTo>
                    <a:pt x="1032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a5a5a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568840" y="2198520"/>
              <a:ext cx="289080" cy="504720"/>
            </a:xfrm>
            <a:custGeom>
              <a:avLst/>
              <a:gdLst>
                <a:gd name="textAreaLeft" fmla="*/ 0 w 289080"/>
                <a:gd name="textAreaRight" fmla="*/ 289080 w 28908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1275" y="0"/>
                  </a:lnTo>
                  <a:lnTo>
                    <a:pt x="21600" y="10800"/>
                  </a:lnTo>
                  <a:lnTo>
                    <a:pt x="11275" y="21600"/>
                  </a:lnTo>
                  <a:lnTo>
                    <a:pt x="0" y="21600"/>
                  </a:lnTo>
                  <a:lnTo>
                    <a:pt x="1032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a5a5a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354640" y="2198520"/>
              <a:ext cx="289080" cy="504720"/>
            </a:xfrm>
            <a:custGeom>
              <a:avLst/>
              <a:gdLst>
                <a:gd name="textAreaLeft" fmla="*/ 0 w 289080"/>
                <a:gd name="textAreaRight" fmla="*/ 289080 w 28908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1275" y="0"/>
                  </a:lnTo>
                  <a:lnTo>
                    <a:pt x="21600" y="10800"/>
                  </a:lnTo>
                  <a:lnTo>
                    <a:pt x="11275" y="21600"/>
                  </a:lnTo>
                  <a:lnTo>
                    <a:pt x="0" y="21600"/>
                  </a:lnTo>
                  <a:lnTo>
                    <a:pt x="1032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a5a5a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2762280" y="3206880"/>
            <a:ext cx="719280" cy="504720"/>
            <a:chOff x="2762280" y="3206880"/>
            <a:chExt cx="719280" cy="504720"/>
          </a:xfrm>
        </p:grpSpPr>
        <p:sp>
          <p:nvSpPr>
            <p:cNvPr id="706" name=""/>
            <p:cNvSpPr/>
            <p:nvPr/>
          </p:nvSpPr>
          <p:spPr>
            <a:xfrm rot="10800000">
              <a:off x="2762280" y="3206880"/>
              <a:ext cx="289080" cy="504720"/>
            </a:xfrm>
            <a:custGeom>
              <a:avLst/>
              <a:gdLst>
                <a:gd name="textAreaLeft" fmla="*/ 0 w 289080"/>
                <a:gd name="textAreaRight" fmla="*/ 289080 w 28908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1275" y="0"/>
                  </a:lnTo>
                  <a:lnTo>
                    <a:pt x="21600" y="10800"/>
                  </a:lnTo>
                  <a:lnTo>
                    <a:pt x="11275" y="21600"/>
                  </a:lnTo>
                  <a:lnTo>
                    <a:pt x="0" y="21600"/>
                  </a:lnTo>
                  <a:lnTo>
                    <a:pt x="1032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a5a5a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10800000">
              <a:off x="2978280" y="3206880"/>
              <a:ext cx="289080" cy="504720"/>
            </a:xfrm>
            <a:custGeom>
              <a:avLst/>
              <a:gdLst>
                <a:gd name="textAreaLeft" fmla="*/ 0 w 289080"/>
                <a:gd name="textAreaRight" fmla="*/ 289080 w 28908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1275" y="0"/>
                  </a:lnTo>
                  <a:lnTo>
                    <a:pt x="21600" y="10800"/>
                  </a:lnTo>
                  <a:lnTo>
                    <a:pt x="11275" y="21600"/>
                  </a:lnTo>
                  <a:lnTo>
                    <a:pt x="0" y="21600"/>
                  </a:lnTo>
                  <a:lnTo>
                    <a:pt x="1032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a5a5a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10800000">
              <a:off x="3192480" y="3206880"/>
              <a:ext cx="289080" cy="504720"/>
            </a:xfrm>
            <a:custGeom>
              <a:avLst/>
              <a:gdLst>
                <a:gd name="textAreaLeft" fmla="*/ 0 w 289080"/>
                <a:gd name="textAreaRight" fmla="*/ 289080 w 28908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1275" y="0"/>
                  </a:lnTo>
                  <a:lnTo>
                    <a:pt x="21600" y="10800"/>
                  </a:lnTo>
                  <a:lnTo>
                    <a:pt x="11275" y="21600"/>
                  </a:lnTo>
                  <a:lnTo>
                    <a:pt x="0" y="21600"/>
                  </a:lnTo>
                  <a:lnTo>
                    <a:pt x="1032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a5a5a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156360" y="1676520"/>
            <a:ext cx="2301480" cy="2317320"/>
            <a:chOff x="6156360" y="1676520"/>
            <a:chExt cx="2301480" cy="2317320"/>
          </a:xfrm>
        </p:grpSpPr>
        <p:sp>
          <p:nvSpPr>
            <p:cNvPr id="710" name=""/>
            <p:cNvSpPr/>
            <p:nvPr/>
          </p:nvSpPr>
          <p:spPr>
            <a:xfrm>
              <a:off x="6181200" y="1714680"/>
              <a:ext cx="2276640" cy="227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44643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4464397"/>
                </a:path>
              </a:pathLst>
            </a:custGeom>
            <a:gradFill rotWithShape="0">
              <a:gsLst>
                <a:gs pos="0">
                  <a:srgbClr val="df4c28"/>
                </a:gs>
                <a:gs pos="100000">
                  <a:srgbClr val="dd370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161040" y="1676520"/>
              <a:ext cx="2276280" cy="227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" y="12165"/>
                  </a:moveTo>
                  <a:arcTo wR="10800" hR="10800" stAng="10364473" swAng="5835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87" y="12165"/>
                  </a:moveTo>
                  <a:arcTo wR="10800" hR="10800" stAng="10364473" swAng="5835526"/>
                </a:path>
              </a:pathLst>
            </a:custGeom>
            <a:gradFill rotWithShape="0">
              <a:gsLst>
                <a:gs pos="0">
                  <a:srgbClr val="e64f13"/>
                </a:gs>
                <a:gs pos="100000">
                  <a:srgbClr val="ef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156360" y="1702080"/>
              <a:ext cx="2276280" cy="2279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3" y="15943"/>
                  </a:moveTo>
                  <a:arcTo wR="10800" hR="10800" stAng="9093791" swAng="12627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3" y="15943"/>
                  </a:moveTo>
                  <a:arcTo wR="10800" hR="10800" stAng="9093791" swAng="1262715"/>
                </a:path>
              </a:pathLst>
            </a:custGeom>
            <a:gradFill rotWithShape="0">
              <a:gsLst>
                <a:gs pos="0">
                  <a:srgbClr val="e76915"/>
                </a:gs>
                <a:gs pos="100000">
                  <a:srgbClr val="ea823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291720" y="1771920"/>
              <a:ext cx="2132640" cy="216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44643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4464397"/>
                </a:path>
              </a:pathLst>
            </a:custGeom>
            <a:gradFill rotWithShape="0">
              <a:gsLst>
                <a:gs pos="0">
                  <a:srgbClr val="f1b3a3"/>
                </a:gs>
                <a:gs pos="100000">
                  <a:srgbClr val="dd370e">
                    <a:alpha val="37254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210360" y="1725840"/>
              <a:ext cx="2114280" cy="211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" y="12165"/>
                  </a:moveTo>
                  <a:arcTo wR="10800" hR="10800" stAng="10364473" swAng="5835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87" y="12165"/>
                  </a:moveTo>
                  <a:arcTo wR="10800" hR="10800" stAng="10364473" swAng="5835526"/>
                </a:path>
              </a:pathLst>
            </a:custGeom>
            <a:gradFill rotWithShape="0">
              <a:gsLst>
                <a:gs pos="0">
                  <a:srgbClr val="e64f13">
                    <a:alpha val="37254"/>
                  </a:srgbClr>
                </a:gs>
                <a:gs pos="100000">
                  <a:srgbClr val="f4b79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207480" y="1955520"/>
              <a:ext cx="1884960" cy="188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3" y="15943"/>
                  </a:moveTo>
                  <a:arcTo wR="10800" hR="10800" stAng="9093791" swAng="12627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3" y="15943"/>
                  </a:moveTo>
                  <a:arcTo wR="10800" hR="10800" stAng="9093791" swAng="1262715"/>
                </a:path>
              </a:pathLst>
            </a:custGeom>
            <a:gradFill rotWithShape="0">
              <a:gsLst>
                <a:gs pos="0">
                  <a:srgbClr val="e76915">
                    <a:alpha val="37254"/>
                  </a:srgbClr>
                </a:gs>
                <a:gs pos="100000">
                  <a:srgbClr val="f6ccb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16200000">
              <a:off x="6690600" y="2161080"/>
              <a:ext cx="4237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Gulim"/>
                </a:rPr>
                <a:t>55%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16200000">
              <a:off x="7698600" y="2737800"/>
              <a:ext cx="4237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Gulim"/>
                </a:rPr>
                <a:t>70%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378000" y="1693800"/>
            <a:ext cx="2310480" cy="2300040"/>
            <a:chOff x="378000" y="1693800"/>
            <a:chExt cx="2310480" cy="2300040"/>
          </a:xfrm>
        </p:grpSpPr>
        <p:sp>
          <p:nvSpPr>
            <p:cNvPr id="719" name=""/>
            <p:cNvSpPr/>
            <p:nvPr/>
          </p:nvSpPr>
          <p:spPr>
            <a:xfrm>
              <a:off x="411840" y="1714320"/>
              <a:ext cx="2276640" cy="2279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44643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4464397"/>
                </a:path>
              </a:pathLst>
            </a:custGeom>
            <a:gradFill rotWithShape="0">
              <a:gsLst>
                <a:gs pos="0">
                  <a:srgbClr val="df4c28"/>
                </a:gs>
                <a:gs pos="100000">
                  <a:srgbClr val="dd370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94200" y="1693800"/>
              <a:ext cx="2274480" cy="227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24" y="1738"/>
                  </a:moveTo>
                  <a:arcTo wR="10800" hR="10800" stAng="-7377497" swAng="1977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4924" y="1738"/>
                  </a:moveTo>
                  <a:arcTo wR="10800" hR="10800" stAng="-7377497" swAng="1977496"/>
                </a:path>
              </a:pathLst>
            </a:custGeom>
            <a:gradFill rotWithShape="0">
              <a:gsLst>
                <a:gs pos="0">
                  <a:srgbClr val="e64f13"/>
                </a:gs>
                <a:gs pos="100000">
                  <a:srgbClr val="ef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78000" y="1710000"/>
              <a:ext cx="2275200" cy="2278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4" y="15981"/>
                  </a:moveTo>
                  <a:arcTo wR="10800" hR="10800" stAng="9079880" swAng="513751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4" y="15981"/>
                  </a:moveTo>
                  <a:arcTo wR="10800" hR="10800" stAng="9079880" swAng="5137514"/>
                </a:path>
              </a:pathLst>
            </a:custGeom>
            <a:gradFill rotWithShape="0">
              <a:gsLst>
                <a:gs pos="0">
                  <a:srgbClr val="e76915"/>
                </a:gs>
                <a:gs pos="100000">
                  <a:srgbClr val="ea823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64120" y="1735200"/>
              <a:ext cx="1855080" cy="187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24" y="1738"/>
                  </a:moveTo>
                  <a:arcTo wR="10800" hR="10800" stAng="-7377497" swAng="1977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4924" y="1738"/>
                  </a:moveTo>
                  <a:arcTo wR="10800" hR="10800" stAng="-7377497" swAng="1977496"/>
                </a:path>
              </a:pathLst>
            </a:custGeom>
            <a:gradFill rotWithShape="0">
              <a:gsLst>
                <a:gs pos="0">
                  <a:srgbClr val="e64f13">
                    <a:alpha val="37254"/>
                  </a:srgbClr>
                </a:gs>
                <a:gs pos="100000">
                  <a:srgbClr val="f5c3a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17240" y="1783080"/>
              <a:ext cx="2072520" cy="2076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4" y="15981"/>
                  </a:moveTo>
                  <a:arcTo wR="10800" hR="10800" stAng="9079880" swAng="513751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4" y="15981"/>
                  </a:moveTo>
                  <a:arcTo wR="10800" hR="10800" stAng="9079880" swAng="5137514"/>
                </a:path>
              </a:pathLst>
            </a:custGeom>
            <a:gradFill rotWithShape="0">
              <a:gsLst>
                <a:gs pos="0">
                  <a:srgbClr val="e76915">
                    <a:alpha val="36078"/>
                  </a:srgbClr>
                </a:gs>
                <a:gs pos="100000">
                  <a:srgbClr val="f6ccb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13000" y="1765080"/>
              <a:ext cx="2132280" cy="21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44643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4464397"/>
                </a:path>
              </a:pathLst>
            </a:custGeom>
            <a:gradFill rotWithShape="0">
              <a:gsLst>
                <a:gs pos="0">
                  <a:srgbClr val="f1b3a3"/>
                </a:gs>
                <a:gs pos="100000">
                  <a:srgbClr val="dd370e">
                    <a:alpha val="36078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16200000">
              <a:off x="1865520" y="2733840"/>
              <a:ext cx="42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Gulim"/>
                </a:rPr>
                <a:t>70%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rot="16200000">
              <a:off x="641880" y="2373480"/>
              <a:ext cx="4237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Gulim"/>
                </a:rPr>
                <a:t>45%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727" name=""/>
          <p:cNvSpPr/>
          <p:nvPr/>
        </p:nvSpPr>
        <p:spPr>
          <a:xfrm rot="16200000">
            <a:off x="4149360" y="3475080"/>
            <a:ext cx="60696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  <a:ea typeface="Gulim"/>
              </a:rPr>
              <a:t>Add title tex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817560" y="4070520"/>
            <a:ext cx="1440000" cy="2314440"/>
            <a:chOff x="817560" y="4070520"/>
            <a:chExt cx="1440000" cy="2314440"/>
          </a:xfrm>
        </p:grpSpPr>
        <p:sp>
          <p:nvSpPr>
            <p:cNvPr id="729" name=""/>
            <p:cNvSpPr/>
            <p:nvPr/>
          </p:nvSpPr>
          <p:spPr>
            <a:xfrm>
              <a:off x="817560" y="4070520"/>
              <a:ext cx="1440000" cy="2314440"/>
            </a:xfrm>
            <a:custGeom>
              <a:avLst/>
              <a:gdLst>
                <a:gd name="textAreaLeft" fmla="*/ 57600 w 1440000"/>
                <a:gd name="textAreaRight" fmla="*/ 1382400 w 1440000"/>
                <a:gd name="textAreaTop" fmla="*/ 57600 h 2314440"/>
                <a:gd name="textAreaBottom" fmla="*/ 2256840 h 2314440"/>
              </a:gdLst>
              <a:ahLst/>
              <a:rect l="textAreaLeft" t="textAreaTop" r="textAreaRight" b="textAreaBottom"/>
              <a:pathLst>
                <a:path w="21600" h="34713">
                  <a:moveTo>
                    <a:pt x="2953" y="0"/>
                  </a:moveTo>
                  <a:arcTo wR="2953" hR="2953" stAng="16200000" swAng="-5400000"/>
                  <a:lnTo>
                    <a:pt x="0" y="31760"/>
                  </a:lnTo>
                  <a:arcTo wR="2953" hR="2953" stAng="10800000" swAng="-5400000"/>
                  <a:lnTo>
                    <a:pt x="18647" y="34713"/>
                  </a:lnTo>
                  <a:arcTo wR="2953" hR="2953" stAng="5400000" swAng="-5400000"/>
                  <a:lnTo>
                    <a:pt x="21600" y="2953"/>
                  </a:lnTo>
                  <a:arcTo wR="2953" hR="2953" stAng="0" swAng="-5400000"/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10800000">
              <a:off x="826560" y="4079520"/>
              <a:ext cx="1419480" cy="1008360"/>
            </a:xfrm>
            <a:prstGeom prst="roundRect">
              <a:avLst>
                <a:gd name="adj" fmla="val 18579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fefefe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744480" y="4532400"/>
            <a:ext cx="158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Gulim"/>
              </a:rPr>
              <a:t>Click to add 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Add text 1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Add text 2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Add text 3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6649920" y="4070520"/>
            <a:ext cx="1440000" cy="2314440"/>
            <a:chOff x="6649920" y="4070520"/>
            <a:chExt cx="1440000" cy="2314440"/>
          </a:xfrm>
        </p:grpSpPr>
        <p:sp>
          <p:nvSpPr>
            <p:cNvPr id="733" name=""/>
            <p:cNvSpPr/>
            <p:nvPr/>
          </p:nvSpPr>
          <p:spPr>
            <a:xfrm>
              <a:off x="6649920" y="4070520"/>
              <a:ext cx="1440000" cy="2314440"/>
            </a:xfrm>
            <a:custGeom>
              <a:avLst/>
              <a:gdLst>
                <a:gd name="textAreaLeft" fmla="*/ 57600 w 1440000"/>
                <a:gd name="textAreaRight" fmla="*/ 1382400 w 1440000"/>
                <a:gd name="textAreaTop" fmla="*/ 57600 h 2314440"/>
                <a:gd name="textAreaBottom" fmla="*/ 2256840 h 2314440"/>
              </a:gdLst>
              <a:ahLst/>
              <a:rect l="textAreaLeft" t="textAreaTop" r="textAreaRight" b="textAreaBottom"/>
              <a:pathLst>
                <a:path w="21600" h="34713">
                  <a:moveTo>
                    <a:pt x="2953" y="0"/>
                  </a:moveTo>
                  <a:arcTo wR="2953" hR="2953" stAng="16200000" swAng="-5400000"/>
                  <a:lnTo>
                    <a:pt x="0" y="31760"/>
                  </a:lnTo>
                  <a:arcTo wR="2953" hR="2953" stAng="10800000" swAng="-5400000"/>
                  <a:lnTo>
                    <a:pt x="18647" y="34713"/>
                  </a:lnTo>
                  <a:arcTo wR="2953" hR="2953" stAng="5400000" swAng="-5400000"/>
                  <a:lnTo>
                    <a:pt x="21600" y="2953"/>
                  </a:lnTo>
                  <a:arcTo wR="2953" hR="2953" stAng="0" swAng="-5400000"/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10800000">
              <a:off x="6658920" y="4079520"/>
              <a:ext cx="1419480" cy="1008360"/>
            </a:xfrm>
            <a:prstGeom prst="roundRect">
              <a:avLst>
                <a:gd name="adj" fmla="val 18579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fefefe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6576840" y="4503600"/>
            <a:ext cx="158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Gulim"/>
              </a:rPr>
              <a:t>Click to add 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Add text 1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Add text 2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Add text 3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3697200" y="1909800"/>
            <a:ext cx="1440000" cy="1006560"/>
            <a:chOff x="3697200" y="1909800"/>
            <a:chExt cx="1440000" cy="1006560"/>
          </a:xfrm>
        </p:grpSpPr>
        <p:sp>
          <p:nvSpPr>
            <p:cNvPr id="737" name=""/>
            <p:cNvSpPr/>
            <p:nvPr/>
          </p:nvSpPr>
          <p:spPr>
            <a:xfrm>
              <a:off x="3697200" y="1909800"/>
              <a:ext cx="1440000" cy="1006560"/>
            </a:xfrm>
            <a:prstGeom prst="roundRect">
              <a:avLst>
                <a:gd name="adj" fmla="val 14222"/>
              </a:avLst>
            </a:prstGeom>
            <a:solidFill>
              <a:srgbClr val="e64f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Concep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717720" y="1923840"/>
              <a:ext cx="1397160" cy="245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d6c9"/>
                </a:gs>
                <a:gs pos="100000">
                  <a:srgbClr val="e64f1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3697200" y="3062160"/>
            <a:ext cx="1440000" cy="1008360"/>
            <a:chOff x="3697200" y="3062160"/>
            <a:chExt cx="1440000" cy="1008360"/>
          </a:xfrm>
        </p:grpSpPr>
        <p:sp>
          <p:nvSpPr>
            <p:cNvPr id="740" name=""/>
            <p:cNvSpPr/>
            <p:nvPr/>
          </p:nvSpPr>
          <p:spPr>
            <a:xfrm>
              <a:off x="3697200" y="3062160"/>
              <a:ext cx="1440000" cy="1008360"/>
            </a:xfrm>
            <a:prstGeom prst="roundRect">
              <a:avLst>
                <a:gd name="adj" fmla="val 14222"/>
              </a:avLst>
            </a:prstGeom>
            <a:solidFill>
              <a:srgbClr val="e76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Concep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717720" y="3076200"/>
              <a:ext cx="1397160" cy="245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dcc9"/>
                </a:gs>
                <a:gs pos="100000">
                  <a:srgbClr val="e7691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2" name=""/>
          <p:cNvGrpSpPr/>
          <p:nvPr/>
        </p:nvGrpSpPr>
        <p:grpSpPr>
          <a:xfrm>
            <a:off x="388800" y="2781360"/>
            <a:ext cx="2973600" cy="2680920"/>
            <a:chOff x="388800" y="2781360"/>
            <a:chExt cx="2973600" cy="2680920"/>
          </a:xfrm>
        </p:grpSpPr>
        <p:sp>
          <p:nvSpPr>
            <p:cNvPr id="743" name=""/>
            <p:cNvSpPr/>
            <p:nvPr/>
          </p:nvSpPr>
          <p:spPr>
            <a:xfrm>
              <a:off x="1293840" y="4215960"/>
              <a:ext cx="582120" cy="53208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f2ac90"/>
                </a:gs>
                <a:gs pos="100000">
                  <a:srgbClr val="e64f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21520" y="4215960"/>
              <a:ext cx="581040" cy="53208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e5968b"/>
                </a:gs>
                <a:gs pos="100000">
                  <a:srgbClr val="ca20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146680" y="4215960"/>
              <a:ext cx="582120" cy="53208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f2b891"/>
                </a:gs>
                <a:gs pos="100000">
                  <a:srgbClr val="e769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295280" y="3828240"/>
              <a:ext cx="581040" cy="53352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eea18d"/>
                </a:gs>
                <a:gs pos="100000">
                  <a:srgbClr val="dd37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721520" y="3828240"/>
              <a:ext cx="581040" cy="53352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f2b891"/>
                </a:gs>
                <a:gs pos="100000">
                  <a:srgbClr val="e769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780280" y="3686040"/>
              <a:ext cx="582120" cy="53208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f2ac90"/>
                </a:gs>
                <a:gs pos="100000">
                  <a:srgbClr val="e64f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295280" y="2781360"/>
              <a:ext cx="581040" cy="53208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e5968b"/>
                </a:gs>
                <a:gs pos="100000">
                  <a:srgbClr val="ca20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721520" y="3426840"/>
              <a:ext cx="581040" cy="53352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eea18d"/>
                </a:gs>
                <a:gs pos="100000">
                  <a:srgbClr val="dd37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65160" y="3257640"/>
              <a:ext cx="581040" cy="53172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e5968b"/>
                </a:gs>
                <a:gs pos="100000">
                  <a:srgbClr val="ca20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40480" y="4370400"/>
              <a:ext cx="581040" cy="53352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eea18d"/>
                </a:gs>
                <a:gs pos="100000">
                  <a:srgbClr val="dd37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139400" y="3984120"/>
              <a:ext cx="582120" cy="53208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f2b891"/>
                </a:gs>
                <a:gs pos="100000">
                  <a:srgbClr val="e769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139400" y="3605400"/>
              <a:ext cx="582120" cy="53208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f2ac90"/>
                </a:gs>
                <a:gs pos="100000">
                  <a:srgbClr val="e64f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581840" y="2918160"/>
              <a:ext cx="582120" cy="53316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f2b891"/>
                </a:gs>
                <a:gs pos="100000">
                  <a:srgbClr val="e769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990800" y="4370400"/>
              <a:ext cx="581040" cy="53208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f2ac90"/>
                </a:gs>
                <a:gs pos="100000">
                  <a:srgbClr val="e64f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990800" y="3984120"/>
              <a:ext cx="581040" cy="53100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e5968b"/>
                </a:gs>
                <a:gs pos="100000">
                  <a:srgbClr val="ca20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990800" y="3605400"/>
              <a:ext cx="581040" cy="53208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eea18d"/>
                </a:gs>
                <a:gs pos="100000">
                  <a:srgbClr val="dd37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15600" y="4840560"/>
              <a:ext cx="581040" cy="53208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f2ac90"/>
                </a:gs>
                <a:gs pos="100000">
                  <a:srgbClr val="e64f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408320" y="4929120"/>
              <a:ext cx="582120" cy="53316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f2b891"/>
                </a:gs>
                <a:gs pos="100000">
                  <a:srgbClr val="e769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498040" y="4671000"/>
              <a:ext cx="579600" cy="53352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eea18d"/>
                </a:gs>
                <a:gs pos="100000">
                  <a:srgbClr val="dd37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983160" y="4138560"/>
              <a:ext cx="581040" cy="53208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eea18d"/>
                </a:gs>
                <a:gs pos="100000">
                  <a:srgbClr val="dd37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408320" y="4140000"/>
              <a:ext cx="582120" cy="53064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e5968b"/>
                </a:gs>
                <a:gs pos="100000">
                  <a:srgbClr val="ca20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836360" y="4140000"/>
              <a:ext cx="581040" cy="53064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f2ac90"/>
                </a:gs>
                <a:gs pos="100000">
                  <a:srgbClr val="e64f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88800" y="3693600"/>
              <a:ext cx="582120" cy="53208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e5968b"/>
                </a:gs>
                <a:gs pos="100000">
                  <a:srgbClr val="ca20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409760" y="3760920"/>
              <a:ext cx="580680" cy="53208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eea18d"/>
                </a:gs>
                <a:gs pos="100000">
                  <a:srgbClr val="dd37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836360" y="3760920"/>
              <a:ext cx="581040" cy="53208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f2b891"/>
                </a:gs>
                <a:gs pos="100000">
                  <a:srgbClr val="e769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6726240" y="3298680"/>
            <a:ext cx="1878120" cy="1731600"/>
            <a:chOff x="6726240" y="3298680"/>
            <a:chExt cx="1878120" cy="1731600"/>
          </a:xfrm>
        </p:grpSpPr>
        <p:sp>
          <p:nvSpPr>
            <p:cNvPr id="769" name=""/>
            <p:cNvSpPr/>
            <p:nvPr/>
          </p:nvSpPr>
          <p:spPr>
            <a:xfrm>
              <a:off x="7060680" y="4122360"/>
              <a:ext cx="625680" cy="57240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f2ac90"/>
                </a:gs>
                <a:gs pos="100000">
                  <a:srgbClr val="e64f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519320" y="4122360"/>
              <a:ext cx="625680" cy="57240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e5968b"/>
                </a:gs>
                <a:gs pos="100000">
                  <a:srgbClr val="ca20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977600" y="4122360"/>
              <a:ext cx="625680" cy="57348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f2b891"/>
                </a:gs>
                <a:gs pos="100000">
                  <a:srgbClr val="e769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061400" y="3704760"/>
              <a:ext cx="624600" cy="57348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eea18d"/>
                </a:gs>
                <a:gs pos="100000">
                  <a:srgbClr val="dd37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520040" y="3704760"/>
              <a:ext cx="625680" cy="57348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f2b891"/>
                </a:gs>
                <a:gs pos="100000">
                  <a:srgbClr val="e769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978680" y="3704760"/>
              <a:ext cx="625680" cy="57240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f2ac90"/>
                </a:gs>
                <a:gs pos="100000">
                  <a:srgbClr val="e64f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061400" y="3299400"/>
              <a:ext cx="625680" cy="57276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e5968b"/>
                </a:gs>
                <a:gs pos="100000">
                  <a:srgbClr val="ca20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520040" y="3298680"/>
              <a:ext cx="624960" cy="57348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eea18d"/>
                </a:gs>
                <a:gs pos="100000">
                  <a:srgbClr val="dd37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78680" y="3299400"/>
              <a:ext cx="625680" cy="57276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e5968b"/>
                </a:gs>
                <a:gs pos="100000">
                  <a:srgbClr val="ca20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894360" y="4289760"/>
              <a:ext cx="624960" cy="57348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eea18d"/>
                </a:gs>
                <a:gs pos="100000">
                  <a:srgbClr val="dd37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893280" y="3872160"/>
              <a:ext cx="625680" cy="57348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f2b891"/>
                </a:gs>
                <a:gs pos="100000">
                  <a:srgbClr val="e769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893280" y="3466080"/>
              <a:ext cx="625680" cy="57240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f2ac90"/>
                </a:gs>
                <a:gs pos="100000">
                  <a:srgbClr val="e64f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351920" y="3465000"/>
              <a:ext cx="625680" cy="57348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f2b891"/>
                </a:gs>
                <a:gs pos="100000">
                  <a:srgbClr val="e769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810200" y="4289760"/>
              <a:ext cx="625680" cy="57240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f2ac90"/>
                </a:gs>
                <a:gs pos="100000">
                  <a:srgbClr val="e64f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810200" y="3872160"/>
              <a:ext cx="625680" cy="57240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e5968b"/>
                </a:gs>
                <a:gs pos="100000">
                  <a:srgbClr val="ca20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810200" y="3465000"/>
              <a:ext cx="624960" cy="57348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eea18d"/>
                </a:gs>
                <a:gs pos="100000">
                  <a:srgbClr val="dd37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726240" y="4456800"/>
              <a:ext cx="625680" cy="57276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f2ac90"/>
                </a:gs>
                <a:gs pos="100000">
                  <a:srgbClr val="e64f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184520" y="4456800"/>
              <a:ext cx="625680" cy="57348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f2b891"/>
                </a:gs>
                <a:gs pos="100000">
                  <a:srgbClr val="e769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643160" y="4456800"/>
              <a:ext cx="624960" cy="57348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eea18d"/>
                </a:gs>
                <a:gs pos="100000">
                  <a:srgbClr val="dd37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726240" y="4039560"/>
              <a:ext cx="624960" cy="57348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eea18d"/>
                </a:gs>
                <a:gs pos="100000">
                  <a:srgbClr val="dd37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184520" y="4040640"/>
              <a:ext cx="625680" cy="57240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e5968b"/>
                </a:gs>
                <a:gs pos="100000">
                  <a:srgbClr val="ca20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643160" y="4040640"/>
              <a:ext cx="625680" cy="57240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f2ac90"/>
                </a:gs>
                <a:gs pos="100000">
                  <a:srgbClr val="e64f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726240" y="3633120"/>
              <a:ext cx="625680" cy="57240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e5968b"/>
                </a:gs>
                <a:gs pos="100000">
                  <a:srgbClr val="ca20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185600" y="3632400"/>
              <a:ext cx="624600" cy="57348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eea18d"/>
                </a:gs>
                <a:gs pos="100000">
                  <a:srgbClr val="dd37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643160" y="3632400"/>
              <a:ext cx="625680" cy="57348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f2b891"/>
                </a:gs>
                <a:gs pos="100000">
                  <a:srgbClr val="e769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3630240" y="3448080"/>
            <a:ext cx="2663640" cy="1582560"/>
            <a:chOff x="3630240" y="3448080"/>
            <a:chExt cx="2663640" cy="1582560"/>
          </a:xfrm>
        </p:grpSpPr>
        <p:grpSp>
          <p:nvGrpSpPr>
            <p:cNvPr id="795" name=""/>
            <p:cNvGrpSpPr/>
            <p:nvPr/>
          </p:nvGrpSpPr>
          <p:grpSpPr>
            <a:xfrm>
              <a:off x="3630240" y="3517920"/>
              <a:ext cx="2663640" cy="1440000"/>
              <a:chOff x="3630240" y="3517920"/>
              <a:chExt cx="2663640" cy="1440000"/>
            </a:xfrm>
          </p:grpSpPr>
          <p:sp>
            <p:nvSpPr>
              <p:cNvPr id="796" name=""/>
              <p:cNvSpPr/>
              <p:nvPr/>
            </p:nvSpPr>
            <p:spPr>
              <a:xfrm flipH="1" rot="5400000">
                <a:off x="4241520" y="2905920"/>
                <a:ext cx="1440000" cy="2663640"/>
              </a:xfrm>
              <a:prstGeom prst="upArrow">
                <a:avLst>
                  <a:gd name="adj1" fmla="val 62139"/>
                  <a:gd name="adj2" fmla="val 46295"/>
                </a:avLst>
              </a:prstGeom>
              <a:noFill/>
              <a:ln w="4428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H="1" rot="5400000">
                <a:off x="5142600" y="4166640"/>
                <a:ext cx="576360" cy="142560"/>
              </a:xfrm>
              <a:prstGeom prst="rect">
                <a:avLst/>
              </a:prstGeom>
              <a:gradFill rotWithShape="0">
                <a:gsLst>
                  <a:gs pos="0">
                    <a:srgbClr val="dd370e"/>
                  </a:gs>
                  <a:gs pos="100000">
                    <a:srgbClr val="faece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H="1" rot="5400000">
                <a:off x="4853520" y="4166640"/>
                <a:ext cx="576360" cy="142560"/>
              </a:xfrm>
              <a:prstGeom prst="rect">
                <a:avLst/>
              </a:prstGeom>
              <a:gradFill rotWithShape="0">
                <a:gsLst>
                  <a:gs pos="0">
                    <a:srgbClr val="dd370e"/>
                  </a:gs>
                  <a:gs pos="100000">
                    <a:srgbClr val="f2bba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H="1" rot="5400000">
                <a:off x="4566240" y="4166640"/>
                <a:ext cx="576360" cy="142560"/>
              </a:xfrm>
              <a:prstGeom prst="rect">
                <a:avLst/>
              </a:prstGeom>
              <a:gradFill rotWithShape="0">
                <a:gsLst>
                  <a:gs pos="0">
                    <a:srgbClr val="dd370e"/>
                  </a:gs>
                  <a:gs pos="100000">
                    <a:srgbClr val="e7795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H="1" rot="5400000">
                <a:off x="4275720" y="4166640"/>
                <a:ext cx="576360" cy="142560"/>
              </a:xfrm>
              <a:prstGeom prst="rect">
                <a:avLst/>
              </a:prstGeom>
              <a:gradFill rotWithShape="0">
                <a:gsLst>
                  <a:gs pos="0">
                    <a:srgbClr val="dd370e"/>
                  </a:gs>
                  <a:gs pos="100000">
                    <a:srgbClr val="d6350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H="1" rot="5400000">
                <a:off x="3989880" y="4166640"/>
                <a:ext cx="576360" cy="142560"/>
              </a:xfrm>
              <a:prstGeom prst="rect">
                <a:avLst/>
              </a:prstGeom>
              <a:gradFill rotWithShape="0">
                <a:gsLst>
                  <a:gs pos="0">
                    <a:srgbClr val="dd370e"/>
                  </a:gs>
                  <a:gs pos="100000">
                    <a:srgbClr val="7e1f0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H="1" rot="5400000">
                <a:off x="3702600" y="4166640"/>
                <a:ext cx="576360" cy="142560"/>
              </a:xfrm>
              <a:prstGeom prst="rect">
                <a:avLst/>
              </a:prstGeom>
              <a:gradFill rotWithShape="0">
                <a:gsLst>
                  <a:gs pos="0">
                    <a:srgbClr val="dd370e"/>
                  </a:gs>
                  <a:gs pos="100000">
                    <a:srgbClr val="310c0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 rot="5400000">
                <a:off x="5520240" y="4102920"/>
                <a:ext cx="576360" cy="288720"/>
              </a:xfrm>
              <a:prstGeom prst="triangle">
                <a:avLst>
                  <a:gd name="adj" fmla="val 50000"/>
                </a:avLst>
              </a:prstGeom>
              <a:solidFill>
                <a:srgbClr val="dd37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 rot="5400000">
                <a:off x="5559120" y="4124520"/>
                <a:ext cx="484200" cy="2426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d370e"/>
                  </a:gs>
                  <a:gs pos="100000">
                    <a:srgbClr val="f6d1c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 rot="5400000">
                <a:off x="5657400" y="4176720"/>
                <a:ext cx="272880" cy="136440"/>
              </a:xfrm>
              <a:prstGeom prst="triangle">
                <a:avLst>
                  <a:gd name="adj" fmla="val 50000"/>
                </a:avLst>
              </a:prstGeom>
              <a:solidFill>
                <a:srgbClr val="dd37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3706560" y="3448080"/>
              <a:ext cx="1582560" cy="1582560"/>
              <a:chOff x="3706560" y="3448080"/>
              <a:chExt cx="1582560" cy="1582560"/>
            </a:xfrm>
          </p:grpSpPr>
          <p:sp>
            <p:nvSpPr>
              <p:cNvPr id="807" name=""/>
              <p:cNvSpPr/>
              <p:nvPr/>
            </p:nvSpPr>
            <p:spPr>
              <a:xfrm>
                <a:off x="3706560" y="3448080"/>
                <a:ext cx="1582560" cy="1582560"/>
              </a:xfrm>
              <a:prstGeom prst="ellipse">
                <a:avLst/>
              </a:prstGeom>
              <a:solidFill>
                <a:srgbClr val="dd37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741480" y="3476520"/>
                <a:ext cx="1506600" cy="1506600"/>
              </a:xfrm>
              <a:prstGeom prst="donut">
                <a:avLst>
                  <a:gd name="adj" fmla="val 18810"/>
                </a:avLst>
              </a:prstGeom>
              <a:gradFill rotWithShape="0">
                <a:gsLst>
                  <a:gs pos="0">
                    <a:srgbClr val="f3c0b3"/>
                  </a:gs>
                  <a:gs pos="100000">
                    <a:srgbClr val="dd370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706560" y="3855960"/>
                <a:ext cx="1582560" cy="6796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baseline="-25000">
                    <a:solidFill>
                      <a:srgbClr val="ffffff"/>
                    </a:solidFill>
                    <a:latin typeface="Arial"/>
                    <a:ea typeface="Gulim"/>
                  </a:rPr>
                  <a:t>Concept</a:t>
                </a:r>
                <a:endParaRPr b="0" lang="en-US" sz="2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810" name=""/>
          <p:cNvSpPr/>
          <p:nvPr/>
        </p:nvSpPr>
        <p:spPr>
          <a:xfrm rot="16200000">
            <a:off x="4306320" y="638280"/>
            <a:ext cx="60696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  <a:ea typeface="Gulim"/>
              </a:rPr>
              <a:t>Add title tex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rot="16200000">
            <a:off x="7180200" y="4295520"/>
            <a:ext cx="546120" cy="23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  <a:ea typeface="Gulim"/>
              </a:rPr>
              <a:t>Add tex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rot="16200000">
            <a:off x="1490760" y="4655880"/>
            <a:ext cx="546120" cy="23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  <a:ea typeface="Gulim"/>
              </a:rPr>
              <a:t>Add tex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3" name=""/>
          <p:cNvGrpSpPr/>
          <p:nvPr/>
        </p:nvGrpSpPr>
        <p:grpSpPr>
          <a:xfrm>
            <a:off x="-360" y="4065480"/>
            <a:ext cx="9144000" cy="287280"/>
            <a:chOff x="-360" y="4065480"/>
            <a:chExt cx="9144000" cy="287280"/>
          </a:xfrm>
        </p:grpSpPr>
        <p:sp>
          <p:nvSpPr>
            <p:cNvPr id="814" name=""/>
            <p:cNvSpPr/>
            <p:nvPr/>
          </p:nvSpPr>
          <p:spPr>
            <a:xfrm>
              <a:off x="0" y="4065480"/>
              <a:ext cx="9143640" cy="287280"/>
            </a:xfrm>
            <a:prstGeom prst="roundRect">
              <a:avLst>
                <a:gd name="adj" fmla="val 0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rot="10800000">
              <a:off x="-360" y="4073760"/>
              <a:ext cx="9143640" cy="1548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eaeaea">
                    <a:alpha val="0"/>
                  </a:srgbClr>
                </a:gs>
                <a:gs pos="100000">
                  <a:srgbClr val="fefefe">
                    <a:alpha val="6705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912960" y="4424400"/>
            <a:ext cx="134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Gulim"/>
              </a:rPr>
              <a:t>Click to add 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Gulim"/>
              </a:rPr>
              <a:t>Add text 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Gulim"/>
              </a:rPr>
              <a:t>Add text 2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Gulim"/>
              </a:rPr>
              <a:t>Add text 3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871880" y="4424400"/>
            <a:ext cx="134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Gulim"/>
              </a:rPr>
              <a:t>Click to add 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Gulim"/>
              </a:rPr>
              <a:t>Add text 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Gulim"/>
              </a:rPr>
              <a:t>Add text 2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Gulim"/>
              </a:rPr>
              <a:t>Add text 3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855880" y="2274840"/>
            <a:ext cx="134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Gulim"/>
              </a:rPr>
              <a:t>Click to add 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Gulim"/>
              </a:rPr>
              <a:t>Add text 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Gulim"/>
              </a:rPr>
              <a:t>Add text 2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Gulim"/>
              </a:rPr>
              <a:t>Add text 3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745320" y="2274840"/>
            <a:ext cx="134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Gulim"/>
              </a:rPr>
              <a:t>Click to add 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Gulim"/>
              </a:rPr>
              <a:t>Add text 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Gulim"/>
              </a:rPr>
              <a:t>Add text 2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Gulim"/>
              </a:rPr>
              <a:t>Add text 3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rot="16200000">
            <a:off x="4317480" y="276120"/>
            <a:ext cx="60696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  <a:ea typeface="Gulim"/>
              </a:rPr>
              <a:t>Add title tex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838080" y="2706840"/>
            <a:ext cx="1441440" cy="1441440"/>
            <a:chOff x="838080" y="2706840"/>
            <a:chExt cx="1441440" cy="1441440"/>
          </a:xfrm>
        </p:grpSpPr>
        <p:grpSp>
          <p:nvGrpSpPr>
            <p:cNvPr id="822" name=""/>
            <p:cNvGrpSpPr/>
            <p:nvPr/>
          </p:nvGrpSpPr>
          <p:grpSpPr>
            <a:xfrm>
              <a:off x="839520" y="2706840"/>
              <a:ext cx="1440000" cy="1440000"/>
              <a:chOff x="839520" y="2706840"/>
              <a:chExt cx="1440000" cy="1440000"/>
            </a:xfrm>
          </p:grpSpPr>
          <p:sp>
            <p:nvSpPr>
              <p:cNvPr id="823" name=""/>
              <p:cNvSpPr/>
              <p:nvPr/>
            </p:nvSpPr>
            <p:spPr>
              <a:xfrm>
                <a:off x="839520" y="2706840"/>
                <a:ext cx="1440000" cy="1440000"/>
              </a:xfrm>
              <a:prstGeom prst="roundRect">
                <a:avLst>
                  <a:gd name="adj" fmla="val 14222"/>
                </a:avLst>
              </a:prstGeom>
              <a:solidFill>
                <a:srgbClr val="ca2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860040" y="2727360"/>
                <a:ext cx="1397160" cy="351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2ccc7"/>
                  </a:gs>
                  <a:gs pos="100000">
                    <a:srgbClr val="ca200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838080" y="2711520"/>
              <a:ext cx="1440000" cy="1436760"/>
              <a:chOff x="838080" y="2711520"/>
              <a:chExt cx="1440000" cy="1436760"/>
            </a:xfrm>
          </p:grpSpPr>
          <p:sp>
            <p:nvSpPr>
              <p:cNvPr id="826" name=""/>
              <p:cNvSpPr/>
              <p:nvPr/>
            </p:nvSpPr>
            <p:spPr>
              <a:xfrm>
                <a:off x="838080" y="2711520"/>
                <a:ext cx="1440000" cy="143676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858960" y="2713320"/>
                <a:ext cx="1403640" cy="13993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828" name=""/>
            <p:cNvSpPr/>
            <p:nvPr/>
          </p:nvSpPr>
          <p:spPr>
            <a:xfrm flipH="1">
              <a:off x="952560" y="2843280"/>
              <a:ext cx="1209600" cy="1144800"/>
            </a:xfrm>
            <a:prstGeom prst="ellipse">
              <a:avLst/>
            </a:prstGeom>
            <a:solidFill>
              <a:srgbClr val="ca2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1065960" y="2878200"/>
              <a:ext cx="979560" cy="755640"/>
            </a:xfrm>
            <a:prstGeom prst="ellipse">
              <a:avLst/>
            </a:prstGeom>
            <a:gradFill rotWithShape="0">
              <a:gsLst>
                <a:gs pos="0">
                  <a:srgbClr val="e8a59b"/>
                </a:gs>
                <a:gs pos="100000">
                  <a:srgbClr val="ca2008">
                    <a:alpha val="3725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38080" y="3113280"/>
              <a:ext cx="1441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Concept</a:t>
              </a:r>
              <a:endParaRPr b="0" lang="en-US" sz="2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2855880" y="4290840"/>
            <a:ext cx="1440000" cy="1440000"/>
            <a:chOff x="2855880" y="4290840"/>
            <a:chExt cx="1440000" cy="1440000"/>
          </a:xfrm>
        </p:grpSpPr>
        <p:grpSp>
          <p:nvGrpSpPr>
            <p:cNvPr id="832" name=""/>
            <p:cNvGrpSpPr/>
            <p:nvPr/>
          </p:nvGrpSpPr>
          <p:grpSpPr>
            <a:xfrm>
              <a:off x="2855880" y="4290840"/>
              <a:ext cx="1440000" cy="1440000"/>
              <a:chOff x="2855880" y="4290840"/>
              <a:chExt cx="1440000" cy="1440000"/>
            </a:xfrm>
          </p:grpSpPr>
          <p:sp>
            <p:nvSpPr>
              <p:cNvPr id="833" name=""/>
              <p:cNvSpPr/>
              <p:nvPr/>
            </p:nvSpPr>
            <p:spPr>
              <a:xfrm>
                <a:off x="2855880" y="4290840"/>
                <a:ext cx="1440000" cy="1440000"/>
              </a:xfrm>
              <a:prstGeom prst="roundRect">
                <a:avLst>
                  <a:gd name="adj" fmla="val 14222"/>
                </a:avLst>
              </a:prstGeom>
              <a:solidFill>
                <a:srgbClr val="e76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2876400" y="4311360"/>
                <a:ext cx="1397160" cy="351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dcc9"/>
                  </a:gs>
                  <a:gs pos="100000">
                    <a:srgbClr val="e7691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835" name=""/>
            <p:cNvGrpSpPr/>
            <p:nvPr/>
          </p:nvGrpSpPr>
          <p:grpSpPr>
            <a:xfrm>
              <a:off x="2855880" y="4290840"/>
              <a:ext cx="1438200" cy="1438200"/>
              <a:chOff x="2855880" y="4290840"/>
              <a:chExt cx="1438200" cy="1438200"/>
            </a:xfrm>
          </p:grpSpPr>
          <p:sp>
            <p:nvSpPr>
              <p:cNvPr id="836" name=""/>
              <p:cNvSpPr/>
              <p:nvPr/>
            </p:nvSpPr>
            <p:spPr>
              <a:xfrm>
                <a:off x="2855880" y="4290840"/>
                <a:ext cx="1438200" cy="143820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2876760" y="4292640"/>
                <a:ext cx="1401840" cy="14007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838" name=""/>
            <p:cNvSpPr/>
            <p:nvPr/>
          </p:nvSpPr>
          <p:spPr>
            <a:xfrm flipH="1">
              <a:off x="2969640" y="4422600"/>
              <a:ext cx="1207800" cy="1146240"/>
            </a:xfrm>
            <a:prstGeom prst="ellipse">
              <a:avLst/>
            </a:prstGeom>
            <a:solidFill>
              <a:srgbClr val="e76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3084480" y="4457520"/>
              <a:ext cx="977760" cy="755640"/>
            </a:xfrm>
            <a:prstGeom prst="ellipse">
              <a:avLst/>
            </a:prstGeom>
            <a:gradFill rotWithShape="0">
              <a:gsLst>
                <a:gs pos="0">
                  <a:srgbClr val="f5c5a6"/>
                </a:gs>
                <a:gs pos="100000">
                  <a:srgbClr val="e76915">
                    <a:alpha val="3725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855880" y="4724280"/>
              <a:ext cx="1438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Concept</a:t>
              </a:r>
              <a:endParaRPr b="0" lang="en-US" sz="2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4800600" y="2706840"/>
            <a:ext cx="1440000" cy="1441440"/>
            <a:chOff x="4800600" y="2706840"/>
            <a:chExt cx="1440000" cy="1441440"/>
          </a:xfrm>
        </p:grpSpPr>
        <p:grpSp>
          <p:nvGrpSpPr>
            <p:cNvPr id="842" name=""/>
            <p:cNvGrpSpPr/>
            <p:nvPr/>
          </p:nvGrpSpPr>
          <p:grpSpPr>
            <a:xfrm>
              <a:off x="4800600" y="2706840"/>
              <a:ext cx="1440000" cy="1440000"/>
              <a:chOff x="4800600" y="2706840"/>
              <a:chExt cx="1440000" cy="1440000"/>
            </a:xfrm>
          </p:grpSpPr>
          <p:sp>
            <p:nvSpPr>
              <p:cNvPr id="843" name=""/>
              <p:cNvSpPr/>
              <p:nvPr/>
            </p:nvSpPr>
            <p:spPr>
              <a:xfrm>
                <a:off x="4800600" y="2706840"/>
                <a:ext cx="1440000" cy="1440000"/>
              </a:xfrm>
              <a:prstGeom prst="roundRect">
                <a:avLst>
                  <a:gd name="adj" fmla="val 14222"/>
                </a:avLst>
              </a:prstGeom>
              <a:solidFill>
                <a:srgbClr val="e64f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821120" y="2727360"/>
                <a:ext cx="1397160" cy="351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d6c9"/>
                  </a:gs>
                  <a:gs pos="100000">
                    <a:srgbClr val="e64f1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845" name=""/>
            <p:cNvGrpSpPr/>
            <p:nvPr/>
          </p:nvGrpSpPr>
          <p:grpSpPr>
            <a:xfrm>
              <a:off x="4800600" y="2708280"/>
              <a:ext cx="1425600" cy="1440000"/>
              <a:chOff x="4800600" y="2708280"/>
              <a:chExt cx="1425600" cy="1440000"/>
            </a:xfrm>
          </p:grpSpPr>
          <p:sp>
            <p:nvSpPr>
              <p:cNvPr id="846" name=""/>
              <p:cNvSpPr/>
              <p:nvPr/>
            </p:nvSpPr>
            <p:spPr>
              <a:xfrm>
                <a:off x="4800600" y="2708280"/>
                <a:ext cx="1425600" cy="144000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821120" y="2710080"/>
                <a:ext cx="1389600" cy="1402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848" name=""/>
            <p:cNvSpPr/>
            <p:nvPr/>
          </p:nvSpPr>
          <p:spPr>
            <a:xfrm flipH="1">
              <a:off x="4914360" y="2838600"/>
              <a:ext cx="1198440" cy="1157400"/>
            </a:xfrm>
            <a:prstGeom prst="ellipse">
              <a:avLst/>
            </a:prstGeom>
            <a:solidFill>
              <a:srgbClr val="e64f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5027760" y="2870280"/>
              <a:ext cx="968400" cy="757440"/>
            </a:xfrm>
            <a:prstGeom prst="ellipse">
              <a:avLst/>
            </a:prstGeom>
            <a:gradFill rotWithShape="0">
              <a:gsLst>
                <a:gs pos="0">
                  <a:srgbClr val="f5c3af"/>
                </a:gs>
                <a:gs pos="100000">
                  <a:srgbClr val="e64f13">
                    <a:alpha val="3725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025960" y="3167280"/>
              <a:ext cx="971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800600" y="3114720"/>
              <a:ext cx="1425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Concept</a:t>
              </a:r>
              <a:endParaRPr b="0" lang="en-US" sz="2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6745320" y="4290840"/>
            <a:ext cx="1440000" cy="1441440"/>
            <a:chOff x="6745320" y="4290840"/>
            <a:chExt cx="1440000" cy="1441440"/>
          </a:xfrm>
        </p:grpSpPr>
        <p:grpSp>
          <p:nvGrpSpPr>
            <p:cNvPr id="853" name=""/>
            <p:cNvGrpSpPr/>
            <p:nvPr/>
          </p:nvGrpSpPr>
          <p:grpSpPr>
            <a:xfrm>
              <a:off x="6745320" y="4292280"/>
              <a:ext cx="1440000" cy="1440000"/>
              <a:chOff x="6745320" y="4292280"/>
              <a:chExt cx="1440000" cy="1440000"/>
            </a:xfrm>
          </p:grpSpPr>
          <p:sp>
            <p:nvSpPr>
              <p:cNvPr id="854" name=""/>
              <p:cNvSpPr/>
              <p:nvPr/>
            </p:nvSpPr>
            <p:spPr>
              <a:xfrm>
                <a:off x="6745320" y="4292280"/>
                <a:ext cx="1440000" cy="1440000"/>
              </a:xfrm>
              <a:prstGeom prst="roundRect">
                <a:avLst>
                  <a:gd name="adj" fmla="val 14222"/>
                </a:avLst>
              </a:prstGeom>
              <a:solidFill>
                <a:srgbClr val="dd37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765840" y="4312800"/>
                <a:ext cx="1397160" cy="351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6d1c8"/>
                  </a:gs>
                  <a:gs pos="100000">
                    <a:srgbClr val="dd370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856" name=""/>
            <p:cNvGrpSpPr/>
            <p:nvPr/>
          </p:nvGrpSpPr>
          <p:grpSpPr>
            <a:xfrm>
              <a:off x="6745320" y="4290840"/>
              <a:ext cx="1438200" cy="1432080"/>
              <a:chOff x="6745320" y="4290840"/>
              <a:chExt cx="1438200" cy="1432080"/>
            </a:xfrm>
          </p:grpSpPr>
          <p:sp>
            <p:nvSpPr>
              <p:cNvPr id="857" name=""/>
              <p:cNvSpPr/>
              <p:nvPr/>
            </p:nvSpPr>
            <p:spPr>
              <a:xfrm>
                <a:off x="6745320" y="4290840"/>
                <a:ext cx="1438200" cy="143208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766200" y="4292640"/>
                <a:ext cx="1401840" cy="139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859" name=""/>
            <p:cNvSpPr/>
            <p:nvPr/>
          </p:nvSpPr>
          <p:spPr>
            <a:xfrm flipH="1">
              <a:off x="6861240" y="4422600"/>
              <a:ext cx="1208160" cy="1146240"/>
            </a:xfrm>
            <a:prstGeom prst="ellipse">
              <a:avLst/>
            </a:prstGeom>
            <a:solidFill>
              <a:srgbClr val="dd37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6972480" y="4452840"/>
              <a:ext cx="977760" cy="752400"/>
            </a:xfrm>
            <a:prstGeom prst="ellipse">
              <a:avLst/>
            </a:prstGeom>
            <a:gradFill rotWithShape="0">
              <a:gsLst>
                <a:gs pos="0">
                  <a:srgbClr val="f2bbad"/>
                </a:gs>
                <a:gs pos="100000">
                  <a:srgbClr val="dd370e">
                    <a:alpha val="3725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975360" y="4738680"/>
              <a:ext cx="974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746760" y="4701960"/>
              <a:ext cx="1436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Concept</a:t>
              </a:r>
              <a:endParaRPr b="0" lang="en-US" sz="2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3" name=""/>
          <p:cNvGrpSpPr/>
          <p:nvPr/>
        </p:nvGrpSpPr>
        <p:grpSpPr>
          <a:xfrm>
            <a:off x="826920" y="3803760"/>
            <a:ext cx="1662120" cy="1532880"/>
            <a:chOff x="826920" y="3803760"/>
            <a:chExt cx="1662120" cy="1532880"/>
          </a:xfrm>
        </p:grpSpPr>
        <p:sp>
          <p:nvSpPr>
            <p:cNvPr id="864" name=""/>
            <p:cNvSpPr/>
            <p:nvPr/>
          </p:nvSpPr>
          <p:spPr>
            <a:xfrm>
              <a:off x="1122840" y="4532760"/>
              <a:ext cx="553680" cy="50688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f2ac90"/>
                </a:gs>
                <a:gs pos="100000">
                  <a:srgbClr val="e64f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528560" y="4532760"/>
              <a:ext cx="553680" cy="50688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e5968b"/>
                </a:gs>
                <a:gs pos="100000">
                  <a:srgbClr val="ca20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934280" y="4532760"/>
              <a:ext cx="553680" cy="50760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f2b891"/>
                </a:gs>
                <a:gs pos="100000">
                  <a:srgbClr val="e769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123560" y="4163400"/>
              <a:ext cx="552600" cy="50760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eea18d"/>
                </a:gs>
                <a:gs pos="100000">
                  <a:srgbClr val="dd37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529280" y="4163400"/>
              <a:ext cx="553680" cy="50760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f2b891"/>
                </a:gs>
                <a:gs pos="100000">
                  <a:srgbClr val="e769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935360" y="4163400"/>
              <a:ext cx="553680" cy="50688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f2ac90"/>
                </a:gs>
                <a:gs pos="100000">
                  <a:srgbClr val="e64f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123560" y="3804480"/>
              <a:ext cx="553680" cy="50688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e5968b"/>
                </a:gs>
                <a:gs pos="100000">
                  <a:srgbClr val="ca20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529280" y="3803760"/>
              <a:ext cx="552960" cy="50760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eea18d"/>
                </a:gs>
                <a:gs pos="100000">
                  <a:srgbClr val="dd37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935360" y="3804480"/>
              <a:ext cx="553680" cy="50688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e5968b"/>
                </a:gs>
                <a:gs pos="100000">
                  <a:srgbClr val="ca20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975600" y="4681080"/>
              <a:ext cx="552960" cy="50760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eea18d"/>
                </a:gs>
                <a:gs pos="100000">
                  <a:srgbClr val="dd37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974880" y="4311360"/>
              <a:ext cx="553680" cy="50760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f2b891"/>
                </a:gs>
                <a:gs pos="100000">
                  <a:srgbClr val="e769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974880" y="3951720"/>
              <a:ext cx="553680" cy="50688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f2ac90"/>
                </a:gs>
                <a:gs pos="100000">
                  <a:srgbClr val="e64f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380600" y="3951000"/>
              <a:ext cx="553680" cy="50760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f2b891"/>
                </a:gs>
                <a:gs pos="100000">
                  <a:srgbClr val="e769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786320" y="4681080"/>
              <a:ext cx="553680" cy="50688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f2ac90"/>
                </a:gs>
                <a:gs pos="100000">
                  <a:srgbClr val="e64f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786320" y="4311360"/>
              <a:ext cx="553680" cy="50688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e5968b"/>
                </a:gs>
                <a:gs pos="100000">
                  <a:srgbClr val="ca20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86320" y="3951000"/>
              <a:ext cx="552960" cy="50760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eea18d"/>
                </a:gs>
                <a:gs pos="100000">
                  <a:srgbClr val="dd37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26920" y="4829040"/>
              <a:ext cx="553680" cy="50688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f2ac90"/>
                </a:gs>
                <a:gs pos="100000">
                  <a:srgbClr val="e64f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232640" y="4829040"/>
              <a:ext cx="553680" cy="50760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f2b891"/>
                </a:gs>
                <a:gs pos="100000">
                  <a:srgbClr val="e769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638360" y="4829040"/>
              <a:ext cx="552960" cy="50760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eea18d"/>
                </a:gs>
                <a:gs pos="100000">
                  <a:srgbClr val="dd37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26920" y="4459680"/>
              <a:ext cx="552960" cy="50760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eea18d"/>
                </a:gs>
                <a:gs pos="100000">
                  <a:srgbClr val="dd37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232640" y="4460400"/>
              <a:ext cx="553680" cy="50688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e5968b"/>
                </a:gs>
                <a:gs pos="100000">
                  <a:srgbClr val="ca20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638360" y="4460400"/>
              <a:ext cx="553680" cy="50688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f2ac90"/>
                </a:gs>
                <a:gs pos="100000">
                  <a:srgbClr val="e64f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26920" y="4099680"/>
              <a:ext cx="553680" cy="50688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e5968b"/>
                </a:gs>
                <a:gs pos="100000">
                  <a:srgbClr val="ca20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233360" y="4098960"/>
              <a:ext cx="552600" cy="50760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eea18d"/>
                </a:gs>
                <a:gs pos="100000">
                  <a:srgbClr val="dd37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638360" y="4098960"/>
              <a:ext cx="553680" cy="507600"/>
            </a:xfrm>
            <a:prstGeom prst="cube">
              <a:avLst>
                <a:gd name="adj" fmla="val 30662"/>
              </a:avLst>
            </a:prstGeom>
            <a:gradFill rotWithShape="0">
              <a:gsLst>
                <a:gs pos="0">
                  <a:srgbClr val="f2b891"/>
                </a:gs>
                <a:gs pos="100000">
                  <a:srgbClr val="e769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6299280" y="3514680"/>
            <a:ext cx="2237760" cy="1806480"/>
            <a:chOff x="6299280" y="3514680"/>
            <a:chExt cx="2237760" cy="1806480"/>
          </a:xfrm>
        </p:grpSpPr>
        <p:sp>
          <p:nvSpPr>
            <p:cNvPr id="890" name="未知"/>
            <p:cNvSpPr/>
            <p:nvPr/>
          </p:nvSpPr>
          <p:spPr>
            <a:xfrm>
              <a:off x="6299280" y="4417920"/>
              <a:ext cx="2212560" cy="903240"/>
            </a:xfrm>
            <a:custGeom>
              <a:avLst/>
              <a:gdLst/>
              <a:ahLst/>
              <a:rect l="l" t="t" r="r" b="b"/>
              <a:pathLst>
                <a:path w="1854" h="756">
                  <a:moveTo>
                    <a:pt x="612" y="0"/>
                  </a:moveTo>
                  <a:lnTo>
                    <a:pt x="0" y="516"/>
                  </a:lnTo>
                  <a:lnTo>
                    <a:pt x="1272" y="756"/>
                  </a:lnTo>
                  <a:lnTo>
                    <a:pt x="1854" y="125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e64f13"/>
            </a:solidFill>
            <a:ln w="1908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91" name="未知"/>
            <p:cNvSpPr/>
            <p:nvPr/>
          </p:nvSpPr>
          <p:spPr>
            <a:xfrm>
              <a:off x="6299280" y="4289400"/>
              <a:ext cx="2212560" cy="903240"/>
            </a:xfrm>
            <a:custGeom>
              <a:avLst/>
              <a:gdLst/>
              <a:ahLst/>
              <a:rect l="l" t="t" r="r" b="b"/>
              <a:pathLst>
                <a:path w="1854" h="756">
                  <a:moveTo>
                    <a:pt x="612" y="0"/>
                  </a:moveTo>
                  <a:lnTo>
                    <a:pt x="0" y="516"/>
                  </a:lnTo>
                  <a:lnTo>
                    <a:pt x="1272" y="756"/>
                  </a:lnTo>
                  <a:lnTo>
                    <a:pt x="1854" y="125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e76915"/>
            </a:solidFill>
            <a:ln w="1908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92" name="未知"/>
            <p:cNvSpPr/>
            <p:nvPr/>
          </p:nvSpPr>
          <p:spPr>
            <a:xfrm>
              <a:off x="6324480" y="4152960"/>
              <a:ext cx="2212560" cy="903240"/>
            </a:xfrm>
            <a:custGeom>
              <a:avLst/>
              <a:gdLst/>
              <a:ahLst/>
              <a:rect l="l" t="t" r="r" b="b"/>
              <a:pathLst>
                <a:path w="1854" h="756">
                  <a:moveTo>
                    <a:pt x="612" y="0"/>
                  </a:moveTo>
                  <a:lnTo>
                    <a:pt x="0" y="516"/>
                  </a:lnTo>
                  <a:lnTo>
                    <a:pt x="1272" y="756"/>
                  </a:lnTo>
                  <a:lnTo>
                    <a:pt x="1854" y="125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ca2008"/>
            </a:solidFill>
            <a:ln w="1908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93" name="未知"/>
            <p:cNvSpPr/>
            <p:nvPr/>
          </p:nvSpPr>
          <p:spPr>
            <a:xfrm>
              <a:off x="6316560" y="4035240"/>
              <a:ext cx="2212560" cy="901800"/>
            </a:xfrm>
            <a:custGeom>
              <a:avLst/>
              <a:gdLst/>
              <a:ahLst/>
              <a:rect l="l" t="t" r="r" b="b"/>
              <a:pathLst>
                <a:path w="1854" h="756">
                  <a:moveTo>
                    <a:pt x="612" y="0"/>
                  </a:moveTo>
                  <a:lnTo>
                    <a:pt x="0" y="516"/>
                  </a:lnTo>
                  <a:lnTo>
                    <a:pt x="1272" y="756"/>
                  </a:lnTo>
                  <a:lnTo>
                    <a:pt x="1854" y="125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dd370e"/>
            </a:solidFill>
            <a:ln w="1908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94" name="未知"/>
            <p:cNvSpPr/>
            <p:nvPr/>
          </p:nvSpPr>
          <p:spPr>
            <a:xfrm>
              <a:off x="6299280" y="3908520"/>
              <a:ext cx="2212560" cy="901440"/>
            </a:xfrm>
            <a:custGeom>
              <a:avLst/>
              <a:gdLst/>
              <a:ahLst/>
              <a:rect l="l" t="t" r="r" b="b"/>
              <a:pathLst>
                <a:path w="1854" h="756">
                  <a:moveTo>
                    <a:pt x="612" y="0"/>
                  </a:moveTo>
                  <a:lnTo>
                    <a:pt x="0" y="516"/>
                  </a:lnTo>
                  <a:lnTo>
                    <a:pt x="1272" y="756"/>
                  </a:lnTo>
                  <a:lnTo>
                    <a:pt x="1854" y="125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e64f13"/>
            </a:solidFill>
            <a:ln w="1908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95" name="未知"/>
            <p:cNvSpPr/>
            <p:nvPr/>
          </p:nvSpPr>
          <p:spPr>
            <a:xfrm>
              <a:off x="6316560" y="3781440"/>
              <a:ext cx="2212560" cy="901800"/>
            </a:xfrm>
            <a:custGeom>
              <a:avLst/>
              <a:gdLst/>
              <a:ahLst/>
              <a:rect l="l" t="t" r="r" b="b"/>
              <a:pathLst>
                <a:path w="1854" h="756">
                  <a:moveTo>
                    <a:pt x="612" y="0"/>
                  </a:moveTo>
                  <a:lnTo>
                    <a:pt x="0" y="516"/>
                  </a:lnTo>
                  <a:lnTo>
                    <a:pt x="1272" y="756"/>
                  </a:lnTo>
                  <a:lnTo>
                    <a:pt x="1854" y="125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e64f13"/>
            </a:solidFill>
            <a:ln w="1908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96" name="未知"/>
            <p:cNvSpPr/>
            <p:nvPr/>
          </p:nvSpPr>
          <p:spPr>
            <a:xfrm>
              <a:off x="6316560" y="3654360"/>
              <a:ext cx="2212560" cy="903240"/>
            </a:xfrm>
            <a:custGeom>
              <a:avLst/>
              <a:gdLst/>
              <a:ahLst/>
              <a:rect l="l" t="t" r="r" b="b"/>
              <a:pathLst>
                <a:path w="1854" h="756">
                  <a:moveTo>
                    <a:pt x="612" y="0"/>
                  </a:moveTo>
                  <a:lnTo>
                    <a:pt x="0" y="516"/>
                  </a:lnTo>
                  <a:lnTo>
                    <a:pt x="1272" y="756"/>
                  </a:lnTo>
                  <a:lnTo>
                    <a:pt x="1854" y="125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e76915"/>
            </a:solidFill>
            <a:ln w="1908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97" name="未知"/>
            <p:cNvSpPr/>
            <p:nvPr/>
          </p:nvSpPr>
          <p:spPr>
            <a:xfrm>
              <a:off x="6316560" y="3514680"/>
              <a:ext cx="2212560" cy="903240"/>
            </a:xfrm>
            <a:custGeom>
              <a:avLst/>
              <a:gdLst/>
              <a:ahLst/>
              <a:rect l="l" t="t" r="r" b="b"/>
              <a:pathLst>
                <a:path w="1854" h="756">
                  <a:moveTo>
                    <a:pt x="612" y="0"/>
                  </a:moveTo>
                  <a:lnTo>
                    <a:pt x="0" y="516"/>
                  </a:lnTo>
                  <a:lnTo>
                    <a:pt x="1272" y="756"/>
                  </a:lnTo>
                  <a:lnTo>
                    <a:pt x="1854" y="125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ca2008"/>
            </a:solidFill>
            <a:ln w="1908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98" name="未知"/>
            <p:cNvSpPr/>
            <p:nvPr/>
          </p:nvSpPr>
          <p:spPr>
            <a:xfrm>
              <a:off x="6373440" y="3540240"/>
              <a:ext cx="2093760" cy="844560"/>
            </a:xfrm>
            <a:custGeom>
              <a:avLst/>
              <a:gdLst/>
              <a:ahLst/>
              <a:rect l="l" t="t" r="r" b="b"/>
              <a:pathLst>
                <a:path w="1491" h="601">
                  <a:moveTo>
                    <a:pt x="486" y="0"/>
                  </a:moveTo>
                  <a:lnTo>
                    <a:pt x="0" y="409"/>
                  </a:lnTo>
                  <a:lnTo>
                    <a:pt x="1031" y="601"/>
                  </a:lnTo>
                  <a:lnTo>
                    <a:pt x="1491" y="104"/>
                  </a:lnTo>
                  <a:lnTo>
                    <a:pt x="486" y="0"/>
                  </a:lnTo>
                  <a:close/>
                </a:path>
              </a:pathLst>
            </a:custGeom>
            <a:gradFill rotWithShape="0">
              <a:gsLst>
                <a:gs pos="0">
                  <a:srgbClr val="ca2008">
                    <a:alpha val="39215"/>
                  </a:srgbClr>
                </a:gs>
                <a:gs pos="100000">
                  <a:srgbClr val="eebdb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372000" y="3705120"/>
              <a:ext cx="20872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Concept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3639960" y="1066680"/>
            <a:ext cx="1656000" cy="1656000"/>
            <a:chOff x="3639960" y="1066680"/>
            <a:chExt cx="1656000" cy="1656000"/>
          </a:xfrm>
        </p:grpSpPr>
        <p:grpSp>
          <p:nvGrpSpPr>
            <p:cNvPr id="901" name=""/>
            <p:cNvGrpSpPr/>
            <p:nvPr/>
          </p:nvGrpSpPr>
          <p:grpSpPr>
            <a:xfrm>
              <a:off x="3766320" y="1187280"/>
              <a:ext cx="1400040" cy="1400400"/>
              <a:chOff x="3766320" y="1187280"/>
              <a:chExt cx="1400040" cy="1400400"/>
            </a:xfrm>
          </p:grpSpPr>
          <p:sp>
            <p:nvSpPr>
              <p:cNvPr id="902" name=""/>
              <p:cNvSpPr/>
              <p:nvPr/>
            </p:nvSpPr>
            <p:spPr>
              <a:xfrm>
                <a:off x="3766320" y="1187280"/>
                <a:ext cx="1400040" cy="1400400"/>
              </a:xfrm>
              <a:prstGeom prst="ellipse">
                <a:avLst/>
              </a:prstGeom>
              <a:solidFill>
                <a:srgbClr val="e64f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796920" y="1211760"/>
                <a:ext cx="1333080" cy="1333440"/>
              </a:xfrm>
              <a:prstGeom prst="donut">
                <a:avLst>
                  <a:gd name="adj" fmla="val 18810"/>
                </a:avLst>
              </a:prstGeom>
              <a:gradFill rotWithShape="0">
                <a:gsLst>
                  <a:gs pos="0">
                    <a:srgbClr val="f6c7b5"/>
                  </a:gs>
                  <a:gs pos="100000">
                    <a:srgbClr val="e64f1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766320" y="1548360"/>
                <a:ext cx="1400040" cy="6001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baseline="-25000">
                    <a:solidFill>
                      <a:srgbClr val="ffffff"/>
                    </a:solidFill>
                    <a:latin typeface="Arial"/>
                    <a:ea typeface="Gulim"/>
                  </a:rPr>
                  <a:t>Concept</a:t>
                </a:r>
                <a:endParaRPr b="0" lang="en-US" sz="2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905" name=""/>
            <p:cNvSpPr/>
            <p:nvPr/>
          </p:nvSpPr>
          <p:spPr>
            <a:xfrm rot="10800000">
              <a:off x="3639960" y="1066680"/>
              <a:ext cx="1656000" cy="1656000"/>
            </a:xfrm>
            <a:prstGeom prst="blockArc">
              <a:avLst>
                <a:gd name="adj1" fmla="val 10861911"/>
                <a:gd name="adj2" fmla="val 21538089"/>
                <a:gd name="adj3" fmla="val 6556"/>
              </a:avLst>
            </a:prstGeom>
            <a:solidFill>
              <a:srgbClr val="e64f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906" name=""/>
          <p:cNvSpPr/>
          <p:nvPr/>
        </p:nvSpPr>
        <p:spPr>
          <a:xfrm>
            <a:off x="3063960" y="2867040"/>
            <a:ext cx="2879640" cy="2008080"/>
          </a:xfrm>
          <a:custGeom>
            <a:avLst/>
            <a:gdLst>
              <a:gd name="textAreaLeft" fmla="*/ 0 w 2879640"/>
              <a:gd name="textAreaRight" fmla="*/ 2880000 w 2879640"/>
              <a:gd name="textAreaTop" fmla="*/ 0 h 2008080"/>
              <a:gd name="textAreaBottom" fmla="*/ 2008440 h 20080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3778" y="3050"/>
                </a:lnTo>
                <a:lnTo>
                  <a:pt x="12015" y="3050"/>
                </a:lnTo>
                <a:lnTo>
                  <a:pt x="12015" y="9585"/>
                </a:lnTo>
                <a:lnTo>
                  <a:pt x="18550" y="9585"/>
                </a:lnTo>
                <a:lnTo>
                  <a:pt x="18550" y="7822"/>
                </a:lnTo>
                <a:lnTo>
                  <a:pt x="21600" y="10800"/>
                </a:lnTo>
                <a:lnTo>
                  <a:pt x="18550" y="13778"/>
                </a:lnTo>
                <a:lnTo>
                  <a:pt x="18550" y="12015"/>
                </a:lnTo>
                <a:lnTo>
                  <a:pt x="3050" y="12015"/>
                </a:lnTo>
                <a:lnTo>
                  <a:pt x="3050" y="13778"/>
                </a:lnTo>
                <a:lnTo>
                  <a:pt x="0" y="10800"/>
                </a:lnTo>
                <a:lnTo>
                  <a:pt x="3050" y="7822"/>
                </a:lnTo>
                <a:lnTo>
                  <a:pt x="3050" y="9585"/>
                </a:lnTo>
                <a:lnTo>
                  <a:pt x="9585" y="9585"/>
                </a:lnTo>
                <a:lnTo>
                  <a:pt x="9585" y="3050"/>
                </a:lnTo>
                <a:lnTo>
                  <a:pt x="7822" y="3050"/>
                </a:lnTo>
                <a:close/>
              </a:path>
            </a:pathLst>
          </a:cu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3917880" y="3659040"/>
            <a:ext cx="1162080" cy="1582920"/>
            <a:chOff x="3917880" y="3659040"/>
            <a:chExt cx="1162080" cy="1582920"/>
          </a:xfrm>
        </p:grpSpPr>
        <p:grpSp>
          <p:nvGrpSpPr>
            <p:cNvPr id="908" name=""/>
            <p:cNvGrpSpPr/>
            <p:nvPr/>
          </p:nvGrpSpPr>
          <p:grpSpPr>
            <a:xfrm>
              <a:off x="4340520" y="4925160"/>
              <a:ext cx="316800" cy="316800"/>
              <a:chOff x="4340520" y="4925160"/>
              <a:chExt cx="316800" cy="316800"/>
            </a:xfrm>
          </p:grpSpPr>
          <p:sp>
            <p:nvSpPr>
              <p:cNvPr id="909" name=""/>
              <p:cNvSpPr/>
              <p:nvPr/>
            </p:nvSpPr>
            <p:spPr>
              <a:xfrm rot="5400000">
                <a:off x="4340520" y="4925160"/>
                <a:ext cx="316800" cy="316800"/>
              </a:xfrm>
              <a:prstGeom prst="ellipse">
                <a:avLst/>
              </a:prstGeom>
              <a:solidFill>
                <a:srgbClr val="e76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5400000">
                <a:off x="4350240" y="4932000"/>
                <a:ext cx="301680" cy="301680"/>
              </a:xfrm>
              <a:prstGeom prst="donut">
                <a:avLst>
                  <a:gd name="adj" fmla="val 18810"/>
                </a:avLst>
              </a:prstGeom>
              <a:gradFill rotWithShape="0">
                <a:gsLst>
                  <a:gs pos="0">
                    <a:srgbClr val="f6cfb5"/>
                  </a:gs>
                  <a:gs pos="100000">
                    <a:srgbClr val="e7691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5400000">
                <a:off x="4349160" y="5015520"/>
                <a:ext cx="316800" cy="1360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 rot="5400000">
              <a:off x="4509720" y="4672080"/>
              <a:ext cx="401040" cy="401040"/>
            </a:xfrm>
            <a:custGeom>
              <a:avLst/>
              <a:gdLst>
                <a:gd name="textAreaLeft" fmla="*/ 115560 w 401040"/>
                <a:gd name="textAreaRight" fmla="*/ 285480 w 401040"/>
                <a:gd name="textAreaTop" fmla="*/ 115560 h 401040"/>
                <a:gd name="textAreaBottom" fmla="*/ 285480 h 40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95" y="0"/>
                  </a:moveTo>
                  <a:arcTo wR="8795" hR="8795" stAng="0" swAng="5400000"/>
                  <a:lnTo>
                    <a:pt x="0" y="12805"/>
                  </a:lnTo>
                  <a:arcTo wR="8795" hR="8795" stAng="16200000" swAng="5400000"/>
                  <a:lnTo>
                    <a:pt x="12805" y="21600"/>
                  </a:lnTo>
                  <a:arcTo wR="8795" hR="8795" stAng="10800000" swAng="5400000"/>
                  <a:lnTo>
                    <a:pt x="21600" y="8795"/>
                  </a:lnTo>
                  <a:arcTo wR="8795" hR="8795" stAng="5400000" swAng="5400000"/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913" name=""/>
            <p:cNvGrpSpPr/>
            <p:nvPr/>
          </p:nvGrpSpPr>
          <p:grpSpPr>
            <a:xfrm>
              <a:off x="4762800" y="4925160"/>
              <a:ext cx="316800" cy="316800"/>
              <a:chOff x="4762800" y="4925160"/>
              <a:chExt cx="316800" cy="316800"/>
            </a:xfrm>
          </p:grpSpPr>
          <p:sp>
            <p:nvSpPr>
              <p:cNvPr id="914" name=""/>
              <p:cNvSpPr/>
              <p:nvPr/>
            </p:nvSpPr>
            <p:spPr>
              <a:xfrm rot="5400000">
                <a:off x="4762800" y="4925160"/>
                <a:ext cx="316800" cy="316800"/>
              </a:xfrm>
              <a:prstGeom prst="ellipse">
                <a:avLst/>
              </a:prstGeom>
              <a:solidFill>
                <a:srgbClr val="ca2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5400000">
                <a:off x="4772520" y="4932000"/>
                <a:ext cx="301680" cy="301680"/>
              </a:xfrm>
              <a:prstGeom prst="donut">
                <a:avLst>
                  <a:gd name="adj" fmla="val 18810"/>
                </a:avLst>
              </a:prstGeom>
              <a:gradFill rotWithShape="0">
                <a:gsLst>
                  <a:gs pos="0">
                    <a:srgbClr val="edb9b1"/>
                  </a:gs>
                  <a:gs pos="100000">
                    <a:srgbClr val="ca200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rot="5400000">
                <a:off x="4771440" y="5015520"/>
                <a:ext cx="316800" cy="1360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917" name=""/>
            <p:cNvGrpSpPr/>
            <p:nvPr/>
          </p:nvGrpSpPr>
          <p:grpSpPr>
            <a:xfrm>
              <a:off x="4763160" y="4503240"/>
              <a:ext cx="316800" cy="316800"/>
              <a:chOff x="4763160" y="4503240"/>
              <a:chExt cx="316800" cy="316800"/>
            </a:xfrm>
          </p:grpSpPr>
          <p:sp>
            <p:nvSpPr>
              <p:cNvPr id="918" name=""/>
              <p:cNvSpPr/>
              <p:nvPr/>
            </p:nvSpPr>
            <p:spPr>
              <a:xfrm rot="5400000">
                <a:off x="4763160" y="4503240"/>
                <a:ext cx="316800" cy="316800"/>
              </a:xfrm>
              <a:prstGeom prst="ellipse">
                <a:avLst/>
              </a:prstGeom>
              <a:solidFill>
                <a:srgbClr val="e64f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rot="5400000">
                <a:off x="4772880" y="4510080"/>
                <a:ext cx="301680" cy="301680"/>
              </a:xfrm>
              <a:prstGeom prst="donut">
                <a:avLst>
                  <a:gd name="adj" fmla="val 18810"/>
                </a:avLst>
              </a:prstGeom>
              <a:gradFill rotWithShape="0">
                <a:gsLst>
                  <a:gs pos="0">
                    <a:srgbClr val="f6c7b5"/>
                  </a:gs>
                  <a:gs pos="100000">
                    <a:srgbClr val="e64f1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5400000">
                <a:off x="4771800" y="4593600"/>
                <a:ext cx="316800" cy="135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921" name=""/>
            <p:cNvGrpSpPr/>
            <p:nvPr/>
          </p:nvGrpSpPr>
          <p:grpSpPr>
            <a:xfrm>
              <a:off x="4340520" y="4503240"/>
              <a:ext cx="316800" cy="316800"/>
              <a:chOff x="4340520" y="4503240"/>
              <a:chExt cx="316800" cy="316800"/>
            </a:xfrm>
          </p:grpSpPr>
          <p:sp>
            <p:nvSpPr>
              <p:cNvPr id="922" name=""/>
              <p:cNvSpPr/>
              <p:nvPr/>
            </p:nvSpPr>
            <p:spPr>
              <a:xfrm rot="5400000">
                <a:off x="4340520" y="4503240"/>
                <a:ext cx="316800" cy="316800"/>
              </a:xfrm>
              <a:prstGeom prst="ellipse">
                <a:avLst/>
              </a:prstGeom>
              <a:solidFill>
                <a:srgbClr val="dd37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rot="5400000">
                <a:off x="4350240" y="4510080"/>
                <a:ext cx="301680" cy="301680"/>
              </a:xfrm>
              <a:prstGeom prst="donut">
                <a:avLst>
                  <a:gd name="adj" fmla="val 18810"/>
                </a:avLst>
              </a:prstGeom>
              <a:gradFill rotWithShape="0">
                <a:gsLst>
                  <a:gs pos="0">
                    <a:srgbClr val="f3c0b3"/>
                  </a:gs>
                  <a:gs pos="100000">
                    <a:srgbClr val="dd370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rot="5400000">
                <a:off x="4349160" y="4593600"/>
                <a:ext cx="316800" cy="135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925" name=""/>
            <p:cNvSpPr/>
            <p:nvPr/>
          </p:nvSpPr>
          <p:spPr>
            <a:xfrm rot="5400000">
              <a:off x="4509720" y="4249800"/>
              <a:ext cx="401040" cy="401040"/>
            </a:xfrm>
            <a:custGeom>
              <a:avLst/>
              <a:gdLst>
                <a:gd name="textAreaLeft" fmla="*/ 115560 w 401040"/>
                <a:gd name="textAreaRight" fmla="*/ 285480 w 401040"/>
                <a:gd name="textAreaTop" fmla="*/ 115560 h 401040"/>
                <a:gd name="textAreaBottom" fmla="*/ 285480 h 40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95" y="0"/>
                  </a:moveTo>
                  <a:arcTo wR="8795" hR="8795" stAng="0" swAng="5400000"/>
                  <a:lnTo>
                    <a:pt x="0" y="12805"/>
                  </a:lnTo>
                  <a:arcTo wR="8795" hR="8795" stAng="16200000" swAng="5400000"/>
                  <a:lnTo>
                    <a:pt x="12805" y="21600"/>
                  </a:lnTo>
                  <a:arcTo wR="8795" hR="8795" stAng="10800000" swAng="5400000"/>
                  <a:lnTo>
                    <a:pt x="21600" y="8795"/>
                  </a:lnTo>
                  <a:arcTo wR="8795" hR="8795" stAng="5400000" swAng="5400000"/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rot="5400000">
              <a:off x="4509720" y="3827520"/>
              <a:ext cx="400680" cy="401040"/>
            </a:xfrm>
            <a:custGeom>
              <a:avLst/>
              <a:gdLst>
                <a:gd name="textAreaLeft" fmla="*/ 115200 w 400680"/>
                <a:gd name="textAreaRight" fmla="*/ 285480 w 400680"/>
                <a:gd name="textAreaTop" fmla="*/ 115200 h 401040"/>
                <a:gd name="textAreaBottom" fmla="*/ 285840 h 401040"/>
              </a:gdLst>
              <a:ahLst/>
              <a:rect l="textAreaLeft" t="textAreaTop" r="textAreaRight" b="textAreaBottom"/>
              <a:pathLst>
                <a:path w="21600" h="21619">
                  <a:moveTo>
                    <a:pt x="8795" y="0"/>
                  </a:moveTo>
                  <a:arcTo wR="8795" hR="8795" stAng="0" swAng="5400000"/>
                  <a:lnTo>
                    <a:pt x="0" y="12824"/>
                  </a:lnTo>
                  <a:arcTo wR="8795" hR="8795" stAng="16200000" swAng="5400000"/>
                  <a:lnTo>
                    <a:pt x="12805" y="21619"/>
                  </a:lnTo>
                  <a:arcTo wR="8795" hR="8795" stAng="10800000" swAng="5400000"/>
                  <a:lnTo>
                    <a:pt x="21600" y="8795"/>
                  </a:lnTo>
                  <a:arcTo wR="8795" hR="8795" stAng="5400000" swAng="5400000"/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927" name=""/>
            <p:cNvGrpSpPr/>
            <p:nvPr/>
          </p:nvGrpSpPr>
          <p:grpSpPr>
            <a:xfrm>
              <a:off x="4762800" y="4081320"/>
              <a:ext cx="316800" cy="316800"/>
              <a:chOff x="4762800" y="4081320"/>
              <a:chExt cx="316800" cy="316800"/>
            </a:xfrm>
          </p:grpSpPr>
          <p:sp>
            <p:nvSpPr>
              <p:cNvPr id="928" name=""/>
              <p:cNvSpPr/>
              <p:nvPr/>
            </p:nvSpPr>
            <p:spPr>
              <a:xfrm rot="5400000">
                <a:off x="4762800" y="4081320"/>
                <a:ext cx="316800" cy="316800"/>
              </a:xfrm>
              <a:prstGeom prst="ellipse">
                <a:avLst/>
              </a:prstGeom>
              <a:solidFill>
                <a:srgbClr val="e76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rot="5400000">
                <a:off x="4772520" y="4088160"/>
                <a:ext cx="301680" cy="301680"/>
              </a:xfrm>
              <a:prstGeom prst="donut">
                <a:avLst>
                  <a:gd name="adj" fmla="val 18810"/>
                </a:avLst>
              </a:prstGeom>
              <a:gradFill rotWithShape="0">
                <a:gsLst>
                  <a:gs pos="0">
                    <a:srgbClr val="f6cfb5"/>
                  </a:gs>
                  <a:gs pos="100000">
                    <a:srgbClr val="e7691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rot="5400000">
                <a:off x="4771440" y="4171680"/>
                <a:ext cx="316800" cy="1360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4340520" y="3659040"/>
              <a:ext cx="316800" cy="316800"/>
              <a:chOff x="4340520" y="3659040"/>
              <a:chExt cx="316800" cy="316800"/>
            </a:xfrm>
          </p:grpSpPr>
          <p:sp>
            <p:nvSpPr>
              <p:cNvPr id="932" name=""/>
              <p:cNvSpPr/>
              <p:nvPr/>
            </p:nvSpPr>
            <p:spPr>
              <a:xfrm rot="5400000">
                <a:off x="4340520" y="3659040"/>
                <a:ext cx="316800" cy="316800"/>
              </a:xfrm>
              <a:prstGeom prst="ellipse">
                <a:avLst/>
              </a:prstGeom>
              <a:solidFill>
                <a:srgbClr val="ca2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rot="5400000">
                <a:off x="4350240" y="3665880"/>
                <a:ext cx="301680" cy="301680"/>
              </a:xfrm>
              <a:prstGeom prst="donut">
                <a:avLst>
                  <a:gd name="adj" fmla="val 18810"/>
                </a:avLst>
              </a:prstGeom>
              <a:gradFill rotWithShape="0">
                <a:gsLst>
                  <a:gs pos="0">
                    <a:srgbClr val="edb9b1"/>
                  </a:gs>
                  <a:gs pos="100000">
                    <a:srgbClr val="ca200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rot="5400000">
                <a:off x="4349160" y="3749400"/>
                <a:ext cx="316800" cy="1360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935" name=""/>
            <p:cNvGrpSpPr/>
            <p:nvPr/>
          </p:nvGrpSpPr>
          <p:grpSpPr>
            <a:xfrm>
              <a:off x="4762800" y="3659040"/>
              <a:ext cx="316800" cy="316800"/>
              <a:chOff x="4762800" y="3659040"/>
              <a:chExt cx="316800" cy="316800"/>
            </a:xfrm>
          </p:grpSpPr>
          <p:sp>
            <p:nvSpPr>
              <p:cNvPr id="936" name=""/>
              <p:cNvSpPr/>
              <p:nvPr/>
            </p:nvSpPr>
            <p:spPr>
              <a:xfrm rot="5400000">
                <a:off x="4762800" y="3659040"/>
                <a:ext cx="316800" cy="316800"/>
              </a:xfrm>
              <a:prstGeom prst="ellipse">
                <a:avLst/>
              </a:prstGeom>
              <a:solidFill>
                <a:srgbClr val="dd37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rot="5400000">
                <a:off x="4772520" y="3665880"/>
                <a:ext cx="301680" cy="301680"/>
              </a:xfrm>
              <a:prstGeom prst="donut">
                <a:avLst>
                  <a:gd name="adj" fmla="val 18810"/>
                </a:avLst>
              </a:prstGeom>
              <a:gradFill rotWithShape="0">
                <a:gsLst>
                  <a:gs pos="0">
                    <a:srgbClr val="f3c0b3"/>
                  </a:gs>
                  <a:gs pos="100000">
                    <a:srgbClr val="dd370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rot="5400000">
                <a:off x="4771440" y="3749400"/>
                <a:ext cx="316800" cy="135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4340520" y="4081320"/>
              <a:ext cx="316800" cy="316800"/>
              <a:chOff x="4340520" y="4081320"/>
              <a:chExt cx="316800" cy="316800"/>
            </a:xfrm>
          </p:grpSpPr>
          <p:sp>
            <p:nvSpPr>
              <p:cNvPr id="940" name=""/>
              <p:cNvSpPr/>
              <p:nvPr/>
            </p:nvSpPr>
            <p:spPr>
              <a:xfrm rot="5400000">
                <a:off x="4340520" y="4081320"/>
                <a:ext cx="316800" cy="316800"/>
              </a:xfrm>
              <a:prstGeom prst="ellipse">
                <a:avLst/>
              </a:prstGeom>
              <a:solidFill>
                <a:srgbClr val="e64f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rot="5400000">
                <a:off x="4350240" y="4088160"/>
                <a:ext cx="301680" cy="301680"/>
              </a:xfrm>
              <a:prstGeom prst="donut">
                <a:avLst>
                  <a:gd name="adj" fmla="val 18810"/>
                </a:avLst>
              </a:prstGeom>
              <a:gradFill rotWithShape="0">
                <a:gsLst>
                  <a:gs pos="0">
                    <a:srgbClr val="f6c7b5"/>
                  </a:gs>
                  <a:gs pos="100000">
                    <a:srgbClr val="e64f1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5400000">
                <a:off x="4349160" y="4171680"/>
                <a:ext cx="316800" cy="135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943" name=""/>
            <p:cNvGrpSpPr/>
            <p:nvPr/>
          </p:nvGrpSpPr>
          <p:grpSpPr>
            <a:xfrm>
              <a:off x="3917880" y="3659400"/>
              <a:ext cx="316800" cy="316800"/>
              <a:chOff x="3917880" y="3659400"/>
              <a:chExt cx="316800" cy="316800"/>
            </a:xfrm>
          </p:grpSpPr>
          <p:sp>
            <p:nvSpPr>
              <p:cNvPr id="944" name=""/>
              <p:cNvSpPr/>
              <p:nvPr/>
            </p:nvSpPr>
            <p:spPr>
              <a:xfrm rot="5400000">
                <a:off x="3917880" y="3659400"/>
                <a:ext cx="316800" cy="316800"/>
              </a:xfrm>
              <a:prstGeom prst="ellipse">
                <a:avLst/>
              </a:prstGeom>
              <a:solidFill>
                <a:srgbClr val="e76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rot="5400000">
                <a:off x="3927600" y="3666240"/>
                <a:ext cx="301680" cy="301680"/>
              </a:xfrm>
              <a:prstGeom prst="donut">
                <a:avLst>
                  <a:gd name="adj" fmla="val 18810"/>
                </a:avLst>
              </a:prstGeom>
              <a:gradFill rotWithShape="0">
                <a:gsLst>
                  <a:gs pos="0">
                    <a:srgbClr val="f6cfb5"/>
                  </a:gs>
                  <a:gs pos="100000">
                    <a:srgbClr val="e7691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rot="5400000">
                <a:off x="3926520" y="3749760"/>
                <a:ext cx="316800" cy="1360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947" name=""/>
            <p:cNvSpPr/>
            <p:nvPr/>
          </p:nvSpPr>
          <p:spPr>
            <a:xfrm rot="5400000">
              <a:off x="4087440" y="4672440"/>
              <a:ext cx="400680" cy="401040"/>
            </a:xfrm>
            <a:custGeom>
              <a:avLst/>
              <a:gdLst>
                <a:gd name="textAreaLeft" fmla="*/ 115200 w 400680"/>
                <a:gd name="textAreaRight" fmla="*/ 285480 w 400680"/>
                <a:gd name="textAreaTop" fmla="*/ 115200 h 401040"/>
                <a:gd name="textAreaBottom" fmla="*/ 285840 h 401040"/>
              </a:gdLst>
              <a:ahLst/>
              <a:rect l="textAreaLeft" t="textAreaTop" r="textAreaRight" b="textAreaBottom"/>
              <a:pathLst>
                <a:path w="21600" h="21619">
                  <a:moveTo>
                    <a:pt x="8795" y="0"/>
                  </a:moveTo>
                  <a:arcTo wR="8795" hR="8795" stAng="0" swAng="5400000"/>
                  <a:lnTo>
                    <a:pt x="0" y="12824"/>
                  </a:lnTo>
                  <a:arcTo wR="8795" hR="8795" stAng="16200000" swAng="5400000"/>
                  <a:lnTo>
                    <a:pt x="12805" y="21619"/>
                  </a:lnTo>
                  <a:arcTo wR="8795" hR="8795" stAng="10800000" swAng="5400000"/>
                  <a:lnTo>
                    <a:pt x="21600" y="8795"/>
                  </a:lnTo>
                  <a:arcTo wR="8795" hR="8795" stAng="5400000" swAng="5400000"/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948" name=""/>
            <p:cNvGrpSpPr/>
            <p:nvPr/>
          </p:nvGrpSpPr>
          <p:grpSpPr>
            <a:xfrm>
              <a:off x="3917880" y="4081320"/>
              <a:ext cx="316800" cy="316800"/>
              <a:chOff x="3917880" y="4081320"/>
              <a:chExt cx="316800" cy="316800"/>
            </a:xfrm>
          </p:grpSpPr>
          <p:sp>
            <p:nvSpPr>
              <p:cNvPr id="949" name=""/>
              <p:cNvSpPr/>
              <p:nvPr/>
            </p:nvSpPr>
            <p:spPr>
              <a:xfrm rot="5400000">
                <a:off x="3917880" y="4081320"/>
                <a:ext cx="316800" cy="316800"/>
              </a:xfrm>
              <a:prstGeom prst="ellipse">
                <a:avLst/>
              </a:prstGeom>
              <a:solidFill>
                <a:srgbClr val="dd37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5400000">
                <a:off x="3927600" y="4088160"/>
                <a:ext cx="301680" cy="301680"/>
              </a:xfrm>
              <a:prstGeom prst="donut">
                <a:avLst>
                  <a:gd name="adj" fmla="val 18810"/>
                </a:avLst>
              </a:prstGeom>
              <a:gradFill rotWithShape="0">
                <a:gsLst>
                  <a:gs pos="0">
                    <a:srgbClr val="f3c0b3"/>
                  </a:gs>
                  <a:gs pos="100000">
                    <a:srgbClr val="dd370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rot="5400000">
                <a:off x="3926520" y="4171680"/>
                <a:ext cx="316800" cy="135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952" name=""/>
            <p:cNvSpPr/>
            <p:nvPr/>
          </p:nvSpPr>
          <p:spPr>
            <a:xfrm rot="5400000">
              <a:off x="4087440" y="4249800"/>
              <a:ext cx="400680" cy="401040"/>
            </a:xfrm>
            <a:custGeom>
              <a:avLst/>
              <a:gdLst>
                <a:gd name="textAreaLeft" fmla="*/ 115200 w 400680"/>
                <a:gd name="textAreaRight" fmla="*/ 285480 w 400680"/>
                <a:gd name="textAreaTop" fmla="*/ 115200 h 401040"/>
                <a:gd name="textAreaBottom" fmla="*/ 285840 h 401040"/>
              </a:gdLst>
              <a:ahLst/>
              <a:rect l="textAreaLeft" t="textAreaTop" r="textAreaRight" b="textAreaBottom"/>
              <a:pathLst>
                <a:path w="21600" h="21619">
                  <a:moveTo>
                    <a:pt x="8795" y="0"/>
                  </a:moveTo>
                  <a:arcTo wR="8795" hR="8795" stAng="0" swAng="5400000"/>
                  <a:lnTo>
                    <a:pt x="0" y="12824"/>
                  </a:lnTo>
                  <a:arcTo wR="8795" hR="8795" stAng="16200000" swAng="5400000"/>
                  <a:lnTo>
                    <a:pt x="12805" y="21619"/>
                  </a:lnTo>
                  <a:arcTo wR="8795" hR="8795" stAng="10800000" swAng="5400000"/>
                  <a:lnTo>
                    <a:pt x="21600" y="8795"/>
                  </a:lnTo>
                  <a:arcTo wR="8795" hR="8795" stAng="5400000" swAng="5400000"/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 rot="5400000">
              <a:off x="4087440" y="3827880"/>
              <a:ext cx="400680" cy="401040"/>
            </a:xfrm>
            <a:custGeom>
              <a:avLst/>
              <a:gdLst>
                <a:gd name="textAreaLeft" fmla="*/ 115200 w 400680"/>
                <a:gd name="textAreaRight" fmla="*/ 285480 w 400680"/>
                <a:gd name="textAreaTop" fmla="*/ 115200 h 401040"/>
                <a:gd name="textAreaBottom" fmla="*/ 285840 h 401040"/>
              </a:gdLst>
              <a:ahLst/>
              <a:rect l="textAreaLeft" t="textAreaTop" r="textAreaRight" b="textAreaBottom"/>
              <a:pathLst>
                <a:path w="21600" h="21619">
                  <a:moveTo>
                    <a:pt x="8795" y="0"/>
                  </a:moveTo>
                  <a:arcTo wR="8795" hR="8795" stAng="0" swAng="5400000"/>
                  <a:lnTo>
                    <a:pt x="0" y="12824"/>
                  </a:lnTo>
                  <a:arcTo wR="8795" hR="8795" stAng="16200000" swAng="5400000"/>
                  <a:lnTo>
                    <a:pt x="12805" y="21619"/>
                  </a:lnTo>
                  <a:arcTo wR="8795" hR="8795" stAng="10800000" swAng="5400000"/>
                  <a:lnTo>
                    <a:pt x="21600" y="8795"/>
                  </a:lnTo>
                  <a:arcTo wR="8795" hR="8795" stAng="5400000" swAng="5400000"/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3917880" y="4925160"/>
              <a:ext cx="316800" cy="316800"/>
              <a:chOff x="3917880" y="4925160"/>
              <a:chExt cx="316800" cy="316800"/>
            </a:xfrm>
          </p:grpSpPr>
          <p:sp>
            <p:nvSpPr>
              <p:cNvPr id="955" name=""/>
              <p:cNvSpPr/>
              <p:nvPr/>
            </p:nvSpPr>
            <p:spPr>
              <a:xfrm rot="5400000">
                <a:off x="3917880" y="4925160"/>
                <a:ext cx="316800" cy="316800"/>
              </a:xfrm>
              <a:prstGeom prst="ellipse">
                <a:avLst/>
              </a:prstGeom>
              <a:solidFill>
                <a:srgbClr val="ca2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rot="5400000">
                <a:off x="3927600" y="4932000"/>
                <a:ext cx="301680" cy="301680"/>
              </a:xfrm>
              <a:prstGeom prst="donut">
                <a:avLst>
                  <a:gd name="adj" fmla="val 18810"/>
                </a:avLst>
              </a:prstGeom>
              <a:gradFill rotWithShape="0">
                <a:gsLst>
                  <a:gs pos="0">
                    <a:srgbClr val="edb9b1"/>
                  </a:gs>
                  <a:gs pos="100000">
                    <a:srgbClr val="ca200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rot="5400000">
                <a:off x="3926520" y="5015520"/>
                <a:ext cx="316800" cy="1360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958" name=""/>
            <p:cNvGrpSpPr/>
            <p:nvPr/>
          </p:nvGrpSpPr>
          <p:grpSpPr>
            <a:xfrm>
              <a:off x="3917880" y="4503240"/>
              <a:ext cx="316800" cy="316800"/>
              <a:chOff x="3917880" y="4503240"/>
              <a:chExt cx="316800" cy="316800"/>
            </a:xfrm>
          </p:grpSpPr>
          <p:sp>
            <p:nvSpPr>
              <p:cNvPr id="959" name=""/>
              <p:cNvSpPr/>
              <p:nvPr/>
            </p:nvSpPr>
            <p:spPr>
              <a:xfrm rot="5400000">
                <a:off x="3917880" y="4503240"/>
                <a:ext cx="316800" cy="316800"/>
              </a:xfrm>
              <a:prstGeom prst="ellipse">
                <a:avLst/>
              </a:prstGeom>
              <a:solidFill>
                <a:srgbClr val="e64f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rot="5400000">
                <a:off x="3927600" y="4510080"/>
                <a:ext cx="301680" cy="301680"/>
              </a:xfrm>
              <a:prstGeom prst="donut">
                <a:avLst>
                  <a:gd name="adj" fmla="val 18810"/>
                </a:avLst>
              </a:prstGeom>
              <a:gradFill rotWithShape="0">
                <a:gsLst>
                  <a:gs pos="0">
                    <a:srgbClr val="f6c7b5"/>
                  </a:gs>
                  <a:gs pos="100000">
                    <a:srgbClr val="e64f1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rot="5400000">
                <a:off x="3926520" y="4593600"/>
                <a:ext cx="316800" cy="135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962" name=""/>
          <p:cNvSpPr/>
          <p:nvPr/>
        </p:nvSpPr>
        <p:spPr>
          <a:xfrm rot="16200000">
            <a:off x="4230360" y="4145040"/>
            <a:ext cx="60696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  <a:ea typeface="Gulim"/>
              </a:rPr>
              <a:t>Add title tex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684360" y="909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76915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1219320" y="338760"/>
            <a:ext cx="7696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76915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76915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76915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ru-RU" sz="1200" spc="-1" strike="noStrike" u="sng">
                <a:solidFill>
                  <a:srgbClr val="e76915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76915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e76915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ru-RU" sz="1200" spc="-1" strike="noStrike" u="sng">
                <a:solidFill>
                  <a:srgbClr val="e76915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76915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ru-RU" sz="1200" spc="-1" strike="noStrike" u="sng">
                <a:solidFill>
                  <a:srgbClr val="e76915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76915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ru-RU" sz="1200" spc="-1" strike="noStrike" u="sng">
                <a:solidFill>
                  <a:srgbClr val="e76915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76915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ru-RU" sz="1200" spc="-1" strike="noStrike" u="sng">
                <a:solidFill>
                  <a:srgbClr val="e76915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76915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ru-RU" sz="1200" spc="-1" strike="noStrike" u="sng">
                <a:solidFill>
                  <a:srgbClr val="e76915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76915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ru-RU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e76915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76915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e76915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76915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e76915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76915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e76915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76915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e76915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 txBox="1"/>
          <p:nvPr/>
        </p:nvSpPr>
        <p:spPr>
          <a:xfrm>
            <a:off x="689040" y="609480"/>
            <a:ext cx="374472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76915"/>
                    </a:gs>
                    <a:gs pos="100000">
                      <a:srgbClr val="000000"/>
                    </a:gs>
                  </a:gsLst>
                  <a:lin ang="1080000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!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76915"/>
                  </a:gs>
                  <a:gs pos="100000">
                    <a:srgbClr val="000000"/>
                  </a:gs>
                </a:gsLst>
                <a:lin ang="1080000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067280" y="1703520"/>
            <a:ext cx="360036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Introduc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2460600"/>
            <a:ext cx="360072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Strateg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3325680"/>
            <a:ext cx="360072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hallenges Forward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40360" y="4118040"/>
            <a:ext cx="360036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Histor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87640" y="4511520"/>
            <a:ext cx="4894200" cy="73080"/>
          </a:xfrm>
          <a:prstGeom prst="rect">
            <a:avLst/>
          </a:prstGeom>
          <a:solidFill>
            <a:srgbClr val="ca2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19640" y="4295880"/>
            <a:ext cx="504720" cy="504720"/>
          </a:xfrm>
          <a:prstGeom prst="ellipse">
            <a:avLst/>
          </a:prstGeom>
          <a:solidFill>
            <a:srgbClr val="ca2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43280" y="4440240"/>
            <a:ext cx="216000" cy="216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a2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812000" y="4440240"/>
            <a:ext cx="216000" cy="216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a2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21080" y="4311720"/>
            <a:ext cx="504720" cy="473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57440" y="4332240"/>
            <a:ext cx="432000" cy="432000"/>
          </a:xfrm>
          <a:prstGeom prst="donut">
            <a:avLst>
              <a:gd name="adj" fmla="val 21689"/>
            </a:avLst>
          </a:prstGeom>
          <a:gradFill rotWithShape="0">
            <a:gsLst>
              <a:gs pos="0">
                <a:srgbClr val="edb9b1"/>
              </a:gs>
              <a:gs pos="100000">
                <a:srgbClr val="ca20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24360" y="3503520"/>
            <a:ext cx="504720" cy="505080"/>
          </a:xfrm>
          <a:prstGeom prst="ellipse">
            <a:avLst/>
          </a:prstGeom>
          <a:solidFill>
            <a:srgbClr val="dd37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92360" y="3719520"/>
            <a:ext cx="4894560" cy="73080"/>
          </a:xfrm>
          <a:prstGeom prst="rect">
            <a:avLst/>
          </a:prstGeom>
          <a:solidFill>
            <a:srgbClr val="dd37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3648240"/>
            <a:ext cx="216000" cy="215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d37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17080" y="3648240"/>
            <a:ext cx="215640" cy="215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d37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25800" y="3519360"/>
            <a:ext cx="505080" cy="473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3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62520" y="3540240"/>
            <a:ext cx="431640" cy="431640"/>
          </a:xfrm>
          <a:prstGeom prst="donut">
            <a:avLst>
              <a:gd name="adj" fmla="val 21689"/>
            </a:avLst>
          </a:prstGeom>
          <a:gradFill rotWithShape="0">
            <a:gsLst>
              <a:gs pos="0">
                <a:srgbClr val="f3c0b3"/>
              </a:gs>
              <a:gs pos="100000">
                <a:srgbClr val="dd370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92360" y="2855880"/>
            <a:ext cx="4894560" cy="73080"/>
          </a:xfrm>
          <a:prstGeom prst="rect">
            <a:avLst/>
          </a:prstGeom>
          <a:solidFill>
            <a:srgbClr val="e769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24360" y="2639880"/>
            <a:ext cx="504720" cy="505080"/>
          </a:xfrm>
          <a:prstGeom prst="ellipse">
            <a:avLst/>
          </a:prstGeom>
          <a:solidFill>
            <a:srgbClr val="e769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48000" y="2784600"/>
            <a:ext cx="216000" cy="215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e769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17080" y="2784600"/>
            <a:ext cx="215640" cy="215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e769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25800" y="2655720"/>
            <a:ext cx="505080" cy="473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2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2676600"/>
            <a:ext cx="431640" cy="431640"/>
          </a:xfrm>
          <a:prstGeom prst="donut">
            <a:avLst>
              <a:gd name="adj" fmla="val 21689"/>
            </a:avLst>
          </a:prstGeom>
          <a:gradFill rotWithShape="0">
            <a:gsLst>
              <a:gs pos="0">
                <a:srgbClr val="f6cfb5"/>
              </a:gs>
              <a:gs pos="100000">
                <a:srgbClr val="e7691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16360" y="2063880"/>
            <a:ext cx="4894200" cy="72720"/>
          </a:xfrm>
          <a:prstGeom prst="rect">
            <a:avLst/>
          </a:prstGeom>
          <a:solidFill>
            <a:srgbClr val="e64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1847880"/>
            <a:ext cx="504720" cy="504720"/>
          </a:xfrm>
          <a:prstGeom prst="ellipse">
            <a:avLst/>
          </a:prstGeom>
          <a:solidFill>
            <a:srgbClr val="e64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71640" y="1992240"/>
            <a:ext cx="216000" cy="216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e64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740720" y="1992240"/>
            <a:ext cx="216000" cy="216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e64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9800" y="1863720"/>
            <a:ext cx="504720" cy="473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86160" y="1884240"/>
            <a:ext cx="431640" cy="432000"/>
          </a:xfrm>
          <a:prstGeom prst="donut">
            <a:avLst>
              <a:gd name="adj" fmla="val 21689"/>
            </a:avLst>
          </a:prstGeom>
          <a:gradFill rotWithShape="0">
            <a:gsLst>
              <a:gs pos="0">
                <a:srgbClr val="f6c7b5"/>
              </a:gs>
              <a:gs pos="100000">
                <a:srgbClr val="e64f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12720" y="1992240"/>
            <a:ext cx="2664000" cy="2736720"/>
            <a:chOff x="612720" y="1992240"/>
            <a:chExt cx="2664000" cy="2736720"/>
          </a:xfrm>
        </p:grpSpPr>
        <p:sp>
          <p:nvSpPr>
            <p:cNvPr id="109" name=""/>
            <p:cNvSpPr/>
            <p:nvPr/>
          </p:nvSpPr>
          <p:spPr>
            <a:xfrm>
              <a:off x="612720" y="1992240"/>
              <a:ext cx="2664000" cy="273672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752760" y="2136600"/>
              <a:ext cx="2382840" cy="2436840"/>
              <a:chOff x="752760" y="2136600"/>
              <a:chExt cx="2382840" cy="2436840"/>
            </a:xfrm>
          </p:grpSpPr>
          <p:sp>
            <p:nvSpPr>
              <p:cNvPr id="111" name=""/>
              <p:cNvSpPr/>
              <p:nvPr/>
            </p:nvSpPr>
            <p:spPr>
              <a:xfrm flipH="1">
                <a:off x="752400" y="2136600"/>
                <a:ext cx="2382840" cy="2436840"/>
              </a:xfrm>
              <a:prstGeom prst="ellipse">
                <a:avLst/>
              </a:prstGeom>
              <a:solidFill>
                <a:srgbClr val="dd37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907920" y="2168640"/>
                <a:ext cx="2067840" cy="1759680"/>
              </a:xfrm>
              <a:prstGeom prst="ellipse">
                <a:avLst/>
              </a:prstGeom>
              <a:gradFill rotWithShape="0">
                <a:gsLst>
                  <a:gs pos="0">
                    <a:srgbClr val="f2bbad"/>
                  </a:gs>
                  <a:gs pos="100000">
                    <a:srgbClr val="dd370e">
                      <a:alpha val="3725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952560" y="2380320"/>
                <a:ext cx="1945440" cy="1984680"/>
              </a:xfrm>
              <a:prstGeom prst="ellipse">
                <a:avLst/>
              </a:prstGeom>
              <a:solidFill>
                <a:srgbClr val="e64f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1134720" y="2436120"/>
                <a:ext cx="1573920" cy="1296720"/>
              </a:xfrm>
              <a:prstGeom prst="ellipse">
                <a:avLst/>
              </a:prstGeom>
              <a:gradFill rotWithShape="0">
                <a:gsLst>
                  <a:gs pos="0">
                    <a:srgbClr val="f6c7b5"/>
                  </a:gs>
                  <a:gs pos="100000">
                    <a:srgbClr val="e64f13">
                      <a:alpha val="3725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1190160" y="2623320"/>
                <a:ext cx="1471680" cy="1511640"/>
              </a:xfrm>
              <a:prstGeom prst="ellipse">
                <a:avLst/>
              </a:prstGeom>
              <a:solidFill>
                <a:srgbClr val="e76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1325160" y="2666160"/>
                <a:ext cx="1190160" cy="993600"/>
              </a:xfrm>
              <a:prstGeom prst="ellipse">
                <a:avLst/>
              </a:prstGeom>
              <a:gradFill rotWithShape="0">
                <a:gsLst>
                  <a:gs pos="0">
                    <a:srgbClr val="f8d9c5"/>
                  </a:gs>
                  <a:gs pos="100000">
                    <a:srgbClr val="e76915">
                      <a:alpha val="3725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1380600" y="2873520"/>
                <a:ext cx="1044000" cy="1017360"/>
              </a:xfrm>
              <a:prstGeom prst="ellipse">
                <a:avLst/>
              </a:prstGeom>
              <a:solidFill>
                <a:srgbClr val="ca2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1478160" y="2904840"/>
                <a:ext cx="844920" cy="670320"/>
              </a:xfrm>
              <a:prstGeom prst="ellipse">
                <a:avLst/>
              </a:prstGeom>
              <a:gradFill rotWithShape="0">
                <a:gsLst>
                  <a:gs pos="0">
                    <a:srgbClr val="edb9b1"/>
                  </a:gs>
                  <a:gs pos="100000">
                    <a:srgbClr val="ca2008">
                      <a:alpha val="3725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 flipV="1">
            <a:off x="538200" y="4464000"/>
            <a:ext cx="3097080" cy="719280"/>
          </a:xfrm>
          <a:custGeom>
            <a:avLst/>
            <a:gdLst>
              <a:gd name="textAreaLeft" fmla="*/ 489600 w 3097080"/>
              <a:gd name="textAreaRight" fmla="*/ 2607480 w 3097080"/>
              <a:gd name="textAreaTop" fmla="*/ 113760 h 719280"/>
              <a:gd name="textAreaBottom" fmla="*/ 6055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600" y="21600"/>
                </a:lnTo>
                <a:lnTo>
                  <a:pt x="3000" y="21600"/>
                </a:lnTo>
                <a:close/>
              </a:path>
            </a:pathLst>
          </a:custGeom>
          <a:gradFill rotWithShape="0">
            <a:gsLst>
              <a:gs pos="0">
                <a:srgbClr val="dd370e"/>
              </a:gs>
              <a:gs pos="100000">
                <a:srgbClr val="65190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008000" y="3925800"/>
            <a:ext cx="2157480" cy="503280"/>
          </a:xfrm>
          <a:custGeom>
            <a:avLst/>
            <a:gdLst>
              <a:gd name="textAreaLeft" fmla="*/ 344160 w 2157480"/>
              <a:gd name="textAreaRight" fmla="*/ 1813320 w 2157480"/>
              <a:gd name="textAreaTop" fmla="*/ 80280 h 503280"/>
              <a:gd name="textAreaBottom" fmla="*/ 42300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544" y="21600"/>
                </a:lnTo>
                <a:lnTo>
                  <a:pt x="3056" y="21600"/>
                </a:lnTo>
                <a:close/>
              </a:path>
            </a:pathLst>
          </a:custGeom>
          <a:gradFill rotWithShape="0">
            <a:gsLst>
              <a:gs pos="0">
                <a:srgbClr val="e64f13"/>
              </a:gs>
              <a:gs pos="100000">
                <a:srgbClr val="6a240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344600" y="3480840"/>
            <a:ext cx="1498680" cy="361800"/>
          </a:xfrm>
          <a:custGeom>
            <a:avLst/>
            <a:gdLst>
              <a:gd name="textAreaLeft" fmla="*/ 238680 w 1498680"/>
              <a:gd name="textAreaRight" fmla="*/ 1260000 w 1498680"/>
              <a:gd name="textAreaTop" fmla="*/ 57600 h 361800"/>
              <a:gd name="textAreaBottom" fmla="*/ 304200 h 36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557" y="21600"/>
                </a:lnTo>
                <a:lnTo>
                  <a:pt x="3043" y="21600"/>
                </a:lnTo>
                <a:close/>
              </a:path>
            </a:pathLst>
          </a:custGeom>
          <a:gradFill rotWithShape="0">
            <a:gsLst>
              <a:gs pos="0">
                <a:srgbClr val="e76915"/>
              </a:gs>
              <a:gs pos="100000">
                <a:srgbClr val="6a300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565280" y="2536200"/>
            <a:ext cx="1041480" cy="871560"/>
          </a:xfrm>
          <a:custGeom>
            <a:avLst/>
            <a:gdLst>
              <a:gd name="textAreaLeft" fmla="*/ 373680 w 1041480"/>
              <a:gd name="textAreaRight" fmla="*/ 667800 w 1041480"/>
              <a:gd name="textAreaTop" fmla="*/ 312840 h 871560"/>
              <a:gd name="textAreaBottom" fmla="*/ 558720 h 87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gradFill rotWithShape="0">
            <a:gsLst>
              <a:gs pos="0">
                <a:srgbClr val="ca2008"/>
              </a:gs>
              <a:gs pos="100000">
                <a:srgbClr val="5d0e0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56000" y="2486160"/>
            <a:ext cx="5616360" cy="72720"/>
          </a:xfrm>
          <a:prstGeom prst="parallelogram">
            <a:avLst>
              <a:gd name="adj" fmla="val 426925"/>
            </a:avLst>
          </a:prstGeom>
          <a:gradFill rotWithShape="0">
            <a:gsLst>
              <a:gs pos="0">
                <a:srgbClr val="ca2008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71640" y="3135240"/>
            <a:ext cx="5400720" cy="71640"/>
          </a:xfrm>
          <a:prstGeom prst="parallelogram">
            <a:avLst>
              <a:gd name="adj" fmla="val 416722"/>
            </a:avLst>
          </a:prstGeom>
          <a:gradFill rotWithShape="0">
            <a:gsLst>
              <a:gs pos="0">
                <a:srgbClr val="e76915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32000" y="3672000"/>
            <a:ext cx="5113440" cy="73080"/>
          </a:xfrm>
          <a:prstGeom prst="parallelogram">
            <a:avLst>
              <a:gd name="adj" fmla="val 386781"/>
            </a:avLst>
          </a:prstGeom>
          <a:gradFill rotWithShape="0">
            <a:gsLst>
              <a:gs pos="0">
                <a:srgbClr val="e64f13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35280" y="4321080"/>
            <a:ext cx="4608720" cy="73080"/>
          </a:xfrm>
          <a:prstGeom prst="parallelogram">
            <a:avLst>
              <a:gd name="adj" fmla="val 348604"/>
            </a:avLst>
          </a:prstGeom>
          <a:gradFill rotWithShape="0">
            <a:gsLst>
              <a:gs pos="0">
                <a:srgbClr val="dd370e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6565680" y="779040"/>
            <a:ext cx="54612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Add text titl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6565680" y="1426680"/>
            <a:ext cx="54612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Add text titl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6568920" y="2003040"/>
            <a:ext cx="54612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Add text titl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6568920" y="2652480"/>
            <a:ext cx="54612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Add text titl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1816200" y="3398760"/>
            <a:ext cx="54612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Concep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1844640" y="3138120"/>
            <a:ext cx="48528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Concep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1875600" y="2948400"/>
            <a:ext cx="423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Concep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1906200" y="2774880"/>
            <a:ext cx="3628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Gulim"/>
              </a:rPr>
              <a:t>Concep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76915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 flipH="1">
            <a:off x="1547640" y="3141720"/>
            <a:ext cx="6337440" cy="71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39640" y="1774800"/>
            <a:ext cx="1582920" cy="1582920"/>
            <a:chOff x="539640" y="1774800"/>
            <a:chExt cx="1582920" cy="1582920"/>
          </a:xfrm>
        </p:grpSpPr>
        <p:sp>
          <p:nvSpPr>
            <p:cNvPr id="138" name=""/>
            <p:cNvSpPr/>
            <p:nvPr/>
          </p:nvSpPr>
          <p:spPr>
            <a:xfrm>
              <a:off x="539640" y="1774800"/>
              <a:ext cx="1582920" cy="1582920"/>
            </a:xfrm>
            <a:prstGeom prst="ellipse">
              <a:avLst/>
            </a:prstGeom>
            <a:solidFill>
              <a:srgbClr val="e64f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4200" y="1802520"/>
              <a:ext cx="1506960" cy="1506960"/>
            </a:xfrm>
            <a:prstGeom prst="donut">
              <a:avLst>
                <a:gd name="adj" fmla="val 18810"/>
              </a:avLst>
            </a:prstGeom>
            <a:gradFill rotWithShape="0">
              <a:gsLst>
                <a:gs pos="0">
                  <a:srgbClr val="f6c7b5"/>
                </a:gs>
                <a:gs pos="100000">
                  <a:srgbClr val="e64f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9640" y="2183040"/>
              <a:ext cx="1582920" cy="6782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  <a:effectLst>
              <a:outerShdw dist="17819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Concept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2700360" y="1774800"/>
            <a:ext cx="1582560" cy="1582560"/>
            <a:chOff x="2700360" y="1774800"/>
            <a:chExt cx="1582560" cy="1582560"/>
          </a:xfrm>
        </p:grpSpPr>
        <p:sp>
          <p:nvSpPr>
            <p:cNvPr id="142" name=""/>
            <p:cNvSpPr/>
            <p:nvPr/>
          </p:nvSpPr>
          <p:spPr>
            <a:xfrm>
              <a:off x="2700360" y="1774800"/>
              <a:ext cx="1582560" cy="1582560"/>
            </a:xfrm>
            <a:prstGeom prst="ellipse">
              <a:avLst/>
            </a:prstGeom>
            <a:solidFill>
              <a:srgbClr val="e76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35280" y="1803240"/>
              <a:ext cx="1506600" cy="1506600"/>
            </a:xfrm>
            <a:prstGeom prst="donut">
              <a:avLst>
                <a:gd name="adj" fmla="val 18810"/>
              </a:avLst>
            </a:prstGeom>
            <a:gradFill rotWithShape="0">
              <a:gsLst>
                <a:gs pos="0">
                  <a:srgbClr val="f6cfb5"/>
                </a:gs>
                <a:gs pos="100000">
                  <a:srgbClr val="e769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00360" y="2182680"/>
              <a:ext cx="1582560" cy="6796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  <a:effectLst>
              <a:outerShdw dist="17819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Concept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861080" y="1773360"/>
            <a:ext cx="1582560" cy="1582560"/>
            <a:chOff x="4861080" y="1773360"/>
            <a:chExt cx="1582560" cy="1582560"/>
          </a:xfrm>
        </p:grpSpPr>
        <p:sp>
          <p:nvSpPr>
            <p:cNvPr id="146" name=""/>
            <p:cNvSpPr/>
            <p:nvPr/>
          </p:nvSpPr>
          <p:spPr>
            <a:xfrm>
              <a:off x="4861080" y="1773360"/>
              <a:ext cx="1582560" cy="1582560"/>
            </a:xfrm>
            <a:prstGeom prst="ellipse">
              <a:avLst/>
            </a:prstGeom>
            <a:solidFill>
              <a:srgbClr val="ca2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96000" y="1801800"/>
              <a:ext cx="1506600" cy="1506600"/>
            </a:xfrm>
            <a:prstGeom prst="donut">
              <a:avLst>
                <a:gd name="adj" fmla="val 18810"/>
              </a:avLst>
            </a:prstGeom>
            <a:gradFill rotWithShape="0">
              <a:gsLst>
                <a:gs pos="0">
                  <a:srgbClr val="edb9b1"/>
                </a:gs>
                <a:gs pos="100000">
                  <a:srgbClr val="ca20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61080" y="2181240"/>
              <a:ext cx="1582560" cy="6796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  <a:effectLst>
              <a:outerShdw dist="17819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Concept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948360" y="1773360"/>
            <a:ext cx="1582560" cy="1582560"/>
            <a:chOff x="6948360" y="1773360"/>
            <a:chExt cx="1582560" cy="1582560"/>
          </a:xfrm>
        </p:grpSpPr>
        <p:sp>
          <p:nvSpPr>
            <p:cNvPr id="150" name=""/>
            <p:cNvSpPr/>
            <p:nvPr/>
          </p:nvSpPr>
          <p:spPr>
            <a:xfrm>
              <a:off x="6948360" y="1773360"/>
              <a:ext cx="1582560" cy="1582560"/>
            </a:xfrm>
            <a:prstGeom prst="ellipse">
              <a:avLst/>
            </a:prstGeom>
            <a:solidFill>
              <a:srgbClr val="dd37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83280" y="1801800"/>
              <a:ext cx="1506600" cy="1506600"/>
            </a:xfrm>
            <a:prstGeom prst="donut">
              <a:avLst>
                <a:gd name="adj" fmla="val 18810"/>
              </a:avLst>
            </a:prstGeom>
            <a:gradFill rotWithShape="0">
              <a:gsLst>
                <a:gs pos="0">
                  <a:srgbClr val="f3c0b3"/>
                </a:gs>
                <a:gs pos="100000">
                  <a:srgbClr val="dd37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48360" y="2181240"/>
              <a:ext cx="1582560" cy="6796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  <a:effectLst>
              <a:outerShdw dist="17819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Concept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 rot="5400000">
            <a:off x="4426920" y="3068640"/>
            <a:ext cx="216000" cy="215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2268360" y="3068640"/>
            <a:ext cx="216000" cy="216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6661080" y="3068640"/>
            <a:ext cx="216000" cy="216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3429000"/>
            <a:ext cx="1584360" cy="259092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2590920"/>
              <a:gd name="textAreaBottom" fmla="*/ 2513880 h 2590920"/>
            </a:gdLst>
            <a:ahLst/>
            <a:rect l="textAreaLeft" t="textAreaTop" r="textAreaRight" b="textAreaBottom"/>
            <a:pathLst>
              <a:path w="21600" h="35320">
                <a:moveTo>
                  <a:pt x="3600" y="0"/>
                </a:moveTo>
                <a:arcTo wR="3600" hR="3600" stAng="16200000" swAng="-5400000"/>
                <a:lnTo>
                  <a:pt x="0" y="31720"/>
                </a:lnTo>
                <a:arcTo wR="3600" hR="3600" stAng="10800000" swAng="-5400000"/>
                <a:lnTo>
                  <a:pt x="18000" y="353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3860640"/>
            <a:ext cx="158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Gulim"/>
              </a:rPr>
              <a:t>Click to add 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Add text 1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Add text 2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Add text 3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3429000"/>
            <a:ext cx="1584360" cy="259092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2590920"/>
              <a:gd name="textAreaBottom" fmla="*/ 2513880 h 2590920"/>
            </a:gdLst>
            <a:ahLst/>
            <a:rect l="textAreaLeft" t="textAreaTop" r="textAreaRight" b="textAreaBottom"/>
            <a:pathLst>
              <a:path w="21600" h="35320">
                <a:moveTo>
                  <a:pt x="3600" y="0"/>
                </a:moveTo>
                <a:arcTo wR="3600" hR="3600" stAng="16200000" swAng="-5400000"/>
                <a:lnTo>
                  <a:pt x="0" y="31720"/>
                </a:lnTo>
                <a:arcTo wR="3600" hR="3600" stAng="10800000" swAng="-5400000"/>
                <a:lnTo>
                  <a:pt x="18000" y="353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00360" y="3860640"/>
            <a:ext cx="158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Gulim"/>
              </a:rPr>
              <a:t>Click to add 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Add text 1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Add text 2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Add text 3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859280" y="3429000"/>
            <a:ext cx="1584360" cy="259092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2590920"/>
              <a:gd name="textAreaBottom" fmla="*/ 2513880 h 2590920"/>
            </a:gdLst>
            <a:ahLst/>
            <a:rect l="textAreaLeft" t="textAreaTop" r="textAreaRight" b="textAreaBottom"/>
            <a:pathLst>
              <a:path w="21600" h="35320">
                <a:moveTo>
                  <a:pt x="3600" y="0"/>
                </a:moveTo>
                <a:arcTo wR="3600" hR="3600" stAng="16200000" swAng="-5400000"/>
                <a:lnTo>
                  <a:pt x="0" y="31720"/>
                </a:lnTo>
                <a:arcTo wR="3600" hR="3600" stAng="10800000" swAng="-5400000"/>
                <a:lnTo>
                  <a:pt x="18000" y="353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59280" y="3860640"/>
            <a:ext cx="158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Gulim"/>
              </a:rPr>
              <a:t>Click to add 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Add text 1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Add text 2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Add text 3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948360" y="3429000"/>
            <a:ext cx="1584360" cy="259092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2590920"/>
              <a:gd name="textAreaBottom" fmla="*/ 2513880 h 2590920"/>
            </a:gdLst>
            <a:ahLst/>
            <a:rect l="textAreaLeft" t="textAreaTop" r="textAreaRight" b="textAreaBottom"/>
            <a:pathLst>
              <a:path w="21600" h="35320">
                <a:moveTo>
                  <a:pt x="3600" y="0"/>
                </a:moveTo>
                <a:arcTo wR="3600" hR="3600" stAng="16200000" swAng="-5400000"/>
                <a:lnTo>
                  <a:pt x="0" y="31720"/>
                </a:lnTo>
                <a:arcTo wR="3600" hR="3600" stAng="10800000" swAng="-5400000"/>
                <a:lnTo>
                  <a:pt x="18000" y="353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48360" y="3860640"/>
            <a:ext cx="158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Verdana"/>
                <a:ea typeface="Gulim"/>
              </a:rPr>
              <a:t>Click to add 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Add text 1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Add text 2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Add text 3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724040" y="3187800"/>
            <a:ext cx="5256360" cy="2374920"/>
          </a:xfrm>
          <a:prstGeom prst="ellipse">
            <a:avLst/>
          </a:prstGeom>
          <a:gradFill rotWithShape="0">
            <a:gsLst>
              <a:gs pos="0">
                <a:srgbClr val="dd370e"/>
              </a:gs>
              <a:gs pos="100000">
                <a:srgbClr val="6519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24040" y="3112920"/>
            <a:ext cx="5256360" cy="237492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40040" y="3114720"/>
            <a:ext cx="4824360" cy="2114640"/>
          </a:xfrm>
          <a:prstGeom prst="ellipse">
            <a:avLst/>
          </a:prstGeom>
          <a:gradFill rotWithShape="0">
            <a:gsLst>
              <a:gs pos="0">
                <a:srgbClr val="7e1f08"/>
              </a:gs>
              <a:gs pos="100000">
                <a:srgbClr val="dd370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38240" y="3187800"/>
            <a:ext cx="4824360" cy="2043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62240" y="2754360"/>
            <a:ext cx="2305080" cy="863640"/>
          </a:xfrm>
          <a:prstGeom prst="ellipse">
            <a:avLst/>
          </a:prstGeom>
          <a:gradFill rotWithShape="0">
            <a:gsLst>
              <a:gs pos="0">
                <a:srgbClr val="dd370e"/>
              </a:gs>
              <a:gs pos="100000">
                <a:srgbClr val="6118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62240" y="2682720"/>
            <a:ext cx="2305080" cy="863640"/>
          </a:xfrm>
          <a:prstGeom prst="ellipse">
            <a:avLst/>
          </a:prstGeom>
          <a:gradFill rotWithShape="0">
            <a:gsLst>
              <a:gs pos="0">
                <a:srgbClr val="272727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035680" y="4331160"/>
            <a:ext cx="1945800" cy="1243800"/>
            <a:chOff x="5035680" y="4331160"/>
            <a:chExt cx="1945800" cy="1243800"/>
          </a:xfrm>
        </p:grpSpPr>
        <p:sp>
          <p:nvSpPr>
            <p:cNvPr id="171" name=""/>
            <p:cNvSpPr/>
            <p:nvPr/>
          </p:nvSpPr>
          <p:spPr>
            <a:xfrm rot="939600">
              <a:off x="5100120" y="4618080"/>
              <a:ext cx="1800360" cy="727200"/>
            </a:xfrm>
            <a:prstGeom prst="ellipse">
              <a:avLst/>
            </a:prstGeom>
            <a:gradFill rotWithShape="0">
              <a:gsLst>
                <a:gs pos="0">
                  <a:srgbClr val="dd370e"/>
                </a:gs>
                <a:gs pos="100000">
                  <a:srgbClr val="8922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939600">
              <a:off x="5116320" y="4560480"/>
              <a:ext cx="1800360" cy="72720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379680" y="2444760"/>
            <a:ext cx="792360" cy="374760"/>
          </a:xfrm>
          <a:prstGeom prst="ellipse">
            <a:avLst/>
          </a:prstGeom>
          <a:solidFill>
            <a:srgbClr val="e64f1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72040" y="1866960"/>
            <a:ext cx="1152360" cy="546120"/>
          </a:xfrm>
          <a:prstGeom prst="ellipse">
            <a:avLst/>
          </a:prstGeom>
          <a:solidFill>
            <a:srgbClr val="dd370e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11680" y="2916360"/>
            <a:ext cx="647640" cy="341280"/>
          </a:xfrm>
          <a:prstGeom prst="ellipse">
            <a:avLst/>
          </a:prstGeom>
          <a:solidFill>
            <a:srgbClr val="ca2008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242360" y="3820680"/>
            <a:ext cx="1249560" cy="824760"/>
            <a:chOff x="1242360" y="3820680"/>
            <a:chExt cx="1249560" cy="824760"/>
          </a:xfrm>
        </p:grpSpPr>
        <p:sp>
          <p:nvSpPr>
            <p:cNvPr id="177" name=""/>
            <p:cNvSpPr/>
            <p:nvPr/>
          </p:nvSpPr>
          <p:spPr>
            <a:xfrm rot="20535000">
              <a:off x="1296360" y="4021200"/>
              <a:ext cx="1152720" cy="459360"/>
            </a:xfrm>
            <a:prstGeom prst="ellipse">
              <a:avLst/>
            </a:prstGeom>
            <a:gradFill rotWithShape="0">
              <a:gsLst>
                <a:gs pos="0">
                  <a:srgbClr val="dd370e"/>
                </a:gs>
                <a:gs pos="100000">
                  <a:srgbClr val="8922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20535000">
              <a:off x="1284840" y="3985200"/>
              <a:ext cx="1152720" cy="45936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219320" y="2970360"/>
            <a:ext cx="1295280" cy="12920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3046320"/>
            <a:ext cx="1140120" cy="1139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3122640"/>
            <a:ext cx="990720" cy="990720"/>
          </a:xfrm>
          <a:prstGeom prst="ellipse">
            <a:avLst/>
          </a:prstGeom>
          <a:gradFill rotWithShape="0">
            <a:gsLst>
              <a:gs pos="0">
                <a:srgbClr val="e76915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Concep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21160" y="3336840"/>
            <a:ext cx="1801800" cy="17985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427720" y="3443400"/>
            <a:ext cx="1585800" cy="15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32480" y="3548160"/>
            <a:ext cx="1379520" cy="1379520"/>
          </a:xfrm>
          <a:prstGeom prst="ellipse">
            <a:avLst/>
          </a:prstGeom>
          <a:gradFill rotWithShape="0">
            <a:gsLst>
              <a:gs pos="0">
                <a:srgbClr val="e76915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Concep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3542760" y="2698920"/>
            <a:ext cx="60696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  <a:ea typeface="Gulim"/>
              </a:rPr>
              <a:t>Add title tex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450200" y="1389240"/>
            <a:ext cx="276120" cy="27612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459560" y="1400040"/>
            <a:ext cx="255600" cy="25560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467480" y="1409760"/>
            <a:ext cx="236520" cy="236520"/>
          </a:xfrm>
          <a:prstGeom prst="rect">
            <a:avLst/>
          </a:prstGeom>
          <a:gradFill rotWithShape="0">
            <a:gsLst>
              <a:gs pos="0">
                <a:srgbClr val="ca2008"/>
              </a:gs>
              <a:gs pos="100000">
                <a:srgbClr val="5d0e0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50200" y="1820880"/>
            <a:ext cx="276120" cy="27612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459560" y="1832040"/>
            <a:ext cx="255600" cy="25380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467480" y="1841400"/>
            <a:ext cx="236520" cy="236520"/>
          </a:xfrm>
          <a:prstGeom prst="rect">
            <a:avLst/>
          </a:prstGeom>
          <a:gradFill rotWithShape="0">
            <a:gsLst>
              <a:gs pos="0">
                <a:srgbClr val="e64f13"/>
              </a:gs>
              <a:gs pos="100000">
                <a:srgbClr val="6a240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450200" y="2252520"/>
            <a:ext cx="276120" cy="27648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459560" y="2262240"/>
            <a:ext cx="255600" cy="25560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467480" y="2273400"/>
            <a:ext cx="236520" cy="236520"/>
          </a:xfrm>
          <a:prstGeom prst="rect">
            <a:avLst/>
          </a:prstGeom>
          <a:gradFill rotWithShape="0">
            <a:gsLst>
              <a:gs pos="0">
                <a:srgbClr val="dd370e"/>
              </a:gs>
              <a:gs pos="100000">
                <a:srgbClr val="65190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16480" y="1870200"/>
            <a:ext cx="90792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65 %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51320" y="2415960"/>
            <a:ext cx="720720" cy="4338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25 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11680" y="2876400"/>
            <a:ext cx="720720" cy="4338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10 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40720" y="2168640"/>
            <a:ext cx="77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4d4d4d"/>
                </a:solidFill>
                <a:latin typeface="Arial"/>
                <a:ea typeface="Gulim"/>
              </a:rPr>
              <a:t>Text </a:t>
            </a:r>
            <a:r>
              <a:rPr b="1" lang="ru-RU" sz="2400" spc="-1" strike="noStrike" baseline="-25000">
                <a:solidFill>
                  <a:srgbClr val="4d4d4d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740720" y="1736640"/>
            <a:ext cx="77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4d4d4d"/>
                </a:solidFill>
                <a:latin typeface="Arial"/>
                <a:ea typeface="Gulim"/>
              </a:rPr>
              <a:t>Text 2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740720" y="1305000"/>
            <a:ext cx="77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4d4d4d"/>
                </a:solidFill>
                <a:latin typeface="Arial"/>
                <a:ea typeface="Gulim"/>
              </a:rPr>
              <a:t>Text 1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1130400" y="4135320"/>
            <a:ext cx="1582560" cy="1582920"/>
            <a:chOff x="1130400" y="4135320"/>
            <a:chExt cx="1582560" cy="1582920"/>
          </a:xfrm>
        </p:grpSpPr>
        <p:sp>
          <p:nvSpPr>
            <p:cNvPr id="202" name=""/>
            <p:cNvSpPr/>
            <p:nvPr/>
          </p:nvSpPr>
          <p:spPr>
            <a:xfrm>
              <a:off x="1130400" y="4135320"/>
              <a:ext cx="1582560" cy="1582920"/>
            </a:xfrm>
            <a:prstGeom prst="ellipse">
              <a:avLst/>
            </a:prstGeom>
            <a:solidFill>
              <a:srgbClr val="e64f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164960" y="4163040"/>
              <a:ext cx="1506600" cy="1506960"/>
            </a:xfrm>
            <a:prstGeom prst="donut">
              <a:avLst>
                <a:gd name="adj" fmla="val 18810"/>
              </a:avLst>
            </a:prstGeom>
            <a:gradFill rotWithShape="0">
              <a:gsLst>
                <a:gs pos="0">
                  <a:srgbClr val="f6c7b5"/>
                </a:gs>
                <a:gs pos="100000">
                  <a:srgbClr val="e64f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30400" y="4543560"/>
              <a:ext cx="1582560" cy="6782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  <a:effectLst>
              <a:outerShdw dist="17819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Concept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879640" y="4154400"/>
            <a:ext cx="1582560" cy="1582560"/>
            <a:chOff x="2879640" y="4154400"/>
            <a:chExt cx="1582560" cy="1582560"/>
          </a:xfrm>
        </p:grpSpPr>
        <p:sp>
          <p:nvSpPr>
            <p:cNvPr id="206" name=""/>
            <p:cNvSpPr/>
            <p:nvPr/>
          </p:nvSpPr>
          <p:spPr>
            <a:xfrm>
              <a:off x="2879640" y="4154400"/>
              <a:ext cx="1582560" cy="1582560"/>
            </a:xfrm>
            <a:prstGeom prst="ellipse">
              <a:avLst/>
            </a:prstGeom>
            <a:solidFill>
              <a:srgbClr val="e76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914560" y="4182840"/>
              <a:ext cx="1506600" cy="1506600"/>
            </a:xfrm>
            <a:prstGeom prst="donut">
              <a:avLst>
                <a:gd name="adj" fmla="val 18810"/>
              </a:avLst>
            </a:prstGeom>
            <a:gradFill rotWithShape="0">
              <a:gsLst>
                <a:gs pos="0">
                  <a:srgbClr val="f6cfb5"/>
                </a:gs>
                <a:gs pos="100000">
                  <a:srgbClr val="e769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879640" y="4562280"/>
              <a:ext cx="1582560" cy="6796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  <a:effectLst>
              <a:outerShdw dist="17819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Concept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629240" y="4133880"/>
            <a:ext cx="1582560" cy="1582560"/>
            <a:chOff x="4629240" y="4133880"/>
            <a:chExt cx="1582560" cy="1582560"/>
          </a:xfrm>
        </p:grpSpPr>
        <p:sp>
          <p:nvSpPr>
            <p:cNvPr id="210" name=""/>
            <p:cNvSpPr/>
            <p:nvPr/>
          </p:nvSpPr>
          <p:spPr>
            <a:xfrm>
              <a:off x="4629240" y="4133880"/>
              <a:ext cx="1582560" cy="1582560"/>
            </a:xfrm>
            <a:prstGeom prst="ellipse">
              <a:avLst/>
            </a:prstGeom>
            <a:solidFill>
              <a:srgbClr val="ca2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664160" y="4162320"/>
              <a:ext cx="1506600" cy="1506600"/>
            </a:xfrm>
            <a:prstGeom prst="donut">
              <a:avLst>
                <a:gd name="adj" fmla="val 18810"/>
              </a:avLst>
            </a:prstGeom>
            <a:gradFill rotWithShape="0">
              <a:gsLst>
                <a:gs pos="0">
                  <a:srgbClr val="edb9b1"/>
                </a:gs>
                <a:gs pos="100000">
                  <a:srgbClr val="ca20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629240" y="4541760"/>
              <a:ext cx="1582560" cy="6796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  <a:effectLst>
              <a:outerShdw dist="17819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Concept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6369120" y="4159080"/>
            <a:ext cx="1582560" cy="1582560"/>
            <a:chOff x="6369120" y="4159080"/>
            <a:chExt cx="1582560" cy="1582560"/>
          </a:xfrm>
        </p:grpSpPr>
        <p:sp>
          <p:nvSpPr>
            <p:cNvPr id="214" name=""/>
            <p:cNvSpPr/>
            <p:nvPr/>
          </p:nvSpPr>
          <p:spPr>
            <a:xfrm>
              <a:off x="6369120" y="4159080"/>
              <a:ext cx="1582560" cy="1582560"/>
            </a:xfrm>
            <a:prstGeom prst="ellipse">
              <a:avLst/>
            </a:prstGeom>
            <a:solidFill>
              <a:srgbClr val="dd37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04040" y="4187520"/>
              <a:ext cx="1506600" cy="1506600"/>
            </a:xfrm>
            <a:prstGeom prst="donut">
              <a:avLst>
                <a:gd name="adj" fmla="val 18810"/>
              </a:avLst>
            </a:prstGeom>
            <a:gradFill rotWithShape="0">
              <a:gsLst>
                <a:gs pos="0">
                  <a:srgbClr val="f3c0b3"/>
                </a:gs>
                <a:gs pos="100000">
                  <a:srgbClr val="dd37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369120" y="4566960"/>
              <a:ext cx="1582560" cy="6796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  <a:effectLst>
              <a:outerShdw dist="17819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Concept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735280" y="4008600"/>
            <a:ext cx="1871640" cy="1871640"/>
          </a:xfrm>
          <a:prstGeom prst="blockArc">
            <a:avLst>
              <a:gd name="adj1" fmla="val 10861911"/>
              <a:gd name="adj2" fmla="val 21538089"/>
              <a:gd name="adj3" fmla="val 6556"/>
            </a:avLst>
          </a:prstGeom>
          <a:solidFill>
            <a:srgbClr val="e769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10800000">
            <a:off x="987120" y="3998520"/>
            <a:ext cx="1871640" cy="1871640"/>
          </a:xfrm>
          <a:prstGeom prst="blockArc">
            <a:avLst>
              <a:gd name="adj1" fmla="val 10861911"/>
              <a:gd name="adj2" fmla="val 21538089"/>
              <a:gd name="adj3" fmla="val 6556"/>
            </a:avLst>
          </a:prstGeom>
          <a:solidFill>
            <a:srgbClr val="e64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0800000">
            <a:off x="4487400" y="3995280"/>
            <a:ext cx="1871640" cy="1871640"/>
          </a:xfrm>
          <a:prstGeom prst="blockArc">
            <a:avLst>
              <a:gd name="adj1" fmla="val 10861911"/>
              <a:gd name="adj2" fmla="val 21538089"/>
              <a:gd name="adj3" fmla="val 6556"/>
            </a:avLst>
          </a:prstGeom>
          <a:solidFill>
            <a:srgbClr val="ca2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27640" y="4008600"/>
            <a:ext cx="1871640" cy="1871640"/>
          </a:xfrm>
          <a:prstGeom prst="blockArc">
            <a:avLst>
              <a:gd name="adj1" fmla="val 10861911"/>
              <a:gd name="adj2" fmla="val 21538089"/>
              <a:gd name="adj3" fmla="val 6556"/>
            </a:avLst>
          </a:prstGeom>
          <a:solidFill>
            <a:srgbClr val="dd37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187280" y="1271520"/>
            <a:ext cx="1440000" cy="2664000"/>
            <a:chOff x="1187280" y="1271520"/>
            <a:chExt cx="1440000" cy="2664000"/>
          </a:xfrm>
        </p:grpSpPr>
        <p:sp>
          <p:nvSpPr>
            <p:cNvPr id="222" name=""/>
            <p:cNvSpPr/>
            <p:nvPr/>
          </p:nvSpPr>
          <p:spPr>
            <a:xfrm>
              <a:off x="1187280" y="1271520"/>
              <a:ext cx="1440000" cy="2664000"/>
            </a:xfrm>
            <a:prstGeom prst="upArrow">
              <a:avLst>
                <a:gd name="adj1" fmla="val 62139"/>
                <a:gd name="adj2" fmla="val 46301"/>
              </a:avLst>
            </a:prstGeom>
            <a:noFill/>
            <a:ln w="442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18920" y="2063520"/>
              <a:ext cx="576360" cy="142920"/>
            </a:xfrm>
            <a:prstGeom prst="rect">
              <a:avLst/>
            </a:prstGeom>
            <a:gradFill rotWithShape="0">
              <a:gsLst>
                <a:gs pos="0">
                  <a:srgbClr val="e64f13"/>
                </a:gs>
                <a:gs pos="100000">
                  <a:srgbClr val="fbee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18920" y="2352600"/>
              <a:ext cx="576360" cy="142920"/>
            </a:xfrm>
            <a:prstGeom prst="rect">
              <a:avLst/>
            </a:prstGeom>
            <a:gradFill rotWithShape="0">
              <a:gsLst>
                <a:gs pos="0">
                  <a:srgbClr val="e64f13"/>
                </a:gs>
                <a:gs pos="100000">
                  <a:srgbClr val="f5c3a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18920" y="2639880"/>
              <a:ext cx="576360" cy="142920"/>
            </a:xfrm>
            <a:prstGeom prst="rect">
              <a:avLst/>
            </a:prstGeom>
            <a:gradFill rotWithShape="0">
              <a:gsLst>
                <a:gs pos="0">
                  <a:srgbClr val="e64f13"/>
                </a:gs>
                <a:gs pos="100000">
                  <a:srgbClr val="ed896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18920" y="2930400"/>
              <a:ext cx="576360" cy="142920"/>
            </a:xfrm>
            <a:prstGeom prst="rect">
              <a:avLst/>
            </a:prstGeom>
            <a:gradFill rotWithShape="0">
              <a:gsLst>
                <a:gs pos="0">
                  <a:srgbClr val="e64f13"/>
                </a:gs>
                <a:gs pos="100000">
                  <a:srgbClr val="df4c1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18920" y="3216240"/>
              <a:ext cx="576360" cy="142920"/>
            </a:xfrm>
            <a:prstGeom prst="rect">
              <a:avLst/>
            </a:prstGeom>
            <a:gradFill rotWithShape="0">
              <a:gsLst>
                <a:gs pos="0">
                  <a:srgbClr val="e64f13"/>
                </a:gs>
                <a:gs pos="100000">
                  <a:srgbClr val="842d0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618920" y="3503520"/>
              <a:ext cx="576360" cy="142920"/>
            </a:xfrm>
            <a:prstGeom prst="rect">
              <a:avLst/>
            </a:prstGeom>
            <a:gradFill rotWithShape="0">
              <a:gsLst>
                <a:gs pos="0">
                  <a:srgbClr val="e64f13"/>
                </a:gs>
                <a:gs pos="100000">
                  <a:srgbClr val="33110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618920" y="1631880"/>
              <a:ext cx="576360" cy="289080"/>
            </a:xfrm>
            <a:prstGeom prst="triangle">
              <a:avLst>
                <a:gd name="adj" fmla="val 50000"/>
              </a:avLst>
            </a:prstGeom>
            <a:solidFill>
              <a:srgbClr val="e64f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666800" y="1662120"/>
              <a:ext cx="484200" cy="242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64f13"/>
                </a:gs>
                <a:gs pos="100000">
                  <a:srgbClr val="f8d6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73000" y="1722240"/>
              <a:ext cx="273240" cy="136800"/>
            </a:xfrm>
            <a:prstGeom prst="triangle">
              <a:avLst>
                <a:gd name="adj" fmla="val 50000"/>
              </a:avLst>
            </a:prstGeom>
            <a:solidFill>
              <a:srgbClr val="e64f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916360" y="2063880"/>
            <a:ext cx="1439640" cy="1873080"/>
            <a:chOff x="2916360" y="2063880"/>
            <a:chExt cx="1439640" cy="1873080"/>
          </a:xfrm>
        </p:grpSpPr>
        <p:sp>
          <p:nvSpPr>
            <p:cNvPr id="233" name=""/>
            <p:cNvSpPr/>
            <p:nvPr/>
          </p:nvSpPr>
          <p:spPr>
            <a:xfrm>
              <a:off x="2916360" y="2063880"/>
              <a:ext cx="1439640" cy="1873080"/>
            </a:xfrm>
            <a:prstGeom prst="upArrow">
              <a:avLst>
                <a:gd name="adj1" fmla="val 56778"/>
                <a:gd name="adj2" fmla="val 49398"/>
              </a:avLst>
            </a:prstGeom>
            <a:noFill/>
            <a:ln w="442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347640" y="2857680"/>
              <a:ext cx="576000" cy="142920"/>
            </a:xfrm>
            <a:prstGeom prst="rect">
              <a:avLst/>
            </a:prstGeom>
            <a:gradFill rotWithShape="0">
              <a:gsLst>
                <a:gs pos="0">
                  <a:srgbClr val="e76915"/>
                </a:gs>
                <a:gs pos="100000">
                  <a:srgbClr val="fbf0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347640" y="3073680"/>
              <a:ext cx="576000" cy="142560"/>
            </a:xfrm>
            <a:prstGeom prst="rect">
              <a:avLst/>
            </a:prstGeom>
            <a:gradFill rotWithShape="0">
              <a:gsLst>
                <a:gs pos="0">
                  <a:srgbClr val="e76915"/>
                </a:gs>
                <a:gs pos="100000">
                  <a:srgbClr val="ee9a6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47640" y="3289320"/>
              <a:ext cx="576000" cy="142920"/>
            </a:xfrm>
            <a:prstGeom prst="rect">
              <a:avLst/>
            </a:prstGeom>
            <a:gradFill rotWithShape="0">
              <a:gsLst>
                <a:gs pos="0">
                  <a:srgbClr val="e76915"/>
                </a:gs>
                <a:gs pos="100000">
                  <a:srgbClr val="e0661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47640" y="3503880"/>
              <a:ext cx="576000" cy="142560"/>
            </a:xfrm>
            <a:prstGeom prst="rect">
              <a:avLst/>
            </a:prstGeom>
            <a:gradFill rotWithShape="0">
              <a:gsLst>
                <a:gs pos="0">
                  <a:srgbClr val="e76915"/>
                </a:gs>
                <a:gs pos="100000">
                  <a:srgbClr val="33170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338280" y="2424240"/>
              <a:ext cx="576000" cy="289080"/>
            </a:xfrm>
            <a:prstGeom prst="triangle">
              <a:avLst>
                <a:gd name="adj" fmla="val 50000"/>
              </a:avLst>
            </a:prstGeom>
            <a:solidFill>
              <a:srgbClr val="e76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85800" y="2454480"/>
              <a:ext cx="483840" cy="242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76915"/>
                </a:gs>
                <a:gs pos="100000">
                  <a:srgbClr val="f8dc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492360" y="2514600"/>
              <a:ext cx="272520" cy="136800"/>
            </a:xfrm>
            <a:prstGeom prst="triangle">
              <a:avLst>
                <a:gd name="adj" fmla="val 50000"/>
              </a:avLst>
            </a:prstGeom>
            <a:solidFill>
              <a:srgbClr val="e76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716360" y="1560600"/>
            <a:ext cx="1440000" cy="2374920"/>
            <a:chOff x="4716360" y="1560600"/>
            <a:chExt cx="1440000" cy="2374920"/>
          </a:xfrm>
        </p:grpSpPr>
        <p:sp>
          <p:nvSpPr>
            <p:cNvPr id="242" name=""/>
            <p:cNvSpPr/>
            <p:nvPr/>
          </p:nvSpPr>
          <p:spPr>
            <a:xfrm>
              <a:off x="4716360" y="1560600"/>
              <a:ext cx="1440000" cy="2374920"/>
            </a:xfrm>
            <a:prstGeom prst="upArrow">
              <a:avLst>
                <a:gd name="adj1" fmla="val 62074"/>
                <a:gd name="adj2" fmla="val 48760"/>
              </a:avLst>
            </a:prstGeom>
            <a:noFill/>
            <a:ln w="442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48000" y="2354400"/>
              <a:ext cx="576360" cy="142920"/>
            </a:xfrm>
            <a:prstGeom prst="rect">
              <a:avLst/>
            </a:prstGeom>
            <a:gradFill rotWithShape="0">
              <a:gsLst>
                <a:gs pos="0">
                  <a:srgbClr val="ca2008"/>
                </a:gs>
                <a:gs pos="100000">
                  <a:srgbClr val="ecb3a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148000" y="2640240"/>
              <a:ext cx="576360" cy="142560"/>
            </a:xfrm>
            <a:prstGeom prst="rect">
              <a:avLst/>
            </a:prstGeom>
            <a:gradFill rotWithShape="0">
              <a:gsLst>
                <a:gs pos="0">
                  <a:srgbClr val="ca2008"/>
                </a:gs>
                <a:gs pos="100000">
                  <a:srgbClr val="da695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148000" y="2932200"/>
              <a:ext cx="576360" cy="142920"/>
            </a:xfrm>
            <a:prstGeom prst="rect">
              <a:avLst/>
            </a:prstGeom>
            <a:gradFill rotWithShape="0">
              <a:gsLst>
                <a:gs pos="0">
                  <a:srgbClr val="ca2008"/>
                </a:gs>
                <a:gs pos="100000">
                  <a:srgbClr val="c41f0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48000" y="3218040"/>
              <a:ext cx="576360" cy="142920"/>
            </a:xfrm>
            <a:prstGeom prst="rect">
              <a:avLst/>
            </a:prstGeom>
            <a:gradFill rotWithShape="0">
              <a:gsLst>
                <a:gs pos="0">
                  <a:srgbClr val="ca2008"/>
                </a:gs>
                <a:gs pos="100000">
                  <a:srgbClr val="73120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8000" y="3505320"/>
              <a:ext cx="576360" cy="142920"/>
            </a:xfrm>
            <a:prstGeom prst="rect">
              <a:avLst/>
            </a:prstGeom>
            <a:gradFill rotWithShape="0">
              <a:gsLst>
                <a:gs pos="0">
                  <a:srgbClr val="ca2008"/>
                </a:gs>
                <a:gs pos="100000">
                  <a:srgbClr val="2c070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38640" y="1901880"/>
              <a:ext cx="576360" cy="289080"/>
            </a:xfrm>
            <a:prstGeom prst="triangle">
              <a:avLst>
                <a:gd name="adj" fmla="val 50000"/>
              </a:avLst>
            </a:prstGeom>
            <a:solidFill>
              <a:srgbClr val="ca2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86160" y="1932120"/>
              <a:ext cx="484200" cy="243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ca2008"/>
                </a:gs>
                <a:gs pos="100000">
                  <a:srgbClr val="f2ccc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2720" y="1992240"/>
              <a:ext cx="272880" cy="136800"/>
            </a:xfrm>
            <a:prstGeom prst="triangle">
              <a:avLst>
                <a:gd name="adj" fmla="val 50000"/>
              </a:avLst>
            </a:prstGeom>
            <a:solidFill>
              <a:srgbClr val="ca2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6445080" y="1271520"/>
            <a:ext cx="1440000" cy="2664000"/>
            <a:chOff x="6445080" y="1271520"/>
            <a:chExt cx="1440000" cy="2664000"/>
          </a:xfrm>
        </p:grpSpPr>
        <p:sp>
          <p:nvSpPr>
            <p:cNvPr id="252" name=""/>
            <p:cNvSpPr/>
            <p:nvPr/>
          </p:nvSpPr>
          <p:spPr>
            <a:xfrm>
              <a:off x="6445080" y="1271520"/>
              <a:ext cx="1440000" cy="2664000"/>
            </a:xfrm>
            <a:prstGeom prst="upArrow">
              <a:avLst>
                <a:gd name="adj1" fmla="val 62139"/>
                <a:gd name="adj2" fmla="val 46301"/>
              </a:avLst>
            </a:prstGeom>
            <a:noFill/>
            <a:ln w="442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76720" y="2063520"/>
              <a:ext cx="576360" cy="142920"/>
            </a:xfrm>
            <a:prstGeom prst="rect">
              <a:avLst/>
            </a:prstGeom>
            <a:gradFill rotWithShape="0">
              <a:gsLst>
                <a:gs pos="0">
                  <a:srgbClr val="dd370e"/>
                </a:gs>
                <a:gs pos="100000">
                  <a:srgbClr val="faec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876720" y="2352600"/>
              <a:ext cx="576360" cy="142920"/>
            </a:xfrm>
            <a:prstGeom prst="rect">
              <a:avLst/>
            </a:prstGeom>
            <a:gradFill rotWithShape="0">
              <a:gsLst>
                <a:gs pos="0">
                  <a:srgbClr val="dd370e"/>
                </a:gs>
                <a:gs pos="100000">
                  <a:srgbClr val="f2bba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76720" y="2639880"/>
              <a:ext cx="576360" cy="142920"/>
            </a:xfrm>
            <a:prstGeom prst="rect">
              <a:avLst/>
            </a:prstGeom>
            <a:gradFill rotWithShape="0">
              <a:gsLst>
                <a:gs pos="0">
                  <a:srgbClr val="dd370e"/>
                </a:gs>
                <a:gs pos="100000">
                  <a:srgbClr val="e7795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876720" y="2930400"/>
              <a:ext cx="576360" cy="142920"/>
            </a:xfrm>
            <a:prstGeom prst="rect">
              <a:avLst/>
            </a:prstGeom>
            <a:gradFill rotWithShape="0">
              <a:gsLst>
                <a:gs pos="0">
                  <a:srgbClr val="dd370e"/>
                </a:gs>
                <a:gs pos="100000">
                  <a:srgbClr val="d6350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876720" y="3216240"/>
              <a:ext cx="576360" cy="142920"/>
            </a:xfrm>
            <a:prstGeom prst="rect">
              <a:avLst/>
            </a:prstGeom>
            <a:gradFill rotWithShape="0">
              <a:gsLst>
                <a:gs pos="0">
                  <a:srgbClr val="dd370e"/>
                </a:gs>
                <a:gs pos="100000">
                  <a:srgbClr val="7e1f0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76720" y="3503520"/>
              <a:ext cx="576360" cy="142920"/>
            </a:xfrm>
            <a:prstGeom prst="rect">
              <a:avLst/>
            </a:prstGeom>
            <a:gradFill rotWithShape="0">
              <a:gsLst>
                <a:gs pos="0">
                  <a:srgbClr val="dd370e"/>
                </a:gs>
                <a:gs pos="100000">
                  <a:srgbClr val="310c0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67360" y="1612800"/>
              <a:ext cx="576360" cy="289080"/>
            </a:xfrm>
            <a:prstGeom prst="triangle">
              <a:avLst>
                <a:gd name="adj" fmla="val 50000"/>
              </a:avLst>
            </a:prstGeom>
            <a:solidFill>
              <a:srgbClr val="dd37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914880" y="1643040"/>
              <a:ext cx="484200" cy="243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d370e"/>
                </a:gs>
                <a:gs pos="100000">
                  <a:srgbClr val="f6d1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21440" y="1703160"/>
              <a:ext cx="272880" cy="136800"/>
            </a:xfrm>
            <a:prstGeom prst="triangle">
              <a:avLst>
                <a:gd name="adj" fmla="val 50000"/>
              </a:avLst>
            </a:prstGeom>
            <a:solidFill>
              <a:srgbClr val="dd37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1476360" y="5952960"/>
            <a:ext cx="863640" cy="69840"/>
          </a:xfrm>
          <a:prstGeom prst="rect">
            <a:avLst/>
          </a:prstGeom>
          <a:solidFill>
            <a:srgbClr val="eaeaea"/>
          </a:solidFill>
          <a:ln w="442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03640" y="5952960"/>
            <a:ext cx="863640" cy="69840"/>
          </a:xfrm>
          <a:prstGeom prst="rect">
            <a:avLst/>
          </a:prstGeom>
          <a:solidFill>
            <a:srgbClr val="eaeaea"/>
          </a:solidFill>
          <a:ln w="442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3640" y="5952960"/>
            <a:ext cx="863640" cy="69840"/>
          </a:xfrm>
          <a:prstGeom prst="rect">
            <a:avLst/>
          </a:prstGeom>
          <a:solidFill>
            <a:srgbClr val="eaeaea"/>
          </a:solidFill>
          <a:ln w="442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59640" y="5951520"/>
            <a:ext cx="863640" cy="69840"/>
          </a:xfrm>
          <a:prstGeom prst="rect">
            <a:avLst/>
          </a:prstGeom>
          <a:solidFill>
            <a:srgbClr val="eaeaea"/>
          </a:solidFill>
          <a:ln w="442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05440" y="838080"/>
            <a:ext cx="77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4d4d4d"/>
                </a:solidFill>
                <a:latin typeface="Arial"/>
                <a:ea typeface="Gulim"/>
              </a:rPr>
              <a:t>Text 4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076720" y="1125360"/>
            <a:ext cx="77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4d4d4d"/>
                </a:solidFill>
                <a:latin typeface="Arial"/>
                <a:ea typeface="Gulim"/>
              </a:rPr>
              <a:t>Text 3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76720" y="1630440"/>
            <a:ext cx="77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4d4d4d"/>
                </a:solidFill>
                <a:latin typeface="Arial"/>
                <a:ea typeface="Gulim"/>
              </a:rPr>
              <a:t>Text 2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547640" y="838080"/>
            <a:ext cx="77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4d4d4d"/>
                </a:solidFill>
                <a:latin typeface="Arial"/>
                <a:ea typeface="Gulim"/>
              </a:rPr>
              <a:t>Text 1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7034040" y="2533320"/>
            <a:ext cx="1397520" cy="2275200"/>
            <a:chOff x="7034040" y="2533320"/>
            <a:chExt cx="1397520" cy="2275200"/>
          </a:xfrm>
        </p:grpSpPr>
        <p:sp>
          <p:nvSpPr>
            <p:cNvPr id="271" name=""/>
            <p:cNvSpPr/>
            <p:nvPr/>
          </p:nvSpPr>
          <p:spPr>
            <a:xfrm rot="10423800">
              <a:off x="7148520" y="2590560"/>
              <a:ext cx="1168560" cy="2160360"/>
            </a:xfrm>
            <a:prstGeom prst="upArrow">
              <a:avLst>
                <a:gd name="adj1" fmla="val 62139"/>
                <a:gd name="adj2" fmla="val 46270"/>
              </a:avLst>
            </a:prstGeom>
            <a:noFill/>
            <a:ln w="442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0423800">
              <a:off x="7540560" y="3990600"/>
              <a:ext cx="467640" cy="115560"/>
            </a:xfrm>
            <a:prstGeom prst="rect">
              <a:avLst/>
            </a:prstGeom>
            <a:gradFill rotWithShape="0">
              <a:gsLst>
                <a:gs pos="0">
                  <a:srgbClr val="e64f13"/>
                </a:gs>
                <a:gs pos="100000">
                  <a:srgbClr val="fbee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0423800">
              <a:off x="7515000" y="3757680"/>
              <a:ext cx="467640" cy="115560"/>
            </a:xfrm>
            <a:prstGeom prst="rect">
              <a:avLst/>
            </a:prstGeom>
            <a:gradFill rotWithShape="0">
              <a:gsLst>
                <a:gs pos="0">
                  <a:srgbClr val="e64f13"/>
                </a:gs>
                <a:gs pos="100000">
                  <a:srgbClr val="f5c3a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423800">
              <a:off x="7489440" y="3526200"/>
              <a:ext cx="467640" cy="115560"/>
            </a:xfrm>
            <a:prstGeom prst="rect">
              <a:avLst/>
            </a:prstGeom>
            <a:gradFill rotWithShape="0">
              <a:gsLst>
                <a:gs pos="0">
                  <a:srgbClr val="e64f13"/>
                </a:gs>
                <a:gs pos="100000">
                  <a:srgbClr val="ed896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0423800">
              <a:off x="7463880" y="3291840"/>
              <a:ext cx="467640" cy="115560"/>
            </a:xfrm>
            <a:prstGeom prst="rect">
              <a:avLst/>
            </a:prstGeom>
            <a:gradFill rotWithShape="0">
              <a:gsLst>
                <a:gs pos="0">
                  <a:srgbClr val="e64f13"/>
                </a:gs>
                <a:gs pos="100000">
                  <a:srgbClr val="df4c1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0423800">
              <a:off x="7438320" y="3061440"/>
              <a:ext cx="467640" cy="115560"/>
            </a:xfrm>
            <a:prstGeom prst="rect">
              <a:avLst/>
            </a:prstGeom>
            <a:gradFill rotWithShape="0">
              <a:gsLst>
                <a:gs pos="0">
                  <a:srgbClr val="e64f13"/>
                </a:gs>
                <a:gs pos="100000">
                  <a:srgbClr val="842d0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0423800">
              <a:off x="7413120" y="2829600"/>
              <a:ext cx="467640" cy="115560"/>
            </a:xfrm>
            <a:prstGeom prst="rect">
              <a:avLst/>
            </a:prstGeom>
            <a:gradFill rotWithShape="0">
              <a:gsLst>
                <a:gs pos="0">
                  <a:srgbClr val="e64f13"/>
                </a:gs>
                <a:gs pos="100000">
                  <a:srgbClr val="33110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0423800">
              <a:off x="7572240" y="4220280"/>
              <a:ext cx="467640" cy="234360"/>
            </a:xfrm>
            <a:prstGeom prst="triangle">
              <a:avLst>
                <a:gd name="adj" fmla="val 50000"/>
              </a:avLst>
            </a:prstGeom>
            <a:solidFill>
              <a:srgbClr val="e64f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0423800">
              <a:off x="7607880" y="4233960"/>
              <a:ext cx="392760" cy="1965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64f13"/>
                </a:gs>
                <a:gs pos="100000">
                  <a:srgbClr val="f8d6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0423800">
              <a:off x="7692480" y="4270680"/>
              <a:ext cx="221400" cy="110880"/>
            </a:xfrm>
            <a:prstGeom prst="triangle">
              <a:avLst>
                <a:gd name="adj" fmla="val 50000"/>
              </a:avLst>
            </a:prstGeom>
            <a:solidFill>
              <a:srgbClr val="e64f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142960" y="3220200"/>
            <a:ext cx="1285920" cy="1587960"/>
            <a:chOff x="5142960" y="3220200"/>
            <a:chExt cx="1285920" cy="1587960"/>
          </a:xfrm>
        </p:grpSpPr>
        <p:sp>
          <p:nvSpPr>
            <p:cNvPr id="282" name=""/>
            <p:cNvSpPr/>
            <p:nvPr/>
          </p:nvSpPr>
          <p:spPr>
            <a:xfrm rot="10429200">
              <a:off x="5218920" y="3276720"/>
              <a:ext cx="1133640" cy="1474560"/>
            </a:xfrm>
            <a:prstGeom prst="upArrow">
              <a:avLst>
                <a:gd name="adj1" fmla="val 56778"/>
                <a:gd name="adj2" fmla="val 49386"/>
              </a:avLst>
            </a:prstGeom>
            <a:noFill/>
            <a:ln w="442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429200">
              <a:off x="5565600" y="4013640"/>
              <a:ext cx="453600" cy="112320"/>
            </a:xfrm>
            <a:prstGeom prst="rect">
              <a:avLst/>
            </a:prstGeom>
            <a:gradFill rotWithShape="0">
              <a:gsLst>
                <a:gs pos="0">
                  <a:srgbClr val="e76915"/>
                </a:gs>
                <a:gs pos="100000">
                  <a:srgbClr val="fbf0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0429200">
              <a:off x="5547240" y="3844800"/>
              <a:ext cx="453600" cy="111960"/>
            </a:xfrm>
            <a:prstGeom prst="rect">
              <a:avLst/>
            </a:prstGeom>
            <a:gradFill rotWithShape="0">
              <a:gsLst>
                <a:gs pos="0">
                  <a:srgbClr val="e76915"/>
                </a:gs>
                <a:gs pos="100000">
                  <a:srgbClr val="ee9a6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0429200">
              <a:off x="5528880" y="3675960"/>
              <a:ext cx="453600" cy="112320"/>
            </a:xfrm>
            <a:prstGeom prst="rect">
              <a:avLst/>
            </a:prstGeom>
            <a:gradFill rotWithShape="0">
              <a:gsLst>
                <a:gs pos="0">
                  <a:srgbClr val="e76915"/>
                </a:gs>
                <a:gs pos="100000">
                  <a:srgbClr val="e0661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0429200">
              <a:off x="5510880" y="3507840"/>
              <a:ext cx="453600" cy="111960"/>
            </a:xfrm>
            <a:prstGeom prst="rect">
              <a:avLst/>
            </a:prstGeom>
            <a:gradFill rotWithShape="0">
              <a:gsLst>
                <a:gs pos="0">
                  <a:srgbClr val="e76915"/>
                </a:gs>
                <a:gs pos="100000">
                  <a:srgbClr val="33170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0429200">
              <a:off x="5603400" y="4237200"/>
              <a:ext cx="453600" cy="227520"/>
            </a:xfrm>
            <a:prstGeom prst="triangle">
              <a:avLst>
                <a:gd name="adj" fmla="val 50000"/>
              </a:avLst>
            </a:prstGeom>
            <a:solidFill>
              <a:srgbClr val="e76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429200">
              <a:off x="5637960" y="4250160"/>
              <a:ext cx="380880" cy="1908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76915"/>
                </a:gs>
                <a:gs pos="100000">
                  <a:srgbClr val="f8dc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429200">
              <a:off x="5720040" y="4286160"/>
              <a:ext cx="214560" cy="107640"/>
            </a:xfrm>
            <a:prstGeom prst="triangle">
              <a:avLst>
                <a:gd name="adj" fmla="val 50000"/>
              </a:avLst>
            </a:prstGeom>
            <a:solidFill>
              <a:srgbClr val="e76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2887920" y="2821320"/>
            <a:ext cx="1356120" cy="2023200"/>
            <a:chOff x="2887920" y="2821320"/>
            <a:chExt cx="1356120" cy="2023200"/>
          </a:xfrm>
        </p:grpSpPr>
        <p:sp>
          <p:nvSpPr>
            <p:cNvPr id="291" name=""/>
            <p:cNvSpPr/>
            <p:nvPr/>
          </p:nvSpPr>
          <p:spPr>
            <a:xfrm rot="10429200">
              <a:off x="2986920" y="2877840"/>
              <a:ext cx="1157400" cy="1909800"/>
            </a:xfrm>
            <a:prstGeom prst="upArrow">
              <a:avLst>
                <a:gd name="adj1" fmla="val 62074"/>
                <a:gd name="adj2" fmla="val 48784"/>
              </a:avLst>
            </a:prstGeom>
            <a:noFill/>
            <a:ln w="442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0429200">
              <a:off x="3362760" y="4033080"/>
              <a:ext cx="462960" cy="114840"/>
            </a:xfrm>
            <a:prstGeom prst="rect">
              <a:avLst/>
            </a:prstGeom>
            <a:gradFill rotWithShape="0">
              <a:gsLst>
                <a:gs pos="0">
                  <a:srgbClr val="ca2008"/>
                </a:gs>
                <a:gs pos="100000">
                  <a:srgbClr val="ecb3a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10429200">
              <a:off x="3337920" y="3804840"/>
              <a:ext cx="462960" cy="114480"/>
            </a:xfrm>
            <a:prstGeom prst="rect">
              <a:avLst/>
            </a:prstGeom>
            <a:gradFill rotWithShape="0">
              <a:gsLst>
                <a:gs pos="0">
                  <a:srgbClr val="ca2008"/>
                </a:gs>
                <a:gs pos="100000">
                  <a:srgbClr val="da695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10429200">
              <a:off x="3312720" y="3571200"/>
              <a:ext cx="462960" cy="114840"/>
            </a:xfrm>
            <a:prstGeom prst="rect">
              <a:avLst/>
            </a:prstGeom>
            <a:gradFill rotWithShape="0">
              <a:gsLst>
                <a:gs pos="0">
                  <a:srgbClr val="ca2008"/>
                </a:gs>
                <a:gs pos="100000">
                  <a:srgbClr val="c41f0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0429200">
              <a:off x="3287880" y="3342600"/>
              <a:ext cx="462960" cy="114840"/>
            </a:xfrm>
            <a:prstGeom prst="rect">
              <a:avLst/>
            </a:prstGeom>
            <a:gradFill rotWithShape="0">
              <a:gsLst>
                <a:gs pos="0">
                  <a:srgbClr val="ca2008"/>
                </a:gs>
                <a:gs pos="100000">
                  <a:srgbClr val="73120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10429200">
              <a:off x="3263040" y="3112920"/>
              <a:ext cx="462960" cy="114840"/>
            </a:xfrm>
            <a:prstGeom prst="rect">
              <a:avLst/>
            </a:prstGeom>
            <a:gradFill rotWithShape="0">
              <a:gsLst>
                <a:gs pos="0">
                  <a:srgbClr val="ca2008"/>
                </a:gs>
                <a:gs pos="100000">
                  <a:srgbClr val="2c070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0429200">
              <a:off x="3403440" y="4276800"/>
              <a:ext cx="462960" cy="232200"/>
            </a:xfrm>
            <a:prstGeom prst="triangle">
              <a:avLst>
                <a:gd name="adj" fmla="val 50000"/>
              </a:avLst>
            </a:prstGeom>
            <a:solidFill>
              <a:srgbClr val="ca2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0429200">
              <a:off x="3438000" y="4289760"/>
              <a:ext cx="389160" cy="195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ca2008"/>
                </a:gs>
                <a:gs pos="100000">
                  <a:srgbClr val="f2ccc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0429200">
              <a:off x="3521880" y="4326840"/>
              <a:ext cx="219240" cy="109800"/>
            </a:xfrm>
            <a:prstGeom prst="triangle">
              <a:avLst>
                <a:gd name="adj" fmla="val 50000"/>
              </a:avLst>
            </a:prstGeom>
            <a:solidFill>
              <a:srgbClr val="ca2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640800" y="2533320"/>
            <a:ext cx="1395720" cy="2273400"/>
            <a:chOff x="640800" y="2533320"/>
            <a:chExt cx="1395720" cy="2273400"/>
          </a:xfrm>
        </p:grpSpPr>
        <p:sp>
          <p:nvSpPr>
            <p:cNvPr id="301" name=""/>
            <p:cNvSpPr/>
            <p:nvPr/>
          </p:nvSpPr>
          <p:spPr>
            <a:xfrm rot="10423800">
              <a:off x="755280" y="2590200"/>
              <a:ext cx="1166760" cy="2158920"/>
            </a:xfrm>
            <a:prstGeom prst="upArrow">
              <a:avLst>
                <a:gd name="adj1" fmla="val 62139"/>
                <a:gd name="adj2" fmla="val 46310"/>
              </a:avLst>
            </a:prstGeom>
            <a:noFill/>
            <a:ln w="442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0423800">
              <a:off x="1146960" y="3989880"/>
              <a:ext cx="466920" cy="115560"/>
            </a:xfrm>
            <a:prstGeom prst="rect">
              <a:avLst/>
            </a:prstGeom>
            <a:gradFill rotWithShape="0">
              <a:gsLst>
                <a:gs pos="0">
                  <a:srgbClr val="dd370e"/>
                </a:gs>
                <a:gs pos="100000">
                  <a:srgbClr val="faec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0423800">
              <a:off x="1121400" y="3756960"/>
              <a:ext cx="466920" cy="115560"/>
            </a:xfrm>
            <a:prstGeom prst="rect">
              <a:avLst/>
            </a:prstGeom>
            <a:gradFill rotWithShape="0">
              <a:gsLst>
                <a:gs pos="0">
                  <a:srgbClr val="dd370e"/>
                </a:gs>
                <a:gs pos="100000">
                  <a:srgbClr val="f2bba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0423800">
              <a:off x="1095840" y="3525480"/>
              <a:ext cx="466920" cy="115560"/>
            </a:xfrm>
            <a:prstGeom prst="rect">
              <a:avLst/>
            </a:prstGeom>
            <a:gradFill rotWithShape="0">
              <a:gsLst>
                <a:gs pos="0">
                  <a:srgbClr val="dd370e"/>
                </a:gs>
                <a:gs pos="100000">
                  <a:srgbClr val="e7795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10423800">
              <a:off x="1070280" y="3291480"/>
              <a:ext cx="466920" cy="115560"/>
            </a:xfrm>
            <a:prstGeom prst="rect">
              <a:avLst/>
            </a:prstGeom>
            <a:gradFill rotWithShape="0">
              <a:gsLst>
                <a:gs pos="0">
                  <a:srgbClr val="dd370e"/>
                </a:gs>
                <a:gs pos="100000">
                  <a:srgbClr val="d6350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10423800">
              <a:off x="1045080" y="3061080"/>
              <a:ext cx="466920" cy="115560"/>
            </a:xfrm>
            <a:prstGeom prst="rect">
              <a:avLst/>
            </a:prstGeom>
            <a:gradFill rotWithShape="0">
              <a:gsLst>
                <a:gs pos="0">
                  <a:srgbClr val="dd370e"/>
                </a:gs>
                <a:gs pos="100000">
                  <a:srgbClr val="7e1f0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10423800">
              <a:off x="1019520" y="2829600"/>
              <a:ext cx="466920" cy="115560"/>
            </a:xfrm>
            <a:prstGeom prst="rect">
              <a:avLst/>
            </a:prstGeom>
            <a:gradFill rotWithShape="0">
              <a:gsLst>
                <a:gs pos="0">
                  <a:srgbClr val="dd370e"/>
                </a:gs>
                <a:gs pos="100000">
                  <a:srgbClr val="310c0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0423800">
              <a:off x="1188000" y="4233600"/>
              <a:ext cx="466920" cy="234000"/>
            </a:xfrm>
            <a:prstGeom prst="triangle">
              <a:avLst>
                <a:gd name="adj" fmla="val 50000"/>
              </a:avLst>
            </a:prstGeom>
            <a:solidFill>
              <a:srgbClr val="dd37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0423800">
              <a:off x="1223640" y="4246920"/>
              <a:ext cx="392040" cy="196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d370e"/>
                </a:gs>
                <a:gs pos="100000">
                  <a:srgbClr val="f6d1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10423800">
              <a:off x="1307520" y="4284720"/>
              <a:ext cx="221040" cy="110520"/>
            </a:xfrm>
            <a:prstGeom prst="triangle">
              <a:avLst>
                <a:gd name="adj" fmla="val 50000"/>
              </a:avLst>
            </a:prstGeom>
            <a:solidFill>
              <a:srgbClr val="dd37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6985080" y="4968720"/>
            <a:ext cx="1908000" cy="1008000"/>
            <a:chOff x="6985080" y="4968720"/>
            <a:chExt cx="1908000" cy="1008000"/>
          </a:xfrm>
        </p:grpSpPr>
        <p:sp>
          <p:nvSpPr>
            <p:cNvPr id="312" name="未知"/>
            <p:cNvSpPr/>
            <p:nvPr/>
          </p:nvSpPr>
          <p:spPr>
            <a:xfrm>
              <a:off x="6985080" y="5203800"/>
              <a:ext cx="1893960" cy="772920"/>
            </a:xfrm>
            <a:custGeom>
              <a:avLst/>
              <a:gdLst/>
              <a:ahLst/>
              <a:rect l="l" t="t" r="r" b="b"/>
              <a:pathLst>
                <a:path w="1854" h="756">
                  <a:moveTo>
                    <a:pt x="612" y="0"/>
                  </a:moveTo>
                  <a:lnTo>
                    <a:pt x="0" y="516"/>
                  </a:lnTo>
                  <a:lnTo>
                    <a:pt x="1272" y="756"/>
                  </a:lnTo>
                  <a:lnTo>
                    <a:pt x="1854" y="125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e64f13"/>
            </a:solidFill>
            <a:ln w="1908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6993000" y="5084640"/>
              <a:ext cx="1892160" cy="772920"/>
            </a:xfrm>
            <a:custGeom>
              <a:avLst/>
              <a:gdLst/>
              <a:ahLst/>
              <a:rect l="l" t="t" r="r" b="b"/>
              <a:pathLst>
                <a:path w="1854" h="756">
                  <a:moveTo>
                    <a:pt x="612" y="0"/>
                  </a:moveTo>
                  <a:lnTo>
                    <a:pt x="0" y="516"/>
                  </a:lnTo>
                  <a:lnTo>
                    <a:pt x="1272" y="756"/>
                  </a:lnTo>
                  <a:lnTo>
                    <a:pt x="1854" y="125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e64f13"/>
            </a:solidFill>
            <a:ln w="1908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4" name="未知"/>
            <p:cNvSpPr/>
            <p:nvPr/>
          </p:nvSpPr>
          <p:spPr>
            <a:xfrm>
              <a:off x="6999480" y="4968720"/>
              <a:ext cx="1893600" cy="771480"/>
            </a:xfrm>
            <a:custGeom>
              <a:avLst/>
              <a:gdLst/>
              <a:ahLst/>
              <a:rect l="l" t="t" r="r" b="b"/>
              <a:pathLst>
                <a:path w="1854" h="756">
                  <a:moveTo>
                    <a:pt x="612" y="0"/>
                  </a:moveTo>
                  <a:lnTo>
                    <a:pt x="0" y="516"/>
                  </a:lnTo>
                  <a:lnTo>
                    <a:pt x="1272" y="756"/>
                  </a:lnTo>
                  <a:lnTo>
                    <a:pt x="1854" y="125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e64f13"/>
            </a:solidFill>
            <a:ln w="1908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5" name="未知"/>
            <p:cNvSpPr/>
            <p:nvPr/>
          </p:nvSpPr>
          <p:spPr>
            <a:xfrm>
              <a:off x="7061400" y="4998960"/>
              <a:ext cx="1774800" cy="712800"/>
            </a:xfrm>
            <a:custGeom>
              <a:avLst/>
              <a:gdLst/>
              <a:ahLst/>
              <a:rect l="l" t="t" r="r" b="b"/>
              <a:pathLst>
                <a:path w="1477" h="593">
                  <a:moveTo>
                    <a:pt x="477" y="0"/>
                  </a:moveTo>
                  <a:lnTo>
                    <a:pt x="0" y="399"/>
                  </a:lnTo>
                  <a:lnTo>
                    <a:pt x="1018" y="593"/>
                  </a:lnTo>
                  <a:lnTo>
                    <a:pt x="1477" y="98"/>
                  </a:lnTo>
                  <a:lnTo>
                    <a:pt x="477" y="0"/>
                  </a:lnTo>
                  <a:close/>
                </a:path>
              </a:pathLst>
            </a:custGeom>
            <a:gradFill rotWithShape="0">
              <a:gsLst>
                <a:gs pos="0">
                  <a:srgbClr val="e64f13">
                    <a:alpha val="39215"/>
                  </a:srgbClr>
                </a:gs>
                <a:gs pos="100000">
                  <a:srgbClr val="f6cbb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20000" y="5087880"/>
              <a:ext cx="1873080" cy="475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Concept</a:t>
              </a:r>
              <a:endParaRPr b="0" lang="en-US" sz="2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6804000" y="1295280"/>
            <a:ext cx="1440000" cy="1440000"/>
            <a:chOff x="6804000" y="1295280"/>
            <a:chExt cx="1440000" cy="1440000"/>
          </a:xfrm>
        </p:grpSpPr>
        <p:sp>
          <p:nvSpPr>
            <p:cNvPr id="318" name=""/>
            <p:cNvSpPr/>
            <p:nvPr/>
          </p:nvSpPr>
          <p:spPr>
            <a:xfrm>
              <a:off x="6804000" y="1295280"/>
              <a:ext cx="1440000" cy="1440000"/>
            </a:xfrm>
            <a:prstGeom prst="ellipse">
              <a:avLst/>
            </a:prstGeom>
            <a:solidFill>
              <a:srgbClr val="e64f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835680" y="1320480"/>
              <a:ext cx="1370880" cy="1370880"/>
            </a:xfrm>
            <a:prstGeom prst="donut">
              <a:avLst>
                <a:gd name="adj" fmla="val 18810"/>
              </a:avLst>
            </a:prstGeom>
            <a:gradFill rotWithShape="0">
              <a:gsLst>
                <a:gs pos="0">
                  <a:srgbClr val="f6c7b5"/>
                </a:gs>
                <a:gs pos="100000">
                  <a:srgbClr val="e64f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804000" y="1666440"/>
              <a:ext cx="1440000" cy="6170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  <a:effectLst>
              <a:outerShdw dist="17819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Concept</a:t>
              </a:r>
              <a:endParaRPr b="0" lang="en-US" sz="2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4932360" y="1943280"/>
            <a:ext cx="1440000" cy="1439640"/>
            <a:chOff x="4932360" y="1943280"/>
            <a:chExt cx="1440000" cy="1439640"/>
          </a:xfrm>
        </p:grpSpPr>
        <p:sp>
          <p:nvSpPr>
            <p:cNvPr id="322" name=""/>
            <p:cNvSpPr/>
            <p:nvPr/>
          </p:nvSpPr>
          <p:spPr>
            <a:xfrm>
              <a:off x="4932360" y="1943280"/>
              <a:ext cx="1440000" cy="1439640"/>
            </a:xfrm>
            <a:prstGeom prst="ellipse">
              <a:avLst/>
            </a:prstGeom>
            <a:solidFill>
              <a:srgbClr val="e76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964040" y="1968840"/>
              <a:ext cx="1370880" cy="1370520"/>
            </a:xfrm>
            <a:prstGeom prst="donut">
              <a:avLst>
                <a:gd name="adj" fmla="val 18810"/>
              </a:avLst>
            </a:prstGeom>
            <a:gradFill rotWithShape="0">
              <a:gsLst>
                <a:gs pos="0">
                  <a:srgbClr val="f6cfb5"/>
                </a:gs>
                <a:gs pos="100000">
                  <a:srgbClr val="e769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932360" y="2314080"/>
              <a:ext cx="1440000" cy="618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  <a:effectLst>
              <a:outerShdw dist="17819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Concept</a:t>
              </a:r>
              <a:endParaRPr b="0" lang="en-US" sz="2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700360" y="1582560"/>
            <a:ext cx="1440000" cy="1440000"/>
            <a:chOff x="2700360" y="1582560"/>
            <a:chExt cx="1440000" cy="1440000"/>
          </a:xfrm>
        </p:grpSpPr>
        <p:sp>
          <p:nvSpPr>
            <p:cNvPr id="326" name=""/>
            <p:cNvSpPr/>
            <p:nvPr/>
          </p:nvSpPr>
          <p:spPr>
            <a:xfrm>
              <a:off x="2700360" y="1582560"/>
              <a:ext cx="1440000" cy="1440000"/>
            </a:xfrm>
            <a:prstGeom prst="ellipse">
              <a:avLst/>
            </a:prstGeom>
            <a:solidFill>
              <a:srgbClr val="ca2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32040" y="1608120"/>
              <a:ext cx="1370880" cy="1370880"/>
            </a:xfrm>
            <a:prstGeom prst="donut">
              <a:avLst>
                <a:gd name="adj" fmla="val 18810"/>
              </a:avLst>
            </a:prstGeom>
            <a:gradFill rotWithShape="0">
              <a:gsLst>
                <a:gs pos="0">
                  <a:srgbClr val="edb9b1"/>
                </a:gs>
                <a:gs pos="100000">
                  <a:srgbClr val="ca20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00360" y="1953360"/>
              <a:ext cx="1440000" cy="618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  <a:effectLst>
              <a:outerShdw dist="17819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Concept</a:t>
              </a:r>
              <a:endParaRPr b="0" lang="en-US" sz="2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468360" y="1295280"/>
            <a:ext cx="1439640" cy="1440000"/>
            <a:chOff x="468360" y="1295280"/>
            <a:chExt cx="1439640" cy="1440000"/>
          </a:xfrm>
        </p:grpSpPr>
        <p:sp>
          <p:nvSpPr>
            <p:cNvPr id="330" name=""/>
            <p:cNvSpPr/>
            <p:nvPr/>
          </p:nvSpPr>
          <p:spPr>
            <a:xfrm>
              <a:off x="468360" y="1295280"/>
              <a:ext cx="1439640" cy="1440000"/>
            </a:xfrm>
            <a:prstGeom prst="ellipse">
              <a:avLst/>
            </a:prstGeom>
            <a:solidFill>
              <a:srgbClr val="dd37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00040" y="1320840"/>
              <a:ext cx="1370520" cy="1370880"/>
            </a:xfrm>
            <a:prstGeom prst="donut">
              <a:avLst>
                <a:gd name="adj" fmla="val 18810"/>
              </a:avLst>
            </a:prstGeom>
            <a:gradFill rotWithShape="0">
              <a:gsLst>
                <a:gs pos="0">
                  <a:srgbClr val="f3c0b3"/>
                </a:gs>
                <a:gs pos="100000">
                  <a:srgbClr val="dd37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68360" y="1666080"/>
              <a:ext cx="1439640" cy="618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  <a:effectLst>
              <a:outerShdw dist="17819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Concept</a:t>
              </a:r>
              <a:endParaRPr b="0" lang="en-US" sz="2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4968720" y="4968720"/>
            <a:ext cx="1908000" cy="1008000"/>
            <a:chOff x="4968720" y="4968720"/>
            <a:chExt cx="1908000" cy="1008000"/>
          </a:xfrm>
        </p:grpSpPr>
        <p:sp>
          <p:nvSpPr>
            <p:cNvPr id="334" name="未知"/>
            <p:cNvSpPr/>
            <p:nvPr/>
          </p:nvSpPr>
          <p:spPr>
            <a:xfrm>
              <a:off x="4968720" y="5203800"/>
              <a:ext cx="1893960" cy="772920"/>
            </a:xfrm>
            <a:custGeom>
              <a:avLst/>
              <a:gdLst/>
              <a:ahLst/>
              <a:rect l="l" t="t" r="r" b="b"/>
              <a:pathLst>
                <a:path w="1854" h="756">
                  <a:moveTo>
                    <a:pt x="612" y="0"/>
                  </a:moveTo>
                  <a:lnTo>
                    <a:pt x="0" y="516"/>
                  </a:lnTo>
                  <a:lnTo>
                    <a:pt x="1272" y="756"/>
                  </a:lnTo>
                  <a:lnTo>
                    <a:pt x="1854" y="125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e76915"/>
            </a:solidFill>
            <a:ln w="1908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4976640" y="5084640"/>
              <a:ext cx="1892160" cy="772920"/>
            </a:xfrm>
            <a:custGeom>
              <a:avLst/>
              <a:gdLst/>
              <a:ahLst/>
              <a:rect l="l" t="t" r="r" b="b"/>
              <a:pathLst>
                <a:path w="1854" h="756">
                  <a:moveTo>
                    <a:pt x="612" y="0"/>
                  </a:moveTo>
                  <a:lnTo>
                    <a:pt x="0" y="516"/>
                  </a:lnTo>
                  <a:lnTo>
                    <a:pt x="1272" y="756"/>
                  </a:lnTo>
                  <a:lnTo>
                    <a:pt x="1854" y="125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e76915"/>
            </a:solidFill>
            <a:ln w="1908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4983120" y="4968720"/>
              <a:ext cx="1893600" cy="771480"/>
            </a:xfrm>
            <a:custGeom>
              <a:avLst/>
              <a:gdLst/>
              <a:ahLst/>
              <a:rect l="l" t="t" r="r" b="b"/>
              <a:pathLst>
                <a:path w="1854" h="756">
                  <a:moveTo>
                    <a:pt x="612" y="0"/>
                  </a:moveTo>
                  <a:lnTo>
                    <a:pt x="0" y="516"/>
                  </a:lnTo>
                  <a:lnTo>
                    <a:pt x="1272" y="756"/>
                  </a:lnTo>
                  <a:lnTo>
                    <a:pt x="1854" y="125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e76915"/>
            </a:solidFill>
            <a:ln w="1908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5045040" y="4998960"/>
              <a:ext cx="1774800" cy="712800"/>
            </a:xfrm>
            <a:custGeom>
              <a:avLst/>
              <a:gdLst/>
              <a:ahLst/>
              <a:rect l="l" t="t" r="r" b="b"/>
              <a:pathLst>
                <a:path w="1477" h="593">
                  <a:moveTo>
                    <a:pt x="477" y="0"/>
                  </a:moveTo>
                  <a:lnTo>
                    <a:pt x="0" y="399"/>
                  </a:lnTo>
                  <a:lnTo>
                    <a:pt x="1018" y="593"/>
                  </a:lnTo>
                  <a:lnTo>
                    <a:pt x="1477" y="98"/>
                  </a:lnTo>
                  <a:lnTo>
                    <a:pt x="477" y="0"/>
                  </a:lnTo>
                  <a:close/>
                </a:path>
              </a:pathLst>
            </a:custGeom>
            <a:gradFill rotWithShape="0">
              <a:gsLst>
                <a:gs pos="0">
                  <a:srgbClr val="e76915">
                    <a:alpha val="39215"/>
                  </a:srgbClr>
                </a:gs>
                <a:gs pos="100000">
                  <a:srgbClr val="f7d2b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03640" y="5087880"/>
              <a:ext cx="1873080" cy="475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Concept</a:t>
              </a:r>
              <a:endParaRPr b="0" lang="en-US" sz="2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2808360" y="4968720"/>
            <a:ext cx="1908000" cy="1008000"/>
            <a:chOff x="2808360" y="4968720"/>
            <a:chExt cx="1908000" cy="1008000"/>
          </a:xfrm>
        </p:grpSpPr>
        <p:sp>
          <p:nvSpPr>
            <p:cNvPr id="340" name="未知"/>
            <p:cNvSpPr/>
            <p:nvPr/>
          </p:nvSpPr>
          <p:spPr>
            <a:xfrm>
              <a:off x="2808360" y="5203800"/>
              <a:ext cx="1893960" cy="772920"/>
            </a:xfrm>
            <a:custGeom>
              <a:avLst/>
              <a:gdLst/>
              <a:ahLst/>
              <a:rect l="l" t="t" r="r" b="b"/>
              <a:pathLst>
                <a:path w="1854" h="756">
                  <a:moveTo>
                    <a:pt x="612" y="0"/>
                  </a:moveTo>
                  <a:lnTo>
                    <a:pt x="0" y="516"/>
                  </a:lnTo>
                  <a:lnTo>
                    <a:pt x="1272" y="756"/>
                  </a:lnTo>
                  <a:lnTo>
                    <a:pt x="1854" y="125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ca2008"/>
            </a:solidFill>
            <a:ln w="1908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2816280" y="5084640"/>
              <a:ext cx="1892160" cy="772920"/>
            </a:xfrm>
            <a:custGeom>
              <a:avLst/>
              <a:gdLst/>
              <a:ahLst/>
              <a:rect l="l" t="t" r="r" b="b"/>
              <a:pathLst>
                <a:path w="1854" h="756">
                  <a:moveTo>
                    <a:pt x="612" y="0"/>
                  </a:moveTo>
                  <a:lnTo>
                    <a:pt x="0" y="516"/>
                  </a:lnTo>
                  <a:lnTo>
                    <a:pt x="1272" y="756"/>
                  </a:lnTo>
                  <a:lnTo>
                    <a:pt x="1854" y="125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ca2008"/>
            </a:solidFill>
            <a:ln w="1908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2822760" y="4968720"/>
              <a:ext cx="1893600" cy="771480"/>
            </a:xfrm>
            <a:custGeom>
              <a:avLst/>
              <a:gdLst/>
              <a:ahLst/>
              <a:rect l="l" t="t" r="r" b="b"/>
              <a:pathLst>
                <a:path w="1854" h="756">
                  <a:moveTo>
                    <a:pt x="612" y="0"/>
                  </a:moveTo>
                  <a:lnTo>
                    <a:pt x="0" y="516"/>
                  </a:lnTo>
                  <a:lnTo>
                    <a:pt x="1272" y="756"/>
                  </a:lnTo>
                  <a:lnTo>
                    <a:pt x="1854" y="125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ca2008"/>
            </a:solidFill>
            <a:ln w="1908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2884680" y="4998960"/>
              <a:ext cx="1774800" cy="712800"/>
            </a:xfrm>
            <a:custGeom>
              <a:avLst/>
              <a:gdLst/>
              <a:ahLst/>
              <a:rect l="l" t="t" r="r" b="b"/>
              <a:pathLst>
                <a:path w="1477" h="593">
                  <a:moveTo>
                    <a:pt x="477" y="0"/>
                  </a:moveTo>
                  <a:lnTo>
                    <a:pt x="0" y="399"/>
                  </a:lnTo>
                  <a:lnTo>
                    <a:pt x="1018" y="593"/>
                  </a:lnTo>
                  <a:lnTo>
                    <a:pt x="1477" y="98"/>
                  </a:lnTo>
                  <a:lnTo>
                    <a:pt x="4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a2008">
                    <a:alpha val="39215"/>
                  </a:srgbClr>
                </a:gs>
                <a:gs pos="100000">
                  <a:srgbClr val="eebdb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43280" y="5087880"/>
              <a:ext cx="1873080" cy="475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Concept</a:t>
              </a:r>
              <a:endParaRPr b="0" lang="en-US" sz="2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47640" y="4968720"/>
            <a:ext cx="1908000" cy="1008000"/>
            <a:chOff x="647640" y="4968720"/>
            <a:chExt cx="1908000" cy="1008000"/>
          </a:xfrm>
        </p:grpSpPr>
        <p:sp>
          <p:nvSpPr>
            <p:cNvPr id="346" name="未知"/>
            <p:cNvSpPr/>
            <p:nvPr/>
          </p:nvSpPr>
          <p:spPr>
            <a:xfrm>
              <a:off x="647640" y="5203800"/>
              <a:ext cx="1893960" cy="772920"/>
            </a:xfrm>
            <a:custGeom>
              <a:avLst/>
              <a:gdLst/>
              <a:ahLst/>
              <a:rect l="l" t="t" r="r" b="b"/>
              <a:pathLst>
                <a:path w="1854" h="756">
                  <a:moveTo>
                    <a:pt x="612" y="0"/>
                  </a:moveTo>
                  <a:lnTo>
                    <a:pt x="0" y="516"/>
                  </a:lnTo>
                  <a:lnTo>
                    <a:pt x="1272" y="756"/>
                  </a:lnTo>
                  <a:lnTo>
                    <a:pt x="1854" y="125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dd370e"/>
            </a:solidFill>
            <a:ln w="1908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655560" y="5084640"/>
              <a:ext cx="1892160" cy="772920"/>
            </a:xfrm>
            <a:custGeom>
              <a:avLst/>
              <a:gdLst/>
              <a:ahLst/>
              <a:rect l="l" t="t" r="r" b="b"/>
              <a:pathLst>
                <a:path w="1854" h="756">
                  <a:moveTo>
                    <a:pt x="612" y="0"/>
                  </a:moveTo>
                  <a:lnTo>
                    <a:pt x="0" y="516"/>
                  </a:lnTo>
                  <a:lnTo>
                    <a:pt x="1272" y="756"/>
                  </a:lnTo>
                  <a:lnTo>
                    <a:pt x="1854" y="125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dd370e"/>
            </a:solidFill>
            <a:ln w="1908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662040" y="4968720"/>
              <a:ext cx="1893600" cy="771480"/>
            </a:xfrm>
            <a:custGeom>
              <a:avLst/>
              <a:gdLst/>
              <a:ahLst/>
              <a:rect l="l" t="t" r="r" b="b"/>
              <a:pathLst>
                <a:path w="1854" h="756">
                  <a:moveTo>
                    <a:pt x="612" y="0"/>
                  </a:moveTo>
                  <a:lnTo>
                    <a:pt x="0" y="516"/>
                  </a:lnTo>
                  <a:lnTo>
                    <a:pt x="1272" y="756"/>
                  </a:lnTo>
                  <a:lnTo>
                    <a:pt x="1854" y="125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dd370e"/>
            </a:solidFill>
            <a:ln w="1908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723960" y="4998960"/>
              <a:ext cx="1774800" cy="712800"/>
            </a:xfrm>
            <a:custGeom>
              <a:avLst/>
              <a:gdLst/>
              <a:ahLst/>
              <a:rect l="l" t="t" r="r" b="b"/>
              <a:pathLst>
                <a:path w="1477" h="593">
                  <a:moveTo>
                    <a:pt x="477" y="0"/>
                  </a:moveTo>
                  <a:lnTo>
                    <a:pt x="0" y="399"/>
                  </a:lnTo>
                  <a:lnTo>
                    <a:pt x="1018" y="593"/>
                  </a:lnTo>
                  <a:lnTo>
                    <a:pt x="1477" y="98"/>
                  </a:lnTo>
                  <a:lnTo>
                    <a:pt x="477" y="0"/>
                  </a:lnTo>
                  <a:close/>
                </a:path>
              </a:pathLst>
            </a:custGeom>
            <a:gradFill rotWithShape="0">
              <a:gsLst>
                <a:gs pos="0">
                  <a:srgbClr val="dd370e">
                    <a:alpha val="39215"/>
                  </a:srgbClr>
                </a:gs>
                <a:gs pos="100000">
                  <a:srgbClr val="f4c4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82560" y="5087880"/>
              <a:ext cx="1873080" cy="475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Concept</a:t>
              </a:r>
              <a:endParaRPr b="0" lang="en-US" sz="2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"/>
          <p:cNvGrpSpPr/>
          <p:nvPr/>
        </p:nvGrpSpPr>
        <p:grpSpPr>
          <a:xfrm>
            <a:off x="3492360" y="2976480"/>
            <a:ext cx="1162080" cy="1582920"/>
            <a:chOff x="3492360" y="2976480"/>
            <a:chExt cx="1162080" cy="1582920"/>
          </a:xfrm>
        </p:grpSpPr>
        <p:grpSp>
          <p:nvGrpSpPr>
            <p:cNvPr id="352" name=""/>
            <p:cNvGrpSpPr/>
            <p:nvPr/>
          </p:nvGrpSpPr>
          <p:grpSpPr>
            <a:xfrm>
              <a:off x="3915000" y="4242600"/>
              <a:ext cx="316800" cy="316800"/>
              <a:chOff x="3915000" y="4242600"/>
              <a:chExt cx="316800" cy="316800"/>
            </a:xfrm>
          </p:grpSpPr>
          <p:sp>
            <p:nvSpPr>
              <p:cNvPr id="353" name=""/>
              <p:cNvSpPr/>
              <p:nvPr/>
            </p:nvSpPr>
            <p:spPr>
              <a:xfrm rot="5400000">
                <a:off x="3915000" y="4242600"/>
                <a:ext cx="316800" cy="316800"/>
              </a:xfrm>
              <a:prstGeom prst="ellipse">
                <a:avLst/>
              </a:prstGeom>
              <a:solidFill>
                <a:srgbClr val="e76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5400000">
                <a:off x="3924720" y="4249440"/>
                <a:ext cx="301680" cy="301680"/>
              </a:xfrm>
              <a:prstGeom prst="donut">
                <a:avLst>
                  <a:gd name="adj" fmla="val 18810"/>
                </a:avLst>
              </a:prstGeom>
              <a:gradFill rotWithShape="0">
                <a:gsLst>
                  <a:gs pos="0">
                    <a:srgbClr val="f6cfb5"/>
                  </a:gs>
                  <a:gs pos="100000">
                    <a:srgbClr val="e7691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5400000">
                <a:off x="3923640" y="4332960"/>
                <a:ext cx="316800" cy="1360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 rot="5400000">
              <a:off x="4084200" y="3989520"/>
              <a:ext cx="401040" cy="401040"/>
            </a:xfrm>
            <a:custGeom>
              <a:avLst/>
              <a:gdLst>
                <a:gd name="textAreaLeft" fmla="*/ 115560 w 401040"/>
                <a:gd name="textAreaRight" fmla="*/ 285480 w 401040"/>
                <a:gd name="textAreaTop" fmla="*/ 115560 h 401040"/>
                <a:gd name="textAreaBottom" fmla="*/ 285480 h 40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95" y="0"/>
                  </a:moveTo>
                  <a:arcTo wR="8795" hR="8795" stAng="0" swAng="5400000"/>
                  <a:lnTo>
                    <a:pt x="0" y="12805"/>
                  </a:lnTo>
                  <a:arcTo wR="8795" hR="8795" stAng="16200000" swAng="5400000"/>
                  <a:lnTo>
                    <a:pt x="12805" y="21600"/>
                  </a:lnTo>
                  <a:arcTo wR="8795" hR="8795" stAng="10800000" swAng="5400000"/>
                  <a:lnTo>
                    <a:pt x="21600" y="8795"/>
                  </a:lnTo>
                  <a:arcTo wR="8795" hR="8795" stAng="5400000" swAng="5400000"/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4337280" y="4242600"/>
              <a:ext cx="316800" cy="316800"/>
              <a:chOff x="4337280" y="4242600"/>
              <a:chExt cx="316800" cy="316800"/>
            </a:xfrm>
          </p:grpSpPr>
          <p:sp>
            <p:nvSpPr>
              <p:cNvPr id="358" name=""/>
              <p:cNvSpPr/>
              <p:nvPr/>
            </p:nvSpPr>
            <p:spPr>
              <a:xfrm rot="5400000">
                <a:off x="4337280" y="4242600"/>
                <a:ext cx="316800" cy="316800"/>
              </a:xfrm>
              <a:prstGeom prst="ellipse">
                <a:avLst/>
              </a:prstGeom>
              <a:solidFill>
                <a:srgbClr val="ca2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5400000">
                <a:off x="4347000" y="4249440"/>
                <a:ext cx="301680" cy="301680"/>
              </a:xfrm>
              <a:prstGeom prst="donut">
                <a:avLst>
                  <a:gd name="adj" fmla="val 18810"/>
                </a:avLst>
              </a:prstGeom>
              <a:gradFill rotWithShape="0">
                <a:gsLst>
                  <a:gs pos="0">
                    <a:srgbClr val="edb9b1"/>
                  </a:gs>
                  <a:gs pos="100000">
                    <a:srgbClr val="ca200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5400000">
                <a:off x="4345920" y="4332960"/>
                <a:ext cx="316800" cy="1360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4337640" y="3820680"/>
              <a:ext cx="316800" cy="316800"/>
              <a:chOff x="4337640" y="3820680"/>
              <a:chExt cx="316800" cy="316800"/>
            </a:xfrm>
          </p:grpSpPr>
          <p:sp>
            <p:nvSpPr>
              <p:cNvPr id="362" name=""/>
              <p:cNvSpPr/>
              <p:nvPr/>
            </p:nvSpPr>
            <p:spPr>
              <a:xfrm rot="5400000">
                <a:off x="4337640" y="3820680"/>
                <a:ext cx="316800" cy="316800"/>
              </a:xfrm>
              <a:prstGeom prst="ellipse">
                <a:avLst/>
              </a:prstGeom>
              <a:solidFill>
                <a:srgbClr val="e64f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5400000">
                <a:off x="4347360" y="3827520"/>
                <a:ext cx="301680" cy="301680"/>
              </a:xfrm>
              <a:prstGeom prst="donut">
                <a:avLst>
                  <a:gd name="adj" fmla="val 18810"/>
                </a:avLst>
              </a:prstGeom>
              <a:gradFill rotWithShape="0">
                <a:gsLst>
                  <a:gs pos="0">
                    <a:srgbClr val="f6c7b5"/>
                  </a:gs>
                  <a:gs pos="100000">
                    <a:srgbClr val="e64f1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5400000">
                <a:off x="4346280" y="3911040"/>
                <a:ext cx="316800" cy="135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3915000" y="3820680"/>
              <a:ext cx="316800" cy="316800"/>
              <a:chOff x="3915000" y="3820680"/>
              <a:chExt cx="316800" cy="316800"/>
            </a:xfrm>
          </p:grpSpPr>
          <p:sp>
            <p:nvSpPr>
              <p:cNvPr id="366" name=""/>
              <p:cNvSpPr/>
              <p:nvPr/>
            </p:nvSpPr>
            <p:spPr>
              <a:xfrm rot="5400000">
                <a:off x="3915000" y="3820680"/>
                <a:ext cx="316800" cy="316800"/>
              </a:xfrm>
              <a:prstGeom prst="ellipse">
                <a:avLst/>
              </a:prstGeom>
              <a:solidFill>
                <a:srgbClr val="dd37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5400000">
                <a:off x="3924720" y="3827520"/>
                <a:ext cx="301680" cy="301680"/>
              </a:xfrm>
              <a:prstGeom prst="donut">
                <a:avLst>
                  <a:gd name="adj" fmla="val 18810"/>
                </a:avLst>
              </a:prstGeom>
              <a:gradFill rotWithShape="0">
                <a:gsLst>
                  <a:gs pos="0">
                    <a:srgbClr val="f3c0b3"/>
                  </a:gs>
                  <a:gs pos="100000">
                    <a:srgbClr val="dd370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5400000">
                <a:off x="3923640" y="3911040"/>
                <a:ext cx="316800" cy="135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 rot="5400000">
              <a:off x="4084200" y="3567240"/>
              <a:ext cx="401040" cy="401040"/>
            </a:xfrm>
            <a:custGeom>
              <a:avLst/>
              <a:gdLst>
                <a:gd name="textAreaLeft" fmla="*/ 115560 w 401040"/>
                <a:gd name="textAreaRight" fmla="*/ 285480 w 401040"/>
                <a:gd name="textAreaTop" fmla="*/ 115560 h 401040"/>
                <a:gd name="textAreaBottom" fmla="*/ 285480 h 40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95" y="0"/>
                  </a:moveTo>
                  <a:arcTo wR="8795" hR="8795" stAng="0" swAng="5400000"/>
                  <a:lnTo>
                    <a:pt x="0" y="12805"/>
                  </a:lnTo>
                  <a:arcTo wR="8795" hR="8795" stAng="16200000" swAng="5400000"/>
                  <a:lnTo>
                    <a:pt x="12805" y="21600"/>
                  </a:lnTo>
                  <a:arcTo wR="8795" hR="8795" stAng="10800000" swAng="5400000"/>
                  <a:lnTo>
                    <a:pt x="21600" y="8795"/>
                  </a:lnTo>
                  <a:arcTo wR="8795" hR="8795" stAng="5400000" swAng="5400000"/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5400000">
              <a:off x="4084200" y="3144960"/>
              <a:ext cx="400680" cy="401040"/>
            </a:xfrm>
            <a:custGeom>
              <a:avLst/>
              <a:gdLst>
                <a:gd name="textAreaLeft" fmla="*/ 115200 w 400680"/>
                <a:gd name="textAreaRight" fmla="*/ 285480 w 400680"/>
                <a:gd name="textAreaTop" fmla="*/ 115200 h 401040"/>
                <a:gd name="textAreaBottom" fmla="*/ 285840 h 401040"/>
              </a:gdLst>
              <a:ahLst/>
              <a:rect l="textAreaLeft" t="textAreaTop" r="textAreaRight" b="textAreaBottom"/>
              <a:pathLst>
                <a:path w="21600" h="21619">
                  <a:moveTo>
                    <a:pt x="8795" y="0"/>
                  </a:moveTo>
                  <a:arcTo wR="8795" hR="8795" stAng="0" swAng="5400000"/>
                  <a:lnTo>
                    <a:pt x="0" y="12824"/>
                  </a:lnTo>
                  <a:arcTo wR="8795" hR="8795" stAng="16200000" swAng="5400000"/>
                  <a:lnTo>
                    <a:pt x="12805" y="21619"/>
                  </a:lnTo>
                  <a:arcTo wR="8795" hR="8795" stAng="10800000" swAng="5400000"/>
                  <a:lnTo>
                    <a:pt x="21600" y="8795"/>
                  </a:lnTo>
                  <a:arcTo wR="8795" hR="8795" stAng="5400000" swAng="5400000"/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4337280" y="3398760"/>
              <a:ext cx="316800" cy="316800"/>
              <a:chOff x="4337280" y="3398760"/>
              <a:chExt cx="316800" cy="316800"/>
            </a:xfrm>
          </p:grpSpPr>
          <p:sp>
            <p:nvSpPr>
              <p:cNvPr id="372" name=""/>
              <p:cNvSpPr/>
              <p:nvPr/>
            </p:nvSpPr>
            <p:spPr>
              <a:xfrm rot="5400000">
                <a:off x="4337280" y="3398760"/>
                <a:ext cx="316800" cy="316800"/>
              </a:xfrm>
              <a:prstGeom prst="ellipse">
                <a:avLst/>
              </a:prstGeom>
              <a:solidFill>
                <a:srgbClr val="e76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5400000">
                <a:off x="4347000" y="3405600"/>
                <a:ext cx="301680" cy="301680"/>
              </a:xfrm>
              <a:prstGeom prst="donut">
                <a:avLst>
                  <a:gd name="adj" fmla="val 18810"/>
                </a:avLst>
              </a:prstGeom>
              <a:gradFill rotWithShape="0">
                <a:gsLst>
                  <a:gs pos="0">
                    <a:srgbClr val="f6cfb5"/>
                  </a:gs>
                  <a:gs pos="100000">
                    <a:srgbClr val="e7691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5400000">
                <a:off x="4345920" y="3489120"/>
                <a:ext cx="316800" cy="1360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3915000" y="2976480"/>
              <a:ext cx="316800" cy="316800"/>
              <a:chOff x="3915000" y="2976480"/>
              <a:chExt cx="316800" cy="316800"/>
            </a:xfrm>
          </p:grpSpPr>
          <p:sp>
            <p:nvSpPr>
              <p:cNvPr id="376" name=""/>
              <p:cNvSpPr/>
              <p:nvPr/>
            </p:nvSpPr>
            <p:spPr>
              <a:xfrm rot="5400000">
                <a:off x="3915000" y="2976480"/>
                <a:ext cx="316800" cy="316800"/>
              </a:xfrm>
              <a:prstGeom prst="ellipse">
                <a:avLst/>
              </a:prstGeom>
              <a:solidFill>
                <a:srgbClr val="ca2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5400000">
                <a:off x="3924720" y="2983320"/>
                <a:ext cx="301680" cy="301680"/>
              </a:xfrm>
              <a:prstGeom prst="donut">
                <a:avLst>
                  <a:gd name="adj" fmla="val 18810"/>
                </a:avLst>
              </a:prstGeom>
              <a:gradFill rotWithShape="0">
                <a:gsLst>
                  <a:gs pos="0">
                    <a:srgbClr val="edb9b1"/>
                  </a:gs>
                  <a:gs pos="100000">
                    <a:srgbClr val="ca200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5400000">
                <a:off x="3923640" y="3066840"/>
                <a:ext cx="316800" cy="1360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4337280" y="2976480"/>
              <a:ext cx="316800" cy="316800"/>
              <a:chOff x="4337280" y="2976480"/>
              <a:chExt cx="316800" cy="316800"/>
            </a:xfrm>
          </p:grpSpPr>
          <p:sp>
            <p:nvSpPr>
              <p:cNvPr id="380" name=""/>
              <p:cNvSpPr/>
              <p:nvPr/>
            </p:nvSpPr>
            <p:spPr>
              <a:xfrm rot="5400000">
                <a:off x="4337280" y="2976480"/>
                <a:ext cx="316800" cy="316800"/>
              </a:xfrm>
              <a:prstGeom prst="ellipse">
                <a:avLst/>
              </a:prstGeom>
              <a:solidFill>
                <a:srgbClr val="dd37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5400000">
                <a:off x="4347000" y="2983320"/>
                <a:ext cx="301680" cy="301680"/>
              </a:xfrm>
              <a:prstGeom prst="donut">
                <a:avLst>
                  <a:gd name="adj" fmla="val 18810"/>
                </a:avLst>
              </a:prstGeom>
              <a:gradFill rotWithShape="0">
                <a:gsLst>
                  <a:gs pos="0">
                    <a:srgbClr val="f3c0b3"/>
                  </a:gs>
                  <a:gs pos="100000">
                    <a:srgbClr val="dd370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5400000">
                <a:off x="4345920" y="3066840"/>
                <a:ext cx="316800" cy="135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3915000" y="3398760"/>
              <a:ext cx="316800" cy="316800"/>
              <a:chOff x="3915000" y="3398760"/>
              <a:chExt cx="316800" cy="316800"/>
            </a:xfrm>
          </p:grpSpPr>
          <p:sp>
            <p:nvSpPr>
              <p:cNvPr id="384" name=""/>
              <p:cNvSpPr/>
              <p:nvPr/>
            </p:nvSpPr>
            <p:spPr>
              <a:xfrm rot="5400000">
                <a:off x="3915000" y="3398760"/>
                <a:ext cx="316800" cy="316800"/>
              </a:xfrm>
              <a:prstGeom prst="ellipse">
                <a:avLst/>
              </a:prstGeom>
              <a:solidFill>
                <a:srgbClr val="e64f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5400000">
                <a:off x="3924720" y="3405600"/>
                <a:ext cx="301680" cy="301680"/>
              </a:xfrm>
              <a:prstGeom prst="donut">
                <a:avLst>
                  <a:gd name="adj" fmla="val 18810"/>
                </a:avLst>
              </a:prstGeom>
              <a:gradFill rotWithShape="0">
                <a:gsLst>
                  <a:gs pos="0">
                    <a:srgbClr val="f6c7b5"/>
                  </a:gs>
                  <a:gs pos="100000">
                    <a:srgbClr val="e64f1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5400000">
                <a:off x="3923640" y="3489120"/>
                <a:ext cx="316800" cy="135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3492360" y="2976840"/>
              <a:ext cx="316800" cy="316800"/>
              <a:chOff x="3492360" y="2976840"/>
              <a:chExt cx="316800" cy="316800"/>
            </a:xfrm>
          </p:grpSpPr>
          <p:sp>
            <p:nvSpPr>
              <p:cNvPr id="388" name=""/>
              <p:cNvSpPr/>
              <p:nvPr/>
            </p:nvSpPr>
            <p:spPr>
              <a:xfrm rot="5400000">
                <a:off x="3492360" y="2976840"/>
                <a:ext cx="316800" cy="316800"/>
              </a:xfrm>
              <a:prstGeom prst="ellipse">
                <a:avLst/>
              </a:prstGeom>
              <a:solidFill>
                <a:srgbClr val="e76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5400000">
                <a:off x="3502080" y="2983680"/>
                <a:ext cx="301680" cy="301680"/>
              </a:xfrm>
              <a:prstGeom prst="donut">
                <a:avLst>
                  <a:gd name="adj" fmla="val 18810"/>
                </a:avLst>
              </a:prstGeom>
              <a:gradFill rotWithShape="0">
                <a:gsLst>
                  <a:gs pos="0">
                    <a:srgbClr val="f6cfb5"/>
                  </a:gs>
                  <a:gs pos="100000">
                    <a:srgbClr val="e7691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5400000">
                <a:off x="3501000" y="3067200"/>
                <a:ext cx="316800" cy="1360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 rot="5400000">
              <a:off x="3661920" y="3989880"/>
              <a:ext cx="400680" cy="401040"/>
            </a:xfrm>
            <a:custGeom>
              <a:avLst/>
              <a:gdLst>
                <a:gd name="textAreaLeft" fmla="*/ 115200 w 400680"/>
                <a:gd name="textAreaRight" fmla="*/ 285480 w 400680"/>
                <a:gd name="textAreaTop" fmla="*/ 115200 h 401040"/>
                <a:gd name="textAreaBottom" fmla="*/ 285840 h 401040"/>
              </a:gdLst>
              <a:ahLst/>
              <a:rect l="textAreaLeft" t="textAreaTop" r="textAreaRight" b="textAreaBottom"/>
              <a:pathLst>
                <a:path w="21600" h="21619">
                  <a:moveTo>
                    <a:pt x="8795" y="0"/>
                  </a:moveTo>
                  <a:arcTo wR="8795" hR="8795" stAng="0" swAng="5400000"/>
                  <a:lnTo>
                    <a:pt x="0" y="12824"/>
                  </a:lnTo>
                  <a:arcTo wR="8795" hR="8795" stAng="16200000" swAng="5400000"/>
                  <a:lnTo>
                    <a:pt x="12805" y="21619"/>
                  </a:lnTo>
                  <a:arcTo wR="8795" hR="8795" stAng="10800000" swAng="5400000"/>
                  <a:lnTo>
                    <a:pt x="21600" y="8795"/>
                  </a:lnTo>
                  <a:arcTo wR="8795" hR="8795" stAng="5400000" swAng="5400000"/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492360" y="3398760"/>
              <a:ext cx="316800" cy="316800"/>
              <a:chOff x="3492360" y="3398760"/>
              <a:chExt cx="316800" cy="316800"/>
            </a:xfrm>
          </p:grpSpPr>
          <p:sp>
            <p:nvSpPr>
              <p:cNvPr id="393" name=""/>
              <p:cNvSpPr/>
              <p:nvPr/>
            </p:nvSpPr>
            <p:spPr>
              <a:xfrm rot="5400000">
                <a:off x="3492360" y="3398760"/>
                <a:ext cx="316800" cy="316800"/>
              </a:xfrm>
              <a:prstGeom prst="ellipse">
                <a:avLst/>
              </a:prstGeom>
              <a:solidFill>
                <a:srgbClr val="dd37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5400000">
                <a:off x="3502080" y="3405600"/>
                <a:ext cx="301680" cy="301680"/>
              </a:xfrm>
              <a:prstGeom prst="donut">
                <a:avLst>
                  <a:gd name="adj" fmla="val 18810"/>
                </a:avLst>
              </a:prstGeom>
              <a:gradFill rotWithShape="0">
                <a:gsLst>
                  <a:gs pos="0">
                    <a:srgbClr val="f3c0b3"/>
                  </a:gs>
                  <a:gs pos="100000">
                    <a:srgbClr val="dd370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5400000">
                <a:off x="3501000" y="3489120"/>
                <a:ext cx="316800" cy="135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 rot="5400000">
              <a:off x="3661920" y="3567240"/>
              <a:ext cx="400680" cy="401040"/>
            </a:xfrm>
            <a:custGeom>
              <a:avLst/>
              <a:gdLst>
                <a:gd name="textAreaLeft" fmla="*/ 115200 w 400680"/>
                <a:gd name="textAreaRight" fmla="*/ 285480 w 400680"/>
                <a:gd name="textAreaTop" fmla="*/ 115200 h 401040"/>
                <a:gd name="textAreaBottom" fmla="*/ 285840 h 401040"/>
              </a:gdLst>
              <a:ahLst/>
              <a:rect l="textAreaLeft" t="textAreaTop" r="textAreaRight" b="textAreaBottom"/>
              <a:pathLst>
                <a:path w="21600" h="21619">
                  <a:moveTo>
                    <a:pt x="8795" y="0"/>
                  </a:moveTo>
                  <a:arcTo wR="8795" hR="8795" stAng="0" swAng="5400000"/>
                  <a:lnTo>
                    <a:pt x="0" y="12824"/>
                  </a:lnTo>
                  <a:arcTo wR="8795" hR="8795" stAng="16200000" swAng="5400000"/>
                  <a:lnTo>
                    <a:pt x="12805" y="21619"/>
                  </a:lnTo>
                  <a:arcTo wR="8795" hR="8795" stAng="10800000" swAng="5400000"/>
                  <a:lnTo>
                    <a:pt x="21600" y="8795"/>
                  </a:lnTo>
                  <a:arcTo wR="8795" hR="8795" stAng="5400000" swAng="5400000"/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5400000">
              <a:off x="3661920" y="3145320"/>
              <a:ext cx="400680" cy="401040"/>
            </a:xfrm>
            <a:custGeom>
              <a:avLst/>
              <a:gdLst>
                <a:gd name="textAreaLeft" fmla="*/ 115200 w 400680"/>
                <a:gd name="textAreaRight" fmla="*/ 285480 w 400680"/>
                <a:gd name="textAreaTop" fmla="*/ 115200 h 401040"/>
                <a:gd name="textAreaBottom" fmla="*/ 285840 h 401040"/>
              </a:gdLst>
              <a:ahLst/>
              <a:rect l="textAreaLeft" t="textAreaTop" r="textAreaRight" b="textAreaBottom"/>
              <a:pathLst>
                <a:path w="21600" h="21619">
                  <a:moveTo>
                    <a:pt x="8795" y="0"/>
                  </a:moveTo>
                  <a:arcTo wR="8795" hR="8795" stAng="0" swAng="5400000"/>
                  <a:lnTo>
                    <a:pt x="0" y="12824"/>
                  </a:lnTo>
                  <a:arcTo wR="8795" hR="8795" stAng="16200000" swAng="5400000"/>
                  <a:lnTo>
                    <a:pt x="12805" y="21619"/>
                  </a:lnTo>
                  <a:arcTo wR="8795" hR="8795" stAng="10800000" swAng="5400000"/>
                  <a:lnTo>
                    <a:pt x="21600" y="8795"/>
                  </a:lnTo>
                  <a:arcTo wR="8795" hR="8795" stAng="5400000" swAng="5400000"/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3492360" y="4242600"/>
              <a:ext cx="316800" cy="316800"/>
              <a:chOff x="3492360" y="4242600"/>
              <a:chExt cx="316800" cy="316800"/>
            </a:xfrm>
          </p:grpSpPr>
          <p:sp>
            <p:nvSpPr>
              <p:cNvPr id="399" name=""/>
              <p:cNvSpPr/>
              <p:nvPr/>
            </p:nvSpPr>
            <p:spPr>
              <a:xfrm rot="5400000">
                <a:off x="3492360" y="4242600"/>
                <a:ext cx="316800" cy="316800"/>
              </a:xfrm>
              <a:prstGeom prst="ellipse">
                <a:avLst/>
              </a:prstGeom>
              <a:solidFill>
                <a:srgbClr val="ca2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5400000">
                <a:off x="3502080" y="4249440"/>
                <a:ext cx="301680" cy="301680"/>
              </a:xfrm>
              <a:prstGeom prst="donut">
                <a:avLst>
                  <a:gd name="adj" fmla="val 18810"/>
                </a:avLst>
              </a:prstGeom>
              <a:gradFill rotWithShape="0">
                <a:gsLst>
                  <a:gs pos="0">
                    <a:srgbClr val="edb9b1"/>
                  </a:gs>
                  <a:gs pos="100000">
                    <a:srgbClr val="ca200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5400000">
                <a:off x="3501000" y="4332960"/>
                <a:ext cx="316800" cy="1360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3492360" y="3820680"/>
              <a:ext cx="316800" cy="316800"/>
              <a:chOff x="3492360" y="3820680"/>
              <a:chExt cx="316800" cy="316800"/>
            </a:xfrm>
          </p:grpSpPr>
          <p:sp>
            <p:nvSpPr>
              <p:cNvPr id="403" name=""/>
              <p:cNvSpPr/>
              <p:nvPr/>
            </p:nvSpPr>
            <p:spPr>
              <a:xfrm rot="5400000">
                <a:off x="3492360" y="3820680"/>
                <a:ext cx="316800" cy="316800"/>
              </a:xfrm>
              <a:prstGeom prst="ellipse">
                <a:avLst/>
              </a:prstGeom>
              <a:solidFill>
                <a:srgbClr val="e64f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5400000">
                <a:off x="3502080" y="3827520"/>
                <a:ext cx="301680" cy="301680"/>
              </a:xfrm>
              <a:prstGeom prst="donut">
                <a:avLst>
                  <a:gd name="adj" fmla="val 18810"/>
                </a:avLst>
              </a:prstGeom>
              <a:gradFill rotWithShape="0">
                <a:gsLst>
                  <a:gs pos="0">
                    <a:srgbClr val="f6c7b5"/>
                  </a:gs>
                  <a:gs pos="100000">
                    <a:srgbClr val="e64f1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5400000">
                <a:off x="3501000" y="3911040"/>
                <a:ext cx="316800" cy="135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406" name=""/>
          <p:cNvGrpSpPr/>
          <p:nvPr/>
        </p:nvGrpSpPr>
        <p:grpSpPr>
          <a:xfrm>
            <a:off x="610920" y="2975040"/>
            <a:ext cx="1163160" cy="1585800"/>
            <a:chOff x="610920" y="2975040"/>
            <a:chExt cx="1163160" cy="1585800"/>
          </a:xfrm>
        </p:grpSpPr>
        <p:sp>
          <p:nvSpPr>
            <p:cNvPr id="407" name=""/>
            <p:cNvSpPr/>
            <p:nvPr/>
          </p:nvSpPr>
          <p:spPr>
            <a:xfrm rot="5400000">
              <a:off x="1205640" y="3991680"/>
              <a:ext cx="402120" cy="402840"/>
            </a:xfrm>
            <a:custGeom>
              <a:avLst/>
              <a:gdLst>
                <a:gd name="textAreaLeft" fmla="*/ 115560 w 402120"/>
                <a:gd name="textAreaRight" fmla="*/ 286560 w 402120"/>
                <a:gd name="textAreaTop" fmla="*/ 115560 h 402840"/>
                <a:gd name="textAreaBottom" fmla="*/ 287280 h 402840"/>
              </a:gdLst>
              <a:ahLst/>
              <a:rect l="textAreaLeft" t="textAreaTop" r="textAreaRight" b="textAreaBottom"/>
              <a:pathLst>
                <a:path w="21600" h="21639">
                  <a:moveTo>
                    <a:pt x="8795" y="0"/>
                  </a:moveTo>
                  <a:arcTo wR="8795" hR="8795" stAng="0" swAng="5400000"/>
                  <a:lnTo>
                    <a:pt x="0" y="12844"/>
                  </a:lnTo>
                  <a:arcTo wR="8795" hR="8795" stAng="16200000" swAng="5400000"/>
                  <a:lnTo>
                    <a:pt x="12805" y="21639"/>
                  </a:lnTo>
                  <a:arcTo wR="8795" hR="8795" stAng="10800000" swAng="5400000"/>
                  <a:lnTo>
                    <a:pt x="21600" y="8795"/>
                  </a:lnTo>
                  <a:arcTo wR="8795" hR="8795" stAng="5400000" swAng="5400000"/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1456200" y="4242960"/>
              <a:ext cx="317880" cy="317880"/>
              <a:chOff x="1456200" y="4242960"/>
              <a:chExt cx="317880" cy="317880"/>
            </a:xfrm>
          </p:grpSpPr>
          <p:sp>
            <p:nvSpPr>
              <p:cNvPr id="409" name=""/>
              <p:cNvSpPr/>
              <p:nvPr/>
            </p:nvSpPr>
            <p:spPr>
              <a:xfrm rot="5400000">
                <a:off x="1456200" y="4242960"/>
                <a:ext cx="317880" cy="317880"/>
              </a:xfrm>
              <a:prstGeom prst="ellipse">
                <a:avLst/>
              </a:prstGeom>
              <a:solidFill>
                <a:srgbClr val="e64f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5400000">
                <a:off x="1465920" y="4249800"/>
                <a:ext cx="302760" cy="302760"/>
              </a:xfrm>
              <a:prstGeom prst="donut">
                <a:avLst>
                  <a:gd name="adj" fmla="val 18810"/>
                </a:avLst>
              </a:prstGeom>
              <a:gradFill rotWithShape="0">
                <a:gsLst>
                  <a:gs pos="0">
                    <a:srgbClr val="f6c7b5"/>
                  </a:gs>
                  <a:gs pos="100000">
                    <a:srgbClr val="e64f1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5400000">
                <a:off x="1465200" y="4333680"/>
                <a:ext cx="317880" cy="13644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1032120" y="3818880"/>
              <a:ext cx="317880" cy="317880"/>
              <a:chOff x="1032120" y="3818880"/>
              <a:chExt cx="317880" cy="317880"/>
            </a:xfrm>
          </p:grpSpPr>
          <p:sp>
            <p:nvSpPr>
              <p:cNvPr id="413" name=""/>
              <p:cNvSpPr/>
              <p:nvPr/>
            </p:nvSpPr>
            <p:spPr>
              <a:xfrm rot="5400000">
                <a:off x="1032120" y="3818880"/>
                <a:ext cx="317880" cy="317880"/>
              </a:xfrm>
              <a:prstGeom prst="ellipse">
                <a:avLst/>
              </a:prstGeom>
              <a:solidFill>
                <a:srgbClr val="dd37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5400000">
                <a:off x="1041840" y="3825720"/>
                <a:ext cx="302760" cy="302760"/>
              </a:xfrm>
              <a:prstGeom prst="donut">
                <a:avLst>
                  <a:gd name="adj" fmla="val 18810"/>
                </a:avLst>
              </a:prstGeom>
              <a:gradFill rotWithShape="0">
                <a:gsLst>
                  <a:gs pos="0">
                    <a:srgbClr val="f3c0b3"/>
                  </a:gs>
                  <a:gs pos="100000">
                    <a:srgbClr val="dd370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5400000">
                <a:off x="1041120" y="3909600"/>
                <a:ext cx="317880" cy="1360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 rot="5400000">
              <a:off x="1205280" y="3567600"/>
              <a:ext cx="402480" cy="402840"/>
            </a:xfrm>
            <a:custGeom>
              <a:avLst/>
              <a:gdLst>
                <a:gd name="textAreaLeft" fmla="*/ 115920 w 402480"/>
                <a:gd name="textAreaRight" fmla="*/ 286560 w 402480"/>
                <a:gd name="textAreaTop" fmla="*/ 115920 h 402840"/>
                <a:gd name="textAreaBottom" fmla="*/ 286920 h 402840"/>
              </a:gdLst>
              <a:ahLst/>
              <a:rect l="textAreaLeft" t="textAreaTop" r="textAreaRight" b="textAreaBottom"/>
              <a:pathLst>
                <a:path w="21600" h="21619">
                  <a:moveTo>
                    <a:pt x="8795" y="0"/>
                  </a:moveTo>
                  <a:arcTo wR="8795" hR="8795" stAng="0" swAng="5400000"/>
                  <a:lnTo>
                    <a:pt x="0" y="12824"/>
                  </a:lnTo>
                  <a:arcTo wR="8795" hR="8795" stAng="16200000" swAng="5400000"/>
                  <a:lnTo>
                    <a:pt x="12805" y="21619"/>
                  </a:lnTo>
                  <a:arcTo wR="8795" hR="8795" stAng="10800000" swAng="5400000"/>
                  <a:lnTo>
                    <a:pt x="21600" y="8795"/>
                  </a:lnTo>
                  <a:arcTo wR="8795" hR="8795" stAng="5400000" swAng="5400000"/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5400000">
              <a:off x="1205280" y="3143520"/>
              <a:ext cx="402480" cy="402840"/>
            </a:xfrm>
            <a:custGeom>
              <a:avLst/>
              <a:gdLst>
                <a:gd name="textAreaLeft" fmla="*/ 115920 w 402480"/>
                <a:gd name="textAreaRight" fmla="*/ 286560 w 402480"/>
                <a:gd name="textAreaTop" fmla="*/ 115920 h 402840"/>
                <a:gd name="textAreaBottom" fmla="*/ 286920 h 402840"/>
              </a:gdLst>
              <a:ahLst/>
              <a:rect l="textAreaLeft" t="textAreaTop" r="textAreaRight" b="textAreaBottom"/>
              <a:pathLst>
                <a:path w="21600" h="21619">
                  <a:moveTo>
                    <a:pt x="8795" y="0"/>
                  </a:moveTo>
                  <a:arcTo wR="8795" hR="8795" stAng="0" swAng="5400000"/>
                  <a:lnTo>
                    <a:pt x="0" y="12824"/>
                  </a:lnTo>
                  <a:arcTo wR="8795" hR="8795" stAng="16200000" swAng="5400000"/>
                  <a:lnTo>
                    <a:pt x="12805" y="21619"/>
                  </a:lnTo>
                  <a:arcTo wR="8795" hR="8795" stAng="10800000" swAng="5400000"/>
                  <a:lnTo>
                    <a:pt x="21600" y="8795"/>
                  </a:lnTo>
                  <a:arcTo wR="8795" hR="8795" stAng="5400000" swAng="5400000"/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1456200" y="3395880"/>
              <a:ext cx="317880" cy="317880"/>
              <a:chOff x="1456200" y="3395880"/>
              <a:chExt cx="317880" cy="317880"/>
            </a:xfrm>
          </p:grpSpPr>
          <p:sp>
            <p:nvSpPr>
              <p:cNvPr id="419" name=""/>
              <p:cNvSpPr/>
              <p:nvPr/>
            </p:nvSpPr>
            <p:spPr>
              <a:xfrm rot="5400000">
                <a:off x="1456200" y="3395880"/>
                <a:ext cx="317880" cy="317880"/>
              </a:xfrm>
              <a:prstGeom prst="ellipse">
                <a:avLst/>
              </a:prstGeom>
              <a:solidFill>
                <a:srgbClr val="e76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5400000">
                <a:off x="1465920" y="3402720"/>
                <a:ext cx="302760" cy="302760"/>
              </a:xfrm>
              <a:prstGeom prst="donut">
                <a:avLst>
                  <a:gd name="adj" fmla="val 18810"/>
                </a:avLst>
              </a:prstGeom>
              <a:gradFill rotWithShape="0">
                <a:gsLst>
                  <a:gs pos="0">
                    <a:srgbClr val="f6cfb5"/>
                  </a:gs>
                  <a:gs pos="100000">
                    <a:srgbClr val="e7691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5400000">
                <a:off x="1465200" y="3486600"/>
                <a:ext cx="317880" cy="13644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1032120" y="2975040"/>
              <a:ext cx="317880" cy="317880"/>
              <a:chOff x="1032120" y="2975040"/>
              <a:chExt cx="317880" cy="317880"/>
            </a:xfrm>
          </p:grpSpPr>
          <p:sp>
            <p:nvSpPr>
              <p:cNvPr id="423" name=""/>
              <p:cNvSpPr/>
              <p:nvPr/>
            </p:nvSpPr>
            <p:spPr>
              <a:xfrm rot="5400000">
                <a:off x="1032120" y="2975040"/>
                <a:ext cx="317880" cy="317880"/>
              </a:xfrm>
              <a:prstGeom prst="ellipse">
                <a:avLst/>
              </a:prstGeom>
              <a:solidFill>
                <a:srgbClr val="ca2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5400000">
                <a:off x="1041840" y="2981880"/>
                <a:ext cx="302760" cy="302760"/>
              </a:xfrm>
              <a:prstGeom prst="donut">
                <a:avLst>
                  <a:gd name="adj" fmla="val 18810"/>
                </a:avLst>
              </a:prstGeom>
              <a:gradFill rotWithShape="0">
                <a:gsLst>
                  <a:gs pos="0">
                    <a:srgbClr val="edb9b1"/>
                  </a:gs>
                  <a:gs pos="100000">
                    <a:srgbClr val="ca200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5400000">
                <a:off x="1041120" y="3065760"/>
                <a:ext cx="317880" cy="13644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 rot="5400000">
              <a:off x="782280" y="3991680"/>
              <a:ext cx="402120" cy="402840"/>
            </a:xfrm>
            <a:custGeom>
              <a:avLst/>
              <a:gdLst>
                <a:gd name="textAreaLeft" fmla="*/ 115560 w 402120"/>
                <a:gd name="textAreaRight" fmla="*/ 286560 w 402120"/>
                <a:gd name="textAreaTop" fmla="*/ 115560 h 402840"/>
                <a:gd name="textAreaBottom" fmla="*/ 287280 h 402840"/>
              </a:gdLst>
              <a:ahLst/>
              <a:rect l="textAreaLeft" t="textAreaTop" r="textAreaRight" b="textAreaBottom"/>
              <a:pathLst>
                <a:path w="21600" h="21639">
                  <a:moveTo>
                    <a:pt x="8795" y="0"/>
                  </a:moveTo>
                  <a:arcTo wR="8795" hR="8795" stAng="0" swAng="5400000"/>
                  <a:lnTo>
                    <a:pt x="0" y="12844"/>
                  </a:lnTo>
                  <a:arcTo wR="8795" hR="8795" stAng="16200000" swAng="5400000"/>
                  <a:lnTo>
                    <a:pt x="12805" y="21639"/>
                  </a:lnTo>
                  <a:arcTo wR="8795" hR="8795" stAng="10800000" swAng="5400000"/>
                  <a:lnTo>
                    <a:pt x="21600" y="8795"/>
                  </a:lnTo>
                  <a:arcTo wR="8795" hR="8795" stAng="5400000" swAng="5400000"/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610920" y="3395880"/>
              <a:ext cx="317880" cy="317880"/>
              <a:chOff x="610920" y="3395880"/>
              <a:chExt cx="317880" cy="317880"/>
            </a:xfrm>
          </p:grpSpPr>
          <p:sp>
            <p:nvSpPr>
              <p:cNvPr id="428" name=""/>
              <p:cNvSpPr/>
              <p:nvPr/>
            </p:nvSpPr>
            <p:spPr>
              <a:xfrm rot="5400000">
                <a:off x="610920" y="3395880"/>
                <a:ext cx="317880" cy="317880"/>
              </a:xfrm>
              <a:prstGeom prst="ellipse">
                <a:avLst/>
              </a:prstGeom>
              <a:solidFill>
                <a:srgbClr val="dd37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5400000">
                <a:off x="620640" y="3402720"/>
                <a:ext cx="302760" cy="302760"/>
              </a:xfrm>
              <a:prstGeom prst="donut">
                <a:avLst>
                  <a:gd name="adj" fmla="val 18810"/>
                </a:avLst>
              </a:prstGeom>
              <a:gradFill rotWithShape="0">
                <a:gsLst>
                  <a:gs pos="0">
                    <a:srgbClr val="f3c0b3"/>
                  </a:gs>
                  <a:gs pos="100000">
                    <a:srgbClr val="dd370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rot="5400000">
                <a:off x="619920" y="3486600"/>
                <a:ext cx="317880" cy="1360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 rot="5400000">
              <a:off x="781920" y="3567600"/>
              <a:ext cx="402480" cy="402840"/>
            </a:xfrm>
            <a:custGeom>
              <a:avLst/>
              <a:gdLst>
                <a:gd name="textAreaLeft" fmla="*/ 115920 w 402480"/>
                <a:gd name="textAreaRight" fmla="*/ 286560 w 402480"/>
                <a:gd name="textAreaTop" fmla="*/ 115920 h 402840"/>
                <a:gd name="textAreaBottom" fmla="*/ 286920 h 402840"/>
              </a:gdLst>
              <a:ahLst/>
              <a:rect l="textAreaLeft" t="textAreaTop" r="textAreaRight" b="textAreaBottom"/>
              <a:pathLst>
                <a:path w="21600" h="21619">
                  <a:moveTo>
                    <a:pt x="8795" y="0"/>
                  </a:moveTo>
                  <a:arcTo wR="8795" hR="8795" stAng="0" swAng="5400000"/>
                  <a:lnTo>
                    <a:pt x="0" y="12824"/>
                  </a:lnTo>
                  <a:arcTo wR="8795" hR="8795" stAng="16200000" swAng="5400000"/>
                  <a:lnTo>
                    <a:pt x="12805" y="21619"/>
                  </a:lnTo>
                  <a:arcTo wR="8795" hR="8795" stAng="10800000" swAng="5400000"/>
                  <a:lnTo>
                    <a:pt x="21600" y="8795"/>
                  </a:lnTo>
                  <a:arcTo wR="8795" hR="8795" stAng="5400000" swAng="5400000"/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5400000">
              <a:off x="782280" y="3144600"/>
              <a:ext cx="402120" cy="402840"/>
            </a:xfrm>
            <a:custGeom>
              <a:avLst/>
              <a:gdLst>
                <a:gd name="textAreaLeft" fmla="*/ 115560 w 402120"/>
                <a:gd name="textAreaRight" fmla="*/ 286560 w 402120"/>
                <a:gd name="textAreaTop" fmla="*/ 115560 h 402840"/>
                <a:gd name="textAreaBottom" fmla="*/ 287280 h 402840"/>
              </a:gdLst>
              <a:ahLst/>
              <a:rect l="textAreaLeft" t="textAreaTop" r="textAreaRight" b="textAreaBottom"/>
              <a:pathLst>
                <a:path w="21600" h="21639">
                  <a:moveTo>
                    <a:pt x="8795" y="0"/>
                  </a:moveTo>
                  <a:arcTo wR="8795" hR="8795" stAng="0" swAng="5400000"/>
                  <a:lnTo>
                    <a:pt x="0" y="12844"/>
                  </a:lnTo>
                  <a:arcTo wR="8795" hR="8795" stAng="16200000" swAng="5400000"/>
                  <a:lnTo>
                    <a:pt x="12805" y="21639"/>
                  </a:lnTo>
                  <a:arcTo wR="8795" hR="8795" stAng="10800000" swAng="5400000"/>
                  <a:lnTo>
                    <a:pt x="21600" y="8795"/>
                  </a:lnTo>
                  <a:arcTo wR="8795" hR="8795" stAng="5400000" swAng="5400000"/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610920" y="4242960"/>
              <a:ext cx="317880" cy="317880"/>
              <a:chOff x="610920" y="4242960"/>
              <a:chExt cx="317880" cy="317880"/>
            </a:xfrm>
          </p:grpSpPr>
          <p:sp>
            <p:nvSpPr>
              <p:cNvPr id="434" name=""/>
              <p:cNvSpPr/>
              <p:nvPr/>
            </p:nvSpPr>
            <p:spPr>
              <a:xfrm rot="5400000">
                <a:off x="610920" y="4242960"/>
                <a:ext cx="317880" cy="317880"/>
              </a:xfrm>
              <a:prstGeom prst="ellipse">
                <a:avLst/>
              </a:prstGeom>
              <a:solidFill>
                <a:srgbClr val="ca2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5400000">
                <a:off x="620640" y="4249800"/>
                <a:ext cx="302760" cy="302760"/>
              </a:xfrm>
              <a:prstGeom prst="donut">
                <a:avLst>
                  <a:gd name="adj" fmla="val 18810"/>
                </a:avLst>
              </a:prstGeom>
              <a:gradFill rotWithShape="0">
                <a:gsLst>
                  <a:gs pos="0">
                    <a:srgbClr val="edb9b1"/>
                  </a:gs>
                  <a:gs pos="100000">
                    <a:srgbClr val="ca200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5400000">
                <a:off x="619920" y="4333680"/>
                <a:ext cx="317880" cy="13644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437" name=""/>
          <p:cNvGrpSpPr/>
          <p:nvPr/>
        </p:nvGrpSpPr>
        <p:grpSpPr>
          <a:xfrm>
            <a:off x="1904400" y="3116880"/>
            <a:ext cx="1478520" cy="1138680"/>
            <a:chOff x="1904400" y="3116880"/>
            <a:chExt cx="1478520" cy="1138680"/>
          </a:xfrm>
        </p:grpSpPr>
        <p:sp>
          <p:nvSpPr>
            <p:cNvPr id="438" name=""/>
            <p:cNvSpPr/>
            <p:nvPr/>
          </p:nvSpPr>
          <p:spPr>
            <a:xfrm rot="5388600">
              <a:off x="2076840" y="2948400"/>
              <a:ext cx="1133640" cy="1474920"/>
            </a:xfrm>
            <a:prstGeom prst="upArrow">
              <a:avLst>
                <a:gd name="adj1" fmla="val 56778"/>
                <a:gd name="adj2" fmla="val 49397"/>
              </a:avLst>
            </a:prstGeom>
            <a:noFill/>
            <a:ln w="442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5388600">
              <a:off x="2464920" y="3628800"/>
              <a:ext cx="453960" cy="1126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cfcfc"/>
                </a:gs>
              </a:gsLst>
              <a:lin ang="18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5388600">
              <a:off x="2294280" y="3628800"/>
              <a:ext cx="454320" cy="11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0f0f0"/>
                </a:gs>
              </a:gsLst>
              <a:lin ang="18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5388600">
              <a:off x="2124360" y="3630240"/>
              <a:ext cx="453960" cy="1126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e3e3e3"/>
                </a:gs>
              </a:gsLst>
              <a:lin ang="18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5388600">
              <a:off x="1955520" y="3630600"/>
              <a:ext cx="453960" cy="1126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343434"/>
                </a:gs>
              </a:gsLst>
              <a:lin ang="18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5388600">
              <a:off x="2748240" y="3563280"/>
              <a:ext cx="454320" cy="227160"/>
            </a:xfrm>
            <a:prstGeom prst="triangle">
              <a:avLst>
                <a:gd name="adj" fmla="val 50000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5388600">
              <a:off x="2786400" y="3582360"/>
              <a:ext cx="381240" cy="190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f9f9f9"/>
                </a:gs>
              </a:gsLst>
              <a:lin ang="558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5388600">
              <a:off x="2856600" y="3624840"/>
              <a:ext cx="214560" cy="106560"/>
            </a:xfrm>
            <a:prstGeom prst="triangle">
              <a:avLst>
                <a:gd name="adj" fmla="val 50000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6445080" y="3000240"/>
            <a:ext cx="2158920" cy="1608120"/>
            <a:chOff x="6445080" y="3000240"/>
            <a:chExt cx="2158920" cy="1608120"/>
          </a:xfrm>
        </p:grpSpPr>
        <p:sp>
          <p:nvSpPr>
            <p:cNvPr id="447" name="未知"/>
            <p:cNvSpPr/>
            <p:nvPr/>
          </p:nvSpPr>
          <p:spPr>
            <a:xfrm>
              <a:off x="6445080" y="3736800"/>
              <a:ext cx="2135160" cy="871560"/>
            </a:xfrm>
            <a:custGeom>
              <a:avLst/>
              <a:gdLst/>
              <a:ahLst/>
              <a:rect l="l" t="t" r="r" b="b"/>
              <a:pathLst>
                <a:path w="1854" h="756">
                  <a:moveTo>
                    <a:pt x="612" y="0"/>
                  </a:moveTo>
                  <a:lnTo>
                    <a:pt x="0" y="516"/>
                  </a:lnTo>
                  <a:lnTo>
                    <a:pt x="1272" y="756"/>
                  </a:lnTo>
                  <a:lnTo>
                    <a:pt x="1854" y="125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e64f13"/>
            </a:solidFill>
            <a:ln w="1908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48" name="未知"/>
            <p:cNvSpPr/>
            <p:nvPr/>
          </p:nvSpPr>
          <p:spPr>
            <a:xfrm>
              <a:off x="6445080" y="3614760"/>
              <a:ext cx="2135160" cy="869760"/>
            </a:xfrm>
            <a:custGeom>
              <a:avLst/>
              <a:gdLst/>
              <a:ahLst/>
              <a:rect l="l" t="t" r="r" b="b"/>
              <a:pathLst>
                <a:path w="1854" h="756">
                  <a:moveTo>
                    <a:pt x="612" y="0"/>
                  </a:moveTo>
                  <a:lnTo>
                    <a:pt x="0" y="516"/>
                  </a:lnTo>
                  <a:lnTo>
                    <a:pt x="1272" y="756"/>
                  </a:lnTo>
                  <a:lnTo>
                    <a:pt x="1854" y="125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e76915"/>
            </a:solidFill>
            <a:ln w="1908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49" name="未知"/>
            <p:cNvSpPr/>
            <p:nvPr/>
          </p:nvSpPr>
          <p:spPr>
            <a:xfrm>
              <a:off x="6468840" y="3481200"/>
              <a:ext cx="2135160" cy="871560"/>
            </a:xfrm>
            <a:custGeom>
              <a:avLst/>
              <a:gdLst/>
              <a:ahLst/>
              <a:rect l="l" t="t" r="r" b="b"/>
              <a:pathLst>
                <a:path w="1854" h="756">
                  <a:moveTo>
                    <a:pt x="612" y="0"/>
                  </a:moveTo>
                  <a:lnTo>
                    <a:pt x="0" y="516"/>
                  </a:lnTo>
                  <a:lnTo>
                    <a:pt x="1272" y="756"/>
                  </a:lnTo>
                  <a:lnTo>
                    <a:pt x="1854" y="125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ca2008"/>
            </a:solidFill>
            <a:ln w="1908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6460920" y="3368520"/>
              <a:ext cx="2135160" cy="870120"/>
            </a:xfrm>
            <a:custGeom>
              <a:avLst/>
              <a:gdLst/>
              <a:ahLst/>
              <a:rect l="l" t="t" r="r" b="b"/>
              <a:pathLst>
                <a:path w="1854" h="756">
                  <a:moveTo>
                    <a:pt x="612" y="0"/>
                  </a:moveTo>
                  <a:lnTo>
                    <a:pt x="0" y="516"/>
                  </a:lnTo>
                  <a:lnTo>
                    <a:pt x="1272" y="756"/>
                  </a:lnTo>
                  <a:lnTo>
                    <a:pt x="1854" y="125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dd370e"/>
            </a:solidFill>
            <a:ln w="1908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6445080" y="3244680"/>
              <a:ext cx="2135160" cy="870120"/>
            </a:xfrm>
            <a:custGeom>
              <a:avLst/>
              <a:gdLst/>
              <a:ahLst/>
              <a:rect l="l" t="t" r="r" b="b"/>
              <a:pathLst>
                <a:path w="1854" h="756">
                  <a:moveTo>
                    <a:pt x="612" y="0"/>
                  </a:moveTo>
                  <a:lnTo>
                    <a:pt x="0" y="516"/>
                  </a:lnTo>
                  <a:lnTo>
                    <a:pt x="1272" y="756"/>
                  </a:lnTo>
                  <a:lnTo>
                    <a:pt x="1854" y="125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e64f13"/>
            </a:solidFill>
            <a:ln w="1908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6460920" y="3124080"/>
              <a:ext cx="2135160" cy="869760"/>
            </a:xfrm>
            <a:custGeom>
              <a:avLst/>
              <a:gdLst/>
              <a:ahLst/>
              <a:rect l="l" t="t" r="r" b="b"/>
              <a:pathLst>
                <a:path w="1854" h="756">
                  <a:moveTo>
                    <a:pt x="612" y="0"/>
                  </a:moveTo>
                  <a:lnTo>
                    <a:pt x="0" y="516"/>
                  </a:lnTo>
                  <a:lnTo>
                    <a:pt x="1272" y="756"/>
                  </a:lnTo>
                  <a:lnTo>
                    <a:pt x="1854" y="125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e64f13"/>
            </a:solidFill>
            <a:ln w="1908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6460920" y="3000240"/>
              <a:ext cx="2135160" cy="871560"/>
            </a:xfrm>
            <a:custGeom>
              <a:avLst/>
              <a:gdLst/>
              <a:ahLst/>
              <a:rect l="l" t="t" r="r" b="b"/>
              <a:pathLst>
                <a:path w="1854" h="756">
                  <a:moveTo>
                    <a:pt x="612" y="0"/>
                  </a:moveTo>
                  <a:lnTo>
                    <a:pt x="0" y="516"/>
                  </a:lnTo>
                  <a:lnTo>
                    <a:pt x="1272" y="756"/>
                  </a:lnTo>
                  <a:lnTo>
                    <a:pt x="1854" y="125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e76915"/>
            </a:solidFill>
            <a:ln w="1908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6516360" y="3033720"/>
              <a:ext cx="2019600" cy="814320"/>
            </a:xfrm>
            <a:custGeom>
              <a:avLst/>
              <a:gdLst/>
              <a:ahLst/>
              <a:rect l="l" t="t" r="r" b="b"/>
              <a:pathLst>
                <a:path w="1491" h="601">
                  <a:moveTo>
                    <a:pt x="486" y="0"/>
                  </a:moveTo>
                  <a:lnTo>
                    <a:pt x="0" y="409"/>
                  </a:lnTo>
                  <a:lnTo>
                    <a:pt x="1031" y="601"/>
                  </a:lnTo>
                  <a:lnTo>
                    <a:pt x="1491" y="104"/>
                  </a:lnTo>
                  <a:lnTo>
                    <a:pt x="486" y="0"/>
                  </a:lnTo>
                  <a:close/>
                </a:path>
              </a:pathLst>
            </a:custGeom>
            <a:gradFill rotWithShape="0">
              <a:gsLst>
                <a:gs pos="0">
                  <a:srgbClr val="e76915">
                    <a:alpha val="39215"/>
                  </a:srgbClr>
                </a:gs>
                <a:gs pos="100000">
                  <a:srgbClr val="f7d2b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445080" y="3168360"/>
              <a:ext cx="215892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  <a:ea typeface="Gulim"/>
                </a:rPr>
                <a:t>Concept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4822200" y="3116880"/>
            <a:ext cx="1478520" cy="1138680"/>
            <a:chOff x="4822200" y="3116880"/>
            <a:chExt cx="1478520" cy="1138680"/>
          </a:xfrm>
        </p:grpSpPr>
        <p:sp>
          <p:nvSpPr>
            <p:cNvPr id="457" name=""/>
            <p:cNvSpPr/>
            <p:nvPr/>
          </p:nvSpPr>
          <p:spPr>
            <a:xfrm rot="5388600">
              <a:off x="4994640" y="2948400"/>
              <a:ext cx="1133640" cy="1474920"/>
            </a:xfrm>
            <a:prstGeom prst="upArrow">
              <a:avLst>
                <a:gd name="adj1" fmla="val 56778"/>
                <a:gd name="adj2" fmla="val 49397"/>
              </a:avLst>
            </a:prstGeom>
            <a:noFill/>
            <a:ln w="442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5388600">
              <a:off x="5382720" y="3628800"/>
              <a:ext cx="453960" cy="1126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cfcfc"/>
                </a:gs>
              </a:gsLst>
              <a:lin ang="18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5388600">
              <a:off x="5212080" y="3628800"/>
              <a:ext cx="454320" cy="11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0f0f0"/>
                </a:gs>
              </a:gsLst>
              <a:lin ang="18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5388600">
              <a:off x="5042160" y="3630240"/>
              <a:ext cx="453960" cy="1126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e3e3e3"/>
                </a:gs>
              </a:gsLst>
              <a:lin ang="18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5388600">
              <a:off x="4873320" y="3630600"/>
              <a:ext cx="453960" cy="1126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343434"/>
                </a:gs>
              </a:gsLst>
              <a:lin ang="18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5388600">
              <a:off x="5666040" y="3563280"/>
              <a:ext cx="454320" cy="227160"/>
            </a:xfrm>
            <a:prstGeom prst="triangle">
              <a:avLst>
                <a:gd name="adj" fmla="val 50000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5388600">
              <a:off x="5704200" y="3582360"/>
              <a:ext cx="381240" cy="190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f9f9f9"/>
                </a:gs>
              </a:gsLst>
              <a:lin ang="558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5388600">
              <a:off x="5774400" y="3624840"/>
              <a:ext cx="214560" cy="106560"/>
            </a:xfrm>
            <a:prstGeom prst="triangle">
              <a:avLst>
                <a:gd name="adj" fmla="val 50000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65" name=""/>
          <p:cNvSpPr/>
          <p:nvPr/>
        </p:nvSpPr>
        <p:spPr>
          <a:xfrm rot="16200000">
            <a:off x="4088880" y="581040"/>
            <a:ext cx="60696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  <a:ea typeface="Gulim"/>
              </a:rPr>
              <a:t>Add title tex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919760" y="4295880"/>
            <a:ext cx="130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4d4d4d"/>
                </a:solidFill>
                <a:latin typeface="Arial"/>
                <a:ea typeface="Gulim"/>
              </a:rPr>
              <a:t>Your Tex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039760" y="4295880"/>
            <a:ext cx="1308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4d4d4d"/>
                </a:solidFill>
                <a:latin typeface="Arial"/>
                <a:ea typeface="Gulim"/>
              </a:rPr>
              <a:t>Your Tex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3T11:49:11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3:54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