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5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6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6" name="Picture 17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8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24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6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5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8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34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5865840" y="36450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情人节主题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805440" y="6058080"/>
            <a:ext cx="2338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55520" y="836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黑色情人节节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0" y="3573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华文细黑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2852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28Z</dcterms:modified>
  <cp:revision>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