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828440" y="274284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Denmark"/>
              </a:rPr>
              <a:t>  </a:t>
            </a:r>
            <a:r>
              <a:rPr b="1" lang="en-US" sz="2400" spc="-1" strike="noStrike">
                <a:solidFill>
                  <a:srgbClr val="808080"/>
                </a:solidFill>
                <a:latin typeface="Denmark"/>
              </a:rPr>
              <a:t>YOUR</a:t>
            </a:r>
            <a:r>
              <a:rPr b="1" lang="en-US" sz="3200" spc="-1" strike="noStrike">
                <a:solidFill>
                  <a:srgbClr val="808080"/>
                </a:solidFill>
                <a:latin typeface="Denmark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Denmark"/>
              </a:rPr>
              <a:t>SUBTITLE</a:t>
            </a:r>
            <a:br>
              <a:rPr sz="3200"/>
            </a:br>
            <a:r>
              <a:rPr b="1" lang="en-US" sz="2400" spc="-1" strike="noStrike">
                <a:solidFill>
                  <a:srgbClr val="808080"/>
                </a:solidFill>
                <a:latin typeface="Denmark"/>
              </a:rPr>
              <a:t>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2057400"/>
            <a:ext cx="609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8080"/>
                </a:solidFill>
                <a:latin typeface="Denmark"/>
              </a:rPr>
              <a:t>Killer Shape Mak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624852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7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07840" y="12193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灰色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外国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Denmark"/>
              </a:rPr>
              <a:t>YOUR 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914400"/>
            <a:ext cx="6248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Denmark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37920" y="380880"/>
            <a:ext cx="403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Denmark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Denmark"/>
              </a:rPr>
              <a:t>YOUR TITLE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467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Denmark"/>
              </a:rPr>
              <a:t>YOUR SUBTOPIC GOES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05:03:39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2:04Z</dcterms:modified>
  <cp:revision>2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