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26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80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26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80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2081160" y="620640"/>
            <a:ext cx="60199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526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80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526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80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81160" y="620640"/>
            <a:ext cx="60199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c0c0c0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c60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081160" y="62064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33640" y="76320"/>
            <a:ext cx="828360" cy="857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90440" y="352440"/>
            <a:ext cx="1128600" cy="1185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120160" y="123840"/>
            <a:ext cx="757080" cy="795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09692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fefefe">
                  <a:alpha val="80000"/>
                </a:srgbClr>
              </a:gs>
              <a:gs pos="100000">
                <a:srgbClr val="c0c0c0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437000"/>
            <a:ext cx="9144000" cy="1728720"/>
          </a:xfrm>
          <a:prstGeom prst="rect">
            <a:avLst/>
          </a:prstGeom>
          <a:solidFill>
            <a:srgbClr val="c60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1628640"/>
            <a:ext cx="3529080" cy="3672000"/>
          </a:xfrm>
          <a:prstGeom prst="ellipse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260280"/>
            <a:ext cx="934920" cy="936720"/>
          </a:xfrm>
          <a:prstGeom prst="ellipse">
            <a:avLst/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2637000"/>
            <a:ext cx="1224000" cy="1223640"/>
          </a:xfrm>
          <a:prstGeom prst="ellipse">
            <a:avLst/>
          </a:prstGeom>
          <a:solidFill>
            <a:srgbClr val="c60a0a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2"/>
          </p:nvPr>
        </p:nvSpPr>
        <p:spPr>
          <a:xfrm>
            <a:off x="250920" y="6381360"/>
            <a:ext cx="2209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63040" y="628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266720" y="121932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60a0a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60a0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1628640"/>
            <a:ext cx="3490920" cy="3629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76200" y="277920"/>
            <a:ext cx="900360" cy="900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5960" y="3500280"/>
            <a:ext cx="1582920" cy="158292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81520" y="3521160"/>
            <a:ext cx="1533600" cy="15429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268280"/>
            <a:ext cx="1438200" cy="151128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0120" y="1287360"/>
            <a:ext cx="1419480" cy="14623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60a0a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c60a0a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93c052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http://www.sameshow.com/quiz-creator.html" TargetMode="External"/><Relationship Id="rId7" Type="http://schemas.openxmlformats.org/officeDocument/2006/relationships/image" Target="../media/image11.png"/><Relationship Id="rId8" Type="http://schemas.openxmlformats.org/officeDocument/2006/relationships/hyperlink" Target="http://www.sameshow.com/powerpoint-to-flash-pro.html" TargetMode="External"/><Relationship Id="rId9" Type="http://schemas.openxmlformats.org/officeDocument/2006/relationships/image" Target="../media/image12.png"/><Relationship Id="rId10" Type="http://schemas.openxmlformats.org/officeDocument/2006/relationships/hyperlink" Target="http://www.sameshow.com/download/powerpoint-to-flash-download.php" TargetMode="External"/><Relationship Id="rId11" Type="http://schemas.openxmlformats.org/officeDocument/2006/relationships/image" Target="../media/image13.png"/><Relationship Id="rId12" Type="http://schemas.openxmlformats.org/officeDocument/2006/relationships/hyperlink" Target="http://www.ppt-to-dvd.com/" TargetMode="External"/><Relationship Id="rId13" Type="http://schemas.openxmlformats.org/officeDocument/2006/relationships/image" Target="../media/image12.png"/><Relationship Id="rId14" Type="http://schemas.openxmlformats.org/officeDocument/2006/relationships/hyperlink" Target="http://www.ppt-to-dvd.com/download/powerpoint-dvd-download.php" TargetMode="External"/><Relationship Id="rId15" Type="http://schemas.openxmlformats.org/officeDocument/2006/relationships/image" Target="../media/image13.png"/><Relationship Id="rId16" Type="http://schemas.openxmlformats.org/officeDocument/2006/relationships/hyperlink" Target="http://www.sameshow.com/download/ppt2flash-download.php" TargetMode="External"/><Relationship Id="rId17" Type="http://schemas.openxmlformats.org/officeDocument/2006/relationships/image" Target="../media/image14.png"/><Relationship Id="rId18" Type="http://schemas.openxmlformats.org/officeDocument/2006/relationships/hyperlink" Target="http://www.sameshow.com/powerpoint-to-flash.html" TargetMode="External"/><Relationship Id="rId19" Type="http://schemas.openxmlformats.org/officeDocument/2006/relationships/image" Target="../media/image15.png"/><Relationship Id="rId20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hyperlink" Target="http://www.sameshow.com/powerpoint-to-flash-pro.php?sid=5" TargetMode="External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hyperlink" Target="http://www.ppt-to-dvd.com/index.php?sid=6" TargetMode="External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hyperlink" Target="http://www.sameshow.com/demo-creator.php?sid=6" TargetMode="External"/><Relationship Id="rId12" Type="http://schemas.openxmlformats.org/officeDocument/2006/relationships/image" Target="../media/image25.png"/><Relationship Id="rId13" Type="http://schemas.openxmlformats.org/officeDocument/2006/relationships/hyperlink" Target="http://www.sameshow.com/quiz-creator.php?sid=6" TargetMode="External"/><Relationship Id="rId14" Type="http://schemas.openxmlformats.org/officeDocument/2006/relationships/image" Target="../media/image26.png"/><Relationship Id="rId15" Type="http://schemas.openxmlformats.org/officeDocument/2006/relationships/hyperlink" Target="http://www.sameshow.com/powerpoint-to-flash.php?sid=4" TargetMode="External"/><Relationship Id="rId16" Type="http://schemas.openxmlformats.org/officeDocument/2006/relationships/hyperlink" Target="http://www.sameshow.com/demo-creator.php?sid=6" TargetMode="External"/><Relationship Id="rId17" Type="http://schemas.openxmlformats.org/officeDocument/2006/relationships/hyperlink" Target="http://www.ppt-to-dvd.com/index.html" TargetMode="External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66720" y="121932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1" lang="en-US" sz="4800" spc="-1" strike="noStrike">
                <a:solidFill>
                  <a:srgbClr val="c60a0a"/>
                </a:solidFill>
                <a:latin typeface="Arial"/>
                <a:ea typeface="宋体"/>
              </a:rPr>
              <a:t> </a:t>
            </a:r>
            <a:r>
              <a:rPr b="1" lang="en-US" sz="6000" spc="-1" strike="noStrike">
                <a:solidFill>
                  <a:srgbClr val="c60a0a"/>
                </a:solidFill>
                <a:latin typeface="Arial"/>
                <a:ea typeface="宋体"/>
              </a:rPr>
              <a:t>Template</a:t>
            </a:r>
            <a:endParaRPr b="1" lang="en-US" sz="6000" spc="-1" strike="noStrike">
              <a:solidFill>
                <a:srgbClr val="c60a0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5410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84240" y="11736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红色系国外精美圣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81160" y="62064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0280" y="1814040"/>
            <a:ext cx="7859880" cy="29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99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33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200"/>
            </a:br>
            <a:r>
              <a:rPr b="0" lang="en-US" sz="22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c60a0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60360" y="1270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900000" y="968400"/>
              <a:ext cx="792360" cy="10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900000" y="2705040"/>
              <a:ext cx="79236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900000" y="4365720"/>
              <a:ext cx="792360" cy="10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3564000" y="6021360"/>
              <a:ext cx="54720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393840" y="5877000"/>
              <a:ext cx="26654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762200" y="1042920"/>
              <a:ext cx="669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ff"/>
                  </a:solidFill>
                  <a:latin typeface="Arial"/>
                  <a:ea typeface="宋体"/>
                </a:rPr>
                <a:t>PPT2Flash Professional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more a comprehensive flash presentation tool with e-learning capability rather than a simple PowerPoint to Flash conversion too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364000" y="1844640"/>
              <a:ext cx="100044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6588000" y="1844640"/>
              <a:ext cx="1000080" cy="2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762200" y="2840040"/>
              <a:ext cx="669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  <a:ea typeface="宋体"/>
                </a:rPr>
                <a:t>PPT2Flash Standar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is your most trustied conversion tool to transform PowerPoint slideshow to Flash movie clip with all originals retained.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62200" y="4498920"/>
              <a:ext cx="669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ff"/>
                  </a:solidFill>
                  <a:latin typeface="Arial"/>
                  <a:ea typeface="宋体"/>
                </a:rPr>
                <a:t>PPT2DV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offers a direct conversion from PowerPoint presentations to videos which are ready for burning to DVD or viewing on PC without MS PowerPoint.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5364000" y="5340240"/>
              <a:ext cx="100044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6588000" y="5340240"/>
              <a:ext cx="100008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>
              <a:off x="6588000" y="3573360"/>
              <a:ext cx="100008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5364000" y="3573360"/>
              <a:ext cx="1000440" cy="24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-19080" y="85680"/>
            <a:ext cx="9096480" cy="71280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23"/>
          <p:cNvGrpSpPr/>
          <p:nvPr/>
        </p:nvGrpSpPr>
        <p:grpSpPr>
          <a:xfrm>
            <a:off x="228600" y="2666880"/>
            <a:ext cx="1905120" cy="1524240"/>
            <a:chOff x="228600" y="2666880"/>
            <a:chExt cx="1905120" cy="1524240"/>
          </a:xfrm>
        </p:grpSpPr>
        <p:sp>
          <p:nvSpPr>
            <p:cNvPr id="126" name="Rounded Rectangle 4"/>
            <p:cNvSpPr/>
            <p:nvPr/>
          </p:nvSpPr>
          <p:spPr>
            <a:xfrm>
              <a:off x="283320" y="2666880"/>
              <a:ext cx="1804320" cy="1524240"/>
            </a:xfrm>
            <a:prstGeom prst="roundRect">
              <a:avLst>
                <a:gd name="adj" fmla="val 16667"/>
              </a:avLst>
            </a:prstGeom>
            <a:blipFill rotWithShape="0">
              <a:blip r:embed="rId2">
                <a:alphaModFix amt="52000"/>
              </a:blip>
              <a:srcRect/>
              <a:stretch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TextBox 8" descr=""/>
            <p:cNvPicPr/>
            <p:nvPr/>
          </p:nvPicPr>
          <p:blipFill>
            <a:blip r:embed="rId3"/>
            <a:stretch/>
          </p:blipFill>
          <p:spPr>
            <a:xfrm>
              <a:off x="228600" y="2883240"/>
              <a:ext cx="1905120" cy="93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Right Arrow 9"/>
          <p:cNvSpPr/>
          <p:nvPr/>
        </p:nvSpPr>
        <p:spPr>
          <a:xfrm>
            <a:off x="2286000" y="1219320"/>
            <a:ext cx="380880" cy="7617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5"/>
          <p:cNvGrpSpPr/>
          <p:nvPr/>
        </p:nvGrpSpPr>
        <p:grpSpPr>
          <a:xfrm>
            <a:off x="2743200" y="914400"/>
            <a:ext cx="5867280" cy="1447920"/>
            <a:chOff x="2743200" y="914400"/>
            <a:chExt cx="5867280" cy="1447920"/>
          </a:xfrm>
        </p:grpSpPr>
        <p:grpSp>
          <p:nvGrpSpPr>
            <p:cNvPr id="130" name="Rounded Rectangle 7"/>
            <p:cNvGrpSpPr/>
            <p:nvPr/>
          </p:nvGrpSpPr>
          <p:grpSpPr>
            <a:xfrm>
              <a:off x="2743200" y="914400"/>
              <a:ext cx="5867280" cy="1447920"/>
              <a:chOff x="2743200" y="914400"/>
              <a:chExt cx="5867280" cy="1447920"/>
            </a:xfrm>
          </p:grpSpPr>
          <p:pic>
            <p:nvPicPr>
              <p:cNvPr id="131" name="Rounded Rectangle 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43200" y="914400"/>
                <a:ext cx="58672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2824200" y="991440"/>
                <a:ext cx="5218920" cy="12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24"/>
            <p:cNvGrpSpPr/>
            <p:nvPr/>
          </p:nvGrpSpPr>
          <p:grpSpPr>
            <a:xfrm>
              <a:off x="2914920" y="1022040"/>
              <a:ext cx="4984200" cy="1144800"/>
              <a:chOff x="2914920" y="1022040"/>
              <a:chExt cx="4984200" cy="1144800"/>
            </a:xfrm>
          </p:grpSpPr>
          <p:sp>
            <p:nvSpPr>
              <p:cNvPr id="134" name="TextBox 12"/>
              <p:cNvSpPr/>
              <p:nvPr/>
            </p:nvSpPr>
            <p:spPr>
              <a:xfrm>
                <a:off x="3870720" y="1022040"/>
                <a:ext cx="4028400" cy="11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Convert PowerPoint to flash for web sharing. Post your slide show on Myspace and blog. 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" name="Picture 14" descr="ppt2flash-pro.png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2914920" y="1067400"/>
                <a:ext cx="816840" cy="106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6" name="Right Arrow 10"/>
          <p:cNvSpPr/>
          <p:nvPr/>
        </p:nvSpPr>
        <p:spPr>
          <a:xfrm>
            <a:off x="2286000" y="4876920"/>
            <a:ext cx="380880" cy="7617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7"/>
          <p:cNvGrpSpPr/>
          <p:nvPr/>
        </p:nvGrpSpPr>
        <p:grpSpPr>
          <a:xfrm>
            <a:off x="2743200" y="4572000"/>
            <a:ext cx="5867280" cy="1447920"/>
            <a:chOff x="2743200" y="4572000"/>
            <a:chExt cx="5867280" cy="1447920"/>
          </a:xfrm>
        </p:grpSpPr>
        <p:grpSp>
          <p:nvGrpSpPr>
            <p:cNvPr id="138" name="Rounded Rectangle 6"/>
            <p:cNvGrpSpPr/>
            <p:nvPr/>
          </p:nvGrpSpPr>
          <p:grpSpPr>
            <a:xfrm>
              <a:off x="2743200" y="4572000"/>
              <a:ext cx="5867280" cy="1447920"/>
              <a:chOff x="2743200" y="4572000"/>
              <a:chExt cx="5867280" cy="1447920"/>
            </a:xfrm>
          </p:grpSpPr>
          <p:pic>
            <p:nvPicPr>
              <p:cNvPr id="139" name="Rounded Rectangle 6" descr=""/>
              <p:cNvPicPr/>
              <p:nvPr/>
            </p:nvPicPr>
            <p:blipFill>
              <a:blip r:embed="rId7"/>
              <a:stretch/>
            </p:blipFill>
            <p:spPr>
              <a:xfrm>
                <a:off x="2743200" y="4572000"/>
                <a:ext cx="58672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2824200" y="4649040"/>
                <a:ext cx="5218920" cy="12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Box 13"/>
            <p:cNvSpPr/>
            <p:nvPr/>
          </p:nvSpPr>
          <p:spPr>
            <a:xfrm>
              <a:off x="3789000" y="4714920"/>
              <a:ext cx="431856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Convert PowerPoint to video or burn to DVD. Present your slide show on TV to share with family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15" descr="ppt2dvd.png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2917440" y="4675320"/>
              <a:ext cx="811800" cy="106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Right Arrow 11"/>
          <p:cNvSpPr/>
          <p:nvPr/>
        </p:nvSpPr>
        <p:spPr>
          <a:xfrm>
            <a:off x="2286000" y="3048120"/>
            <a:ext cx="380880" cy="7617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26"/>
          <p:cNvGrpSpPr/>
          <p:nvPr/>
        </p:nvGrpSpPr>
        <p:grpSpPr>
          <a:xfrm>
            <a:off x="2743200" y="2743200"/>
            <a:ext cx="5867280" cy="1447920"/>
            <a:chOff x="2743200" y="2743200"/>
            <a:chExt cx="5867280" cy="1447920"/>
          </a:xfrm>
        </p:grpSpPr>
        <p:grpSp>
          <p:nvGrpSpPr>
            <p:cNvPr id="145" name="Rounded Rectangle 5"/>
            <p:cNvGrpSpPr/>
            <p:nvPr/>
          </p:nvGrpSpPr>
          <p:grpSpPr>
            <a:xfrm>
              <a:off x="2743200" y="2743200"/>
              <a:ext cx="5867280" cy="1447920"/>
              <a:chOff x="2743200" y="2743200"/>
              <a:chExt cx="5867280" cy="1447920"/>
            </a:xfrm>
          </p:grpSpPr>
          <p:pic>
            <p:nvPicPr>
              <p:cNvPr id="146" name="Rounded Rectangle 5" descr=""/>
              <p:cNvPicPr/>
              <p:nvPr/>
            </p:nvPicPr>
            <p:blipFill>
              <a:blip r:embed="rId10"/>
              <a:stretch/>
            </p:blipFill>
            <p:spPr>
              <a:xfrm>
                <a:off x="2743200" y="2743200"/>
                <a:ext cx="58672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2824200" y="2820240"/>
                <a:ext cx="5222520" cy="12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8" name="Picture 16" descr="democreator.png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2923920" y="2889720"/>
              <a:ext cx="696240" cy="91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7" descr="quizcreator.png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3627720" y="3083760"/>
              <a:ext cx="696240" cy="9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18"/>
            <p:cNvSpPr/>
            <p:nvPr/>
          </p:nvSpPr>
          <p:spPr>
            <a:xfrm>
              <a:off x="4431600" y="2863440"/>
              <a:ext cx="369144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flash-based quizzes and demo to slide show to interact with your audience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ounded Rectangle 28">
            <a:hlinkClick r:id="rId15"/>
          </p:cNvPr>
          <p:cNvSpPr/>
          <p:nvPr/>
        </p:nvSpPr>
        <p:spPr>
          <a:xfrm>
            <a:off x="7238880" y="18288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5e9cd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Learn Mo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le 29">
            <a:hlinkClick r:id="rId16"/>
          </p:cNvPr>
          <p:cNvSpPr/>
          <p:nvPr/>
        </p:nvSpPr>
        <p:spPr>
          <a:xfrm>
            <a:off x="7238880" y="36576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Learn Mo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30">
            <a:hlinkClick r:id="rId17"/>
          </p:cNvPr>
          <p:cNvSpPr/>
          <p:nvPr/>
        </p:nvSpPr>
        <p:spPr>
          <a:xfrm>
            <a:off x="7238880" y="550872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Learn Mo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08:14:2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55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