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946-E6D3-426A-97BA-D67482B9A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FE0C-18C1-4559-AF7B-3E9110D5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860-2F9E-43BD-AE1A-40E942DA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6A60-E513-48A6-A17B-06645437F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E7D0-ED80-4FA0-BB62-19D671151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CBDD9-01AA-48A7-A45F-98C74189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1ED1C-CCBD-4036-BFD6-E7968FED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EF786-245C-441E-AE38-240E3D05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DDECE-F5CA-4910-B786-DEB15DE0C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81871-6A43-4B09-B0E7-38851C2C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4223F-7E84-4291-892B-35D2E9C6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BF04-3C82-497E-916E-4EAF5A58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01EC-691B-4077-BC81-949ED22E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85918-6546-4150-AB90-41D1EFB4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49C9-52C3-4F9E-A100-781EFAAB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2AC60-B9FC-4B1A-8A6B-0F0DA386C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97A5-BDDB-4A9C-BB37-AE87F7AF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AA9A-EB33-481B-8CF8-8753994C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CD04-1C3C-4F46-830F-CFE1114A3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8BB-9626-451D-8557-E19224A10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13840"/>
            <a:ext cx="8229600" cy="270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A980-EE94-4D29-8EF5-6FBA2F6D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08B-E8F5-470C-92F9-D63C2E12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92BA-ACAC-4A67-BD56-90AD8BDF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D6A-8B22-47A1-9ED5-904B97DC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676A-4058-4D4D-B09F-2A227C6240C7}" type="slidenum">
              <a:rPr b="0" lang="zh-CN" sz="1200" spc="-1" strike="noStrike">
                <a:solidFill>
                  <a:srgbClr val="ffff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00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00"/>
                </a:solidFill>
                <a:latin typeface="华文细黑"/>
                <a:ea typeface="华文细黑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00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F01A-61A6-4634-BD95-483918785800}" type="slidenum">
              <a:rPr b="0" lang="zh-CN" sz="1200" spc="-1" strike="noStrike">
                <a:solidFill>
                  <a:srgbClr val="ffff00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9"/>
          <p:cNvSpPr/>
          <p:nvPr/>
        </p:nvSpPr>
        <p:spPr>
          <a:xfrm>
            <a:off x="3995640" y="2211480"/>
            <a:ext cx="4362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5500800" y="2925720"/>
            <a:ext cx="2768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c000"/>
                </a:solidFill>
                <a:latin typeface="Arial"/>
                <a:ea typeface="华康简综艺"/>
              </a:rPr>
              <a:t>ＷＷＷ．１ＰＰＴ．ＣＯ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82440" y="119700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红色喜庆适合新年使用的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ffff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ffff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ffff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ffff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88" name=""/>
          <p:cNvSpPr/>
          <p:nvPr/>
        </p:nvSpPr>
        <p:spPr>
          <a:xfrm>
            <a:off x="3060720" y="3333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使用规范说明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站点介绍：</a:t>
            </a:r>
            <a:endParaRPr b="0" lang="en-US" sz="14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华文细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特别说明：</a:t>
            </a:r>
            <a:endParaRPr b="0" lang="en-US" sz="14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华文细黑"/>
              </a:rPr>
              <a:t>栏目推荐：</a:t>
            </a:r>
            <a:endParaRPr b="0" lang="en-US" sz="14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e2d7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华文细黑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3A1B-159D-4482-AA17-25CC000A405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71960" y="2571840"/>
            <a:ext cx="3386160" cy="86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ffff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6T02:11:51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49Z</dcterms:modified>
  <cp:revision>3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