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762-7263-4B23-8A0C-D111400F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2B6-D57F-4C78-9149-442B59D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9D2-5E81-42F5-9FD4-5AB23E9C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6D7-1B1C-4E95-BD07-3285C5A0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932-746C-4F93-BCF0-2A40D0F5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76E-7D92-4F85-B9EE-9F4A63F8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E07-F3B5-4248-8D19-4FF0530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984-E8B0-47FE-AC22-7D916C4C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49A-560F-478F-BDC4-CDF8F913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38B-C949-44C6-9D48-7E9B4C4F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86E-4F7D-4285-B978-5314E90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66E-ED96-4159-B4B5-479EF9E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2EE-428D-4DA3-BEBB-474617BC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lour Abstract2grounds5 [转换]"/>
          <p:cNvPicPr/>
          <p:nvPr/>
        </p:nvPicPr>
        <p:blipFill>
          <a:blip r:embed="rId2"/>
          <a:srcRect l="0" t="273" r="0" b="11328"/>
          <a:stretch/>
        </p:blipFill>
        <p:spPr>
          <a:xfrm>
            <a:off x="0" y="15840"/>
            <a:ext cx="9148680" cy="512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3"/>
          <p:cNvGrpSpPr/>
          <p:nvPr/>
        </p:nvGrpSpPr>
        <p:grpSpPr>
          <a:xfrm>
            <a:off x="-11160" y="-19080"/>
            <a:ext cx="9155160" cy="5164200"/>
            <a:chOff x="-11160" y="-19080"/>
            <a:chExt cx="9155160" cy="5164200"/>
          </a:xfrm>
        </p:grpSpPr>
        <p:pic>
          <p:nvPicPr>
            <p:cNvPr id="43" name="Picture 4" descr="Colour Abstract Backgrounds5 [转换]"/>
            <p:cNvPicPr/>
            <p:nvPr/>
          </p:nvPicPr>
          <p:blipFill>
            <a:blip r:embed="rId1"/>
            <a:srcRect l="329" t="4706" r="0" b="4731"/>
            <a:stretch/>
          </p:blipFill>
          <p:spPr>
            <a:xfrm>
              <a:off x="-11160" y="-19080"/>
              <a:ext cx="915516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15"/>
            <p:cNvSpPr/>
            <p:nvPr/>
          </p:nvSpPr>
          <p:spPr>
            <a:xfrm>
              <a:off x="817560" y="4857840"/>
              <a:ext cx="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5"/>
          <p:cNvSpPr/>
          <p:nvPr/>
        </p:nvSpPr>
        <p:spPr>
          <a:xfrm>
            <a:off x="541440" y="779400"/>
            <a:ext cx="70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红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411280" y="1467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兰亭粗黑简体"/>
              </a:rPr>
              <a:t>单击添加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4734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olour Backgrounds5 [转换]"/>
          <p:cNvPicPr/>
          <p:nvPr/>
        </p:nvPicPr>
        <p:blipFill>
          <a:blip r:embed="rId1"/>
          <a:srcRect l="442" t="0" r="34223" b="34639"/>
          <a:stretch/>
        </p:blipFill>
        <p:spPr>
          <a:xfrm>
            <a:off x="0" y="-19080"/>
            <a:ext cx="9144000" cy="52513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ac9404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6920" y="773280"/>
            <a:ext cx="7345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1280" y="628560"/>
            <a:ext cx="784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DEE-0586-4266-8432-77A6ABCFB01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8" descr="Colour Abstract Backgrounds5 [转换]"/>
          <p:cNvPicPr/>
          <p:nvPr/>
        </p:nvPicPr>
        <p:blipFill>
          <a:blip r:embed="rId1"/>
          <a:srcRect l="1409" t="0" r="11489" b="32041"/>
          <a:stretch/>
        </p:blipFill>
        <p:spPr>
          <a:xfrm>
            <a:off x="22320" y="0"/>
            <a:ext cx="9121680" cy="51451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5"/>
          <p:cNvSpPr txBox="1"/>
          <p:nvPr/>
        </p:nvSpPr>
        <p:spPr>
          <a:xfrm>
            <a:off x="2843280" y="1773360"/>
            <a:ext cx="3382920" cy="101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e1c205"/>
                  </a:solidFill>
                  <a:miter/>
                </a:ln>
                <a:solidFill>
                  <a:srgbClr val="9e2d1e"/>
                </a:solidFill>
                <a:latin typeface="宋体"/>
              </a:rPr>
              <a:t>谢 谢 欣 赏</a:t>
            </a:r>
            <a:endParaRPr b="0" lang="en-US" sz="1800" spc="-1" strike="noStrike">
              <a:ln w="9360">
                <a:solidFill>
                  <a:srgbClr val="e1c205"/>
                </a:solidFill>
                <a:miter/>
              </a:ln>
              <a:solidFill>
                <a:srgbClr val="9e2d1e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0" descr="Clour Abstract Backgrounds5 [转换]"/>
          <p:cNvPicPr/>
          <p:nvPr/>
        </p:nvPicPr>
        <p:blipFill>
          <a:blip r:embed="rId1"/>
          <a:srcRect l="335" t="1924" r="11422" b="35738"/>
          <a:stretch/>
        </p:blipFill>
        <p:spPr>
          <a:xfrm>
            <a:off x="-42840" y="0"/>
            <a:ext cx="92106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7"/>
          <p:cNvGrpSpPr/>
          <p:nvPr/>
        </p:nvGrpSpPr>
        <p:grpSpPr>
          <a:xfrm>
            <a:off x="1116000" y="1563840"/>
            <a:ext cx="5759280" cy="542880"/>
            <a:chOff x="1116000" y="1563840"/>
            <a:chExt cx="5759280" cy="542880"/>
          </a:xfrm>
        </p:grpSpPr>
        <p:sp>
          <p:nvSpPr>
            <p:cNvPr id="50" name="AutoShape 51"/>
            <p:cNvSpPr/>
            <p:nvPr/>
          </p:nvSpPr>
          <p:spPr>
            <a:xfrm>
              <a:off x="1392480" y="1605960"/>
              <a:ext cx="5482800" cy="3488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AutoShape 3"/>
            <p:cNvGrpSpPr/>
            <p:nvPr/>
          </p:nvGrpSpPr>
          <p:grpSpPr>
            <a:xfrm>
              <a:off x="1116000" y="1563840"/>
              <a:ext cx="5546520" cy="542880"/>
              <a:chOff x="1116000" y="1563840"/>
              <a:chExt cx="5546520" cy="542880"/>
            </a:xfrm>
          </p:grpSpPr>
          <p:pic>
            <p:nvPicPr>
              <p:cNvPr id="5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1563840"/>
                <a:ext cx="55465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1202400" y="1667520"/>
                <a:ext cx="537552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56"/>
          <p:cNvGrpSpPr/>
          <p:nvPr/>
        </p:nvGrpSpPr>
        <p:grpSpPr>
          <a:xfrm>
            <a:off x="1116000" y="2284560"/>
            <a:ext cx="5759280" cy="542880"/>
            <a:chOff x="1116000" y="2284560"/>
            <a:chExt cx="5759280" cy="542880"/>
          </a:xfrm>
        </p:grpSpPr>
        <p:sp>
          <p:nvSpPr>
            <p:cNvPr id="55" name="AutoShape 52"/>
            <p:cNvSpPr/>
            <p:nvPr/>
          </p:nvSpPr>
          <p:spPr>
            <a:xfrm>
              <a:off x="1392480" y="2327400"/>
              <a:ext cx="5482800" cy="34596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AutoShape 3"/>
            <p:cNvGrpSpPr/>
            <p:nvPr/>
          </p:nvGrpSpPr>
          <p:grpSpPr>
            <a:xfrm>
              <a:off x="1116000" y="2284560"/>
              <a:ext cx="5546520" cy="542880"/>
              <a:chOff x="1116000" y="2284560"/>
              <a:chExt cx="5546520" cy="542880"/>
            </a:xfrm>
          </p:grpSpPr>
          <p:pic>
            <p:nvPicPr>
              <p:cNvPr id="5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00" y="2284560"/>
                <a:ext cx="55465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1202400" y="2388240"/>
                <a:ext cx="5375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58"/>
          <p:cNvGrpSpPr/>
          <p:nvPr/>
        </p:nvGrpSpPr>
        <p:grpSpPr>
          <a:xfrm>
            <a:off x="1117440" y="878040"/>
            <a:ext cx="5759280" cy="542880"/>
            <a:chOff x="1117440" y="878040"/>
            <a:chExt cx="5759280" cy="542880"/>
          </a:xfrm>
        </p:grpSpPr>
        <p:sp>
          <p:nvSpPr>
            <p:cNvPr id="60" name="AutoShape 59"/>
            <p:cNvSpPr/>
            <p:nvPr/>
          </p:nvSpPr>
          <p:spPr>
            <a:xfrm>
              <a:off x="1389600" y="921960"/>
              <a:ext cx="5487120" cy="34596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AutoShape 3"/>
            <p:cNvGrpSpPr/>
            <p:nvPr/>
          </p:nvGrpSpPr>
          <p:grpSpPr>
            <a:xfrm>
              <a:off x="1117440" y="878040"/>
              <a:ext cx="5544720" cy="542880"/>
              <a:chOff x="1117440" y="878040"/>
              <a:chExt cx="5544720" cy="542880"/>
            </a:xfrm>
          </p:grpSpPr>
          <p:pic>
            <p:nvPicPr>
              <p:cNvPr id="62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7440" y="878040"/>
                <a:ext cx="55447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199520" y="982800"/>
                <a:ext cx="5379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63"/>
          <p:cNvGrpSpPr/>
          <p:nvPr/>
        </p:nvGrpSpPr>
        <p:grpSpPr>
          <a:xfrm>
            <a:off x="1116000" y="3005280"/>
            <a:ext cx="5759280" cy="542880"/>
            <a:chOff x="1116000" y="3005280"/>
            <a:chExt cx="5759280" cy="542880"/>
          </a:xfrm>
        </p:grpSpPr>
        <p:sp>
          <p:nvSpPr>
            <p:cNvPr id="65" name="AutoShape 64"/>
            <p:cNvSpPr/>
            <p:nvPr/>
          </p:nvSpPr>
          <p:spPr>
            <a:xfrm>
              <a:off x="1392480" y="3049200"/>
              <a:ext cx="5482800" cy="34596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AutoShape 3"/>
            <p:cNvGrpSpPr/>
            <p:nvPr/>
          </p:nvGrpSpPr>
          <p:grpSpPr>
            <a:xfrm>
              <a:off x="1116000" y="3005280"/>
              <a:ext cx="5546520" cy="542880"/>
              <a:chOff x="1116000" y="3005280"/>
              <a:chExt cx="5546520" cy="542880"/>
            </a:xfrm>
          </p:grpSpPr>
          <p:pic>
            <p:nvPicPr>
              <p:cNvPr id="67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3005280"/>
                <a:ext cx="55465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202400" y="3110040"/>
                <a:ext cx="5375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Text Box 68"/>
          <p:cNvSpPr/>
          <p:nvPr/>
        </p:nvSpPr>
        <p:spPr>
          <a:xfrm>
            <a:off x="8104680" y="1563840"/>
            <a:ext cx="6678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e2d1e"/>
                </a:solidFill>
                <a:latin typeface="Arial"/>
                <a:ea typeface="方正超粗黑简体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5"/>
          <p:cNvGrpSpPr/>
          <p:nvPr/>
        </p:nvGrpSpPr>
        <p:grpSpPr>
          <a:xfrm>
            <a:off x="1692360" y="2246400"/>
            <a:ext cx="5758920" cy="542880"/>
            <a:chOff x="1692360" y="2246400"/>
            <a:chExt cx="5758920" cy="542880"/>
          </a:xfrm>
        </p:grpSpPr>
        <p:sp>
          <p:nvSpPr>
            <p:cNvPr id="71" name="AutoShape 6"/>
            <p:cNvSpPr/>
            <p:nvPr/>
          </p:nvSpPr>
          <p:spPr>
            <a:xfrm>
              <a:off x="1965600" y="228852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AutoShape 3"/>
            <p:cNvGrpSpPr/>
            <p:nvPr/>
          </p:nvGrpSpPr>
          <p:grpSpPr>
            <a:xfrm>
              <a:off x="1692360" y="2246400"/>
              <a:ext cx="5549040" cy="542880"/>
              <a:chOff x="1692360" y="2246400"/>
              <a:chExt cx="5549040" cy="542880"/>
            </a:xfrm>
          </p:grpSpPr>
          <p:pic>
            <p:nvPicPr>
              <p:cNvPr id="7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776240" y="234972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3228840" y="326376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202020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20202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olour Backgrounds5 [转换]"/>
          <p:cNvPicPr/>
          <p:nvPr/>
        </p:nvPicPr>
        <p:blipFill>
          <a:blip r:embed="rId2"/>
          <a:srcRect l="442" t="0" r="34223" b="34639"/>
          <a:stretch/>
        </p:blipFill>
        <p:spPr>
          <a:xfrm>
            <a:off x="0" y="-19080"/>
            <a:ext cx="9144000" cy="52513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9e2d1e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26920" y="773280"/>
            <a:ext cx="7345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26920" y="628560"/>
            <a:ext cx="76327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如果你说我现在正在嫉妒，这样不对，我不该嫉妒，那么嫉妒这个问题就会没完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教育给我们的束缚总是躲在黑暗的一角伺机而动，因此我们的心才出现了毛病。我们能不能只是纯粹地保持在烦恼中而不企图逃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1692360" y="2246400"/>
            <a:ext cx="5758920" cy="542880"/>
            <a:chOff x="1692360" y="2246400"/>
            <a:chExt cx="5758920" cy="542880"/>
          </a:xfrm>
        </p:grpSpPr>
        <p:sp>
          <p:nvSpPr>
            <p:cNvPr id="81" name="AutoShape 3"/>
            <p:cNvSpPr/>
            <p:nvPr/>
          </p:nvSpPr>
          <p:spPr>
            <a:xfrm>
              <a:off x="1965600" y="228852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AutoShape 3"/>
            <p:cNvGrpSpPr/>
            <p:nvPr/>
          </p:nvGrpSpPr>
          <p:grpSpPr>
            <a:xfrm>
              <a:off x="1692360" y="2246400"/>
              <a:ext cx="5549040" cy="542880"/>
              <a:chOff x="1692360" y="2246400"/>
              <a:chExt cx="5549040" cy="542880"/>
            </a:xfrm>
          </p:grpSpPr>
          <p:pic>
            <p:nvPicPr>
              <p:cNvPr id="8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776240" y="234972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olours5 [转换]"/>
          <p:cNvPicPr/>
          <p:nvPr/>
        </p:nvPicPr>
        <p:blipFill>
          <a:blip r:embed="rId1"/>
          <a:srcRect l="731" t="0" r="11678" b="35723"/>
          <a:stretch/>
        </p:blipFill>
        <p:spPr>
          <a:xfrm>
            <a:off x="-1440" y="-19080"/>
            <a:ext cx="9145440" cy="51642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ac9404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47640" y="785880"/>
            <a:ext cx="7848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所有逃避的心理活动都在为自己辩解或制造压力。当烦恼产生时就彻底和她共处。至上法门是不讲人情的，其他的方法都只是些小把戏。如果你真能和自己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本来面目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共处，你就已经在采取解脱的行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之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里希那穆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8"/>
          <p:cNvGrpSpPr/>
          <p:nvPr/>
        </p:nvGrpSpPr>
        <p:grpSpPr>
          <a:xfrm>
            <a:off x="1763640" y="2139840"/>
            <a:ext cx="5759280" cy="542880"/>
            <a:chOff x="1763640" y="2139840"/>
            <a:chExt cx="5759280" cy="542880"/>
          </a:xfrm>
        </p:grpSpPr>
        <p:sp>
          <p:nvSpPr>
            <p:cNvPr id="90" name="AutoShape 9"/>
            <p:cNvSpPr/>
            <p:nvPr/>
          </p:nvSpPr>
          <p:spPr>
            <a:xfrm>
              <a:off x="2035800" y="2183760"/>
              <a:ext cx="5487120" cy="34596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AutoShape 3"/>
            <p:cNvGrpSpPr/>
            <p:nvPr/>
          </p:nvGrpSpPr>
          <p:grpSpPr>
            <a:xfrm>
              <a:off x="1763640" y="2139840"/>
              <a:ext cx="5544720" cy="542880"/>
              <a:chOff x="1763640" y="2139840"/>
              <a:chExt cx="5544720" cy="54288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3640" y="2139840"/>
                <a:ext cx="55447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1845720" y="2244960"/>
                <a:ext cx="5379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lour Abstract Backgrounds5 [转换]"/>
          <p:cNvPicPr/>
          <p:nvPr/>
        </p:nvPicPr>
        <p:blipFill>
          <a:blip r:embed="rId1"/>
          <a:srcRect l="335" t="1924" r="11422" b="35738"/>
          <a:stretch/>
        </p:blipFill>
        <p:spPr>
          <a:xfrm>
            <a:off x="-33480" y="-1440"/>
            <a:ext cx="9210960" cy="5145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0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9e2d1e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1692360" y="2246400"/>
            <a:ext cx="5758920" cy="542880"/>
            <a:chOff x="1692360" y="2246400"/>
            <a:chExt cx="5758920" cy="542880"/>
          </a:xfrm>
        </p:grpSpPr>
        <p:sp>
          <p:nvSpPr>
            <p:cNvPr id="97" name="AutoShape 3"/>
            <p:cNvSpPr/>
            <p:nvPr/>
          </p:nvSpPr>
          <p:spPr>
            <a:xfrm>
              <a:off x="1965600" y="2288520"/>
              <a:ext cx="5485680" cy="3488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AutoShape 3"/>
            <p:cNvGrpSpPr/>
            <p:nvPr/>
          </p:nvGrpSpPr>
          <p:grpSpPr>
            <a:xfrm>
              <a:off x="1692360" y="2246400"/>
              <a:ext cx="5549040" cy="542880"/>
              <a:chOff x="1692360" y="2246400"/>
              <a:chExt cx="5549040" cy="542880"/>
            </a:xfrm>
          </p:grpSpPr>
          <p:pic>
            <p:nvPicPr>
              <p:cNvPr id="9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9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1776240" y="2349720"/>
                <a:ext cx="53780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-631800" y="-353880"/>
            <a:ext cx="10409040" cy="58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4:41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