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A307F-9A0E-44BE-B3CA-1FECAE5B4F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791F-D727-4095-838B-3BB1623F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5B3F-26E9-47D8-A619-07886CA2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54516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75620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412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654516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75620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CBD3-07B4-48F4-A9C8-801DCE00A0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7BEBE-1233-4D03-9288-EBA3F8D2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6DA1A-00CA-4EBA-93D4-4A023AD1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E32FD-953D-4C8D-8F78-EAAD2A0A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3A303-ADFB-4EA9-B51F-AC35379C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BBDE8-8B2C-4CDE-8E9E-FB4B62FA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32000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BB05C-941F-4C24-9D73-6D20D73B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2F91F-1C25-41E6-8CB7-AE6F7464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F03A8-DCE8-4B86-9824-4EA4E5C9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BBF56-F98F-46D5-A2CD-A825CE6C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B9EBF-4282-4399-A424-EAD8D5CF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A68E8-F819-43C8-8279-2FAEAEE0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D1B90-8893-493B-BB12-89E95B8D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4516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620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33412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654516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75620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927A5-6ED2-4C08-AEEE-103D5419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8968-AD8B-4A09-A545-F3F03F77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B412B-19FD-4642-8762-CF45888F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4DC9-689B-4A09-8595-25F64189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32000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0B61-1FAD-4B37-BE75-4038FD29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0630-10D3-44C0-8C70-C1837A9F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2029-3A43-40B6-BEA6-1C443052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82B4-81AE-41E8-BB92-E07868A3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8915400" cy="1014480"/>
          </a:xfrm>
          <a:custGeom>
            <a:avLst/>
            <a:gdLst/>
            <a:ahLst/>
            <a:rect l="l" t="t" r="r" b="b"/>
            <a:pathLst>
              <a:path w="5616" h="576">
                <a:moveTo>
                  <a:pt x="0" y="576"/>
                </a:moveTo>
                <a:lnTo>
                  <a:pt x="5465" y="563"/>
                </a:lnTo>
                <a:lnTo>
                  <a:pt x="5616" y="0"/>
                </a:lnTo>
                <a:lnTo>
                  <a:pt x="0" y="0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924760" cy="6858000"/>
          </a:xfrm>
          <a:custGeom>
            <a:avLst/>
            <a:gdLst/>
            <a:ahLst/>
            <a:rect l="l" t="t" r="r" b="b"/>
            <a:pathLst>
              <a:path w="5622" h="4320">
                <a:moveTo>
                  <a:pt x="0" y="0"/>
                </a:moveTo>
                <a:lnTo>
                  <a:pt x="5622" y="0"/>
                </a:lnTo>
                <a:lnTo>
                  <a:pt x="4457" y="4313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94b1ec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200"/>
            <a:ext cx="9144000" cy="609480"/>
          </a:xfrm>
          <a:prstGeom prst="rect">
            <a:avLst/>
          </a:prstGeom>
          <a:solidFill>
            <a:srgbClr val="173d89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18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570360"/>
            <a:ext cx="2133720" cy="1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962520" y="6552720"/>
            <a:ext cx="1218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030F-3F1E-4E99-91A3-DD59BCBAC6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64480" y="403200"/>
            <a:ext cx="47808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96" y="0"/>
                </a:moveTo>
                <a:lnTo>
                  <a:pt x="0" y="384"/>
                </a:lnTo>
                <a:lnTo>
                  <a:pt x="288" y="384"/>
                </a:lnTo>
                <a:lnTo>
                  <a:pt x="288" y="0"/>
                </a:lnTo>
                <a:lnTo>
                  <a:pt x="96" y="0"/>
                </a:lnTo>
                <a:close/>
              </a:path>
            </a:pathLst>
          </a:custGeom>
          <a:solidFill>
            <a:srgbClr val="5fb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7543800" y="6489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d89"/>
                </a:solidFill>
                <a:latin typeface="Verdana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77000" cy="6858000"/>
          </a:xfrm>
          <a:custGeom>
            <a:avLst/>
            <a:gdLst/>
            <a:ahLst/>
            <a:rect l="l" t="t" r="r" b="b"/>
            <a:pathLst>
              <a:path w="4272" h="4320">
                <a:moveTo>
                  <a:pt x="0" y="0"/>
                </a:moveTo>
                <a:lnTo>
                  <a:pt x="4272" y="0"/>
                </a:lnTo>
                <a:lnTo>
                  <a:pt x="2832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b1ec">
                  <a:alpha val="23137"/>
                </a:srgbClr>
              </a:gs>
              <a:gs pos="100000">
                <a:srgbClr val="e9ef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62120"/>
            <a:ext cx="9144000" cy="2385720"/>
          </a:xfrm>
          <a:prstGeom prst="rect">
            <a:avLst/>
          </a:prstGeom>
          <a:solidFill>
            <a:srgbClr val="5fb6f1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14400"/>
            <a:ext cx="7326360" cy="2233440"/>
          </a:xfrm>
          <a:custGeom>
            <a:avLst/>
            <a:gdLst/>
            <a:ahLst/>
            <a:rect l="l" t="t" r="r" b="b"/>
            <a:pathLst>
              <a:path w="4615" h="1407">
                <a:moveTo>
                  <a:pt x="0" y="0"/>
                </a:moveTo>
                <a:lnTo>
                  <a:pt x="4615" y="0"/>
                </a:lnTo>
                <a:lnTo>
                  <a:pt x="4092" y="1386"/>
                </a:lnTo>
                <a:lnTo>
                  <a:pt x="0" y="140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24080"/>
            <a:ext cx="9144000" cy="762120"/>
          </a:xfrm>
          <a:prstGeom prst="rect">
            <a:avLst/>
          </a:prstGeom>
          <a:solidFill>
            <a:srgbClr val="173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456840" y="6555960"/>
            <a:ext cx="2133720" cy="1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38200" y="6578640"/>
            <a:ext cx="289548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8458200" y="6588000"/>
            <a:ext cx="4572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6F53-2D30-47D4-99BD-EFE21EF5EE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76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d89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d89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werPoint Templ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763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会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52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5fb6f1"/>
                </a:gs>
                <a:gs pos="100000">
                  <a:srgbClr val="6dbbf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cd2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5fb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4b1ec"/>
                </a:gs>
                <a:gs pos="100000">
                  <a:srgbClr val="c0d1f3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65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4b1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9445b"/>
                  </a:gs>
                  <a:gs pos="50000">
                    <a:srgbClr val="94b1ec"/>
                  </a:gs>
                  <a:gs pos="100000">
                    <a:srgbClr val="3944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5fb6f1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95280" y="1542960"/>
            <a:ext cx="7543800" cy="4476600"/>
            <a:chOff x="1295280" y="1542960"/>
            <a:chExt cx="7543800" cy="4476600"/>
          </a:xfrm>
        </p:grpSpPr>
        <p:sp>
          <p:nvSpPr>
            <p:cNvPr id="276" name=""/>
            <p:cNvSpPr/>
            <p:nvPr/>
          </p:nvSpPr>
          <p:spPr>
            <a:xfrm>
              <a:off x="144756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5fb6f1"/>
                </a:gs>
                <a:gs pos="100000">
                  <a:srgbClr val="9181e1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72200" y="37335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73d89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247920" y="3752640"/>
              <a:ext cx="1704960" cy="2028960"/>
              <a:chOff x="3247920" y="3752640"/>
              <a:chExt cx="1704960" cy="2028960"/>
            </a:xfrm>
          </p:grpSpPr>
          <p:sp>
            <p:nvSpPr>
              <p:cNvPr id="279" name=""/>
              <p:cNvSpPr/>
              <p:nvPr/>
            </p:nvSpPr>
            <p:spPr>
              <a:xfrm rot="20876400">
                <a:off x="3316320" y="49719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47920" y="375264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68440" y="376200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86080" y="377820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78240" y="382248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65520" y="43797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396800" y="3371760"/>
              <a:ext cx="1371240" cy="1718640"/>
              <a:chOff x="1396800" y="3371760"/>
              <a:chExt cx="1371240" cy="1718640"/>
            </a:xfrm>
          </p:grpSpPr>
          <p:sp>
            <p:nvSpPr>
              <p:cNvPr id="286" name=""/>
              <p:cNvSpPr/>
              <p:nvPr/>
            </p:nvSpPr>
            <p:spPr>
              <a:xfrm rot="20826600">
                <a:off x="1473120" y="43621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1396800" y="3371760"/>
                <a:ext cx="1371240" cy="1441080"/>
                <a:chOff x="1396800" y="3371760"/>
                <a:chExt cx="1371240" cy="14410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396800" y="33717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14800" y="33800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427760" y="33933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499400" y="34300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677240" y="38779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"/>
            <p:cNvGrpSpPr/>
            <p:nvPr/>
          </p:nvGrpSpPr>
          <p:grpSpPr>
            <a:xfrm>
              <a:off x="1295280" y="2000160"/>
              <a:ext cx="1100160" cy="1139760"/>
              <a:chOff x="1295280" y="2000160"/>
              <a:chExt cx="1100160" cy="1139760"/>
            </a:xfrm>
          </p:grpSpPr>
          <p:sp>
            <p:nvSpPr>
              <p:cNvPr id="294" name=""/>
              <p:cNvSpPr/>
              <p:nvPr/>
            </p:nvSpPr>
            <p:spPr>
              <a:xfrm>
                <a:off x="1295280" y="26067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200016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84200" y="20048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95360" y="20160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49360" y="20415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568520" y="23493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819160" y="1542960"/>
              <a:ext cx="804960" cy="762120"/>
              <a:chOff x="2819160" y="1542960"/>
              <a:chExt cx="804960" cy="762120"/>
            </a:xfrm>
          </p:grpSpPr>
          <p:sp>
            <p:nvSpPr>
              <p:cNvPr id="301" name=""/>
              <p:cNvSpPr/>
              <p:nvPr/>
            </p:nvSpPr>
            <p:spPr>
              <a:xfrm>
                <a:off x="2819160" y="207648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41560" y="154296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50920" y="154620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57400" y="155232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93760" y="157140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11760" y="1766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09" name=""/>
            <p:cNvSpPr/>
            <p:nvPr/>
          </p:nvSpPr>
          <p:spPr>
            <a:xfrm>
              <a:off x="2683800" y="2149200"/>
              <a:ext cx="3781440" cy="371772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5fb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3611160" y="3078720"/>
              <a:ext cx="1926360" cy="2001600"/>
              <a:chOff x="3611160" y="3078720"/>
              <a:chExt cx="1926360" cy="2001600"/>
            </a:xfrm>
          </p:grpSpPr>
          <p:sp>
            <p:nvSpPr>
              <p:cNvPr id="311" name=""/>
              <p:cNvSpPr/>
              <p:nvPr/>
            </p:nvSpPr>
            <p:spPr>
              <a:xfrm>
                <a:off x="3611160" y="3078720"/>
                <a:ext cx="1926360" cy="20016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4182120" y="1792080"/>
              <a:ext cx="641880" cy="617760"/>
              <a:chOff x="4182120" y="1792080"/>
              <a:chExt cx="641880" cy="61776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4182120" y="1792080"/>
                <a:ext cx="641880" cy="617760"/>
                <a:chOff x="4182120" y="1792080"/>
                <a:chExt cx="641880" cy="6177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182120" y="1792080"/>
                  <a:ext cx="641880" cy="61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d2af"/>
                    </a:gs>
                    <a:gs pos="100000">
                      <a:srgbClr val="2058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255200" y="1802160"/>
                  <a:ext cx="495360" cy="232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d2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4325040" y="18871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557880" y="4874040"/>
              <a:ext cx="344880" cy="313560"/>
              <a:chOff x="3557880" y="4874040"/>
              <a:chExt cx="344880" cy="313560"/>
            </a:xfrm>
          </p:grpSpPr>
          <p:sp>
            <p:nvSpPr>
              <p:cNvPr id="320" name=""/>
              <p:cNvSpPr/>
              <p:nvPr/>
            </p:nvSpPr>
            <p:spPr>
              <a:xfrm rot="18226800">
                <a:off x="3584520" y="5034960"/>
                <a:ext cx="123120" cy="130320"/>
              </a:xfrm>
              <a:prstGeom prst="ellipse">
                <a:avLst/>
              </a:prstGeom>
              <a:gradFill rotWithShape="0">
                <a:gsLst>
                  <a:gs pos="0">
                    <a:srgbClr val="94b1ec"/>
                  </a:gs>
                  <a:gs pos="100000">
                    <a:srgbClr val="6275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226800">
                <a:off x="3752280" y="4896360"/>
                <a:ext cx="123480" cy="130320"/>
              </a:xfrm>
              <a:prstGeom prst="ellipse">
                <a:avLst/>
              </a:prstGeom>
              <a:gradFill rotWithShape="0">
                <a:gsLst>
                  <a:gs pos="0">
                    <a:srgbClr val="94b1ec"/>
                  </a:gs>
                  <a:gs pos="100000">
                    <a:srgbClr val="6275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4b1ec"/>
                    </a:gs>
                    <a:gs pos="100000">
                      <a:srgbClr val="232a3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042000" y="515808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4b1e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3107160" y="526788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b6f1"/>
                    </a:gs>
                    <a:gs pos="100000">
                      <a:srgbClr val="3b719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184440" y="3089520"/>
                  <a:ext cx="493200" cy="245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b6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6236640" y="31680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537520" y="5151960"/>
              <a:ext cx="612360" cy="583920"/>
              <a:chOff x="5537520" y="5151960"/>
              <a:chExt cx="612360" cy="58392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5537520" y="5151960"/>
                <a:ext cx="612360" cy="583920"/>
                <a:chOff x="5537520" y="5151960"/>
                <a:chExt cx="612360" cy="5839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537520" y="5151960"/>
                  <a:ext cx="612360" cy="58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4343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07360" y="5161320"/>
                  <a:ext cx="472320" cy="22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5672880" y="518328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81e1"/>
                    </a:gs>
                    <a:gs pos="100000">
                      <a:srgbClr val="413a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42680" y="308916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181e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2606400" y="31500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 rot="18226800">
              <a:off x="5466600" y="5002560"/>
              <a:ext cx="121680" cy="12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363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8226800">
              <a:off x="5324040" y="4858920"/>
              <a:ext cx="122040" cy="12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363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3159360" y="3481920"/>
              <a:ext cx="389880" cy="244080"/>
              <a:chOff x="3159360" y="3481920"/>
              <a:chExt cx="389880" cy="244080"/>
            </a:xfrm>
          </p:grpSpPr>
          <p:sp>
            <p:nvSpPr>
              <p:cNvPr id="345" name=""/>
              <p:cNvSpPr/>
              <p:nvPr/>
            </p:nvSpPr>
            <p:spPr>
              <a:xfrm rot="18226800">
                <a:off x="3186000" y="3504240"/>
                <a:ext cx="123840" cy="13032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534a8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8226800">
                <a:off x="3398760" y="3573360"/>
                <a:ext cx="123480" cy="13032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463e6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4444200" y="2522880"/>
              <a:ext cx="175680" cy="437760"/>
              <a:chOff x="4444200" y="2522880"/>
              <a:chExt cx="175680" cy="437760"/>
            </a:xfrm>
          </p:grpSpPr>
          <p:sp>
            <p:nvSpPr>
              <p:cNvPr id="348" name=""/>
              <p:cNvSpPr/>
              <p:nvPr/>
            </p:nvSpPr>
            <p:spPr>
              <a:xfrm rot="18226800">
                <a:off x="4470480" y="2544840"/>
                <a:ext cx="122760" cy="129240"/>
              </a:xfrm>
              <a:prstGeom prst="ellipse">
                <a:avLst/>
              </a:prstGeom>
              <a:gradFill rotWithShape="0">
                <a:gsLst>
                  <a:gs pos="0">
                    <a:srgbClr val="4cd2af"/>
                  </a:gs>
                  <a:gs pos="100000">
                    <a:srgbClr val="225f4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8226800">
                <a:off x="4470480" y="2808720"/>
                <a:ext cx="122760" cy="129240"/>
              </a:xfrm>
              <a:prstGeom prst="ellipse">
                <a:avLst/>
              </a:prstGeom>
              <a:gradFill rotWithShape="0">
                <a:gsLst>
                  <a:gs pos="0">
                    <a:srgbClr val="4cd2af"/>
                  </a:gs>
                  <a:gs pos="100000">
                    <a:srgbClr val="2465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 rot="18226800">
              <a:off x="5841000" y="3527640"/>
              <a:ext cx="122040" cy="12924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9506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226800">
              <a:off x="5609160" y="3643560"/>
              <a:ext cx="122040" cy="12924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9506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5800" y="322164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50720" y="323532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2200" y="53665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79760" y="53665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359" name="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364" name="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372" name="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377" name="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385" name="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8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03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9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0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24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6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1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7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2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66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2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85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d89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d89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d89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73d89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9" name=""/>
              <p:cNvCxnSpPr>
                <a:stCxn id="485" idx="3"/>
                <a:endCxn id="486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173d89"/>
                </a:solidFill>
                <a:miter/>
                <a:tailEnd len="med" type="triangle" w="med"/>
              </a:ln>
            </p:spPr>
          </p:cxnSp>
          <p:cxnSp>
            <p:nvCxnSpPr>
              <p:cNvPr id="490" name=""/>
              <p:cNvCxnSpPr>
                <a:stCxn id="486" idx="3"/>
                <a:endCxn id="487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173d89"/>
                </a:solidFill>
                <a:miter/>
                <a:tailEnd len="med" type="triangle" w="med"/>
              </a:ln>
            </p:spPr>
          </p:cxnSp>
          <p:cxnSp>
            <p:nvCxnSpPr>
              <p:cNvPr id="491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173d8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494" name="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4cd2af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5fb6f1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9181e1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9181e1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fb6f1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4cd2af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61516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560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7734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127520" y="1634760"/>
            <a:ext cx="6215400" cy="1324800"/>
            <a:chOff x="1127520" y="1634760"/>
            <a:chExt cx="6215400" cy="1324800"/>
          </a:xfrm>
        </p:grpSpPr>
        <p:sp>
          <p:nvSpPr>
            <p:cNvPr id="506" name=""/>
            <p:cNvSpPr/>
            <p:nvPr/>
          </p:nvSpPr>
          <p:spPr>
            <a:xfrm rot="3418800">
              <a:off x="13352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b536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2258280" y="2016000"/>
              <a:ext cx="901080" cy="124200"/>
              <a:chOff x="2258280" y="2016000"/>
              <a:chExt cx="901080" cy="124200"/>
            </a:xfrm>
          </p:grpSpPr>
          <p:sp>
            <p:nvSpPr>
              <p:cNvPr id="508" name=""/>
              <p:cNvSpPr/>
              <p:nvPr/>
            </p:nvSpPr>
            <p:spPr>
              <a:xfrm>
                <a:off x="22582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344680" y="20167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022920" y="20178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09600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 rot="3418800">
              <a:off x="2999880" y="1780560"/>
              <a:ext cx="874080" cy="970920"/>
            </a:xfrm>
            <a:prstGeom prst="rect">
              <a:avLst/>
            </a:prstGeom>
            <a:solidFill>
              <a:srgbClr val="918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3922920" y="2016000"/>
              <a:ext cx="901080" cy="124200"/>
              <a:chOff x="3922920" y="2016000"/>
              <a:chExt cx="901080" cy="124200"/>
            </a:xfrm>
          </p:grpSpPr>
          <p:sp>
            <p:nvSpPr>
              <p:cNvPr id="514" name=""/>
              <p:cNvSpPr/>
              <p:nvPr/>
            </p:nvSpPr>
            <p:spPr>
              <a:xfrm>
                <a:off x="39229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009320" y="20167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687560" y="20178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76064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 rot="3418800">
              <a:off x="4595760" y="17802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b536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587560" y="2016000"/>
              <a:ext cx="1178640" cy="124200"/>
              <a:chOff x="5587560" y="2016000"/>
              <a:chExt cx="1178640" cy="124200"/>
            </a:xfrm>
          </p:grpSpPr>
          <p:sp>
            <p:nvSpPr>
              <p:cNvPr id="520" name=""/>
              <p:cNvSpPr/>
              <p:nvPr/>
            </p:nvSpPr>
            <p:spPr>
              <a:xfrm>
                <a:off x="558756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0060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587640" y="20178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683040" y="20566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 rot="3418800">
              <a:off x="6260400" y="1780200"/>
              <a:ext cx="874080" cy="971280"/>
            </a:xfrm>
            <a:prstGeom prst="rect">
              <a:avLst/>
            </a:prstGeom>
            <a:solidFill>
              <a:srgbClr val="918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4425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38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843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795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4490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428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380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533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90720" y="137160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5fb6f1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838080" y="2165400"/>
          <a:ext cx="7467480" cy="31035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601200" y="679320"/>
            <a:ext cx="7379280" cy="5581080"/>
            <a:chOff x="601200" y="679320"/>
            <a:chExt cx="7379280" cy="5581080"/>
          </a:xfrm>
        </p:grpSpPr>
        <p:sp>
          <p:nvSpPr>
            <p:cNvPr id="537" name="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13856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fb6f1"/>
                </a:gs>
                <a:gs pos="100000">
                  <a:srgbClr val="98cff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9181e1"/>
                </a:gs>
                <a:gs pos="100000">
                  <a:srgbClr val="64599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4483ae"/>
                </a:gs>
                <a:gs pos="100000">
                  <a:srgbClr val="5fb6f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20602200">
              <a:off x="14032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236050"/>
                </a:gs>
                <a:gs pos="100000">
                  <a:srgbClr val="4cd2a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4b1ec"/>
                </a:gs>
                <a:gs pos="100000">
                  <a:srgbClr val="cddaf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539200">
              <a:off x="1019520" y="158328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4b1ec"/>
                </a:gs>
                <a:gs pos="100000">
                  <a:srgbClr val="44516c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4b1ec"/>
                </a:gs>
                <a:gs pos="100000">
                  <a:srgbClr val="cddaf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fb6f1">
                    <a:alpha val="19215"/>
                  </a:srgbClr>
                </a:gs>
                <a:gs pos="100000">
                  <a:srgbClr val="93cd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914400" y="1676520"/>
            <a:ext cx="7446960" cy="4705200"/>
            <a:chOff x="914400" y="1676520"/>
            <a:chExt cx="7446960" cy="4705200"/>
          </a:xfrm>
        </p:grpSpPr>
        <p:sp>
          <p:nvSpPr>
            <p:cNvPr id="558" name=""/>
            <p:cNvSpPr/>
            <p:nvPr/>
          </p:nvSpPr>
          <p:spPr>
            <a:xfrm>
              <a:off x="1905120" y="24386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5fb6f1"/>
                </a:gs>
                <a:gs pos="100000">
                  <a:srgbClr val="f1f5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76520" y="1676520"/>
              <a:ext cx="57909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181e1"/>
                </a:gs>
                <a:gs pos="50000">
                  <a:srgbClr val="b7adea"/>
                </a:gs>
                <a:gs pos="100000">
                  <a:srgbClr val="9181e1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56160" y="30481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914400" y="4311720"/>
              <a:ext cx="1579680" cy="2070000"/>
              <a:chOff x="914400" y="4311720"/>
              <a:chExt cx="1579680" cy="20700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914400" y="4311720"/>
                  <a:ext cx="1486080" cy="1514520"/>
                  <a:chOff x="914400" y="4311720"/>
                  <a:chExt cx="1486080" cy="151452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914400" y="43117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cd2af"/>
                      </a:gs>
                      <a:gs pos="100000">
                        <a:srgbClr val="30846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084320" y="43365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cd2a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1072440" y="50828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914400" y="594360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f1f5fd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819520" y="4311720"/>
              <a:ext cx="1617120" cy="2070000"/>
              <a:chOff x="2819520" y="4311720"/>
              <a:chExt cx="1617120" cy="20700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2819520" y="4311720"/>
                <a:ext cx="1523520" cy="1521000"/>
                <a:chOff x="2819520" y="4311720"/>
                <a:chExt cx="1523520" cy="152100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2819520" y="4311720"/>
                  <a:ext cx="152352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b6f1"/>
                    </a:gs>
                    <a:gs pos="100000">
                      <a:srgbClr val="305d7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993400" y="43369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5fb6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2895480" y="5041800"/>
                <a:ext cx="13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857320" y="5943600"/>
                <a:ext cx="1579320" cy="438120"/>
              </a:xfrm>
              <a:prstGeom prst="ellipse">
                <a:avLst/>
              </a:prstGeom>
              <a:gradFill rotWithShape="0">
                <a:gsLst>
                  <a:gs pos="0">
                    <a:srgbClr val="f1f5fd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876920" y="4267440"/>
              <a:ext cx="1631880" cy="2113920"/>
              <a:chOff x="4876920" y="4267440"/>
              <a:chExt cx="1631880" cy="211392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4876920" y="4267440"/>
                <a:ext cx="1523880" cy="1520640"/>
                <a:chOff x="4876920" y="4267440"/>
                <a:chExt cx="1523880" cy="152064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4876920" y="426744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81e1"/>
                    </a:gs>
                    <a:gs pos="100000">
                      <a:srgbClr val="4a427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051160" y="429264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181e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4953240" y="49971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929480" y="5943600"/>
                <a:ext cx="1579320" cy="437760"/>
              </a:xfrm>
              <a:prstGeom prst="ellipse">
                <a:avLst/>
              </a:prstGeom>
              <a:gradFill rotWithShape="0">
                <a:gsLst>
                  <a:gs pos="0">
                    <a:srgbClr val="f1f5fd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781680" y="4267440"/>
              <a:ext cx="1579680" cy="2113920"/>
              <a:chOff x="6781680" y="4267440"/>
              <a:chExt cx="1579680" cy="211392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6781680" y="4267440"/>
                <a:ext cx="1523880" cy="1531440"/>
                <a:chOff x="6781680" y="4267440"/>
                <a:chExt cx="1523880" cy="1531440"/>
              </a:xfrm>
            </p:grpSpPr>
            <p:grpSp>
              <p:nvGrpSpPr>
                <p:cNvPr id="582" name=""/>
                <p:cNvGrpSpPr/>
                <p:nvPr/>
              </p:nvGrpSpPr>
              <p:grpSpPr>
                <a:xfrm>
                  <a:off x="6781680" y="4267440"/>
                  <a:ext cx="1523880" cy="1531440"/>
                  <a:chOff x="6781680" y="4267440"/>
                  <a:chExt cx="1523880" cy="153144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6781680" y="4267440"/>
                    <a:ext cx="1523880" cy="153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4b1ec"/>
                      </a:gs>
                      <a:gs pos="100000">
                        <a:srgbClr val="232a3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6955920" y="4292640"/>
                    <a:ext cx="1175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4b1e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" name=""/>
                <p:cNvSpPr/>
                <p:nvPr/>
              </p:nvSpPr>
              <p:spPr>
                <a:xfrm>
                  <a:off x="6924600" y="49813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6781680" y="5943600"/>
                <a:ext cx="1579680" cy="437760"/>
              </a:xfrm>
              <a:prstGeom prst="ellipse">
                <a:avLst/>
              </a:prstGeom>
              <a:gradFill rotWithShape="0">
                <a:gsLst>
                  <a:gs pos="0">
                    <a:srgbClr val="f1f5fd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86000" y="1828800"/>
            <a:ext cx="4724280" cy="685800"/>
            <a:chOff x="2286000" y="1828800"/>
            <a:chExt cx="4724280" cy="685800"/>
          </a:xfrm>
        </p:grpSpPr>
        <p:sp>
          <p:nvSpPr>
            <p:cNvPr id="99" name=""/>
            <p:cNvSpPr/>
            <p:nvPr/>
          </p:nvSpPr>
          <p:spPr>
            <a:xfrm>
              <a:off x="2666880" y="19479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cd2a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6000" y="1828800"/>
              <a:ext cx="685800" cy="685800"/>
            </a:xfrm>
            <a:prstGeom prst="diamond">
              <a:avLst/>
            </a:prstGeom>
            <a:solidFill>
              <a:srgbClr val="4cd2a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5480" y="20034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41880" y="192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0" y="2666880"/>
            <a:ext cx="4724280" cy="685800"/>
            <a:chOff x="2286000" y="266688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666880" y="27860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9181e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0" y="2666880"/>
              <a:ext cx="685800" cy="685800"/>
            </a:xfrm>
            <a:prstGeom prst="diamond">
              <a:avLst/>
            </a:prstGeom>
            <a:solidFill>
              <a:srgbClr val="9181e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28414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4188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286000" y="3505320"/>
            <a:ext cx="4724280" cy="685800"/>
            <a:chOff x="2286000" y="3505320"/>
            <a:chExt cx="4724280" cy="685800"/>
          </a:xfrm>
        </p:grpSpPr>
        <p:sp>
          <p:nvSpPr>
            <p:cNvPr id="109" name=""/>
            <p:cNvSpPr/>
            <p:nvPr/>
          </p:nvSpPr>
          <p:spPr>
            <a:xfrm>
              <a:off x="2666880" y="36244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5fb6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3505320"/>
              <a:ext cx="685800" cy="685800"/>
            </a:xfrm>
            <a:prstGeom prst="diamond">
              <a:avLst/>
            </a:prstGeom>
            <a:solidFill>
              <a:srgbClr val="5fb6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95480" y="3679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41880" y="3603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86000" y="4419720"/>
            <a:ext cx="4724280" cy="685800"/>
            <a:chOff x="2286000" y="4419720"/>
            <a:chExt cx="4724280" cy="685800"/>
          </a:xfrm>
        </p:grpSpPr>
        <p:sp>
          <p:nvSpPr>
            <p:cNvPr id="114" name=""/>
            <p:cNvSpPr/>
            <p:nvPr/>
          </p:nvSpPr>
          <p:spPr>
            <a:xfrm>
              <a:off x="2666880" y="45388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94b1ec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4419720"/>
              <a:ext cx="685800" cy="685800"/>
            </a:xfrm>
            <a:prstGeom prst="diamond">
              <a:avLst/>
            </a:prstGeom>
            <a:solidFill>
              <a:srgbClr val="94b1e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4594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41880" y="451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5fb6f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E3A4E-268E-42D1-8E27-FB914FB728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362320" y="3200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181e1"/>
                    </a:gs>
                    <a:gs pos="100000">
                      <a:srgbClr val="5fb6f1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181e1"/>
                  </a:gs>
                  <a:gs pos="100000">
                    <a:srgbClr val="5fb6f1"/>
                  </a:gs>
                </a:gsLst>
                <a:lin ang="108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918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173d8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173d8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173d8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173d8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33412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43000" y="3352680"/>
            <a:ext cx="2286000" cy="2666880"/>
            <a:chOff x="1143000" y="3352680"/>
            <a:chExt cx="2286000" cy="2666880"/>
          </a:xfrm>
        </p:grpSpPr>
        <p:sp>
          <p:nvSpPr>
            <p:cNvPr id="123" name=""/>
            <p:cNvSpPr/>
            <p:nvPr/>
          </p:nvSpPr>
          <p:spPr>
            <a:xfrm>
              <a:off x="114300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ce1cb"/>
              </a:gs>
              <a:gs pos="100000">
                <a:srgbClr val="4cd2a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27" name=""/>
            <p:cNvGrpSpPr/>
            <p:nvPr/>
          </p:nvGrpSpPr>
          <p:grpSpPr>
            <a:xfrm>
              <a:off x="3048120" y="1628640"/>
              <a:ext cx="2998440" cy="1601280"/>
              <a:chOff x="3048120" y="1628640"/>
              <a:chExt cx="2998440" cy="16012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3048120" y="1771560"/>
                <a:ext cx="2998440" cy="1458360"/>
                <a:chOff x="3048120" y="1771560"/>
                <a:chExt cx="2998440" cy="14583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080880" y="18180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5874"/>
                    </a:gs>
                    <a:gs pos="100000">
                      <a:srgbClr val="5fb6f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48120" y="177156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b6f1"/>
                    </a:gs>
                    <a:gs pos="100000">
                      <a:srgbClr val="b7ddf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3189240" y="162864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423b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24160" y="163656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7d2f3"/>
                  </a:gs>
                  <a:gs pos="100000">
                    <a:srgbClr val="9181e1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51160" y="164916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9181e1">
                      <a:alpha val="48235"/>
                    </a:srgbClr>
                  </a:gs>
                  <a:gs pos="100000">
                    <a:srgbClr val="7265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82920" y="167616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9181e1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562720" y="3352680"/>
            <a:ext cx="2286000" cy="2666880"/>
            <a:chOff x="5562720" y="3352680"/>
            <a:chExt cx="2286000" cy="2666880"/>
          </a:xfrm>
        </p:grpSpPr>
        <p:sp>
          <p:nvSpPr>
            <p:cNvPr id="137" name=""/>
            <p:cNvSpPr/>
            <p:nvPr/>
          </p:nvSpPr>
          <p:spPr>
            <a:xfrm>
              <a:off x="556272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3408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e6f9"/>
              </a:gs>
              <a:gs pos="100000">
                <a:srgbClr val="5fb6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5fb6f1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43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edede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03e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181e1"/>
                </a:gs>
                <a:gs pos="100000">
                  <a:srgbClr val="2d28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cd2af"/>
                </a:gs>
                <a:gs pos="100000">
                  <a:srgbClr val="1b4a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5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4b1ec"/>
                </a:gs>
                <a:gs pos="100000">
                  <a:srgbClr val="323c5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39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63600" y="2644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63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5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d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d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bbbbb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bbbbb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5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6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2cf"/>
                  </a:gs>
                  <a:gs pos="100000">
                    <a:srgbClr val="173d8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2cf"/>
                  </a:gs>
                  <a:gs pos="100000">
                    <a:srgbClr val="173d8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2cf"/>
                  </a:gs>
                  <a:gs pos="100000">
                    <a:srgbClr val="173d8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fb6f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36281"/>
                  </a:gs>
                  <a:gs pos="50000">
                    <a:srgbClr val="5fb6f1"/>
                  </a:gs>
                  <a:gs pos="100000">
                    <a:srgbClr val="3362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11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25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36050"/>
                  </a:gs>
                  <a:gs pos="50000">
                    <a:srgbClr val="4cd2af"/>
                  </a:gs>
                  <a:gs pos="100000">
                    <a:srgbClr val="23605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4cd2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b536f"/>
                  </a:gs>
                  <a:gs pos="50000">
                    <a:srgbClr val="5fb6f1"/>
                  </a:gs>
                  <a:gs pos="100000">
                    <a:srgbClr val="2b53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5fb6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4516c"/>
                  </a:gs>
                  <a:gs pos="50000">
                    <a:srgbClr val="94b1ec"/>
                  </a:gs>
                  <a:gs pos="100000">
                    <a:srgbClr val="44516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a1c3f"/>
                  </a:gs>
                  <a:gs pos="50000">
                    <a:srgbClr val="173d89"/>
                  </a:gs>
                  <a:gs pos="100000">
                    <a:srgbClr val="0a1c3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173d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36977e"/>
                  </a:gs>
                  <a:gs pos="50000">
                    <a:srgbClr val="4cd2af"/>
                  </a:gs>
                  <a:gs pos="100000">
                    <a:srgbClr val="3697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483ae"/>
                  </a:gs>
                  <a:gs pos="50000">
                    <a:srgbClr val="5fb6f1"/>
                  </a:gs>
                  <a:gs pos="100000">
                    <a:srgbClr val="4483a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4b1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a7faa"/>
                  </a:gs>
                  <a:gs pos="50000">
                    <a:srgbClr val="94b1ec"/>
                  </a:gs>
                  <a:gs pos="100000">
                    <a:srgbClr val="6a7fa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102c63"/>
                  </a:gs>
                  <a:gs pos="50000">
                    <a:srgbClr val="173d89"/>
                  </a:gs>
                  <a:gs pos="100000">
                    <a:srgbClr val="102c6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ada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241" name="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d89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/>
  <cp:keywords>幻灯片之家：www.eeppt.com</cp:keywords>
  <dc:language>en-US</dc:language>
  <cp:lastModifiedBy/>
  <dcterms:modified xsi:type="dcterms:W3CDTF">2015-09-18T13:15:43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