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6A8-9B40-4C79-B1C4-47A7FC42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E0D-B1AF-416D-8E94-85E5DF75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05A-79D8-4C0F-9168-2584BD7A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269-C461-4D6A-9C6B-A004AE3D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15F1-8D39-4B66-82A6-4038C6DE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1242-FA87-4898-8A47-06D24624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875B-71FA-467D-BE07-24ED24AE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53FB-A751-456A-BB8A-F5949063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2EE4-3670-4ABC-9170-37693576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E775-6954-4ED8-B988-2FF63BC6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6949-2F06-40F0-921E-75AE111B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8EF-B072-4F7A-B687-5F907D87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3C35-AA10-4C81-833A-DD0FE85F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415B-F459-45ED-B6CD-7C8094E5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57FF-9FD0-4C7C-AAFF-B89B0CC2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FC88-6B77-41E3-B32A-E5314021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7B0B-DE39-4D8B-9139-32E83952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4CF-A9C6-4EB5-8A0A-BA23153D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551-DBE3-4D04-A26B-957A358C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548-FAE5-4402-918F-55B67479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76C-F36F-45CF-9535-1C66AD91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017-1A7E-4DFD-8B9A-5B0D10B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1D2-890F-409E-AB81-6BAD7F2A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42D-AF2A-4092-A1B4-F017FB5F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0E4D-3C40-45D1-978B-4C3F74E86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649C-608E-4225-B47C-76DF054DC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5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endParaRPr b="1" i="1" lang="en-US" sz="4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5680" y="62064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会议手写笔记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4AC-DE5F-445B-B8B9-104FE56D64C2}" type="slidenum">
              <a:t>2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  <a:ea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49228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98d43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/>
  <cp:keywords>幻灯片之家：www.eeppt.com</cp:keywords>
  <dc:language>en-US</dc:language>
  <cp:lastModifiedBy/>
  <dcterms:modified xsi:type="dcterms:W3CDTF">2015-09-18T13:15:43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