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274175" cy="6951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02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10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02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0" algn="r">
              <a:spcAft>
                <a:spcPts val="1375"/>
              </a:spcAft>
              <a:buNone/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71440" y="-28440"/>
            <a:ext cx="72979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-927000" algn="r">
              <a:spcAft>
                <a:spcPts val="1375"/>
              </a:spcAft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0" algn="r">
              <a:spcAft>
                <a:spcPts val="1375"/>
              </a:spcAft>
              <a:buNone/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56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02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10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56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02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FE215-200B-4A95-AE08-7B3C23F1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0" algn="r">
              <a:spcAft>
                <a:spcPts val="1375"/>
              </a:spcAft>
              <a:buNone/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172E2-A851-48C2-BB98-293F25A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37C6C-F9A8-4C9B-AFD0-F4DD037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760D4-1BED-4AC4-8C9A-E98E27F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1D772-57DA-41FF-9B91-4683E0E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1440" y="-28440"/>
            <a:ext cx="72979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-927000" algn="r">
              <a:spcAft>
                <a:spcPts val="1375"/>
              </a:spcAft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EFF2E-CC83-439B-915F-23207BE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ECE96-BE51-452B-80C8-F0B834F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DFB2B-498F-49C0-BF86-065E1FA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9CB32-A295-46D1-BC57-6F6033D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90686-EF75-40DD-95E2-B3E65038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BF464-4670-43EE-A459-71172D5D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56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00280" y="134604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56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00280" y="4138200"/>
            <a:ext cx="282312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9B7E-88A2-4A5F-A218-D4AC9FD2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1440" y="-28440"/>
            <a:ext cx="72979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7000" indent="-927000" algn="r">
              <a:spcAft>
                <a:spcPts val="1375"/>
              </a:spcAft>
              <a:tabLst>
                <a:tab algn="l" pos="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endParaRPr b="1" lang="en-US" sz="2200" spc="-1" strike="noStrike">
              <a:solidFill>
                <a:srgbClr val="a31221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3880" y="413820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10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3880" y="1346040"/>
            <a:ext cx="42786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1080" y="4138200"/>
            <a:ext cx="87678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0320" y="1336680"/>
            <a:ext cx="89532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1375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62800" y="6761160"/>
            <a:ext cx="72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F13792-6B41-48D0-BD2C-2FA63756E2B5}" type="slidenum">
              <a:rPr b="0" lang="zh-CN" sz="800" spc="-1" strike="noStrike">
                <a:solidFill>
                  <a:srgbClr val="969696"/>
                </a:solidFill>
                <a:latin typeface="Arial Narrow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723000"/>
            <a:ext cx="94028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1680" y="6762960"/>
            <a:ext cx="299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 Narrow"/>
                <a:ea typeface="宋体"/>
              </a:rPr>
              <a:t>Copyright © 2003 Fair Isaac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17440"/>
            <a:ext cx="9272520" cy="0"/>
          </a:xfrm>
          <a:prstGeom prst="line">
            <a:avLst/>
          </a:prstGeom>
          <a:ln w="28440">
            <a:solidFill>
              <a:srgbClr val="a3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34240" y="263520"/>
            <a:ext cx="1316160" cy="773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1440" y="-28440"/>
            <a:ext cx="729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400" spc="-1" strike="noStrike">
                <a:solidFill>
                  <a:srgbClr val="a3122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1080" y="1346040"/>
            <a:ext cx="8767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Aft>
                <a:spcPts val="1375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27160">
              <a:lnSpc>
                <a:spcPct val="90000"/>
              </a:lnSpc>
              <a:spcAft>
                <a:spcPts val="1375"/>
              </a:spcAft>
              <a:buClr>
                <a:srgbClr val="838487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8800" indent="-182520">
              <a:lnSpc>
                <a:spcPct val="90000"/>
              </a:lnSpc>
              <a:spcAft>
                <a:spcPts val="1375"/>
              </a:spcAft>
              <a:buClr>
                <a:srgbClr val="838487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1360">
              <a:lnSpc>
                <a:spcPct val="90000"/>
              </a:lnSpc>
              <a:spcAft>
                <a:spcPts val="1375"/>
              </a:spcAft>
              <a:buClr>
                <a:srgbClr val="838487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04800" indent="-172800">
              <a:lnSpc>
                <a:spcPct val="90000"/>
              </a:lnSpc>
              <a:spcAft>
                <a:spcPts val="1375"/>
              </a:spcAft>
              <a:buClr>
                <a:srgbClr val="838487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04800" indent="-1728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04800" indent="-172800">
              <a:lnSpc>
                <a:spcPct val="90000"/>
              </a:lnSpc>
              <a:spcAft>
                <a:spcPts val="1375"/>
              </a:spcAft>
              <a:buClr>
                <a:srgbClr val="000000"/>
              </a:buClr>
              <a:buSzPct val="75000"/>
              <a:buFont typeface="Wingdings 3" charset="2"/>
              <a:buChar char="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46200" y="1414440"/>
            <a:ext cx="61819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888840"/>
            <a:ext cx="92725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3290760" y="3068640"/>
            <a:ext cx="549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30920"/>
            <a:ext cx="9272520" cy="233280"/>
          </a:xfrm>
          <a:prstGeom prst="rect">
            <a:avLst/>
          </a:prstGeom>
          <a:solidFill>
            <a:srgbClr val="a312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72520" y="263520"/>
            <a:ext cx="1317600" cy="7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6729480" y="6740640"/>
            <a:ext cx="2193840" cy="488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CN" sz="8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26640" y="1467000"/>
            <a:ext cx="7882200" cy="14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800" spc="-1" strike="noStrike">
                <a:solidFill>
                  <a:srgbClr val="a312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312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680" y="279000"/>
            <a:ext cx="8345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63680" y="1622160"/>
            <a:ext cx="83455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63680" y="6329520"/>
            <a:ext cx="2163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68720" y="6329520"/>
            <a:ext cx="29368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644880" y="6329520"/>
            <a:ext cx="2163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372-AD46-4F04-A696-F3D88E5FF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4840" y="192240"/>
            <a:ext cx="83232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080" y="1287000"/>
            <a:ext cx="90536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389720" y="338040"/>
            <a:ext cx="1408320" cy="354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D617E-739A-4E84-9962-00F8510768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272520" cy="695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0433" t="66533" r="54795" b="7968"/>
          <a:stretch/>
        </p:blipFill>
        <p:spPr>
          <a:xfrm>
            <a:off x="0" y="0"/>
            <a:ext cx="1370160" cy="145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10295" t="7515" r="75075" b="6704"/>
          <a:stretch/>
        </p:blipFill>
        <p:spPr>
          <a:xfrm>
            <a:off x="0" y="1665360"/>
            <a:ext cx="1357200" cy="490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62800" y="6762600"/>
            <a:ext cx="725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068933-5294-4F3B-BEA4-FFC1A08651BF}" type="slidenum">
              <a:rPr b="0" lang="zh-CN" sz="800" spc="-1" strike="noStrike">
                <a:solidFill>
                  <a:srgbClr val="969696"/>
                </a:solidFill>
                <a:latin typeface="Arial Narrow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40" y="6767280"/>
            <a:ext cx="201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 Narrow"/>
                <a:ea typeface="宋体"/>
              </a:rPr>
              <a:t>http://www.acolor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1355760" cy="405000"/>
          </a:xfrm>
          <a:prstGeom prst="rect">
            <a:avLst/>
          </a:prstGeom>
          <a:solidFill>
            <a:srgbClr val="a312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59000" y="0"/>
            <a:ext cx="0" cy="6715080"/>
          </a:xfrm>
          <a:prstGeom prst="line">
            <a:avLst/>
          </a:prstGeom>
          <a:ln w="12600">
            <a:solidFill>
              <a:srgbClr val="dcd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5760" y="1127160"/>
            <a:ext cx="7916760" cy="5600520"/>
          </a:xfrm>
          <a:prstGeom prst="rect">
            <a:avLst/>
          </a:prstGeom>
          <a:solidFill>
            <a:srgbClr val="dc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723000"/>
            <a:ext cx="9272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2320" y="1179000"/>
            <a:ext cx="12193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会议议程</a:t>
            </a:r>
            <a:endParaRPr b="1" lang="en-US" sz="2400" spc="-1" strike="noStrike">
              <a:solidFill>
                <a:srgbClr val="a31221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68360" y="1149480"/>
            <a:ext cx="7677000" cy="5541480"/>
            <a:chOff x="1368360" y="1149480"/>
            <a:chExt cx="7677000" cy="5541480"/>
          </a:xfrm>
        </p:grpSpPr>
        <p:sp>
          <p:nvSpPr>
            <p:cNvPr id="142" name=""/>
            <p:cNvSpPr/>
            <p:nvPr/>
          </p:nvSpPr>
          <p:spPr>
            <a:xfrm>
              <a:off x="2413080" y="1149480"/>
              <a:ext cx="6632280" cy="2684520"/>
            </a:xfrm>
            <a:custGeom>
              <a:avLst/>
              <a:gdLst/>
              <a:ahLst/>
              <a:rect l="l" t="t" r="r" b="b"/>
              <a:pathLst>
                <a:path w="3651" h="1560">
                  <a:moveTo>
                    <a:pt x="0" y="84"/>
                  </a:moveTo>
                  <a:lnTo>
                    <a:pt x="0" y="87"/>
                  </a:lnTo>
                  <a:lnTo>
                    <a:pt x="7" y="93"/>
                  </a:lnTo>
                  <a:lnTo>
                    <a:pt x="22" y="103"/>
                  </a:lnTo>
                  <a:lnTo>
                    <a:pt x="44" y="117"/>
                  </a:lnTo>
                  <a:lnTo>
                    <a:pt x="66" y="137"/>
                  </a:lnTo>
                  <a:lnTo>
                    <a:pt x="88" y="158"/>
                  </a:lnTo>
                  <a:lnTo>
                    <a:pt x="125" y="182"/>
                  </a:lnTo>
                  <a:lnTo>
                    <a:pt x="155" y="210"/>
                  </a:lnTo>
                  <a:lnTo>
                    <a:pt x="237" y="273"/>
                  </a:lnTo>
                  <a:lnTo>
                    <a:pt x="333" y="341"/>
                  </a:lnTo>
                  <a:lnTo>
                    <a:pt x="444" y="417"/>
                  </a:lnTo>
                  <a:lnTo>
                    <a:pt x="555" y="493"/>
                  </a:lnTo>
                  <a:lnTo>
                    <a:pt x="673" y="572"/>
                  </a:lnTo>
                  <a:lnTo>
                    <a:pt x="799" y="647"/>
                  </a:lnTo>
                  <a:lnTo>
                    <a:pt x="933" y="720"/>
                  </a:lnTo>
                  <a:lnTo>
                    <a:pt x="1058" y="783"/>
                  </a:lnTo>
                  <a:lnTo>
                    <a:pt x="1118" y="812"/>
                  </a:lnTo>
                  <a:lnTo>
                    <a:pt x="1184" y="840"/>
                  </a:lnTo>
                  <a:lnTo>
                    <a:pt x="1244" y="862"/>
                  </a:lnTo>
                  <a:lnTo>
                    <a:pt x="1310" y="883"/>
                  </a:lnTo>
                  <a:lnTo>
                    <a:pt x="1369" y="899"/>
                  </a:lnTo>
                  <a:lnTo>
                    <a:pt x="1421" y="913"/>
                  </a:lnTo>
                  <a:lnTo>
                    <a:pt x="1480" y="921"/>
                  </a:lnTo>
                  <a:lnTo>
                    <a:pt x="1532" y="927"/>
                  </a:lnTo>
                  <a:lnTo>
                    <a:pt x="1584" y="927"/>
                  </a:lnTo>
                  <a:lnTo>
                    <a:pt x="1643" y="921"/>
                  </a:lnTo>
                  <a:lnTo>
                    <a:pt x="1710" y="911"/>
                  </a:lnTo>
                  <a:lnTo>
                    <a:pt x="1784" y="895"/>
                  </a:lnTo>
                  <a:lnTo>
                    <a:pt x="1858" y="873"/>
                  </a:lnTo>
                  <a:lnTo>
                    <a:pt x="1932" y="850"/>
                  </a:lnTo>
                  <a:lnTo>
                    <a:pt x="2014" y="820"/>
                  </a:lnTo>
                  <a:lnTo>
                    <a:pt x="2095" y="791"/>
                  </a:lnTo>
                  <a:lnTo>
                    <a:pt x="2184" y="758"/>
                  </a:lnTo>
                  <a:lnTo>
                    <a:pt x="2266" y="720"/>
                  </a:lnTo>
                  <a:lnTo>
                    <a:pt x="2443" y="641"/>
                  </a:lnTo>
                  <a:lnTo>
                    <a:pt x="2621" y="556"/>
                  </a:lnTo>
                  <a:lnTo>
                    <a:pt x="2798" y="469"/>
                  </a:lnTo>
                  <a:lnTo>
                    <a:pt x="2969" y="379"/>
                  </a:lnTo>
                  <a:lnTo>
                    <a:pt x="3124" y="294"/>
                  </a:lnTo>
                  <a:lnTo>
                    <a:pt x="3272" y="212"/>
                  </a:lnTo>
                  <a:lnTo>
                    <a:pt x="3339" y="177"/>
                  </a:lnTo>
                  <a:lnTo>
                    <a:pt x="3398" y="142"/>
                  </a:lnTo>
                  <a:lnTo>
                    <a:pt x="3457" y="111"/>
                  </a:lnTo>
                  <a:lnTo>
                    <a:pt x="3502" y="82"/>
                  </a:lnTo>
                  <a:lnTo>
                    <a:pt x="3546" y="57"/>
                  </a:lnTo>
                  <a:lnTo>
                    <a:pt x="3583" y="38"/>
                  </a:lnTo>
                  <a:lnTo>
                    <a:pt x="3613" y="19"/>
                  </a:lnTo>
                  <a:lnTo>
                    <a:pt x="3635" y="8"/>
                  </a:lnTo>
                  <a:lnTo>
                    <a:pt x="3650" y="3"/>
                  </a:lnTo>
                  <a:lnTo>
                    <a:pt x="3650" y="0"/>
                  </a:lnTo>
                  <a:lnTo>
                    <a:pt x="3643" y="5"/>
                  </a:lnTo>
                  <a:lnTo>
                    <a:pt x="3628" y="16"/>
                  </a:lnTo>
                  <a:lnTo>
                    <a:pt x="3605" y="38"/>
                  </a:lnTo>
                  <a:lnTo>
                    <a:pt x="3576" y="66"/>
                  </a:lnTo>
                  <a:lnTo>
                    <a:pt x="3532" y="101"/>
                  </a:lnTo>
                  <a:lnTo>
                    <a:pt x="3487" y="142"/>
                  </a:lnTo>
                  <a:lnTo>
                    <a:pt x="3428" y="190"/>
                  </a:lnTo>
                  <a:lnTo>
                    <a:pt x="3361" y="243"/>
                  </a:lnTo>
                  <a:lnTo>
                    <a:pt x="3294" y="297"/>
                  </a:lnTo>
                  <a:lnTo>
                    <a:pt x="3220" y="360"/>
                  </a:lnTo>
                  <a:lnTo>
                    <a:pt x="3139" y="423"/>
                  </a:lnTo>
                  <a:lnTo>
                    <a:pt x="3058" y="491"/>
                  </a:lnTo>
                  <a:lnTo>
                    <a:pt x="2880" y="630"/>
                  </a:lnTo>
                  <a:lnTo>
                    <a:pt x="2695" y="775"/>
                  </a:lnTo>
                  <a:lnTo>
                    <a:pt x="2502" y="919"/>
                  </a:lnTo>
                  <a:lnTo>
                    <a:pt x="2310" y="1061"/>
                  </a:lnTo>
                  <a:lnTo>
                    <a:pt x="2221" y="1129"/>
                  </a:lnTo>
                  <a:lnTo>
                    <a:pt x="2125" y="1192"/>
                  </a:lnTo>
                  <a:lnTo>
                    <a:pt x="2036" y="1254"/>
                  </a:lnTo>
                  <a:lnTo>
                    <a:pt x="1947" y="1311"/>
                  </a:lnTo>
                  <a:lnTo>
                    <a:pt x="1858" y="1364"/>
                  </a:lnTo>
                  <a:lnTo>
                    <a:pt x="1784" y="1409"/>
                  </a:lnTo>
                  <a:lnTo>
                    <a:pt x="1703" y="1453"/>
                  </a:lnTo>
                  <a:lnTo>
                    <a:pt x="1636" y="1488"/>
                  </a:lnTo>
                  <a:lnTo>
                    <a:pt x="1569" y="1519"/>
                  </a:lnTo>
                  <a:lnTo>
                    <a:pt x="1510" y="1541"/>
                  </a:lnTo>
                  <a:lnTo>
                    <a:pt x="1458" y="1555"/>
                  </a:lnTo>
                  <a:lnTo>
                    <a:pt x="1414" y="1559"/>
                  </a:lnTo>
                  <a:lnTo>
                    <a:pt x="1369" y="1557"/>
                  </a:lnTo>
                  <a:lnTo>
                    <a:pt x="1325" y="1546"/>
                  </a:lnTo>
                  <a:lnTo>
                    <a:pt x="1280" y="1527"/>
                  </a:lnTo>
                  <a:lnTo>
                    <a:pt x="1229" y="1500"/>
                  </a:lnTo>
                  <a:lnTo>
                    <a:pt x="1177" y="1467"/>
                  </a:lnTo>
                  <a:lnTo>
                    <a:pt x="1125" y="1429"/>
                  </a:lnTo>
                  <a:lnTo>
                    <a:pt x="1066" y="1382"/>
                  </a:lnTo>
                  <a:lnTo>
                    <a:pt x="1014" y="1333"/>
                  </a:lnTo>
                  <a:lnTo>
                    <a:pt x="955" y="1279"/>
                  </a:lnTo>
                  <a:lnTo>
                    <a:pt x="895" y="1222"/>
                  </a:lnTo>
                  <a:lnTo>
                    <a:pt x="837" y="1159"/>
                  </a:lnTo>
                  <a:lnTo>
                    <a:pt x="777" y="1096"/>
                  </a:lnTo>
                  <a:lnTo>
                    <a:pt x="659" y="960"/>
                  </a:lnTo>
                  <a:lnTo>
                    <a:pt x="548" y="824"/>
                  </a:lnTo>
                  <a:lnTo>
                    <a:pt x="437" y="684"/>
                  </a:lnTo>
                  <a:lnTo>
                    <a:pt x="333" y="548"/>
                  </a:lnTo>
                  <a:lnTo>
                    <a:pt x="288" y="485"/>
                  </a:lnTo>
                  <a:lnTo>
                    <a:pt x="244" y="423"/>
                  </a:lnTo>
                  <a:lnTo>
                    <a:pt x="199" y="365"/>
                  </a:lnTo>
                  <a:lnTo>
                    <a:pt x="163" y="310"/>
                  </a:lnTo>
                  <a:lnTo>
                    <a:pt x="125" y="261"/>
                  </a:lnTo>
                  <a:lnTo>
                    <a:pt x="96" y="218"/>
                  </a:lnTo>
                  <a:lnTo>
                    <a:pt x="66" y="177"/>
                  </a:lnTo>
                  <a:lnTo>
                    <a:pt x="44" y="145"/>
                  </a:lnTo>
                  <a:lnTo>
                    <a:pt x="22" y="117"/>
                  </a:lnTo>
                  <a:lnTo>
                    <a:pt x="14" y="98"/>
                  </a:lnTo>
                  <a:lnTo>
                    <a:pt x="0" y="87"/>
                  </a:lnTo>
                  <a:lnTo>
                    <a:pt x="0" y="84"/>
                  </a:lnTo>
                </a:path>
              </a:pathLst>
            </a:custGeom>
            <a:gradFill rotWithShape="0">
              <a:gsLst>
                <a:gs pos="0">
                  <a:srgbClr val="dddddd">
                    <a:alpha val="67058"/>
                  </a:srgbClr>
                </a:gs>
                <a:gs pos="100000">
                  <a:srgbClr val="fefefe">
                    <a:alpha val="3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21320" y="1572840"/>
              <a:ext cx="3515040" cy="5116680"/>
            </a:xfrm>
            <a:custGeom>
              <a:avLst/>
              <a:gdLst/>
              <a:ahLst/>
              <a:rect l="l" t="t" r="r" b="b"/>
              <a:pathLst>
                <a:path w="1935" h="2973">
                  <a:moveTo>
                    <a:pt x="1934" y="0"/>
                  </a:moveTo>
                  <a:lnTo>
                    <a:pt x="1926" y="5"/>
                  </a:lnTo>
                  <a:lnTo>
                    <a:pt x="1911" y="12"/>
                  </a:lnTo>
                  <a:lnTo>
                    <a:pt x="1882" y="36"/>
                  </a:lnTo>
                  <a:lnTo>
                    <a:pt x="1852" y="60"/>
                  </a:lnTo>
                  <a:lnTo>
                    <a:pt x="1808" y="91"/>
                  </a:lnTo>
                  <a:lnTo>
                    <a:pt x="1756" y="127"/>
                  </a:lnTo>
                  <a:lnTo>
                    <a:pt x="1638" y="218"/>
                  </a:lnTo>
                  <a:lnTo>
                    <a:pt x="1491" y="334"/>
                  </a:lnTo>
                  <a:lnTo>
                    <a:pt x="1336" y="455"/>
                  </a:lnTo>
                  <a:lnTo>
                    <a:pt x="1166" y="595"/>
                  </a:lnTo>
                  <a:lnTo>
                    <a:pt x="988" y="741"/>
                  </a:lnTo>
                  <a:lnTo>
                    <a:pt x="811" y="893"/>
                  </a:lnTo>
                  <a:lnTo>
                    <a:pt x="634" y="1045"/>
                  </a:lnTo>
                  <a:lnTo>
                    <a:pt x="472" y="1197"/>
                  </a:lnTo>
                  <a:lnTo>
                    <a:pt x="324" y="1336"/>
                  </a:lnTo>
                  <a:lnTo>
                    <a:pt x="199" y="1470"/>
                  </a:lnTo>
                  <a:lnTo>
                    <a:pt x="147" y="1531"/>
                  </a:lnTo>
                  <a:lnTo>
                    <a:pt x="102" y="1592"/>
                  </a:lnTo>
                  <a:lnTo>
                    <a:pt x="66" y="1646"/>
                  </a:lnTo>
                  <a:lnTo>
                    <a:pt x="29" y="1695"/>
                  </a:lnTo>
                  <a:lnTo>
                    <a:pt x="14" y="1743"/>
                  </a:lnTo>
                  <a:lnTo>
                    <a:pt x="0" y="1780"/>
                  </a:lnTo>
                  <a:lnTo>
                    <a:pt x="0" y="1865"/>
                  </a:lnTo>
                  <a:lnTo>
                    <a:pt x="14" y="1963"/>
                  </a:lnTo>
                  <a:lnTo>
                    <a:pt x="51" y="2078"/>
                  </a:lnTo>
                  <a:lnTo>
                    <a:pt x="102" y="2206"/>
                  </a:lnTo>
                  <a:lnTo>
                    <a:pt x="169" y="2333"/>
                  </a:lnTo>
                  <a:lnTo>
                    <a:pt x="243" y="2473"/>
                  </a:lnTo>
                  <a:lnTo>
                    <a:pt x="405" y="2746"/>
                  </a:lnTo>
                  <a:lnTo>
                    <a:pt x="486" y="2880"/>
                  </a:lnTo>
                  <a:lnTo>
                    <a:pt x="543" y="2972"/>
                  </a:lnTo>
                  <a:lnTo>
                    <a:pt x="751" y="2972"/>
                  </a:lnTo>
                  <a:lnTo>
                    <a:pt x="700" y="2826"/>
                  </a:lnTo>
                  <a:lnTo>
                    <a:pt x="678" y="2697"/>
                  </a:lnTo>
                  <a:lnTo>
                    <a:pt x="656" y="2570"/>
                  </a:lnTo>
                  <a:lnTo>
                    <a:pt x="612" y="2308"/>
                  </a:lnTo>
                  <a:lnTo>
                    <a:pt x="605" y="2181"/>
                  </a:lnTo>
                  <a:lnTo>
                    <a:pt x="597" y="2060"/>
                  </a:lnTo>
                  <a:lnTo>
                    <a:pt x="597" y="1944"/>
                  </a:lnTo>
                  <a:lnTo>
                    <a:pt x="605" y="1841"/>
                  </a:lnTo>
                  <a:lnTo>
                    <a:pt x="634" y="1738"/>
                  </a:lnTo>
                  <a:lnTo>
                    <a:pt x="685" y="1616"/>
                  </a:lnTo>
                  <a:lnTo>
                    <a:pt x="752" y="1477"/>
                  </a:lnTo>
                  <a:lnTo>
                    <a:pt x="840" y="1336"/>
                  </a:lnTo>
                  <a:lnTo>
                    <a:pt x="944" y="1185"/>
                  </a:lnTo>
                  <a:lnTo>
                    <a:pt x="1055" y="1033"/>
                  </a:lnTo>
                  <a:lnTo>
                    <a:pt x="1173" y="875"/>
                  </a:lnTo>
                  <a:lnTo>
                    <a:pt x="1299" y="723"/>
                  </a:lnTo>
                  <a:lnTo>
                    <a:pt x="1416" y="577"/>
                  </a:lnTo>
                  <a:lnTo>
                    <a:pt x="1535" y="443"/>
                  </a:lnTo>
                  <a:lnTo>
                    <a:pt x="1638" y="322"/>
                  </a:lnTo>
                  <a:lnTo>
                    <a:pt x="1734" y="212"/>
                  </a:lnTo>
                  <a:lnTo>
                    <a:pt x="1815" y="121"/>
                  </a:lnTo>
                  <a:lnTo>
                    <a:pt x="1852" y="84"/>
                  </a:lnTo>
                  <a:lnTo>
                    <a:pt x="1882" y="54"/>
                  </a:lnTo>
                  <a:lnTo>
                    <a:pt x="1904" y="30"/>
                  </a:lnTo>
                  <a:lnTo>
                    <a:pt x="1919" y="12"/>
                  </a:lnTo>
                  <a:lnTo>
                    <a:pt x="1934" y="5"/>
                  </a:lnTo>
                  <a:lnTo>
                    <a:pt x="1934" y="0"/>
                  </a:lnTo>
                </a:path>
              </a:pathLst>
            </a:custGeom>
            <a:gradFill rotWithShape="0">
              <a:gsLst>
                <a:gs pos="0">
                  <a:srgbClr val="dddddd">
                    <a:alpha val="67058"/>
                  </a:srgbClr>
                </a:gs>
                <a:gs pos="100000">
                  <a:srgbClr val="fefefe">
                    <a:alpha val="3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68360" y="1490040"/>
              <a:ext cx="2566800" cy="5194440"/>
            </a:xfrm>
            <a:custGeom>
              <a:avLst/>
              <a:gdLst/>
              <a:ahLst/>
              <a:rect l="l" t="t" r="r" b="b"/>
              <a:pathLst>
                <a:path w="1413" h="3018">
                  <a:moveTo>
                    <a:pt x="415" y="0"/>
                  </a:moveTo>
                  <a:lnTo>
                    <a:pt x="417" y="5"/>
                  </a:lnTo>
                  <a:lnTo>
                    <a:pt x="426" y="11"/>
                  </a:lnTo>
                  <a:lnTo>
                    <a:pt x="442" y="33"/>
                  </a:lnTo>
                  <a:lnTo>
                    <a:pt x="459" y="56"/>
                  </a:lnTo>
                  <a:lnTo>
                    <a:pt x="482" y="89"/>
                  </a:lnTo>
                  <a:lnTo>
                    <a:pt x="509" y="123"/>
                  </a:lnTo>
                  <a:lnTo>
                    <a:pt x="542" y="167"/>
                  </a:lnTo>
                  <a:lnTo>
                    <a:pt x="578" y="212"/>
                  </a:lnTo>
                  <a:lnTo>
                    <a:pt x="616" y="262"/>
                  </a:lnTo>
                  <a:lnTo>
                    <a:pt x="655" y="318"/>
                  </a:lnTo>
                  <a:lnTo>
                    <a:pt x="744" y="440"/>
                  </a:lnTo>
                  <a:lnTo>
                    <a:pt x="836" y="579"/>
                  </a:lnTo>
                  <a:lnTo>
                    <a:pt x="931" y="719"/>
                  </a:lnTo>
                  <a:lnTo>
                    <a:pt x="1026" y="870"/>
                  </a:lnTo>
                  <a:lnTo>
                    <a:pt x="1118" y="1015"/>
                  </a:lnTo>
                  <a:lnTo>
                    <a:pt x="1201" y="1165"/>
                  </a:lnTo>
                  <a:lnTo>
                    <a:pt x="1239" y="1232"/>
                  </a:lnTo>
                  <a:lnTo>
                    <a:pt x="1275" y="1305"/>
                  </a:lnTo>
                  <a:lnTo>
                    <a:pt x="1308" y="1371"/>
                  </a:lnTo>
                  <a:lnTo>
                    <a:pt x="1337" y="1438"/>
                  </a:lnTo>
                  <a:lnTo>
                    <a:pt x="1361" y="1499"/>
                  </a:lnTo>
                  <a:lnTo>
                    <a:pt x="1381" y="1556"/>
                  </a:lnTo>
                  <a:lnTo>
                    <a:pt x="1397" y="1611"/>
                  </a:lnTo>
                  <a:lnTo>
                    <a:pt x="1408" y="1662"/>
                  </a:lnTo>
                  <a:lnTo>
                    <a:pt x="1412" y="1706"/>
                  </a:lnTo>
                  <a:lnTo>
                    <a:pt x="1412" y="1745"/>
                  </a:lnTo>
                  <a:lnTo>
                    <a:pt x="1403" y="1784"/>
                  </a:lnTo>
                  <a:lnTo>
                    <a:pt x="1388" y="1829"/>
                  </a:lnTo>
                  <a:lnTo>
                    <a:pt x="1367" y="1874"/>
                  </a:lnTo>
                  <a:lnTo>
                    <a:pt x="1341" y="1918"/>
                  </a:lnTo>
                  <a:lnTo>
                    <a:pt x="1305" y="1968"/>
                  </a:lnTo>
                  <a:lnTo>
                    <a:pt x="1266" y="2018"/>
                  </a:lnTo>
                  <a:lnTo>
                    <a:pt x="1225" y="2074"/>
                  </a:lnTo>
                  <a:lnTo>
                    <a:pt x="1177" y="2130"/>
                  </a:lnTo>
                  <a:lnTo>
                    <a:pt x="1124" y="2185"/>
                  </a:lnTo>
                  <a:lnTo>
                    <a:pt x="1071" y="2242"/>
                  </a:lnTo>
                  <a:lnTo>
                    <a:pt x="951" y="2358"/>
                  </a:lnTo>
                  <a:lnTo>
                    <a:pt x="827" y="2476"/>
                  </a:lnTo>
                  <a:lnTo>
                    <a:pt x="699" y="2592"/>
                  </a:lnTo>
                  <a:lnTo>
                    <a:pt x="572" y="2698"/>
                  </a:lnTo>
                  <a:lnTo>
                    <a:pt x="447" y="2804"/>
                  </a:lnTo>
                  <a:lnTo>
                    <a:pt x="388" y="2855"/>
                  </a:lnTo>
                  <a:lnTo>
                    <a:pt x="331" y="2900"/>
                  </a:lnTo>
                  <a:lnTo>
                    <a:pt x="278" y="2944"/>
                  </a:lnTo>
                  <a:lnTo>
                    <a:pt x="228" y="2983"/>
                  </a:lnTo>
                  <a:lnTo>
                    <a:pt x="181" y="3017"/>
                  </a:lnTo>
                  <a:lnTo>
                    <a:pt x="0" y="3017"/>
                  </a:lnTo>
                  <a:lnTo>
                    <a:pt x="2" y="3011"/>
                  </a:lnTo>
                  <a:lnTo>
                    <a:pt x="5" y="3011"/>
                  </a:lnTo>
                  <a:lnTo>
                    <a:pt x="11" y="3000"/>
                  </a:lnTo>
                  <a:lnTo>
                    <a:pt x="20" y="2989"/>
                  </a:lnTo>
                  <a:lnTo>
                    <a:pt x="32" y="2972"/>
                  </a:lnTo>
                  <a:lnTo>
                    <a:pt x="50" y="2955"/>
                  </a:lnTo>
                  <a:lnTo>
                    <a:pt x="70" y="2928"/>
                  </a:lnTo>
                  <a:lnTo>
                    <a:pt x="118" y="2866"/>
                  </a:lnTo>
                  <a:lnTo>
                    <a:pt x="174" y="2794"/>
                  </a:lnTo>
                  <a:lnTo>
                    <a:pt x="239" y="2710"/>
                  </a:lnTo>
                  <a:lnTo>
                    <a:pt x="311" y="2615"/>
                  </a:lnTo>
                  <a:lnTo>
                    <a:pt x="385" y="2509"/>
                  </a:lnTo>
                  <a:lnTo>
                    <a:pt x="456" y="2403"/>
                  </a:lnTo>
                  <a:lnTo>
                    <a:pt x="531" y="2286"/>
                  </a:lnTo>
                  <a:lnTo>
                    <a:pt x="598" y="2175"/>
                  </a:lnTo>
                  <a:lnTo>
                    <a:pt x="663" y="2057"/>
                  </a:lnTo>
                  <a:lnTo>
                    <a:pt x="717" y="1941"/>
                  </a:lnTo>
                  <a:lnTo>
                    <a:pt x="744" y="1884"/>
                  </a:lnTo>
                  <a:lnTo>
                    <a:pt x="765" y="1835"/>
                  </a:lnTo>
                  <a:lnTo>
                    <a:pt x="783" y="1778"/>
                  </a:lnTo>
                  <a:lnTo>
                    <a:pt x="797" y="1729"/>
                  </a:lnTo>
                  <a:lnTo>
                    <a:pt x="810" y="1678"/>
                  </a:lnTo>
                  <a:lnTo>
                    <a:pt x="818" y="1628"/>
                  </a:lnTo>
                  <a:lnTo>
                    <a:pt x="824" y="1578"/>
                  </a:lnTo>
                  <a:lnTo>
                    <a:pt x="824" y="1528"/>
                  </a:lnTo>
                  <a:lnTo>
                    <a:pt x="818" y="1416"/>
                  </a:lnTo>
                  <a:lnTo>
                    <a:pt x="803" y="1288"/>
                  </a:lnTo>
                  <a:lnTo>
                    <a:pt x="783" y="1159"/>
                  </a:lnTo>
                  <a:lnTo>
                    <a:pt x="752" y="1026"/>
                  </a:lnTo>
                  <a:lnTo>
                    <a:pt x="717" y="892"/>
                  </a:lnTo>
                  <a:lnTo>
                    <a:pt x="679" y="752"/>
                  </a:lnTo>
                  <a:lnTo>
                    <a:pt x="640" y="624"/>
                  </a:lnTo>
                  <a:lnTo>
                    <a:pt x="598" y="496"/>
                  </a:lnTo>
                  <a:lnTo>
                    <a:pt x="557" y="379"/>
                  </a:lnTo>
                  <a:lnTo>
                    <a:pt x="518" y="273"/>
                  </a:lnTo>
                  <a:lnTo>
                    <a:pt x="486" y="178"/>
                  </a:lnTo>
                  <a:lnTo>
                    <a:pt x="456" y="106"/>
                  </a:lnTo>
                  <a:lnTo>
                    <a:pt x="433" y="44"/>
                  </a:lnTo>
                  <a:lnTo>
                    <a:pt x="424" y="28"/>
                  </a:lnTo>
                  <a:lnTo>
                    <a:pt x="417" y="11"/>
                  </a:lnTo>
                  <a:lnTo>
                    <a:pt x="415" y="0"/>
                  </a:lnTo>
                </a:path>
              </a:pathLst>
            </a:custGeom>
            <a:gradFill rotWithShape="0">
              <a:gsLst>
                <a:gs pos="0">
                  <a:srgbClr val="dddddd">
                    <a:alpha val="67058"/>
                  </a:srgbClr>
                </a:gs>
                <a:gs pos="100000">
                  <a:srgbClr val="fefefe">
                    <a:alpha val="3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000" y="5348880"/>
              <a:ext cx="3998520" cy="1342080"/>
            </a:xfrm>
            <a:custGeom>
              <a:avLst/>
              <a:gdLst/>
              <a:ahLst/>
              <a:rect l="l" t="t" r="r" b="b"/>
              <a:pathLst>
                <a:path w="2201" h="780">
                  <a:moveTo>
                    <a:pt x="0" y="769"/>
                  </a:moveTo>
                  <a:lnTo>
                    <a:pt x="126" y="691"/>
                  </a:lnTo>
                  <a:lnTo>
                    <a:pt x="245" y="598"/>
                  </a:lnTo>
                  <a:lnTo>
                    <a:pt x="379" y="505"/>
                  </a:lnTo>
                  <a:lnTo>
                    <a:pt x="648" y="319"/>
                  </a:lnTo>
                  <a:lnTo>
                    <a:pt x="782" y="237"/>
                  </a:lnTo>
                  <a:lnTo>
                    <a:pt x="906" y="156"/>
                  </a:lnTo>
                  <a:lnTo>
                    <a:pt x="1025" y="92"/>
                  </a:lnTo>
                  <a:lnTo>
                    <a:pt x="1133" y="46"/>
                  </a:lnTo>
                  <a:lnTo>
                    <a:pt x="1226" y="11"/>
                  </a:lnTo>
                  <a:lnTo>
                    <a:pt x="1263" y="5"/>
                  </a:lnTo>
                  <a:lnTo>
                    <a:pt x="1299" y="0"/>
                  </a:lnTo>
                  <a:lnTo>
                    <a:pt x="1330" y="0"/>
                  </a:lnTo>
                  <a:lnTo>
                    <a:pt x="1366" y="11"/>
                  </a:lnTo>
                  <a:lnTo>
                    <a:pt x="1444" y="46"/>
                  </a:lnTo>
                  <a:lnTo>
                    <a:pt x="1526" y="92"/>
                  </a:lnTo>
                  <a:lnTo>
                    <a:pt x="1614" y="162"/>
                  </a:lnTo>
                  <a:lnTo>
                    <a:pt x="1707" y="244"/>
                  </a:lnTo>
                  <a:lnTo>
                    <a:pt x="1800" y="331"/>
                  </a:lnTo>
                  <a:lnTo>
                    <a:pt x="1893" y="424"/>
                  </a:lnTo>
                  <a:lnTo>
                    <a:pt x="1981" y="522"/>
                  </a:lnTo>
                  <a:lnTo>
                    <a:pt x="2068" y="621"/>
                  </a:lnTo>
                  <a:lnTo>
                    <a:pt x="2146" y="714"/>
                  </a:lnTo>
                  <a:lnTo>
                    <a:pt x="2200" y="778"/>
                  </a:lnTo>
                  <a:lnTo>
                    <a:pt x="1640" y="779"/>
                  </a:lnTo>
                  <a:lnTo>
                    <a:pt x="1495" y="708"/>
                  </a:lnTo>
                  <a:lnTo>
                    <a:pt x="1428" y="679"/>
                  </a:lnTo>
                  <a:lnTo>
                    <a:pt x="1356" y="656"/>
                  </a:lnTo>
                  <a:lnTo>
                    <a:pt x="1288" y="638"/>
                  </a:lnTo>
                  <a:lnTo>
                    <a:pt x="1221" y="633"/>
                  </a:lnTo>
                  <a:lnTo>
                    <a:pt x="1149" y="633"/>
                  </a:lnTo>
                  <a:lnTo>
                    <a:pt x="1066" y="644"/>
                  </a:lnTo>
                  <a:lnTo>
                    <a:pt x="978" y="662"/>
                  </a:lnTo>
                  <a:lnTo>
                    <a:pt x="875" y="691"/>
                  </a:lnTo>
                  <a:lnTo>
                    <a:pt x="671" y="769"/>
                  </a:lnTo>
                  <a:lnTo>
                    <a:pt x="0" y="769"/>
                  </a:lnTo>
                </a:path>
              </a:pathLst>
            </a:custGeom>
            <a:gradFill rotWithShape="0">
              <a:gsLst>
                <a:gs pos="0">
                  <a:srgbClr val="dddddd">
                    <a:alpha val="67058"/>
                  </a:srgbClr>
                </a:gs>
                <a:gs pos="100000">
                  <a:srgbClr val="fefefe">
                    <a:alpha val="3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828800" y="1600200"/>
            <a:ext cx="71913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normAutofit/>
          </a:bodyPr>
          <a:p>
            <a:pPr marL="284040" indent="-284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62712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62712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62712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1001"/>
              </a:spcBef>
              <a:spcAft>
                <a:spcPts val="1001"/>
              </a:spcAft>
              <a:buClr>
                <a:srgbClr val="a31221"/>
              </a:buClr>
              <a:buSzPct val="75000"/>
              <a:buFont typeface="Wingdings 3" charset="2"/>
              <a:buChar char=""/>
              <a:tabLst>
                <a:tab algn="l" pos="62712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会议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96760" y="306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会议议程类实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02:49:09Z</dcterms:created>
  <dc:creator>幻灯片之家：www.eeppt.com</dc:creator>
  <dc:description/>
  <cp:keywords>幻灯片之家：www.eeppt.com</cp:keywords>
  <dc:language>en-US</dc:language>
  <cp:lastModifiedBy/>
  <cp:lastPrinted>2000-04-05T22:41:07Z</cp:lastPrinted>
  <dcterms:modified xsi:type="dcterms:W3CDTF">2015-09-18T13:15:47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-1702672130</vt:r8>
  </property>
  <property fmtid="{D5CDD505-2E9C-101B-9397-08002B2CF9AE}" pid="4" name="_AuthorEmail">
    <vt:lpwstr>DinaRojas@fairisaac.com</vt:lpwstr>
  </property>
  <property fmtid="{D5CDD505-2E9C-101B-9397-08002B2CF9AE}" pid="5" name="_AuthorEmailDisplayName">
    <vt:lpwstr>Rojas, Dina F</vt:lpwstr>
  </property>
  <property fmtid="{D5CDD505-2E9C-101B-9397-08002B2CF9AE}" pid="6" name="_EmailSubject">
    <vt:lpwstr>Small Business Presentation and Project Update</vt:lpwstr>
  </property>
  <property fmtid="{D5CDD505-2E9C-101B-9397-08002B2CF9AE}" pid="7" name="_PreviousAdHocReviewCycleID">
    <vt:r8>-716937090</vt:r8>
  </property>
  <property fmtid="{D5CDD505-2E9C-101B-9397-08002B2CF9AE}" pid="8" name="_ReviewingToolsShownOnce">
    <vt:lpwstr/>
  </property>
</Properties>
</file>